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13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9A42-5ED5-43BE-8544-7D378068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67C8-AC19-429D-B25A-725025DD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ABA5-2F8E-4102-A09C-7B0885C1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D6B7-674A-4F10-9AB7-8D30C621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8108-3530-4E37-A5FC-F7AA34E6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65A2-FC3E-4BF1-A48A-7C5F1691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75D8-8477-4E92-A0CC-22E4F68F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74B1-B4E1-44DC-8C47-47059370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3CD9-AEA5-4AFA-A0D6-1AD5F962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7FF3-6E8A-4524-805A-083F6DFE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9EA0-4C02-4ED9-BDE7-71211747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356E-B249-4D93-A5BD-2E8C4786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C566-D8C3-4559-8170-4A8942F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44F6-819F-402D-9842-E62A7871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83FC-E40A-4FDC-9F51-7E457026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8956-ED7F-4A32-ACA7-51DA4AD6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785B-B432-4F53-984A-80125D9C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C27F-8F4D-482A-8698-21D1B88B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CEB2-3846-46A4-AD71-8D5DB660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0042E-F8B7-4782-9D06-0FA8B69D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A4539-BF78-4A3A-8EE0-090CDD86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26C4-2486-405B-A480-B6512CF8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5207-20D2-4BFA-B9F3-C5896210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C8A8-55F2-4C3A-BA3E-993374B8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5055-62DE-4F1D-BB36-6CDA6D30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5923-6258-4F81-998C-150012A4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0BC5-BF22-4C47-B272-EE7F37B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9E71-7975-4E7B-ACEA-4D80468C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7E76-5754-41D8-8D36-B3B66425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5706-E6EA-425A-8C2F-385BA009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FACEE-B5A6-4F47-A4C9-DE3B75D7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12916-7E5A-485A-B1DB-DC5B1E9A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98FAC-59DE-435A-8F23-B3069E2B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4581-1C45-4F19-9B74-5B1D345F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8ECA5-9214-432B-8FC3-9982B967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A67B9-0035-451E-ADB1-2D99A3A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3D983-8C12-49A6-B25B-53E24E2D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2EAC9-FAE6-4CE4-8BA7-C8AC5E9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5C491-8F77-483D-91D3-E217488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F8E6D-99C9-49D2-89F9-F4E7CC04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7C76D-29FE-48EF-9677-F3F3F4A8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13CE8-1492-4A84-B84B-00200C3E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41F98-80DF-4158-9E03-45FFFED4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D0AA-15A2-4C7A-9973-9D325318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56FD-7E47-45BE-8C6C-2E457A8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0F79-4EC5-4E0D-AFE7-F8B9F121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C1FD-C0C7-42AD-AFEE-51AFBC15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7634-00A5-4FA5-8A8A-BECED449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79769-8F9B-49DE-BD0D-DDD5659B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91F3-A845-4F1A-BEDD-BCD6F1C0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1A4A-8FFD-4B2A-99C5-E90D1012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F9313-D1CD-43B3-B79B-8C6B2BB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55C99-55C9-484A-9341-9ED39397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F8533-8713-4D96-B9BA-6A451A0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598D-C29F-4AE2-81B4-D319D64D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C382-E515-4298-B0D4-CA33489C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EC8F-A7AF-4382-885D-A8AFC7FD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614A4-D53F-412A-8515-B51E7C5C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5B478-4172-4590-AD7B-A92E3A40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B1C4D-5BA1-4F67-8649-DA802A97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A2C85-8D4E-403F-984F-3518499C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8EEE9-1DF7-4E9C-90F4-765AC720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7044-7D9F-4B4F-9095-25E9C32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2584-BF95-466A-8C7A-F3E84CC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F79A2-7E4D-49D3-BC22-2246276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08E7-1774-4028-B241-DA983814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7ADF-C32E-430D-B8D6-88A63457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CA7BD-E2A6-426E-9637-40B4545A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42F49-2B76-4E26-A784-E46CA95F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F5906-0F97-4ED2-88EE-25C802D2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14E9-63D5-4785-A51C-6F0EFA25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89EB-100C-4A86-9B3A-804EA1D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56B9-7676-4972-AC52-69AA37F98D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840B-D47D-48CB-B2CD-B06D96CCCB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CE5F-56E5-463E-8419-69D5F030B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FB26-4BC3-481B-A41F-1C22F05B0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0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215" name="未知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未知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未知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未知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未知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未知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未知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1" name="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23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1" name="未知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C6A-2682-4919-A51A-A0C69A9BC50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311" name="未知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未知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未知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未知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未知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未知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未知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7" name="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32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7" name="未知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66A9-A110-453D-817C-657B5A93DCB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265,9,&#24187;&#28783;&#29255; 9" TargetMode="External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265,9,&#24187;&#28783;&#29255; 9" TargetMode="External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hyperlink" Target="265,9,&#24187;&#28783;&#29255; 9" TargetMode="Externa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265,9,&#24187;&#28783;&#29255; 9" TargetMode="External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298,15,&#24187;&#28783;&#29255; 15" TargetMode="External"/><Relationship Id="rId4" Type="http://schemas.openxmlformats.org/officeDocument/2006/relationships/hyperlink" Target="299,16,&#24187;&#28783;&#29255; 16" TargetMode="External"/><Relationship Id="rId5" Type="http://schemas.openxmlformats.org/officeDocument/2006/relationships/hyperlink" Target="300,17,&#24187;&#28783;&#29255; 17" TargetMode="External"/><Relationship Id="rId6" Type="http://schemas.openxmlformats.org/officeDocument/2006/relationships/hyperlink" Target="301,18,&#24187;&#28783;&#29255; 18" TargetMode="External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297,14,&#24515;&#26377;&#28789;&#29312;" TargetMode="External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297,14,&#24515;&#26377;&#28789;&#29312;" TargetMode="External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297,14,&#24515;&#26377;&#28789;&#29312;" TargetMode="Externa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266,10,&#24187;&#28783;&#29255; 10" TargetMode="External"/><Relationship Id="rId3" Type="http://schemas.openxmlformats.org/officeDocument/2006/relationships/hyperlink" Target="268,11,&#24187;&#28783;&#29255; 11" TargetMode="External"/><Relationship Id="rId4" Type="http://schemas.openxmlformats.org/officeDocument/2006/relationships/hyperlink" Target="271,12,&#24187;&#28783;&#29255; 12" TargetMode="External"/><Relationship Id="rId5" Type="http://schemas.openxmlformats.org/officeDocument/2006/relationships/hyperlink" Target="282,13,&#24187;&#28783;&#29255; 13" TargetMode="External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048120" y="44956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5b781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623520" y="6629400"/>
            <a:ext cx="358560" cy="36684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7315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1371600" y="2743200"/>
            <a:ext cx="7315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Knowledge    is     power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9880" y="495288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－－主题班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3" name=""/>
          <p:cNvSpPr/>
          <p:nvPr/>
        </p:nvSpPr>
        <p:spPr>
          <a:xfrm>
            <a:off x="441360" y="6270480"/>
            <a:ext cx="9540720" cy="366840"/>
          </a:xfrm>
          <a:prstGeom prst="rect">
            <a:avLst/>
          </a:prstGeom>
          <a:solidFill>
            <a:srgbClr val="2f1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08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2760" y="6575400"/>
            <a:ext cx="9693360" cy="366840"/>
          </a:xfrm>
          <a:prstGeom prst="rect">
            <a:avLst/>
          </a:prstGeom>
          <a:solidFill>
            <a:srgbClr val="2f1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2760" y="6880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908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1360" y="6804000"/>
            <a:ext cx="9312120" cy="366840"/>
          </a:xfrm>
          <a:prstGeom prst="rect">
            <a:avLst/>
          </a:prstGeom>
          <a:solidFill>
            <a:srgbClr val="2f1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609480"/>
            <a:ext cx="822960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就是力量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608040" y="-227160"/>
            <a:ext cx="10514160" cy="73137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5029200" y="380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甲、春风、裁缝、当机立断（猜一个与四个词语都有关的词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44197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ahoma"/>
              </a:rPr>
              <a:t>剪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906480"/>
            <a:ext cx="16765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0b854"/>
                </a:solidFill>
                <a:uFillTx/>
                <a:latin typeface="Tahoma"/>
                <a:hlinkClick r:id="rId2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-1065240" y="-227160"/>
            <a:ext cx="10742760" cy="7313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029200" y="380880"/>
            <a:ext cx="358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唱三叹”中的“叹”字本义是：（ 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．叹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．赞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．附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．叹服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9f9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762120"/>
            <a:ext cx="1905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0b854"/>
                </a:solidFill>
                <a:uFillTx/>
                <a:latin typeface="Tahoma"/>
                <a:hlinkClick r:id="rId2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4800600" y="45720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古代楷书四大家哪一位不是唐朝人而是元朝人</a:t>
            </a:r>
            <a:r>
              <a:rPr b="1" lang="en-US" sz="3600" spc="-1" strike="noStrike">
                <a:solidFill>
                  <a:srgbClr val="fdf9f9"/>
                </a:solidFill>
                <a:latin typeface="黑体"/>
                <a:ea typeface="黑体"/>
              </a:rPr>
              <a:t>?( 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9f9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欧阳询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9f9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柳公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9f9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颜真卿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9f9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赵孟頫</a:t>
            </a:r>
            <a:r>
              <a:rPr b="1" lang="en-US" sz="1800" spc="-1" strike="noStrike">
                <a:solidFill>
                  <a:srgbClr val="fdf9f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10280" y="20574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9f9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5562720"/>
            <a:ext cx="2057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85800" y="1295280"/>
            <a:ext cx="33526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书时眼睛距离课本大约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)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左右。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厘米 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厘米   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. 2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00800" y="6019920"/>
            <a:ext cx="2286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0b854"/>
                </a:solidFill>
                <a:uFillTx/>
                <a:latin typeface="Tahoma"/>
                <a:hlinkClick r:id="rId2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心有灵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</a:t>
            </a:r>
            <a:r>
              <a:rPr b="0" lang="zh-CN" sz="32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蔬果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</a:t>
            </a:r>
            <a:r>
              <a:rPr b="0" lang="zh-CN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动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</a:t>
            </a:r>
            <a:r>
              <a:rPr b="0" lang="zh-CN" sz="32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日常用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</a:t>
            </a:r>
            <a:r>
              <a:rPr b="0" lang="zh-CN" sz="32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体育项目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-379440" y="0"/>
            <a:ext cx="9523440" cy="77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苹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黄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草莓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通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南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雪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桃子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白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榴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28600"/>
            <a:ext cx="1905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0b854"/>
                </a:solidFill>
                <a:uFillTx/>
                <a:latin typeface="Tahoma"/>
                <a:hlinkClick r:id="rId2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-151200" y="0"/>
            <a:ext cx="8993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猴子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老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老鼠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蜻蜓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飞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鹦鹉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狮子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9f9"/>
                </a:solidFill>
                <a:latin typeface="Arial"/>
              </a:rPr>
              <a:t>     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猫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934320" y="380880"/>
            <a:ext cx="1904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0b854"/>
                </a:solidFill>
                <a:uFillTx/>
                <a:latin typeface="Tahoma"/>
                <a:hlinkClick r:id="rId2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-227160" y="457200"/>
            <a:ext cx="9676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毛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热水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保温瓶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签字笔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床单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空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灭蚊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灯泡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涂改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457200"/>
            <a:ext cx="1905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0b854"/>
                </a:solidFill>
                <a:uFillTx/>
                <a:latin typeface="Tahoma"/>
                <a:hlinkClick r:id="rId2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-303480" y="-360"/>
            <a:ext cx="975204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跳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羽毛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网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射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自由操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跳高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竞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马术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三级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22716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438280" y="1143000"/>
            <a:ext cx="6248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轻松一刻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欣赏小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货文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 rot="5400000">
            <a:off x="5562360" y="2057400"/>
            <a:ext cx="4419720" cy="167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行楷"/>
              </a:rPr>
              <a:t>知识问答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-912960" y="-227160"/>
            <a:ext cx="11352240" cy="7313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28600" y="2362320"/>
            <a:ext cx="6781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     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识竞赛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04920" y="457200"/>
            <a:ext cx="3809880" cy="552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 Black"/>
              </a:rPr>
              <a:t>游戏规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第一环节为必答环节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每组需答</a:t>
            </a:r>
            <a:r>
              <a:rPr b="1" lang="en-US" sz="2400" spc="-1" strike="noStrike">
                <a:solidFill>
                  <a:srgbClr val="a50021"/>
                </a:solidFill>
                <a:latin typeface="Arial Black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小题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每题限时</a:t>
            </a:r>
            <a:r>
              <a:rPr b="1" lang="en-US" sz="2400" spc="-1" strike="noStrike">
                <a:solidFill>
                  <a:srgbClr val="a50021"/>
                </a:solidFill>
                <a:latin typeface="Arial Black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分钟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答对</a:t>
            </a:r>
            <a:r>
              <a:rPr b="1" lang="en-US" sz="2400" spc="-1" strike="noStrike">
                <a:solidFill>
                  <a:srgbClr val="a50021"/>
                </a:solidFill>
                <a:latin typeface="Arial Black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题</a:t>
            </a:r>
            <a:r>
              <a:rPr b="1" lang="en-US" sz="2400" spc="-1" strike="noStrike">
                <a:solidFill>
                  <a:srgbClr val="a50021"/>
                </a:solidFill>
                <a:latin typeface="Arial Black"/>
              </a:rPr>
              <a:t>10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分，答错不倒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第二环节为抢答题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答对一题</a:t>
            </a:r>
            <a:r>
              <a:rPr b="1" lang="en-US" sz="2400" spc="-1" strike="noStrike">
                <a:solidFill>
                  <a:srgbClr val="a50021"/>
                </a:solidFill>
                <a:latin typeface="Arial Black"/>
              </a:rPr>
              <a:t>10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分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答错倒扣</a:t>
            </a:r>
            <a:r>
              <a:rPr b="1" lang="en-US" sz="2400" spc="-1" strike="noStrike">
                <a:solidFill>
                  <a:srgbClr val="a50021"/>
                </a:solidFill>
                <a:latin typeface="Arial Black"/>
              </a:rPr>
              <a:t>5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分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每人最多只可抢答</a:t>
            </a:r>
            <a:r>
              <a:rPr b="1" lang="en-US" sz="2400" spc="-1" strike="noStrike">
                <a:solidFill>
                  <a:srgbClr val="a50021"/>
                </a:solidFill>
                <a:latin typeface="Arial Black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最高分的组组员均可获得特别奖励一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80880" y="4191120"/>
            <a:ext cx="9144000" cy="2438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规则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游戏分四个小组和三个环节进行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一环节为普通问答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对一题得两分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);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二环节为风险问答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对得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错倒扣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);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三环节为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心有灵犀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"(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猜对一个得一分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);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结束后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得分最高的小组可获得奖励</a:t>
            </a:r>
            <a:r>
              <a:rPr b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              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-379440" y="-836640"/>
            <a:ext cx="9752040" cy="76946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 rot="5400000">
            <a:off x="-1181160" y="2171520"/>
            <a:ext cx="4952880" cy="10666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普通问答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-227160" y="-684360"/>
            <a:ext cx="9523440" cy="754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495680" y="106668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5335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22860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我国第一位女诗人是（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Ａ．许穆夫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Ｂ．杜秋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Ｃ．李清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Ｄ．苏小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0400" y="4952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f9f9"/>
                </a:solidFill>
                <a:latin typeface="Tahoma"/>
              </a:rPr>
              <a:t>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844800"/>
            <a:ext cx="4495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古代常用“沉鱼落雁，闭月羞花”形容女子，“闭月”是指（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Ａ．貂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Ｂ．杨玉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Ｃ．王昭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Ｄ．西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685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f9f9"/>
                </a:solidFill>
                <a:latin typeface="Tahoma"/>
              </a:rPr>
              <a:t>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-1293840" y="-1141560"/>
            <a:ext cx="11199960" cy="86090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495680" y="106668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19720" y="380880"/>
            <a:ext cx="419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最早使用“中国”一词的朝代是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(  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唐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北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汗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西周</a:t>
            </a:r>
            <a:r>
              <a:rPr b="0" lang="en-US" sz="3600" spc="-1" strike="noStrike">
                <a:solidFill>
                  <a:srgbClr val="66ff66"/>
                </a:solidFill>
                <a:latin typeface="方正姚体"/>
                <a:ea typeface="方正姚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20120" y="1143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2133720"/>
            <a:ext cx="3809880" cy="3504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＂知识就是力量＂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出自（　）的哲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学名著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Ａ．高尔基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Ｂ．鲁迅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Ｃ．培根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Ｄ．列宁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505320" y="35053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Ｃ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-684360" y="-988920"/>
            <a:ext cx="10209240" cy="83804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495680" y="106668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838080"/>
            <a:ext cx="441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战国之前“百姓”是对什么人的总称？（ 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奴隶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平民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贵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乐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22096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733920" y="2286000"/>
            <a:ext cx="51051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世界上最大的图书馆是（　）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Ａ．中国国家图书馆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Ｂ．美国国家图书馆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Ｃ．英国国家图书馆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Ｄ．日本国家图书馆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29600" y="32004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Ｂ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-912960" y="-227160"/>
            <a:ext cx="10285560" cy="7313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495680" y="106668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304920"/>
            <a:ext cx="419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我国现存最古老的城是（　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Ａ．北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Ｂ．苏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Ｃ．天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Ｄ．开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600200"/>
            <a:ext cx="213336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7848720" y="6248520"/>
            <a:ext cx="825480" cy="3045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533520" y="3352680"/>
            <a:ext cx="3733560" cy="297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＂出水芙蓉＂的本意是指（　）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Ａ．雨后的荷花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Ｂ．含苞欲放的荷花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Ｃ．雨中的荷花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Ｄ．盛开的荷花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33920" y="4038480"/>
            <a:ext cx="609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-608040" y="0"/>
            <a:ext cx="1013292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124080" y="563868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2f1311"/>
                  </a:solidFill>
                  <a:miter/>
                </a:ln>
                <a:solidFill>
                  <a:srgbClr val="2f131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风险问答</a:t>
            </a:r>
            <a:endParaRPr b="1" lang="en-US" sz="1800" spc="1" strike="noStrike">
              <a:ln w="12600">
                <a:solidFill>
                  <a:srgbClr val="2f1311"/>
                </a:solidFill>
                <a:miter/>
              </a:ln>
              <a:solidFill>
                <a:srgbClr val="2f131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762120"/>
            <a:ext cx="8686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0b854"/>
                </a:solidFill>
                <a:uFillTx/>
                <a:latin typeface="Tahoma"/>
                <a:hlinkClick r:id="rId2"/>
              </a:rPr>
              <a:t>猜词        </a:t>
            </a:r>
            <a:r>
              <a:rPr b="0" lang="zh-CN" sz="4000" spc="-1" strike="noStrike" u="sng">
                <a:solidFill>
                  <a:srgbClr val="f0b854"/>
                </a:solidFill>
                <a:uFillTx/>
                <a:latin typeface="Tahoma"/>
                <a:hlinkClick r:id="rId3"/>
              </a:rPr>
              <a:t>成语       </a:t>
            </a:r>
            <a:r>
              <a:rPr b="0" lang="zh-CN" sz="4000" spc="-1" strike="noStrike" u="sng">
                <a:solidFill>
                  <a:srgbClr val="f0b854"/>
                </a:solidFill>
                <a:uFillTx/>
                <a:latin typeface="Tahoma"/>
                <a:hlinkClick r:id="rId4"/>
              </a:rPr>
              <a:t>书法          </a:t>
            </a:r>
            <a:r>
              <a:rPr b="0" lang="zh-CN" sz="4000" spc="-1" strike="noStrike" u="sng">
                <a:solidFill>
                  <a:srgbClr val="f0b854"/>
                </a:solidFill>
                <a:uFillTx/>
                <a:latin typeface="Tahoma"/>
                <a:hlinkClick r:id="rId5"/>
              </a:rPr>
              <a:t>识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2:39:40Z</dcterms:created>
  <dc:creator/>
  <dc:description/>
  <dc:language>en-US</dc:language>
  <cp:lastModifiedBy>微软用户</cp:lastModifiedBy>
  <dcterms:modified xsi:type="dcterms:W3CDTF">2012-05-30T12:40:1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  <property fmtid="{D5CDD505-2E9C-101B-9397-08002B2CF9AE}" pid="3" name="Version">
    <vt:r8>1</vt:r8>
  </property>
</Properties>
</file>