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69A98-95E8-4D0E-B422-D0C674FFC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8177F-E4BA-45CC-8C0A-00DE6DCD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FEDFD6-C830-4932-9507-C2025C8C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E37472-0F45-4743-987C-A480B382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540BC9-1D7B-44AA-8BBE-8AC2EF77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B0398E-9F80-4067-A614-69738581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D9178D-C082-424E-B12F-98B4CCF2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1873AAE-A5E8-4CB2-992A-E70A6FD6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2B130E-499F-43F0-BAEA-D9759A1AA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DF08D2-0025-4551-A074-8281597ED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257049-4EBE-48D3-9EEE-B3571668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54CB3-B37F-4A8F-954A-AD435D830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01C40-42EB-4B0E-B6B0-95B3314C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D68CB-31DE-45EC-8B74-48CFB9F23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61192-069C-45CA-B70B-A5E320CE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33D15-BB7D-416D-8B1E-B3B0DC36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F73CE-3164-450A-8055-16512DCA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A80A25-2CB4-4458-8327-7D8A61DD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E7D40-D1CA-429A-AE87-23E6DCD4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A468B-91A1-4736-A32B-C375060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C09DA0-F23E-4DA0-A738-760CD8A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A42B72-6385-42B7-8651-A2D238BFC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B06A8-3A18-47C0-B552-29C5FED66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C8D7-F382-478B-863F-9336AD34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0DABB9-68F8-40E8-851D-D1907B4E3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0AE0F0-A966-457B-B468-BF13A92C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4A42A-D645-4008-B65D-C23C08E3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021B8-9A4B-45DF-B90D-2E371A80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5B4CF9-CD20-472C-B859-18E93BB55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A8D003-2CE4-4DB8-81EF-2955BEBE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9C1D1-541A-46B1-82A5-1F51C92ED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F895B-39F2-414E-9BCB-A06204E8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5B5C-5D56-4355-8BE8-57624FA8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90F3D-679C-4757-8A9F-A47C643E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D51FA-3EAF-4E3E-8303-A397A631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8B082-80E7-4F8D-A85E-C92DD6CB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2AF5B2-73F6-4C09-A07E-FD9F59B4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B07ACE-D1DD-4BD8-9F84-823CED25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B526C9-39F5-4BB4-BBFB-74756285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0DD69-7AD0-4062-B5BF-BBFAA031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A7E6FA-A2EB-4421-9C20-916A52F5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BD77E8-6FB4-47AC-AA9C-27CA8EA7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75940F-C7BF-45A7-B39F-2D095ABB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7A23B-30BE-4925-BC94-3489EEB3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C5C8E-931A-4DE9-B330-1F5D3CB3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28A4C-4340-48AB-9155-2E34F366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44D165-A97B-424D-B252-C157AA24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65D1BF-9901-40EB-9CC4-AA530CE9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3F131-EEE4-467C-A692-1CF7B948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4F286B-41AD-4D73-9461-6C6A8010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2C3E03-6593-4C7C-9621-D877D7365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96C4-71E8-4745-AACB-96DDF949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240F0-5D67-4C3C-9F5B-141CFA48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270B0-635A-4143-8D5D-A71AB01FF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E81E3-0315-4AFF-90DB-099DB032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DD85B-0869-49D3-BE3A-AD0FB32F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30A07-D27B-4D65-8841-4688C6C2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FB70B-99EB-4CE8-8C71-05C55533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DE00-1A9D-4A38-83D5-8B52E92E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03D7-1090-48DC-A8F7-67CFA3C7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C299-3168-4A17-B7A6-F19106EF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63C3-89EF-4A80-982C-DBE3ACD2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B68A3-4D44-4E1B-AFD5-AC351A51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0130-FB3E-4F84-932C-C16CC40A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C8160-A254-41B4-9B98-DB3167567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2602-38BA-4255-BA7F-D0614A41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5B57-FBCC-4203-8C05-BA22B83F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8F9A8-BE44-4B50-A807-06F9C518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EF23A-763C-49AB-93F9-59B5162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90F58-0E8F-4785-A9D6-D68C28EA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8011B-21FA-421C-B998-AE19A92B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6BB3-3795-429F-9838-DD672785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CB1E-327B-4BA1-85CC-584678BF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45199-55B7-4209-9D6F-22463B29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FB3A8-DD75-402C-8F01-0E707A1F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2F916-5238-4378-A7D0-23D4FFFEC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7DE0B-1603-4823-9A77-3AE7DB22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4703A-2BE4-46A6-8BCA-CD265189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05D8CF-9AEF-4980-9F90-4CD715BA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D42E42-7EDD-4840-91FF-3290C2CF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BECFC-71A7-4587-9EEC-A364551F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516CB-CB52-459A-A74B-E19CA45A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F102FB-9833-4C1C-B0C9-A1D7D20A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C15A338-D08D-42F5-8CBB-AFD0078E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618234-691C-46EE-91AB-2CD1FF46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F34E65-94F2-4BF5-A187-722862C8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9EF8B-B83B-46B4-8C9A-BE79232B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899A-1664-449A-A1EB-D9ADDECE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2CC87F-B0F0-4F21-A3B5-D7C161C7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C1036-50DF-4D8C-8FA7-B696CF03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478708-8381-4C26-90CC-CCD93DA8B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E48996-5323-4F1A-956B-BED892C1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E106F-C414-4381-8C08-0E294B8D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F9EFF-B955-4810-8242-7FDBDB3F4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183C5-9D71-4B8A-83D7-A95DBDB0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9E88F-9994-4B8F-BE46-685A210A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3A799-B84C-486F-AB31-95123DE8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DADED-AE90-4847-8F1F-78529F4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5D7F7-EF09-45FA-9661-E53B016F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F8961-0C33-4AE7-A7AA-E4A6DD4CC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D9228-1B15-4A66-A12D-CD1D83C5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1EDD7-272E-401B-B94C-FB917137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BCA42-75EC-46E5-A9ED-60DABEB38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C6DCD-34B7-457B-A4E4-2DBB9E11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F794D-6925-45DD-91E5-E71FB463D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5CFE0-831B-4C0E-AE23-06476E26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4CDC16-87AF-45F9-A45B-E727697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72B05-9EB1-4900-B178-47A9A8A2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17B85-6C5C-40CB-872C-E213D2AE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C7D4-A9D0-4AAC-87AD-DE4CB33B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5A88E-B427-4BE6-AA4D-D147614F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3B70A-3C07-47F3-B13E-0B8250CF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B753C-5CB7-4EEA-95B6-363A886D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6434E-61B2-4D3A-8F8F-B453CB7D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1977A-1AAF-42B4-B89A-D44FF01B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F6A2E-D3FB-422B-8C49-EF63527D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05CB2-18DB-463B-AA73-E34AB9F8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918FCD-FFAE-44F3-A291-4C737536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45019B-898E-4B3D-A74A-FC2C97F3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2E97A6-B0DA-4D64-9942-B8C9C980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78920" y="1125360"/>
            <a:ext cx="842508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C140-23A6-4CEF-83D0-3BCB974A30B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2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3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9" descr="3-(bar)"/>
          <p:cNvPicPr/>
          <p:nvPr/>
        </p:nvPicPr>
        <p:blipFill>
          <a:blip r:embed="rId3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141120" y="12672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0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7E64-B4D0-4C2D-AA9F-B13B2082F33B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78920" y="1125360"/>
            <a:ext cx="842508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4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9BAA7-0EAC-478C-B267-AB52039C1BE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5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3-(bar)"/>
          <p:cNvPicPr/>
          <p:nvPr/>
        </p:nvPicPr>
        <p:blipFill>
          <a:blip r:embed="rId3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title"/>
          </p:nvPr>
        </p:nvSpPr>
        <p:spPr>
          <a:xfrm>
            <a:off x="141120" y="12672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178920" y="1125360"/>
            <a:ext cx="842508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Num" idx="7"/>
          </p:nvPr>
        </p:nvSpPr>
        <p:spPr>
          <a:xfrm>
            <a:off x="7918200" y="6244920"/>
            <a:ext cx="1106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D413-7A55-4EAD-A067-A9894B4C868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8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9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title"/>
          </p:nvPr>
        </p:nvSpPr>
        <p:spPr>
          <a:xfrm>
            <a:off x="141120" y="12672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BD8C-12BB-4192-823E-1AF4DF92473B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F220-3C42-4E55-8060-849551C4ECC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E08F-9196-4D6A-B17B-9B19B5D3CA83}" type="slidenum">
              <a:rPr b="0" lang="zh-CN" sz="1200" spc="-1" strike="noStrike">
                <a:solidFill>
                  <a:srgbClr val="000000"/>
                </a:solidFill>
                <a:latin typeface="Arial Black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2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9" descr="3 (title slide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178920" y="1125360"/>
            <a:ext cx="8425080" cy="497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141120" y="126720"/>
            <a:ext cx="75996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223920" y="62449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589120" y="6244920"/>
            <a:ext cx="5051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7885080" y="6244920"/>
            <a:ext cx="110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35c97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6B31-CB8C-4555-BBA2-648D7B7E74B3}" type="slidenum">
              <a:rPr b="0" lang="zh-CN" sz="1400" spc="-1" strike="noStrike">
                <a:solidFill>
                  <a:srgbClr val="235c97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1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1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31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F3500-65A4-4C4F-B747-871F786242C4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3BBA-4500-4F4D-90AF-42F9BE832E2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79280" y="1844280"/>
            <a:ext cx="8785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235c97"/>
                </a:solidFill>
                <a:latin typeface="黑体"/>
                <a:ea typeface="黑体"/>
              </a:rPr>
              <a:t>职业发展与就业指导</a:t>
            </a:r>
            <a:endParaRPr b="1" lang="en-US" sz="7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403280" y="407664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七讲：应聘技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ahoma"/>
                <a:ea typeface="黑体"/>
              </a:rPr>
              <a:t>面试技巧篇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力有理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礼有节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综合素质打动对方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2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82440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面试技巧之仪容仪表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79280" y="1844640"/>
            <a:ext cx="8964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仪容整洁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时尚但不夸张，不做怪异发型，重彩发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男生：短发无须，洗头洗澡，切忌化妆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女生：发型合理，不做夸张指甲，略施粉黛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服饰搭配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可着轻便休闲服饰，但不可过于随意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可准备庄重职业服饰，但不可轻易使用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女生职业装方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干练聪慧，大方适当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素色套装，色彩不宜过艳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西裤及足，套裙及膝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穿黑色或与套装配色的浅口中跟皮鞋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饰物简约，点缀为妙，切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圣诞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男生职业装方案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79280" y="206064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庄重精良，和谐整体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黑、灰、深蓝西装，上下身同色同质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白、浅灰、浅蓝衬衣，领、袖口整洁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黑色系带皮鞋，黑、灰、蓝袜。忌白袜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领带与西装配色，不可过于轻薄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黑色皮质腰带，腰带头不可招摇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面试技巧之面试礼仪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见面礼仪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举止姿态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交谈礼仪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四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细节礼仪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ahoma"/>
                <a:ea typeface="黑体"/>
              </a:rPr>
              <a:t>展示自我篇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8425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双向沟通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准确答问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充分展示能力素质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展示自我之面试意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职业心态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忠诚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能力经验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四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智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五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情商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569440" cy="403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感谢听讲！</a:t>
            </a:r>
            <a:br>
              <a:rPr sz="8000"/>
            </a:br>
            <a:r>
              <a:rPr b="1" lang="zh-CN" sz="8000" spc="-1" strike="noStrike">
                <a:solidFill>
                  <a:srgbClr val="ffffff"/>
                </a:solidFill>
                <a:latin typeface="黑体"/>
                <a:ea typeface="黑体"/>
              </a:rPr>
              <a:t>祝同学们未来拥有远大前程！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宋体"/>
              </a:rPr>
              <a:t>本讲作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择业决策有那些原则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材料准备应该包括几大部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职业着装原则是什么？（男女生各自作答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面试官见面时，如何互换名片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4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ahoma"/>
                <a:ea typeface="黑体"/>
              </a:rPr>
              <a:t>择业决策篇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1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天生我材必有用”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用只因不适位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聘之前，决策先行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4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择业决策之三大步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分析就业机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评估自身条件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三</a:t>
            </a: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800" spc="-1" strike="noStrike">
                <a:solidFill>
                  <a:srgbClr val="000000"/>
                </a:solidFill>
                <a:latin typeface="Tahoma"/>
              </a:rPr>
              <a:t>锁定就业目标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Picture 2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择业决策之五大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15640" y="2017440"/>
            <a:ext cx="7839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服从需求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就业在先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三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基层起步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四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避开热点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五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扬长避短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2" descr="3-(bar)"/>
          <p:cNvPicPr/>
          <p:nvPr/>
        </p:nvPicPr>
        <p:blipFill>
          <a:blip r:embed="rId1"/>
          <a:stretch/>
        </p:blipFill>
        <p:spPr>
          <a:xfrm>
            <a:off x="0" y="0"/>
            <a:ext cx="9144000" cy="71424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54900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99"/>
                </a:solidFill>
                <a:latin typeface="Tahoma"/>
                <a:ea typeface="黑体"/>
              </a:rPr>
              <a:t>材料准备篇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425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知己知彼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百战不殆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意图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打无准备之战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材料准备之三了解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了解招聘方基本情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了解岗位要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三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了解材料制作基本原则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材料准备之七原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真实性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规范性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三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自信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四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个性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五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突出重点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六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全面展示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七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美观原则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ahoma"/>
              </a:rPr>
              <a:t>材料准备之四大件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877572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一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材料封面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信息完整、端庄大方、浓淡适宜、创意个性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二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求职信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自荐信与应聘信：有针对，有内容，有实力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三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个人简历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能力素养、经历经验、个性特长、明确意向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【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四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】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附件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能力证书、荣誉证书、代表创作、校方推荐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4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4:06:43Z</dcterms:created>
  <dc:creator>雨林木风</dc:creator>
  <dc:description/>
  <dc:language>en-US</dc:language>
  <cp:lastModifiedBy>Administrator</cp:lastModifiedBy>
  <dcterms:modified xsi:type="dcterms:W3CDTF">2015-09-14T07:34:43Z</dcterms:modified>
  <cp:revision>11</cp:revision>
  <dc:subject/>
  <dc:title>职业发展与就业指导</dc:title>
</cp:coreProperties>
</file>