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81080" y="759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99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1080" y="759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99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231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81080" y="759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996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92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99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996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92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F3D3-39A6-40F1-BC28-8D9D0ED97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81080" y="759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40FB-5837-4D65-8E22-4B4B99EB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81080" y="759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9733-E49F-4942-9A9B-C066209B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81080" y="759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A2E5-CA3C-487C-A4EF-36EC1157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1080" y="759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207E-C4BC-4BEC-AA37-94FF8792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981080" y="7596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3A5F-DDD2-4B7A-B0A5-25CC818F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81080" y="759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99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B0B4-088A-4362-AC13-B58AD316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981080" y="759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81080" y="759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231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2B96-6D50-474E-B4B3-2E47AC66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81080" y="759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99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DCBB-7D69-4E2C-9853-DD61ACAA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1080" y="759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99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1E49-7FAB-4ADA-A463-C8BDF2D7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1080" y="759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99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231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01DA-AA59-4934-BCA6-22A5F94CA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81080" y="759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96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92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99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996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92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100C-8D95-43D2-BBBB-39AD6CC14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81080" y="759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81080" y="759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81080" y="759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81080" y="759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81080" y="759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981080" y="7596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81080" y="759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599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81080" y="759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231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81080" y="759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599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81080" y="759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599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81080" y="759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599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231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81080" y="759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996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392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599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996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392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DE82-9342-40BB-A20C-E28032AA8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81080" y="759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C057-C285-4C2A-9D6B-545F50C4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81080" y="759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0A2E-4D07-4E77-9EFC-D71E78AD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81080" y="759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81080" y="759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1F07-1209-41C6-B4C1-3B4AC64E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81080" y="759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1E3D-B524-4515-9F73-921C8F66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981080" y="7596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AC6C-F250-42A6-BADB-9D106681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81080" y="759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599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A028-8AB9-4DD3-BF9A-1CB44649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81080" y="759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231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020B-927C-4737-97F5-F58B6D05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81080" y="759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99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43C93-9962-487F-933D-345DD88B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81080" y="759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599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CA237-063C-4860-BE45-9350DE39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81080" y="759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599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231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6585-EA19-4890-8123-F0CFFCA7B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81080" y="759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996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392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1599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996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392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6EFA4-37A2-4A75-9C70-C6DD3F909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1080" y="759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981080" y="7596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81080" y="759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99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81080" y="759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231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81080" y="759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99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81080" y="759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Arial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Arial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Arial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Arial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4340-B951-456C-B1BC-328FFB1EFF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81080" y="759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Arial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Arial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Arial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Arial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696D-E006-4F19-8744-FB8997D313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9880" y="2514240"/>
            <a:ext cx="51818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4800" spc="-1" strike="noStrike">
                <a:solidFill>
                  <a:srgbClr val="31c20a"/>
                </a:solidFill>
                <a:latin typeface="Webdings"/>
                <a:ea typeface="Webdings"/>
              </a:rPr>
              <a:t>大学生职业生涯规划书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若生命等候.mp3" descr=""/>
          <p:cNvPicPr/>
          <p:nvPr/>
        </p:nvPicPr>
        <p:blipFill>
          <a:blip r:embed="rId2"/>
          <a:stretch/>
        </p:blipFill>
        <p:spPr>
          <a:xfrm>
            <a:off x="304920" y="64008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7162920" y="6477120"/>
            <a:ext cx="1981080" cy="307080"/>
          </a:xfrm>
          <a:prstGeom prst="rect">
            <a:avLst/>
          </a:pr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背景歌曲：如生命等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2"/>
          <p:cNvSpPr/>
          <p:nvPr/>
        </p:nvSpPr>
        <p:spPr>
          <a:xfrm>
            <a:off x="152280" y="609480"/>
            <a:ext cx="8763120" cy="5715000"/>
          </a:xfrm>
          <a:prstGeom prst="flowChartAlternateProcess">
            <a:avLst/>
          </a:prstGeom>
          <a:noFill/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752480" y="152280"/>
            <a:ext cx="5797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第三章 具体实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898560" y="838080"/>
            <a:ext cx="69195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一、短期目标的具体实施计划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大学期间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）学好各科专业知识，同时掌握经济管理行业的基本知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）英语已过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级，计算机已过二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）积极准备考多种证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）从现在起，关注考证的各种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7) 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假期到小公司打工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找专业相符合的工作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积累工作经验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二、中期目标的具体实施计划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大学毕业的五年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考研究生，找一个好的工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三、长期计划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）在工作之余，不断学习各方面的知识，提高自己的能力，增长各方面见识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）努力工作，积极博取提升的机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）在工作，学习之外，坚持锻炼身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）汲取他人各种优点，不断提高自身的修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5) 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不断发现自己的不足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并不大的予以改正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6) 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建立良好的交际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2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2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2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2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AutoShape 2"/>
          <p:cNvSpPr/>
          <p:nvPr/>
        </p:nvSpPr>
        <p:spPr>
          <a:xfrm>
            <a:off x="304920" y="1447920"/>
            <a:ext cx="8610480" cy="4343400"/>
          </a:xfrm>
          <a:prstGeom prst="flowChartAlternateProcess">
            <a:avLst/>
          </a:prstGeom>
          <a:noFill/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990720" y="525600"/>
            <a:ext cx="679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宋体"/>
              </a:rPr>
              <a:t>第四章评估调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438120" y="1600200"/>
            <a:ext cx="831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1523880" y="1447920"/>
            <a:ext cx="6400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社会是不断变化的，而且是不断地发展壮大，所以对我的职业规划有时候也需要要做出做出一些细微的调整，但总体不会有太大的改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       </a:t>
            </a:r>
            <a:r>
              <a:rPr b="1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如果我不能够按规划完成以上制定的计划的执行，将会按照下面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发展路径发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大学毕业后，没有考上研究生，则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ff3300"/>
              </a:buClr>
              <a:buFont typeface="楷体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先选择一家小的公司工作，积累社会经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ff3300"/>
              </a:buClr>
              <a:buFont typeface="楷体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在工作能力达到一定的限度的时候将会选择更好的公司工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057040" y="25905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Thank you</a:t>
            </a:r>
            <a:r>
              <a:rPr b="0" lang="zh-CN" sz="7200" spc="-1" strike="noStrike">
                <a:solidFill>
                  <a:srgbClr val="ff0000"/>
                </a:solidFill>
                <a:latin typeface="Times New Roman"/>
              </a:rPr>
              <a:t>！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2"/>
          <p:cNvSpPr/>
          <p:nvPr/>
        </p:nvSpPr>
        <p:spPr>
          <a:xfrm>
            <a:off x="228600" y="914400"/>
            <a:ext cx="8686800" cy="5715000"/>
          </a:xfrm>
          <a:prstGeom prst="flowChartAlternateProcess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143000" y="1676520"/>
            <a:ext cx="616572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"/>
                <a:ea typeface="楷体"/>
              </a:rPr>
              <a:t>姓名：</a:t>
            </a:r>
            <a:r>
              <a:rPr b="1" lang="zh-CN" sz="3600" spc="-1" strike="noStrike">
                <a:solidFill>
                  <a:srgbClr val="ff3300"/>
                </a:solidFill>
                <a:latin typeface="楷体"/>
                <a:ea typeface="楷体"/>
              </a:rPr>
              <a:t>**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"/>
                <a:ea typeface="楷体"/>
              </a:rPr>
              <a:t>性别：</a:t>
            </a:r>
            <a:r>
              <a:rPr b="1" lang="zh-CN" sz="3600" spc="-1" strike="noStrike">
                <a:solidFill>
                  <a:srgbClr val="ff3300"/>
                </a:solidFill>
                <a:latin typeface="楷体"/>
                <a:ea typeface="楷体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"/>
                <a:ea typeface="楷体"/>
              </a:rPr>
              <a:t>所在学校及学院：</a:t>
            </a:r>
            <a:r>
              <a:rPr b="1" lang="zh-CN" sz="3600" spc="-1" strike="noStrike">
                <a:solidFill>
                  <a:srgbClr val="ff3300"/>
                </a:solidFill>
                <a:latin typeface="楷体"/>
                <a:ea typeface="楷体"/>
              </a:rPr>
              <a:t>**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"/>
                <a:ea typeface="楷体"/>
              </a:rPr>
              <a:t>班级及专业：</a:t>
            </a:r>
            <a:r>
              <a:rPr b="1" lang="zh-CN" sz="3600" spc="-1" strike="noStrike">
                <a:solidFill>
                  <a:srgbClr val="ff3300"/>
                </a:solidFill>
                <a:latin typeface="楷体"/>
                <a:ea typeface="楷体"/>
              </a:rPr>
              <a:t>*</a:t>
            </a:r>
            <a:r>
              <a:rPr b="1" lang="zh-CN" sz="3600" spc="-1" strike="noStrike">
                <a:solidFill>
                  <a:srgbClr val="ff3300"/>
                </a:solidFill>
                <a:latin typeface="楷体"/>
                <a:ea typeface="楷体"/>
              </a:rPr>
              <a:t>级会计专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WordArt 4"/>
          <p:cNvSpPr/>
          <p:nvPr/>
        </p:nvSpPr>
        <p:spPr>
          <a:xfrm>
            <a:off x="3124080" y="1143000"/>
            <a:ext cx="2971800" cy="7318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731880"/>
              <a:gd name="textAreaBottom" fmla="*/ 732240 h 73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b2b2b2">
              <a:alpha val="50000"/>
            </a:srgbClr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1295280" y="121932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前 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380880" y="2438280"/>
            <a:ext cx="8763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0066ff"/>
                </a:solidFill>
                <a:latin typeface="楷体"/>
                <a:ea typeface="楷体"/>
              </a:rPr>
              <a:t>大学生职业职前生涯规划是为我们的梦想插上了飞向蓝天的翅膀，让我们的人生道路上比别人更胜人一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楷体"/>
                <a:ea typeface="楷体"/>
              </a:rPr>
              <a:t>      </a:t>
            </a:r>
            <a:r>
              <a:rPr b="1" lang="zh-CN" sz="2800" spc="-1" strike="noStrike">
                <a:solidFill>
                  <a:srgbClr val="0066ff"/>
                </a:solidFill>
                <a:latin typeface="楷体"/>
                <a:ea typeface="楷体"/>
              </a:rPr>
              <a:t>如果人们不能为自己制定好一个好的目标、一个好的方向。那么他就像大海中没有航向的帆船一样，永远到达不了停靠的码头。只能就此沉没…</a:t>
            </a:r>
            <a:r>
              <a:rPr b="1" lang="zh-CN" sz="2800" spc="-1" strike="noStrike">
                <a:solidFill>
                  <a:srgbClr val="0066ff"/>
                </a:solidFill>
                <a:latin typeface="楷体"/>
                <a:ea typeface="楷体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楷体"/>
                <a:ea typeface="楷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81080" y="759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he table of Career plannin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2"/>
          <a:stretch/>
        </p:blipFill>
        <p:spPr>
          <a:xfrm>
            <a:off x="3852720" y="2997360"/>
            <a:ext cx="2310120" cy="2288880"/>
          </a:xfrm>
          <a:prstGeom prst="rect">
            <a:avLst/>
          </a:prstGeom>
          <a:ln w="0">
            <a:noFill/>
          </a:ln>
        </p:spPr>
      </p:pic>
      <p:sp>
        <p:nvSpPr>
          <p:cNvPr id="168" name="Arc 4"/>
          <p:cNvSpPr/>
          <p:nvPr/>
        </p:nvSpPr>
        <p:spPr>
          <a:xfrm flipH="1" flipV="1" rot="5400000">
            <a:off x="3304080" y="3555360"/>
            <a:ext cx="2279880" cy="1174680"/>
          </a:xfrm>
          <a:prstGeom prst="pie">
            <a:avLst/>
          </a:prstGeom>
          <a:solidFill>
            <a:srgbClr val="99cc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rc 5"/>
          <p:cNvSpPr/>
          <p:nvPr/>
        </p:nvSpPr>
        <p:spPr>
          <a:xfrm flipH="1" flipV="1" rot="16490400">
            <a:off x="4405320" y="3572640"/>
            <a:ext cx="2279520" cy="1230120"/>
          </a:xfrm>
          <a:prstGeom prst="pie">
            <a:avLst/>
          </a:prstGeom>
          <a:solidFill>
            <a:srgbClr val="cc99ff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573800" y="3870720"/>
            <a:ext cx="1623600" cy="1479960"/>
            <a:chOff x="4573800" y="3870720"/>
            <a:chExt cx="1623600" cy="1479960"/>
          </a:xfrm>
        </p:grpSpPr>
        <p:grpSp>
          <p:nvGrpSpPr>
            <p:cNvPr id="171" name=""/>
            <p:cNvGrpSpPr/>
            <p:nvPr/>
          </p:nvGrpSpPr>
          <p:grpSpPr>
            <a:xfrm>
              <a:off x="4948560" y="3870720"/>
              <a:ext cx="1248840" cy="1465560"/>
              <a:chOff x="4948560" y="3870720"/>
              <a:chExt cx="1248840" cy="1465560"/>
            </a:xfrm>
          </p:grpSpPr>
          <p:sp>
            <p:nvSpPr>
              <p:cNvPr id="172" name="AutoShape 8"/>
              <p:cNvSpPr/>
              <p:nvPr/>
            </p:nvSpPr>
            <p:spPr>
              <a:xfrm flipH="1" flipV="1" rot="1528800">
                <a:off x="5644080" y="3875040"/>
                <a:ext cx="29700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AutoShape 9"/>
              <p:cNvSpPr/>
              <p:nvPr/>
            </p:nvSpPr>
            <p:spPr>
              <a:xfrm flipH="1" flipV="1" rot="2344200">
                <a:off x="5549400" y="4053960"/>
                <a:ext cx="29700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AutoShape 10"/>
              <p:cNvSpPr/>
              <p:nvPr/>
            </p:nvSpPr>
            <p:spPr>
              <a:xfrm flipH="1" flipV="1" rot="2640000">
                <a:off x="5471640" y="4141440"/>
                <a:ext cx="29700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AutoShape 11"/>
              <p:cNvSpPr/>
              <p:nvPr/>
            </p:nvSpPr>
            <p:spPr>
              <a:xfrm flipH="1" flipV="1" rot="3172200">
                <a:off x="5374800" y="4241880"/>
                <a:ext cx="29700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573800" y="4274280"/>
              <a:ext cx="1569240" cy="1076400"/>
              <a:chOff x="4573800" y="4274280"/>
              <a:chExt cx="1569240" cy="1076400"/>
            </a:xfrm>
          </p:grpSpPr>
          <p:sp>
            <p:nvSpPr>
              <p:cNvPr id="177" name="AutoShape 13"/>
              <p:cNvSpPr/>
              <p:nvPr/>
            </p:nvSpPr>
            <p:spPr>
              <a:xfrm flipH="1" flipV="1" rot="2881800">
                <a:off x="5441040" y="4182840"/>
                <a:ext cx="29808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AutoShape 14"/>
              <p:cNvSpPr/>
              <p:nvPr/>
            </p:nvSpPr>
            <p:spPr>
              <a:xfrm flipH="1" flipV="1" rot="3697200">
                <a:off x="5284800" y="4312080"/>
                <a:ext cx="29844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AutoShape 15"/>
              <p:cNvSpPr/>
              <p:nvPr/>
            </p:nvSpPr>
            <p:spPr>
              <a:xfrm flipH="1" flipV="1" rot="3993000">
                <a:off x="5179320" y="4362480"/>
                <a:ext cx="29844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AutoShape 16"/>
              <p:cNvSpPr/>
              <p:nvPr/>
            </p:nvSpPr>
            <p:spPr>
              <a:xfrm flipH="1" flipV="1" rot="4525200">
                <a:off x="5051160" y="4417920"/>
                <a:ext cx="29844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1" name=""/>
          <p:cNvGrpSpPr/>
          <p:nvPr/>
        </p:nvGrpSpPr>
        <p:grpSpPr>
          <a:xfrm>
            <a:off x="3538440" y="3411360"/>
            <a:ext cx="343080" cy="108000"/>
            <a:chOff x="3538440" y="3411360"/>
            <a:chExt cx="343080" cy="108000"/>
          </a:xfrm>
        </p:grpSpPr>
        <p:sp>
          <p:nvSpPr>
            <p:cNvPr id="182" name="Line 17"/>
            <p:cNvSpPr/>
            <p:nvPr/>
          </p:nvSpPr>
          <p:spPr>
            <a:xfrm>
              <a:off x="3538440" y="3411360"/>
              <a:ext cx="343080" cy="108000"/>
            </a:xfrm>
            <a:prstGeom prst="line">
              <a:avLst/>
            </a:prstGeom>
            <a:ln w="7632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3538440" y="3411360"/>
              <a:ext cx="343080" cy="10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3610080" y="5103360"/>
            <a:ext cx="247680" cy="190440"/>
            <a:chOff x="3610080" y="5103360"/>
            <a:chExt cx="247680" cy="190440"/>
          </a:xfrm>
        </p:grpSpPr>
        <p:sp>
          <p:nvSpPr>
            <p:cNvPr id="185" name="Line 18"/>
            <p:cNvSpPr/>
            <p:nvPr/>
          </p:nvSpPr>
          <p:spPr>
            <a:xfrm flipV="1">
              <a:off x="3610080" y="5103360"/>
              <a:ext cx="247680" cy="190440"/>
            </a:xfrm>
            <a:prstGeom prst="line">
              <a:avLst/>
            </a:prstGeom>
            <a:ln w="7632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 rot="10800000">
              <a:off x="3610080" y="5103360"/>
              <a:ext cx="247680" cy="19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382560" y="4250520"/>
            <a:ext cx="313560" cy="299160"/>
            <a:chOff x="3382560" y="4250520"/>
            <a:chExt cx="313560" cy="299160"/>
          </a:xfrm>
        </p:grpSpPr>
        <p:sp>
          <p:nvSpPr>
            <p:cNvPr id="188" name="Line 19"/>
            <p:cNvSpPr/>
            <p:nvPr/>
          </p:nvSpPr>
          <p:spPr>
            <a:xfrm flipV="1">
              <a:off x="3382560" y="4393800"/>
              <a:ext cx="313560" cy="12600"/>
            </a:xfrm>
            <a:prstGeom prst="line">
              <a:avLst/>
            </a:prstGeom>
            <a:ln w="7632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 rot="12903600">
              <a:off x="3414240" y="4304520"/>
              <a:ext cx="249480" cy="19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510160" y="2703960"/>
            <a:ext cx="206640" cy="360360"/>
            <a:chOff x="5510160" y="2703960"/>
            <a:chExt cx="206640" cy="360360"/>
          </a:xfrm>
        </p:grpSpPr>
        <p:sp>
          <p:nvSpPr>
            <p:cNvPr id="191" name="Line 20"/>
            <p:cNvSpPr/>
            <p:nvPr/>
          </p:nvSpPr>
          <p:spPr>
            <a:xfrm>
              <a:off x="5613120" y="2703960"/>
              <a:ext cx="720" cy="35964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 rot="4342800">
              <a:off x="5441760" y="2830320"/>
              <a:ext cx="343080" cy="10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195600" y="4653000"/>
            <a:ext cx="254880" cy="292320"/>
            <a:chOff x="6195600" y="4653000"/>
            <a:chExt cx="254880" cy="292320"/>
          </a:xfrm>
        </p:grpSpPr>
        <p:sp>
          <p:nvSpPr>
            <p:cNvPr id="194" name="Line 21"/>
            <p:cNvSpPr/>
            <p:nvPr/>
          </p:nvSpPr>
          <p:spPr>
            <a:xfrm flipH="1" flipV="1">
              <a:off x="6195600" y="4708440"/>
              <a:ext cx="254880" cy="18144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 rot="4384800">
              <a:off x="6198840" y="4703760"/>
              <a:ext cx="247680" cy="190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6075360" y="3183480"/>
            <a:ext cx="254520" cy="199080"/>
            <a:chOff x="6075360" y="3183480"/>
            <a:chExt cx="254520" cy="199080"/>
          </a:xfrm>
        </p:grpSpPr>
        <p:sp>
          <p:nvSpPr>
            <p:cNvPr id="197" name="Line 22"/>
            <p:cNvSpPr/>
            <p:nvPr/>
          </p:nvSpPr>
          <p:spPr>
            <a:xfrm flipH="1">
              <a:off x="6075360" y="3192120"/>
              <a:ext cx="254160" cy="1818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 rot="121200">
              <a:off x="6078600" y="3187440"/>
              <a:ext cx="247680" cy="19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AutoShape 23"/>
          <p:cNvSpPr/>
          <p:nvPr/>
        </p:nvSpPr>
        <p:spPr>
          <a:xfrm>
            <a:off x="2085840" y="2951280"/>
            <a:ext cx="138456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24"/>
          <p:cNvSpPr/>
          <p:nvPr/>
        </p:nvSpPr>
        <p:spPr>
          <a:xfrm>
            <a:off x="2119320" y="2990880"/>
            <a:ext cx="1301760" cy="587520"/>
          </a:xfrm>
          <a:prstGeom prst="roundRect">
            <a:avLst>
              <a:gd name="adj" fmla="val 50000"/>
            </a:avLst>
          </a:prstGeom>
          <a:solidFill>
            <a:srgbClr val="99cc00">
              <a:alpha val="94000"/>
            </a:srgbClr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25"/>
          <p:cNvSpPr/>
          <p:nvPr/>
        </p:nvSpPr>
        <p:spPr>
          <a:xfrm flipH="1">
            <a:off x="4933080" y="189864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26"/>
          <p:cNvSpPr/>
          <p:nvPr/>
        </p:nvSpPr>
        <p:spPr>
          <a:xfrm flipH="1">
            <a:off x="4969800" y="1936800"/>
            <a:ext cx="1299960" cy="587160"/>
          </a:xfrm>
          <a:prstGeom prst="roundRect">
            <a:avLst>
              <a:gd name="adj" fmla="val 50000"/>
            </a:avLst>
          </a:prstGeom>
          <a:solidFill>
            <a:srgbClr val="cc99ff">
              <a:alpha val="69000"/>
            </a:srgbClr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7"/>
          <p:cNvSpPr/>
          <p:nvPr/>
        </p:nvSpPr>
        <p:spPr>
          <a:xfrm>
            <a:off x="1459080" y="304812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自我认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8"/>
          <p:cNvSpPr/>
          <p:nvPr/>
        </p:nvSpPr>
        <p:spPr>
          <a:xfrm>
            <a:off x="4335840" y="201780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短期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9"/>
          <p:cNvSpPr/>
          <p:nvPr/>
        </p:nvSpPr>
        <p:spPr>
          <a:xfrm>
            <a:off x="1928880" y="406728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30"/>
          <p:cNvSpPr/>
          <p:nvPr/>
        </p:nvSpPr>
        <p:spPr>
          <a:xfrm>
            <a:off x="1962000" y="4106880"/>
            <a:ext cx="1301760" cy="587520"/>
          </a:xfrm>
          <a:prstGeom prst="roundRect">
            <a:avLst>
              <a:gd name="adj" fmla="val 50000"/>
            </a:avLst>
          </a:prstGeom>
          <a:solidFill>
            <a:srgbClr val="99cc00">
              <a:alpha val="94000"/>
            </a:srgbClr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1"/>
          <p:cNvSpPr/>
          <p:nvPr/>
        </p:nvSpPr>
        <p:spPr>
          <a:xfrm>
            <a:off x="1302840" y="416412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职业认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2"/>
          <p:cNvSpPr/>
          <p:nvPr/>
        </p:nvSpPr>
        <p:spPr>
          <a:xfrm>
            <a:off x="2225520" y="5153040"/>
            <a:ext cx="138456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33"/>
          <p:cNvSpPr/>
          <p:nvPr/>
        </p:nvSpPr>
        <p:spPr>
          <a:xfrm>
            <a:off x="2259000" y="5192640"/>
            <a:ext cx="1301760" cy="587520"/>
          </a:xfrm>
          <a:prstGeom prst="roundRect">
            <a:avLst>
              <a:gd name="adj" fmla="val 50000"/>
            </a:avLst>
          </a:prstGeom>
          <a:solidFill>
            <a:srgbClr val="99cc00">
              <a:alpha val="94000"/>
            </a:srgbClr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4"/>
          <p:cNvSpPr/>
          <p:nvPr/>
        </p:nvSpPr>
        <p:spPr>
          <a:xfrm>
            <a:off x="1580040" y="525780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职业定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35"/>
          <p:cNvSpPr/>
          <p:nvPr/>
        </p:nvSpPr>
        <p:spPr>
          <a:xfrm flipH="1">
            <a:off x="6346080" y="263376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36"/>
          <p:cNvSpPr/>
          <p:nvPr/>
        </p:nvSpPr>
        <p:spPr>
          <a:xfrm flipH="1">
            <a:off x="6383160" y="2671920"/>
            <a:ext cx="1300320" cy="587160"/>
          </a:xfrm>
          <a:prstGeom prst="roundRect">
            <a:avLst>
              <a:gd name="adj" fmla="val 50000"/>
            </a:avLst>
          </a:prstGeom>
          <a:solidFill>
            <a:srgbClr val="cc99ff">
              <a:alpha val="69000"/>
            </a:srgbClr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7"/>
          <p:cNvSpPr/>
          <p:nvPr/>
        </p:nvSpPr>
        <p:spPr>
          <a:xfrm>
            <a:off x="6400800" y="27432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中期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38"/>
          <p:cNvSpPr/>
          <p:nvPr/>
        </p:nvSpPr>
        <p:spPr>
          <a:xfrm flipH="1">
            <a:off x="6769800" y="370044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39"/>
          <p:cNvSpPr/>
          <p:nvPr/>
        </p:nvSpPr>
        <p:spPr>
          <a:xfrm flipH="1">
            <a:off x="6806520" y="3738600"/>
            <a:ext cx="1299960" cy="587160"/>
          </a:xfrm>
          <a:prstGeom prst="roundRect">
            <a:avLst>
              <a:gd name="adj" fmla="val 50000"/>
            </a:avLst>
          </a:prstGeom>
          <a:solidFill>
            <a:srgbClr val="cc99ff">
              <a:alpha val="69000"/>
            </a:srgbClr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0"/>
          <p:cNvSpPr/>
          <p:nvPr/>
        </p:nvSpPr>
        <p:spPr>
          <a:xfrm>
            <a:off x="6147720" y="380988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长期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41"/>
          <p:cNvSpPr/>
          <p:nvPr/>
        </p:nvSpPr>
        <p:spPr>
          <a:xfrm flipH="1">
            <a:off x="6500160" y="4721400"/>
            <a:ext cx="1382760" cy="67752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2"/>
          <p:cNvSpPr/>
          <p:nvPr/>
        </p:nvSpPr>
        <p:spPr>
          <a:xfrm flipH="1">
            <a:off x="6537240" y="4759200"/>
            <a:ext cx="1300320" cy="587520"/>
          </a:xfrm>
          <a:prstGeom prst="roundRect">
            <a:avLst>
              <a:gd name="adj" fmla="val 50000"/>
            </a:avLst>
          </a:prstGeom>
          <a:solidFill>
            <a:srgbClr val="cc99ff">
              <a:alpha val="69000"/>
            </a:srgbClr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3"/>
          <p:cNvSpPr/>
          <p:nvPr/>
        </p:nvSpPr>
        <p:spPr>
          <a:xfrm>
            <a:off x="5843160" y="480060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评估调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354000" y="3882240"/>
            <a:ext cx="313920" cy="300240"/>
            <a:chOff x="6354000" y="3882240"/>
            <a:chExt cx="313920" cy="300240"/>
          </a:xfrm>
        </p:grpSpPr>
        <p:sp>
          <p:nvSpPr>
            <p:cNvPr id="221" name="Line 44"/>
            <p:cNvSpPr/>
            <p:nvPr/>
          </p:nvSpPr>
          <p:spPr>
            <a:xfrm flipH="1">
              <a:off x="6354000" y="4027680"/>
              <a:ext cx="313560" cy="864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ctr">
              <a:noAutofit/>
            </a:bodyPr>
            <a:p>
              <a:pPr marL="914400" indent="-914400" algn="ctr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 rot="2147400">
              <a:off x="6386040" y="3936960"/>
              <a:ext cx="249480" cy="19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WordArt 45"/>
          <p:cNvSpPr/>
          <p:nvPr/>
        </p:nvSpPr>
        <p:spPr>
          <a:xfrm>
            <a:off x="1066680" y="1600200"/>
            <a:ext cx="3505320" cy="533520"/>
          </a:xfrm>
          <a:custGeom>
            <a:avLst/>
            <a:gdLst>
              <a:gd name="textAreaLeft" fmla="*/ 0 w 3505320"/>
              <a:gd name="textAreaRight" fmla="*/ 3505680 w 35053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66cc"/>
          </a:soli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WordArt 46"/>
          <p:cNvSpPr/>
          <p:nvPr/>
        </p:nvSpPr>
        <p:spPr>
          <a:xfrm rot="5400000">
            <a:off x="3962160" y="3657600"/>
            <a:ext cx="1143000" cy="8380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4" y="0"/>
                </a:moveTo>
                <a:cubicBezTo>
                  <a:pt x="3602" y="0"/>
                  <a:pt x="7204" y="0"/>
                  <a:pt x="10802" y="0"/>
                </a:cubicBezTo>
                <a:cubicBezTo>
                  <a:pt x="14400" y="0"/>
                  <a:pt x="18002" y="0"/>
                  <a:pt x="21600" y="0"/>
                </a:cubicBezTo>
              </a:path>
              <a:path w="21600" h="21600">
                <a:moveTo>
                  <a:pt x="0" y="21600"/>
                </a:moveTo>
                <a:cubicBezTo>
                  <a:pt x="3598" y="21600"/>
                  <a:pt x="7200" y="21600"/>
                  <a:pt x="10798" y="21600"/>
                </a:cubicBezTo>
                <a:cubicBezTo>
                  <a:pt x="14396" y="21600"/>
                  <a:pt x="17998" y="21600"/>
                  <a:pt x="21596" y="21600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WordArt 47"/>
          <p:cNvSpPr/>
          <p:nvPr/>
        </p:nvSpPr>
        <p:spPr>
          <a:xfrm rot="5400000">
            <a:off x="4876920" y="3733920"/>
            <a:ext cx="1218960" cy="76176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3600" y="0"/>
                  <a:pt x="7200" y="0"/>
                  <a:pt x="10800" y="0"/>
                </a:cubicBezTo>
                <a:cubicBezTo>
                  <a:pt x="14400" y="0"/>
                  <a:pt x="18000" y="0"/>
                  <a:pt x="21600" y="0"/>
                </a:cubicBezTo>
              </a:path>
              <a:path w="21600" h="21600">
                <a:moveTo>
                  <a:pt x="0" y="21600"/>
                </a:moveTo>
                <a:cubicBezTo>
                  <a:pt x="3600" y="21600"/>
                  <a:pt x="7200" y="21600"/>
                  <a:pt x="10800" y="21600"/>
                </a:cubicBezTo>
                <a:cubicBezTo>
                  <a:pt x="14400" y="21600"/>
                  <a:pt x="18000" y="21600"/>
                  <a:pt x="21600" y="21600"/>
                </a:cubicBez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8" descr=""/>
          <p:cNvPicPr/>
          <p:nvPr/>
        </p:nvPicPr>
        <p:blipFill>
          <a:blip r:embed="rId5"/>
          <a:stretch/>
        </p:blipFill>
        <p:spPr>
          <a:xfrm>
            <a:off x="457200" y="5562720"/>
            <a:ext cx="1752480" cy="10666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9" descr=""/>
          <p:cNvPicPr/>
          <p:nvPr/>
        </p:nvPicPr>
        <p:blipFill>
          <a:blip r:embed="rId6"/>
          <a:stretch/>
        </p:blipFill>
        <p:spPr>
          <a:xfrm>
            <a:off x="7315200" y="1523880"/>
            <a:ext cx="14479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8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8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8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7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8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AutoShape 2"/>
          <p:cNvSpPr/>
          <p:nvPr/>
        </p:nvSpPr>
        <p:spPr>
          <a:xfrm>
            <a:off x="1523880" y="1371600"/>
            <a:ext cx="7162920" cy="3581280"/>
          </a:xfrm>
          <a:prstGeom prst="flowChartAlternateProcess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533520" y="762120"/>
            <a:ext cx="73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第一章  自我认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1752480" y="1447920"/>
            <a:ext cx="678204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楷体"/>
                <a:ea typeface="楷体"/>
              </a:rPr>
              <a:t>我认为我是一个很有上进心人。我相信，我的人生将会精彩而且辉煌；我坚信，有梦想才有未来。只要实力多大，梦想就有多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楷体"/>
                <a:ea typeface="楷体"/>
              </a:rPr>
              <a:t>在选择就业的路程上，我们只有比别人拥有了更多的知识、更多的能力才能比别人更胜一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"/>
                <a:ea typeface="楷体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166400" y="685800"/>
            <a:ext cx="430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个人基本情况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AutoShape 2"/>
          <p:cNvSpPr/>
          <p:nvPr/>
        </p:nvSpPr>
        <p:spPr>
          <a:xfrm>
            <a:off x="380880" y="1143000"/>
            <a:ext cx="8382240" cy="3276720"/>
          </a:xfrm>
          <a:prstGeom prst="flowChartAlternateProcess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838080" y="45720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个人兴趣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990720" y="1676520"/>
            <a:ext cx="733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楷体"/>
                <a:ea typeface="楷体"/>
              </a:rPr>
              <a:t>兴趣是一个人的老师，是做事情的原始的动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楷体"/>
                <a:ea typeface="楷体"/>
              </a:rPr>
              <a:t>我喜欢我的专业，因为它锻炼了我的才干，培养了我严谨务实的作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8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AutoShape 2"/>
          <p:cNvSpPr/>
          <p:nvPr/>
        </p:nvSpPr>
        <p:spPr>
          <a:xfrm>
            <a:off x="533520" y="1447920"/>
            <a:ext cx="7848360" cy="2895480"/>
          </a:xfrm>
          <a:prstGeom prst="flowChartAlternateProcess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762120" y="167652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"/>
                <a:ea typeface="楷体"/>
              </a:rPr>
              <a:t>对工作负责热情，能够吃苦耐劳，同时善于处理别人提出的问题和一些新奇的想法。也总爱试图找运用理论分析一些问题；对一个观点或形势能做出比较独立准确的分析，会提出比较针对性的问题，同时能够设想出实现的步骤和需要注意的事项。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609480" y="533520"/>
            <a:ext cx="54849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个人特质—适合干什么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AutoShape 2"/>
          <p:cNvSpPr/>
          <p:nvPr/>
        </p:nvSpPr>
        <p:spPr>
          <a:xfrm>
            <a:off x="0" y="990720"/>
            <a:ext cx="9144000" cy="5486400"/>
          </a:xfrm>
          <a:prstGeom prst="flowChartAlternateProcess">
            <a:avLst/>
          </a:prstGeom>
          <a:noFill/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第二章 职业目标定位及其分解组合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752480" y="3048120"/>
          <a:ext cx="5791320" cy="3294000"/>
        </p:xfrm>
        <a:graphic>
          <a:graphicData uri="http://schemas.openxmlformats.org/drawingml/2006/table">
            <a:tbl>
              <a:tblPr/>
              <a:tblGrid>
                <a:gridCol w="2871720"/>
                <a:gridCol w="2919600"/>
              </a:tblGrid>
              <a:tr h="317880">
                <a:tc>
                  <a:txBody>
                    <a:bodyPr lIns="90000" rIns="90000" tIns="21600" bIns="21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3300"/>
                          </a:solidFill>
                          <a:latin typeface="Arial"/>
                          <a:ea typeface="楷体"/>
                        </a:rPr>
                        <a:t>优势因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21600" bIns="21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3300"/>
                          </a:solidFill>
                          <a:latin typeface="Arial"/>
                          <a:ea typeface="楷体"/>
                        </a:rPr>
                        <a:t>弱势因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803520">
                <a:tc>
                  <a:txBody>
                    <a:bodyPr lIns="90000" rIns="90000" tIns="21600" bIns="21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0066ff"/>
                          </a:solidFill>
                          <a:latin typeface="楷体"/>
                          <a:ea typeface="楷体"/>
                        </a:rPr>
                        <a:t>  </a:t>
                      </a:r>
                      <a:r>
                        <a:rPr b="1" lang="zh-CN" sz="1800" spc="-1" strike="noStrike">
                          <a:solidFill>
                            <a:srgbClr val="0066ff"/>
                          </a:solidFill>
                          <a:latin typeface="楷体"/>
                          <a:ea typeface="楷体"/>
                        </a:rPr>
                        <a:t>头脑灵活</a:t>
                      </a:r>
                      <a:r>
                        <a:rPr b="1" lang="zh-CN" sz="1800" spc="-1" strike="noStrike">
                          <a:solidFill>
                            <a:srgbClr val="0066ff"/>
                          </a:solidFill>
                          <a:latin typeface="楷体"/>
                          <a:ea typeface="楷体"/>
                        </a:rPr>
                        <a:t>,</a:t>
                      </a:r>
                      <a:r>
                        <a:rPr b="1" lang="zh-CN" sz="1800" spc="-1" strike="noStrike">
                          <a:solidFill>
                            <a:srgbClr val="0066ff"/>
                          </a:solidFill>
                          <a:latin typeface="楷体"/>
                          <a:ea typeface="楷体"/>
                        </a:rPr>
                        <a:t>想象力较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21600" bIns="21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0066ff"/>
                          </a:solidFill>
                          <a:latin typeface="楷体"/>
                          <a:ea typeface="楷体"/>
                        </a:rPr>
                        <a:t>有时过于理性</a:t>
                      </a:r>
                      <a:r>
                        <a:rPr b="1" lang="zh-CN" sz="1800" spc="-1" strike="noStrike">
                          <a:solidFill>
                            <a:srgbClr val="0066ff"/>
                          </a:solidFill>
                          <a:latin typeface="楷体"/>
                          <a:ea typeface="楷体"/>
                        </a:rPr>
                        <a:t>,</a:t>
                      </a:r>
                      <a:r>
                        <a:rPr b="1" lang="zh-CN" sz="1800" spc="-1" strike="noStrike">
                          <a:solidFill>
                            <a:srgbClr val="0066ff"/>
                          </a:solidFill>
                          <a:latin typeface="楷体"/>
                          <a:ea typeface="楷体"/>
                        </a:rPr>
                        <a:t>会忽略别人的感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917640">
                <a:tc>
                  <a:txBody>
                    <a:bodyPr lIns="90000" rIns="90000" tIns="21600" bIns="21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0066ff"/>
                          </a:solidFill>
                          <a:latin typeface="Arial"/>
                          <a:ea typeface="楷体"/>
                        </a:rPr>
                        <a:t>工作有毅力，认真，负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21600" bIns="21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0066ff"/>
                          </a:solidFill>
                          <a:latin typeface="Arial"/>
                          <a:ea typeface="楷体"/>
                        </a:rPr>
                        <a:t>不喜欢传统的工作，偶尔会有厌倦心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255320">
                <a:tc>
                  <a:txBody>
                    <a:bodyPr lIns="90000" rIns="90000" tIns="21600" bIns="21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0066ff"/>
                          </a:solidFill>
                          <a:latin typeface="楷体"/>
                          <a:ea typeface="楷体"/>
                        </a:rPr>
                        <a:t>具有不错的创造力</a:t>
                      </a:r>
                      <a:r>
                        <a:rPr b="1" lang="zh-CN" sz="1800" spc="-1" strike="noStrike">
                          <a:solidFill>
                            <a:srgbClr val="0066ff"/>
                          </a:solidFill>
                          <a:latin typeface="楷体"/>
                          <a:ea typeface="楷体"/>
                        </a:rPr>
                        <a:t>,</a:t>
                      </a:r>
                      <a:r>
                        <a:rPr b="1" lang="zh-CN" sz="1800" spc="-1" strike="noStrike">
                          <a:solidFill>
                            <a:srgbClr val="0066ff"/>
                          </a:solidFill>
                          <a:latin typeface="楷体"/>
                          <a:ea typeface="楷体"/>
                        </a:rPr>
                        <a:t>领导能力，人际关系处理的不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"/>
                          <a:ea typeface="楷体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21600" bIns="21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41" name="Text Box 21"/>
          <p:cNvSpPr/>
          <p:nvPr/>
        </p:nvSpPr>
        <p:spPr>
          <a:xfrm>
            <a:off x="1150920" y="1347840"/>
            <a:ext cx="7155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楷体"/>
                <a:ea typeface="楷体"/>
              </a:rPr>
              <a:t>1.</a:t>
            </a:r>
            <a:r>
              <a:rPr b="1" lang="zh-CN" sz="2400" spc="-1" strike="noStrike">
                <a:solidFill>
                  <a:srgbClr val="0066ff"/>
                </a:solidFill>
                <a:latin typeface="楷体"/>
                <a:ea typeface="楷体"/>
              </a:rPr>
              <a:t>职业目标的确定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我根据自己的职业兴趣和个人能力，我希望能最终成为高级会计人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职业定位的</a:t>
            </a:r>
            <a:r>
              <a:rPr b="1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SWOT</a:t>
            </a:r>
            <a:r>
              <a:rPr b="1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分析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25000"/>
              <a:buFont typeface="Arial"/>
              <a:buChar char="•"/>
            </a:pPr>
            <a:r>
              <a:rPr b="1" lang="zh-CN" sz="3200" spc="-1" strike="noStrike">
                <a:solidFill>
                  <a:srgbClr val="ff3300"/>
                </a:solidFill>
                <a:latin typeface="楷体"/>
                <a:ea typeface="楷体"/>
              </a:rPr>
              <a:t>就业路线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25000"/>
              <a:buFont typeface="Arial"/>
              <a:buChar char="•"/>
            </a:pPr>
            <a:r>
              <a:rPr b="1" lang="zh-CN" sz="3200" spc="-1" strike="noStrike">
                <a:solidFill>
                  <a:srgbClr val="ff3300"/>
                </a:solidFill>
                <a:latin typeface="楷体"/>
                <a:ea typeface="楷体"/>
              </a:rPr>
              <a:t>初级会计师</a:t>
            </a:r>
            <a:r>
              <a:rPr b="1" lang="zh-CN" sz="3200" spc="-1" strike="noStrike">
                <a:solidFill>
                  <a:srgbClr val="ff3300"/>
                </a:solidFill>
                <a:latin typeface="楷体"/>
                <a:ea typeface="楷体"/>
              </a:rPr>
              <a:t>----</a:t>
            </a:r>
            <a:r>
              <a:rPr b="1" lang="zh-CN" sz="3200" spc="-1" strike="noStrike">
                <a:solidFill>
                  <a:srgbClr val="ff3300"/>
                </a:solidFill>
                <a:latin typeface="楷体"/>
                <a:ea typeface="楷体"/>
              </a:rPr>
              <a:t>中级会计师</a:t>
            </a:r>
            <a:r>
              <a:rPr b="1" lang="zh-CN" sz="3200" spc="-1" strike="noStrike">
                <a:solidFill>
                  <a:srgbClr val="ff3300"/>
                </a:solidFill>
                <a:latin typeface="楷体"/>
                <a:ea typeface="楷体"/>
              </a:rPr>
              <a:t>-----</a:t>
            </a:r>
            <a:r>
              <a:rPr b="1" lang="zh-CN" sz="3200" spc="-1" strike="noStrike">
                <a:solidFill>
                  <a:srgbClr val="ff3300"/>
                </a:solidFill>
                <a:latin typeface="楷体"/>
                <a:ea typeface="楷体"/>
              </a:rPr>
              <a:t>高级会计师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WordArt 3"/>
          <p:cNvSpPr/>
          <p:nvPr/>
        </p:nvSpPr>
        <p:spPr>
          <a:xfrm>
            <a:off x="1905120" y="1447920"/>
            <a:ext cx="6400800" cy="520560"/>
          </a:xfrm>
          <a:custGeom>
            <a:avLst/>
            <a:gdLst>
              <a:gd name="textAreaLeft" fmla="*/ 0 w 6400800"/>
              <a:gd name="textAreaRight" fmla="*/ 6401160 w 640080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b2b2b2">
              <a:alpha val="50000"/>
            </a:srgbClr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3-01-01T00:00:00Z</dcterms:created>
  <dc:creator>huanglijun</dc:creator>
  <dc:description/>
  <dc:language>en-US</dc:language>
  <cp:lastModifiedBy>huanglijun</cp:lastModifiedBy>
  <cp:lastPrinted>1899-12-30T00:00:00Z</cp:lastPrinted>
  <dcterms:modified xsi:type="dcterms:W3CDTF">2011-11-22T13:04:00Z</dcterms:modified>
  <cp:revision>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