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5.gif" ContentType="image/gif"/>
  <Override PartName="/ppt/media/image28.jpeg" ContentType="image/jpeg"/>
  <Override PartName="/ppt/media/image6.jpeg" ContentType="image/jpeg"/>
  <Override PartName="/ppt/media/image10.png" ContentType="image/png"/>
  <Override PartName="/ppt/media/image13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26.jpeg" ContentType="image/jpeg"/>
  <Override PartName="/ppt/media/image27.gif" ContentType="image/gif"/>
  <Override PartName="/ppt/media/image22.jpeg" ContentType="image/jpeg"/>
  <Override PartName="/ppt/media/image20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1.gif" ContentType="image/gif"/>
  <Override PartName="/ppt/media/image1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5BF-A5C2-4124-B891-185BFF03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B87-8288-454C-BD77-7D878901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1EB-FC48-4D16-B1FD-3F1FC3DB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2DE-E992-4CD9-9897-A8F85CAA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DAB1-E22C-408E-A0A5-E6360D58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844-2CE9-4FDC-B1CA-08076C7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926-FB98-40DB-B46D-9A667282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498-7247-470F-A3F5-7686143B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D39-8D7F-4B5C-B14C-C4CCE4D8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BDC8-9753-4B51-AA89-D03D93F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B91-0361-4FA7-9245-1E930835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353-3C24-4931-8372-E713B8D3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CA9-8478-4E48-91F1-66D7906968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87960"/>
            <a:ext cx="160020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81080" y="4572000"/>
            <a:ext cx="4876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只有一个地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4343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19320" y="3878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北师大版 五年级 语文 上册 第十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087960"/>
            <a:ext cx="16002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朗读课文，归纳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</a:rPr>
              <a:t>：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写了关于地球的哪几个方面的内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33523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宇航员眼中的地球美丽而壮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２、地球同茫茫宇宙相比又是渺小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３、地球上的自然资源十分有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４、目前人类无法移居到别的星球上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５、只有一个地球，人类应该保护地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43800" y="51055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7621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6477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联系课文内容，讨论交流：</a:t>
            </a:r>
            <a:br>
              <a:rPr sz="3600"/>
            </a:b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为什么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“只有一个地球”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62320" y="3124080"/>
            <a:ext cx="62481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点拨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球虽然美丽壮观，但同宇宙相比却显得非常渺小。她所蕴含的自然资源有限，如果她被破坏，人类根本无法移居到别的星球。正是基于这些认识，作者向人类发出了呼吁──只有一个地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838080" cy="7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2057400" cy="21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这篇文章从文体上来说是一篇说明文。说明文为了说明一个事物或一个道理，通常都会采用一定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说明方法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。看看这篇说明文采用了哪些说明方法，请找出有关的句段并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85800" y="4572000"/>
            <a:ext cx="7772400" cy="1676520"/>
            <a:chOff x="685800" y="4572000"/>
            <a:chExt cx="7772400" cy="16765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248520" y="457200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685800" y="4572000"/>
              <a:ext cx="24382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3505320" y="4572000"/>
              <a:ext cx="2361960" cy="1676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219320" y="16765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47560" y="1371600"/>
            <a:ext cx="6933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列数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例句：地球又是一个半径只有６３００多千米的星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这里说明了地球是渺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找一找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文中还有哪些地方运用了列数字的说明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609840" cy="489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248520" y="4648320"/>
            <a:ext cx="21333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71240" y="228564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举例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例句：不错，科学家们提出了许多设想，例如，在火星或者月球上建筑移民基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这里说明了人类无法移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找一找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文中还有哪些地方运用了举例子的说明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609480" cy="48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2362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600200" y="480060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分析例句，体会语言特色</a:t>
            </a:r>
            <a:endParaRPr b="0" i="1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zoom dir="ou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１、同茫茫宇宙相比，地球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渺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6781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         “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渺小”是微不足道的意思，这句话的意思是说地球在茫茫的宇宙中，就如同大海里的一叶扁舟般微小。“渺小”一词准确地说明了人类生活的范围是很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752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09680" y="1447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２、人类生活所需要的水资源、森林资源、生物资源、大气资源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本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是可以不断再生，长期给人类作贡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3200400"/>
            <a:ext cx="7010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　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本来”是“原先、先前”的意思，它准确地点明了可再生资源已遭受破坏，强调了“水资源、森林资源、生物资源、大气资源”原先的可再生性，突出了现在的不可再生性，再一次证实了自然资源的有限及面临的危机，从而给人以警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３、科学家已经证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至少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以地球为中心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万亿千米的范围内，没有适合人类居住的第二个星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64771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“至少”一词是强调了目前的研究成果还只限于这个范围，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万亿千米”以外的情况还不能确定，这体现了说明的严谨性。同时，“至少”是“最少”的意思，又进一步说明了距离的遥远，从而简洁有力地证实：目前还找不到第二个适合人类居住的星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10280" y="1295280"/>
            <a:ext cx="1676520" cy="4872240"/>
            <a:chOff x="7010280" y="1295280"/>
            <a:chExt cx="1676520" cy="48722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010280" y="1295280"/>
              <a:ext cx="163836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010280" y="3733920"/>
              <a:ext cx="1676520" cy="243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3712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“我们这个地球太可爱了，同时又太容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破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14600" y="297144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仿宋"/>
              </a:rPr>
              <a:t>破碎”一词，一般用来形容玻璃、瓷器之类的易碎品，在这里可理解为因各种原因造成的对地球的伤害，生动形象地突出了保护地球生态环境的重要性，引起人们的警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1905120" cy="2438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10280" y="1447920"/>
            <a:ext cx="990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410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4876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课堂展示大家在课前搜集到的有关地球知识的资料以及生态环境、自然资源遭受破坏的事例、数据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90720" y="3200400"/>
            <a:ext cx="5790960" cy="1066680"/>
            <a:chOff x="990720" y="3200400"/>
            <a:chExt cx="5790960" cy="1066680"/>
          </a:xfrm>
        </p:grpSpPr>
        <p:sp>
          <p:nvSpPr>
            <p:cNvPr id="50" name=""/>
            <p:cNvSpPr txBox="1"/>
            <p:nvPr/>
          </p:nvSpPr>
          <p:spPr>
            <a:xfrm>
              <a:off x="2286000" y="3200400"/>
              <a:ext cx="4495680" cy="99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黑体"/>
                </a:rPr>
                <a:t>成果展示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990720" y="3352680"/>
              <a:ext cx="11430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1371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地球，这位人类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母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这个生命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摇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是那样的美丽壮观，和蔼可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8191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句中将地球比作“母亲”“摇篮”，说明了地球是人类及万物生存繁衍的地方。比喻的运用使句子在表达上通俗易懂又生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24480" y="46483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ff"/>
                </a:solidFill>
                <a:latin typeface="Arial"/>
                <a:ea typeface="幼圆"/>
              </a:rPr>
              <a:t>小   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57040" y="3352320"/>
            <a:ext cx="6553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中宋"/>
              </a:rPr>
              <a:t>说明文的语言注重准确、严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华文中宋"/>
              </a:rPr>
              <a:t>本文是一则科学小品文，还运用了比喻、拟人等修辞手法，语言还显得生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14986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95480" y="1295280"/>
            <a:ext cx="3353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2895120"/>
            <a:ext cx="6858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１、同桌讨论，撰写一则宣传环保的公益广告语，然后全班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２、画一幅环保宣传画和写一篇课文读后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3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6019920" y="4800600"/>
            <a:ext cx="2361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534520" cy="5410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066680" y="4419720"/>
            <a:ext cx="22100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银河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828800" y="36576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太阳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452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029200" y="39625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八大行星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53722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1904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幼圆"/>
                <a:ea typeface="幼圆"/>
              </a:rPr>
              <a:t>地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95280" y="2362320"/>
            <a:ext cx="6933960" cy="3886200"/>
            <a:chOff x="1295280" y="2362320"/>
            <a:chExt cx="6933960" cy="3886200"/>
          </a:xfrm>
        </p:grpSpPr>
        <p:sp>
          <p:nvSpPr>
            <p:cNvPr id="61" name=""/>
            <p:cNvSpPr/>
            <p:nvPr/>
          </p:nvSpPr>
          <p:spPr>
            <a:xfrm>
              <a:off x="1447560" y="2362320"/>
              <a:ext cx="6781680" cy="388620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95280" y="2590920"/>
              <a:ext cx="693396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华文仿宋"/>
                </a:rPr>
                <a:t>地球是太阳系八大行星之一，按距离太阳远近的次序计为第三颗，形状像球而略扁，自转一周的时间是一昼夜，绕太阳一周的时间是一年。周围有大气层包围，表面是陆地和海洋，有人类和动植物等生存。它有一个卫星──月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686800" cy="5410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1218960"/>
            <a:ext cx="5181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地球面临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3%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耕地面积严重退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江河水流量减少或被严重污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哺乳动物、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2%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鸟类濒临灭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人类所患疾病与环境恶化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土地面临沙漠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个国家严重缺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亿人口受到沙漠化威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引自《人民日报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·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海外版》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(2002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年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10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月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14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日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)</a:t>
            </a:r>
            <a:r>
              <a:rPr b="1" lang="zh-CN" sz="2800" spc="-1" strike="noStrike">
                <a:solidFill>
                  <a:srgbClr val="ff00ff"/>
                </a:solidFill>
                <a:latin typeface="华文仿宋"/>
                <a:ea typeface="华文仿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838080" cy="1752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1523880"/>
            <a:ext cx="76212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200400" y="152388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66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字词正音</a:t>
            </a:r>
            <a:endParaRPr b="1" lang="en-US" sz="1800" spc="1" strike="noStrike">
              <a:ln w="12600">
                <a:solidFill>
                  <a:srgbClr val="0066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276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遥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望  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晶  莹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恩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赐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枯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竭  滥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952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威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胁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摧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毁 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锡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纸  和</a:t>
            </a:r>
            <a:r>
              <a:rPr b="1" lang="zh-CN" sz="4000" spc="-1" strike="noStrike">
                <a:solidFill>
                  <a:srgbClr val="006600"/>
                </a:solidFill>
                <a:latin typeface="华文中宋"/>
                <a:ea typeface="华文中宋"/>
              </a:rPr>
              <a:t>蔼</a:t>
            </a: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可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590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á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590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ī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ɡ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yín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590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c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25909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l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4267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x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267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hu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42670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29400" y="42670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ǎ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838080" cy="685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5181480"/>
            <a:ext cx="123840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5880" y="25909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ji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6720" y="1371600"/>
            <a:ext cx="277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词语积累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981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晶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19810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光亮而透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514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资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5146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产资料或生活资料的天然来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矿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3048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壳中存在的自然化合物和少数自然元素，具有相对固定的化学成分和性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恩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4419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指帝王给予赏赐，现泛指因怜悯而施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5334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滥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3341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胡乱或过度地使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867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威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58672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威力逼迫、恫吓，使人屈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09-06-03T01:38:01Z</dcterms:modified>
  <cp:revision>3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