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406080"/>
            <a:ext cx="74674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467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3717720"/>
            <a:ext cx="7162920" cy="8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b2807"/>
                </a:solidFill>
                <a:latin typeface="黑体"/>
                <a:ea typeface="黑体"/>
              </a:rPr>
              <a:t>13 </a:t>
            </a:r>
            <a:r>
              <a:rPr b="1" lang="zh-CN" sz="6600" spc="-1" strike="noStrike">
                <a:solidFill>
                  <a:srgbClr val="cb2807"/>
                </a:solidFill>
                <a:latin typeface="黑体"/>
                <a:ea typeface="黑体"/>
              </a:rPr>
              <a:t>只有一个地球</a:t>
            </a:r>
            <a:endParaRPr b="1" lang="en-US" sz="6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7040" y="755640"/>
            <a:ext cx="267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华文楷体"/>
              </a:rPr>
              <a:t>学校：溪边小学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华文楷体"/>
              </a:rPr>
              <a:t>班级：六（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  <a:ea typeface="华文楷体"/>
              </a:rPr>
              <a:t>8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  <a:ea typeface="华文楷体"/>
              </a:rPr>
              <a:t>）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学生：黄煜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  <a:ea typeface="宋体"/>
              </a:rPr>
              <a:t>我们的生物资源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5029200" y="1413000"/>
            <a:ext cx="4114800" cy="5302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8000" y="1413000"/>
            <a:ext cx="4824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  <a:ea typeface="宋体"/>
              </a:rPr>
              <a:t>品读第三部分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人类可不可以去别的星球居住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品读句子：科学家已经证明，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Arial"/>
                <a:ea typeface="宋体"/>
              </a:rPr>
              <a:t>至少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在以地球为中心的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万亿千米的范围内，没有适合人类居住的第二个星球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）运用了哪种说明方法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）去掉“至少”可不可以？为什么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060640"/>
            <a:ext cx="561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不可以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）科学证明，没有适合人类居住的第二个星球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）建造移民基地也是遥远的事情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860640"/>
            <a:ext cx="1513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列数字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4797360"/>
            <a:ext cx="5040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不可以，至少一词强调了目前的研究成果还只限于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这个范围，“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40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万亿千米”以外的情况还不能确定，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体现了说明文的严谨性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4005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  <a:ea typeface="宋体"/>
              </a:rPr>
              <a:t>本节课小结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这篇文章运用了哪些说明方法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说明文语言有什么特点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结语：只有一个地球，她是生命的摇篮，是人类共同的母亲，她既可爱又容易破碎，为了让她为子孙后代继续造福，让我们珍惜她有限的资源，精心保护她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2060640"/>
            <a:ext cx="36734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举例子、打比方、作比较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997360"/>
            <a:ext cx="338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科学性、严谨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349360"/>
            <a:ext cx="7308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  <a:ea typeface="宋体"/>
              </a:rPr>
              <a:t>讨论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4d4d4d"/>
                </a:solidFill>
                <a:latin typeface="Arial"/>
                <a:ea typeface="宋体"/>
              </a:rPr>
              <a:t>地球这么可爱，同时又很容易破碎，我们应该怎样来保护地球？说说你的想法？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4d4d4d"/>
                </a:solidFill>
                <a:latin typeface="Arial"/>
                <a:ea typeface="宋体"/>
              </a:rPr>
              <a:t>请你写一条宣传语，号召人们保护地球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560" y="338760"/>
            <a:ext cx="746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9d5f35"/>
              </a:solidFill>
              <a:latin typeface="Arial"/>
              <a:ea typeface="宋体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9d5f35"/>
              </a:solidFill>
              <a:latin typeface="Arial"/>
              <a:ea typeface="宋体"/>
            </a:endParaRPr>
          </a:p>
        </p:txBody>
      </p:sp>
      <p:pic>
        <p:nvPicPr>
          <p:cNvPr id="81" name="Rectangle 3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3534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9d5f35"/>
              </a:solidFill>
              <a:latin typeface="Arial"/>
              <a:ea typeface="宋体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d5f35"/>
                </a:solidFill>
                <a:latin typeface="Arial"/>
                <a:ea typeface="宋体"/>
              </a:rPr>
              <a:t>从文中找出宇航员对地球发出了怎样的感叹？</a:t>
            </a:r>
            <a:endParaRPr b="1" lang="en-US" sz="2800" spc="-1" strike="noStrike">
              <a:solidFill>
                <a:srgbClr val="9d5f35"/>
              </a:solidFill>
              <a:latin typeface="Arial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5329080" cy="3565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32000" y="19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我们这个地球太可爱了，同时又太容易破碎了！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  <a:ea typeface="宋体"/>
              </a:rPr>
              <a:t>探究地球的“可爱之处”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哪些词语描写了地球的可爱？用“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——”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在文中画出来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品析：地球，这位人类的母亲，这个生命的摇篮，是那样的美丽壮观，和蔼可亲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）运用什么修辞手法？（</a:t>
            </a:r>
            <a:r>
              <a:rPr b="0" lang="zh-CN" sz="2800" spc="-1" strike="noStrike">
                <a:solidFill>
                  <a:srgbClr val="4d4d4d"/>
                </a:solidFill>
                <a:latin typeface="Arial"/>
                <a:ea typeface="宋体"/>
              </a:rPr>
              <a:t>                  ）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4d4d4d"/>
                </a:solidFill>
                <a:latin typeface="Arial"/>
                <a:ea typeface="宋体"/>
              </a:rPr>
              <a:t>）为什么说是“人类的母亲”、“生命的摇篮”？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852640"/>
            <a:ext cx="9144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比喻、拟人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4005360"/>
            <a:ext cx="67676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地球为人类无私的奉献自然资源，为所有生命提供生存空间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，所以说是人类的母亲、生命的摇篮，体现了地球的博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无私、和蔼可亲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  <a:ea typeface="宋体"/>
              </a:rPr>
              <a:t>自主探究地球“容易破碎”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为什么说地球“容易破碎”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第三段运用了哪些说明方法和修辞方法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品读句子：人类生活所需要的水资源、森林资源、生物资源、大气资源，</a:t>
            </a:r>
            <a:r>
              <a:rPr b="0" lang="zh-CN" sz="24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本来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是可以不断再生，长期给人类做贡献的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）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宋体"/>
              </a:rPr>
              <a:t>去掉“本来”一词句意有没有变化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宋体"/>
              </a:rPr>
              <a:t>?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）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宋体"/>
              </a:rPr>
              <a:t>添加“本来”一词，体现说明文的什么特点？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5805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479736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4581360"/>
            <a:ext cx="6191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本来是“原先、先前”的意思，它点明了可再生资源已遭破坏，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强调资源原先可再生性，突出了现在的不可再生性。体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了说明文语言的科学性、严谨性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608360" cy="5184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  <a:ea typeface="宋体"/>
              </a:rPr>
              <a:t>我们的大气资源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3"/>
          <a:stretch/>
        </p:blipFill>
        <p:spPr>
          <a:xfrm>
            <a:off x="4751280" y="1484280"/>
            <a:ext cx="43927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763640" y="2133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碧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d5f35"/>
                </a:solidFill>
                <a:latin typeface="Arial"/>
                <a:ea typeface="宋体"/>
              </a:rPr>
              <a:t>我们的森林资源</a:t>
            </a:r>
            <a:endParaRPr b="1" lang="en-US" sz="3200" spc="-1" strike="noStrike">
              <a:solidFill>
                <a:srgbClr val="9d5f35"/>
              </a:solidFill>
              <a:latin typeface="Arial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427640" cy="525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356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0:14:56Z</dcterms:created>
  <dc:creator/>
  <dc:description/>
  <cp:keywords/>
  <dc:language>en-US</dc:language>
  <cp:lastModifiedBy>雨林木风</cp:lastModifiedBy>
  <cp:lastPrinted>2008-07-08T01:21:14Z</cp:lastPrinted>
  <dcterms:modified xsi:type="dcterms:W3CDTF">2011-10-18T12:58:51Z</dcterms:modified>
  <cp:revision>28</cp:revision>
  <dc:subject/>
  <dc:title>13、只有一个地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