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FD7-8D2C-48DA-B4B5-ACCE8436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C4B-EF82-4B3B-9FB7-7F6A8D7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9D351-3272-4B89-9FDD-E773BE3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3BDE-8E64-4D05-8688-97EB7613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D46FD-4312-4F86-B9F9-1FA2BCE3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77140-DD1E-43DD-A814-EE3BEAE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C53B7-350A-4188-B21A-D81A3F99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00142-001B-4A89-8A19-0BB5421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CEC5D-1ADF-4540-9E68-BC96F6C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38595-4826-4B6C-B8C4-F02607A1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9FD91-E435-4667-8B26-89D977C6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A9F-82E9-414D-B636-42DB4D5C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E7C-97F4-4444-901D-33D67139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B98D-6470-4B2F-AF97-D06DEC61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E3E3-10D3-477B-92CE-4BFB90E7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D274-DD3E-4959-A786-273825E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1BBB-7DDB-43FA-BA22-E9631937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DA12-FBDC-46E2-985F-9C7E1A6C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F4E2-AB97-4025-9D55-DA9BA3F2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EBDA-3FB9-4929-98EE-AA656FF8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18C-CAC5-4450-981D-2101993F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0DD4-1377-42E8-B769-B6FC20C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A89-E500-4665-A299-53BB497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3979-7C19-406B-9155-3A901163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BF05-1903-4601-9F5B-9532B5C1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A43E-3148-4D9F-956E-3968FA3B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8303C-1AF1-4512-91B9-64B75313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06A2E-3482-4BE4-9812-A38DE515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AE775-86BF-43BE-ABA1-5417FA1D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CE3E9-6E93-499F-BA32-FA18E23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7E7F6-F41A-4AA6-9111-E8087F2B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DC4-4F6D-4ED4-AF67-CAFDBBBF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9F72D-16A6-46EC-A9EF-F6EF00E1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98D39-8BF0-44BC-A4C5-67190E9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BB774-F577-41FA-A541-02D2A964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FFE43-E44C-460C-86F8-AB6DFE2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C0238-C41B-43F2-B911-8EECADD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A8EB9-B6FA-41DD-83D7-9AD95C2F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C196A-34B1-450F-A238-559507D2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723C-44CD-47D5-BAB5-C9BB8543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A961-82DE-4650-9667-2DE2ADFE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6E8E-0543-4551-AF03-213AC6D2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18E-F7D4-4954-9B82-7E63AD5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91A4-5F1E-4D7E-8D90-4E79E45D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F12D7-0236-4B53-AB0D-60682611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21B6-ECAA-46A6-9767-DB56175C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5288-85B2-49E9-A720-A935303E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648F-9E21-45E9-9606-D2B5F76C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04027-6219-4D46-A86F-8AF1F819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6ABD-9B8A-427D-B03C-41B3AF37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71EB2-7FC3-408A-B38A-8B2981AF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E129-BF13-4A95-B3DD-438C7B5E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B1940-E8F3-4D95-9473-1521C692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AB5-88FC-4458-AB2E-C64E4661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57D4F-E84D-480D-B44B-97732526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BB3A-5B87-4969-AAA2-E0C61CD4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77F64-556F-46CF-B00C-334AA479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661B1-4011-4AA7-AF46-3F9E31DA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8303-7D0B-4575-8DD2-ADEAE65A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5667-AECB-443A-AACA-0A43392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EF32-9A5C-4409-B718-8505CF8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220E-1D3B-4210-8C26-71BA22D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F9796-344A-41AE-9F45-241B2CD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37AB-1ADD-4543-8AE6-3AB00F15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7EA-BC5D-4198-BA80-91F98811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67A11-7D98-49E3-ACB4-C3F97B5B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9BA6-FBBF-4539-AF96-5C4AB086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3C1B-76EC-4351-B348-5313DF6A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989F5-723D-4EB3-9CA7-BEF4246B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23BFE-5DD2-427E-AEF4-6BF588A8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012C-A6D0-4898-8A08-FA4EA28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4CC74-0FC9-475B-9F55-F6AE5ED6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13A1F-8178-456E-BECA-3CEB4537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6C84C-7B89-415E-ABEA-E602BE4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39BE-9B75-42DF-8186-9DEB64F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559-0BFD-4E49-9FA0-09DAB5FD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EDA6-46B2-4805-95C7-A9D200E0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44DF-0059-4285-82EF-1CDE9AFD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C354A-90A9-4DF9-B62D-CD8B26AC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11FA3-5B58-44AE-9B01-D2E32A1A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7830-C84B-4507-AC80-D74FF47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1F823-4873-4251-8BBC-1716E41B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B1B90-9AFA-4BD0-8B9B-83F1EC75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37C7-6F96-45C0-B076-3BE802D9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DACF2-2577-4F8B-9BD0-48E75FAE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FB16F-F17A-4387-A7DE-2A9C04D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E31-6D1F-4AB6-9830-6CC36669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1082E-B66A-4D72-8232-82E4E8A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BE995-8BCF-4B3C-A2EA-4D97A08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BB575-D37C-4986-8408-F4FDDA56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E19C6-8D3B-478B-B5F8-754EAE63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2929-E944-403A-9E9E-261CDD7E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9247D-A136-476E-9868-4DE8962C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BFDC-BC5F-43CA-B8DF-33360543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5704A-6B36-43B6-B435-25B00E75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CA2B4-424A-4C58-965C-78D971C9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1AA0E-024F-4430-AA01-827D88CF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DC6-43B9-46E9-AD04-CF396BF3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7247-D130-47A8-B963-FAA5F9D7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23EFD-4D8B-4F69-86D9-D47DDE1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5EC7D-F714-4AAD-A4C5-6551DE1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123E2-8C77-41DB-B55B-AB47AFB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FD461-1BC2-4869-8E00-80AC12BF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DE07-6B62-4DC4-AECF-E7F774F9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FD16-B572-48C6-B7BD-67E40863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626DA-22FB-46C1-AF00-802A9BDE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2C1D2-5607-47D4-A488-4349F46E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EC5CB-68F2-45D0-B6B8-6E16D2D5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DE18-571B-4E83-9EA5-C2173F6F36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14399" h="3119">
                  <a:moveTo>
                    <a:pt x="14400" y="3120"/>
                  </a:moveTo>
                  <a:lnTo>
                    <a:pt x="0" y="3120"/>
                  </a:lnTo>
                  <a:lnTo>
                    <a:pt x="0" y="0"/>
                  </a:lnTo>
                  <a:lnTo>
                    <a:pt x="14400" y="0"/>
                  </a:lnTo>
                  <a:lnTo>
                    <a:pt x="14400" y="3120"/>
                  </a:lnTo>
                  <a:lnTo>
                    <a:pt x="14400" y="3120"/>
                  </a:lnTo>
                  <a:lnTo>
                    <a:pt x="14400" y="3120"/>
                  </a:lnTo>
                  <a:lnTo>
                    <a:pt x="14400" y="3120"/>
                  </a:lnTo>
                  <a:lnTo>
                    <a:pt x="14400" y="312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14399" h="7679">
                  <a:moveTo>
                    <a:pt x="14400" y="7680"/>
                  </a:moveTo>
                  <a:lnTo>
                    <a:pt x="0" y="7680"/>
                  </a:lnTo>
                  <a:lnTo>
                    <a:pt x="0" y="0"/>
                  </a:lnTo>
                  <a:lnTo>
                    <a:pt x="14400" y="0"/>
                  </a:lnTo>
                  <a:lnTo>
                    <a:pt x="14400" y="7680"/>
                  </a:lnTo>
                  <a:lnTo>
                    <a:pt x="14400" y="7680"/>
                  </a:lnTo>
                  <a:lnTo>
                    <a:pt x="14400" y="7680"/>
                  </a:lnTo>
                  <a:lnTo>
                    <a:pt x="14400" y="7680"/>
                  </a:lnTo>
                  <a:lnTo>
                    <a:pt x="14400" y="7680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4559" h="959">
                <a:moveTo>
                  <a:pt x="4560" y="960"/>
                </a:moveTo>
                <a:lnTo>
                  <a:pt x="0" y="960"/>
                </a:lnTo>
                <a:lnTo>
                  <a:pt x="0" y="0"/>
                </a:lnTo>
                <a:lnTo>
                  <a:pt x="4560" y="0"/>
                </a:lnTo>
                <a:lnTo>
                  <a:pt x="4560" y="960"/>
                </a:lnTo>
                <a:lnTo>
                  <a:pt x="4560" y="960"/>
                </a:lnTo>
                <a:lnTo>
                  <a:pt x="4560" y="960"/>
                </a:lnTo>
                <a:lnTo>
                  <a:pt x="4560" y="960"/>
                </a:lnTo>
                <a:lnTo>
                  <a:pt x="4560" y="96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8100" h="1340">
                  <a:moveTo>
                    <a:pt x="7829" y="1171"/>
                  </a:moveTo>
                  <a:lnTo>
                    <a:pt x="7487" y="987"/>
                  </a:lnTo>
                  <a:lnTo>
                    <a:pt x="7277" y="937"/>
                  </a:lnTo>
                  <a:lnTo>
                    <a:pt x="6694" y="570"/>
                  </a:lnTo>
                  <a:lnTo>
                    <a:pt x="6382" y="183"/>
                  </a:lnTo>
                  <a:lnTo>
                    <a:pt x="6142" y="17"/>
                  </a:lnTo>
                  <a:lnTo>
                    <a:pt x="6007" y="116"/>
                  </a:lnTo>
                  <a:lnTo>
                    <a:pt x="5722" y="183"/>
                  </a:lnTo>
                  <a:lnTo>
                    <a:pt x="5334" y="183"/>
                  </a:lnTo>
                  <a:lnTo>
                    <a:pt x="5109" y="320"/>
                  </a:lnTo>
                  <a:lnTo>
                    <a:pt x="4437" y="554"/>
                  </a:lnTo>
                  <a:lnTo>
                    <a:pt x="4004" y="451"/>
                  </a:lnTo>
                  <a:lnTo>
                    <a:pt x="3899" y="250"/>
                  </a:lnTo>
                  <a:lnTo>
                    <a:pt x="3854" y="217"/>
                  </a:lnTo>
                  <a:lnTo>
                    <a:pt x="3614" y="150"/>
                  </a:lnTo>
                  <a:lnTo>
                    <a:pt x="3437" y="183"/>
                  </a:lnTo>
                  <a:lnTo>
                    <a:pt x="3272" y="217"/>
                  </a:lnTo>
                  <a:lnTo>
                    <a:pt x="3107" y="31"/>
                  </a:lnTo>
                  <a:lnTo>
                    <a:pt x="3062" y="0"/>
                  </a:lnTo>
                  <a:lnTo>
                    <a:pt x="2972" y="0"/>
                  </a:lnTo>
                  <a:lnTo>
                    <a:pt x="2764" y="84"/>
                  </a:lnTo>
                  <a:lnTo>
                    <a:pt x="2764" y="84"/>
                  </a:lnTo>
                  <a:lnTo>
                    <a:pt x="2734" y="98"/>
                  </a:lnTo>
                  <a:lnTo>
                    <a:pt x="2674" y="134"/>
                  </a:lnTo>
                  <a:lnTo>
                    <a:pt x="2584" y="183"/>
                  </a:lnTo>
                  <a:lnTo>
                    <a:pt x="2509" y="183"/>
                  </a:lnTo>
                  <a:lnTo>
                    <a:pt x="2464" y="183"/>
                  </a:lnTo>
                  <a:lnTo>
                    <a:pt x="2389" y="201"/>
                  </a:lnTo>
                  <a:lnTo>
                    <a:pt x="2299" y="235"/>
                  </a:lnTo>
                  <a:lnTo>
                    <a:pt x="2209" y="267"/>
                  </a:lnTo>
                  <a:lnTo>
                    <a:pt x="2107" y="320"/>
                  </a:lnTo>
                  <a:lnTo>
                    <a:pt x="2032" y="352"/>
                  </a:lnTo>
                  <a:lnTo>
                    <a:pt x="1972" y="370"/>
                  </a:lnTo>
                  <a:lnTo>
                    <a:pt x="1957" y="384"/>
                  </a:lnTo>
                  <a:lnTo>
                    <a:pt x="1389" y="570"/>
                  </a:lnTo>
                  <a:lnTo>
                    <a:pt x="984" y="734"/>
                  </a:lnTo>
                  <a:lnTo>
                    <a:pt x="266" y="1155"/>
                  </a:lnTo>
                  <a:lnTo>
                    <a:pt x="0" y="1340"/>
                  </a:lnTo>
                  <a:lnTo>
                    <a:pt x="8100" y="1340"/>
                  </a:lnTo>
                  <a:lnTo>
                    <a:pt x="7829" y="1171"/>
                  </a:lnTo>
                  <a:lnTo>
                    <a:pt x="7829" y="1171"/>
                  </a:lnTo>
                  <a:lnTo>
                    <a:pt x="7829" y="1171"/>
                  </a:lnTo>
                  <a:lnTo>
                    <a:pt x="7829" y="1171"/>
                  </a:lnTo>
                  <a:lnTo>
                    <a:pt x="7829" y="1171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2489" h="1332">
                    <a:moveTo>
                      <a:pt x="1589" y="932"/>
                    </a:moveTo>
                    <a:lnTo>
                      <a:pt x="1237" y="924"/>
                    </a:lnTo>
                    <a:lnTo>
                      <a:pt x="699" y="622"/>
                    </a:lnTo>
                    <a:lnTo>
                      <a:pt x="317" y="165"/>
                    </a:lnTo>
                    <a:lnTo>
                      <a:pt x="0" y="0"/>
                    </a:lnTo>
                    <a:lnTo>
                      <a:pt x="55" y="64"/>
                    </a:lnTo>
                    <a:lnTo>
                      <a:pt x="0" y="162"/>
                    </a:lnTo>
                    <a:lnTo>
                      <a:pt x="74" y="297"/>
                    </a:lnTo>
                    <a:lnTo>
                      <a:pt x="187" y="607"/>
                    </a:lnTo>
                    <a:lnTo>
                      <a:pt x="112" y="1055"/>
                    </a:lnTo>
                    <a:lnTo>
                      <a:pt x="500" y="822"/>
                    </a:lnTo>
                    <a:lnTo>
                      <a:pt x="1529" y="1332"/>
                    </a:lnTo>
                    <a:lnTo>
                      <a:pt x="2489" y="1322"/>
                    </a:lnTo>
                    <a:lnTo>
                      <a:pt x="2069" y="1182"/>
                    </a:lnTo>
                    <a:lnTo>
                      <a:pt x="1589" y="932"/>
                    </a:lnTo>
                    <a:lnTo>
                      <a:pt x="1589" y="932"/>
                    </a:lnTo>
                    <a:lnTo>
                      <a:pt x="1589" y="932"/>
                    </a:lnTo>
                    <a:lnTo>
                      <a:pt x="1589" y="932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465" h="987">
                    <a:moveTo>
                      <a:pt x="90" y="0"/>
                    </a:moveTo>
                    <a:lnTo>
                      <a:pt x="134" y="50"/>
                    </a:lnTo>
                    <a:lnTo>
                      <a:pt x="60" y="83"/>
                    </a:lnTo>
                    <a:lnTo>
                      <a:pt x="44" y="184"/>
                    </a:lnTo>
                    <a:lnTo>
                      <a:pt x="104" y="318"/>
                    </a:lnTo>
                    <a:lnTo>
                      <a:pt x="120" y="453"/>
                    </a:lnTo>
                    <a:lnTo>
                      <a:pt x="0" y="987"/>
                    </a:lnTo>
                    <a:lnTo>
                      <a:pt x="134" y="651"/>
                    </a:lnTo>
                    <a:lnTo>
                      <a:pt x="210" y="604"/>
                    </a:lnTo>
                    <a:lnTo>
                      <a:pt x="314" y="352"/>
                    </a:lnTo>
                    <a:lnTo>
                      <a:pt x="360" y="335"/>
                    </a:lnTo>
                    <a:lnTo>
                      <a:pt x="360" y="251"/>
                    </a:lnTo>
                    <a:lnTo>
                      <a:pt x="464" y="184"/>
                    </a:lnTo>
                    <a:lnTo>
                      <a:pt x="404" y="167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944" h="677">
                    <a:moveTo>
                      <a:pt x="44" y="0"/>
                    </a:moveTo>
                    <a:lnTo>
                      <a:pt x="30" y="32"/>
                    </a:lnTo>
                    <a:lnTo>
                      <a:pt x="0" y="99"/>
                    </a:lnTo>
                    <a:lnTo>
                      <a:pt x="150" y="302"/>
                    </a:lnTo>
                    <a:lnTo>
                      <a:pt x="774" y="677"/>
                    </a:lnTo>
                    <a:lnTo>
                      <a:pt x="725" y="347"/>
                    </a:lnTo>
                    <a:lnTo>
                      <a:pt x="944" y="190"/>
                    </a:lnTo>
                    <a:lnTo>
                      <a:pt x="627" y="235"/>
                    </a:lnTo>
                    <a:lnTo>
                      <a:pt x="224" y="13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387" h="185">
                    <a:moveTo>
                      <a:pt x="28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6"/>
                    </a:lnTo>
                    <a:lnTo>
                      <a:pt x="14" y="49"/>
                    </a:lnTo>
                    <a:lnTo>
                      <a:pt x="0" y="67"/>
                    </a:lnTo>
                    <a:lnTo>
                      <a:pt x="194" y="168"/>
                    </a:lnTo>
                    <a:lnTo>
                      <a:pt x="240" y="117"/>
                    </a:lnTo>
                    <a:lnTo>
                      <a:pt x="387" y="185"/>
                    </a:lnTo>
                    <a:lnTo>
                      <a:pt x="314" y="67"/>
                    </a:lnTo>
                    <a:lnTo>
                      <a:pt x="372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104" h="202">
                    <a:moveTo>
                      <a:pt x="14" y="101"/>
                    </a:moveTo>
                    <a:lnTo>
                      <a:pt x="0" y="50"/>
                    </a:lnTo>
                    <a:lnTo>
                      <a:pt x="30" y="16"/>
                    </a:lnTo>
                    <a:lnTo>
                      <a:pt x="0" y="16"/>
                    </a:lnTo>
                    <a:lnTo>
                      <a:pt x="30" y="16"/>
                    </a:lnTo>
                    <a:lnTo>
                      <a:pt x="60" y="16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74" y="50"/>
                    </a:lnTo>
                    <a:lnTo>
                      <a:pt x="105" y="135"/>
                    </a:lnTo>
                    <a:lnTo>
                      <a:pt x="30" y="202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1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9939" h="1337">
                  <a:moveTo>
                    <a:pt x="9940" y="1337"/>
                  </a:moveTo>
                  <a:lnTo>
                    <a:pt x="9924" y="1337"/>
                  </a:lnTo>
                  <a:lnTo>
                    <a:pt x="9608" y="1291"/>
                  </a:lnTo>
                  <a:lnTo>
                    <a:pt x="6215" y="774"/>
                  </a:lnTo>
                  <a:lnTo>
                    <a:pt x="5097" y="91"/>
                  </a:lnTo>
                  <a:lnTo>
                    <a:pt x="4767" y="60"/>
                  </a:lnTo>
                  <a:lnTo>
                    <a:pt x="4707" y="137"/>
                  </a:lnTo>
                  <a:lnTo>
                    <a:pt x="4646" y="137"/>
                  </a:lnTo>
                  <a:lnTo>
                    <a:pt x="4575" y="76"/>
                  </a:lnTo>
                  <a:lnTo>
                    <a:pt x="4259" y="258"/>
                  </a:lnTo>
                  <a:lnTo>
                    <a:pt x="4018" y="319"/>
                  </a:lnTo>
                  <a:lnTo>
                    <a:pt x="3902" y="335"/>
                  </a:lnTo>
                  <a:lnTo>
                    <a:pt x="3737" y="258"/>
                  </a:lnTo>
                  <a:lnTo>
                    <a:pt x="3391" y="319"/>
                  </a:lnTo>
                  <a:lnTo>
                    <a:pt x="3211" y="60"/>
                  </a:lnTo>
                  <a:lnTo>
                    <a:pt x="3197" y="45"/>
                  </a:lnTo>
                  <a:lnTo>
                    <a:pt x="3152" y="30"/>
                  </a:lnTo>
                  <a:lnTo>
                    <a:pt x="3092" y="15"/>
                  </a:lnTo>
                  <a:lnTo>
                    <a:pt x="3047" y="0"/>
                  </a:lnTo>
                  <a:lnTo>
                    <a:pt x="2987" y="0"/>
                  </a:lnTo>
                  <a:lnTo>
                    <a:pt x="2912" y="0"/>
                  </a:lnTo>
                  <a:lnTo>
                    <a:pt x="2852" y="0"/>
                  </a:lnTo>
                  <a:lnTo>
                    <a:pt x="2837" y="0"/>
                  </a:lnTo>
                  <a:lnTo>
                    <a:pt x="2822" y="0"/>
                  </a:lnTo>
                  <a:lnTo>
                    <a:pt x="2808" y="15"/>
                  </a:lnTo>
                  <a:lnTo>
                    <a:pt x="2793" y="30"/>
                  </a:lnTo>
                  <a:lnTo>
                    <a:pt x="2748" y="45"/>
                  </a:lnTo>
                  <a:lnTo>
                    <a:pt x="2718" y="45"/>
                  </a:lnTo>
                  <a:lnTo>
                    <a:pt x="2673" y="60"/>
                  </a:lnTo>
                  <a:lnTo>
                    <a:pt x="2628" y="76"/>
                  </a:lnTo>
                  <a:lnTo>
                    <a:pt x="2583" y="91"/>
                  </a:lnTo>
                  <a:lnTo>
                    <a:pt x="2568" y="106"/>
                  </a:lnTo>
                  <a:lnTo>
                    <a:pt x="2422" y="152"/>
                  </a:lnTo>
                  <a:lnTo>
                    <a:pt x="2301" y="182"/>
                  </a:lnTo>
                  <a:lnTo>
                    <a:pt x="2136" y="121"/>
                  </a:lnTo>
                  <a:lnTo>
                    <a:pt x="2061" y="121"/>
                  </a:lnTo>
                  <a:lnTo>
                    <a:pt x="1895" y="182"/>
                  </a:lnTo>
                  <a:lnTo>
                    <a:pt x="1836" y="182"/>
                  </a:lnTo>
                  <a:lnTo>
                    <a:pt x="1763" y="152"/>
                  </a:lnTo>
                  <a:lnTo>
                    <a:pt x="1598" y="152"/>
                  </a:lnTo>
                  <a:lnTo>
                    <a:pt x="1359" y="182"/>
                  </a:lnTo>
                  <a:lnTo>
                    <a:pt x="972" y="45"/>
                  </a:lnTo>
                  <a:lnTo>
                    <a:pt x="806" y="152"/>
                  </a:lnTo>
                  <a:lnTo>
                    <a:pt x="790" y="152"/>
                  </a:lnTo>
                  <a:lnTo>
                    <a:pt x="761" y="182"/>
                  </a:lnTo>
                  <a:lnTo>
                    <a:pt x="716" y="197"/>
                  </a:lnTo>
                  <a:lnTo>
                    <a:pt x="657" y="228"/>
                  </a:lnTo>
                  <a:lnTo>
                    <a:pt x="506" y="304"/>
                  </a:lnTo>
                  <a:lnTo>
                    <a:pt x="372" y="380"/>
                  </a:lnTo>
                  <a:lnTo>
                    <a:pt x="193" y="426"/>
                  </a:lnTo>
                  <a:lnTo>
                    <a:pt x="0" y="456"/>
                  </a:lnTo>
                  <a:lnTo>
                    <a:pt x="0" y="1337"/>
                  </a:lnTo>
                  <a:lnTo>
                    <a:pt x="2523" y="1337"/>
                  </a:lnTo>
                  <a:lnTo>
                    <a:pt x="9312" y="1337"/>
                  </a:lnTo>
                  <a:lnTo>
                    <a:pt x="9940" y="1337"/>
                  </a:lnTo>
                  <a:lnTo>
                    <a:pt x="9940" y="1337"/>
                  </a:lnTo>
                  <a:lnTo>
                    <a:pt x="9940" y="1337"/>
                  </a:lnTo>
                  <a:lnTo>
                    <a:pt x="9940" y="1337"/>
                  </a:lnTo>
                  <a:lnTo>
                    <a:pt x="9940" y="133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912" h="727">
                  <a:moveTo>
                    <a:pt x="60" y="60"/>
                  </a:moveTo>
                  <a:lnTo>
                    <a:pt x="0" y="152"/>
                  </a:lnTo>
                  <a:lnTo>
                    <a:pt x="165" y="273"/>
                  </a:lnTo>
                  <a:lnTo>
                    <a:pt x="357" y="456"/>
                  </a:lnTo>
                  <a:lnTo>
                    <a:pt x="477" y="425"/>
                  </a:lnTo>
                  <a:lnTo>
                    <a:pt x="852" y="727"/>
                  </a:lnTo>
                  <a:lnTo>
                    <a:pt x="762" y="441"/>
                  </a:lnTo>
                  <a:lnTo>
                    <a:pt x="912" y="334"/>
                  </a:lnTo>
                  <a:lnTo>
                    <a:pt x="897" y="319"/>
                  </a:lnTo>
                  <a:lnTo>
                    <a:pt x="837" y="288"/>
                  </a:lnTo>
                  <a:lnTo>
                    <a:pt x="747" y="228"/>
                  </a:lnTo>
                  <a:lnTo>
                    <a:pt x="642" y="182"/>
                  </a:lnTo>
                  <a:lnTo>
                    <a:pt x="537" y="136"/>
                  </a:lnTo>
                  <a:lnTo>
                    <a:pt x="432" y="91"/>
                  </a:lnTo>
                  <a:lnTo>
                    <a:pt x="357" y="60"/>
                  </a:lnTo>
                  <a:lnTo>
                    <a:pt x="327" y="45"/>
                  </a:lnTo>
                  <a:lnTo>
                    <a:pt x="267" y="45"/>
                  </a:lnTo>
                  <a:lnTo>
                    <a:pt x="237" y="45"/>
                  </a:lnTo>
                  <a:lnTo>
                    <a:pt x="180" y="30"/>
                  </a:lnTo>
                  <a:lnTo>
                    <a:pt x="165" y="30"/>
                  </a:lnTo>
                  <a:lnTo>
                    <a:pt x="135" y="15"/>
                  </a:lnTo>
                  <a:lnTo>
                    <a:pt x="105" y="0"/>
                  </a:lnTo>
                  <a:lnTo>
                    <a:pt x="75" y="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5082" h="1247">
                  <a:moveTo>
                    <a:pt x="464" y="45"/>
                  </a:moveTo>
                  <a:lnTo>
                    <a:pt x="344" y="14"/>
                  </a:lnTo>
                  <a:lnTo>
                    <a:pt x="240" y="0"/>
                  </a:lnTo>
                  <a:lnTo>
                    <a:pt x="90" y="0"/>
                  </a:lnTo>
                  <a:lnTo>
                    <a:pt x="30" y="62"/>
                  </a:lnTo>
                  <a:lnTo>
                    <a:pt x="0" y="320"/>
                  </a:lnTo>
                  <a:lnTo>
                    <a:pt x="150" y="260"/>
                  </a:lnTo>
                  <a:lnTo>
                    <a:pt x="224" y="335"/>
                  </a:lnTo>
                  <a:lnTo>
                    <a:pt x="374" y="382"/>
                  </a:lnTo>
                  <a:lnTo>
                    <a:pt x="522" y="682"/>
                  </a:lnTo>
                  <a:lnTo>
                    <a:pt x="1002" y="897"/>
                  </a:lnTo>
                  <a:lnTo>
                    <a:pt x="1942" y="897"/>
                  </a:lnTo>
                  <a:lnTo>
                    <a:pt x="5082" y="1247"/>
                  </a:lnTo>
                  <a:lnTo>
                    <a:pt x="5082" y="1247"/>
                  </a:lnTo>
                  <a:lnTo>
                    <a:pt x="4977" y="1232"/>
                  </a:lnTo>
                  <a:lnTo>
                    <a:pt x="1689" y="607"/>
                  </a:lnTo>
                  <a:lnTo>
                    <a:pt x="1284" y="397"/>
                  </a:lnTo>
                  <a:lnTo>
                    <a:pt x="1062" y="275"/>
                  </a:lnTo>
                  <a:lnTo>
                    <a:pt x="912" y="229"/>
                  </a:lnTo>
                  <a:lnTo>
                    <a:pt x="702" y="152"/>
                  </a:lnTo>
                  <a:lnTo>
                    <a:pt x="464" y="45"/>
                  </a:lnTo>
                  <a:lnTo>
                    <a:pt x="464" y="45"/>
                  </a:lnTo>
                  <a:lnTo>
                    <a:pt x="464" y="45"/>
                  </a:lnTo>
                  <a:lnTo>
                    <a:pt x="464" y="45"/>
                  </a:lnTo>
                  <a:lnTo>
                    <a:pt x="464" y="45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177" h="152">
                  <a:moveTo>
                    <a:pt x="0" y="45"/>
                  </a:moveTo>
                  <a:lnTo>
                    <a:pt x="14" y="45"/>
                  </a:lnTo>
                  <a:lnTo>
                    <a:pt x="30" y="30"/>
                  </a:lnTo>
                  <a:lnTo>
                    <a:pt x="14" y="15"/>
                  </a:lnTo>
                  <a:lnTo>
                    <a:pt x="0" y="0"/>
                  </a:lnTo>
                  <a:lnTo>
                    <a:pt x="72" y="45"/>
                  </a:lnTo>
                  <a:lnTo>
                    <a:pt x="132" y="45"/>
                  </a:lnTo>
                  <a:lnTo>
                    <a:pt x="147" y="76"/>
                  </a:lnTo>
                  <a:lnTo>
                    <a:pt x="162" y="106"/>
                  </a:lnTo>
                  <a:lnTo>
                    <a:pt x="177" y="137"/>
                  </a:lnTo>
                  <a:lnTo>
                    <a:pt x="177" y="152"/>
                  </a:lnTo>
                  <a:lnTo>
                    <a:pt x="147" y="137"/>
                  </a:lnTo>
                  <a:lnTo>
                    <a:pt x="117" y="106"/>
                  </a:lnTo>
                  <a:lnTo>
                    <a:pt x="57" y="76"/>
                  </a:lnTo>
                  <a:lnTo>
                    <a:pt x="57" y="91"/>
                  </a:lnTo>
                  <a:lnTo>
                    <a:pt x="44" y="106"/>
                  </a:lnTo>
                  <a:lnTo>
                    <a:pt x="30" y="121"/>
                  </a:lnTo>
                  <a:lnTo>
                    <a:pt x="14" y="121"/>
                  </a:lnTo>
                  <a:lnTo>
                    <a:pt x="14" y="121"/>
                  </a:lnTo>
                  <a:lnTo>
                    <a:pt x="14" y="9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402" h="410">
                  <a:moveTo>
                    <a:pt x="75" y="0"/>
                  </a:moveTo>
                  <a:lnTo>
                    <a:pt x="120" y="14"/>
                  </a:lnTo>
                  <a:lnTo>
                    <a:pt x="180" y="14"/>
                  </a:lnTo>
                  <a:lnTo>
                    <a:pt x="285" y="30"/>
                  </a:lnTo>
                  <a:lnTo>
                    <a:pt x="240" y="136"/>
                  </a:lnTo>
                  <a:lnTo>
                    <a:pt x="240" y="151"/>
                  </a:lnTo>
                  <a:lnTo>
                    <a:pt x="255" y="182"/>
                  </a:lnTo>
                  <a:lnTo>
                    <a:pt x="270" y="212"/>
                  </a:lnTo>
                  <a:lnTo>
                    <a:pt x="300" y="242"/>
                  </a:lnTo>
                  <a:lnTo>
                    <a:pt x="357" y="288"/>
                  </a:lnTo>
                  <a:lnTo>
                    <a:pt x="387" y="349"/>
                  </a:lnTo>
                  <a:lnTo>
                    <a:pt x="402" y="394"/>
                  </a:lnTo>
                  <a:lnTo>
                    <a:pt x="402" y="410"/>
                  </a:lnTo>
                  <a:lnTo>
                    <a:pt x="240" y="258"/>
                  </a:lnTo>
                  <a:lnTo>
                    <a:pt x="75" y="136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147" h="152">
                  <a:moveTo>
                    <a:pt x="147" y="15"/>
                  </a:moveTo>
                  <a:lnTo>
                    <a:pt x="102" y="76"/>
                  </a:lnTo>
                  <a:lnTo>
                    <a:pt x="102" y="91"/>
                  </a:lnTo>
                  <a:lnTo>
                    <a:pt x="117" y="106"/>
                  </a:lnTo>
                  <a:lnTo>
                    <a:pt x="132" y="137"/>
                  </a:lnTo>
                  <a:lnTo>
                    <a:pt x="132" y="152"/>
                  </a:lnTo>
                  <a:lnTo>
                    <a:pt x="117" y="137"/>
                  </a:lnTo>
                  <a:lnTo>
                    <a:pt x="87" y="121"/>
                  </a:lnTo>
                  <a:lnTo>
                    <a:pt x="57" y="91"/>
                  </a:lnTo>
                  <a:lnTo>
                    <a:pt x="42" y="76"/>
                  </a:lnTo>
                  <a:lnTo>
                    <a:pt x="0" y="0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612" h="517">
                  <a:moveTo>
                    <a:pt x="582" y="91"/>
                  </a:moveTo>
                  <a:lnTo>
                    <a:pt x="612" y="106"/>
                  </a:lnTo>
                  <a:lnTo>
                    <a:pt x="522" y="213"/>
                  </a:lnTo>
                  <a:lnTo>
                    <a:pt x="357" y="334"/>
                  </a:lnTo>
                  <a:lnTo>
                    <a:pt x="417" y="395"/>
                  </a:lnTo>
                  <a:lnTo>
                    <a:pt x="447" y="517"/>
                  </a:lnTo>
                  <a:lnTo>
                    <a:pt x="192" y="334"/>
                  </a:lnTo>
                  <a:lnTo>
                    <a:pt x="117" y="213"/>
                  </a:lnTo>
                  <a:lnTo>
                    <a:pt x="222" y="167"/>
                  </a:lnTo>
                  <a:lnTo>
                    <a:pt x="147" y="9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117" y="15"/>
                  </a:lnTo>
                  <a:lnTo>
                    <a:pt x="192" y="15"/>
                  </a:lnTo>
                  <a:lnTo>
                    <a:pt x="207" y="15"/>
                  </a:lnTo>
                  <a:lnTo>
                    <a:pt x="222" y="15"/>
                  </a:lnTo>
                  <a:lnTo>
                    <a:pt x="252" y="30"/>
                  </a:lnTo>
                  <a:lnTo>
                    <a:pt x="312" y="30"/>
                  </a:lnTo>
                  <a:lnTo>
                    <a:pt x="357" y="45"/>
                  </a:lnTo>
                  <a:lnTo>
                    <a:pt x="372" y="45"/>
                  </a:lnTo>
                  <a:lnTo>
                    <a:pt x="372" y="45"/>
                  </a:lnTo>
                  <a:lnTo>
                    <a:pt x="507" y="60"/>
                  </a:lnTo>
                  <a:lnTo>
                    <a:pt x="582" y="91"/>
                  </a:lnTo>
                  <a:lnTo>
                    <a:pt x="582" y="91"/>
                  </a:lnTo>
                  <a:lnTo>
                    <a:pt x="582" y="91"/>
                  </a:lnTo>
                  <a:lnTo>
                    <a:pt x="582" y="91"/>
                  </a:lnTo>
                  <a:lnTo>
                    <a:pt x="582" y="91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indent="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indent="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6480" indent="3366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6480" indent="3366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6480" indent="3366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6480" indent="3366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2BF-A595-4913-BC0D-8B0859E588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14399" h="3120">
                  <a:moveTo>
                    <a:pt x="14399" y="3120"/>
                  </a:moveTo>
                  <a:lnTo>
                    <a:pt x="0" y="3120"/>
                  </a:lnTo>
                  <a:lnTo>
                    <a:pt x="0" y="0"/>
                  </a:lnTo>
                  <a:lnTo>
                    <a:pt x="14399" y="0"/>
                  </a:lnTo>
                  <a:lnTo>
                    <a:pt x="14399" y="3120"/>
                  </a:lnTo>
                  <a:lnTo>
                    <a:pt x="14399" y="3120"/>
                  </a:lnTo>
                  <a:lnTo>
                    <a:pt x="14399" y="3120"/>
                  </a:lnTo>
                  <a:lnTo>
                    <a:pt x="14399" y="3120"/>
                  </a:lnTo>
                  <a:lnTo>
                    <a:pt x="14399" y="312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14399" h="7679">
                  <a:moveTo>
                    <a:pt x="14399" y="7679"/>
                  </a:moveTo>
                  <a:lnTo>
                    <a:pt x="0" y="7679"/>
                  </a:lnTo>
                  <a:lnTo>
                    <a:pt x="0" y="0"/>
                  </a:lnTo>
                  <a:lnTo>
                    <a:pt x="14399" y="0"/>
                  </a:lnTo>
                  <a:lnTo>
                    <a:pt x="14399" y="7679"/>
                  </a:lnTo>
                  <a:lnTo>
                    <a:pt x="14399" y="7679"/>
                  </a:lnTo>
                  <a:lnTo>
                    <a:pt x="14399" y="7679"/>
                  </a:lnTo>
                  <a:lnTo>
                    <a:pt x="14399" y="7679"/>
                  </a:lnTo>
                  <a:lnTo>
                    <a:pt x="14399" y="7679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4559" h="959">
                <a:moveTo>
                  <a:pt x="4559" y="960"/>
                </a:moveTo>
                <a:lnTo>
                  <a:pt x="0" y="960"/>
                </a:lnTo>
                <a:lnTo>
                  <a:pt x="0" y="0"/>
                </a:lnTo>
                <a:lnTo>
                  <a:pt x="4559" y="0"/>
                </a:lnTo>
                <a:lnTo>
                  <a:pt x="4559" y="960"/>
                </a:lnTo>
                <a:lnTo>
                  <a:pt x="4559" y="960"/>
                </a:lnTo>
                <a:lnTo>
                  <a:pt x="4559" y="960"/>
                </a:lnTo>
                <a:lnTo>
                  <a:pt x="4559" y="960"/>
                </a:lnTo>
                <a:lnTo>
                  <a:pt x="4559" y="96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1040"/>
            </a:xfrm>
            <a:custGeom>
              <a:avLst/>
              <a:gdLst/>
              <a:ahLst/>
              <a:rect l="l" t="t" r="r" b="b"/>
              <a:pathLst>
                <a:path w="8099" h="1340">
                  <a:moveTo>
                    <a:pt x="7829" y="1171"/>
                  </a:moveTo>
                  <a:lnTo>
                    <a:pt x="7487" y="987"/>
                  </a:lnTo>
                  <a:lnTo>
                    <a:pt x="7277" y="937"/>
                  </a:lnTo>
                  <a:lnTo>
                    <a:pt x="6694" y="570"/>
                  </a:lnTo>
                  <a:lnTo>
                    <a:pt x="6382" y="183"/>
                  </a:lnTo>
                  <a:lnTo>
                    <a:pt x="6142" y="17"/>
                  </a:lnTo>
                  <a:lnTo>
                    <a:pt x="6007" y="116"/>
                  </a:lnTo>
                  <a:lnTo>
                    <a:pt x="5722" y="183"/>
                  </a:lnTo>
                  <a:lnTo>
                    <a:pt x="5334" y="183"/>
                  </a:lnTo>
                  <a:lnTo>
                    <a:pt x="5109" y="320"/>
                  </a:lnTo>
                  <a:lnTo>
                    <a:pt x="4437" y="554"/>
                  </a:lnTo>
                  <a:lnTo>
                    <a:pt x="4004" y="451"/>
                  </a:lnTo>
                  <a:lnTo>
                    <a:pt x="3900" y="250"/>
                  </a:lnTo>
                  <a:lnTo>
                    <a:pt x="3854" y="217"/>
                  </a:lnTo>
                  <a:lnTo>
                    <a:pt x="3615" y="150"/>
                  </a:lnTo>
                  <a:lnTo>
                    <a:pt x="3437" y="183"/>
                  </a:lnTo>
                  <a:lnTo>
                    <a:pt x="3272" y="217"/>
                  </a:lnTo>
                  <a:lnTo>
                    <a:pt x="3107" y="31"/>
                  </a:lnTo>
                  <a:lnTo>
                    <a:pt x="3062" y="0"/>
                  </a:lnTo>
                  <a:lnTo>
                    <a:pt x="2972" y="0"/>
                  </a:lnTo>
                  <a:lnTo>
                    <a:pt x="2764" y="84"/>
                  </a:lnTo>
                  <a:lnTo>
                    <a:pt x="2764" y="84"/>
                  </a:lnTo>
                  <a:lnTo>
                    <a:pt x="2734" y="98"/>
                  </a:lnTo>
                  <a:lnTo>
                    <a:pt x="2674" y="134"/>
                  </a:lnTo>
                  <a:lnTo>
                    <a:pt x="2584" y="183"/>
                  </a:lnTo>
                  <a:lnTo>
                    <a:pt x="2510" y="183"/>
                  </a:lnTo>
                  <a:lnTo>
                    <a:pt x="2464" y="183"/>
                  </a:lnTo>
                  <a:lnTo>
                    <a:pt x="2390" y="201"/>
                  </a:lnTo>
                  <a:lnTo>
                    <a:pt x="2300" y="235"/>
                  </a:lnTo>
                  <a:lnTo>
                    <a:pt x="2210" y="267"/>
                  </a:lnTo>
                  <a:lnTo>
                    <a:pt x="2107" y="320"/>
                  </a:lnTo>
                  <a:lnTo>
                    <a:pt x="2032" y="352"/>
                  </a:lnTo>
                  <a:lnTo>
                    <a:pt x="1972" y="370"/>
                  </a:lnTo>
                  <a:lnTo>
                    <a:pt x="1957" y="384"/>
                  </a:lnTo>
                  <a:lnTo>
                    <a:pt x="1389" y="570"/>
                  </a:lnTo>
                  <a:lnTo>
                    <a:pt x="985" y="734"/>
                  </a:lnTo>
                  <a:lnTo>
                    <a:pt x="267" y="1155"/>
                  </a:lnTo>
                  <a:lnTo>
                    <a:pt x="0" y="1340"/>
                  </a:lnTo>
                  <a:lnTo>
                    <a:pt x="8099" y="1340"/>
                  </a:lnTo>
                  <a:lnTo>
                    <a:pt x="7829" y="1171"/>
                  </a:lnTo>
                  <a:lnTo>
                    <a:pt x="7829" y="1171"/>
                  </a:lnTo>
                  <a:lnTo>
                    <a:pt x="7829" y="1171"/>
                  </a:lnTo>
                  <a:lnTo>
                    <a:pt x="7829" y="1171"/>
                  </a:lnTo>
                  <a:lnTo>
                    <a:pt x="7829" y="1171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880"/>
              </a:xfrm>
              <a:custGeom>
                <a:avLst/>
                <a:gdLst/>
                <a:ahLst/>
                <a:rect l="l" t="t" r="r" b="b"/>
                <a:pathLst>
                  <a:path w="2484" h="1322">
                    <a:moveTo>
                      <a:pt x="1588" y="932"/>
                    </a:moveTo>
                    <a:lnTo>
                      <a:pt x="1235" y="924"/>
                    </a:lnTo>
                    <a:lnTo>
                      <a:pt x="698" y="622"/>
                    </a:lnTo>
                    <a:lnTo>
                      <a:pt x="317" y="165"/>
                    </a:lnTo>
                    <a:lnTo>
                      <a:pt x="0" y="0"/>
                    </a:lnTo>
                    <a:lnTo>
                      <a:pt x="55" y="64"/>
                    </a:lnTo>
                    <a:lnTo>
                      <a:pt x="0" y="162"/>
                    </a:lnTo>
                    <a:lnTo>
                      <a:pt x="74" y="297"/>
                    </a:lnTo>
                    <a:lnTo>
                      <a:pt x="187" y="607"/>
                    </a:lnTo>
                    <a:lnTo>
                      <a:pt x="112" y="1055"/>
                    </a:lnTo>
                    <a:lnTo>
                      <a:pt x="500" y="822"/>
                    </a:lnTo>
                    <a:lnTo>
                      <a:pt x="1479" y="1317"/>
                    </a:lnTo>
                    <a:lnTo>
                      <a:pt x="2484" y="1322"/>
                    </a:lnTo>
                    <a:lnTo>
                      <a:pt x="2068" y="1182"/>
                    </a:lnTo>
                    <a:lnTo>
                      <a:pt x="1588" y="932"/>
                    </a:lnTo>
                    <a:lnTo>
                      <a:pt x="1588" y="932"/>
                    </a:lnTo>
                    <a:lnTo>
                      <a:pt x="1588" y="932"/>
                    </a:lnTo>
                    <a:lnTo>
                      <a:pt x="1588" y="932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465" h="987">
                    <a:moveTo>
                      <a:pt x="90" y="0"/>
                    </a:moveTo>
                    <a:lnTo>
                      <a:pt x="135" y="50"/>
                    </a:lnTo>
                    <a:lnTo>
                      <a:pt x="60" y="83"/>
                    </a:lnTo>
                    <a:lnTo>
                      <a:pt x="45" y="184"/>
                    </a:lnTo>
                    <a:lnTo>
                      <a:pt x="105" y="318"/>
                    </a:lnTo>
                    <a:lnTo>
                      <a:pt x="120" y="453"/>
                    </a:lnTo>
                    <a:lnTo>
                      <a:pt x="0" y="987"/>
                    </a:lnTo>
                    <a:lnTo>
                      <a:pt x="135" y="651"/>
                    </a:lnTo>
                    <a:lnTo>
                      <a:pt x="210" y="604"/>
                    </a:lnTo>
                    <a:lnTo>
                      <a:pt x="315" y="352"/>
                    </a:lnTo>
                    <a:lnTo>
                      <a:pt x="360" y="335"/>
                    </a:lnTo>
                    <a:lnTo>
                      <a:pt x="360" y="251"/>
                    </a:lnTo>
                    <a:lnTo>
                      <a:pt x="465" y="184"/>
                    </a:lnTo>
                    <a:lnTo>
                      <a:pt x="405" y="167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816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944" h="677">
                    <a:moveTo>
                      <a:pt x="44" y="0"/>
                    </a:moveTo>
                    <a:lnTo>
                      <a:pt x="30" y="32"/>
                    </a:lnTo>
                    <a:lnTo>
                      <a:pt x="0" y="99"/>
                    </a:lnTo>
                    <a:lnTo>
                      <a:pt x="149" y="302"/>
                    </a:lnTo>
                    <a:lnTo>
                      <a:pt x="774" y="677"/>
                    </a:lnTo>
                    <a:lnTo>
                      <a:pt x="724" y="347"/>
                    </a:lnTo>
                    <a:lnTo>
                      <a:pt x="944" y="190"/>
                    </a:lnTo>
                    <a:lnTo>
                      <a:pt x="627" y="235"/>
                    </a:lnTo>
                    <a:lnTo>
                      <a:pt x="224" y="13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48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387" h="184">
                    <a:moveTo>
                      <a:pt x="28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5"/>
                    </a:lnTo>
                    <a:lnTo>
                      <a:pt x="14" y="49"/>
                    </a:lnTo>
                    <a:lnTo>
                      <a:pt x="0" y="67"/>
                    </a:lnTo>
                    <a:lnTo>
                      <a:pt x="194" y="167"/>
                    </a:lnTo>
                    <a:lnTo>
                      <a:pt x="240" y="116"/>
                    </a:lnTo>
                    <a:lnTo>
                      <a:pt x="387" y="184"/>
                    </a:lnTo>
                    <a:lnTo>
                      <a:pt x="314" y="67"/>
                    </a:lnTo>
                    <a:lnTo>
                      <a:pt x="372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105" h="202">
                    <a:moveTo>
                      <a:pt x="14" y="101"/>
                    </a:moveTo>
                    <a:lnTo>
                      <a:pt x="0" y="50"/>
                    </a:lnTo>
                    <a:lnTo>
                      <a:pt x="30" y="16"/>
                    </a:lnTo>
                    <a:lnTo>
                      <a:pt x="0" y="16"/>
                    </a:lnTo>
                    <a:lnTo>
                      <a:pt x="30" y="16"/>
                    </a:lnTo>
                    <a:lnTo>
                      <a:pt x="60" y="16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74" y="50"/>
                    </a:lnTo>
                    <a:lnTo>
                      <a:pt x="105" y="135"/>
                    </a:lnTo>
                    <a:lnTo>
                      <a:pt x="30" y="202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1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9939" h="1337">
                  <a:moveTo>
                    <a:pt x="9939" y="1337"/>
                  </a:moveTo>
                  <a:lnTo>
                    <a:pt x="9924" y="1337"/>
                  </a:lnTo>
                  <a:lnTo>
                    <a:pt x="9609" y="1291"/>
                  </a:lnTo>
                  <a:lnTo>
                    <a:pt x="6216" y="774"/>
                  </a:lnTo>
                  <a:lnTo>
                    <a:pt x="5096" y="91"/>
                  </a:lnTo>
                  <a:lnTo>
                    <a:pt x="4766" y="60"/>
                  </a:lnTo>
                  <a:lnTo>
                    <a:pt x="4706" y="137"/>
                  </a:lnTo>
                  <a:lnTo>
                    <a:pt x="4646" y="137"/>
                  </a:lnTo>
                  <a:lnTo>
                    <a:pt x="4574" y="76"/>
                  </a:lnTo>
                  <a:lnTo>
                    <a:pt x="4259" y="258"/>
                  </a:lnTo>
                  <a:lnTo>
                    <a:pt x="4019" y="319"/>
                  </a:lnTo>
                  <a:lnTo>
                    <a:pt x="3901" y="335"/>
                  </a:lnTo>
                  <a:lnTo>
                    <a:pt x="3736" y="258"/>
                  </a:lnTo>
                  <a:lnTo>
                    <a:pt x="3391" y="319"/>
                  </a:lnTo>
                  <a:lnTo>
                    <a:pt x="3211" y="60"/>
                  </a:lnTo>
                  <a:lnTo>
                    <a:pt x="3198" y="45"/>
                  </a:lnTo>
                  <a:lnTo>
                    <a:pt x="3153" y="30"/>
                  </a:lnTo>
                  <a:lnTo>
                    <a:pt x="3093" y="15"/>
                  </a:lnTo>
                  <a:lnTo>
                    <a:pt x="3048" y="0"/>
                  </a:lnTo>
                  <a:lnTo>
                    <a:pt x="2988" y="0"/>
                  </a:lnTo>
                  <a:lnTo>
                    <a:pt x="2913" y="0"/>
                  </a:lnTo>
                  <a:lnTo>
                    <a:pt x="2853" y="0"/>
                  </a:lnTo>
                  <a:lnTo>
                    <a:pt x="2838" y="0"/>
                  </a:lnTo>
                  <a:lnTo>
                    <a:pt x="2823" y="0"/>
                  </a:lnTo>
                  <a:lnTo>
                    <a:pt x="2808" y="15"/>
                  </a:lnTo>
                  <a:lnTo>
                    <a:pt x="2793" y="30"/>
                  </a:lnTo>
                  <a:lnTo>
                    <a:pt x="2748" y="45"/>
                  </a:lnTo>
                  <a:lnTo>
                    <a:pt x="2718" y="45"/>
                  </a:lnTo>
                  <a:lnTo>
                    <a:pt x="2673" y="60"/>
                  </a:lnTo>
                  <a:lnTo>
                    <a:pt x="2628" y="76"/>
                  </a:lnTo>
                  <a:lnTo>
                    <a:pt x="2583" y="91"/>
                  </a:lnTo>
                  <a:lnTo>
                    <a:pt x="2568" y="106"/>
                  </a:lnTo>
                  <a:lnTo>
                    <a:pt x="2421" y="152"/>
                  </a:lnTo>
                  <a:lnTo>
                    <a:pt x="2301" y="182"/>
                  </a:lnTo>
                  <a:lnTo>
                    <a:pt x="2136" y="121"/>
                  </a:lnTo>
                  <a:lnTo>
                    <a:pt x="2061" y="121"/>
                  </a:lnTo>
                  <a:lnTo>
                    <a:pt x="1896" y="182"/>
                  </a:lnTo>
                  <a:lnTo>
                    <a:pt x="1836" y="182"/>
                  </a:lnTo>
                  <a:lnTo>
                    <a:pt x="1763" y="152"/>
                  </a:lnTo>
                  <a:lnTo>
                    <a:pt x="1598" y="152"/>
                  </a:lnTo>
                  <a:lnTo>
                    <a:pt x="1358" y="182"/>
                  </a:lnTo>
                  <a:lnTo>
                    <a:pt x="971" y="45"/>
                  </a:lnTo>
                  <a:lnTo>
                    <a:pt x="806" y="152"/>
                  </a:lnTo>
                  <a:lnTo>
                    <a:pt x="791" y="152"/>
                  </a:lnTo>
                  <a:lnTo>
                    <a:pt x="761" y="182"/>
                  </a:lnTo>
                  <a:lnTo>
                    <a:pt x="716" y="197"/>
                  </a:lnTo>
                  <a:lnTo>
                    <a:pt x="656" y="228"/>
                  </a:lnTo>
                  <a:lnTo>
                    <a:pt x="506" y="304"/>
                  </a:lnTo>
                  <a:lnTo>
                    <a:pt x="371" y="380"/>
                  </a:lnTo>
                  <a:lnTo>
                    <a:pt x="194" y="426"/>
                  </a:lnTo>
                  <a:lnTo>
                    <a:pt x="0" y="456"/>
                  </a:lnTo>
                  <a:lnTo>
                    <a:pt x="0" y="1337"/>
                  </a:lnTo>
                  <a:lnTo>
                    <a:pt x="2523" y="1337"/>
                  </a:lnTo>
                  <a:lnTo>
                    <a:pt x="9311" y="1337"/>
                  </a:lnTo>
                  <a:lnTo>
                    <a:pt x="9939" y="1337"/>
                  </a:lnTo>
                  <a:lnTo>
                    <a:pt x="9939" y="1337"/>
                  </a:lnTo>
                  <a:lnTo>
                    <a:pt x="9939" y="1337"/>
                  </a:lnTo>
                  <a:lnTo>
                    <a:pt x="9939" y="1337"/>
                  </a:lnTo>
                  <a:lnTo>
                    <a:pt x="9939" y="133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912" h="727">
                  <a:moveTo>
                    <a:pt x="60" y="60"/>
                  </a:moveTo>
                  <a:lnTo>
                    <a:pt x="0" y="152"/>
                  </a:lnTo>
                  <a:lnTo>
                    <a:pt x="165" y="273"/>
                  </a:lnTo>
                  <a:lnTo>
                    <a:pt x="357" y="456"/>
                  </a:lnTo>
                  <a:lnTo>
                    <a:pt x="477" y="425"/>
                  </a:lnTo>
                  <a:lnTo>
                    <a:pt x="852" y="727"/>
                  </a:lnTo>
                  <a:lnTo>
                    <a:pt x="762" y="441"/>
                  </a:lnTo>
                  <a:lnTo>
                    <a:pt x="912" y="334"/>
                  </a:lnTo>
                  <a:lnTo>
                    <a:pt x="897" y="319"/>
                  </a:lnTo>
                  <a:lnTo>
                    <a:pt x="837" y="288"/>
                  </a:lnTo>
                  <a:lnTo>
                    <a:pt x="747" y="228"/>
                  </a:lnTo>
                  <a:lnTo>
                    <a:pt x="642" y="182"/>
                  </a:lnTo>
                  <a:lnTo>
                    <a:pt x="537" y="136"/>
                  </a:lnTo>
                  <a:lnTo>
                    <a:pt x="432" y="91"/>
                  </a:lnTo>
                  <a:lnTo>
                    <a:pt x="357" y="60"/>
                  </a:lnTo>
                  <a:lnTo>
                    <a:pt x="327" y="45"/>
                  </a:lnTo>
                  <a:lnTo>
                    <a:pt x="267" y="45"/>
                  </a:lnTo>
                  <a:lnTo>
                    <a:pt x="237" y="45"/>
                  </a:lnTo>
                  <a:lnTo>
                    <a:pt x="180" y="30"/>
                  </a:lnTo>
                  <a:lnTo>
                    <a:pt x="165" y="30"/>
                  </a:lnTo>
                  <a:lnTo>
                    <a:pt x="135" y="15"/>
                  </a:lnTo>
                  <a:lnTo>
                    <a:pt x="105" y="0"/>
                  </a:lnTo>
                  <a:lnTo>
                    <a:pt x="75" y="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5082" h="1247">
                  <a:moveTo>
                    <a:pt x="464" y="45"/>
                  </a:moveTo>
                  <a:lnTo>
                    <a:pt x="344" y="14"/>
                  </a:lnTo>
                  <a:lnTo>
                    <a:pt x="240" y="0"/>
                  </a:lnTo>
                  <a:lnTo>
                    <a:pt x="90" y="0"/>
                  </a:lnTo>
                  <a:lnTo>
                    <a:pt x="30" y="62"/>
                  </a:lnTo>
                  <a:lnTo>
                    <a:pt x="0" y="320"/>
                  </a:lnTo>
                  <a:lnTo>
                    <a:pt x="150" y="260"/>
                  </a:lnTo>
                  <a:lnTo>
                    <a:pt x="224" y="335"/>
                  </a:lnTo>
                  <a:lnTo>
                    <a:pt x="374" y="382"/>
                  </a:lnTo>
                  <a:lnTo>
                    <a:pt x="522" y="682"/>
                  </a:lnTo>
                  <a:lnTo>
                    <a:pt x="1002" y="897"/>
                  </a:lnTo>
                  <a:lnTo>
                    <a:pt x="1942" y="897"/>
                  </a:lnTo>
                  <a:lnTo>
                    <a:pt x="5082" y="1247"/>
                  </a:lnTo>
                  <a:lnTo>
                    <a:pt x="5082" y="1247"/>
                  </a:lnTo>
                  <a:lnTo>
                    <a:pt x="4977" y="1232"/>
                  </a:lnTo>
                  <a:lnTo>
                    <a:pt x="1689" y="607"/>
                  </a:lnTo>
                  <a:lnTo>
                    <a:pt x="1284" y="397"/>
                  </a:lnTo>
                  <a:lnTo>
                    <a:pt x="1062" y="275"/>
                  </a:lnTo>
                  <a:lnTo>
                    <a:pt x="912" y="229"/>
                  </a:lnTo>
                  <a:lnTo>
                    <a:pt x="702" y="152"/>
                  </a:lnTo>
                  <a:lnTo>
                    <a:pt x="464" y="45"/>
                  </a:lnTo>
                  <a:lnTo>
                    <a:pt x="464" y="45"/>
                  </a:lnTo>
                  <a:lnTo>
                    <a:pt x="464" y="45"/>
                  </a:lnTo>
                  <a:lnTo>
                    <a:pt x="464" y="45"/>
                  </a:lnTo>
                  <a:lnTo>
                    <a:pt x="464" y="45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177" h="152">
                  <a:moveTo>
                    <a:pt x="0" y="45"/>
                  </a:moveTo>
                  <a:lnTo>
                    <a:pt x="14" y="45"/>
                  </a:lnTo>
                  <a:lnTo>
                    <a:pt x="30" y="30"/>
                  </a:lnTo>
                  <a:lnTo>
                    <a:pt x="14" y="15"/>
                  </a:lnTo>
                  <a:lnTo>
                    <a:pt x="0" y="0"/>
                  </a:lnTo>
                  <a:lnTo>
                    <a:pt x="72" y="45"/>
                  </a:lnTo>
                  <a:lnTo>
                    <a:pt x="132" y="45"/>
                  </a:lnTo>
                  <a:lnTo>
                    <a:pt x="147" y="76"/>
                  </a:lnTo>
                  <a:lnTo>
                    <a:pt x="162" y="106"/>
                  </a:lnTo>
                  <a:lnTo>
                    <a:pt x="177" y="137"/>
                  </a:lnTo>
                  <a:lnTo>
                    <a:pt x="177" y="152"/>
                  </a:lnTo>
                  <a:lnTo>
                    <a:pt x="147" y="137"/>
                  </a:lnTo>
                  <a:lnTo>
                    <a:pt x="117" y="106"/>
                  </a:lnTo>
                  <a:lnTo>
                    <a:pt x="57" y="76"/>
                  </a:lnTo>
                  <a:lnTo>
                    <a:pt x="57" y="91"/>
                  </a:lnTo>
                  <a:lnTo>
                    <a:pt x="44" y="106"/>
                  </a:lnTo>
                  <a:lnTo>
                    <a:pt x="30" y="121"/>
                  </a:lnTo>
                  <a:lnTo>
                    <a:pt x="14" y="121"/>
                  </a:lnTo>
                  <a:lnTo>
                    <a:pt x="14" y="121"/>
                  </a:lnTo>
                  <a:lnTo>
                    <a:pt x="14" y="9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402" h="410">
                  <a:moveTo>
                    <a:pt x="75" y="0"/>
                  </a:moveTo>
                  <a:lnTo>
                    <a:pt x="120" y="14"/>
                  </a:lnTo>
                  <a:lnTo>
                    <a:pt x="180" y="14"/>
                  </a:lnTo>
                  <a:lnTo>
                    <a:pt x="285" y="30"/>
                  </a:lnTo>
                  <a:lnTo>
                    <a:pt x="240" y="136"/>
                  </a:lnTo>
                  <a:lnTo>
                    <a:pt x="240" y="151"/>
                  </a:lnTo>
                  <a:lnTo>
                    <a:pt x="255" y="182"/>
                  </a:lnTo>
                  <a:lnTo>
                    <a:pt x="270" y="212"/>
                  </a:lnTo>
                  <a:lnTo>
                    <a:pt x="300" y="242"/>
                  </a:lnTo>
                  <a:lnTo>
                    <a:pt x="357" y="288"/>
                  </a:lnTo>
                  <a:lnTo>
                    <a:pt x="387" y="349"/>
                  </a:lnTo>
                  <a:lnTo>
                    <a:pt x="402" y="394"/>
                  </a:lnTo>
                  <a:lnTo>
                    <a:pt x="402" y="410"/>
                  </a:lnTo>
                  <a:lnTo>
                    <a:pt x="240" y="258"/>
                  </a:lnTo>
                  <a:lnTo>
                    <a:pt x="75" y="136"/>
                  </a:lnTo>
                  <a:lnTo>
                    <a:pt x="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147" h="152">
                  <a:moveTo>
                    <a:pt x="147" y="15"/>
                  </a:moveTo>
                  <a:lnTo>
                    <a:pt x="102" y="76"/>
                  </a:lnTo>
                  <a:lnTo>
                    <a:pt x="102" y="91"/>
                  </a:lnTo>
                  <a:lnTo>
                    <a:pt x="117" y="106"/>
                  </a:lnTo>
                  <a:lnTo>
                    <a:pt x="132" y="137"/>
                  </a:lnTo>
                  <a:lnTo>
                    <a:pt x="132" y="152"/>
                  </a:lnTo>
                  <a:lnTo>
                    <a:pt x="117" y="137"/>
                  </a:lnTo>
                  <a:lnTo>
                    <a:pt x="87" y="121"/>
                  </a:lnTo>
                  <a:lnTo>
                    <a:pt x="57" y="91"/>
                  </a:lnTo>
                  <a:lnTo>
                    <a:pt x="42" y="76"/>
                  </a:lnTo>
                  <a:lnTo>
                    <a:pt x="0" y="0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612" h="517">
                  <a:moveTo>
                    <a:pt x="582" y="91"/>
                  </a:moveTo>
                  <a:lnTo>
                    <a:pt x="612" y="106"/>
                  </a:lnTo>
                  <a:lnTo>
                    <a:pt x="522" y="213"/>
                  </a:lnTo>
                  <a:lnTo>
                    <a:pt x="357" y="334"/>
                  </a:lnTo>
                  <a:lnTo>
                    <a:pt x="417" y="395"/>
                  </a:lnTo>
                  <a:lnTo>
                    <a:pt x="447" y="517"/>
                  </a:lnTo>
                  <a:lnTo>
                    <a:pt x="192" y="334"/>
                  </a:lnTo>
                  <a:lnTo>
                    <a:pt x="117" y="213"/>
                  </a:lnTo>
                  <a:lnTo>
                    <a:pt x="222" y="167"/>
                  </a:lnTo>
                  <a:lnTo>
                    <a:pt x="147" y="9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117" y="15"/>
                  </a:lnTo>
                  <a:lnTo>
                    <a:pt x="192" y="15"/>
                  </a:lnTo>
                  <a:lnTo>
                    <a:pt x="207" y="15"/>
                  </a:lnTo>
                  <a:lnTo>
                    <a:pt x="222" y="15"/>
                  </a:lnTo>
                  <a:lnTo>
                    <a:pt x="252" y="30"/>
                  </a:lnTo>
                  <a:lnTo>
                    <a:pt x="312" y="30"/>
                  </a:lnTo>
                  <a:lnTo>
                    <a:pt x="357" y="45"/>
                  </a:lnTo>
                  <a:lnTo>
                    <a:pt x="372" y="45"/>
                  </a:lnTo>
                  <a:lnTo>
                    <a:pt x="372" y="45"/>
                  </a:lnTo>
                  <a:lnTo>
                    <a:pt x="507" y="60"/>
                  </a:lnTo>
                  <a:lnTo>
                    <a:pt x="582" y="91"/>
                  </a:lnTo>
                  <a:lnTo>
                    <a:pt x="582" y="91"/>
                  </a:lnTo>
                  <a:lnTo>
                    <a:pt x="582" y="91"/>
                  </a:lnTo>
                  <a:lnTo>
                    <a:pt x="582" y="91"/>
                  </a:lnTo>
                  <a:lnTo>
                    <a:pt x="582" y="91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939-3E5A-419F-B871-82F5BF7EC6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i="1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indent="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i="1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indent="34308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</a:pPr>
            <a:r>
              <a:rPr b="0" i="1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indent="34308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</a:pPr>
            <a:r>
              <a:rPr b="0" i="1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indent="34308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</a:pPr>
            <a:r>
              <a:rPr b="0" i="1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indent="34308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</a:pPr>
            <a:r>
              <a:rPr b="0" i="1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indent="34308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</a:pPr>
            <a:r>
              <a:rPr b="0" i="1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6D25-6187-4EAA-8FE1-2A25C62B5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D0A9-067A-41FD-BD94-E8F9D27E5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6273360" y="-18720"/>
            <a:ext cx="2951280" cy="3327120"/>
            <a:chOff x="6273360" y="-18720"/>
            <a:chExt cx="2951280" cy="3327120"/>
          </a:xfrm>
        </p:grpSpPr>
        <p:grpSp>
          <p:nvGrpSpPr>
            <p:cNvPr id="244" name=""/>
            <p:cNvGrpSpPr/>
            <p:nvPr/>
          </p:nvGrpSpPr>
          <p:grpSpPr>
            <a:xfrm>
              <a:off x="7567560" y="2500200"/>
              <a:ext cx="1004760" cy="754200"/>
              <a:chOff x="7567560" y="2500200"/>
              <a:chExt cx="1004760" cy="75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7567560" y="250020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27920" y="283032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797960" y="1444680"/>
              <a:ext cx="1006200" cy="753840"/>
              <a:chOff x="7797960" y="1444680"/>
              <a:chExt cx="1006200" cy="753840"/>
            </a:xfrm>
          </p:grpSpPr>
          <p:sp>
            <p:nvSpPr>
              <p:cNvPr id="248" name=""/>
              <p:cNvSpPr/>
              <p:nvPr/>
            </p:nvSpPr>
            <p:spPr>
              <a:xfrm>
                <a:off x="7797960" y="1444680"/>
                <a:ext cx="100620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159400" y="1773000"/>
                <a:ext cx="242640" cy="140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251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89880" y="33012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273360" y="-18720"/>
              <a:ext cx="2951280" cy="3327120"/>
              <a:chOff x="6273360" y="-18720"/>
              <a:chExt cx="2951280" cy="332712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562880" y="807840"/>
                  <a:ext cx="29844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273360" y="-18720"/>
                <a:ext cx="2867760" cy="2267280"/>
                <a:chOff x="6273360" y="-18720"/>
                <a:chExt cx="2867760" cy="226728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7834680" y="843480"/>
                  <a:ext cx="1067040" cy="1143000"/>
                  <a:chOff x="7834680" y="843480"/>
                  <a:chExt cx="1067040" cy="11430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rot="2711400">
                    <a:off x="7760880" y="113328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252">
                        <a:moveTo>
                          <a:pt x="0" y="252"/>
                        </a:moveTo>
                        <a:cubicBezTo>
                          <a:pt x="12" y="244"/>
                          <a:pt x="289" y="124"/>
                          <a:pt x="439" y="84"/>
                        </a:cubicBezTo>
                        <a:cubicBezTo>
                          <a:pt x="590" y="44"/>
                          <a:pt x="745" y="24"/>
                          <a:pt x="904" y="12"/>
                        </a:cubicBezTo>
                        <a:cubicBezTo>
                          <a:pt x="1063" y="0"/>
                          <a:pt x="1312" y="5"/>
                          <a:pt x="1392" y="12"/>
                        </a:cubicBezTo>
                        <a:lnTo>
                          <a:pt x="1384" y="51"/>
                        </a:lnTo>
                        <a:cubicBezTo>
                          <a:pt x="1302" y="58"/>
                          <a:pt x="1073" y="35"/>
                          <a:pt x="898" y="51"/>
                        </a:cubicBezTo>
                        <a:cubicBezTo>
                          <a:pt x="615" y="68"/>
                          <a:pt x="508" y="96"/>
                          <a:pt x="332" y="146"/>
                        </a:cubicBezTo>
                        <a:cubicBezTo>
                          <a:pt x="182" y="178"/>
                          <a:pt x="69" y="230"/>
                          <a:pt x="0" y="252"/>
                        </a:cubicBezTo>
                        <a:lnTo>
                          <a:pt x="0" y="252"/>
                        </a:lnTo>
                        <a:lnTo>
                          <a:pt x="0" y="252"/>
                        </a:lnTo>
                        <a:lnTo>
                          <a:pt x="0" y="2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2711400">
                    <a:off x="8407800" y="16038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747" h="395">
                        <a:moveTo>
                          <a:pt x="2" y="4"/>
                        </a:moveTo>
                        <a:cubicBezTo>
                          <a:pt x="35" y="0"/>
                          <a:pt x="123" y="12"/>
                          <a:pt x="204" y="28"/>
                        </a:cubicBezTo>
                        <a:cubicBezTo>
                          <a:pt x="286" y="44"/>
                          <a:pt x="409" y="67"/>
                          <a:pt x="488" y="98"/>
                        </a:cubicBezTo>
                        <a:cubicBezTo>
                          <a:pt x="568" y="129"/>
                          <a:pt x="638" y="180"/>
                          <a:pt x="680" y="216"/>
                        </a:cubicBezTo>
                        <a:cubicBezTo>
                          <a:pt x="722" y="249"/>
                          <a:pt x="736" y="275"/>
                          <a:pt x="741" y="304"/>
                        </a:cubicBezTo>
                        <a:cubicBezTo>
                          <a:pt x="747" y="334"/>
                          <a:pt x="725" y="390"/>
                          <a:pt x="713" y="393"/>
                        </a:cubicBezTo>
                        <a:cubicBezTo>
                          <a:pt x="701" y="395"/>
                          <a:pt x="692" y="343"/>
                          <a:pt x="671" y="315"/>
                        </a:cubicBezTo>
                        <a:cubicBezTo>
                          <a:pt x="650" y="287"/>
                          <a:pt x="620" y="255"/>
                          <a:pt x="586" y="226"/>
                        </a:cubicBezTo>
                        <a:cubicBezTo>
                          <a:pt x="553" y="199"/>
                          <a:pt x="525" y="172"/>
                          <a:pt x="468" y="148"/>
                        </a:cubicBezTo>
                        <a:cubicBezTo>
                          <a:pt x="411" y="122"/>
                          <a:pt x="323" y="93"/>
                          <a:pt x="245" y="75"/>
                        </a:cubicBezTo>
                        <a:cubicBezTo>
                          <a:pt x="167" y="57"/>
                          <a:pt x="40" y="48"/>
                          <a:pt x="0" y="37"/>
                        </a:cubicBez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845120" y="771480"/>
                  <a:ext cx="1265400" cy="1051920"/>
                  <a:chOff x="7845120" y="771480"/>
                  <a:chExt cx="1265400" cy="105192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rot="2103600">
                    <a:off x="7811640" y="1022400"/>
                    <a:ext cx="9302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4" h="280">
                        <a:moveTo>
                          <a:pt x="0" y="280"/>
                        </a:moveTo>
                        <a:cubicBezTo>
                          <a:pt x="11" y="271"/>
                          <a:pt x="303" y="137"/>
                          <a:pt x="462" y="93"/>
                        </a:cubicBezTo>
                        <a:cubicBezTo>
                          <a:pt x="620" y="48"/>
                          <a:pt x="783" y="26"/>
                          <a:pt x="950" y="11"/>
                        </a:cubicBezTo>
                        <a:cubicBezTo>
                          <a:pt x="1118" y="0"/>
                          <a:pt x="1381" y="6"/>
                          <a:pt x="1464" y="11"/>
                        </a:cubicBezTo>
                        <a:lnTo>
                          <a:pt x="1456" y="56"/>
                        </a:lnTo>
                        <a:cubicBezTo>
                          <a:pt x="1369" y="63"/>
                          <a:pt x="1128" y="37"/>
                          <a:pt x="944" y="56"/>
                        </a:cubicBezTo>
                        <a:cubicBezTo>
                          <a:pt x="646" y="75"/>
                          <a:pt x="533" y="105"/>
                          <a:pt x="349" y="161"/>
                        </a:cubicBezTo>
                        <a:cubicBezTo>
                          <a:pt x="190" y="198"/>
                          <a:pt x="71" y="255"/>
                          <a:pt x="0" y="280"/>
                        </a:cubicBezTo>
                        <a:lnTo>
                          <a:pt x="0" y="280"/>
                        </a:lnTo>
                        <a:lnTo>
                          <a:pt x="0" y="280"/>
                        </a:lnTo>
                        <a:lnTo>
                          <a:pt x="0" y="28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rot="2103600">
                    <a:off x="857556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440">
                        <a:moveTo>
                          <a:pt x="2" y="4"/>
                        </a:moveTo>
                        <a:cubicBezTo>
                          <a:pt x="37" y="0"/>
                          <a:pt x="130" y="13"/>
                          <a:pt x="215" y="30"/>
                        </a:cubicBezTo>
                        <a:cubicBezTo>
                          <a:pt x="301" y="48"/>
                          <a:pt x="431" y="75"/>
                          <a:pt x="514" y="111"/>
                        </a:cubicBezTo>
                        <a:cubicBezTo>
                          <a:pt x="598" y="146"/>
                          <a:pt x="672" y="202"/>
                          <a:pt x="717" y="240"/>
                        </a:cubicBezTo>
                        <a:cubicBezTo>
                          <a:pt x="761" y="278"/>
                          <a:pt x="775" y="306"/>
                          <a:pt x="781" y="338"/>
                        </a:cubicBezTo>
                        <a:cubicBezTo>
                          <a:pt x="787" y="371"/>
                          <a:pt x="764" y="435"/>
                          <a:pt x="751" y="438"/>
                        </a:cubicBezTo>
                        <a:cubicBezTo>
                          <a:pt x="739" y="440"/>
                          <a:pt x="729" y="382"/>
                          <a:pt x="707" y="351"/>
                        </a:cubicBezTo>
                        <a:cubicBezTo>
                          <a:pt x="684" y="321"/>
                          <a:pt x="653" y="283"/>
                          <a:pt x="618" y="252"/>
                        </a:cubicBezTo>
                        <a:cubicBezTo>
                          <a:pt x="582" y="221"/>
                          <a:pt x="553" y="192"/>
                          <a:pt x="493" y="164"/>
                        </a:cubicBezTo>
                        <a:cubicBezTo>
                          <a:pt x="433" y="136"/>
                          <a:pt x="340" y="105"/>
                          <a:pt x="258" y="82"/>
                        </a:cubicBezTo>
                        <a:cubicBezTo>
                          <a:pt x="176" y="64"/>
                          <a:pt x="42" y="53"/>
                          <a:pt x="0" y="42"/>
                        </a:cubicBez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839720" y="735840"/>
                  <a:ext cx="1289160" cy="829440"/>
                  <a:chOff x="7839720" y="735840"/>
                  <a:chExt cx="1289160" cy="8294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1582800">
                    <a:off x="7827840" y="925560"/>
                    <a:ext cx="8906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45">
                        <a:moveTo>
                          <a:pt x="0" y="244"/>
                        </a:moveTo>
                        <a:cubicBezTo>
                          <a:pt x="12" y="236"/>
                          <a:pt x="291" y="120"/>
                          <a:pt x="442" y="80"/>
                        </a:cubicBezTo>
                        <a:cubicBezTo>
                          <a:pt x="594" y="40"/>
                          <a:pt x="750" y="21"/>
                          <a:pt x="910" y="10"/>
                        </a:cubicBezTo>
                        <a:cubicBezTo>
                          <a:pt x="1070" y="0"/>
                          <a:pt x="1322" y="3"/>
                          <a:pt x="1402" y="10"/>
                        </a:cubicBezTo>
                        <a:lnTo>
                          <a:pt x="1394" y="48"/>
                        </a:lnTo>
                        <a:cubicBezTo>
                          <a:pt x="1311" y="55"/>
                          <a:pt x="1080" y="32"/>
                          <a:pt x="904" y="48"/>
                        </a:cubicBezTo>
                        <a:cubicBezTo>
                          <a:pt x="619" y="65"/>
                          <a:pt x="511" y="93"/>
                          <a:pt x="335" y="141"/>
                        </a:cubicBezTo>
                        <a:cubicBezTo>
                          <a:pt x="183" y="172"/>
                          <a:pt x="69" y="223"/>
                          <a:pt x="0" y="244"/>
                        </a:cubicBezTo>
                        <a:lnTo>
                          <a:pt x="0" y="244"/>
                        </a:lnTo>
                        <a:lnTo>
                          <a:pt x="0" y="244"/>
                        </a:lnTo>
                        <a:lnTo>
                          <a:pt x="0" y="24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1582800">
                    <a:off x="8621640" y="1227240"/>
                    <a:ext cx="47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2" h="385">
                        <a:moveTo>
                          <a:pt x="1" y="2"/>
                        </a:moveTo>
                        <a:cubicBezTo>
                          <a:pt x="35" y="0"/>
                          <a:pt x="123" y="10"/>
                          <a:pt x="205" y="27"/>
                        </a:cubicBezTo>
                        <a:cubicBezTo>
                          <a:pt x="287" y="42"/>
                          <a:pt x="411" y="66"/>
                          <a:pt x="491" y="97"/>
                        </a:cubicBezTo>
                        <a:cubicBezTo>
                          <a:pt x="571" y="127"/>
                          <a:pt x="642" y="176"/>
                          <a:pt x="684" y="210"/>
                        </a:cubicBezTo>
                        <a:cubicBezTo>
                          <a:pt x="727" y="243"/>
                          <a:pt x="740" y="267"/>
                          <a:pt x="746" y="296"/>
                        </a:cubicBezTo>
                        <a:cubicBezTo>
                          <a:pt x="752" y="324"/>
                          <a:pt x="729" y="380"/>
                          <a:pt x="717" y="382"/>
                        </a:cubicBezTo>
                        <a:cubicBezTo>
                          <a:pt x="706" y="385"/>
                          <a:pt x="696" y="334"/>
                          <a:pt x="675" y="307"/>
                        </a:cubicBezTo>
                        <a:cubicBezTo>
                          <a:pt x="654" y="280"/>
                          <a:pt x="624" y="247"/>
                          <a:pt x="590" y="220"/>
                        </a:cubicBezTo>
                        <a:cubicBezTo>
                          <a:pt x="556" y="193"/>
                          <a:pt x="528" y="168"/>
                          <a:pt x="471" y="142"/>
                        </a:cubicBezTo>
                        <a:cubicBezTo>
                          <a:pt x="413" y="119"/>
                          <a:pt x="325" y="90"/>
                          <a:pt x="246" y="73"/>
                        </a:cubicBezTo>
                        <a:cubicBezTo>
                          <a:pt x="167" y="54"/>
                          <a:pt x="39" y="47"/>
                          <a:pt x="0" y="36"/>
                        </a:cubicBez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838280" y="696960"/>
                  <a:ext cx="1302840" cy="669600"/>
                  <a:chOff x="7838280" y="696960"/>
                  <a:chExt cx="1302840" cy="6696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080000">
                    <a:off x="7843680" y="825480"/>
                    <a:ext cx="85896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2" h="270">
                        <a:moveTo>
                          <a:pt x="0" y="270"/>
                        </a:moveTo>
                        <a:cubicBezTo>
                          <a:pt x="10" y="261"/>
                          <a:pt x="280" y="131"/>
                          <a:pt x="426" y="88"/>
                        </a:cubicBezTo>
                        <a:cubicBezTo>
                          <a:pt x="573" y="45"/>
                          <a:pt x="723" y="23"/>
                          <a:pt x="878" y="10"/>
                        </a:cubicBezTo>
                        <a:cubicBezTo>
                          <a:pt x="1031" y="0"/>
                          <a:pt x="1275" y="3"/>
                          <a:pt x="1352" y="10"/>
                        </a:cubicBezTo>
                        <a:lnTo>
                          <a:pt x="1344" y="53"/>
                        </a:lnTo>
                        <a:cubicBezTo>
                          <a:pt x="1264" y="60"/>
                          <a:pt x="1041" y="36"/>
                          <a:pt x="872" y="53"/>
                        </a:cubicBezTo>
                        <a:cubicBezTo>
                          <a:pt x="597" y="71"/>
                          <a:pt x="493" y="101"/>
                          <a:pt x="322" y="155"/>
                        </a:cubicBezTo>
                        <a:cubicBezTo>
                          <a:pt x="176" y="189"/>
                          <a:pt x="66" y="246"/>
                          <a:pt x="0" y="270"/>
                        </a:cubicBezTo>
                        <a:lnTo>
                          <a:pt x="0" y="270"/>
                        </a:lnTo>
                        <a:lnTo>
                          <a:pt x="0" y="270"/>
                        </a:lnTo>
                        <a:lnTo>
                          <a:pt x="0" y="27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1080000">
                    <a:off x="8648640" y="1029960"/>
                    <a:ext cx="4618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427">
                        <a:moveTo>
                          <a:pt x="2" y="4"/>
                        </a:moveTo>
                        <a:cubicBezTo>
                          <a:pt x="34" y="0"/>
                          <a:pt x="120" y="12"/>
                          <a:pt x="199" y="30"/>
                        </a:cubicBezTo>
                        <a:cubicBezTo>
                          <a:pt x="278" y="47"/>
                          <a:pt x="398" y="73"/>
                          <a:pt x="476" y="107"/>
                        </a:cubicBezTo>
                        <a:cubicBezTo>
                          <a:pt x="553" y="141"/>
                          <a:pt x="621" y="196"/>
                          <a:pt x="662" y="233"/>
                        </a:cubicBezTo>
                        <a:cubicBezTo>
                          <a:pt x="704" y="270"/>
                          <a:pt x="717" y="297"/>
                          <a:pt x="722" y="328"/>
                        </a:cubicBezTo>
                        <a:cubicBezTo>
                          <a:pt x="727" y="361"/>
                          <a:pt x="706" y="423"/>
                          <a:pt x="695" y="425"/>
                        </a:cubicBezTo>
                        <a:cubicBezTo>
                          <a:pt x="683" y="427"/>
                          <a:pt x="674" y="371"/>
                          <a:pt x="653" y="342"/>
                        </a:cubicBezTo>
                        <a:cubicBezTo>
                          <a:pt x="633" y="311"/>
                          <a:pt x="604" y="275"/>
                          <a:pt x="571" y="245"/>
                        </a:cubicBezTo>
                        <a:cubicBezTo>
                          <a:pt x="538" y="215"/>
                          <a:pt x="511" y="187"/>
                          <a:pt x="456" y="159"/>
                        </a:cubicBezTo>
                        <a:cubicBezTo>
                          <a:pt x="400" y="132"/>
                          <a:pt x="315" y="101"/>
                          <a:pt x="239" y="81"/>
                        </a:cubicBezTo>
                        <a:cubicBezTo>
                          <a:pt x="162" y="61"/>
                          <a:pt x="39" y="53"/>
                          <a:pt x="0" y="40"/>
                        </a:cubicBez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852680" y="658800"/>
                  <a:ext cx="1223640" cy="417960"/>
                  <a:chOff x="7852680" y="658800"/>
                  <a:chExt cx="1223640" cy="41796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463200">
                    <a:off x="7859880" y="711360"/>
                    <a:ext cx="79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9" h="252">
                        <a:moveTo>
                          <a:pt x="0" y="252"/>
                        </a:moveTo>
                        <a:cubicBezTo>
                          <a:pt x="10" y="244"/>
                          <a:pt x="259" y="124"/>
                          <a:pt x="394" y="84"/>
                        </a:cubicBezTo>
                        <a:cubicBezTo>
                          <a:pt x="529" y="44"/>
                          <a:pt x="668" y="24"/>
                          <a:pt x="811" y="12"/>
                        </a:cubicBezTo>
                        <a:cubicBezTo>
                          <a:pt x="953" y="0"/>
                          <a:pt x="1177" y="5"/>
                          <a:pt x="1249" y="12"/>
                        </a:cubicBezTo>
                        <a:lnTo>
                          <a:pt x="1241" y="51"/>
                        </a:lnTo>
                        <a:cubicBezTo>
                          <a:pt x="1167" y="58"/>
                          <a:pt x="962" y="35"/>
                          <a:pt x="805" y="51"/>
                        </a:cubicBezTo>
                        <a:cubicBezTo>
                          <a:pt x="551" y="68"/>
                          <a:pt x="455" y="96"/>
                          <a:pt x="298" y="146"/>
                        </a:cubicBezTo>
                        <a:cubicBezTo>
                          <a:pt x="163" y="178"/>
                          <a:pt x="62" y="230"/>
                          <a:pt x="0" y="252"/>
                        </a:cubicBezTo>
                        <a:lnTo>
                          <a:pt x="0" y="252"/>
                        </a:lnTo>
                        <a:lnTo>
                          <a:pt x="0" y="252"/>
                        </a:lnTo>
                        <a:lnTo>
                          <a:pt x="0" y="2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463200">
                    <a:off x="8635680" y="79704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0" h="397">
                        <a:moveTo>
                          <a:pt x="0" y="4"/>
                        </a:moveTo>
                        <a:cubicBezTo>
                          <a:pt x="30" y="0"/>
                          <a:pt x="109" y="12"/>
                          <a:pt x="183" y="28"/>
                        </a:cubicBezTo>
                        <a:cubicBezTo>
                          <a:pt x="256" y="44"/>
                          <a:pt x="367" y="68"/>
                          <a:pt x="437" y="100"/>
                        </a:cubicBezTo>
                        <a:cubicBezTo>
                          <a:pt x="508" y="131"/>
                          <a:pt x="570" y="183"/>
                          <a:pt x="610" y="217"/>
                        </a:cubicBezTo>
                        <a:cubicBezTo>
                          <a:pt x="648" y="251"/>
                          <a:pt x="660" y="276"/>
                          <a:pt x="665" y="305"/>
                        </a:cubicBezTo>
                        <a:cubicBezTo>
                          <a:pt x="670" y="336"/>
                          <a:pt x="649" y="393"/>
                          <a:pt x="638" y="395"/>
                        </a:cubicBezTo>
                        <a:cubicBezTo>
                          <a:pt x="628" y="397"/>
                          <a:pt x="621" y="345"/>
                          <a:pt x="602" y="317"/>
                        </a:cubicBezTo>
                        <a:cubicBezTo>
                          <a:pt x="582" y="289"/>
                          <a:pt x="556" y="256"/>
                          <a:pt x="525" y="228"/>
                        </a:cubicBezTo>
                        <a:cubicBezTo>
                          <a:pt x="496" y="200"/>
                          <a:pt x="471" y="174"/>
                          <a:pt x="420" y="148"/>
                        </a:cubicBezTo>
                        <a:cubicBezTo>
                          <a:pt x="369" y="123"/>
                          <a:pt x="289" y="94"/>
                          <a:pt x="218" y="76"/>
                        </a:cubicBezTo>
                        <a:cubicBezTo>
                          <a:pt x="149" y="57"/>
                          <a:pt x="35" y="50"/>
                          <a:pt x="0" y="38"/>
                        </a:cubicBez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871040" y="633600"/>
                  <a:ext cx="1107000" cy="183960"/>
                  <a:chOff x="7871040" y="633600"/>
                  <a:chExt cx="1107000" cy="1839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rot="21515400">
                    <a:off x="7872120" y="647640"/>
                    <a:ext cx="72072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177">
                        <a:moveTo>
                          <a:pt x="0" y="177"/>
                        </a:moveTo>
                        <a:cubicBezTo>
                          <a:pt x="9" y="171"/>
                          <a:pt x="235" y="86"/>
                          <a:pt x="358" y="58"/>
                        </a:cubicBezTo>
                        <a:cubicBezTo>
                          <a:pt x="481" y="30"/>
                          <a:pt x="607" y="16"/>
                          <a:pt x="736" y="8"/>
                        </a:cubicBezTo>
                        <a:cubicBezTo>
                          <a:pt x="865" y="0"/>
                          <a:pt x="1069" y="3"/>
                          <a:pt x="1134" y="8"/>
                        </a:cubicBezTo>
                        <a:lnTo>
                          <a:pt x="1127" y="36"/>
                        </a:lnTo>
                        <a:cubicBezTo>
                          <a:pt x="1060" y="40"/>
                          <a:pt x="874" y="24"/>
                          <a:pt x="731" y="36"/>
                        </a:cubicBezTo>
                        <a:cubicBezTo>
                          <a:pt x="501" y="47"/>
                          <a:pt x="413" y="67"/>
                          <a:pt x="271" y="102"/>
                        </a:cubicBezTo>
                        <a:cubicBezTo>
                          <a:pt x="148" y="125"/>
                          <a:pt x="56" y="161"/>
                          <a:pt x="0" y="177"/>
                        </a:cubicBezTo>
                        <a:lnTo>
                          <a:pt x="0" y="177"/>
                        </a:lnTo>
                        <a:lnTo>
                          <a:pt x="0" y="177"/>
                        </a:lnTo>
                        <a:lnTo>
                          <a:pt x="0" y="17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21515400">
                    <a:off x="8589600" y="637920"/>
                    <a:ext cx="38592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7" h="274">
                        <a:moveTo>
                          <a:pt x="0" y="1"/>
                        </a:moveTo>
                        <a:cubicBezTo>
                          <a:pt x="28" y="0"/>
                          <a:pt x="99" y="7"/>
                          <a:pt x="166" y="18"/>
                        </a:cubicBezTo>
                        <a:cubicBezTo>
                          <a:pt x="232" y="29"/>
                          <a:pt x="332" y="46"/>
                          <a:pt x="397" y="68"/>
                        </a:cubicBezTo>
                        <a:cubicBezTo>
                          <a:pt x="461" y="90"/>
                          <a:pt x="518" y="126"/>
                          <a:pt x="552" y="149"/>
                        </a:cubicBezTo>
                        <a:cubicBezTo>
                          <a:pt x="587" y="173"/>
                          <a:pt x="598" y="191"/>
                          <a:pt x="602" y="211"/>
                        </a:cubicBezTo>
                        <a:cubicBezTo>
                          <a:pt x="607" y="232"/>
                          <a:pt x="589" y="272"/>
                          <a:pt x="579" y="273"/>
                        </a:cubicBezTo>
                        <a:cubicBezTo>
                          <a:pt x="570" y="274"/>
                          <a:pt x="562" y="238"/>
                          <a:pt x="545" y="219"/>
                        </a:cubicBezTo>
                        <a:cubicBezTo>
                          <a:pt x="528" y="200"/>
                          <a:pt x="503" y="177"/>
                          <a:pt x="476" y="157"/>
                        </a:cubicBezTo>
                        <a:cubicBezTo>
                          <a:pt x="448" y="137"/>
                          <a:pt x="426" y="119"/>
                          <a:pt x="380" y="102"/>
                        </a:cubicBezTo>
                        <a:cubicBezTo>
                          <a:pt x="334" y="84"/>
                          <a:pt x="262" y="65"/>
                          <a:pt x="199" y="52"/>
                        </a:cubicBezTo>
                        <a:cubicBezTo>
                          <a:pt x="135" y="39"/>
                          <a:pt x="32" y="33"/>
                          <a:pt x="0" y="25"/>
                        </a:cubicBez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845840" y="420480"/>
                  <a:ext cx="983520" cy="327600"/>
                  <a:chOff x="7845840" y="420480"/>
                  <a:chExt cx="983520" cy="3276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20797200">
                    <a:off x="7849800" y="5648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95" h="174">
                        <a:moveTo>
                          <a:pt x="0" y="174"/>
                        </a:moveTo>
                        <a:cubicBezTo>
                          <a:pt x="6" y="168"/>
                          <a:pt x="204" y="85"/>
                          <a:pt x="312" y="57"/>
                        </a:cubicBezTo>
                        <a:cubicBezTo>
                          <a:pt x="420" y="30"/>
                          <a:pt x="531" y="16"/>
                          <a:pt x="645" y="8"/>
                        </a:cubicBezTo>
                        <a:cubicBezTo>
                          <a:pt x="758" y="0"/>
                          <a:pt x="937" y="3"/>
                          <a:pt x="995" y="8"/>
                        </a:cubicBezTo>
                        <a:lnTo>
                          <a:pt x="988" y="35"/>
                        </a:lnTo>
                        <a:cubicBezTo>
                          <a:pt x="929" y="39"/>
                          <a:pt x="765" y="24"/>
                          <a:pt x="640" y="35"/>
                        </a:cubicBezTo>
                        <a:cubicBezTo>
                          <a:pt x="438" y="46"/>
                          <a:pt x="361" y="66"/>
                          <a:pt x="236" y="101"/>
                        </a:cubicBezTo>
                        <a:cubicBezTo>
                          <a:pt x="128" y="123"/>
                          <a:pt x="47" y="159"/>
                          <a:pt x="0" y="174"/>
                        </a:cubicBezTo>
                        <a:lnTo>
                          <a:pt x="0" y="174"/>
                        </a:lnTo>
                        <a:lnTo>
                          <a:pt x="0" y="174"/>
                        </a:lnTo>
                        <a:lnTo>
                          <a:pt x="0" y="17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20797200">
                    <a:off x="8473680" y="45720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5" h="272">
                        <a:moveTo>
                          <a:pt x="0" y="2"/>
                        </a:moveTo>
                        <a:cubicBezTo>
                          <a:pt x="24" y="0"/>
                          <a:pt x="88" y="8"/>
                          <a:pt x="144" y="19"/>
                        </a:cubicBezTo>
                        <a:cubicBezTo>
                          <a:pt x="204" y="30"/>
                          <a:pt x="292" y="47"/>
                          <a:pt x="349" y="68"/>
                        </a:cubicBezTo>
                        <a:cubicBezTo>
                          <a:pt x="404" y="90"/>
                          <a:pt x="457" y="125"/>
                          <a:pt x="487" y="148"/>
                        </a:cubicBezTo>
                        <a:cubicBezTo>
                          <a:pt x="517" y="172"/>
                          <a:pt x="527" y="189"/>
                          <a:pt x="531" y="209"/>
                        </a:cubicBezTo>
                        <a:cubicBezTo>
                          <a:pt x="535" y="230"/>
                          <a:pt x="518" y="269"/>
                          <a:pt x="510" y="271"/>
                        </a:cubicBezTo>
                        <a:cubicBezTo>
                          <a:pt x="502" y="272"/>
                          <a:pt x="495" y="236"/>
                          <a:pt x="480" y="217"/>
                        </a:cubicBezTo>
                        <a:cubicBezTo>
                          <a:pt x="464" y="198"/>
                          <a:pt x="444" y="175"/>
                          <a:pt x="420" y="156"/>
                        </a:cubicBezTo>
                        <a:cubicBezTo>
                          <a:pt x="395" y="137"/>
                          <a:pt x="376" y="119"/>
                          <a:pt x="335" y="101"/>
                        </a:cubicBezTo>
                        <a:cubicBezTo>
                          <a:pt x="294" y="84"/>
                          <a:pt x="231" y="65"/>
                          <a:pt x="175" y="52"/>
                        </a:cubicBezTo>
                        <a:cubicBezTo>
                          <a:pt x="119" y="39"/>
                          <a:pt x="28" y="34"/>
                          <a:pt x="0" y="26"/>
                        </a:cubicBez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6541200" y="906120"/>
                  <a:ext cx="1060560" cy="1144440"/>
                  <a:chOff x="6541200" y="906120"/>
                  <a:chExt cx="1060560" cy="11444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H="1" rot="18888600">
                    <a:off x="6789960" y="1196640"/>
                    <a:ext cx="8859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5" h="250">
                        <a:moveTo>
                          <a:pt x="0" y="249"/>
                        </a:moveTo>
                        <a:cubicBezTo>
                          <a:pt x="11" y="241"/>
                          <a:pt x="289" y="122"/>
                          <a:pt x="440" y="82"/>
                        </a:cubicBezTo>
                        <a:cubicBezTo>
                          <a:pt x="589" y="42"/>
                          <a:pt x="745" y="22"/>
                          <a:pt x="905" y="10"/>
                        </a:cubicBezTo>
                        <a:cubicBezTo>
                          <a:pt x="1064" y="0"/>
                          <a:pt x="1313" y="3"/>
                          <a:pt x="1395" y="10"/>
                        </a:cubicBezTo>
                        <a:lnTo>
                          <a:pt x="1385" y="49"/>
                        </a:lnTo>
                        <a:cubicBezTo>
                          <a:pt x="1303" y="56"/>
                          <a:pt x="1073" y="33"/>
                          <a:pt x="899" y="49"/>
                        </a:cubicBezTo>
                        <a:cubicBezTo>
                          <a:pt x="614" y="67"/>
                          <a:pt x="508" y="94"/>
                          <a:pt x="333" y="143"/>
                        </a:cubicBezTo>
                        <a:cubicBezTo>
                          <a:pt x="181" y="175"/>
                          <a:pt x="69" y="227"/>
                          <a:pt x="0" y="249"/>
                        </a:cubicBezTo>
                        <a:lnTo>
                          <a:pt x="0" y="249"/>
                        </a:lnTo>
                        <a:lnTo>
                          <a:pt x="0" y="249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rot="18888600">
                    <a:off x="6560280" y="166716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47" h="395">
                        <a:moveTo>
                          <a:pt x="2" y="3"/>
                        </a:moveTo>
                        <a:cubicBezTo>
                          <a:pt x="35" y="0"/>
                          <a:pt x="123" y="11"/>
                          <a:pt x="204" y="27"/>
                        </a:cubicBezTo>
                        <a:cubicBezTo>
                          <a:pt x="286" y="43"/>
                          <a:pt x="409" y="67"/>
                          <a:pt x="489" y="98"/>
                        </a:cubicBezTo>
                        <a:cubicBezTo>
                          <a:pt x="568" y="129"/>
                          <a:pt x="638" y="180"/>
                          <a:pt x="680" y="215"/>
                        </a:cubicBezTo>
                        <a:cubicBezTo>
                          <a:pt x="723" y="248"/>
                          <a:pt x="736" y="274"/>
                          <a:pt x="742" y="302"/>
                        </a:cubicBezTo>
                        <a:cubicBezTo>
                          <a:pt x="747" y="333"/>
                          <a:pt x="725" y="390"/>
                          <a:pt x="713" y="393"/>
                        </a:cubicBezTo>
                        <a:cubicBezTo>
                          <a:pt x="702" y="395"/>
                          <a:pt x="692" y="343"/>
                          <a:pt x="671" y="315"/>
                        </a:cubicBezTo>
                        <a:cubicBezTo>
                          <a:pt x="650" y="287"/>
                          <a:pt x="620" y="254"/>
                          <a:pt x="587" y="225"/>
                        </a:cubicBezTo>
                        <a:cubicBezTo>
                          <a:pt x="553" y="198"/>
                          <a:pt x="525" y="172"/>
                          <a:pt x="468" y="147"/>
                        </a:cubicBezTo>
                        <a:cubicBezTo>
                          <a:pt x="411" y="122"/>
                          <a:pt x="323" y="93"/>
                          <a:pt x="245" y="75"/>
                        </a:cubicBezTo>
                        <a:cubicBezTo>
                          <a:pt x="167" y="56"/>
                          <a:pt x="40" y="48"/>
                          <a:pt x="0" y="37"/>
                        </a:cubicBez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6303600" y="861480"/>
                  <a:ext cx="1267200" cy="1052280"/>
                  <a:chOff x="6303600" y="861480"/>
                  <a:chExt cx="1267200" cy="105228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flipH="1" rot="19496400">
                    <a:off x="6671880" y="11127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7" h="280">
                        <a:moveTo>
                          <a:pt x="0" y="280"/>
                        </a:moveTo>
                        <a:cubicBezTo>
                          <a:pt x="12" y="271"/>
                          <a:pt x="304" y="137"/>
                          <a:pt x="463" y="93"/>
                        </a:cubicBezTo>
                        <a:cubicBezTo>
                          <a:pt x="621" y="48"/>
                          <a:pt x="784" y="26"/>
                          <a:pt x="951" y="13"/>
                        </a:cubicBezTo>
                        <a:cubicBezTo>
                          <a:pt x="1120" y="0"/>
                          <a:pt x="1383" y="6"/>
                          <a:pt x="1467" y="13"/>
                        </a:cubicBezTo>
                        <a:lnTo>
                          <a:pt x="1458" y="56"/>
                        </a:lnTo>
                        <a:cubicBezTo>
                          <a:pt x="1371" y="63"/>
                          <a:pt x="1130" y="39"/>
                          <a:pt x="945" y="56"/>
                        </a:cubicBezTo>
                        <a:cubicBezTo>
                          <a:pt x="647" y="75"/>
                          <a:pt x="534" y="106"/>
                          <a:pt x="350" y="162"/>
                        </a:cubicBezTo>
                        <a:cubicBezTo>
                          <a:pt x="191" y="198"/>
                          <a:pt x="72" y="255"/>
                          <a:pt x="0" y="280"/>
                        </a:cubicBezTo>
                        <a:lnTo>
                          <a:pt x="0" y="280"/>
                        </a:lnTo>
                        <a:lnTo>
                          <a:pt x="0" y="280"/>
                        </a:lnTo>
                        <a:lnTo>
                          <a:pt x="0" y="28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rot="19496400">
                    <a:off x="6338160" y="151596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440">
                        <a:moveTo>
                          <a:pt x="2" y="4"/>
                        </a:moveTo>
                        <a:cubicBezTo>
                          <a:pt x="37" y="0"/>
                          <a:pt x="130" y="13"/>
                          <a:pt x="215" y="30"/>
                        </a:cubicBezTo>
                        <a:cubicBezTo>
                          <a:pt x="301" y="46"/>
                          <a:pt x="431" y="75"/>
                          <a:pt x="514" y="111"/>
                        </a:cubicBezTo>
                        <a:cubicBezTo>
                          <a:pt x="598" y="146"/>
                          <a:pt x="672" y="202"/>
                          <a:pt x="717" y="239"/>
                        </a:cubicBezTo>
                        <a:cubicBezTo>
                          <a:pt x="761" y="277"/>
                          <a:pt x="775" y="306"/>
                          <a:pt x="781" y="337"/>
                        </a:cubicBezTo>
                        <a:cubicBezTo>
                          <a:pt x="787" y="371"/>
                          <a:pt x="764" y="434"/>
                          <a:pt x="751" y="438"/>
                        </a:cubicBezTo>
                        <a:cubicBezTo>
                          <a:pt x="739" y="440"/>
                          <a:pt x="729" y="382"/>
                          <a:pt x="707" y="351"/>
                        </a:cubicBezTo>
                        <a:cubicBezTo>
                          <a:pt x="684" y="321"/>
                          <a:pt x="653" y="283"/>
                          <a:pt x="618" y="252"/>
                        </a:cubicBezTo>
                        <a:cubicBezTo>
                          <a:pt x="582" y="221"/>
                          <a:pt x="553" y="192"/>
                          <a:pt x="493" y="164"/>
                        </a:cubicBezTo>
                        <a:cubicBezTo>
                          <a:pt x="433" y="135"/>
                          <a:pt x="340" y="105"/>
                          <a:pt x="258" y="82"/>
                        </a:cubicBezTo>
                        <a:cubicBezTo>
                          <a:pt x="176" y="64"/>
                          <a:pt x="42" y="53"/>
                          <a:pt x="0" y="42"/>
                        </a:cubicBez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6285240" y="828000"/>
                  <a:ext cx="1289520" cy="829080"/>
                  <a:chOff x="6285240" y="828000"/>
                  <a:chExt cx="1289520" cy="8290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rot="20017200">
                    <a:off x="6696000" y="1017720"/>
                    <a:ext cx="8906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245">
                        <a:moveTo>
                          <a:pt x="0" y="245"/>
                        </a:moveTo>
                        <a:cubicBezTo>
                          <a:pt x="12" y="237"/>
                          <a:pt x="291" y="120"/>
                          <a:pt x="442" y="81"/>
                        </a:cubicBezTo>
                        <a:cubicBezTo>
                          <a:pt x="594" y="41"/>
                          <a:pt x="750" y="22"/>
                          <a:pt x="910" y="11"/>
                        </a:cubicBezTo>
                        <a:cubicBezTo>
                          <a:pt x="1070" y="0"/>
                          <a:pt x="1322" y="3"/>
                          <a:pt x="1402" y="11"/>
                        </a:cubicBezTo>
                        <a:lnTo>
                          <a:pt x="1394" y="48"/>
                        </a:lnTo>
                        <a:cubicBezTo>
                          <a:pt x="1311" y="56"/>
                          <a:pt x="1080" y="33"/>
                          <a:pt x="904" y="48"/>
                        </a:cubicBezTo>
                        <a:cubicBezTo>
                          <a:pt x="619" y="66"/>
                          <a:pt x="511" y="93"/>
                          <a:pt x="335" y="141"/>
                        </a:cubicBezTo>
                        <a:cubicBezTo>
                          <a:pt x="183" y="173"/>
                          <a:pt x="69" y="224"/>
                          <a:pt x="0" y="245"/>
                        </a:cubicBezTo>
                        <a:lnTo>
                          <a:pt x="0" y="245"/>
                        </a:lnTo>
                        <a:lnTo>
                          <a:pt x="0" y="245"/>
                        </a:lnTo>
                        <a:lnTo>
                          <a:pt x="0" y="24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rot="20017200">
                    <a:off x="6314040" y="1319040"/>
                    <a:ext cx="47952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755" h="384">
                        <a:moveTo>
                          <a:pt x="2" y="3"/>
                        </a:moveTo>
                        <a:cubicBezTo>
                          <a:pt x="36" y="0"/>
                          <a:pt x="124" y="11"/>
                          <a:pt x="205" y="27"/>
                        </a:cubicBezTo>
                        <a:cubicBezTo>
                          <a:pt x="288" y="42"/>
                          <a:pt x="413" y="66"/>
                          <a:pt x="493" y="97"/>
                        </a:cubicBezTo>
                        <a:cubicBezTo>
                          <a:pt x="573" y="127"/>
                          <a:pt x="644" y="176"/>
                          <a:pt x="686" y="210"/>
                        </a:cubicBezTo>
                        <a:cubicBezTo>
                          <a:pt x="729" y="243"/>
                          <a:pt x="742" y="267"/>
                          <a:pt x="748" y="296"/>
                        </a:cubicBezTo>
                        <a:cubicBezTo>
                          <a:pt x="755" y="324"/>
                          <a:pt x="731" y="380"/>
                          <a:pt x="719" y="382"/>
                        </a:cubicBezTo>
                        <a:cubicBezTo>
                          <a:pt x="708" y="384"/>
                          <a:pt x="698" y="334"/>
                          <a:pt x="677" y="307"/>
                        </a:cubicBezTo>
                        <a:cubicBezTo>
                          <a:pt x="656" y="280"/>
                          <a:pt x="626" y="247"/>
                          <a:pt x="592" y="220"/>
                        </a:cubicBezTo>
                        <a:cubicBezTo>
                          <a:pt x="558" y="193"/>
                          <a:pt x="530" y="168"/>
                          <a:pt x="473" y="143"/>
                        </a:cubicBezTo>
                        <a:cubicBezTo>
                          <a:pt x="415" y="119"/>
                          <a:pt x="325" y="91"/>
                          <a:pt x="247" y="73"/>
                        </a:cubicBezTo>
                        <a:cubicBezTo>
                          <a:pt x="168" y="55"/>
                          <a:pt x="40" y="48"/>
                          <a:pt x="0" y="36"/>
                        </a:cubicBez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6273360" y="787320"/>
                  <a:ext cx="1304280" cy="669960"/>
                  <a:chOff x="6273360" y="787320"/>
                  <a:chExt cx="1304280" cy="6699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rot="20520000">
                    <a:off x="671184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5" h="269">
                        <a:moveTo>
                          <a:pt x="0" y="270"/>
                        </a:moveTo>
                        <a:cubicBezTo>
                          <a:pt x="10" y="260"/>
                          <a:pt x="280" y="131"/>
                          <a:pt x="426" y="90"/>
                        </a:cubicBezTo>
                        <a:cubicBezTo>
                          <a:pt x="574" y="46"/>
                          <a:pt x="723" y="24"/>
                          <a:pt x="878" y="10"/>
                        </a:cubicBezTo>
                        <a:cubicBezTo>
                          <a:pt x="1032" y="0"/>
                          <a:pt x="1276" y="3"/>
                          <a:pt x="1355" y="10"/>
                        </a:cubicBezTo>
                        <a:lnTo>
                          <a:pt x="1345" y="54"/>
                        </a:lnTo>
                        <a:cubicBezTo>
                          <a:pt x="1265" y="61"/>
                          <a:pt x="1043" y="36"/>
                          <a:pt x="872" y="54"/>
                        </a:cubicBezTo>
                        <a:cubicBezTo>
                          <a:pt x="598" y="70"/>
                          <a:pt x="493" y="101"/>
                          <a:pt x="322" y="155"/>
                        </a:cubicBezTo>
                        <a:cubicBezTo>
                          <a:pt x="176" y="190"/>
                          <a:pt x="66" y="245"/>
                          <a:pt x="0" y="270"/>
                        </a:cubicBezTo>
                        <a:lnTo>
                          <a:pt x="0" y="270"/>
                        </a:lnTo>
                        <a:lnTo>
                          <a:pt x="0" y="270"/>
                        </a:lnTo>
                        <a:lnTo>
                          <a:pt x="0" y="27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rot="20520000">
                    <a:off x="6303600" y="11221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727" h="424">
                        <a:moveTo>
                          <a:pt x="2" y="4"/>
                        </a:moveTo>
                        <a:cubicBezTo>
                          <a:pt x="34" y="0"/>
                          <a:pt x="120" y="12"/>
                          <a:pt x="199" y="30"/>
                        </a:cubicBezTo>
                        <a:cubicBezTo>
                          <a:pt x="278" y="47"/>
                          <a:pt x="398" y="73"/>
                          <a:pt x="476" y="107"/>
                        </a:cubicBezTo>
                        <a:cubicBezTo>
                          <a:pt x="553" y="141"/>
                          <a:pt x="621" y="195"/>
                          <a:pt x="662" y="231"/>
                        </a:cubicBezTo>
                        <a:cubicBezTo>
                          <a:pt x="704" y="268"/>
                          <a:pt x="717" y="295"/>
                          <a:pt x="722" y="326"/>
                        </a:cubicBezTo>
                        <a:cubicBezTo>
                          <a:pt x="727" y="358"/>
                          <a:pt x="706" y="420"/>
                          <a:pt x="695" y="422"/>
                        </a:cubicBezTo>
                        <a:cubicBezTo>
                          <a:pt x="683" y="424"/>
                          <a:pt x="674" y="368"/>
                          <a:pt x="653" y="339"/>
                        </a:cubicBezTo>
                        <a:cubicBezTo>
                          <a:pt x="633" y="309"/>
                          <a:pt x="604" y="273"/>
                          <a:pt x="571" y="243"/>
                        </a:cubicBezTo>
                        <a:cubicBezTo>
                          <a:pt x="538" y="213"/>
                          <a:pt x="511" y="185"/>
                          <a:pt x="456" y="158"/>
                        </a:cubicBezTo>
                        <a:cubicBezTo>
                          <a:pt x="400" y="132"/>
                          <a:pt x="315" y="101"/>
                          <a:pt x="239" y="81"/>
                        </a:cubicBezTo>
                        <a:cubicBezTo>
                          <a:pt x="162" y="61"/>
                          <a:pt x="39" y="53"/>
                          <a:pt x="0" y="40"/>
                        </a:cubicBez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6338520" y="749160"/>
                  <a:ext cx="1223640" cy="416520"/>
                  <a:chOff x="6338520" y="749160"/>
                  <a:chExt cx="1223640" cy="4165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21136800">
                    <a:off x="6762960" y="80136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47" h="252">
                        <a:moveTo>
                          <a:pt x="0" y="252"/>
                        </a:moveTo>
                        <a:cubicBezTo>
                          <a:pt x="9" y="244"/>
                          <a:pt x="258" y="123"/>
                          <a:pt x="393" y="83"/>
                        </a:cubicBezTo>
                        <a:cubicBezTo>
                          <a:pt x="528" y="43"/>
                          <a:pt x="666" y="23"/>
                          <a:pt x="809" y="11"/>
                        </a:cubicBezTo>
                        <a:cubicBezTo>
                          <a:pt x="951" y="0"/>
                          <a:pt x="1175" y="5"/>
                          <a:pt x="1247" y="11"/>
                        </a:cubicBezTo>
                        <a:lnTo>
                          <a:pt x="1239" y="51"/>
                        </a:lnTo>
                        <a:cubicBezTo>
                          <a:pt x="1165" y="57"/>
                          <a:pt x="960" y="35"/>
                          <a:pt x="803" y="51"/>
                        </a:cubicBezTo>
                        <a:cubicBezTo>
                          <a:pt x="550" y="67"/>
                          <a:pt x="454" y="95"/>
                          <a:pt x="297" y="145"/>
                        </a:cubicBezTo>
                        <a:cubicBezTo>
                          <a:pt x="162" y="178"/>
                          <a:pt x="61" y="230"/>
                          <a:pt x="0" y="252"/>
                        </a:cubicBezTo>
                        <a:lnTo>
                          <a:pt x="0" y="252"/>
                        </a:lnTo>
                        <a:lnTo>
                          <a:pt x="0" y="252"/>
                        </a:lnTo>
                        <a:lnTo>
                          <a:pt x="0" y="2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21136800">
                    <a:off x="6353280" y="888840"/>
                    <a:ext cx="4269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392">
                        <a:moveTo>
                          <a:pt x="1" y="2"/>
                        </a:moveTo>
                        <a:cubicBezTo>
                          <a:pt x="32" y="0"/>
                          <a:pt x="111" y="10"/>
                          <a:pt x="183" y="26"/>
                        </a:cubicBezTo>
                        <a:cubicBezTo>
                          <a:pt x="256" y="42"/>
                          <a:pt x="368" y="67"/>
                          <a:pt x="439" y="98"/>
                        </a:cubicBezTo>
                        <a:cubicBezTo>
                          <a:pt x="510" y="130"/>
                          <a:pt x="574" y="180"/>
                          <a:pt x="612" y="214"/>
                        </a:cubicBezTo>
                        <a:cubicBezTo>
                          <a:pt x="650" y="248"/>
                          <a:pt x="662" y="272"/>
                          <a:pt x="667" y="301"/>
                        </a:cubicBezTo>
                        <a:cubicBezTo>
                          <a:pt x="672" y="331"/>
                          <a:pt x="652" y="388"/>
                          <a:pt x="642" y="390"/>
                        </a:cubicBezTo>
                        <a:cubicBezTo>
                          <a:pt x="631" y="392"/>
                          <a:pt x="623" y="340"/>
                          <a:pt x="604" y="313"/>
                        </a:cubicBezTo>
                        <a:cubicBezTo>
                          <a:pt x="585" y="285"/>
                          <a:pt x="558" y="253"/>
                          <a:pt x="527" y="225"/>
                        </a:cubicBezTo>
                        <a:cubicBezTo>
                          <a:pt x="497" y="197"/>
                          <a:pt x="472" y="171"/>
                          <a:pt x="421" y="146"/>
                        </a:cubicBezTo>
                        <a:cubicBezTo>
                          <a:pt x="370" y="121"/>
                          <a:pt x="291" y="93"/>
                          <a:pt x="220" y="74"/>
                        </a:cubicBezTo>
                        <a:cubicBezTo>
                          <a:pt x="150" y="56"/>
                          <a:pt x="36" y="48"/>
                          <a:pt x="0" y="36"/>
                        </a:cubicBez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6436800" y="722520"/>
                  <a:ext cx="1106640" cy="185040"/>
                  <a:chOff x="6436800" y="722520"/>
                  <a:chExt cx="1106640" cy="1850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rot="84600">
                    <a:off x="6820920" y="738360"/>
                    <a:ext cx="7207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175">
                        <a:moveTo>
                          <a:pt x="0" y="175"/>
                        </a:moveTo>
                        <a:cubicBezTo>
                          <a:pt x="9" y="169"/>
                          <a:pt x="235" y="85"/>
                          <a:pt x="358" y="56"/>
                        </a:cubicBezTo>
                        <a:cubicBezTo>
                          <a:pt x="481" y="29"/>
                          <a:pt x="607" y="15"/>
                          <a:pt x="736" y="7"/>
                        </a:cubicBezTo>
                        <a:cubicBezTo>
                          <a:pt x="865" y="0"/>
                          <a:pt x="1069" y="2"/>
                          <a:pt x="1135" y="7"/>
                        </a:cubicBezTo>
                        <a:lnTo>
                          <a:pt x="1127" y="34"/>
                        </a:lnTo>
                        <a:cubicBezTo>
                          <a:pt x="1060" y="38"/>
                          <a:pt x="874" y="22"/>
                          <a:pt x="731" y="34"/>
                        </a:cubicBezTo>
                        <a:cubicBezTo>
                          <a:pt x="501" y="45"/>
                          <a:pt x="413" y="66"/>
                          <a:pt x="271" y="101"/>
                        </a:cubicBezTo>
                        <a:cubicBezTo>
                          <a:pt x="148" y="123"/>
                          <a:pt x="56" y="159"/>
                          <a:pt x="0" y="175"/>
                        </a:cubicBezTo>
                        <a:lnTo>
                          <a:pt x="0" y="175"/>
                        </a:lnTo>
                        <a:lnTo>
                          <a:pt x="0" y="175"/>
                        </a:lnTo>
                        <a:lnTo>
                          <a:pt x="0" y="17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84600">
                    <a:off x="6438600" y="726840"/>
                    <a:ext cx="38736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0" h="277">
                        <a:moveTo>
                          <a:pt x="0" y="2"/>
                        </a:moveTo>
                        <a:cubicBezTo>
                          <a:pt x="28" y="0"/>
                          <a:pt x="99" y="8"/>
                          <a:pt x="166" y="19"/>
                        </a:cubicBezTo>
                        <a:cubicBezTo>
                          <a:pt x="232" y="30"/>
                          <a:pt x="332" y="47"/>
                          <a:pt x="397" y="69"/>
                        </a:cubicBezTo>
                        <a:cubicBezTo>
                          <a:pt x="462" y="91"/>
                          <a:pt x="519" y="127"/>
                          <a:pt x="553" y="150"/>
                        </a:cubicBezTo>
                        <a:cubicBezTo>
                          <a:pt x="588" y="174"/>
                          <a:pt x="599" y="193"/>
                          <a:pt x="603" y="213"/>
                        </a:cubicBezTo>
                        <a:cubicBezTo>
                          <a:pt x="609" y="234"/>
                          <a:pt x="590" y="274"/>
                          <a:pt x="580" y="275"/>
                        </a:cubicBezTo>
                        <a:cubicBezTo>
                          <a:pt x="571" y="277"/>
                          <a:pt x="563" y="240"/>
                          <a:pt x="546" y="221"/>
                        </a:cubicBezTo>
                        <a:cubicBezTo>
                          <a:pt x="529" y="202"/>
                          <a:pt x="504" y="178"/>
                          <a:pt x="477" y="158"/>
                        </a:cubicBezTo>
                        <a:cubicBezTo>
                          <a:pt x="449" y="138"/>
                          <a:pt x="427" y="120"/>
                          <a:pt x="380" y="103"/>
                        </a:cubicBezTo>
                        <a:cubicBezTo>
                          <a:pt x="334" y="85"/>
                          <a:pt x="263" y="66"/>
                          <a:pt x="199" y="53"/>
                        </a:cubicBezTo>
                        <a:cubicBezTo>
                          <a:pt x="135" y="40"/>
                          <a:pt x="32" y="34"/>
                          <a:pt x="0" y="26"/>
                        </a:cubicBez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6585840" y="511200"/>
                  <a:ext cx="984600" cy="326160"/>
                  <a:chOff x="6585840" y="511200"/>
                  <a:chExt cx="984600" cy="32616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802800">
                    <a:off x="6932880" y="65592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7" h="172">
                        <a:moveTo>
                          <a:pt x="0" y="172"/>
                        </a:moveTo>
                        <a:cubicBezTo>
                          <a:pt x="8" y="166"/>
                          <a:pt x="206" y="84"/>
                          <a:pt x="314" y="56"/>
                        </a:cubicBezTo>
                        <a:cubicBezTo>
                          <a:pt x="422" y="29"/>
                          <a:pt x="533" y="15"/>
                          <a:pt x="647" y="7"/>
                        </a:cubicBezTo>
                        <a:cubicBezTo>
                          <a:pt x="761" y="0"/>
                          <a:pt x="940" y="2"/>
                          <a:pt x="997" y="7"/>
                        </a:cubicBezTo>
                        <a:lnTo>
                          <a:pt x="991" y="34"/>
                        </a:lnTo>
                        <a:cubicBezTo>
                          <a:pt x="932" y="38"/>
                          <a:pt x="768" y="23"/>
                          <a:pt x="642" y="34"/>
                        </a:cubicBezTo>
                        <a:cubicBezTo>
                          <a:pt x="440" y="45"/>
                          <a:pt x="363" y="65"/>
                          <a:pt x="238" y="99"/>
                        </a:cubicBezTo>
                        <a:cubicBezTo>
                          <a:pt x="130" y="121"/>
                          <a:pt x="49" y="157"/>
                          <a:pt x="0" y="172"/>
                        </a:cubicBezTo>
                        <a:lnTo>
                          <a:pt x="0" y="172"/>
                        </a:lnTo>
                        <a:lnTo>
                          <a:pt x="0" y="172"/>
                        </a:lnTo>
                        <a:lnTo>
                          <a:pt x="0" y="17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802800">
                    <a:off x="6600600" y="54792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5" h="272">
                        <a:moveTo>
                          <a:pt x="0" y="2"/>
                        </a:moveTo>
                        <a:cubicBezTo>
                          <a:pt x="24" y="0"/>
                          <a:pt x="87" y="8"/>
                          <a:pt x="144" y="19"/>
                        </a:cubicBezTo>
                        <a:cubicBezTo>
                          <a:pt x="204" y="30"/>
                          <a:pt x="291" y="47"/>
                          <a:pt x="349" y="68"/>
                        </a:cubicBezTo>
                        <a:cubicBezTo>
                          <a:pt x="404" y="90"/>
                          <a:pt x="456" y="125"/>
                          <a:pt x="486" y="148"/>
                        </a:cubicBezTo>
                        <a:cubicBezTo>
                          <a:pt x="516" y="172"/>
                          <a:pt x="527" y="189"/>
                          <a:pt x="530" y="209"/>
                        </a:cubicBezTo>
                        <a:cubicBezTo>
                          <a:pt x="534" y="230"/>
                          <a:pt x="517" y="269"/>
                          <a:pt x="509" y="271"/>
                        </a:cubicBezTo>
                        <a:cubicBezTo>
                          <a:pt x="502" y="272"/>
                          <a:pt x="494" y="236"/>
                          <a:pt x="480" y="217"/>
                        </a:cubicBezTo>
                        <a:cubicBezTo>
                          <a:pt x="464" y="198"/>
                          <a:pt x="444" y="175"/>
                          <a:pt x="420" y="156"/>
                        </a:cubicBezTo>
                        <a:cubicBezTo>
                          <a:pt x="394" y="137"/>
                          <a:pt x="375" y="119"/>
                          <a:pt x="334" y="101"/>
                        </a:cubicBezTo>
                        <a:cubicBezTo>
                          <a:pt x="293" y="84"/>
                          <a:pt x="230" y="65"/>
                          <a:pt x="174" y="52"/>
                        </a:cubicBezTo>
                        <a:cubicBezTo>
                          <a:pt x="119" y="39"/>
                          <a:pt x="27" y="34"/>
                          <a:pt x="0" y="26"/>
                        </a:cubicBez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637680" y="390240"/>
                  <a:ext cx="967680" cy="452520"/>
                  <a:chOff x="6637680" y="390240"/>
                  <a:chExt cx="967680" cy="45252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278000">
                    <a:off x="6974640" y="62028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95" h="174">
                        <a:moveTo>
                          <a:pt x="0" y="174"/>
                        </a:moveTo>
                        <a:cubicBezTo>
                          <a:pt x="7" y="168"/>
                          <a:pt x="204" y="85"/>
                          <a:pt x="314" y="58"/>
                        </a:cubicBezTo>
                        <a:cubicBezTo>
                          <a:pt x="422" y="30"/>
                          <a:pt x="532" y="16"/>
                          <a:pt x="645" y="8"/>
                        </a:cubicBezTo>
                        <a:cubicBezTo>
                          <a:pt x="758" y="0"/>
                          <a:pt x="938" y="3"/>
                          <a:pt x="995" y="8"/>
                        </a:cubicBezTo>
                        <a:lnTo>
                          <a:pt x="990" y="35"/>
                        </a:lnTo>
                        <a:cubicBezTo>
                          <a:pt x="931" y="40"/>
                          <a:pt x="765" y="24"/>
                          <a:pt x="641" y="35"/>
                        </a:cubicBezTo>
                        <a:cubicBezTo>
                          <a:pt x="440" y="47"/>
                          <a:pt x="363" y="66"/>
                          <a:pt x="236" y="101"/>
                        </a:cubicBezTo>
                        <a:cubicBezTo>
                          <a:pt x="130" y="123"/>
                          <a:pt x="49" y="159"/>
                          <a:pt x="0" y="174"/>
                        </a:cubicBezTo>
                        <a:lnTo>
                          <a:pt x="0" y="174"/>
                        </a:lnTo>
                        <a:lnTo>
                          <a:pt x="0" y="174"/>
                        </a:lnTo>
                        <a:lnTo>
                          <a:pt x="0" y="17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278000">
                    <a:off x="6657480" y="44604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534" h="275">
                        <a:moveTo>
                          <a:pt x="1" y="1"/>
                        </a:moveTo>
                        <a:cubicBezTo>
                          <a:pt x="25" y="0"/>
                          <a:pt x="88" y="7"/>
                          <a:pt x="146" y="18"/>
                        </a:cubicBezTo>
                        <a:cubicBezTo>
                          <a:pt x="204" y="30"/>
                          <a:pt x="292" y="46"/>
                          <a:pt x="349" y="69"/>
                        </a:cubicBezTo>
                        <a:cubicBezTo>
                          <a:pt x="406" y="90"/>
                          <a:pt x="456" y="125"/>
                          <a:pt x="486" y="148"/>
                        </a:cubicBezTo>
                        <a:cubicBezTo>
                          <a:pt x="517" y="172"/>
                          <a:pt x="526" y="189"/>
                          <a:pt x="530" y="210"/>
                        </a:cubicBezTo>
                        <a:cubicBezTo>
                          <a:pt x="535" y="230"/>
                          <a:pt x="518" y="270"/>
                          <a:pt x="510" y="271"/>
                        </a:cubicBezTo>
                        <a:cubicBezTo>
                          <a:pt x="502" y="274"/>
                          <a:pt x="495" y="237"/>
                          <a:pt x="480" y="219"/>
                        </a:cubicBezTo>
                        <a:cubicBezTo>
                          <a:pt x="465" y="199"/>
                          <a:pt x="444" y="175"/>
                          <a:pt x="419" y="156"/>
                        </a:cubicBezTo>
                        <a:cubicBezTo>
                          <a:pt x="395" y="136"/>
                          <a:pt x="376" y="118"/>
                          <a:pt x="335" y="101"/>
                        </a:cubicBezTo>
                        <a:cubicBezTo>
                          <a:pt x="294" y="84"/>
                          <a:pt x="231" y="64"/>
                          <a:pt x="175" y="51"/>
                        </a:cubicBezTo>
                        <a:cubicBezTo>
                          <a:pt x="119" y="38"/>
                          <a:pt x="29" y="33"/>
                          <a:pt x="0" y="25"/>
                        </a:cubicBez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6750720" y="221040"/>
                  <a:ext cx="904320" cy="628560"/>
                  <a:chOff x="6750720" y="221040"/>
                  <a:chExt cx="904320" cy="62856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2028600">
                    <a:off x="704412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7" h="172">
                        <a:moveTo>
                          <a:pt x="0" y="172"/>
                        </a:moveTo>
                        <a:cubicBezTo>
                          <a:pt x="8" y="166"/>
                          <a:pt x="207" y="84"/>
                          <a:pt x="315" y="56"/>
                        </a:cubicBezTo>
                        <a:cubicBezTo>
                          <a:pt x="422" y="29"/>
                          <a:pt x="533" y="15"/>
                          <a:pt x="647" y="7"/>
                        </a:cubicBezTo>
                        <a:cubicBezTo>
                          <a:pt x="761" y="0"/>
                          <a:pt x="940" y="2"/>
                          <a:pt x="997" y="7"/>
                        </a:cubicBezTo>
                        <a:lnTo>
                          <a:pt x="991" y="34"/>
                        </a:lnTo>
                        <a:cubicBezTo>
                          <a:pt x="932" y="38"/>
                          <a:pt x="768" y="23"/>
                          <a:pt x="643" y="34"/>
                        </a:cubicBezTo>
                        <a:cubicBezTo>
                          <a:pt x="440" y="45"/>
                          <a:pt x="363" y="64"/>
                          <a:pt x="238" y="99"/>
                        </a:cubicBezTo>
                        <a:cubicBezTo>
                          <a:pt x="130" y="121"/>
                          <a:pt x="49" y="157"/>
                          <a:pt x="0" y="172"/>
                        </a:cubicBezTo>
                        <a:lnTo>
                          <a:pt x="0" y="172"/>
                        </a:lnTo>
                        <a:lnTo>
                          <a:pt x="0" y="172"/>
                        </a:lnTo>
                        <a:lnTo>
                          <a:pt x="0" y="17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2028600">
                    <a:off x="6769800" y="301320"/>
                    <a:ext cx="3416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7" h="272">
                        <a:moveTo>
                          <a:pt x="1" y="2"/>
                        </a:moveTo>
                        <a:cubicBezTo>
                          <a:pt x="25" y="0"/>
                          <a:pt x="88" y="8"/>
                          <a:pt x="146" y="19"/>
                        </a:cubicBezTo>
                        <a:cubicBezTo>
                          <a:pt x="205" y="30"/>
                          <a:pt x="294" y="47"/>
                          <a:pt x="351" y="68"/>
                        </a:cubicBezTo>
                        <a:cubicBezTo>
                          <a:pt x="408" y="90"/>
                          <a:pt x="459" y="125"/>
                          <a:pt x="490" y="148"/>
                        </a:cubicBezTo>
                        <a:cubicBezTo>
                          <a:pt x="520" y="172"/>
                          <a:pt x="529" y="189"/>
                          <a:pt x="533" y="209"/>
                        </a:cubicBezTo>
                        <a:cubicBezTo>
                          <a:pt x="537" y="229"/>
                          <a:pt x="522" y="269"/>
                          <a:pt x="513" y="270"/>
                        </a:cubicBezTo>
                        <a:cubicBezTo>
                          <a:pt x="505" y="272"/>
                          <a:pt x="498" y="236"/>
                          <a:pt x="483" y="217"/>
                        </a:cubicBezTo>
                        <a:cubicBezTo>
                          <a:pt x="468" y="198"/>
                          <a:pt x="446" y="175"/>
                          <a:pt x="421" y="156"/>
                        </a:cubicBezTo>
                        <a:cubicBezTo>
                          <a:pt x="397" y="136"/>
                          <a:pt x="377" y="119"/>
                          <a:pt x="336" y="101"/>
                        </a:cubicBezTo>
                        <a:cubicBezTo>
                          <a:pt x="296" y="84"/>
                          <a:pt x="233" y="65"/>
                          <a:pt x="176" y="52"/>
                        </a:cubicBezTo>
                        <a:cubicBezTo>
                          <a:pt x="119" y="39"/>
                          <a:pt x="29" y="34"/>
                          <a:pt x="0" y="26"/>
                        </a:cubicBez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6867000" y="57600"/>
                  <a:ext cx="826200" cy="762120"/>
                  <a:chOff x="6867000" y="57600"/>
                  <a:chExt cx="826200" cy="7621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2664600">
                    <a:off x="7104600" y="50148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9" h="172">
                        <a:moveTo>
                          <a:pt x="0" y="172"/>
                        </a:moveTo>
                        <a:cubicBezTo>
                          <a:pt x="7" y="166"/>
                          <a:pt x="209" y="84"/>
                          <a:pt x="318" y="56"/>
                        </a:cubicBezTo>
                        <a:cubicBezTo>
                          <a:pt x="428" y="29"/>
                          <a:pt x="540" y="15"/>
                          <a:pt x="655" y="7"/>
                        </a:cubicBezTo>
                        <a:cubicBezTo>
                          <a:pt x="771" y="0"/>
                          <a:pt x="952" y="2"/>
                          <a:pt x="1010" y="7"/>
                        </a:cubicBezTo>
                        <a:lnTo>
                          <a:pt x="1005" y="34"/>
                        </a:lnTo>
                        <a:cubicBezTo>
                          <a:pt x="945" y="38"/>
                          <a:pt x="778" y="23"/>
                          <a:pt x="651" y="34"/>
                        </a:cubicBezTo>
                        <a:cubicBezTo>
                          <a:pt x="446" y="45"/>
                          <a:pt x="368" y="64"/>
                          <a:pt x="240" y="99"/>
                        </a:cubicBezTo>
                        <a:cubicBezTo>
                          <a:pt x="131" y="121"/>
                          <a:pt x="49" y="157"/>
                          <a:pt x="0" y="172"/>
                        </a:cubicBezTo>
                        <a:lnTo>
                          <a:pt x="0" y="172"/>
                        </a:lnTo>
                        <a:lnTo>
                          <a:pt x="0" y="172"/>
                        </a:lnTo>
                        <a:lnTo>
                          <a:pt x="0" y="17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2664600">
                    <a:off x="6877800" y="153720"/>
                    <a:ext cx="3456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272">
                        <a:moveTo>
                          <a:pt x="0" y="2"/>
                        </a:moveTo>
                        <a:cubicBezTo>
                          <a:pt x="26" y="0"/>
                          <a:pt x="90" y="8"/>
                          <a:pt x="149" y="19"/>
                        </a:cubicBezTo>
                        <a:cubicBezTo>
                          <a:pt x="208" y="30"/>
                          <a:pt x="298" y="47"/>
                          <a:pt x="355" y="68"/>
                        </a:cubicBezTo>
                        <a:cubicBezTo>
                          <a:pt x="413" y="90"/>
                          <a:pt x="464" y="125"/>
                          <a:pt x="495" y="148"/>
                        </a:cubicBezTo>
                        <a:cubicBezTo>
                          <a:pt x="526" y="172"/>
                          <a:pt x="536" y="189"/>
                          <a:pt x="540" y="209"/>
                        </a:cubicBezTo>
                        <a:cubicBezTo>
                          <a:pt x="545" y="229"/>
                          <a:pt x="528" y="269"/>
                          <a:pt x="519" y="270"/>
                        </a:cubicBezTo>
                        <a:cubicBezTo>
                          <a:pt x="510" y="272"/>
                          <a:pt x="504" y="236"/>
                          <a:pt x="488" y="217"/>
                        </a:cubicBezTo>
                        <a:cubicBezTo>
                          <a:pt x="473" y="198"/>
                          <a:pt x="451" y="175"/>
                          <a:pt x="427" y="156"/>
                        </a:cubicBezTo>
                        <a:cubicBezTo>
                          <a:pt x="402" y="136"/>
                          <a:pt x="382" y="119"/>
                          <a:pt x="341" y="101"/>
                        </a:cubicBezTo>
                        <a:cubicBezTo>
                          <a:pt x="299" y="84"/>
                          <a:pt x="235" y="65"/>
                          <a:pt x="178" y="52"/>
                        </a:cubicBezTo>
                        <a:cubicBezTo>
                          <a:pt x="120" y="39"/>
                          <a:pt x="29" y="34"/>
                          <a:pt x="0" y="26"/>
                        </a:cubicBez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112520" y="16920"/>
                  <a:ext cx="607680" cy="785160"/>
                  <a:chOff x="7112520" y="16920"/>
                  <a:chExt cx="607680" cy="7851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flipH="1" rot="3474000">
                    <a:off x="7239960" y="477360"/>
                    <a:ext cx="565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9" h="175">
                        <a:moveTo>
                          <a:pt x="0" y="175"/>
                        </a:moveTo>
                        <a:cubicBezTo>
                          <a:pt x="7" y="169"/>
                          <a:pt x="184" y="85"/>
                          <a:pt x="280" y="57"/>
                        </a:cubicBezTo>
                        <a:cubicBezTo>
                          <a:pt x="377" y="30"/>
                          <a:pt x="475" y="15"/>
                          <a:pt x="577" y="7"/>
                        </a:cubicBezTo>
                        <a:cubicBezTo>
                          <a:pt x="678" y="0"/>
                          <a:pt x="838" y="2"/>
                          <a:pt x="889" y="7"/>
                        </a:cubicBezTo>
                        <a:lnTo>
                          <a:pt x="884" y="35"/>
                        </a:lnTo>
                        <a:cubicBezTo>
                          <a:pt x="831" y="39"/>
                          <a:pt x="685" y="24"/>
                          <a:pt x="573" y="35"/>
                        </a:cubicBezTo>
                        <a:cubicBezTo>
                          <a:pt x="393" y="46"/>
                          <a:pt x="324" y="66"/>
                          <a:pt x="212" y="101"/>
                        </a:cubicBezTo>
                        <a:cubicBezTo>
                          <a:pt x="116" y="123"/>
                          <a:pt x="44" y="159"/>
                          <a:pt x="0" y="175"/>
                        </a:cubicBezTo>
                        <a:lnTo>
                          <a:pt x="0" y="175"/>
                        </a:lnTo>
                        <a:lnTo>
                          <a:pt x="0" y="175"/>
                        </a:lnTo>
                        <a:lnTo>
                          <a:pt x="0" y="17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rot="3474000">
                    <a:off x="7114320" y="10440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272">
                        <a:moveTo>
                          <a:pt x="0" y="1"/>
                        </a:moveTo>
                        <a:cubicBezTo>
                          <a:pt x="22" y="0"/>
                          <a:pt x="79" y="7"/>
                          <a:pt x="131" y="18"/>
                        </a:cubicBezTo>
                        <a:cubicBezTo>
                          <a:pt x="182" y="29"/>
                          <a:pt x="261" y="46"/>
                          <a:pt x="312" y="68"/>
                        </a:cubicBezTo>
                        <a:cubicBezTo>
                          <a:pt x="363" y="89"/>
                          <a:pt x="408" y="124"/>
                          <a:pt x="435" y="148"/>
                        </a:cubicBezTo>
                        <a:cubicBezTo>
                          <a:pt x="462" y="171"/>
                          <a:pt x="470" y="188"/>
                          <a:pt x="474" y="209"/>
                        </a:cubicBezTo>
                        <a:cubicBezTo>
                          <a:pt x="477" y="229"/>
                          <a:pt x="463" y="269"/>
                          <a:pt x="456" y="270"/>
                        </a:cubicBezTo>
                        <a:cubicBezTo>
                          <a:pt x="448" y="272"/>
                          <a:pt x="442" y="236"/>
                          <a:pt x="429" y="217"/>
                        </a:cubicBezTo>
                        <a:cubicBezTo>
                          <a:pt x="415" y="198"/>
                          <a:pt x="396" y="175"/>
                          <a:pt x="375" y="155"/>
                        </a:cubicBezTo>
                        <a:cubicBezTo>
                          <a:pt x="353" y="136"/>
                          <a:pt x="336" y="118"/>
                          <a:pt x="299" y="101"/>
                        </a:cubicBezTo>
                        <a:cubicBezTo>
                          <a:pt x="263" y="83"/>
                          <a:pt x="206" y="64"/>
                          <a:pt x="156" y="51"/>
                        </a:cubicBezTo>
                        <a:cubicBezTo>
                          <a:pt x="106" y="38"/>
                          <a:pt x="25" y="33"/>
                          <a:pt x="0" y="25"/>
                        </a:cubicBez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290720" y="-18720"/>
                  <a:ext cx="463680" cy="807120"/>
                  <a:chOff x="7290720" y="-18720"/>
                  <a:chExt cx="463680" cy="80712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flipH="1" rot="4126800">
                    <a:off x="7331760" y="459000"/>
                    <a:ext cx="5446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57" h="172">
                        <a:moveTo>
                          <a:pt x="0" y="172"/>
                        </a:moveTo>
                        <a:cubicBezTo>
                          <a:pt x="7" y="166"/>
                          <a:pt x="177" y="84"/>
                          <a:pt x="270" y="56"/>
                        </a:cubicBezTo>
                        <a:cubicBezTo>
                          <a:pt x="363" y="29"/>
                          <a:pt x="458" y="15"/>
                          <a:pt x="556" y="7"/>
                        </a:cubicBezTo>
                        <a:cubicBezTo>
                          <a:pt x="654" y="0"/>
                          <a:pt x="808" y="2"/>
                          <a:pt x="857" y="7"/>
                        </a:cubicBezTo>
                        <a:lnTo>
                          <a:pt x="852" y="34"/>
                        </a:lnTo>
                        <a:cubicBezTo>
                          <a:pt x="802" y="38"/>
                          <a:pt x="661" y="23"/>
                          <a:pt x="552" y="34"/>
                        </a:cubicBezTo>
                        <a:cubicBezTo>
                          <a:pt x="378" y="45"/>
                          <a:pt x="312" y="65"/>
                          <a:pt x="204" y="99"/>
                        </a:cubicBezTo>
                        <a:cubicBezTo>
                          <a:pt x="112" y="121"/>
                          <a:pt x="42" y="157"/>
                          <a:pt x="0" y="172"/>
                        </a:cubicBezTo>
                        <a:lnTo>
                          <a:pt x="0" y="172"/>
                        </a:lnTo>
                        <a:lnTo>
                          <a:pt x="0" y="172"/>
                        </a:lnTo>
                        <a:lnTo>
                          <a:pt x="0" y="17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4126800">
                    <a:off x="7278840" y="61560"/>
                    <a:ext cx="2919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272">
                        <a:moveTo>
                          <a:pt x="0" y="2"/>
                        </a:moveTo>
                        <a:cubicBezTo>
                          <a:pt x="21" y="0"/>
                          <a:pt x="75" y="8"/>
                          <a:pt x="125" y="19"/>
                        </a:cubicBezTo>
                        <a:cubicBezTo>
                          <a:pt x="175" y="30"/>
                          <a:pt x="252" y="47"/>
                          <a:pt x="301" y="68"/>
                        </a:cubicBezTo>
                        <a:cubicBezTo>
                          <a:pt x="350" y="90"/>
                          <a:pt x="392" y="125"/>
                          <a:pt x="419" y="148"/>
                        </a:cubicBezTo>
                        <a:cubicBezTo>
                          <a:pt x="444" y="172"/>
                          <a:pt x="453" y="189"/>
                          <a:pt x="455" y="209"/>
                        </a:cubicBezTo>
                        <a:cubicBezTo>
                          <a:pt x="460" y="230"/>
                          <a:pt x="445" y="269"/>
                          <a:pt x="438" y="271"/>
                        </a:cubicBezTo>
                        <a:cubicBezTo>
                          <a:pt x="431" y="272"/>
                          <a:pt x="425" y="236"/>
                          <a:pt x="412" y="217"/>
                        </a:cubicBezTo>
                        <a:cubicBezTo>
                          <a:pt x="399" y="198"/>
                          <a:pt x="381" y="175"/>
                          <a:pt x="360" y="156"/>
                        </a:cubicBezTo>
                        <a:cubicBezTo>
                          <a:pt x="339" y="137"/>
                          <a:pt x="322" y="119"/>
                          <a:pt x="288" y="101"/>
                        </a:cubicBezTo>
                        <a:cubicBezTo>
                          <a:pt x="253" y="84"/>
                          <a:pt x="199" y="65"/>
                          <a:pt x="151" y="52"/>
                        </a:cubicBezTo>
                        <a:cubicBezTo>
                          <a:pt x="102" y="39"/>
                          <a:pt x="23" y="34"/>
                          <a:pt x="0" y="26"/>
                        </a:cubicBez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93640" y="272520"/>
                  <a:ext cx="964080" cy="462600"/>
                  <a:chOff x="7793640" y="272520"/>
                  <a:chExt cx="964080" cy="4626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20274000">
                    <a:off x="7791120" y="5090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175">
                        <a:moveTo>
                          <a:pt x="0" y="175"/>
                        </a:moveTo>
                        <a:cubicBezTo>
                          <a:pt x="7" y="168"/>
                          <a:pt x="205" y="85"/>
                          <a:pt x="314" y="57"/>
                        </a:cubicBezTo>
                        <a:cubicBezTo>
                          <a:pt x="421" y="30"/>
                          <a:pt x="531" y="16"/>
                          <a:pt x="645" y="7"/>
                        </a:cubicBezTo>
                        <a:cubicBezTo>
                          <a:pt x="758" y="0"/>
                          <a:pt x="937" y="3"/>
                          <a:pt x="994" y="7"/>
                        </a:cubicBezTo>
                        <a:lnTo>
                          <a:pt x="989" y="35"/>
                        </a:lnTo>
                        <a:cubicBezTo>
                          <a:pt x="930" y="39"/>
                          <a:pt x="766" y="24"/>
                          <a:pt x="641" y="35"/>
                        </a:cubicBezTo>
                        <a:cubicBezTo>
                          <a:pt x="439" y="46"/>
                          <a:pt x="363" y="65"/>
                          <a:pt x="237" y="101"/>
                        </a:cubicBezTo>
                        <a:cubicBezTo>
                          <a:pt x="130" y="123"/>
                          <a:pt x="49" y="159"/>
                          <a:pt x="0" y="175"/>
                        </a:cubicBezTo>
                        <a:lnTo>
                          <a:pt x="0" y="175"/>
                        </a:lnTo>
                        <a:lnTo>
                          <a:pt x="0" y="175"/>
                        </a:lnTo>
                        <a:lnTo>
                          <a:pt x="0" y="17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20274000">
                    <a:off x="8397720" y="32976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5" h="272">
                        <a:moveTo>
                          <a:pt x="0" y="1"/>
                        </a:moveTo>
                        <a:cubicBezTo>
                          <a:pt x="24" y="0"/>
                          <a:pt x="88" y="7"/>
                          <a:pt x="145" y="18"/>
                        </a:cubicBezTo>
                        <a:cubicBezTo>
                          <a:pt x="204" y="29"/>
                          <a:pt x="292" y="46"/>
                          <a:pt x="349" y="68"/>
                        </a:cubicBezTo>
                        <a:cubicBezTo>
                          <a:pt x="405" y="89"/>
                          <a:pt x="456" y="124"/>
                          <a:pt x="486" y="148"/>
                        </a:cubicBezTo>
                        <a:cubicBezTo>
                          <a:pt x="517" y="171"/>
                          <a:pt x="525" y="189"/>
                          <a:pt x="530" y="209"/>
                        </a:cubicBezTo>
                        <a:cubicBezTo>
                          <a:pt x="535" y="229"/>
                          <a:pt x="518" y="269"/>
                          <a:pt x="510" y="270"/>
                        </a:cubicBezTo>
                        <a:cubicBezTo>
                          <a:pt x="502" y="272"/>
                          <a:pt x="495" y="236"/>
                          <a:pt x="480" y="217"/>
                        </a:cubicBezTo>
                        <a:cubicBezTo>
                          <a:pt x="464" y="198"/>
                          <a:pt x="444" y="175"/>
                          <a:pt x="419" y="155"/>
                        </a:cubicBezTo>
                        <a:cubicBezTo>
                          <a:pt x="395" y="136"/>
                          <a:pt x="375" y="118"/>
                          <a:pt x="335" y="101"/>
                        </a:cubicBezTo>
                        <a:cubicBezTo>
                          <a:pt x="294" y="83"/>
                          <a:pt x="231" y="64"/>
                          <a:pt x="175" y="51"/>
                        </a:cubicBezTo>
                        <a:cubicBezTo>
                          <a:pt x="119" y="38"/>
                          <a:pt x="28" y="33"/>
                          <a:pt x="0" y="25"/>
                        </a:cubicBez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7120" y="135720"/>
                  <a:ext cx="916200" cy="605880"/>
                  <a:chOff x="7737120" y="135720"/>
                  <a:chExt cx="916200" cy="60588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9678800">
                    <a:off x="7718040" y="47124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97" h="175">
                        <a:moveTo>
                          <a:pt x="0" y="175"/>
                        </a:moveTo>
                        <a:cubicBezTo>
                          <a:pt x="8" y="168"/>
                          <a:pt x="207" y="85"/>
                          <a:pt x="314" y="58"/>
                        </a:cubicBezTo>
                        <a:cubicBezTo>
                          <a:pt x="422" y="30"/>
                          <a:pt x="533" y="16"/>
                          <a:pt x="647" y="7"/>
                        </a:cubicBezTo>
                        <a:cubicBezTo>
                          <a:pt x="761" y="0"/>
                          <a:pt x="940" y="3"/>
                          <a:pt x="997" y="7"/>
                        </a:cubicBezTo>
                        <a:lnTo>
                          <a:pt x="991" y="35"/>
                        </a:lnTo>
                        <a:cubicBezTo>
                          <a:pt x="932" y="39"/>
                          <a:pt x="768" y="24"/>
                          <a:pt x="643" y="35"/>
                        </a:cubicBezTo>
                        <a:cubicBezTo>
                          <a:pt x="440" y="46"/>
                          <a:pt x="363" y="65"/>
                          <a:pt x="238" y="100"/>
                        </a:cubicBezTo>
                        <a:cubicBezTo>
                          <a:pt x="130" y="123"/>
                          <a:pt x="49" y="159"/>
                          <a:pt x="0" y="175"/>
                        </a:cubicBezTo>
                        <a:lnTo>
                          <a:pt x="0" y="175"/>
                        </a:lnTo>
                        <a:lnTo>
                          <a:pt x="0" y="175"/>
                        </a:lnTo>
                        <a:lnTo>
                          <a:pt x="0" y="17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9678800">
                    <a:off x="8292600" y="21240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535" h="274">
                        <a:moveTo>
                          <a:pt x="0" y="2"/>
                        </a:moveTo>
                        <a:cubicBezTo>
                          <a:pt x="24" y="0"/>
                          <a:pt x="88" y="8"/>
                          <a:pt x="144" y="19"/>
                        </a:cubicBezTo>
                        <a:cubicBezTo>
                          <a:pt x="204" y="30"/>
                          <a:pt x="292" y="47"/>
                          <a:pt x="349" y="69"/>
                        </a:cubicBezTo>
                        <a:cubicBezTo>
                          <a:pt x="407" y="91"/>
                          <a:pt x="457" y="126"/>
                          <a:pt x="486" y="149"/>
                        </a:cubicBezTo>
                        <a:cubicBezTo>
                          <a:pt x="517" y="173"/>
                          <a:pt x="527" y="190"/>
                          <a:pt x="531" y="210"/>
                        </a:cubicBezTo>
                        <a:cubicBezTo>
                          <a:pt x="534" y="231"/>
                          <a:pt x="518" y="271"/>
                          <a:pt x="510" y="272"/>
                        </a:cubicBezTo>
                        <a:cubicBezTo>
                          <a:pt x="502" y="274"/>
                          <a:pt x="496" y="238"/>
                          <a:pt x="481" y="218"/>
                        </a:cubicBezTo>
                        <a:cubicBezTo>
                          <a:pt x="465" y="199"/>
                          <a:pt x="444" y="176"/>
                          <a:pt x="420" y="157"/>
                        </a:cubicBezTo>
                        <a:cubicBezTo>
                          <a:pt x="395" y="137"/>
                          <a:pt x="376" y="119"/>
                          <a:pt x="335" y="102"/>
                        </a:cubicBezTo>
                        <a:cubicBezTo>
                          <a:pt x="293" y="85"/>
                          <a:pt x="231" y="65"/>
                          <a:pt x="174" y="52"/>
                        </a:cubicBezTo>
                        <a:cubicBezTo>
                          <a:pt x="119" y="39"/>
                          <a:pt x="28" y="34"/>
                          <a:pt x="0" y="26"/>
                        </a:cubicBez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H="1" rot="4578600">
                  <a:off x="7418160" y="485640"/>
                  <a:ext cx="528480" cy="74520"/>
                </a:xfrm>
                <a:custGeom>
                  <a:avLst/>
                  <a:gdLst/>
                  <a:ahLst/>
                  <a:rect l="l" t="t" r="r" b="b"/>
                  <a:pathLst>
                    <a:path w="832" h="117">
                      <a:moveTo>
                        <a:pt x="0" y="117"/>
                      </a:moveTo>
                      <a:cubicBezTo>
                        <a:pt x="7" y="113"/>
                        <a:pt x="172" y="57"/>
                        <a:pt x="262" y="39"/>
                      </a:cubicBezTo>
                      <a:cubicBezTo>
                        <a:pt x="353" y="20"/>
                        <a:pt x="445" y="11"/>
                        <a:pt x="540" y="5"/>
                      </a:cubicBezTo>
                      <a:cubicBezTo>
                        <a:pt x="635" y="0"/>
                        <a:pt x="785" y="2"/>
                        <a:pt x="832" y="5"/>
                      </a:cubicBezTo>
                      <a:lnTo>
                        <a:pt x="827" y="24"/>
                      </a:lnTo>
                      <a:cubicBezTo>
                        <a:pt x="778" y="27"/>
                        <a:pt x="641" y="16"/>
                        <a:pt x="536" y="24"/>
                      </a:cubicBezTo>
                      <a:cubicBezTo>
                        <a:pt x="368" y="31"/>
                        <a:pt x="303" y="44"/>
                        <a:pt x="198" y="68"/>
                      </a:cubicBezTo>
                      <a:cubicBezTo>
                        <a:pt x="108" y="82"/>
                        <a:pt x="41" y="107"/>
                        <a:pt x="0" y="117"/>
                      </a:cubicBezTo>
                      <a:lnTo>
                        <a:pt x="0" y="117"/>
                      </a:lnTo>
                      <a:lnTo>
                        <a:pt x="0" y="117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rot="4578600">
                  <a:off x="7432560" y="101160"/>
                  <a:ext cx="282600" cy="117000"/>
                </a:xfrm>
                <a:custGeom>
                  <a:avLst/>
                  <a:gdLst/>
                  <a:ahLst/>
                  <a:rect l="l" t="t" r="r" b="b"/>
                  <a:pathLst>
                    <a:path w="444" h="185">
                      <a:moveTo>
                        <a:pt x="0" y="0"/>
                      </a:moveTo>
                      <a:cubicBezTo>
                        <a:pt x="21" y="0"/>
                        <a:pt x="72" y="5"/>
                        <a:pt x="122" y="13"/>
                      </a:cubicBezTo>
                      <a:cubicBezTo>
                        <a:pt x="169" y="20"/>
                        <a:pt x="242" y="32"/>
                        <a:pt x="290" y="46"/>
                      </a:cubicBezTo>
                      <a:cubicBezTo>
                        <a:pt x="338" y="61"/>
                        <a:pt x="379" y="85"/>
                        <a:pt x="404" y="101"/>
                      </a:cubicBezTo>
                      <a:cubicBezTo>
                        <a:pt x="430" y="117"/>
                        <a:pt x="437" y="128"/>
                        <a:pt x="441" y="142"/>
                      </a:cubicBezTo>
                      <a:cubicBezTo>
                        <a:pt x="444" y="156"/>
                        <a:pt x="431" y="183"/>
                        <a:pt x="424" y="184"/>
                      </a:cubicBezTo>
                      <a:cubicBezTo>
                        <a:pt x="417" y="185"/>
                        <a:pt x="411" y="161"/>
                        <a:pt x="398" y="148"/>
                      </a:cubicBezTo>
                      <a:cubicBezTo>
                        <a:pt x="386" y="135"/>
                        <a:pt x="368" y="119"/>
                        <a:pt x="349" y="106"/>
                      </a:cubicBezTo>
                      <a:cubicBezTo>
                        <a:pt x="328" y="93"/>
                        <a:pt x="312" y="81"/>
                        <a:pt x="278" y="69"/>
                      </a:cubicBezTo>
                      <a:cubicBezTo>
                        <a:pt x="245" y="57"/>
                        <a:pt x="192" y="44"/>
                        <a:pt x="145" y="35"/>
                      </a:cubicBezTo>
                      <a:cubicBezTo>
                        <a:pt x="99" y="26"/>
                        <a:pt x="23" y="23"/>
                        <a:pt x="0" y="17"/>
                      </a:cubicBez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7665120" y="-7200"/>
                  <a:ext cx="497520" cy="787680"/>
                  <a:chOff x="7665120" y="-7200"/>
                  <a:chExt cx="497520" cy="78768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17742000">
                    <a:off x="7553520" y="465840"/>
                    <a:ext cx="545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860" h="149">
                        <a:moveTo>
                          <a:pt x="0" y="149"/>
                        </a:moveTo>
                        <a:cubicBezTo>
                          <a:pt x="7" y="145"/>
                          <a:pt x="177" y="73"/>
                          <a:pt x="270" y="49"/>
                        </a:cubicBezTo>
                        <a:cubicBezTo>
                          <a:pt x="363" y="25"/>
                          <a:pt x="459" y="14"/>
                          <a:pt x="558" y="7"/>
                        </a:cubicBezTo>
                        <a:cubicBezTo>
                          <a:pt x="655" y="0"/>
                          <a:pt x="809" y="3"/>
                          <a:pt x="860" y="7"/>
                        </a:cubicBezTo>
                        <a:lnTo>
                          <a:pt x="854" y="30"/>
                        </a:lnTo>
                        <a:cubicBezTo>
                          <a:pt x="803" y="34"/>
                          <a:pt x="661" y="20"/>
                          <a:pt x="554" y="30"/>
                        </a:cubicBezTo>
                        <a:cubicBezTo>
                          <a:pt x="379" y="40"/>
                          <a:pt x="313" y="56"/>
                          <a:pt x="204" y="87"/>
                        </a:cubicBezTo>
                        <a:cubicBezTo>
                          <a:pt x="112" y="106"/>
                          <a:pt x="42" y="136"/>
                          <a:pt x="0" y="149"/>
                        </a:cubicBezTo>
                        <a:lnTo>
                          <a:pt x="0" y="149"/>
                        </a:lnTo>
                        <a:lnTo>
                          <a:pt x="0" y="149"/>
                        </a:lnTo>
                        <a:lnTo>
                          <a:pt x="0" y="14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17742000">
                    <a:off x="7889040" y="82440"/>
                    <a:ext cx="29016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7" h="229">
                        <a:moveTo>
                          <a:pt x="0" y="0"/>
                        </a:moveTo>
                        <a:cubicBezTo>
                          <a:pt x="21" y="0"/>
                          <a:pt x="75" y="5"/>
                          <a:pt x="125" y="14"/>
                        </a:cubicBezTo>
                        <a:cubicBezTo>
                          <a:pt x="174" y="23"/>
                          <a:pt x="250" y="38"/>
                          <a:pt x="299" y="57"/>
                        </a:cubicBezTo>
                        <a:cubicBezTo>
                          <a:pt x="348" y="75"/>
                          <a:pt x="390" y="105"/>
                          <a:pt x="417" y="124"/>
                        </a:cubicBezTo>
                        <a:cubicBezTo>
                          <a:pt x="442" y="144"/>
                          <a:pt x="450" y="159"/>
                          <a:pt x="455" y="176"/>
                        </a:cubicBezTo>
                        <a:cubicBezTo>
                          <a:pt x="457" y="194"/>
                          <a:pt x="444" y="228"/>
                          <a:pt x="436" y="229"/>
                        </a:cubicBezTo>
                        <a:cubicBezTo>
                          <a:pt x="429" y="229"/>
                          <a:pt x="423" y="199"/>
                          <a:pt x="410" y="183"/>
                        </a:cubicBezTo>
                        <a:cubicBezTo>
                          <a:pt x="397" y="167"/>
                          <a:pt x="379" y="147"/>
                          <a:pt x="358" y="131"/>
                        </a:cubicBezTo>
                        <a:cubicBezTo>
                          <a:pt x="337" y="114"/>
                          <a:pt x="322" y="100"/>
                          <a:pt x="287" y="85"/>
                        </a:cubicBezTo>
                        <a:cubicBezTo>
                          <a:pt x="251" y="70"/>
                          <a:pt x="197" y="53"/>
                          <a:pt x="149" y="42"/>
                        </a:cubicBezTo>
                        <a:cubicBezTo>
                          <a:pt x="101" y="31"/>
                          <a:pt x="23" y="27"/>
                          <a:pt x="0" y="20"/>
                        </a:cubicBez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663320" y="39960"/>
                  <a:ext cx="786240" cy="745920"/>
                  <a:chOff x="7663320" y="39960"/>
                  <a:chExt cx="786240" cy="7459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18822600">
                    <a:off x="7621560" y="454320"/>
                    <a:ext cx="5929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217">
                        <a:moveTo>
                          <a:pt x="0" y="217"/>
                        </a:moveTo>
                        <a:cubicBezTo>
                          <a:pt x="7" y="210"/>
                          <a:pt x="192" y="107"/>
                          <a:pt x="293" y="72"/>
                        </a:cubicBezTo>
                        <a:cubicBezTo>
                          <a:pt x="394" y="38"/>
                          <a:pt x="498" y="20"/>
                          <a:pt x="605" y="10"/>
                        </a:cubicBezTo>
                        <a:cubicBezTo>
                          <a:pt x="711" y="0"/>
                          <a:pt x="878" y="4"/>
                          <a:pt x="932" y="10"/>
                        </a:cubicBezTo>
                        <a:lnTo>
                          <a:pt x="927" y="44"/>
                        </a:lnTo>
                        <a:cubicBezTo>
                          <a:pt x="871" y="50"/>
                          <a:pt x="718" y="30"/>
                          <a:pt x="600" y="44"/>
                        </a:cubicBezTo>
                        <a:cubicBezTo>
                          <a:pt x="411" y="58"/>
                          <a:pt x="339" y="82"/>
                          <a:pt x="222" y="126"/>
                        </a:cubicBezTo>
                        <a:cubicBezTo>
                          <a:pt x="121" y="153"/>
                          <a:pt x="45" y="198"/>
                          <a:pt x="0" y="217"/>
                        </a:cubicBezTo>
                        <a:lnTo>
                          <a:pt x="0" y="217"/>
                        </a:lnTo>
                        <a:lnTo>
                          <a:pt x="0" y="217"/>
                        </a:lnTo>
                        <a:lnTo>
                          <a:pt x="0" y="21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8822600">
                    <a:off x="8101800" y="122040"/>
                    <a:ext cx="3196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337">
                        <a:moveTo>
                          <a:pt x="1" y="1"/>
                        </a:moveTo>
                        <a:cubicBezTo>
                          <a:pt x="24" y="0"/>
                          <a:pt x="83" y="8"/>
                          <a:pt x="137" y="22"/>
                        </a:cubicBezTo>
                        <a:cubicBezTo>
                          <a:pt x="191" y="35"/>
                          <a:pt x="274" y="57"/>
                          <a:pt x="327" y="84"/>
                        </a:cubicBezTo>
                        <a:cubicBezTo>
                          <a:pt x="382" y="111"/>
                          <a:pt x="429" y="155"/>
                          <a:pt x="457" y="184"/>
                        </a:cubicBezTo>
                        <a:cubicBezTo>
                          <a:pt x="485" y="213"/>
                          <a:pt x="494" y="234"/>
                          <a:pt x="498" y="259"/>
                        </a:cubicBezTo>
                        <a:cubicBezTo>
                          <a:pt x="502" y="285"/>
                          <a:pt x="487" y="334"/>
                          <a:pt x="479" y="336"/>
                        </a:cubicBezTo>
                        <a:cubicBezTo>
                          <a:pt x="471" y="337"/>
                          <a:pt x="465" y="293"/>
                          <a:pt x="451" y="269"/>
                        </a:cubicBezTo>
                        <a:cubicBezTo>
                          <a:pt x="436" y="245"/>
                          <a:pt x="417" y="217"/>
                          <a:pt x="394" y="193"/>
                        </a:cubicBezTo>
                        <a:cubicBezTo>
                          <a:pt x="371" y="169"/>
                          <a:pt x="353" y="147"/>
                          <a:pt x="314" y="125"/>
                        </a:cubicBezTo>
                        <a:cubicBezTo>
                          <a:pt x="275" y="104"/>
                          <a:pt x="216" y="79"/>
                          <a:pt x="164" y="63"/>
                        </a:cubicBezTo>
                        <a:cubicBezTo>
                          <a:pt x="112" y="47"/>
                          <a:pt x="27" y="41"/>
                          <a:pt x="0" y="30"/>
                        </a:cubicBez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709040" y="-360"/>
                  <a:ext cx="177120" cy="745560"/>
                  <a:chOff x="7709040" y="-360"/>
                  <a:chExt cx="177120" cy="745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16696200">
                    <a:off x="7521840" y="47736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9" h="70">
                        <a:moveTo>
                          <a:pt x="0" y="70"/>
                        </a:moveTo>
                        <a:cubicBezTo>
                          <a:pt x="6" y="67"/>
                          <a:pt x="158" y="34"/>
                          <a:pt x="243" y="22"/>
                        </a:cubicBezTo>
                        <a:cubicBezTo>
                          <a:pt x="325" y="12"/>
                          <a:pt x="411" y="5"/>
                          <a:pt x="498" y="3"/>
                        </a:cubicBezTo>
                        <a:cubicBezTo>
                          <a:pt x="586" y="0"/>
                          <a:pt x="725" y="1"/>
                          <a:pt x="769" y="3"/>
                        </a:cubicBezTo>
                        <a:lnTo>
                          <a:pt x="765" y="13"/>
                        </a:lnTo>
                        <a:cubicBezTo>
                          <a:pt x="719" y="15"/>
                          <a:pt x="592" y="9"/>
                          <a:pt x="495" y="13"/>
                        </a:cubicBezTo>
                        <a:cubicBezTo>
                          <a:pt x="340" y="18"/>
                          <a:pt x="280" y="26"/>
                          <a:pt x="184" y="40"/>
                        </a:cubicBezTo>
                        <a:cubicBezTo>
                          <a:pt x="100" y="48"/>
                          <a:pt x="37" y="63"/>
                          <a:pt x="0" y="70"/>
                        </a:cubicBezTo>
                        <a:lnTo>
                          <a:pt x="0" y="70"/>
                        </a:lnTo>
                        <a:lnTo>
                          <a:pt x="0" y="70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16696200">
                    <a:off x="7701840" y="9936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2" h="107">
                        <a:moveTo>
                          <a:pt x="0" y="0"/>
                        </a:moveTo>
                        <a:cubicBezTo>
                          <a:pt x="18" y="0"/>
                          <a:pt x="67" y="2"/>
                          <a:pt x="112" y="6"/>
                        </a:cubicBezTo>
                        <a:cubicBezTo>
                          <a:pt x="157" y="11"/>
                          <a:pt x="225" y="17"/>
                          <a:pt x="269" y="26"/>
                        </a:cubicBezTo>
                        <a:cubicBezTo>
                          <a:pt x="313" y="35"/>
                          <a:pt x="352" y="49"/>
                          <a:pt x="375" y="58"/>
                        </a:cubicBezTo>
                        <a:cubicBezTo>
                          <a:pt x="398" y="67"/>
                          <a:pt x="406" y="74"/>
                          <a:pt x="409" y="82"/>
                        </a:cubicBezTo>
                        <a:cubicBezTo>
                          <a:pt x="412" y="90"/>
                          <a:pt x="400" y="106"/>
                          <a:pt x="393" y="107"/>
                        </a:cubicBezTo>
                        <a:cubicBezTo>
                          <a:pt x="387" y="107"/>
                          <a:pt x="381" y="93"/>
                          <a:pt x="370" y="85"/>
                        </a:cubicBezTo>
                        <a:cubicBezTo>
                          <a:pt x="358" y="78"/>
                          <a:pt x="342" y="69"/>
                          <a:pt x="323" y="61"/>
                        </a:cubicBezTo>
                        <a:cubicBezTo>
                          <a:pt x="304" y="53"/>
                          <a:pt x="289" y="46"/>
                          <a:pt x="258" y="39"/>
                        </a:cubicBezTo>
                        <a:cubicBezTo>
                          <a:pt x="226" y="32"/>
                          <a:pt x="177" y="24"/>
                          <a:pt x="134" y="19"/>
                        </a:cubicBezTo>
                        <a:cubicBezTo>
                          <a:pt x="91" y="14"/>
                          <a:pt x="21" y="12"/>
                          <a:pt x="0" y="9"/>
                        </a:cubicBez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6711480" y="929880"/>
                  <a:ext cx="912600" cy="1249920"/>
                  <a:chOff x="6711480" y="929880"/>
                  <a:chExt cx="912600" cy="12499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8336000">
                    <a:off x="685872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252">
                        <a:moveTo>
                          <a:pt x="0" y="252"/>
                        </a:moveTo>
                        <a:cubicBezTo>
                          <a:pt x="12" y="244"/>
                          <a:pt x="289" y="123"/>
                          <a:pt x="439" y="83"/>
                        </a:cubicBezTo>
                        <a:cubicBezTo>
                          <a:pt x="590" y="43"/>
                          <a:pt x="745" y="23"/>
                          <a:pt x="903" y="11"/>
                        </a:cubicBezTo>
                        <a:cubicBezTo>
                          <a:pt x="1062" y="0"/>
                          <a:pt x="1312" y="5"/>
                          <a:pt x="1392" y="11"/>
                        </a:cubicBezTo>
                        <a:lnTo>
                          <a:pt x="1384" y="51"/>
                        </a:lnTo>
                        <a:cubicBezTo>
                          <a:pt x="1302" y="57"/>
                          <a:pt x="1072" y="35"/>
                          <a:pt x="897" y="51"/>
                        </a:cubicBezTo>
                        <a:cubicBezTo>
                          <a:pt x="615" y="67"/>
                          <a:pt x="507" y="95"/>
                          <a:pt x="332" y="145"/>
                        </a:cubicBezTo>
                        <a:cubicBezTo>
                          <a:pt x="182" y="178"/>
                          <a:pt x="69" y="230"/>
                          <a:pt x="0" y="252"/>
                        </a:cubicBezTo>
                        <a:lnTo>
                          <a:pt x="0" y="252"/>
                        </a:lnTo>
                        <a:lnTo>
                          <a:pt x="0" y="252"/>
                        </a:lnTo>
                        <a:lnTo>
                          <a:pt x="0" y="2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8336000">
                    <a:off x="6714720" y="1786680"/>
                    <a:ext cx="4748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7" h="397">
                        <a:moveTo>
                          <a:pt x="1" y="4"/>
                        </a:moveTo>
                        <a:cubicBezTo>
                          <a:pt x="35" y="0"/>
                          <a:pt x="123" y="12"/>
                          <a:pt x="204" y="28"/>
                        </a:cubicBezTo>
                        <a:cubicBezTo>
                          <a:pt x="285" y="44"/>
                          <a:pt x="409" y="68"/>
                          <a:pt x="488" y="100"/>
                        </a:cubicBezTo>
                        <a:cubicBezTo>
                          <a:pt x="568" y="131"/>
                          <a:pt x="638" y="183"/>
                          <a:pt x="680" y="217"/>
                        </a:cubicBezTo>
                        <a:cubicBezTo>
                          <a:pt x="722" y="251"/>
                          <a:pt x="736" y="276"/>
                          <a:pt x="741" y="305"/>
                        </a:cubicBezTo>
                        <a:cubicBezTo>
                          <a:pt x="747" y="336"/>
                          <a:pt x="725" y="393"/>
                          <a:pt x="713" y="395"/>
                        </a:cubicBezTo>
                        <a:cubicBezTo>
                          <a:pt x="701" y="397"/>
                          <a:pt x="692" y="345"/>
                          <a:pt x="671" y="317"/>
                        </a:cubicBezTo>
                        <a:cubicBezTo>
                          <a:pt x="650" y="289"/>
                          <a:pt x="620" y="256"/>
                          <a:pt x="586" y="228"/>
                        </a:cubicBezTo>
                        <a:cubicBezTo>
                          <a:pt x="552" y="200"/>
                          <a:pt x="525" y="174"/>
                          <a:pt x="468" y="148"/>
                        </a:cubicBezTo>
                        <a:cubicBezTo>
                          <a:pt x="411" y="123"/>
                          <a:pt x="323" y="94"/>
                          <a:pt x="245" y="76"/>
                        </a:cubicBezTo>
                        <a:cubicBezTo>
                          <a:pt x="167" y="57"/>
                          <a:pt x="40" y="50"/>
                          <a:pt x="0" y="38"/>
                        </a:cubicBez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016760" y="979560"/>
                  <a:ext cx="614520" cy="1248480"/>
                  <a:chOff x="7016760" y="979560"/>
                  <a:chExt cx="614520" cy="12484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7543400">
                    <a:off x="6991560" y="1307880"/>
                    <a:ext cx="818280" cy="16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7" h="252">
                        <a:moveTo>
                          <a:pt x="0" y="252"/>
                        </a:moveTo>
                        <a:cubicBezTo>
                          <a:pt x="10" y="244"/>
                          <a:pt x="266" y="123"/>
                          <a:pt x="405" y="83"/>
                        </a:cubicBezTo>
                        <a:cubicBezTo>
                          <a:pt x="545" y="43"/>
                          <a:pt x="688" y="23"/>
                          <a:pt x="835" y="11"/>
                        </a:cubicBezTo>
                        <a:cubicBezTo>
                          <a:pt x="982" y="0"/>
                          <a:pt x="1213" y="5"/>
                          <a:pt x="1287" y="11"/>
                        </a:cubicBezTo>
                        <a:lnTo>
                          <a:pt x="1280" y="51"/>
                        </a:lnTo>
                        <a:cubicBezTo>
                          <a:pt x="1203" y="57"/>
                          <a:pt x="991" y="35"/>
                          <a:pt x="829" y="51"/>
                        </a:cubicBezTo>
                        <a:cubicBezTo>
                          <a:pt x="568" y="67"/>
                          <a:pt x="469" y="95"/>
                          <a:pt x="307" y="145"/>
                        </a:cubicBezTo>
                        <a:cubicBezTo>
                          <a:pt x="167" y="178"/>
                          <a:pt x="63" y="230"/>
                          <a:pt x="0" y="252"/>
                        </a:cubicBezTo>
                        <a:lnTo>
                          <a:pt x="0" y="252"/>
                        </a:lnTo>
                        <a:lnTo>
                          <a:pt x="0" y="252"/>
                        </a:lnTo>
                        <a:lnTo>
                          <a:pt x="0" y="2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7543400">
                    <a:off x="6996600" y="1850040"/>
                    <a:ext cx="4402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395">
                        <a:moveTo>
                          <a:pt x="0" y="3"/>
                        </a:moveTo>
                        <a:cubicBezTo>
                          <a:pt x="33" y="0"/>
                          <a:pt x="114" y="12"/>
                          <a:pt x="189" y="28"/>
                        </a:cubicBezTo>
                        <a:cubicBezTo>
                          <a:pt x="264" y="44"/>
                          <a:pt x="378" y="67"/>
                          <a:pt x="452" y="100"/>
                        </a:cubicBezTo>
                        <a:cubicBezTo>
                          <a:pt x="526" y="131"/>
                          <a:pt x="591" y="181"/>
                          <a:pt x="630" y="216"/>
                        </a:cubicBezTo>
                        <a:cubicBezTo>
                          <a:pt x="669" y="250"/>
                          <a:pt x="682" y="275"/>
                          <a:pt x="687" y="304"/>
                        </a:cubicBezTo>
                        <a:cubicBezTo>
                          <a:pt x="692" y="334"/>
                          <a:pt x="672" y="391"/>
                          <a:pt x="661" y="393"/>
                        </a:cubicBezTo>
                        <a:cubicBezTo>
                          <a:pt x="650" y="395"/>
                          <a:pt x="641" y="343"/>
                          <a:pt x="622" y="315"/>
                        </a:cubicBezTo>
                        <a:cubicBezTo>
                          <a:pt x="602" y="288"/>
                          <a:pt x="575" y="255"/>
                          <a:pt x="544" y="226"/>
                        </a:cubicBezTo>
                        <a:cubicBezTo>
                          <a:pt x="512" y="199"/>
                          <a:pt x="487" y="172"/>
                          <a:pt x="433" y="148"/>
                        </a:cubicBezTo>
                        <a:cubicBezTo>
                          <a:pt x="380" y="122"/>
                          <a:pt x="299" y="94"/>
                          <a:pt x="227" y="75"/>
                        </a:cubicBezTo>
                        <a:cubicBezTo>
                          <a:pt x="154" y="57"/>
                          <a:pt x="37" y="49"/>
                          <a:pt x="0" y="37"/>
                        </a:cubicBez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312680" y="1004400"/>
                  <a:ext cx="366480" cy="1214640"/>
                  <a:chOff x="7312680" y="1004400"/>
                  <a:chExt cx="366480" cy="12146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16870800">
                    <a:off x="7139520" y="1330560"/>
                    <a:ext cx="78480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5" h="227">
                        <a:moveTo>
                          <a:pt x="0" y="227"/>
                        </a:moveTo>
                        <a:cubicBezTo>
                          <a:pt x="9" y="220"/>
                          <a:pt x="255" y="111"/>
                          <a:pt x="388" y="75"/>
                        </a:cubicBezTo>
                        <a:cubicBezTo>
                          <a:pt x="523" y="39"/>
                          <a:pt x="660" y="21"/>
                          <a:pt x="801" y="10"/>
                        </a:cubicBezTo>
                        <a:cubicBezTo>
                          <a:pt x="941" y="0"/>
                          <a:pt x="1164" y="4"/>
                          <a:pt x="1235" y="10"/>
                        </a:cubicBezTo>
                        <a:lnTo>
                          <a:pt x="1228" y="46"/>
                        </a:lnTo>
                        <a:cubicBezTo>
                          <a:pt x="1154" y="52"/>
                          <a:pt x="950" y="31"/>
                          <a:pt x="796" y="46"/>
                        </a:cubicBezTo>
                        <a:cubicBezTo>
                          <a:pt x="545" y="61"/>
                          <a:pt x="450" y="86"/>
                          <a:pt x="293" y="131"/>
                        </a:cubicBezTo>
                        <a:cubicBezTo>
                          <a:pt x="160" y="161"/>
                          <a:pt x="60" y="208"/>
                          <a:pt x="0" y="227"/>
                        </a:cubicBezTo>
                        <a:lnTo>
                          <a:pt x="0" y="227"/>
                        </a:lnTo>
                        <a:lnTo>
                          <a:pt x="0" y="227"/>
                        </a:lnTo>
                        <a:lnTo>
                          <a:pt x="0" y="22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357">
                        <a:moveTo>
                          <a:pt x="0" y="3"/>
                        </a:moveTo>
                        <a:cubicBezTo>
                          <a:pt x="30" y="0"/>
                          <a:pt x="108" y="10"/>
                          <a:pt x="180" y="25"/>
                        </a:cubicBezTo>
                        <a:cubicBezTo>
                          <a:pt x="252" y="39"/>
                          <a:pt x="362" y="61"/>
                          <a:pt x="432" y="90"/>
                        </a:cubicBezTo>
                        <a:cubicBezTo>
                          <a:pt x="503" y="118"/>
                          <a:pt x="565" y="164"/>
                          <a:pt x="603" y="194"/>
                        </a:cubicBezTo>
                        <a:cubicBezTo>
                          <a:pt x="640" y="225"/>
                          <a:pt x="652" y="248"/>
                          <a:pt x="657" y="275"/>
                        </a:cubicBezTo>
                        <a:cubicBezTo>
                          <a:pt x="662" y="302"/>
                          <a:pt x="643" y="354"/>
                          <a:pt x="632" y="355"/>
                        </a:cubicBezTo>
                        <a:cubicBezTo>
                          <a:pt x="622" y="357"/>
                          <a:pt x="613" y="310"/>
                          <a:pt x="595" y="285"/>
                        </a:cubicBezTo>
                        <a:cubicBezTo>
                          <a:pt x="576" y="261"/>
                          <a:pt x="550" y="229"/>
                          <a:pt x="520" y="204"/>
                        </a:cubicBezTo>
                        <a:cubicBezTo>
                          <a:pt x="489" y="179"/>
                          <a:pt x="465" y="156"/>
                          <a:pt x="414" y="133"/>
                        </a:cubicBezTo>
                        <a:cubicBezTo>
                          <a:pt x="364" y="110"/>
                          <a:pt x="286" y="85"/>
                          <a:pt x="216" y="68"/>
                        </a:cubicBezTo>
                        <a:cubicBezTo>
                          <a:pt x="147" y="51"/>
                          <a:pt x="35" y="45"/>
                          <a:pt x="0" y="34"/>
                        </a:cubicBez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00480" y="910440"/>
                  <a:ext cx="949320" cy="1228320"/>
                  <a:chOff x="7800480" y="910440"/>
                  <a:chExt cx="949320" cy="12283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3144000">
                    <a:off x="7692480" y="1229040"/>
                    <a:ext cx="88524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2" h="255">
                        <a:moveTo>
                          <a:pt x="0" y="255"/>
                        </a:moveTo>
                        <a:cubicBezTo>
                          <a:pt x="11" y="246"/>
                          <a:pt x="288" y="125"/>
                          <a:pt x="438" y="85"/>
                        </a:cubicBezTo>
                        <a:cubicBezTo>
                          <a:pt x="589" y="44"/>
                          <a:pt x="745" y="24"/>
                          <a:pt x="904" y="12"/>
                        </a:cubicBezTo>
                        <a:cubicBezTo>
                          <a:pt x="1062" y="0"/>
                          <a:pt x="1312" y="5"/>
                          <a:pt x="1392" y="12"/>
                        </a:cubicBezTo>
                        <a:lnTo>
                          <a:pt x="1384" y="51"/>
                        </a:lnTo>
                        <a:cubicBezTo>
                          <a:pt x="1301" y="58"/>
                          <a:pt x="1072" y="35"/>
                          <a:pt x="898" y="51"/>
                        </a:cubicBezTo>
                        <a:cubicBezTo>
                          <a:pt x="614" y="68"/>
                          <a:pt x="507" y="97"/>
                          <a:pt x="332" y="147"/>
                        </a:cubicBezTo>
                        <a:cubicBezTo>
                          <a:pt x="181" y="180"/>
                          <a:pt x="68" y="232"/>
                          <a:pt x="0" y="255"/>
                        </a:cubicBezTo>
                        <a:lnTo>
                          <a:pt x="0" y="255"/>
                        </a:lnTo>
                        <a:lnTo>
                          <a:pt x="0" y="255"/>
                        </a:lnTo>
                        <a:lnTo>
                          <a:pt x="0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3144000">
                    <a:off x="8267040" y="1747080"/>
                    <a:ext cx="4748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7" h="397">
                        <a:moveTo>
                          <a:pt x="2" y="4"/>
                        </a:moveTo>
                        <a:cubicBezTo>
                          <a:pt x="35" y="0"/>
                          <a:pt x="123" y="12"/>
                          <a:pt x="204" y="28"/>
                        </a:cubicBezTo>
                        <a:cubicBezTo>
                          <a:pt x="286" y="44"/>
                          <a:pt x="409" y="68"/>
                          <a:pt x="488" y="100"/>
                        </a:cubicBezTo>
                        <a:cubicBezTo>
                          <a:pt x="568" y="131"/>
                          <a:pt x="638" y="182"/>
                          <a:pt x="680" y="216"/>
                        </a:cubicBezTo>
                        <a:cubicBezTo>
                          <a:pt x="723" y="250"/>
                          <a:pt x="736" y="276"/>
                          <a:pt x="742" y="306"/>
                        </a:cubicBezTo>
                        <a:cubicBezTo>
                          <a:pt x="747" y="336"/>
                          <a:pt x="725" y="393"/>
                          <a:pt x="713" y="395"/>
                        </a:cubicBezTo>
                        <a:cubicBezTo>
                          <a:pt x="701" y="397"/>
                          <a:pt x="692" y="345"/>
                          <a:pt x="671" y="318"/>
                        </a:cubicBezTo>
                        <a:cubicBezTo>
                          <a:pt x="650" y="290"/>
                          <a:pt x="620" y="255"/>
                          <a:pt x="586" y="227"/>
                        </a:cubicBezTo>
                        <a:cubicBezTo>
                          <a:pt x="553" y="199"/>
                          <a:pt x="525" y="173"/>
                          <a:pt x="468" y="148"/>
                        </a:cubicBezTo>
                        <a:cubicBezTo>
                          <a:pt x="411" y="123"/>
                          <a:pt x="323" y="94"/>
                          <a:pt x="245" y="76"/>
                        </a:cubicBezTo>
                        <a:cubicBezTo>
                          <a:pt x="167" y="57"/>
                          <a:pt x="40" y="50"/>
                          <a:pt x="0" y="38"/>
                        </a:cubicBez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787160" y="956880"/>
                  <a:ext cx="732240" cy="1262160"/>
                  <a:chOff x="7787160" y="956880"/>
                  <a:chExt cx="732240" cy="126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3745200">
                    <a:off x="7628040" y="1290240"/>
                    <a:ext cx="846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32" h="242">
                        <a:moveTo>
                          <a:pt x="0" y="242"/>
                        </a:moveTo>
                        <a:cubicBezTo>
                          <a:pt x="10" y="234"/>
                          <a:pt x="275" y="119"/>
                          <a:pt x="420" y="80"/>
                        </a:cubicBezTo>
                        <a:cubicBezTo>
                          <a:pt x="564" y="42"/>
                          <a:pt x="712" y="23"/>
                          <a:pt x="864" y="11"/>
                        </a:cubicBezTo>
                        <a:cubicBezTo>
                          <a:pt x="1016" y="0"/>
                          <a:pt x="1255" y="5"/>
                          <a:pt x="1332" y="11"/>
                        </a:cubicBezTo>
                        <a:lnTo>
                          <a:pt x="1324" y="49"/>
                        </a:lnTo>
                        <a:cubicBezTo>
                          <a:pt x="1245" y="55"/>
                          <a:pt x="1026" y="34"/>
                          <a:pt x="858" y="49"/>
                        </a:cubicBezTo>
                        <a:cubicBezTo>
                          <a:pt x="588" y="65"/>
                          <a:pt x="485" y="92"/>
                          <a:pt x="317" y="140"/>
                        </a:cubicBezTo>
                        <a:cubicBezTo>
                          <a:pt x="173" y="171"/>
                          <a:pt x="65" y="221"/>
                          <a:pt x="0" y="242"/>
                        </a:cubicBezTo>
                        <a:lnTo>
                          <a:pt x="0" y="242"/>
                        </a:lnTo>
                        <a:lnTo>
                          <a:pt x="0" y="242"/>
                        </a:lnTo>
                        <a:lnTo>
                          <a:pt x="0" y="24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3745200">
                    <a:off x="8080200" y="184104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379">
                        <a:moveTo>
                          <a:pt x="2" y="3"/>
                        </a:moveTo>
                        <a:cubicBezTo>
                          <a:pt x="34" y="0"/>
                          <a:pt x="118" y="11"/>
                          <a:pt x="195" y="26"/>
                        </a:cubicBezTo>
                        <a:cubicBezTo>
                          <a:pt x="273" y="42"/>
                          <a:pt x="390" y="65"/>
                          <a:pt x="466" y="96"/>
                        </a:cubicBezTo>
                        <a:cubicBezTo>
                          <a:pt x="542" y="126"/>
                          <a:pt x="609" y="174"/>
                          <a:pt x="650" y="207"/>
                        </a:cubicBezTo>
                        <a:cubicBezTo>
                          <a:pt x="690" y="240"/>
                          <a:pt x="703" y="264"/>
                          <a:pt x="708" y="292"/>
                        </a:cubicBezTo>
                        <a:cubicBezTo>
                          <a:pt x="714" y="320"/>
                          <a:pt x="693" y="376"/>
                          <a:pt x="681" y="377"/>
                        </a:cubicBezTo>
                        <a:cubicBezTo>
                          <a:pt x="670" y="379"/>
                          <a:pt x="661" y="329"/>
                          <a:pt x="641" y="303"/>
                        </a:cubicBezTo>
                        <a:cubicBezTo>
                          <a:pt x="621" y="277"/>
                          <a:pt x="592" y="244"/>
                          <a:pt x="560" y="218"/>
                        </a:cubicBezTo>
                        <a:cubicBezTo>
                          <a:pt x="528" y="191"/>
                          <a:pt x="501" y="166"/>
                          <a:pt x="448" y="142"/>
                        </a:cubicBezTo>
                        <a:cubicBezTo>
                          <a:pt x="392" y="118"/>
                          <a:pt x="308" y="90"/>
                          <a:pt x="233" y="72"/>
                        </a:cubicBezTo>
                        <a:cubicBezTo>
                          <a:pt x="159" y="55"/>
                          <a:pt x="38" y="48"/>
                          <a:pt x="0" y="36"/>
                        </a:cubicBez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758000" y="1005840"/>
                  <a:ext cx="510120" cy="1242720"/>
                  <a:chOff x="7758000" y="1005840"/>
                  <a:chExt cx="510120" cy="12427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4286400">
                    <a:off x="7538760" y="1351080"/>
                    <a:ext cx="8215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2" h="202">
                        <a:moveTo>
                          <a:pt x="0" y="202"/>
                        </a:moveTo>
                        <a:cubicBezTo>
                          <a:pt x="10" y="194"/>
                          <a:pt x="267" y="98"/>
                          <a:pt x="407" y="66"/>
                        </a:cubicBezTo>
                        <a:cubicBezTo>
                          <a:pt x="547" y="34"/>
                          <a:pt x="691" y="18"/>
                          <a:pt x="838" y="9"/>
                        </a:cubicBezTo>
                        <a:cubicBezTo>
                          <a:pt x="986" y="0"/>
                          <a:pt x="1218" y="4"/>
                          <a:pt x="1292" y="9"/>
                        </a:cubicBezTo>
                        <a:lnTo>
                          <a:pt x="1284" y="40"/>
                        </a:lnTo>
                        <a:cubicBezTo>
                          <a:pt x="1208" y="45"/>
                          <a:pt x="995" y="28"/>
                          <a:pt x="832" y="40"/>
                        </a:cubicBezTo>
                        <a:cubicBezTo>
                          <a:pt x="570" y="53"/>
                          <a:pt x="470" y="75"/>
                          <a:pt x="308" y="116"/>
                        </a:cubicBezTo>
                        <a:cubicBezTo>
                          <a:pt x="168" y="141"/>
                          <a:pt x="63" y="183"/>
                          <a:pt x="0" y="202"/>
                        </a:cubicBezTo>
                        <a:lnTo>
                          <a:pt x="0" y="202"/>
                        </a:lnTo>
                        <a:lnTo>
                          <a:pt x="0" y="202"/>
                        </a:lnTo>
                        <a:lnTo>
                          <a:pt x="0" y="20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4286400">
                    <a:off x="7883640" y="1908720"/>
                    <a:ext cx="43992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312">
                        <a:moveTo>
                          <a:pt x="0" y="3"/>
                        </a:moveTo>
                        <a:cubicBezTo>
                          <a:pt x="32" y="0"/>
                          <a:pt x="113" y="9"/>
                          <a:pt x="189" y="22"/>
                        </a:cubicBezTo>
                        <a:cubicBezTo>
                          <a:pt x="264" y="34"/>
                          <a:pt x="380" y="54"/>
                          <a:pt x="453" y="78"/>
                        </a:cubicBezTo>
                        <a:cubicBezTo>
                          <a:pt x="526" y="103"/>
                          <a:pt x="591" y="143"/>
                          <a:pt x="630" y="170"/>
                        </a:cubicBezTo>
                        <a:cubicBezTo>
                          <a:pt x="670" y="197"/>
                          <a:pt x="682" y="217"/>
                          <a:pt x="687" y="240"/>
                        </a:cubicBezTo>
                        <a:cubicBezTo>
                          <a:pt x="692" y="263"/>
                          <a:pt x="672" y="309"/>
                          <a:pt x="661" y="310"/>
                        </a:cubicBezTo>
                        <a:cubicBezTo>
                          <a:pt x="650" y="312"/>
                          <a:pt x="641" y="271"/>
                          <a:pt x="622" y="249"/>
                        </a:cubicBezTo>
                        <a:cubicBezTo>
                          <a:pt x="602" y="227"/>
                          <a:pt x="575" y="201"/>
                          <a:pt x="543" y="179"/>
                        </a:cubicBezTo>
                        <a:cubicBezTo>
                          <a:pt x="512" y="157"/>
                          <a:pt x="486" y="136"/>
                          <a:pt x="435" y="116"/>
                        </a:cubicBezTo>
                        <a:cubicBezTo>
                          <a:pt x="382" y="97"/>
                          <a:pt x="299" y="74"/>
                          <a:pt x="226" y="60"/>
                        </a:cubicBezTo>
                        <a:cubicBezTo>
                          <a:pt x="154" y="45"/>
                          <a:pt x="36" y="39"/>
                          <a:pt x="0" y="30"/>
                        </a:cubicBez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734240" y="1059840"/>
                  <a:ext cx="289800" cy="1155960"/>
                  <a:chOff x="7734240" y="1059840"/>
                  <a:chExt cx="289800" cy="1155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4898400">
                    <a:off x="7475400" y="1378080"/>
                    <a:ext cx="75528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202">
                        <a:moveTo>
                          <a:pt x="0" y="202"/>
                        </a:moveTo>
                        <a:cubicBezTo>
                          <a:pt x="9" y="194"/>
                          <a:pt x="245" y="98"/>
                          <a:pt x="374" y="66"/>
                        </a:cubicBezTo>
                        <a:cubicBezTo>
                          <a:pt x="503" y="34"/>
                          <a:pt x="635" y="18"/>
                          <a:pt x="770" y="9"/>
                        </a:cubicBezTo>
                        <a:cubicBezTo>
                          <a:pt x="906" y="0"/>
                          <a:pt x="1119" y="4"/>
                          <a:pt x="1187" y="9"/>
                        </a:cubicBezTo>
                        <a:lnTo>
                          <a:pt x="1181" y="40"/>
                        </a:lnTo>
                        <a:cubicBezTo>
                          <a:pt x="1110" y="45"/>
                          <a:pt x="915" y="28"/>
                          <a:pt x="765" y="40"/>
                        </a:cubicBezTo>
                        <a:cubicBezTo>
                          <a:pt x="524" y="53"/>
                          <a:pt x="432" y="75"/>
                          <a:pt x="283" y="116"/>
                        </a:cubicBezTo>
                        <a:cubicBezTo>
                          <a:pt x="154" y="141"/>
                          <a:pt x="58" y="183"/>
                          <a:pt x="0" y="202"/>
                        </a:cubicBezTo>
                        <a:lnTo>
                          <a:pt x="0" y="202"/>
                        </a:lnTo>
                        <a:lnTo>
                          <a:pt x="0" y="202"/>
                        </a:lnTo>
                        <a:lnTo>
                          <a:pt x="0" y="20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4898400">
                    <a:off x="7692840" y="1900800"/>
                    <a:ext cx="40500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312">
                        <a:moveTo>
                          <a:pt x="0" y="3"/>
                        </a:moveTo>
                        <a:cubicBezTo>
                          <a:pt x="29" y="0"/>
                          <a:pt x="104" y="9"/>
                          <a:pt x="174" y="22"/>
                        </a:cubicBezTo>
                        <a:cubicBezTo>
                          <a:pt x="243" y="34"/>
                          <a:pt x="348" y="54"/>
                          <a:pt x="416" y="78"/>
                        </a:cubicBezTo>
                        <a:cubicBezTo>
                          <a:pt x="484" y="103"/>
                          <a:pt x="544" y="143"/>
                          <a:pt x="580" y="170"/>
                        </a:cubicBezTo>
                        <a:cubicBezTo>
                          <a:pt x="616" y="197"/>
                          <a:pt x="628" y="217"/>
                          <a:pt x="632" y="240"/>
                        </a:cubicBezTo>
                        <a:cubicBezTo>
                          <a:pt x="637" y="263"/>
                          <a:pt x="618" y="309"/>
                          <a:pt x="608" y="310"/>
                        </a:cubicBezTo>
                        <a:cubicBezTo>
                          <a:pt x="598" y="312"/>
                          <a:pt x="590" y="271"/>
                          <a:pt x="572" y="249"/>
                        </a:cubicBezTo>
                        <a:cubicBezTo>
                          <a:pt x="554" y="227"/>
                          <a:pt x="529" y="201"/>
                          <a:pt x="500" y="179"/>
                        </a:cubicBezTo>
                        <a:cubicBezTo>
                          <a:pt x="471" y="157"/>
                          <a:pt x="448" y="136"/>
                          <a:pt x="399" y="116"/>
                        </a:cubicBezTo>
                        <a:cubicBezTo>
                          <a:pt x="350" y="97"/>
                          <a:pt x="275" y="74"/>
                          <a:pt x="208" y="60"/>
                        </a:cubicBezTo>
                        <a:cubicBezTo>
                          <a:pt x="141" y="45"/>
                          <a:pt x="33" y="39"/>
                          <a:pt x="0" y="30"/>
                        </a:cubicBez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501680" y="1081080"/>
                  <a:ext cx="277560" cy="1130760"/>
                  <a:chOff x="7501680" y="1081080"/>
                  <a:chExt cx="277560" cy="1130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5755200">
                    <a:off x="7324200" y="1403640"/>
                    <a:ext cx="73656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9" h="152">
                        <a:moveTo>
                          <a:pt x="0" y="152"/>
                        </a:moveTo>
                        <a:cubicBezTo>
                          <a:pt x="8" y="148"/>
                          <a:pt x="240" y="74"/>
                          <a:pt x="364" y="50"/>
                        </a:cubicBezTo>
                        <a:cubicBezTo>
                          <a:pt x="491" y="26"/>
                          <a:pt x="619" y="14"/>
                          <a:pt x="753" y="7"/>
                        </a:cubicBezTo>
                        <a:cubicBezTo>
                          <a:pt x="884" y="0"/>
                          <a:pt x="1094" y="3"/>
                          <a:pt x="1159" y="7"/>
                        </a:cubicBezTo>
                        <a:lnTo>
                          <a:pt x="1153" y="31"/>
                        </a:lnTo>
                        <a:cubicBezTo>
                          <a:pt x="1084" y="34"/>
                          <a:pt x="893" y="21"/>
                          <a:pt x="748" y="31"/>
                        </a:cubicBezTo>
                        <a:cubicBezTo>
                          <a:pt x="511" y="40"/>
                          <a:pt x="421" y="57"/>
                          <a:pt x="275" y="88"/>
                        </a:cubicBezTo>
                        <a:cubicBezTo>
                          <a:pt x="150" y="108"/>
                          <a:pt x="56" y="139"/>
                          <a:pt x="0" y="152"/>
                        </a:cubicBezTo>
                        <a:lnTo>
                          <a:pt x="0" y="152"/>
                        </a:lnTo>
                        <a:lnTo>
                          <a:pt x="0" y="152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5755200">
                    <a:off x="7398720" y="1931040"/>
                    <a:ext cx="39672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5" h="239">
                        <a:moveTo>
                          <a:pt x="0" y="1"/>
                        </a:moveTo>
                        <a:cubicBezTo>
                          <a:pt x="28" y="0"/>
                          <a:pt x="102" y="6"/>
                          <a:pt x="169" y="15"/>
                        </a:cubicBezTo>
                        <a:cubicBezTo>
                          <a:pt x="238" y="26"/>
                          <a:pt x="341" y="40"/>
                          <a:pt x="407" y="60"/>
                        </a:cubicBezTo>
                        <a:cubicBezTo>
                          <a:pt x="474" y="79"/>
                          <a:pt x="533" y="109"/>
                          <a:pt x="568" y="130"/>
                        </a:cubicBezTo>
                        <a:cubicBezTo>
                          <a:pt x="603" y="151"/>
                          <a:pt x="615" y="166"/>
                          <a:pt x="619" y="184"/>
                        </a:cubicBezTo>
                        <a:cubicBezTo>
                          <a:pt x="625" y="201"/>
                          <a:pt x="606" y="235"/>
                          <a:pt x="596" y="237"/>
                        </a:cubicBezTo>
                        <a:cubicBezTo>
                          <a:pt x="586" y="240"/>
                          <a:pt x="578" y="207"/>
                          <a:pt x="560" y="190"/>
                        </a:cubicBezTo>
                        <a:cubicBezTo>
                          <a:pt x="543" y="173"/>
                          <a:pt x="518" y="154"/>
                          <a:pt x="490" y="136"/>
                        </a:cubicBezTo>
                        <a:cubicBezTo>
                          <a:pt x="462" y="120"/>
                          <a:pt x="439" y="104"/>
                          <a:pt x="390" y="89"/>
                        </a:cubicBezTo>
                        <a:cubicBezTo>
                          <a:pt x="343" y="74"/>
                          <a:pt x="269" y="55"/>
                          <a:pt x="203" y="45"/>
                        </a:cubicBezTo>
                        <a:cubicBezTo>
                          <a:pt x="138" y="34"/>
                          <a:pt x="32" y="30"/>
                          <a:pt x="0" y="21"/>
                        </a:cubicBez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6" name=""/>
              <p:cNvSpPr/>
              <p:nvPr/>
            </p:nvSpPr>
            <p:spPr>
              <a:xfrm flipH="1">
                <a:off x="7296120" y="122256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392" h="1194">
                    <a:moveTo>
                      <a:pt x="0" y="31"/>
                    </a:moveTo>
                    <a:cubicBezTo>
                      <a:pt x="55" y="15"/>
                      <a:pt x="112" y="0"/>
                      <a:pt x="120" y="7"/>
                    </a:cubicBezTo>
                    <a:cubicBezTo>
                      <a:pt x="128" y="15"/>
                      <a:pt x="39" y="67"/>
                      <a:pt x="47" y="80"/>
                    </a:cubicBezTo>
                    <a:cubicBezTo>
                      <a:pt x="55" y="91"/>
                      <a:pt x="161" y="67"/>
                      <a:pt x="169" y="80"/>
                    </a:cubicBezTo>
                    <a:cubicBezTo>
                      <a:pt x="177" y="91"/>
                      <a:pt x="92" y="136"/>
                      <a:pt x="96" y="152"/>
                    </a:cubicBezTo>
                    <a:cubicBezTo>
                      <a:pt x="100" y="168"/>
                      <a:pt x="185" y="165"/>
                      <a:pt x="193" y="177"/>
                    </a:cubicBezTo>
                    <a:cubicBezTo>
                      <a:pt x="201" y="188"/>
                      <a:pt x="136" y="213"/>
                      <a:pt x="145" y="225"/>
                    </a:cubicBezTo>
                    <a:cubicBezTo>
                      <a:pt x="153" y="238"/>
                      <a:pt x="234" y="238"/>
                      <a:pt x="242" y="249"/>
                    </a:cubicBezTo>
                    <a:cubicBezTo>
                      <a:pt x="250" y="262"/>
                      <a:pt x="189" y="285"/>
                      <a:pt x="193" y="298"/>
                    </a:cubicBezTo>
                    <a:cubicBezTo>
                      <a:pt x="197" y="310"/>
                      <a:pt x="258" y="310"/>
                      <a:pt x="266" y="322"/>
                    </a:cubicBezTo>
                    <a:cubicBezTo>
                      <a:pt x="274" y="334"/>
                      <a:pt x="238" y="354"/>
                      <a:pt x="242" y="370"/>
                    </a:cubicBezTo>
                    <a:cubicBezTo>
                      <a:pt x="246" y="386"/>
                      <a:pt x="283" y="403"/>
                      <a:pt x="291" y="420"/>
                    </a:cubicBezTo>
                    <a:cubicBezTo>
                      <a:pt x="299" y="435"/>
                      <a:pt x="283" y="448"/>
                      <a:pt x="291" y="467"/>
                    </a:cubicBezTo>
                    <a:cubicBezTo>
                      <a:pt x="299" y="487"/>
                      <a:pt x="335" y="517"/>
                      <a:pt x="339" y="540"/>
                    </a:cubicBezTo>
                    <a:cubicBezTo>
                      <a:pt x="343" y="564"/>
                      <a:pt x="311" y="593"/>
                      <a:pt x="315" y="614"/>
                    </a:cubicBezTo>
                    <a:cubicBezTo>
                      <a:pt x="319" y="633"/>
                      <a:pt x="360" y="641"/>
                      <a:pt x="364" y="661"/>
                    </a:cubicBezTo>
                    <a:cubicBezTo>
                      <a:pt x="368" y="682"/>
                      <a:pt x="339" y="709"/>
                      <a:pt x="339" y="735"/>
                    </a:cubicBezTo>
                    <a:cubicBezTo>
                      <a:pt x="339" y="758"/>
                      <a:pt x="364" y="787"/>
                      <a:pt x="364" y="806"/>
                    </a:cubicBezTo>
                    <a:cubicBezTo>
                      <a:pt x="364" y="827"/>
                      <a:pt x="335" y="835"/>
                      <a:pt x="339" y="855"/>
                    </a:cubicBezTo>
                    <a:cubicBezTo>
                      <a:pt x="343" y="875"/>
                      <a:pt x="384" y="903"/>
                      <a:pt x="388" y="928"/>
                    </a:cubicBezTo>
                    <a:cubicBezTo>
                      <a:pt x="392" y="953"/>
                      <a:pt x="364" y="972"/>
                      <a:pt x="364" y="1000"/>
                    </a:cubicBezTo>
                    <a:cubicBezTo>
                      <a:pt x="364" y="1029"/>
                      <a:pt x="388" y="1077"/>
                      <a:pt x="388" y="1097"/>
                    </a:cubicBezTo>
                    <a:cubicBezTo>
                      <a:pt x="388" y="1117"/>
                      <a:pt x="364" y="1105"/>
                      <a:pt x="364" y="1121"/>
                    </a:cubicBezTo>
                    <a:cubicBezTo>
                      <a:pt x="364" y="1138"/>
                      <a:pt x="376" y="1166"/>
                      <a:pt x="388" y="1194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844680" y="917280"/>
                <a:ext cx="2177640" cy="239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413" y="321"/>
                    </a:moveTo>
                    <a:arcTo wR="10800" hR="10800" stAng="-4560000" swAng="46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413" y="321"/>
                    </a:moveTo>
                    <a:arcTo wR="10800" hR="10800" stAng="-4560000" swAng="462000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7680240" y="227520"/>
                <a:ext cx="1544400" cy="20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36" y="15870"/>
                    </a:moveTo>
                    <a:arcTo wR="10800" hR="10800" stAng="1680000" swAng="70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36" y="15870"/>
                    </a:moveTo>
                    <a:arcTo wR="10800" hR="10800" stAng="1680000" swAng="7020000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6952680" y="760320"/>
                <a:ext cx="950040" cy="239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06" y="651"/>
                    </a:moveTo>
                    <a:arcTo wR="10800" hR="10800" stAng="-6600000" swAng="666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06" y="651"/>
                    </a:moveTo>
                    <a:arcTo wR="10800" hR="10800" stAng="-6600000" swAng="6660000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503400" y="819360"/>
                <a:ext cx="1464120" cy="23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07" y="934"/>
                    </a:moveTo>
                    <a:arcTo wR="10800" hR="10800" stAng="-6840000" swAng="69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07" y="934"/>
                    </a:moveTo>
                    <a:arcTo wR="10800" hR="10800" stAng="-6840000" swAng="690000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406560" y="598680"/>
                <a:ext cx="1525320" cy="239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00" y="2175"/>
                    </a:moveTo>
                    <a:arcTo wR="10800" hR="10800" stAng="-7620000" swAng="768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00" y="2175"/>
                    </a:moveTo>
                    <a:arcTo wR="10800" hR="10800" stAng="-7620000" swAng="768000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710120" y="770040"/>
                <a:ext cx="239760" cy="239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61" y="1846"/>
                    </a:moveTo>
                    <a:arcTo wR="10800" hR="10800" stAng="-7440000" swAng="75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61" y="1846"/>
                    </a:moveTo>
                    <a:arcTo wR="10800" hR="10800" stAng="-7440000" swAng="7500000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92480" y="770040"/>
                <a:ext cx="636840" cy="239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03" y="2407"/>
                    </a:moveTo>
                    <a:arcTo wR="10800" hR="10800" stAng="-7740000" swAng="7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03" y="2407"/>
                    </a:moveTo>
                    <a:arcTo wR="10800" hR="10800" stAng="-7740000" swAng="780000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89960" y="608040"/>
                <a:ext cx="907560" cy="239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03" y="2407"/>
                    </a:moveTo>
                    <a:arcTo wR="10800" hR="10800" stAng="-7740000" swAng="7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03" y="2407"/>
                    </a:moveTo>
                    <a:arcTo wR="10800" hR="10800" stAng="-7740000" swAng="7800000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390" h="1194">
                    <a:moveTo>
                      <a:pt x="0" y="31"/>
                    </a:moveTo>
                    <a:cubicBezTo>
                      <a:pt x="54" y="15"/>
                      <a:pt x="112" y="0"/>
                      <a:pt x="120" y="7"/>
                    </a:cubicBezTo>
                    <a:cubicBezTo>
                      <a:pt x="127" y="15"/>
                      <a:pt x="38" y="67"/>
                      <a:pt x="46" y="80"/>
                    </a:cubicBezTo>
                    <a:cubicBezTo>
                      <a:pt x="54" y="91"/>
                      <a:pt x="160" y="67"/>
                      <a:pt x="168" y="80"/>
                    </a:cubicBezTo>
                    <a:cubicBezTo>
                      <a:pt x="175" y="91"/>
                      <a:pt x="90" y="136"/>
                      <a:pt x="95" y="152"/>
                    </a:cubicBezTo>
                    <a:cubicBezTo>
                      <a:pt x="98" y="168"/>
                      <a:pt x="183" y="165"/>
                      <a:pt x="192" y="177"/>
                    </a:cubicBezTo>
                    <a:cubicBezTo>
                      <a:pt x="200" y="188"/>
                      <a:pt x="136" y="213"/>
                      <a:pt x="144" y="225"/>
                    </a:cubicBezTo>
                    <a:cubicBezTo>
                      <a:pt x="151" y="238"/>
                      <a:pt x="232" y="238"/>
                      <a:pt x="241" y="249"/>
                    </a:cubicBezTo>
                    <a:cubicBezTo>
                      <a:pt x="249" y="262"/>
                      <a:pt x="188" y="285"/>
                      <a:pt x="192" y="298"/>
                    </a:cubicBezTo>
                    <a:cubicBezTo>
                      <a:pt x="196" y="310"/>
                      <a:pt x="257" y="310"/>
                      <a:pt x="264" y="322"/>
                    </a:cubicBezTo>
                    <a:cubicBezTo>
                      <a:pt x="273" y="334"/>
                      <a:pt x="236" y="354"/>
                      <a:pt x="241" y="370"/>
                    </a:cubicBezTo>
                    <a:cubicBezTo>
                      <a:pt x="245" y="386"/>
                      <a:pt x="281" y="403"/>
                      <a:pt x="289" y="420"/>
                    </a:cubicBezTo>
                    <a:cubicBezTo>
                      <a:pt x="297" y="435"/>
                      <a:pt x="281" y="448"/>
                      <a:pt x="289" y="467"/>
                    </a:cubicBezTo>
                    <a:cubicBezTo>
                      <a:pt x="297" y="487"/>
                      <a:pt x="334" y="517"/>
                      <a:pt x="338" y="540"/>
                    </a:cubicBezTo>
                    <a:cubicBezTo>
                      <a:pt x="342" y="564"/>
                      <a:pt x="309" y="593"/>
                      <a:pt x="313" y="614"/>
                    </a:cubicBezTo>
                    <a:cubicBezTo>
                      <a:pt x="317" y="633"/>
                      <a:pt x="358" y="641"/>
                      <a:pt x="362" y="661"/>
                    </a:cubicBezTo>
                    <a:cubicBezTo>
                      <a:pt x="366" y="682"/>
                      <a:pt x="338" y="709"/>
                      <a:pt x="338" y="735"/>
                    </a:cubicBezTo>
                    <a:cubicBezTo>
                      <a:pt x="338" y="758"/>
                      <a:pt x="362" y="787"/>
                      <a:pt x="362" y="806"/>
                    </a:cubicBezTo>
                    <a:cubicBezTo>
                      <a:pt x="362" y="827"/>
                      <a:pt x="334" y="835"/>
                      <a:pt x="338" y="855"/>
                    </a:cubicBezTo>
                    <a:cubicBezTo>
                      <a:pt x="342" y="875"/>
                      <a:pt x="382" y="903"/>
                      <a:pt x="386" y="928"/>
                    </a:cubicBezTo>
                    <a:cubicBezTo>
                      <a:pt x="389" y="953"/>
                      <a:pt x="362" y="972"/>
                      <a:pt x="362" y="1000"/>
                    </a:cubicBezTo>
                    <a:cubicBezTo>
                      <a:pt x="362" y="1029"/>
                      <a:pt x="386" y="1077"/>
                      <a:pt x="386" y="1097"/>
                    </a:cubicBezTo>
                    <a:cubicBezTo>
                      <a:pt x="386" y="1117"/>
                      <a:pt x="362" y="1105"/>
                      <a:pt x="362" y="1121"/>
                    </a:cubicBezTo>
                    <a:cubicBezTo>
                      <a:pt x="362" y="1138"/>
                      <a:pt x="374" y="1166"/>
                      <a:pt x="386" y="1194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19660800">
                <a:off x="7611840" y="110232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355" h="677">
                    <a:moveTo>
                      <a:pt x="0" y="18"/>
                    </a:moveTo>
                    <a:cubicBezTo>
                      <a:pt x="49" y="9"/>
                      <a:pt x="100" y="0"/>
                      <a:pt x="109" y="4"/>
                    </a:cubicBezTo>
                    <a:cubicBezTo>
                      <a:pt x="116" y="9"/>
                      <a:pt x="35" y="38"/>
                      <a:pt x="42" y="45"/>
                    </a:cubicBezTo>
                    <a:cubicBezTo>
                      <a:pt x="49" y="52"/>
                      <a:pt x="146" y="38"/>
                      <a:pt x="153" y="45"/>
                    </a:cubicBezTo>
                    <a:cubicBezTo>
                      <a:pt x="159" y="52"/>
                      <a:pt x="83" y="77"/>
                      <a:pt x="87" y="86"/>
                    </a:cubicBezTo>
                    <a:cubicBezTo>
                      <a:pt x="90" y="95"/>
                      <a:pt x="168" y="93"/>
                      <a:pt x="175" y="100"/>
                    </a:cubicBezTo>
                    <a:cubicBezTo>
                      <a:pt x="182" y="107"/>
                      <a:pt x="123" y="121"/>
                      <a:pt x="130" y="127"/>
                    </a:cubicBezTo>
                    <a:cubicBezTo>
                      <a:pt x="137" y="134"/>
                      <a:pt x="211" y="134"/>
                      <a:pt x="218" y="141"/>
                    </a:cubicBezTo>
                    <a:cubicBezTo>
                      <a:pt x="225" y="148"/>
                      <a:pt x="171" y="162"/>
                      <a:pt x="175" y="169"/>
                    </a:cubicBezTo>
                    <a:cubicBezTo>
                      <a:pt x="179" y="175"/>
                      <a:pt x="234" y="175"/>
                      <a:pt x="241" y="182"/>
                    </a:cubicBezTo>
                    <a:cubicBezTo>
                      <a:pt x="248" y="189"/>
                      <a:pt x="215" y="201"/>
                      <a:pt x="218" y="210"/>
                    </a:cubicBezTo>
                    <a:cubicBezTo>
                      <a:pt x="222" y="219"/>
                      <a:pt x="256" y="228"/>
                      <a:pt x="263" y="237"/>
                    </a:cubicBezTo>
                    <a:cubicBezTo>
                      <a:pt x="271" y="246"/>
                      <a:pt x="256" y="253"/>
                      <a:pt x="263" y="264"/>
                    </a:cubicBezTo>
                    <a:cubicBezTo>
                      <a:pt x="271" y="276"/>
                      <a:pt x="303" y="292"/>
                      <a:pt x="307" y="306"/>
                    </a:cubicBezTo>
                    <a:cubicBezTo>
                      <a:pt x="310" y="319"/>
                      <a:pt x="281" y="335"/>
                      <a:pt x="285" y="347"/>
                    </a:cubicBezTo>
                    <a:cubicBezTo>
                      <a:pt x="289" y="358"/>
                      <a:pt x="326" y="363"/>
                      <a:pt x="329" y="374"/>
                    </a:cubicBezTo>
                    <a:cubicBezTo>
                      <a:pt x="333" y="386"/>
                      <a:pt x="307" y="402"/>
                      <a:pt x="307" y="415"/>
                    </a:cubicBezTo>
                    <a:cubicBezTo>
                      <a:pt x="307" y="429"/>
                      <a:pt x="329" y="445"/>
                      <a:pt x="329" y="457"/>
                    </a:cubicBezTo>
                    <a:cubicBezTo>
                      <a:pt x="329" y="469"/>
                      <a:pt x="303" y="473"/>
                      <a:pt x="307" y="485"/>
                    </a:cubicBezTo>
                    <a:cubicBezTo>
                      <a:pt x="310" y="496"/>
                      <a:pt x="348" y="512"/>
                      <a:pt x="351" y="526"/>
                    </a:cubicBezTo>
                    <a:cubicBezTo>
                      <a:pt x="355" y="540"/>
                      <a:pt x="329" y="551"/>
                      <a:pt x="329" y="567"/>
                    </a:cubicBezTo>
                    <a:cubicBezTo>
                      <a:pt x="329" y="583"/>
                      <a:pt x="351" y="610"/>
                      <a:pt x="351" y="622"/>
                    </a:cubicBezTo>
                    <a:cubicBezTo>
                      <a:pt x="351" y="633"/>
                      <a:pt x="329" y="626"/>
                      <a:pt x="329" y="636"/>
                    </a:cubicBezTo>
                    <a:cubicBezTo>
                      <a:pt x="329" y="645"/>
                      <a:pt x="339" y="661"/>
                      <a:pt x="351" y="677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6338880" y="417600"/>
                <a:ext cx="1522800" cy="239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63" y="3163"/>
                    </a:moveTo>
                    <a:arcTo wR="10800" hR="10800" stAng="-8100000" swAng="816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63" y="3163"/>
                    </a:moveTo>
                    <a:arcTo wR="10800" hR="10800" stAng="-8100000" swAng="816000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466320" y="160560"/>
                <a:ext cx="128844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41" y="5077"/>
                    </a:moveTo>
                    <a:arcTo wR="10800" hR="10800" stAng="-8880000" swAng="58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41" y="5077"/>
                    </a:moveTo>
                    <a:arcTo wR="10800" hR="10800" stAng="-8880000" swAng="5820000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616520" y="654120"/>
                <a:ext cx="545040" cy="236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00" y="2175"/>
                    </a:moveTo>
                    <a:arcTo wR="10800" hR="10800" stAng="-7620000" swAng="558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00" y="2175"/>
                    </a:moveTo>
                    <a:arcTo wR="10800" hR="10800" stAng="-7620000" swAng="5580000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554880" y="1285920"/>
                <a:ext cx="557280" cy="781200"/>
              </a:xfrm>
              <a:custGeom>
                <a:avLst/>
                <a:gdLst/>
                <a:ahLst/>
                <a:rect l="l" t="t" r="r" b="b"/>
                <a:pathLst>
                  <a:path w="877" h="1229">
                    <a:moveTo>
                      <a:pt x="0" y="32"/>
                    </a:moveTo>
                    <a:cubicBezTo>
                      <a:pt x="126" y="15"/>
                      <a:pt x="252" y="0"/>
                      <a:pt x="270" y="7"/>
                    </a:cubicBezTo>
                    <a:cubicBezTo>
                      <a:pt x="288" y="15"/>
                      <a:pt x="90" y="69"/>
                      <a:pt x="108" y="82"/>
                    </a:cubicBezTo>
                    <a:cubicBezTo>
                      <a:pt x="126" y="95"/>
                      <a:pt x="362" y="69"/>
                      <a:pt x="380" y="82"/>
                    </a:cubicBezTo>
                    <a:cubicBezTo>
                      <a:pt x="398" y="95"/>
                      <a:pt x="207" y="141"/>
                      <a:pt x="216" y="157"/>
                    </a:cubicBezTo>
                    <a:cubicBezTo>
                      <a:pt x="225" y="173"/>
                      <a:pt x="416" y="169"/>
                      <a:pt x="434" y="181"/>
                    </a:cubicBezTo>
                    <a:cubicBezTo>
                      <a:pt x="452" y="195"/>
                      <a:pt x="307" y="219"/>
                      <a:pt x="325" y="232"/>
                    </a:cubicBezTo>
                    <a:cubicBezTo>
                      <a:pt x="343" y="244"/>
                      <a:pt x="524" y="244"/>
                      <a:pt x="542" y="256"/>
                    </a:cubicBezTo>
                    <a:cubicBezTo>
                      <a:pt x="560" y="270"/>
                      <a:pt x="425" y="294"/>
                      <a:pt x="434" y="307"/>
                    </a:cubicBezTo>
                    <a:cubicBezTo>
                      <a:pt x="443" y="319"/>
                      <a:pt x="578" y="319"/>
                      <a:pt x="597" y="331"/>
                    </a:cubicBezTo>
                    <a:cubicBezTo>
                      <a:pt x="615" y="345"/>
                      <a:pt x="533" y="364"/>
                      <a:pt x="542" y="382"/>
                    </a:cubicBezTo>
                    <a:cubicBezTo>
                      <a:pt x="551" y="398"/>
                      <a:pt x="633" y="414"/>
                      <a:pt x="651" y="431"/>
                    </a:cubicBezTo>
                    <a:cubicBezTo>
                      <a:pt x="669" y="448"/>
                      <a:pt x="633" y="460"/>
                      <a:pt x="651" y="481"/>
                    </a:cubicBezTo>
                    <a:cubicBezTo>
                      <a:pt x="669" y="502"/>
                      <a:pt x="751" y="531"/>
                      <a:pt x="760" y="556"/>
                    </a:cubicBezTo>
                    <a:cubicBezTo>
                      <a:pt x="769" y="581"/>
                      <a:pt x="696" y="610"/>
                      <a:pt x="706" y="631"/>
                    </a:cubicBezTo>
                    <a:cubicBezTo>
                      <a:pt x="715" y="651"/>
                      <a:pt x="805" y="660"/>
                      <a:pt x="814" y="680"/>
                    </a:cubicBezTo>
                    <a:cubicBezTo>
                      <a:pt x="823" y="701"/>
                      <a:pt x="760" y="730"/>
                      <a:pt x="760" y="755"/>
                    </a:cubicBezTo>
                    <a:cubicBezTo>
                      <a:pt x="760" y="780"/>
                      <a:pt x="814" y="809"/>
                      <a:pt x="814" y="830"/>
                    </a:cubicBezTo>
                    <a:cubicBezTo>
                      <a:pt x="814" y="851"/>
                      <a:pt x="751" y="859"/>
                      <a:pt x="760" y="880"/>
                    </a:cubicBezTo>
                    <a:cubicBezTo>
                      <a:pt x="769" y="901"/>
                      <a:pt x="859" y="930"/>
                      <a:pt x="868" y="955"/>
                    </a:cubicBezTo>
                    <a:cubicBezTo>
                      <a:pt x="877" y="980"/>
                      <a:pt x="814" y="1001"/>
                      <a:pt x="814" y="1030"/>
                    </a:cubicBezTo>
                    <a:cubicBezTo>
                      <a:pt x="814" y="1059"/>
                      <a:pt x="868" y="1109"/>
                      <a:pt x="868" y="1129"/>
                    </a:cubicBezTo>
                    <a:cubicBezTo>
                      <a:pt x="868" y="1150"/>
                      <a:pt x="814" y="1138"/>
                      <a:pt x="814" y="1154"/>
                    </a:cubicBezTo>
                    <a:cubicBezTo>
                      <a:pt x="814" y="1171"/>
                      <a:pt x="841" y="1200"/>
                      <a:pt x="868" y="1230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815880" y="4590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562" h="1232">
                    <a:moveTo>
                      <a:pt x="0" y="33"/>
                    </a:moveTo>
                    <a:cubicBezTo>
                      <a:pt x="81" y="16"/>
                      <a:pt x="162" y="0"/>
                      <a:pt x="174" y="8"/>
                    </a:cubicBezTo>
                    <a:cubicBezTo>
                      <a:pt x="185" y="16"/>
                      <a:pt x="58" y="70"/>
                      <a:pt x="69" y="83"/>
                    </a:cubicBezTo>
                    <a:cubicBezTo>
                      <a:pt x="81" y="95"/>
                      <a:pt x="232" y="70"/>
                      <a:pt x="243" y="83"/>
                    </a:cubicBezTo>
                    <a:cubicBezTo>
                      <a:pt x="255" y="95"/>
                      <a:pt x="133" y="141"/>
                      <a:pt x="139" y="158"/>
                    </a:cubicBezTo>
                    <a:cubicBezTo>
                      <a:pt x="145" y="174"/>
                      <a:pt x="266" y="170"/>
                      <a:pt x="278" y="183"/>
                    </a:cubicBezTo>
                    <a:cubicBezTo>
                      <a:pt x="290" y="195"/>
                      <a:pt x="197" y="220"/>
                      <a:pt x="208" y="233"/>
                    </a:cubicBezTo>
                    <a:cubicBezTo>
                      <a:pt x="220" y="245"/>
                      <a:pt x="336" y="245"/>
                      <a:pt x="348" y="258"/>
                    </a:cubicBezTo>
                    <a:cubicBezTo>
                      <a:pt x="359" y="270"/>
                      <a:pt x="272" y="295"/>
                      <a:pt x="278" y="308"/>
                    </a:cubicBezTo>
                    <a:cubicBezTo>
                      <a:pt x="284" y="320"/>
                      <a:pt x="371" y="320"/>
                      <a:pt x="382" y="333"/>
                    </a:cubicBezTo>
                    <a:cubicBezTo>
                      <a:pt x="394" y="345"/>
                      <a:pt x="342" y="366"/>
                      <a:pt x="348" y="383"/>
                    </a:cubicBezTo>
                    <a:cubicBezTo>
                      <a:pt x="353" y="399"/>
                      <a:pt x="406" y="416"/>
                      <a:pt x="417" y="433"/>
                    </a:cubicBezTo>
                    <a:cubicBezTo>
                      <a:pt x="429" y="449"/>
                      <a:pt x="406" y="462"/>
                      <a:pt x="417" y="483"/>
                    </a:cubicBezTo>
                    <a:cubicBezTo>
                      <a:pt x="429" y="503"/>
                      <a:pt x="481" y="533"/>
                      <a:pt x="487" y="558"/>
                    </a:cubicBezTo>
                    <a:cubicBezTo>
                      <a:pt x="493" y="583"/>
                      <a:pt x="446" y="612"/>
                      <a:pt x="452" y="633"/>
                    </a:cubicBezTo>
                    <a:cubicBezTo>
                      <a:pt x="458" y="653"/>
                      <a:pt x="516" y="662"/>
                      <a:pt x="522" y="683"/>
                    </a:cubicBezTo>
                    <a:cubicBezTo>
                      <a:pt x="527" y="703"/>
                      <a:pt x="487" y="733"/>
                      <a:pt x="487" y="758"/>
                    </a:cubicBezTo>
                    <a:cubicBezTo>
                      <a:pt x="487" y="782"/>
                      <a:pt x="522" y="812"/>
                      <a:pt x="522" y="832"/>
                    </a:cubicBezTo>
                    <a:cubicBezTo>
                      <a:pt x="522" y="853"/>
                      <a:pt x="481" y="862"/>
                      <a:pt x="487" y="882"/>
                    </a:cubicBezTo>
                    <a:cubicBezTo>
                      <a:pt x="493" y="903"/>
                      <a:pt x="551" y="932"/>
                      <a:pt x="556" y="957"/>
                    </a:cubicBezTo>
                    <a:cubicBezTo>
                      <a:pt x="562" y="982"/>
                      <a:pt x="522" y="1003"/>
                      <a:pt x="522" y="1032"/>
                    </a:cubicBezTo>
                    <a:cubicBezTo>
                      <a:pt x="522" y="1062"/>
                      <a:pt x="556" y="1112"/>
                      <a:pt x="556" y="1132"/>
                    </a:cubicBezTo>
                    <a:cubicBezTo>
                      <a:pt x="556" y="1153"/>
                      <a:pt x="522" y="1141"/>
                      <a:pt x="522" y="1157"/>
                    </a:cubicBezTo>
                    <a:cubicBezTo>
                      <a:pt x="522" y="1174"/>
                      <a:pt x="539" y="1203"/>
                      <a:pt x="556" y="123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337" h="1230">
                    <a:moveTo>
                      <a:pt x="0" y="32"/>
                    </a:moveTo>
                    <a:cubicBezTo>
                      <a:pt x="47" y="15"/>
                      <a:pt x="96" y="0"/>
                      <a:pt x="103" y="7"/>
                    </a:cubicBezTo>
                    <a:cubicBezTo>
                      <a:pt x="110" y="15"/>
                      <a:pt x="33" y="70"/>
                      <a:pt x="40" y="83"/>
                    </a:cubicBezTo>
                    <a:cubicBezTo>
                      <a:pt x="47" y="95"/>
                      <a:pt x="138" y="70"/>
                      <a:pt x="145" y="83"/>
                    </a:cubicBezTo>
                    <a:cubicBezTo>
                      <a:pt x="152" y="95"/>
                      <a:pt x="79" y="141"/>
                      <a:pt x="82" y="158"/>
                    </a:cubicBezTo>
                    <a:cubicBezTo>
                      <a:pt x="86" y="174"/>
                      <a:pt x="159" y="170"/>
                      <a:pt x="166" y="182"/>
                    </a:cubicBezTo>
                    <a:cubicBezTo>
                      <a:pt x="173" y="195"/>
                      <a:pt x="117" y="220"/>
                      <a:pt x="124" y="232"/>
                    </a:cubicBezTo>
                    <a:cubicBezTo>
                      <a:pt x="131" y="245"/>
                      <a:pt x="201" y="245"/>
                      <a:pt x="208" y="257"/>
                    </a:cubicBezTo>
                    <a:cubicBezTo>
                      <a:pt x="215" y="270"/>
                      <a:pt x="162" y="295"/>
                      <a:pt x="166" y="307"/>
                    </a:cubicBezTo>
                    <a:cubicBezTo>
                      <a:pt x="169" y="320"/>
                      <a:pt x="222" y="320"/>
                      <a:pt x="228" y="332"/>
                    </a:cubicBezTo>
                    <a:cubicBezTo>
                      <a:pt x="235" y="345"/>
                      <a:pt x="204" y="365"/>
                      <a:pt x="208" y="382"/>
                    </a:cubicBezTo>
                    <a:cubicBezTo>
                      <a:pt x="211" y="399"/>
                      <a:pt x="242" y="415"/>
                      <a:pt x="249" y="432"/>
                    </a:cubicBezTo>
                    <a:cubicBezTo>
                      <a:pt x="256" y="449"/>
                      <a:pt x="242" y="461"/>
                      <a:pt x="249" y="482"/>
                    </a:cubicBezTo>
                    <a:cubicBezTo>
                      <a:pt x="256" y="503"/>
                      <a:pt x="288" y="532"/>
                      <a:pt x="291" y="557"/>
                    </a:cubicBezTo>
                    <a:cubicBezTo>
                      <a:pt x="295" y="582"/>
                      <a:pt x="267" y="611"/>
                      <a:pt x="270" y="632"/>
                    </a:cubicBezTo>
                    <a:cubicBezTo>
                      <a:pt x="274" y="652"/>
                      <a:pt x="309" y="661"/>
                      <a:pt x="312" y="681"/>
                    </a:cubicBezTo>
                    <a:cubicBezTo>
                      <a:pt x="316" y="702"/>
                      <a:pt x="291" y="731"/>
                      <a:pt x="291" y="756"/>
                    </a:cubicBezTo>
                    <a:cubicBezTo>
                      <a:pt x="291" y="781"/>
                      <a:pt x="312" y="810"/>
                      <a:pt x="312" y="831"/>
                    </a:cubicBezTo>
                    <a:cubicBezTo>
                      <a:pt x="312" y="852"/>
                      <a:pt x="288" y="860"/>
                      <a:pt x="291" y="881"/>
                    </a:cubicBezTo>
                    <a:cubicBezTo>
                      <a:pt x="295" y="902"/>
                      <a:pt x="330" y="931"/>
                      <a:pt x="333" y="956"/>
                    </a:cubicBezTo>
                    <a:cubicBezTo>
                      <a:pt x="337" y="981"/>
                      <a:pt x="312" y="1002"/>
                      <a:pt x="312" y="1031"/>
                    </a:cubicBezTo>
                    <a:cubicBezTo>
                      <a:pt x="312" y="1060"/>
                      <a:pt x="333" y="1110"/>
                      <a:pt x="333" y="1130"/>
                    </a:cubicBezTo>
                    <a:cubicBezTo>
                      <a:pt x="333" y="1151"/>
                      <a:pt x="312" y="1139"/>
                      <a:pt x="312" y="1155"/>
                    </a:cubicBezTo>
                    <a:cubicBezTo>
                      <a:pt x="312" y="1172"/>
                      <a:pt x="323" y="1201"/>
                      <a:pt x="333" y="1230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815" h="1295">
                    <a:moveTo>
                      <a:pt x="0" y="33"/>
                    </a:moveTo>
                    <a:cubicBezTo>
                      <a:pt x="116" y="17"/>
                      <a:pt x="234" y="0"/>
                      <a:pt x="250" y="7"/>
                    </a:cubicBezTo>
                    <a:cubicBezTo>
                      <a:pt x="267" y="17"/>
                      <a:pt x="82" y="74"/>
                      <a:pt x="99" y="87"/>
                    </a:cubicBezTo>
                    <a:cubicBezTo>
                      <a:pt x="116" y="100"/>
                      <a:pt x="335" y="74"/>
                      <a:pt x="351" y="87"/>
                    </a:cubicBezTo>
                    <a:cubicBezTo>
                      <a:pt x="368" y="100"/>
                      <a:pt x="192" y="148"/>
                      <a:pt x="200" y="166"/>
                    </a:cubicBezTo>
                    <a:cubicBezTo>
                      <a:pt x="208" y="183"/>
                      <a:pt x="385" y="179"/>
                      <a:pt x="401" y="192"/>
                    </a:cubicBezTo>
                    <a:cubicBezTo>
                      <a:pt x="419" y="205"/>
                      <a:pt x="284" y="231"/>
                      <a:pt x="301" y="244"/>
                    </a:cubicBezTo>
                    <a:cubicBezTo>
                      <a:pt x="317" y="258"/>
                      <a:pt x="485" y="258"/>
                      <a:pt x="502" y="271"/>
                    </a:cubicBezTo>
                    <a:cubicBezTo>
                      <a:pt x="519" y="284"/>
                      <a:pt x="394" y="310"/>
                      <a:pt x="401" y="323"/>
                    </a:cubicBezTo>
                    <a:cubicBezTo>
                      <a:pt x="410" y="336"/>
                      <a:pt x="536" y="336"/>
                      <a:pt x="552" y="349"/>
                    </a:cubicBezTo>
                    <a:cubicBezTo>
                      <a:pt x="569" y="363"/>
                      <a:pt x="494" y="384"/>
                      <a:pt x="502" y="402"/>
                    </a:cubicBezTo>
                    <a:cubicBezTo>
                      <a:pt x="510" y="419"/>
                      <a:pt x="586" y="437"/>
                      <a:pt x="603" y="454"/>
                    </a:cubicBezTo>
                    <a:cubicBezTo>
                      <a:pt x="620" y="472"/>
                      <a:pt x="586" y="485"/>
                      <a:pt x="603" y="507"/>
                    </a:cubicBezTo>
                    <a:cubicBezTo>
                      <a:pt x="620" y="529"/>
                      <a:pt x="695" y="559"/>
                      <a:pt x="704" y="586"/>
                    </a:cubicBezTo>
                    <a:cubicBezTo>
                      <a:pt x="712" y="612"/>
                      <a:pt x="645" y="642"/>
                      <a:pt x="653" y="664"/>
                    </a:cubicBezTo>
                    <a:cubicBezTo>
                      <a:pt x="662" y="686"/>
                      <a:pt x="745" y="695"/>
                      <a:pt x="755" y="717"/>
                    </a:cubicBezTo>
                    <a:cubicBezTo>
                      <a:pt x="762" y="739"/>
                      <a:pt x="704" y="769"/>
                      <a:pt x="704" y="796"/>
                    </a:cubicBezTo>
                    <a:cubicBezTo>
                      <a:pt x="704" y="822"/>
                      <a:pt x="755" y="852"/>
                      <a:pt x="755" y="874"/>
                    </a:cubicBezTo>
                    <a:cubicBezTo>
                      <a:pt x="755" y="896"/>
                      <a:pt x="695" y="905"/>
                      <a:pt x="704" y="927"/>
                    </a:cubicBezTo>
                    <a:cubicBezTo>
                      <a:pt x="712" y="949"/>
                      <a:pt x="796" y="979"/>
                      <a:pt x="804" y="1005"/>
                    </a:cubicBezTo>
                    <a:cubicBezTo>
                      <a:pt x="815" y="1032"/>
                      <a:pt x="755" y="1054"/>
                      <a:pt x="755" y="1084"/>
                    </a:cubicBezTo>
                    <a:cubicBezTo>
                      <a:pt x="755" y="1115"/>
                      <a:pt x="804" y="1167"/>
                      <a:pt x="804" y="1189"/>
                    </a:cubicBezTo>
                    <a:cubicBezTo>
                      <a:pt x="804" y="1211"/>
                      <a:pt x="755" y="1198"/>
                      <a:pt x="755" y="1215"/>
                    </a:cubicBezTo>
                    <a:cubicBezTo>
                      <a:pt x="755" y="1233"/>
                      <a:pt x="780" y="1264"/>
                      <a:pt x="804" y="1295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294760" y="754200"/>
                <a:ext cx="777960" cy="547560"/>
              </a:xfrm>
              <a:custGeom>
                <a:avLst/>
                <a:gdLst/>
                <a:ahLst/>
                <a:rect l="l" t="t" r="r" b="b"/>
                <a:pathLst>
                  <a:path w="1224" h="862">
                    <a:moveTo>
                      <a:pt x="0" y="22"/>
                    </a:moveTo>
                    <a:cubicBezTo>
                      <a:pt x="175" y="10"/>
                      <a:pt x="352" y="0"/>
                      <a:pt x="378" y="4"/>
                    </a:cubicBezTo>
                    <a:cubicBezTo>
                      <a:pt x="403" y="10"/>
                      <a:pt x="125" y="48"/>
                      <a:pt x="150" y="57"/>
                    </a:cubicBezTo>
                    <a:cubicBezTo>
                      <a:pt x="175" y="66"/>
                      <a:pt x="504" y="48"/>
                      <a:pt x="529" y="57"/>
                    </a:cubicBezTo>
                    <a:cubicBezTo>
                      <a:pt x="555" y="66"/>
                      <a:pt x="289" y="98"/>
                      <a:pt x="302" y="109"/>
                    </a:cubicBezTo>
                    <a:cubicBezTo>
                      <a:pt x="315" y="121"/>
                      <a:pt x="580" y="118"/>
                      <a:pt x="605" y="127"/>
                    </a:cubicBezTo>
                    <a:cubicBezTo>
                      <a:pt x="631" y="136"/>
                      <a:pt x="428" y="153"/>
                      <a:pt x="454" y="162"/>
                    </a:cubicBezTo>
                    <a:cubicBezTo>
                      <a:pt x="479" y="171"/>
                      <a:pt x="732" y="171"/>
                      <a:pt x="757" y="179"/>
                    </a:cubicBezTo>
                    <a:cubicBezTo>
                      <a:pt x="782" y="188"/>
                      <a:pt x="593" y="206"/>
                      <a:pt x="605" y="214"/>
                    </a:cubicBezTo>
                    <a:cubicBezTo>
                      <a:pt x="618" y="223"/>
                      <a:pt x="808" y="223"/>
                      <a:pt x="833" y="232"/>
                    </a:cubicBezTo>
                    <a:cubicBezTo>
                      <a:pt x="858" y="241"/>
                      <a:pt x="744" y="255"/>
                      <a:pt x="757" y="267"/>
                    </a:cubicBezTo>
                    <a:cubicBezTo>
                      <a:pt x="770" y="279"/>
                      <a:pt x="883" y="290"/>
                      <a:pt x="909" y="302"/>
                    </a:cubicBezTo>
                    <a:cubicBezTo>
                      <a:pt x="934" y="314"/>
                      <a:pt x="883" y="322"/>
                      <a:pt x="909" y="337"/>
                    </a:cubicBezTo>
                    <a:cubicBezTo>
                      <a:pt x="934" y="352"/>
                      <a:pt x="1048" y="372"/>
                      <a:pt x="1060" y="390"/>
                    </a:cubicBezTo>
                    <a:cubicBezTo>
                      <a:pt x="1073" y="407"/>
                      <a:pt x="972" y="427"/>
                      <a:pt x="985" y="442"/>
                    </a:cubicBezTo>
                    <a:cubicBezTo>
                      <a:pt x="997" y="457"/>
                      <a:pt x="1124" y="462"/>
                      <a:pt x="1136" y="477"/>
                    </a:cubicBezTo>
                    <a:cubicBezTo>
                      <a:pt x="1149" y="492"/>
                      <a:pt x="1060" y="512"/>
                      <a:pt x="1060" y="530"/>
                    </a:cubicBezTo>
                    <a:cubicBezTo>
                      <a:pt x="1060" y="547"/>
                      <a:pt x="1136" y="568"/>
                      <a:pt x="1136" y="582"/>
                    </a:cubicBezTo>
                    <a:cubicBezTo>
                      <a:pt x="1136" y="597"/>
                      <a:pt x="1048" y="603"/>
                      <a:pt x="1060" y="617"/>
                    </a:cubicBezTo>
                    <a:cubicBezTo>
                      <a:pt x="1073" y="632"/>
                      <a:pt x="1200" y="652"/>
                      <a:pt x="1212" y="670"/>
                    </a:cubicBezTo>
                    <a:cubicBezTo>
                      <a:pt x="1224" y="687"/>
                      <a:pt x="1136" y="702"/>
                      <a:pt x="1136" y="722"/>
                    </a:cubicBezTo>
                    <a:cubicBezTo>
                      <a:pt x="1136" y="743"/>
                      <a:pt x="1212" y="778"/>
                      <a:pt x="1212" y="792"/>
                    </a:cubicBezTo>
                    <a:cubicBezTo>
                      <a:pt x="1212" y="807"/>
                      <a:pt x="1136" y="798"/>
                      <a:pt x="1136" y="810"/>
                    </a:cubicBezTo>
                    <a:cubicBezTo>
                      <a:pt x="1136" y="821"/>
                      <a:pt x="1174" y="842"/>
                      <a:pt x="1212" y="86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323200" y="173160"/>
                <a:ext cx="339840" cy="735120"/>
              </a:xfrm>
              <a:custGeom>
                <a:avLst/>
                <a:gdLst/>
                <a:ahLst/>
                <a:rect l="l" t="t" r="r" b="b"/>
                <a:pathLst>
                  <a:path w="534" h="1157">
                    <a:moveTo>
                      <a:pt x="0" y="30"/>
                    </a:moveTo>
                    <a:cubicBezTo>
                      <a:pt x="77" y="14"/>
                      <a:pt x="153" y="0"/>
                      <a:pt x="165" y="6"/>
                    </a:cubicBezTo>
                    <a:cubicBezTo>
                      <a:pt x="176" y="14"/>
                      <a:pt x="55" y="65"/>
                      <a:pt x="66" y="77"/>
                    </a:cubicBezTo>
                    <a:cubicBezTo>
                      <a:pt x="77" y="89"/>
                      <a:pt x="219" y="65"/>
                      <a:pt x="231" y="77"/>
                    </a:cubicBezTo>
                    <a:cubicBezTo>
                      <a:pt x="243" y="89"/>
                      <a:pt x="127" y="132"/>
                      <a:pt x="131" y="147"/>
                    </a:cubicBezTo>
                    <a:cubicBezTo>
                      <a:pt x="137" y="163"/>
                      <a:pt x="254" y="159"/>
                      <a:pt x="264" y="171"/>
                    </a:cubicBezTo>
                    <a:cubicBezTo>
                      <a:pt x="275" y="182"/>
                      <a:pt x="187" y="206"/>
                      <a:pt x="197" y="218"/>
                    </a:cubicBezTo>
                    <a:cubicBezTo>
                      <a:pt x="208" y="229"/>
                      <a:pt x="319" y="229"/>
                      <a:pt x="330" y="241"/>
                    </a:cubicBezTo>
                    <a:cubicBezTo>
                      <a:pt x="342" y="253"/>
                      <a:pt x="258" y="276"/>
                      <a:pt x="264" y="288"/>
                    </a:cubicBezTo>
                    <a:cubicBezTo>
                      <a:pt x="269" y="300"/>
                      <a:pt x="352" y="300"/>
                      <a:pt x="363" y="312"/>
                    </a:cubicBezTo>
                    <a:cubicBezTo>
                      <a:pt x="374" y="323"/>
                      <a:pt x="324" y="343"/>
                      <a:pt x="330" y="359"/>
                    </a:cubicBezTo>
                    <a:cubicBezTo>
                      <a:pt x="335" y="374"/>
                      <a:pt x="385" y="390"/>
                      <a:pt x="396" y="406"/>
                    </a:cubicBezTo>
                    <a:cubicBezTo>
                      <a:pt x="407" y="421"/>
                      <a:pt x="385" y="433"/>
                      <a:pt x="396" y="453"/>
                    </a:cubicBezTo>
                    <a:cubicBezTo>
                      <a:pt x="407" y="472"/>
                      <a:pt x="457" y="500"/>
                      <a:pt x="463" y="523"/>
                    </a:cubicBezTo>
                    <a:cubicBezTo>
                      <a:pt x="468" y="546"/>
                      <a:pt x="424" y="574"/>
                      <a:pt x="429" y="593"/>
                    </a:cubicBezTo>
                    <a:cubicBezTo>
                      <a:pt x="435" y="613"/>
                      <a:pt x="490" y="621"/>
                      <a:pt x="496" y="640"/>
                    </a:cubicBezTo>
                    <a:cubicBezTo>
                      <a:pt x="501" y="660"/>
                      <a:pt x="463" y="687"/>
                      <a:pt x="463" y="711"/>
                    </a:cubicBezTo>
                    <a:cubicBezTo>
                      <a:pt x="463" y="734"/>
                      <a:pt x="496" y="762"/>
                      <a:pt x="496" y="781"/>
                    </a:cubicBezTo>
                    <a:cubicBezTo>
                      <a:pt x="496" y="801"/>
                      <a:pt x="457" y="809"/>
                      <a:pt x="463" y="828"/>
                    </a:cubicBezTo>
                    <a:cubicBezTo>
                      <a:pt x="468" y="848"/>
                      <a:pt x="523" y="875"/>
                      <a:pt x="529" y="899"/>
                    </a:cubicBezTo>
                    <a:cubicBezTo>
                      <a:pt x="535" y="922"/>
                      <a:pt x="496" y="942"/>
                      <a:pt x="496" y="969"/>
                    </a:cubicBezTo>
                    <a:cubicBezTo>
                      <a:pt x="496" y="997"/>
                      <a:pt x="529" y="1044"/>
                      <a:pt x="529" y="1063"/>
                    </a:cubicBezTo>
                    <a:cubicBezTo>
                      <a:pt x="529" y="1083"/>
                      <a:pt x="496" y="1071"/>
                      <a:pt x="496" y="1087"/>
                    </a:cubicBezTo>
                    <a:cubicBezTo>
                      <a:pt x="496" y="1102"/>
                      <a:pt x="512" y="1130"/>
                      <a:pt x="529" y="1157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0253000">
                <a:off x="7986600" y="78408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359" h="677">
                    <a:moveTo>
                      <a:pt x="0" y="17"/>
                    </a:moveTo>
                    <a:cubicBezTo>
                      <a:pt x="50" y="8"/>
                      <a:pt x="102" y="0"/>
                      <a:pt x="109" y="3"/>
                    </a:cubicBezTo>
                    <a:cubicBezTo>
                      <a:pt x="117" y="8"/>
                      <a:pt x="35" y="37"/>
                      <a:pt x="43" y="44"/>
                    </a:cubicBezTo>
                    <a:cubicBezTo>
                      <a:pt x="50" y="51"/>
                      <a:pt x="146" y="37"/>
                      <a:pt x="154" y="44"/>
                    </a:cubicBezTo>
                    <a:cubicBezTo>
                      <a:pt x="161" y="51"/>
                      <a:pt x="84" y="76"/>
                      <a:pt x="87" y="86"/>
                    </a:cubicBezTo>
                    <a:cubicBezTo>
                      <a:pt x="91" y="95"/>
                      <a:pt x="169" y="92"/>
                      <a:pt x="176" y="99"/>
                    </a:cubicBezTo>
                    <a:cubicBezTo>
                      <a:pt x="184" y="106"/>
                      <a:pt x="124" y="120"/>
                      <a:pt x="132" y="127"/>
                    </a:cubicBezTo>
                    <a:cubicBezTo>
                      <a:pt x="139" y="134"/>
                      <a:pt x="214" y="134"/>
                      <a:pt x="221" y="141"/>
                    </a:cubicBezTo>
                    <a:cubicBezTo>
                      <a:pt x="229" y="147"/>
                      <a:pt x="172" y="161"/>
                      <a:pt x="176" y="168"/>
                    </a:cubicBezTo>
                    <a:cubicBezTo>
                      <a:pt x="181" y="175"/>
                      <a:pt x="236" y="175"/>
                      <a:pt x="244" y="182"/>
                    </a:cubicBezTo>
                    <a:cubicBezTo>
                      <a:pt x="251" y="189"/>
                      <a:pt x="218" y="200"/>
                      <a:pt x="221" y="209"/>
                    </a:cubicBezTo>
                    <a:cubicBezTo>
                      <a:pt x="225" y="218"/>
                      <a:pt x="258" y="228"/>
                      <a:pt x="266" y="237"/>
                    </a:cubicBezTo>
                    <a:cubicBezTo>
                      <a:pt x="273" y="246"/>
                      <a:pt x="258" y="253"/>
                      <a:pt x="266" y="264"/>
                    </a:cubicBezTo>
                    <a:cubicBezTo>
                      <a:pt x="273" y="276"/>
                      <a:pt x="306" y="292"/>
                      <a:pt x="310" y="306"/>
                    </a:cubicBezTo>
                    <a:cubicBezTo>
                      <a:pt x="314" y="319"/>
                      <a:pt x="284" y="335"/>
                      <a:pt x="288" y="347"/>
                    </a:cubicBezTo>
                    <a:cubicBezTo>
                      <a:pt x="292" y="358"/>
                      <a:pt x="329" y="363"/>
                      <a:pt x="332" y="374"/>
                    </a:cubicBezTo>
                    <a:cubicBezTo>
                      <a:pt x="336" y="386"/>
                      <a:pt x="310" y="402"/>
                      <a:pt x="310" y="416"/>
                    </a:cubicBezTo>
                    <a:cubicBezTo>
                      <a:pt x="310" y="429"/>
                      <a:pt x="332" y="445"/>
                      <a:pt x="332" y="457"/>
                    </a:cubicBezTo>
                    <a:cubicBezTo>
                      <a:pt x="332" y="468"/>
                      <a:pt x="306" y="473"/>
                      <a:pt x="310" y="484"/>
                    </a:cubicBezTo>
                    <a:cubicBezTo>
                      <a:pt x="314" y="496"/>
                      <a:pt x="351" y="512"/>
                      <a:pt x="354" y="526"/>
                    </a:cubicBezTo>
                    <a:cubicBezTo>
                      <a:pt x="360" y="539"/>
                      <a:pt x="332" y="551"/>
                      <a:pt x="332" y="567"/>
                    </a:cubicBezTo>
                    <a:cubicBezTo>
                      <a:pt x="332" y="583"/>
                      <a:pt x="354" y="610"/>
                      <a:pt x="354" y="622"/>
                    </a:cubicBezTo>
                    <a:cubicBezTo>
                      <a:pt x="354" y="633"/>
                      <a:pt x="332" y="626"/>
                      <a:pt x="332" y="636"/>
                    </a:cubicBezTo>
                    <a:cubicBezTo>
                      <a:pt x="332" y="645"/>
                      <a:pt x="343" y="661"/>
                      <a:pt x="354" y="677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rot="1347000">
                <a:off x="7178040" y="773280"/>
                <a:ext cx="225360" cy="429840"/>
              </a:xfrm>
              <a:custGeom>
                <a:avLst/>
                <a:gdLst/>
                <a:ahLst/>
                <a:rect l="l" t="t" r="r" b="b"/>
                <a:pathLst>
                  <a:path w="355" h="677">
                    <a:moveTo>
                      <a:pt x="0" y="17"/>
                    </a:moveTo>
                    <a:cubicBezTo>
                      <a:pt x="50" y="8"/>
                      <a:pt x="101" y="0"/>
                      <a:pt x="109" y="3"/>
                    </a:cubicBezTo>
                    <a:cubicBezTo>
                      <a:pt x="116" y="8"/>
                      <a:pt x="35" y="37"/>
                      <a:pt x="43" y="44"/>
                    </a:cubicBezTo>
                    <a:cubicBezTo>
                      <a:pt x="50" y="51"/>
                      <a:pt x="146" y="37"/>
                      <a:pt x="153" y="44"/>
                    </a:cubicBezTo>
                    <a:cubicBezTo>
                      <a:pt x="160" y="51"/>
                      <a:pt x="83" y="76"/>
                      <a:pt x="87" y="86"/>
                    </a:cubicBezTo>
                    <a:cubicBezTo>
                      <a:pt x="90" y="95"/>
                      <a:pt x="168" y="92"/>
                      <a:pt x="175" y="99"/>
                    </a:cubicBezTo>
                    <a:cubicBezTo>
                      <a:pt x="182" y="106"/>
                      <a:pt x="123" y="120"/>
                      <a:pt x="131" y="127"/>
                    </a:cubicBezTo>
                    <a:cubicBezTo>
                      <a:pt x="138" y="134"/>
                      <a:pt x="212" y="134"/>
                      <a:pt x="219" y="141"/>
                    </a:cubicBezTo>
                    <a:cubicBezTo>
                      <a:pt x="226" y="147"/>
                      <a:pt x="171" y="161"/>
                      <a:pt x="175" y="168"/>
                    </a:cubicBezTo>
                    <a:cubicBezTo>
                      <a:pt x="179" y="175"/>
                      <a:pt x="234" y="175"/>
                      <a:pt x="241" y="182"/>
                    </a:cubicBezTo>
                    <a:cubicBezTo>
                      <a:pt x="248" y="189"/>
                      <a:pt x="215" y="200"/>
                      <a:pt x="219" y="209"/>
                    </a:cubicBezTo>
                    <a:cubicBezTo>
                      <a:pt x="223" y="218"/>
                      <a:pt x="256" y="228"/>
                      <a:pt x="263" y="237"/>
                    </a:cubicBezTo>
                    <a:cubicBezTo>
                      <a:pt x="271" y="246"/>
                      <a:pt x="256" y="253"/>
                      <a:pt x="263" y="264"/>
                    </a:cubicBezTo>
                    <a:cubicBezTo>
                      <a:pt x="271" y="276"/>
                      <a:pt x="304" y="292"/>
                      <a:pt x="307" y="306"/>
                    </a:cubicBezTo>
                    <a:cubicBezTo>
                      <a:pt x="311" y="319"/>
                      <a:pt x="282" y="335"/>
                      <a:pt x="285" y="347"/>
                    </a:cubicBezTo>
                    <a:cubicBezTo>
                      <a:pt x="289" y="358"/>
                      <a:pt x="326" y="363"/>
                      <a:pt x="329" y="374"/>
                    </a:cubicBezTo>
                    <a:cubicBezTo>
                      <a:pt x="333" y="386"/>
                      <a:pt x="307" y="402"/>
                      <a:pt x="307" y="416"/>
                    </a:cubicBezTo>
                    <a:cubicBezTo>
                      <a:pt x="307" y="429"/>
                      <a:pt x="329" y="445"/>
                      <a:pt x="329" y="457"/>
                    </a:cubicBezTo>
                    <a:cubicBezTo>
                      <a:pt x="329" y="468"/>
                      <a:pt x="304" y="473"/>
                      <a:pt x="307" y="484"/>
                    </a:cubicBezTo>
                    <a:cubicBezTo>
                      <a:pt x="311" y="496"/>
                      <a:pt x="348" y="512"/>
                      <a:pt x="351" y="526"/>
                    </a:cubicBezTo>
                    <a:cubicBezTo>
                      <a:pt x="355" y="539"/>
                      <a:pt x="329" y="551"/>
                      <a:pt x="329" y="567"/>
                    </a:cubicBezTo>
                    <a:cubicBezTo>
                      <a:pt x="329" y="583"/>
                      <a:pt x="351" y="610"/>
                      <a:pt x="351" y="622"/>
                    </a:cubicBezTo>
                    <a:cubicBezTo>
                      <a:pt x="351" y="633"/>
                      <a:pt x="329" y="626"/>
                      <a:pt x="329" y="636"/>
                    </a:cubicBezTo>
                    <a:cubicBezTo>
                      <a:pt x="329" y="645"/>
                      <a:pt x="340" y="661"/>
                      <a:pt x="351" y="677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339480">
              <a:spcBef>
                <a:spcPts val="799"/>
              </a:spcBef>
              <a:buClr>
                <a:srgbClr val="ff3399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lick to edit the outline text format</a:t>
            </a:r>
            <a:endParaRPr b="0" lang="en-US" sz="3200" spc="-1" strike="noStrike" u="sng">
              <a:solidFill>
                <a:srgbClr val="ffcc00"/>
              </a:solidFill>
              <a:uFillTx/>
              <a:latin typeface="Arial"/>
            </a:endParaRPr>
          </a:p>
          <a:p>
            <a:pPr lvl="1" indent="339480">
              <a:spcBef>
                <a:spcPts val="799"/>
              </a:spcBef>
              <a:buClr>
                <a:srgbClr val="ff3399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Second Outline Level</a:t>
            </a:r>
            <a:endParaRPr b="0" lang="en-US" sz="3200" spc="-1" strike="noStrike" u="sng">
              <a:solidFill>
                <a:srgbClr val="ffcc00"/>
              </a:solidFill>
              <a:uFillTx/>
              <a:latin typeface="Arial"/>
            </a:endParaRPr>
          </a:p>
          <a:p>
            <a:pPr lvl="2" indent="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Third Outline Level</a:t>
            </a:r>
            <a:endParaRPr b="0" lang="en-US" sz="3200" spc="-1" strike="noStrike" u="sng">
              <a:solidFill>
                <a:srgbClr val="ffcc00"/>
              </a:solidFill>
              <a:uFillTx/>
              <a:latin typeface="Arial"/>
            </a:endParaRPr>
          </a:p>
          <a:p>
            <a:pPr lvl="3" indent="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Fourth Outline Level</a:t>
            </a:r>
            <a:endParaRPr b="0" lang="en-US" sz="3200" spc="-1" strike="noStrike" u="sng">
              <a:solidFill>
                <a:srgbClr val="ffcc00"/>
              </a:solidFill>
              <a:uFillTx/>
              <a:latin typeface="Arial"/>
            </a:endParaRPr>
          </a:p>
          <a:p>
            <a:pPr lvl="4" indent="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Fifth Outline Level</a:t>
            </a:r>
            <a:endParaRPr b="0" lang="en-US" sz="3200" spc="-1" strike="noStrike" u="sng">
              <a:solidFill>
                <a:srgbClr val="ffcc00"/>
              </a:solidFill>
              <a:uFillTx/>
              <a:latin typeface="Arial"/>
            </a:endParaRPr>
          </a:p>
          <a:p>
            <a:pPr lvl="5" indent="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Sixth Outline Level</a:t>
            </a:r>
            <a:endParaRPr b="0" lang="en-US" sz="3200" spc="-1" strike="noStrike" u="sng">
              <a:solidFill>
                <a:srgbClr val="ffcc00"/>
              </a:solidFill>
              <a:uFillTx/>
              <a:latin typeface="Arial"/>
            </a:endParaRPr>
          </a:p>
          <a:p>
            <a:pPr lvl="6" indent="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Seventh Outline Level</a:t>
            </a:r>
            <a:endParaRPr b="0" lang="en-US" sz="3200" spc="-1" strike="noStrike" u="sng">
              <a:solidFill>
                <a:srgbClr val="ffcc00"/>
              </a:solidFill>
              <a:uFillTx/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8A3-E0FC-4157-9C76-95AA3F79461E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2010960" y="244800"/>
            <a:ext cx="7111800" cy="7926840"/>
            <a:chOff x="2010960" y="244800"/>
            <a:chExt cx="7111800" cy="7926840"/>
          </a:xfrm>
        </p:grpSpPr>
        <p:grpSp>
          <p:nvGrpSpPr>
            <p:cNvPr id="420" name="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421" name="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822840" y="1264680"/>
                <a:ext cx="22860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010960" y="244800"/>
              <a:ext cx="7111800" cy="7779600"/>
              <a:chOff x="2010960" y="244800"/>
              <a:chExt cx="7111800" cy="77796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010960" y="244800"/>
                <a:ext cx="6891480" cy="5452920"/>
                <a:chOff x="2010960" y="244800"/>
                <a:chExt cx="6891480" cy="545292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3735360" y="1266480"/>
                  <a:ext cx="3600360" cy="2651040"/>
                  <a:chOff x="3735360" y="1266480"/>
                  <a:chExt cx="3600360" cy="26510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3735360" y="1266480"/>
                    <a:ext cx="360036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110200" y="223632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010960" y="244800"/>
                  <a:ext cx="6891480" cy="5452920"/>
                  <a:chOff x="2010960" y="244800"/>
                  <a:chExt cx="6891480" cy="5452920"/>
                </a:xfrm>
              </p:grpSpPr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5762880" y="2322000"/>
                    <a:ext cx="2560320" cy="2745360"/>
                    <a:chOff x="5762880" y="2322000"/>
                    <a:chExt cx="2560320" cy="274536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rot="2711400">
                      <a:off x="5585760" y="3019320"/>
                      <a:ext cx="212652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7" h="607">
                          <a:moveTo>
                            <a:pt x="0" y="607"/>
                          </a:moveTo>
                          <a:cubicBezTo>
                            <a:pt x="29" y="588"/>
                            <a:pt x="695" y="299"/>
                            <a:pt x="1057" y="201"/>
                          </a:cubicBezTo>
                          <a:cubicBezTo>
                            <a:pt x="1419" y="105"/>
                            <a:pt x="1791" y="57"/>
                            <a:pt x="2173" y="28"/>
                          </a:cubicBezTo>
                          <a:cubicBezTo>
                            <a:pt x="2554" y="0"/>
                            <a:pt x="3155" y="12"/>
                            <a:pt x="3347" y="28"/>
                          </a:cubicBezTo>
                          <a:lnTo>
                            <a:pt x="3328" y="123"/>
                          </a:lnTo>
                          <a:cubicBezTo>
                            <a:pt x="3130" y="139"/>
                            <a:pt x="2579" y="85"/>
                            <a:pt x="2158" y="123"/>
                          </a:cubicBezTo>
                          <a:cubicBezTo>
                            <a:pt x="1479" y="163"/>
                            <a:pt x="1221" y="230"/>
                            <a:pt x="800" y="352"/>
                          </a:cubicBezTo>
                          <a:cubicBezTo>
                            <a:pt x="438" y="428"/>
                            <a:pt x="166" y="555"/>
                            <a:pt x="0" y="607"/>
                          </a:cubicBezTo>
                          <a:lnTo>
                            <a:pt x="0" y="607"/>
                          </a:lnTo>
                          <a:lnTo>
                            <a:pt x="0" y="607"/>
                          </a:lnTo>
                          <a:lnTo>
                            <a:pt x="0" y="60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rot="2711400">
                      <a:off x="7135200" y="4146840"/>
                      <a:ext cx="114192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7" h="950">
                          <a:moveTo>
                            <a:pt x="5" y="8"/>
                          </a:moveTo>
                          <a:cubicBezTo>
                            <a:pt x="86" y="0"/>
                            <a:pt x="297" y="27"/>
                            <a:pt x="492" y="66"/>
                          </a:cubicBezTo>
                          <a:cubicBezTo>
                            <a:pt x="687" y="104"/>
                            <a:pt x="983" y="163"/>
                            <a:pt x="1174" y="239"/>
                          </a:cubicBezTo>
                          <a:cubicBezTo>
                            <a:pt x="1366" y="315"/>
                            <a:pt x="1535" y="436"/>
                            <a:pt x="1636" y="518"/>
                          </a:cubicBezTo>
                          <a:cubicBezTo>
                            <a:pt x="1738" y="600"/>
                            <a:pt x="1770" y="660"/>
                            <a:pt x="1784" y="731"/>
                          </a:cubicBezTo>
                          <a:cubicBezTo>
                            <a:pt x="1797" y="802"/>
                            <a:pt x="1744" y="940"/>
                            <a:pt x="1716" y="945"/>
                          </a:cubicBezTo>
                          <a:cubicBezTo>
                            <a:pt x="1687" y="950"/>
                            <a:pt x="1665" y="825"/>
                            <a:pt x="1614" y="759"/>
                          </a:cubicBezTo>
                          <a:cubicBezTo>
                            <a:pt x="1563" y="693"/>
                            <a:pt x="1492" y="612"/>
                            <a:pt x="1411" y="545"/>
                          </a:cubicBezTo>
                          <a:cubicBezTo>
                            <a:pt x="1330" y="477"/>
                            <a:pt x="1264" y="415"/>
                            <a:pt x="1126" y="355"/>
                          </a:cubicBezTo>
                          <a:cubicBezTo>
                            <a:pt x="989" y="294"/>
                            <a:pt x="777" y="226"/>
                            <a:pt x="589" y="181"/>
                          </a:cubicBezTo>
                          <a:cubicBezTo>
                            <a:pt x="402" y="137"/>
                            <a:pt x="97" y="119"/>
                            <a:pt x="0" y="90"/>
                          </a:cubicBezTo>
                          <a:lnTo>
                            <a:pt x="5" y="8"/>
                          </a:lnTo>
                          <a:lnTo>
                            <a:pt x="5" y="8"/>
                          </a:lnTo>
                          <a:lnTo>
                            <a:pt x="5" y="8"/>
                          </a:ln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5787360" y="2148840"/>
                    <a:ext cx="3040560" cy="2528280"/>
                    <a:chOff x="5787360" y="2148840"/>
                    <a:chExt cx="3040560" cy="252828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rot="2103600">
                      <a:off x="5706720" y="275220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22" h="672">
                          <a:moveTo>
                            <a:pt x="0" y="672"/>
                          </a:moveTo>
                          <a:cubicBezTo>
                            <a:pt x="30" y="651"/>
                            <a:pt x="731" y="330"/>
                            <a:pt x="1112" y="223"/>
                          </a:cubicBezTo>
                          <a:cubicBezTo>
                            <a:pt x="1493" y="116"/>
                            <a:pt x="1884" y="63"/>
                            <a:pt x="2286" y="31"/>
                          </a:cubicBezTo>
                          <a:cubicBezTo>
                            <a:pt x="2688" y="0"/>
                            <a:pt x="3320" y="13"/>
                            <a:pt x="3522" y="31"/>
                          </a:cubicBezTo>
                          <a:lnTo>
                            <a:pt x="3502" y="136"/>
                          </a:lnTo>
                          <a:cubicBezTo>
                            <a:pt x="3293" y="154"/>
                            <a:pt x="2714" y="93"/>
                            <a:pt x="2271" y="136"/>
                          </a:cubicBezTo>
                          <a:cubicBezTo>
                            <a:pt x="1556" y="180"/>
                            <a:pt x="1284" y="255"/>
                            <a:pt x="842" y="389"/>
                          </a:cubicBezTo>
                          <a:cubicBezTo>
                            <a:pt x="460" y="474"/>
                            <a:pt x="175" y="614"/>
                            <a:pt x="0" y="672"/>
                          </a:cubicBezTo>
                          <a:lnTo>
                            <a:pt x="0" y="672"/>
                          </a:lnTo>
                          <a:lnTo>
                            <a:pt x="0" y="672"/>
                          </a:lnTo>
                          <a:lnTo>
                            <a:pt x="0" y="67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rot="2103600">
                      <a:off x="7543440" y="3721680"/>
                      <a:ext cx="120024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0" h="1057">
                          <a:moveTo>
                            <a:pt x="3" y="9"/>
                          </a:moveTo>
                          <a:cubicBezTo>
                            <a:pt x="88" y="0"/>
                            <a:pt x="311" y="31"/>
                            <a:pt x="517" y="73"/>
                          </a:cubicBezTo>
                          <a:cubicBezTo>
                            <a:pt x="722" y="116"/>
                            <a:pt x="1034" y="182"/>
                            <a:pt x="1235" y="266"/>
                          </a:cubicBezTo>
                          <a:cubicBezTo>
                            <a:pt x="1437" y="350"/>
                            <a:pt x="1614" y="486"/>
                            <a:pt x="1721" y="577"/>
                          </a:cubicBezTo>
                          <a:cubicBezTo>
                            <a:pt x="1828" y="668"/>
                            <a:pt x="1862" y="734"/>
                            <a:pt x="1876" y="813"/>
                          </a:cubicBezTo>
                          <a:cubicBezTo>
                            <a:pt x="1890" y="892"/>
                            <a:pt x="1833" y="1046"/>
                            <a:pt x="1804" y="1052"/>
                          </a:cubicBezTo>
                          <a:cubicBezTo>
                            <a:pt x="1774" y="1057"/>
                            <a:pt x="1751" y="918"/>
                            <a:pt x="1698" y="844"/>
                          </a:cubicBezTo>
                          <a:cubicBezTo>
                            <a:pt x="1644" y="771"/>
                            <a:pt x="1568" y="681"/>
                            <a:pt x="1484" y="606"/>
                          </a:cubicBezTo>
                          <a:cubicBezTo>
                            <a:pt x="1397" y="531"/>
                            <a:pt x="1328" y="461"/>
                            <a:pt x="1184" y="395"/>
                          </a:cubicBezTo>
                          <a:cubicBezTo>
                            <a:pt x="1040" y="328"/>
                            <a:pt x="818" y="251"/>
                            <a:pt x="620" y="202"/>
                          </a:cubicBezTo>
                          <a:cubicBezTo>
                            <a:pt x="422" y="152"/>
                            <a:pt x="101" y="132"/>
                            <a:pt x="0" y="100"/>
                          </a:cubicBez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776920" y="2064960"/>
                    <a:ext cx="3096360" cy="1992600"/>
                    <a:chOff x="5776920" y="2064960"/>
                    <a:chExt cx="3096360" cy="199260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1582800">
                      <a:off x="5748480" y="252072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9" h="589">
                          <a:moveTo>
                            <a:pt x="0" y="589"/>
                          </a:moveTo>
                          <a:cubicBezTo>
                            <a:pt x="28" y="570"/>
                            <a:pt x="698" y="289"/>
                            <a:pt x="1063" y="195"/>
                          </a:cubicBezTo>
                          <a:cubicBezTo>
                            <a:pt x="1428" y="102"/>
                            <a:pt x="1802" y="56"/>
                            <a:pt x="2187" y="28"/>
                          </a:cubicBezTo>
                          <a:cubicBezTo>
                            <a:pt x="2571" y="0"/>
                            <a:pt x="3176" y="12"/>
                            <a:pt x="3369" y="28"/>
                          </a:cubicBezTo>
                          <a:lnTo>
                            <a:pt x="3350" y="120"/>
                          </a:lnTo>
                          <a:cubicBezTo>
                            <a:pt x="3150" y="134"/>
                            <a:pt x="2596" y="82"/>
                            <a:pt x="2172" y="120"/>
                          </a:cubicBezTo>
                          <a:cubicBezTo>
                            <a:pt x="1488" y="158"/>
                            <a:pt x="1228" y="224"/>
                            <a:pt x="804" y="342"/>
                          </a:cubicBezTo>
                          <a:cubicBezTo>
                            <a:pt x="440" y="416"/>
                            <a:pt x="166" y="538"/>
                            <a:pt x="0" y="589"/>
                          </a:cubicBezTo>
                          <a:lnTo>
                            <a:pt x="0" y="589"/>
                          </a:lnTo>
                          <a:lnTo>
                            <a:pt x="0" y="589"/>
                          </a:lnTo>
                          <a:lnTo>
                            <a:pt x="0" y="58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1582800">
                      <a:off x="7653240" y="324576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0" h="924">
                          <a:moveTo>
                            <a:pt x="5" y="9"/>
                          </a:moveTo>
                          <a:cubicBezTo>
                            <a:pt x="86" y="0"/>
                            <a:pt x="299" y="28"/>
                            <a:pt x="496" y="65"/>
                          </a:cubicBezTo>
                          <a:cubicBezTo>
                            <a:pt x="692" y="102"/>
                            <a:pt x="991" y="160"/>
                            <a:pt x="1183" y="233"/>
                          </a:cubicBezTo>
                          <a:cubicBezTo>
                            <a:pt x="1376" y="307"/>
                            <a:pt x="1545" y="425"/>
                            <a:pt x="1648" y="504"/>
                          </a:cubicBezTo>
                          <a:cubicBezTo>
                            <a:pt x="1750" y="584"/>
                            <a:pt x="1783" y="642"/>
                            <a:pt x="1796" y="711"/>
                          </a:cubicBezTo>
                          <a:cubicBezTo>
                            <a:pt x="1810" y="780"/>
                            <a:pt x="1756" y="915"/>
                            <a:pt x="1728" y="919"/>
                          </a:cubicBezTo>
                          <a:cubicBezTo>
                            <a:pt x="1699" y="924"/>
                            <a:pt x="1676" y="802"/>
                            <a:pt x="1625" y="738"/>
                          </a:cubicBezTo>
                          <a:cubicBezTo>
                            <a:pt x="1574" y="674"/>
                            <a:pt x="1502" y="595"/>
                            <a:pt x="1421" y="530"/>
                          </a:cubicBezTo>
                          <a:cubicBezTo>
                            <a:pt x="1339" y="465"/>
                            <a:pt x="1272" y="404"/>
                            <a:pt x="1134" y="345"/>
                          </a:cubicBezTo>
                          <a:cubicBezTo>
                            <a:pt x="995" y="287"/>
                            <a:pt x="783" y="220"/>
                            <a:pt x="594" y="177"/>
                          </a:cubicBezTo>
                          <a:cubicBezTo>
                            <a:pt x="405" y="134"/>
                            <a:pt x="98" y="116"/>
                            <a:pt x="0" y="88"/>
                          </a:cubicBezTo>
                          <a:lnTo>
                            <a:pt x="5" y="9"/>
                          </a:lnTo>
                          <a:lnTo>
                            <a:pt x="5" y="9"/>
                          </a:lnTo>
                          <a:lnTo>
                            <a:pt x="5" y="9"/>
                          </a:lnTo>
                          <a:lnTo>
                            <a:pt x="5" y="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768640" y="1969920"/>
                    <a:ext cx="3133800" cy="1607760"/>
                    <a:chOff x="5768640" y="1969920"/>
                    <a:chExt cx="3133800" cy="160776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1080000">
                      <a:off x="5781600" y="227916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57" h="650">
                          <a:moveTo>
                            <a:pt x="0" y="649"/>
                          </a:moveTo>
                          <a:cubicBezTo>
                            <a:pt x="28" y="628"/>
                            <a:pt x="676" y="319"/>
                            <a:pt x="1028" y="216"/>
                          </a:cubicBezTo>
                          <a:cubicBezTo>
                            <a:pt x="1380" y="111"/>
                            <a:pt x="1742" y="60"/>
                            <a:pt x="2114" y="30"/>
                          </a:cubicBezTo>
                          <a:cubicBezTo>
                            <a:pt x="2486" y="0"/>
                            <a:pt x="3070" y="13"/>
                            <a:pt x="3257" y="30"/>
                          </a:cubicBezTo>
                          <a:lnTo>
                            <a:pt x="3238" y="132"/>
                          </a:lnTo>
                          <a:cubicBezTo>
                            <a:pt x="3045" y="148"/>
                            <a:pt x="2510" y="90"/>
                            <a:pt x="2099" y="132"/>
                          </a:cubicBezTo>
                          <a:cubicBezTo>
                            <a:pt x="1439" y="173"/>
                            <a:pt x="1187" y="246"/>
                            <a:pt x="778" y="375"/>
                          </a:cubicBezTo>
                          <a:cubicBezTo>
                            <a:pt x="426" y="458"/>
                            <a:pt x="161" y="593"/>
                            <a:pt x="0" y="649"/>
                          </a:cubicBezTo>
                          <a:lnTo>
                            <a:pt x="0" y="649"/>
                          </a:lnTo>
                          <a:lnTo>
                            <a:pt x="0" y="649"/>
                          </a:lnTo>
                          <a:lnTo>
                            <a:pt x="0" y="64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1080000">
                      <a:off x="7718040" y="2774160"/>
                      <a:ext cx="111132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0" h="1019">
                          <a:moveTo>
                            <a:pt x="3" y="8"/>
                          </a:moveTo>
                          <a:cubicBezTo>
                            <a:pt x="84" y="0"/>
                            <a:pt x="289" y="28"/>
                            <a:pt x="478" y="70"/>
                          </a:cubicBezTo>
                          <a:cubicBezTo>
                            <a:pt x="669" y="111"/>
                            <a:pt x="957" y="174"/>
                            <a:pt x="1143" y="257"/>
                          </a:cubicBezTo>
                          <a:cubicBezTo>
                            <a:pt x="1330" y="338"/>
                            <a:pt x="1493" y="469"/>
                            <a:pt x="1592" y="555"/>
                          </a:cubicBezTo>
                          <a:cubicBezTo>
                            <a:pt x="1692" y="644"/>
                            <a:pt x="1724" y="709"/>
                            <a:pt x="1736" y="785"/>
                          </a:cubicBezTo>
                          <a:cubicBezTo>
                            <a:pt x="1750" y="860"/>
                            <a:pt x="1697" y="1009"/>
                            <a:pt x="1669" y="1014"/>
                          </a:cubicBezTo>
                          <a:cubicBezTo>
                            <a:pt x="1642" y="1020"/>
                            <a:pt x="1620" y="885"/>
                            <a:pt x="1571" y="815"/>
                          </a:cubicBezTo>
                          <a:cubicBezTo>
                            <a:pt x="1522" y="744"/>
                            <a:pt x="1452" y="656"/>
                            <a:pt x="1373" y="584"/>
                          </a:cubicBezTo>
                          <a:cubicBezTo>
                            <a:pt x="1293" y="511"/>
                            <a:pt x="1230" y="444"/>
                            <a:pt x="1096" y="381"/>
                          </a:cubicBezTo>
                          <a:cubicBezTo>
                            <a:pt x="963" y="315"/>
                            <a:pt x="757" y="243"/>
                            <a:pt x="573" y="194"/>
                          </a:cubicBezTo>
                          <a:cubicBezTo>
                            <a:pt x="391" y="146"/>
                            <a:pt x="93" y="128"/>
                            <a:pt x="0" y="97"/>
                          </a:cubicBez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806080" y="1879920"/>
                    <a:ext cx="2940120" cy="1001160"/>
                    <a:chOff x="5806080" y="1879920"/>
                    <a:chExt cx="2940120" cy="10011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rot="463200">
                      <a:off x="5823000" y="2005920"/>
                      <a:ext cx="19051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9" h="605">
                          <a:moveTo>
                            <a:pt x="0" y="605"/>
                          </a:moveTo>
                          <a:cubicBezTo>
                            <a:pt x="24" y="586"/>
                            <a:pt x="621" y="298"/>
                            <a:pt x="945" y="201"/>
                          </a:cubicBezTo>
                          <a:cubicBezTo>
                            <a:pt x="1270" y="105"/>
                            <a:pt x="1605" y="57"/>
                            <a:pt x="1947" y="28"/>
                          </a:cubicBezTo>
                          <a:cubicBezTo>
                            <a:pt x="2289" y="0"/>
                            <a:pt x="2827" y="13"/>
                            <a:pt x="3000" y="28"/>
                          </a:cubicBezTo>
                          <a:lnTo>
                            <a:pt x="2982" y="123"/>
                          </a:lnTo>
                          <a:cubicBezTo>
                            <a:pt x="2805" y="139"/>
                            <a:pt x="2311" y="85"/>
                            <a:pt x="1934" y="123"/>
                          </a:cubicBezTo>
                          <a:cubicBezTo>
                            <a:pt x="1323" y="163"/>
                            <a:pt x="1094" y="230"/>
                            <a:pt x="716" y="351"/>
                          </a:cubicBezTo>
                          <a:cubicBezTo>
                            <a:pt x="391" y="427"/>
                            <a:pt x="148" y="552"/>
                            <a:pt x="0" y="605"/>
                          </a:cubicBezTo>
                          <a:lnTo>
                            <a:pt x="0" y="605"/>
                          </a:lnTo>
                          <a:lnTo>
                            <a:pt x="0" y="605"/>
                          </a:lnTo>
                          <a:lnTo>
                            <a:pt x="0" y="60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rot="463200">
                      <a:off x="7687800" y="2212200"/>
                      <a:ext cx="10224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0" h="949">
                          <a:moveTo>
                            <a:pt x="3" y="9"/>
                          </a:moveTo>
                          <a:cubicBezTo>
                            <a:pt x="76" y="0"/>
                            <a:pt x="264" y="28"/>
                            <a:pt x="440" y="67"/>
                          </a:cubicBezTo>
                          <a:cubicBezTo>
                            <a:pt x="615" y="105"/>
                            <a:pt x="880" y="164"/>
                            <a:pt x="1053" y="240"/>
                          </a:cubicBezTo>
                          <a:cubicBezTo>
                            <a:pt x="1224" y="315"/>
                            <a:pt x="1375" y="436"/>
                            <a:pt x="1466" y="518"/>
                          </a:cubicBezTo>
                          <a:cubicBezTo>
                            <a:pt x="1557" y="600"/>
                            <a:pt x="1587" y="660"/>
                            <a:pt x="1599" y="731"/>
                          </a:cubicBezTo>
                          <a:cubicBezTo>
                            <a:pt x="1610" y="801"/>
                            <a:pt x="1563" y="940"/>
                            <a:pt x="1537" y="944"/>
                          </a:cubicBezTo>
                          <a:cubicBezTo>
                            <a:pt x="1512" y="949"/>
                            <a:pt x="1492" y="824"/>
                            <a:pt x="1445" y="758"/>
                          </a:cubicBezTo>
                          <a:cubicBezTo>
                            <a:pt x="1401" y="692"/>
                            <a:pt x="1337" y="612"/>
                            <a:pt x="1263" y="545"/>
                          </a:cubicBezTo>
                          <a:cubicBezTo>
                            <a:pt x="1191" y="477"/>
                            <a:pt x="1132" y="415"/>
                            <a:pt x="1009" y="355"/>
                          </a:cubicBezTo>
                          <a:cubicBezTo>
                            <a:pt x="885" y="295"/>
                            <a:pt x="696" y="226"/>
                            <a:pt x="528" y="182"/>
                          </a:cubicBezTo>
                          <a:cubicBezTo>
                            <a:pt x="359" y="138"/>
                            <a:pt x="85" y="120"/>
                            <a:pt x="0" y="91"/>
                          </a:cubicBez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5851800" y="1815480"/>
                    <a:ext cx="2658960" cy="444960"/>
                    <a:chOff x="5851800" y="1815480"/>
                    <a:chExt cx="2658960" cy="44496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rot="21515400">
                      <a:off x="5854680" y="1851840"/>
                      <a:ext cx="173052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24" h="424">
                          <a:moveTo>
                            <a:pt x="0" y="424"/>
                          </a:moveTo>
                          <a:cubicBezTo>
                            <a:pt x="21" y="410"/>
                            <a:pt x="564" y="209"/>
                            <a:pt x="860" y="141"/>
                          </a:cubicBezTo>
                          <a:cubicBezTo>
                            <a:pt x="1154" y="74"/>
                            <a:pt x="1457" y="39"/>
                            <a:pt x="1768" y="20"/>
                          </a:cubicBezTo>
                          <a:cubicBezTo>
                            <a:pt x="2079" y="0"/>
                            <a:pt x="2569" y="8"/>
                            <a:pt x="2725" y="20"/>
                          </a:cubicBezTo>
                          <a:lnTo>
                            <a:pt x="2709" y="85"/>
                          </a:lnTo>
                          <a:cubicBezTo>
                            <a:pt x="2548" y="97"/>
                            <a:pt x="2099" y="59"/>
                            <a:pt x="1756" y="85"/>
                          </a:cubicBezTo>
                          <a:cubicBezTo>
                            <a:pt x="1203" y="113"/>
                            <a:pt x="992" y="161"/>
                            <a:pt x="649" y="245"/>
                          </a:cubicBezTo>
                          <a:cubicBezTo>
                            <a:pt x="355" y="300"/>
                            <a:pt x="134" y="387"/>
                            <a:pt x="0" y="424"/>
                          </a:cubicBezTo>
                          <a:lnTo>
                            <a:pt x="0" y="424"/>
                          </a:lnTo>
                          <a:lnTo>
                            <a:pt x="0" y="424"/>
                          </a:lnTo>
                          <a:lnTo>
                            <a:pt x="0" y="424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rot="21515400">
                      <a:off x="7575480" y="1827000"/>
                      <a:ext cx="93024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4" h="665">
                          <a:moveTo>
                            <a:pt x="4" y="4"/>
                          </a:moveTo>
                          <a:cubicBezTo>
                            <a:pt x="70" y="0"/>
                            <a:pt x="242" y="19"/>
                            <a:pt x="401" y="45"/>
                          </a:cubicBezTo>
                          <a:cubicBezTo>
                            <a:pt x="560" y="73"/>
                            <a:pt x="802" y="113"/>
                            <a:pt x="957" y="167"/>
                          </a:cubicBezTo>
                          <a:cubicBezTo>
                            <a:pt x="1113" y="220"/>
                            <a:pt x="1250" y="304"/>
                            <a:pt x="1333" y="362"/>
                          </a:cubicBezTo>
                          <a:cubicBezTo>
                            <a:pt x="1416" y="420"/>
                            <a:pt x="1442" y="462"/>
                            <a:pt x="1453" y="511"/>
                          </a:cubicBezTo>
                          <a:cubicBezTo>
                            <a:pt x="1464" y="561"/>
                            <a:pt x="1421" y="658"/>
                            <a:pt x="1398" y="661"/>
                          </a:cubicBezTo>
                          <a:cubicBezTo>
                            <a:pt x="1374" y="665"/>
                            <a:pt x="1356" y="577"/>
                            <a:pt x="1315" y="531"/>
                          </a:cubicBezTo>
                          <a:cubicBezTo>
                            <a:pt x="1273" y="484"/>
                            <a:pt x="1215" y="428"/>
                            <a:pt x="1149" y="381"/>
                          </a:cubicBezTo>
                          <a:cubicBezTo>
                            <a:pt x="1083" y="334"/>
                            <a:pt x="1029" y="289"/>
                            <a:pt x="917" y="248"/>
                          </a:cubicBezTo>
                          <a:cubicBezTo>
                            <a:pt x="806" y="205"/>
                            <a:pt x="634" y="158"/>
                            <a:pt x="480" y="126"/>
                          </a:cubicBezTo>
                          <a:cubicBezTo>
                            <a:pt x="327" y="94"/>
                            <a:pt x="79" y="83"/>
                            <a:pt x="0" y="62"/>
                          </a:cubicBezTo>
                          <a:lnTo>
                            <a:pt x="4" y="4"/>
                          </a:lnTo>
                          <a:lnTo>
                            <a:pt x="4" y="4"/>
                          </a:lnTo>
                          <a:lnTo>
                            <a:pt x="4" y="4"/>
                          </a:lnTo>
                          <a:lnTo>
                            <a:pt x="4" y="4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5789160" y="1304640"/>
                    <a:ext cx="2363400" cy="785880"/>
                    <a:chOff x="5789160" y="1304640"/>
                    <a:chExt cx="2363400" cy="78588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20797200">
                      <a:off x="5798880" y="16531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2" h="417">
                          <a:moveTo>
                            <a:pt x="0" y="417"/>
                          </a:moveTo>
                          <a:cubicBezTo>
                            <a:pt x="20" y="404"/>
                            <a:pt x="496" y="205"/>
                            <a:pt x="755" y="139"/>
                          </a:cubicBezTo>
                          <a:cubicBezTo>
                            <a:pt x="1014" y="72"/>
                            <a:pt x="1280" y="39"/>
                            <a:pt x="1553" y="19"/>
                          </a:cubicBezTo>
                          <a:cubicBezTo>
                            <a:pt x="1825" y="0"/>
                            <a:pt x="2255" y="9"/>
                            <a:pt x="2392" y="19"/>
                          </a:cubicBezTo>
                          <a:lnTo>
                            <a:pt x="2378" y="85"/>
                          </a:lnTo>
                          <a:cubicBezTo>
                            <a:pt x="2236" y="96"/>
                            <a:pt x="1842" y="58"/>
                            <a:pt x="1542" y="85"/>
                          </a:cubicBezTo>
                          <a:cubicBezTo>
                            <a:pt x="1057" y="112"/>
                            <a:pt x="872" y="159"/>
                            <a:pt x="571" y="241"/>
                          </a:cubicBezTo>
                          <a:cubicBezTo>
                            <a:pt x="312" y="294"/>
                            <a:pt x="118" y="381"/>
                            <a:pt x="0" y="417"/>
                          </a:cubicBezTo>
                          <a:lnTo>
                            <a:pt x="0" y="417"/>
                          </a:lnTo>
                          <a:lnTo>
                            <a:pt x="0" y="417"/>
                          </a:lnTo>
                          <a:lnTo>
                            <a:pt x="0" y="41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20797200">
                      <a:off x="7299000" y="13935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4" h="654">
                          <a:moveTo>
                            <a:pt x="3" y="5"/>
                          </a:moveTo>
                          <a:cubicBezTo>
                            <a:pt x="60" y="0"/>
                            <a:pt x="211" y="18"/>
                            <a:pt x="352" y="45"/>
                          </a:cubicBezTo>
                          <a:cubicBezTo>
                            <a:pt x="490" y="72"/>
                            <a:pt x="703" y="112"/>
                            <a:pt x="840" y="164"/>
                          </a:cubicBezTo>
                          <a:cubicBezTo>
                            <a:pt x="977" y="217"/>
                            <a:pt x="1097" y="301"/>
                            <a:pt x="1169" y="357"/>
                          </a:cubicBezTo>
                          <a:cubicBezTo>
                            <a:pt x="1242" y="413"/>
                            <a:pt x="1266" y="455"/>
                            <a:pt x="1276" y="504"/>
                          </a:cubicBezTo>
                          <a:cubicBezTo>
                            <a:pt x="1284" y="553"/>
                            <a:pt x="1246" y="648"/>
                            <a:pt x="1227" y="652"/>
                          </a:cubicBezTo>
                          <a:cubicBezTo>
                            <a:pt x="1207" y="654"/>
                            <a:pt x="1190" y="569"/>
                            <a:pt x="1154" y="523"/>
                          </a:cubicBezTo>
                          <a:cubicBezTo>
                            <a:pt x="1118" y="477"/>
                            <a:pt x="1066" y="422"/>
                            <a:pt x="1009" y="375"/>
                          </a:cubicBezTo>
                          <a:cubicBezTo>
                            <a:pt x="950" y="329"/>
                            <a:pt x="903" y="286"/>
                            <a:pt x="804" y="244"/>
                          </a:cubicBezTo>
                          <a:cubicBezTo>
                            <a:pt x="706" y="203"/>
                            <a:pt x="556" y="155"/>
                            <a:pt x="422" y="125"/>
                          </a:cubicBezTo>
                          <a:cubicBezTo>
                            <a:pt x="286" y="94"/>
                            <a:pt x="69" y="81"/>
                            <a:pt x="0" y="62"/>
                          </a:cubicBezTo>
                          <a:lnTo>
                            <a:pt x="3" y="5"/>
                          </a:lnTo>
                          <a:lnTo>
                            <a:pt x="3" y="5"/>
                          </a:lnTo>
                          <a:lnTo>
                            <a:pt x="3" y="5"/>
                          </a:lnTo>
                          <a:lnTo>
                            <a:pt x="3" y="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2645640" y="2474280"/>
                    <a:ext cx="2558880" cy="2741040"/>
                    <a:chOff x="2645640" y="2474280"/>
                    <a:chExt cx="2558880" cy="274104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 rot="18888600">
                      <a:off x="3254760" y="3171600"/>
                      <a:ext cx="212652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7" h="607">
                          <a:moveTo>
                            <a:pt x="0" y="607"/>
                          </a:moveTo>
                          <a:cubicBezTo>
                            <a:pt x="29" y="588"/>
                            <a:pt x="695" y="299"/>
                            <a:pt x="1057" y="201"/>
                          </a:cubicBezTo>
                          <a:cubicBezTo>
                            <a:pt x="1419" y="105"/>
                            <a:pt x="1791" y="57"/>
                            <a:pt x="2173" y="28"/>
                          </a:cubicBezTo>
                          <a:cubicBezTo>
                            <a:pt x="2554" y="0"/>
                            <a:pt x="3155" y="12"/>
                            <a:pt x="3347" y="28"/>
                          </a:cubicBezTo>
                          <a:lnTo>
                            <a:pt x="3328" y="123"/>
                          </a:lnTo>
                          <a:cubicBezTo>
                            <a:pt x="3130" y="139"/>
                            <a:pt x="2579" y="85"/>
                            <a:pt x="2158" y="123"/>
                          </a:cubicBezTo>
                          <a:cubicBezTo>
                            <a:pt x="1479" y="163"/>
                            <a:pt x="1221" y="230"/>
                            <a:pt x="800" y="352"/>
                          </a:cubicBezTo>
                          <a:cubicBezTo>
                            <a:pt x="438" y="428"/>
                            <a:pt x="166" y="555"/>
                            <a:pt x="0" y="607"/>
                          </a:cubicBezTo>
                          <a:lnTo>
                            <a:pt x="0" y="607"/>
                          </a:lnTo>
                          <a:lnTo>
                            <a:pt x="0" y="607"/>
                          </a:lnTo>
                          <a:lnTo>
                            <a:pt x="0" y="60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rot="18888600">
                      <a:off x="2691000" y="4294080"/>
                      <a:ext cx="11415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7" h="952">
                          <a:moveTo>
                            <a:pt x="5" y="9"/>
                          </a:moveTo>
                          <a:cubicBezTo>
                            <a:pt x="86" y="0"/>
                            <a:pt x="297" y="28"/>
                            <a:pt x="492" y="67"/>
                          </a:cubicBezTo>
                          <a:cubicBezTo>
                            <a:pt x="687" y="105"/>
                            <a:pt x="983" y="164"/>
                            <a:pt x="1174" y="240"/>
                          </a:cubicBezTo>
                          <a:cubicBezTo>
                            <a:pt x="1366" y="316"/>
                            <a:pt x="1535" y="437"/>
                            <a:pt x="1636" y="519"/>
                          </a:cubicBezTo>
                          <a:cubicBezTo>
                            <a:pt x="1738" y="601"/>
                            <a:pt x="1770" y="662"/>
                            <a:pt x="1784" y="733"/>
                          </a:cubicBezTo>
                          <a:cubicBezTo>
                            <a:pt x="1797" y="804"/>
                            <a:pt x="1744" y="942"/>
                            <a:pt x="1716" y="947"/>
                          </a:cubicBezTo>
                          <a:cubicBezTo>
                            <a:pt x="1687" y="952"/>
                            <a:pt x="1665" y="827"/>
                            <a:pt x="1614" y="761"/>
                          </a:cubicBezTo>
                          <a:cubicBezTo>
                            <a:pt x="1563" y="695"/>
                            <a:pt x="1492" y="613"/>
                            <a:pt x="1411" y="546"/>
                          </a:cubicBezTo>
                          <a:cubicBezTo>
                            <a:pt x="1330" y="478"/>
                            <a:pt x="1264" y="416"/>
                            <a:pt x="1126" y="356"/>
                          </a:cubicBezTo>
                          <a:cubicBezTo>
                            <a:pt x="989" y="295"/>
                            <a:pt x="777" y="227"/>
                            <a:pt x="589" y="182"/>
                          </a:cubicBezTo>
                          <a:cubicBezTo>
                            <a:pt x="402" y="138"/>
                            <a:pt x="97" y="120"/>
                            <a:pt x="0" y="91"/>
                          </a:cubicBezTo>
                          <a:lnTo>
                            <a:pt x="5" y="9"/>
                          </a:lnTo>
                          <a:lnTo>
                            <a:pt x="5" y="9"/>
                          </a:lnTo>
                          <a:lnTo>
                            <a:pt x="5" y="9"/>
                          </a:lnTo>
                          <a:lnTo>
                            <a:pt x="5" y="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085120" y="2366640"/>
                    <a:ext cx="3041640" cy="2529360"/>
                    <a:chOff x="2085120" y="2366640"/>
                    <a:chExt cx="3041640" cy="252936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flipH="1" rot="19496400">
                      <a:off x="2969280" y="297000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22" h="674">
                          <a:moveTo>
                            <a:pt x="0" y="674"/>
                          </a:moveTo>
                          <a:cubicBezTo>
                            <a:pt x="30" y="653"/>
                            <a:pt x="731" y="331"/>
                            <a:pt x="1112" y="224"/>
                          </a:cubicBezTo>
                          <a:cubicBezTo>
                            <a:pt x="1493" y="117"/>
                            <a:pt x="1884" y="64"/>
                            <a:pt x="2286" y="32"/>
                          </a:cubicBezTo>
                          <a:cubicBezTo>
                            <a:pt x="2688" y="0"/>
                            <a:pt x="3320" y="14"/>
                            <a:pt x="3522" y="32"/>
                          </a:cubicBezTo>
                          <a:lnTo>
                            <a:pt x="3502" y="137"/>
                          </a:lnTo>
                          <a:cubicBezTo>
                            <a:pt x="3293" y="155"/>
                            <a:pt x="2714" y="94"/>
                            <a:pt x="2271" y="137"/>
                          </a:cubicBezTo>
                          <a:cubicBezTo>
                            <a:pt x="1556" y="181"/>
                            <a:pt x="1284" y="256"/>
                            <a:pt x="842" y="391"/>
                          </a:cubicBezTo>
                          <a:cubicBezTo>
                            <a:pt x="460" y="476"/>
                            <a:pt x="175" y="616"/>
                            <a:pt x="0" y="674"/>
                          </a:cubicBezTo>
                          <a:lnTo>
                            <a:pt x="0" y="674"/>
                          </a:lnTo>
                          <a:lnTo>
                            <a:pt x="0" y="674"/>
                          </a:lnTo>
                          <a:lnTo>
                            <a:pt x="0" y="674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H="1" rot="19496400">
                      <a:off x="2169000" y="3939480"/>
                      <a:ext cx="120024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0" h="1059">
                          <a:moveTo>
                            <a:pt x="4" y="10"/>
                          </a:moveTo>
                          <a:cubicBezTo>
                            <a:pt x="89" y="0"/>
                            <a:pt x="312" y="32"/>
                            <a:pt x="517" y="74"/>
                          </a:cubicBezTo>
                          <a:cubicBezTo>
                            <a:pt x="722" y="117"/>
                            <a:pt x="1035" y="183"/>
                            <a:pt x="1236" y="267"/>
                          </a:cubicBezTo>
                          <a:cubicBezTo>
                            <a:pt x="1437" y="351"/>
                            <a:pt x="1614" y="487"/>
                            <a:pt x="1721" y="579"/>
                          </a:cubicBezTo>
                          <a:cubicBezTo>
                            <a:pt x="1828" y="670"/>
                            <a:pt x="1862" y="736"/>
                            <a:pt x="1876" y="815"/>
                          </a:cubicBezTo>
                          <a:cubicBezTo>
                            <a:pt x="1890" y="894"/>
                            <a:pt x="1834" y="1048"/>
                            <a:pt x="1804" y="1054"/>
                          </a:cubicBezTo>
                          <a:cubicBezTo>
                            <a:pt x="1775" y="1059"/>
                            <a:pt x="1751" y="920"/>
                            <a:pt x="1698" y="846"/>
                          </a:cubicBezTo>
                          <a:cubicBezTo>
                            <a:pt x="1644" y="773"/>
                            <a:pt x="1569" y="683"/>
                            <a:pt x="1484" y="608"/>
                          </a:cubicBezTo>
                          <a:cubicBezTo>
                            <a:pt x="1398" y="533"/>
                            <a:pt x="1329" y="462"/>
                            <a:pt x="1184" y="396"/>
                          </a:cubicBezTo>
                          <a:cubicBezTo>
                            <a:pt x="1040" y="329"/>
                            <a:pt x="818" y="252"/>
                            <a:pt x="620" y="203"/>
                          </a:cubicBezTo>
                          <a:cubicBezTo>
                            <a:pt x="422" y="153"/>
                            <a:pt x="101" y="133"/>
                            <a:pt x="0" y="101"/>
                          </a:cubicBezTo>
                          <a:lnTo>
                            <a:pt x="4" y="10"/>
                          </a:lnTo>
                          <a:lnTo>
                            <a:pt x="4" y="10"/>
                          </a:lnTo>
                          <a:lnTo>
                            <a:pt x="4" y="10"/>
                          </a:lnTo>
                          <a:lnTo>
                            <a:pt x="4" y="1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2040840" y="2284200"/>
                    <a:ext cx="3096360" cy="1991520"/>
                    <a:chOff x="2040840" y="2284200"/>
                    <a:chExt cx="3096360" cy="199152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flipH="1" rot="20017200">
                      <a:off x="3025080" y="273996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70" h="590">
                          <a:moveTo>
                            <a:pt x="0" y="590"/>
                          </a:moveTo>
                          <a:cubicBezTo>
                            <a:pt x="28" y="571"/>
                            <a:pt x="698" y="290"/>
                            <a:pt x="1063" y="195"/>
                          </a:cubicBezTo>
                          <a:cubicBezTo>
                            <a:pt x="1428" y="102"/>
                            <a:pt x="1802" y="56"/>
                            <a:pt x="2187" y="28"/>
                          </a:cubicBezTo>
                          <a:cubicBezTo>
                            <a:pt x="2571" y="0"/>
                            <a:pt x="3176" y="12"/>
                            <a:pt x="3370" y="28"/>
                          </a:cubicBezTo>
                          <a:lnTo>
                            <a:pt x="3350" y="120"/>
                          </a:lnTo>
                          <a:cubicBezTo>
                            <a:pt x="3150" y="135"/>
                            <a:pt x="2596" y="82"/>
                            <a:pt x="2172" y="120"/>
                          </a:cubicBezTo>
                          <a:cubicBezTo>
                            <a:pt x="1488" y="158"/>
                            <a:pt x="1228" y="224"/>
                            <a:pt x="804" y="342"/>
                          </a:cubicBezTo>
                          <a:cubicBezTo>
                            <a:pt x="440" y="416"/>
                            <a:pt x="165" y="538"/>
                            <a:pt x="0" y="590"/>
                          </a:cubicBezTo>
                          <a:lnTo>
                            <a:pt x="0" y="590"/>
                          </a:lnTo>
                          <a:lnTo>
                            <a:pt x="0" y="590"/>
                          </a:lnTo>
                          <a:lnTo>
                            <a:pt x="0" y="59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H="1" rot="20017200">
                      <a:off x="2111040" y="3465000"/>
                      <a:ext cx="1149840" cy="58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0" h="922">
                          <a:moveTo>
                            <a:pt x="4" y="8"/>
                          </a:moveTo>
                          <a:cubicBezTo>
                            <a:pt x="85" y="0"/>
                            <a:pt x="298" y="27"/>
                            <a:pt x="495" y="64"/>
                          </a:cubicBezTo>
                          <a:cubicBezTo>
                            <a:pt x="691" y="101"/>
                            <a:pt x="990" y="159"/>
                            <a:pt x="1182" y="232"/>
                          </a:cubicBezTo>
                          <a:cubicBezTo>
                            <a:pt x="1375" y="306"/>
                            <a:pt x="1544" y="424"/>
                            <a:pt x="1647" y="503"/>
                          </a:cubicBezTo>
                          <a:cubicBezTo>
                            <a:pt x="1749" y="583"/>
                            <a:pt x="1782" y="640"/>
                            <a:pt x="1795" y="709"/>
                          </a:cubicBezTo>
                          <a:cubicBezTo>
                            <a:pt x="1809" y="778"/>
                            <a:pt x="1756" y="913"/>
                            <a:pt x="1727" y="917"/>
                          </a:cubicBezTo>
                          <a:cubicBezTo>
                            <a:pt x="1698" y="922"/>
                            <a:pt x="1675" y="800"/>
                            <a:pt x="1624" y="736"/>
                          </a:cubicBezTo>
                          <a:cubicBezTo>
                            <a:pt x="1573" y="672"/>
                            <a:pt x="1501" y="594"/>
                            <a:pt x="1420" y="529"/>
                          </a:cubicBezTo>
                          <a:cubicBezTo>
                            <a:pt x="1338" y="464"/>
                            <a:pt x="1271" y="403"/>
                            <a:pt x="1133" y="344"/>
                          </a:cubicBezTo>
                          <a:cubicBezTo>
                            <a:pt x="995" y="286"/>
                            <a:pt x="782" y="219"/>
                            <a:pt x="593" y="176"/>
                          </a:cubicBezTo>
                          <a:cubicBezTo>
                            <a:pt x="404" y="133"/>
                            <a:pt x="97" y="115"/>
                            <a:pt x="0" y="87"/>
                          </a:cubicBezTo>
                          <a:lnTo>
                            <a:pt x="4" y="8"/>
                          </a:lnTo>
                          <a:lnTo>
                            <a:pt x="4" y="8"/>
                          </a:lnTo>
                          <a:lnTo>
                            <a:pt x="4" y="8"/>
                          </a:lnTo>
                          <a:lnTo>
                            <a:pt x="4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2010960" y="2189160"/>
                    <a:ext cx="3134520" cy="1607400"/>
                    <a:chOff x="2010960" y="2189160"/>
                    <a:chExt cx="3134520" cy="16074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flipH="1" rot="20520000">
                      <a:off x="3064680" y="249840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54" h="649">
                          <a:moveTo>
                            <a:pt x="0" y="649"/>
                          </a:moveTo>
                          <a:cubicBezTo>
                            <a:pt x="27" y="628"/>
                            <a:pt x="675" y="319"/>
                            <a:pt x="1027" y="215"/>
                          </a:cubicBezTo>
                          <a:cubicBezTo>
                            <a:pt x="1379" y="112"/>
                            <a:pt x="1741" y="61"/>
                            <a:pt x="2113" y="30"/>
                          </a:cubicBezTo>
                          <a:cubicBezTo>
                            <a:pt x="2484" y="0"/>
                            <a:pt x="3068" y="14"/>
                            <a:pt x="3254" y="30"/>
                          </a:cubicBezTo>
                          <a:lnTo>
                            <a:pt x="3236" y="132"/>
                          </a:lnTo>
                          <a:cubicBezTo>
                            <a:pt x="3043" y="148"/>
                            <a:pt x="2508" y="91"/>
                            <a:pt x="2098" y="132"/>
                          </a:cubicBezTo>
                          <a:cubicBezTo>
                            <a:pt x="1438" y="174"/>
                            <a:pt x="1186" y="247"/>
                            <a:pt x="777" y="375"/>
                          </a:cubicBezTo>
                          <a:cubicBezTo>
                            <a:pt x="425" y="458"/>
                            <a:pt x="160" y="593"/>
                            <a:pt x="0" y="649"/>
                          </a:cubicBezTo>
                          <a:lnTo>
                            <a:pt x="0" y="649"/>
                          </a:lnTo>
                          <a:lnTo>
                            <a:pt x="0" y="649"/>
                          </a:lnTo>
                          <a:lnTo>
                            <a:pt x="0" y="64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H="1" rot="20520000">
                      <a:off x="2083320" y="2991240"/>
                      <a:ext cx="111132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0" h="1022">
                          <a:moveTo>
                            <a:pt x="3" y="10"/>
                          </a:moveTo>
                          <a:cubicBezTo>
                            <a:pt x="84" y="0"/>
                            <a:pt x="289" y="30"/>
                            <a:pt x="479" y="72"/>
                          </a:cubicBezTo>
                          <a:cubicBezTo>
                            <a:pt x="668" y="113"/>
                            <a:pt x="958" y="176"/>
                            <a:pt x="1144" y="258"/>
                          </a:cubicBezTo>
                          <a:cubicBezTo>
                            <a:pt x="1330" y="339"/>
                            <a:pt x="1494" y="470"/>
                            <a:pt x="1593" y="557"/>
                          </a:cubicBezTo>
                          <a:cubicBezTo>
                            <a:pt x="1692" y="645"/>
                            <a:pt x="1724" y="711"/>
                            <a:pt x="1736" y="787"/>
                          </a:cubicBezTo>
                          <a:cubicBezTo>
                            <a:pt x="1750" y="863"/>
                            <a:pt x="1697" y="1012"/>
                            <a:pt x="1670" y="1017"/>
                          </a:cubicBezTo>
                          <a:cubicBezTo>
                            <a:pt x="1642" y="1022"/>
                            <a:pt x="1621" y="888"/>
                            <a:pt x="1570" y="817"/>
                          </a:cubicBezTo>
                          <a:cubicBezTo>
                            <a:pt x="1522" y="746"/>
                            <a:pt x="1452" y="658"/>
                            <a:pt x="1373" y="586"/>
                          </a:cubicBezTo>
                          <a:cubicBezTo>
                            <a:pt x="1294" y="513"/>
                            <a:pt x="1230" y="446"/>
                            <a:pt x="1096" y="382"/>
                          </a:cubicBezTo>
                          <a:cubicBezTo>
                            <a:pt x="963" y="317"/>
                            <a:pt x="757" y="244"/>
                            <a:pt x="573" y="196"/>
                          </a:cubicBezTo>
                          <a:cubicBezTo>
                            <a:pt x="391" y="148"/>
                            <a:pt x="93" y="129"/>
                            <a:pt x="0" y="98"/>
                          </a:cubicBezTo>
                          <a:lnTo>
                            <a:pt x="3" y="10"/>
                          </a:lnTo>
                          <a:lnTo>
                            <a:pt x="3" y="10"/>
                          </a:lnTo>
                          <a:lnTo>
                            <a:pt x="3" y="10"/>
                          </a:lnTo>
                          <a:lnTo>
                            <a:pt x="3" y="1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2167920" y="2097720"/>
                    <a:ext cx="2940480" cy="1000800"/>
                    <a:chOff x="2167920" y="2097720"/>
                    <a:chExt cx="2940480" cy="100080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21136800">
                      <a:off x="3186360" y="2223720"/>
                      <a:ext cx="19047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9" h="605">
                          <a:moveTo>
                            <a:pt x="0" y="605"/>
                          </a:moveTo>
                          <a:cubicBezTo>
                            <a:pt x="24" y="585"/>
                            <a:pt x="621" y="298"/>
                            <a:pt x="947" y="201"/>
                          </a:cubicBezTo>
                          <a:cubicBezTo>
                            <a:pt x="1272" y="105"/>
                            <a:pt x="1604" y="57"/>
                            <a:pt x="1946" y="28"/>
                          </a:cubicBezTo>
                          <a:cubicBezTo>
                            <a:pt x="2289" y="0"/>
                            <a:pt x="2827" y="13"/>
                            <a:pt x="3000" y="28"/>
                          </a:cubicBezTo>
                          <a:lnTo>
                            <a:pt x="2982" y="121"/>
                          </a:lnTo>
                          <a:cubicBezTo>
                            <a:pt x="2803" y="139"/>
                            <a:pt x="2311" y="83"/>
                            <a:pt x="1934" y="121"/>
                          </a:cubicBezTo>
                          <a:cubicBezTo>
                            <a:pt x="1325" y="163"/>
                            <a:pt x="1094" y="230"/>
                            <a:pt x="716" y="351"/>
                          </a:cubicBezTo>
                          <a:cubicBezTo>
                            <a:pt x="391" y="427"/>
                            <a:pt x="148" y="552"/>
                            <a:pt x="0" y="605"/>
                          </a:cubicBezTo>
                          <a:lnTo>
                            <a:pt x="0" y="605"/>
                          </a:lnTo>
                          <a:lnTo>
                            <a:pt x="0" y="605"/>
                          </a:lnTo>
                          <a:lnTo>
                            <a:pt x="0" y="60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21136800">
                      <a:off x="2203200" y="2431440"/>
                      <a:ext cx="1022400" cy="60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9" h="947">
                          <a:moveTo>
                            <a:pt x="3" y="8"/>
                          </a:moveTo>
                          <a:cubicBezTo>
                            <a:pt x="76" y="0"/>
                            <a:pt x="265" y="27"/>
                            <a:pt x="440" y="66"/>
                          </a:cubicBezTo>
                          <a:cubicBezTo>
                            <a:pt x="615" y="104"/>
                            <a:pt x="881" y="163"/>
                            <a:pt x="1053" y="239"/>
                          </a:cubicBezTo>
                          <a:cubicBezTo>
                            <a:pt x="1224" y="314"/>
                            <a:pt x="1375" y="435"/>
                            <a:pt x="1466" y="517"/>
                          </a:cubicBezTo>
                          <a:cubicBezTo>
                            <a:pt x="1557" y="599"/>
                            <a:pt x="1587" y="658"/>
                            <a:pt x="1599" y="729"/>
                          </a:cubicBezTo>
                          <a:cubicBezTo>
                            <a:pt x="1609" y="799"/>
                            <a:pt x="1563" y="938"/>
                            <a:pt x="1537" y="942"/>
                          </a:cubicBezTo>
                          <a:cubicBezTo>
                            <a:pt x="1512" y="947"/>
                            <a:pt x="1492" y="822"/>
                            <a:pt x="1446" y="756"/>
                          </a:cubicBezTo>
                          <a:cubicBezTo>
                            <a:pt x="1401" y="690"/>
                            <a:pt x="1337" y="611"/>
                            <a:pt x="1264" y="544"/>
                          </a:cubicBezTo>
                          <a:cubicBezTo>
                            <a:pt x="1191" y="476"/>
                            <a:pt x="1132" y="414"/>
                            <a:pt x="1009" y="354"/>
                          </a:cubicBezTo>
                          <a:cubicBezTo>
                            <a:pt x="886" y="294"/>
                            <a:pt x="696" y="225"/>
                            <a:pt x="528" y="181"/>
                          </a:cubicBezTo>
                          <a:cubicBezTo>
                            <a:pt x="359" y="137"/>
                            <a:pt x="86" y="119"/>
                            <a:pt x="0" y="90"/>
                          </a:cubicBez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2403360" y="2032920"/>
                    <a:ext cx="2658960" cy="446760"/>
                    <a:chOff x="2403360" y="2032920"/>
                    <a:chExt cx="2658960" cy="44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84600">
                      <a:off x="3328560" y="2069640"/>
                      <a:ext cx="173016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24" h="424">
                          <a:moveTo>
                            <a:pt x="0" y="424"/>
                          </a:moveTo>
                          <a:cubicBezTo>
                            <a:pt x="22" y="410"/>
                            <a:pt x="565" y="209"/>
                            <a:pt x="860" y="141"/>
                          </a:cubicBezTo>
                          <a:cubicBezTo>
                            <a:pt x="1154" y="74"/>
                            <a:pt x="1457" y="39"/>
                            <a:pt x="1768" y="20"/>
                          </a:cubicBezTo>
                          <a:cubicBezTo>
                            <a:pt x="2079" y="0"/>
                            <a:pt x="2569" y="8"/>
                            <a:pt x="2724" y="20"/>
                          </a:cubicBezTo>
                          <a:lnTo>
                            <a:pt x="2709" y="85"/>
                          </a:lnTo>
                          <a:cubicBezTo>
                            <a:pt x="2548" y="97"/>
                            <a:pt x="2099" y="59"/>
                            <a:pt x="1756" y="85"/>
                          </a:cubicBezTo>
                          <a:cubicBezTo>
                            <a:pt x="1203" y="113"/>
                            <a:pt x="993" y="161"/>
                            <a:pt x="650" y="245"/>
                          </a:cubicBezTo>
                          <a:cubicBezTo>
                            <a:pt x="355" y="300"/>
                            <a:pt x="134" y="387"/>
                            <a:pt x="0" y="424"/>
                          </a:cubicBezTo>
                          <a:lnTo>
                            <a:pt x="0" y="424"/>
                          </a:lnTo>
                          <a:lnTo>
                            <a:pt x="0" y="424"/>
                          </a:lnTo>
                          <a:lnTo>
                            <a:pt x="0" y="424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84600">
                      <a:off x="2408400" y="204408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5" h="667">
                          <a:moveTo>
                            <a:pt x="3" y="6"/>
                          </a:moveTo>
                          <a:cubicBezTo>
                            <a:pt x="70" y="0"/>
                            <a:pt x="241" y="20"/>
                            <a:pt x="400" y="47"/>
                          </a:cubicBezTo>
                          <a:cubicBezTo>
                            <a:pt x="560" y="74"/>
                            <a:pt x="802" y="115"/>
                            <a:pt x="957" y="168"/>
                          </a:cubicBezTo>
                          <a:cubicBezTo>
                            <a:pt x="1113" y="221"/>
                            <a:pt x="1250" y="306"/>
                            <a:pt x="1333" y="363"/>
                          </a:cubicBezTo>
                          <a:cubicBezTo>
                            <a:pt x="1416" y="421"/>
                            <a:pt x="1442" y="464"/>
                            <a:pt x="1453" y="513"/>
                          </a:cubicBezTo>
                          <a:cubicBezTo>
                            <a:pt x="1465" y="563"/>
                            <a:pt x="1421" y="660"/>
                            <a:pt x="1398" y="663"/>
                          </a:cubicBezTo>
                          <a:cubicBezTo>
                            <a:pt x="1374" y="667"/>
                            <a:pt x="1356" y="579"/>
                            <a:pt x="1315" y="533"/>
                          </a:cubicBezTo>
                          <a:cubicBezTo>
                            <a:pt x="1273" y="486"/>
                            <a:pt x="1215" y="429"/>
                            <a:pt x="1149" y="382"/>
                          </a:cubicBezTo>
                          <a:cubicBezTo>
                            <a:pt x="1083" y="335"/>
                            <a:pt x="1029" y="291"/>
                            <a:pt x="917" y="249"/>
                          </a:cubicBezTo>
                          <a:cubicBezTo>
                            <a:pt x="806" y="207"/>
                            <a:pt x="634" y="159"/>
                            <a:pt x="480" y="127"/>
                          </a:cubicBezTo>
                          <a:cubicBezTo>
                            <a:pt x="326" y="96"/>
                            <a:pt x="79" y="84"/>
                            <a:pt x="0" y="63"/>
                          </a:cubicBez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2761560" y="1522080"/>
                    <a:ext cx="2363400" cy="787680"/>
                    <a:chOff x="2761560" y="1522080"/>
                    <a:chExt cx="2363400" cy="78768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802800">
                      <a:off x="359532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2" h="417">
                          <a:moveTo>
                            <a:pt x="0" y="417"/>
                          </a:moveTo>
                          <a:cubicBezTo>
                            <a:pt x="20" y="404"/>
                            <a:pt x="496" y="205"/>
                            <a:pt x="755" y="139"/>
                          </a:cubicBezTo>
                          <a:cubicBezTo>
                            <a:pt x="1014" y="72"/>
                            <a:pt x="1280" y="39"/>
                            <a:pt x="1553" y="19"/>
                          </a:cubicBezTo>
                          <a:cubicBezTo>
                            <a:pt x="1825" y="0"/>
                            <a:pt x="2255" y="9"/>
                            <a:pt x="2392" y="19"/>
                          </a:cubicBezTo>
                          <a:lnTo>
                            <a:pt x="2378" y="85"/>
                          </a:lnTo>
                          <a:cubicBezTo>
                            <a:pt x="2236" y="96"/>
                            <a:pt x="1842" y="58"/>
                            <a:pt x="1542" y="85"/>
                          </a:cubicBezTo>
                          <a:cubicBezTo>
                            <a:pt x="1057" y="112"/>
                            <a:pt x="872" y="159"/>
                            <a:pt x="571" y="241"/>
                          </a:cubicBezTo>
                          <a:cubicBezTo>
                            <a:pt x="312" y="294"/>
                            <a:pt x="118" y="381"/>
                            <a:pt x="0" y="417"/>
                          </a:cubicBezTo>
                          <a:lnTo>
                            <a:pt x="0" y="417"/>
                          </a:lnTo>
                          <a:lnTo>
                            <a:pt x="0" y="417"/>
                          </a:lnTo>
                          <a:lnTo>
                            <a:pt x="0" y="41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802800">
                      <a:off x="2798640" y="16106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4" h="657">
                          <a:moveTo>
                            <a:pt x="3" y="6"/>
                          </a:moveTo>
                          <a:cubicBezTo>
                            <a:pt x="61" y="0"/>
                            <a:pt x="211" y="19"/>
                            <a:pt x="351" y="46"/>
                          </a:cubicBezTo>
                          <a:cubicBezTo>
                            <a:pt x="490" y="73"/>
                            <a:pt x="704" y="113"/>
                            <a:pt x="840" y="165"/>
                          </a:cubicBezTo>
                          <a:cubicBezTo>
                            <a:pt x="977" y="218"/>
                            <a:pt x="1097" y="302"/>
                            <a:pt x="1170" y="358"/>
                          </a:cubicBezTo>
                          <a:cubicBezTo>
                            <a:pt x="1242" y="414"/>
                            <a:pt x="1265" y="457"/>
                            <a:pt x="1276" y="506"/>
                          </a:cubicBezTo>
                          <a:cubicBezTo>
                            <a:pt x="1284" y="555"/>
                            <a:pt x="1247" y="650"/>
                            <a:pt x="1226" y="654"/>
                          </a:cubicBezTo>
                          <a:cubicBezTo>
                            <a:pt x="1207" y="657"/>
                            <a:pt x="1191" y="571"/>
                            <a:pt x="1154" y="525"/>
                          </a:cubicBezTo>
                          <a:cubicBezTo>
                            <a:pt x="1118" y="479"/>
                            <a:pt x="1067" y="423"/>
                            <a:pt x="1009" y="376"/>
                          </a:cubicBezTo>
                          <a:cubicBezTo>
                            <a:pt x="951" y="330"/>
                            <a:pt x="903" y="287"/>
                            <a:pt x="804" y="245"/>
                          </a:cubicBezTo>
                          <a:cubicBezTo>
                            <a:pt x="707" y="204"/>
                            <a:pt x="555" y="156"/>
                            <a:pt x="421" y="126"/>
                          </a:cubicBezTo>
                          <a:cubicBezTo>
                            <a:pt x="287" y="95"/>
                            <a:pt x="68" y="82"/>
                            <a:pt x="0" y="63"/>
                          </a:cubicBez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2887560" y="1237320"/>
                    <a:ext cx="2324520" cy="1083600"/>
                    <a:chOff x="2887560" y="1237320"/>
                    <a:chExt cx="2324520" cy="108360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278000">
                      <a:off x="369540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5" h="417">
                          <a:moveTo>
                            <a:pt x="0" y="417"/>
                          </a:moveTo>
                          <a:cubicBezTo>
                            <a:pt x="21" y="404"/>
                            <a:pt x="497" y="205"/>
                            <a:pt x="756" y="139"/>
                          </a:cubicBezTo>
                          <a:cubicBezTo>
                            <a:pt x="1015" y="72"/>
                            <a:pt x="1281" y="39"/>
                            <a:pt x="1554" y="19"/>
                          </a:cubicBezTo>
                          <a:cubicBezTo>
                            <a:pt x="1827" y="0"/>
                            <a:pt x="2257" y="9"/>
                            <a:pt x="2395" y="19"/>
                          </a:cubicBezTo>
                          <a:lnTo>
                            <a:pt x="2380" y="85"/>
                          </a:lnTo>
                          <a:cubicBezTo>
                            <a:pt x="2238" y="96"/>
                            <a:pt x="1844" y="58"/>
                            <a:pt x="1543" y="85"/>
                          </a:cubicBezTo>
                          <a:cubicBezTo>
                            <a:pt x="1058" y="112"/>
                            <a:pt x="873" y="159"/>
                            <a:pt x="571" y="241"/>
                          </a:cubicBezTo>
                          <a:cubicBezTo>
                            <a:pt x="313" y="294"/>
                            <a:pt x="119" y="381"/>
                            <a:pt x="0" y="417"/>
                          </a:cubicBezTo>
                          <a:lnTo>
                            <a:pt x="0" y="417"/>
                          </a:lnTo>
                          <a:lnTo>
                            <a:pt x="0" y="417"/>
                          </a:lnTo>
                          <a:lnTo>
                            <a:pt x="0" y="41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278000">
                      <a:off x="2934720" y="1370880"/>
                      <a:ext cx="8157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4" h="654">
                          <a:moveTo>
                            <a:pt x="3" y="5"/>
                          </a:moveTo>
                          <a:cubicBezTo>
                            <a:pt x="61" y="0"/>
                            <a:pt x="211" y="18"/>
                            <a:pt x="351" y="45"/>
                          </a:cubicBezTo>
                          <a:cubicBezTo>
                            <a:pt x="490" y="72"/>
                            <a:pt x="704" y="112"/>
                            <a:pt x="840" y="164"/>
                          </a:cubicBezTo>
                          <a:cubicBezTo>
                            <a:pt x="977" y="217"/>
                            <a:pt x="1097" y="301"/>
                            <a:pt x="1170" y="357"/>
                          </a:cubicBezTo>
                          <a:cubicBezTo>
                            <a:pt x="1242" y="413"/>
                            <a:pt x="1265" y="455"/>
                            <a:pt x="1276" y="504"/>
                          </a:cubicBezTo>
                          <a:cubicBezTo>
                            <a:pt x="1285" y="553"/>
                            <a:pt x="1247" y="648"/>
                            <a:pt x="1226" y="652"/>
                          </a:cubicBezTo>
                          <a:cubicBezTo>
                            <a:pt x="1207" y="654"/>
                            <a:pt x="1191" y="569"/>
                            <a:pt x="1154" y="523"/>
                          </a:cubicBezTo>
                          <a:cubicBezTo>
                            <a:pt x="1118" y="477"/>
                            <a:pt x="1067" y="422"/>
                            <a:pt x="1009" y="375"/>
                          </a:cubicBezTo>
                          <a:cubicBezTo>
                            <a:pt x="951" y="329"/>
                            <a:pt x="903" y="286"/>
                            <a:pt x="804" y="244"/>
                          </a:cubicBezTo>
                          <a:cubicBezTo>
                            <a:pt x="707" y="203"/>
                            <a:pt x="555" y="155"/>
                            <a:pt x="421" y="125"/>
                          </a:cubicBezTo>
                          <a:cubicBezTo>
                            <a:pt x="287" y="94"/>
                            <a:pt x="68" y="81"/>
                            <a:pt x="0" y="62"/>
                          </a:cubicBezTo>
                          <a:lnTo>
                            <a:pt x="3" y="5"/>
                          </a:lnTo>
                          <a:lnTo>
                            <a:pt x="3" y="5"/>
                          </a:lnTo>
                          <a:lnTo>
                            <a:pt x="3" y="5"/>
                          </a:lnTo>
                          <a:lnTo>
                            <a:pt x="3" y="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162240" y="831960"/>
                    <a:ext cx="2169000" cy="1507320"/>
                    <a:chOff x="3162240" y="831960"/>
                    <a:chExt cx="2169000" cy="150732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2028600">
                      <a:off x="3865680" y="1674360"/>
                      <a:ext cx="152064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4" h="417">
                          <a:moveTo>
                            <a:pt x="0" y="417"/>
                          </a:moveTo>
                          <a:cubicBezTo>
                            <a:pt x="21" y="404"/>
                            <a:pt x="497" y="205"/>
                            <a:pt x="756" y="139"/>
                          </a:cubicBezTo>
                          <a:cubicBezTo>
                            <a:pt x="1015" y="72"/>
                            <a:pt x="1281" y="39"/>
                            <a:pt x="1554" y="19"/>
                          </a:cubicBezTo>
                          <a:cubicBezTo>
                            <a:pt x="1827" y="0"/>
                            <a:pt x="2257" y="9"/>
                            <a:pt x="2394" y="19"/>
                          </a:cubicBezTo>
                          <a:lnTo>
                            <a:pt x="2380" y="85"/>
                          </a:lnTo>
                          <a:cubicBezTo>
                            <a:pt x="2238" y="96"/>
                            <a:pt x="1844" y="58"/>
                            <a:pt x="1543" y="85"/>
                          </a:cubicBezTo>
                          <a:cubicBezTo>
                            <a:pt x="1058" y="112"/>
                            <a:pt x="873" y="159"/>
                            <a:pt x="572" y="241"/>
                          </a:cubicBezTo>
                          <a:cubicBezTo>
                            <a:pt x="313" y="294"/>
                            <a:pt x="119" y="381"/>
                            <a:pt x="0" y="417"/>
                          </a:cubicBezTo>
                          <a:lnTo>
                            <a:pt x="0" y="417"/>
                          </a:lnTo>
                          <a:lnTo>
                            <a:pt x="0" y="417"/>
                          </a:lnTo>
                          <a:lnTo>
                            <a:pt x="0" y="41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2028600">
                      <a:off x="3208320" y="102384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4" h="655">
                          <a:moveTo>
                            <a:pt x="3" y="4"/>
                          </a:moveTo>
                          <a:cubicBezTo>
                            <a:pt x="61" y="0"/>
                            <a:pt x="211" y="18"/>
                            <a:pt x="351" y="45"/>
                          </a:cubicBezTo>
                          <a:cubicBezTo>
                            <a:pt x="490" y="71"/>
                            <a:pt x="703" y="112"/>
                            <a:pt x="839" y="164"/>
                          </a:cubicBezTo>
                          <a:cubicBezTo>
                            <a:pt x="976" y="217"/>
                            <a:pt x="1097" y="301"/>
                            <a:pt x="1169" y="356"/>
                          </a:cubicBezTo>
                          <a:cubicBezTo>
                            <a:pt x="1242" y="413"/>
                            <a:pt x="1265" y="454"/>
                            <a:pt x="1275" y="504"/>
                          </a:cubicBezTo>
                          <a:cubicBezTo>
                            <a:pt x="1284" y="552"/>
                            <a:pt x="1246" y="648"/>
                            <a:pt x="1226" y="652"/>
                          </a:cubicBezTo>
                          <a:cubicBezTo>
                            <a:pt x="1206" y="655"/>
                            <a:pt x="1190" y="569"/>
                            <a:pt x="1153" y="522"/>
                          </a:cubicBezTo>
                          <a:cubicBezTo>
                            <a:pt x="1117" y="476"/>
                            <a:pt x="1066" y="422"/>
                            <a:pt x="1008" y="375"/>
                          </a:cubicBezTo>
                          <a:cubicBezTo>
                            <a:pt x="950" y="329"/>
                            <a:pt x="903" y="286"/>
                            <a:pt x="804" y="243"/>
                          </a:cubicBezTo>
                          <a:cubicBezTo>
                            <a:pt x="706" y="202"/>
                            <a:pt x="555" y="154"/>
                            <a:pt x="421" y="124"/>
                          </a:cubicBezTo>
                          <a:cubicBezTo>
                            <a:pt x="286" y="93"/>
                            <a:pt x="68" y="81"/>
                            <a:pt x="0" y="62"/>
                          </a:cubicBezTo>
                          <a:lnTo>
                            <a:pt x="3" y="4"/>
                          </a:lnTo>
                          <a:lnTo>
                            <a:pt x="3" y="4"/>
                          </a:lnTo>
                          <a:lnTo>
                            <a:pt x="3" y="4"/>
                          </a:lnTo>
                          <a:lnTo>
                            <a:pt x="3" y="4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3437640" y="435960"/>
                    <a:ext cx="1987560" cy="1831680"/>
                    <a:chOff x="3437640" y="435960"/>
                    <a:chExt cx="1987560" cy="183168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2664600">
                      <a:off x="4010040" y="1500840"/>
                      <a:ext cx="15429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9" h="417">
                          <a:moveTo>
                            <a:pt x="0" y="417"/>
                          </a:moveTo>
                          <a:cubicBezTo>
                            <a:pt x="21" y="404"/>
                            <a:pt x="504" y="205"/>
                            <a:pt x="767" y="139"/>
                          </a:cubicBezTo>
                          <a:cubicBezTo>
                            <a:pt x="1030" y="72"/>
                            <a:pt x="1299" y="39"/>
                            <a:pt x="1576" y="19"/>
                          </a:cubicBezTo>
                          <a:cubicBezTo>
                            <a:pt x="1854" y="0"/>
                            <a:pt x="2290" y="9"/>
                            <a:pt x="2429" y="19"/>
                          </a:cubicBezTo>
                          <a:lnTo>
                            <a:pt x="2415" y="85"/>
                          </a:lnTo>
                          <a:cubicBezTo>
                            <a:pt x="2271" y="96"/>
                            <a:pt x="1871" y="58"/>
                            <a:pt x="1566" y="85"/>
                          </a:cubicBezTo>
                          <a:cubicBezTo>
                            <a:pt x="1073" y="112"/>
                            <a:pt x="886" y="159"/>
                            <a:pt x="580" y="241"/>
                          </a:cubicBezTo>
                          <a:cubicBezTo>
                            <a:pt x="317" y="294"/>
                            <a:pt x="120" y="381"/>
                            <a:pt x="0" y="417"/>
                          </a:cubicBezTo>
                          <a:lnTo>
                            <a:pt x="0" y="417"/>
                          </a:lnTo>
                          <a:lnTo>
                            <a:pt x="0" y="417"/>
                          </a:lnTo>
                          <a:lnTo>
                            <a:pt x="0" y="41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2664600">
                      <a:off x="3464640" y="666000"/>
                      <a:ext cx="8287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5" h="657">
                          <a:moveTo>
                            <a:pt x="3" y="6"/>
                          </a:moveTo>
                          <a:cubicBezTo>
                            <a:pt x="60" y="0"/>
                            <a:pt x="216" y="19"/>
                            <a:pt x="356" y="46"/>
                          </a:cubicBezTo>
                          <a:cubicBezTo>
                            <a:pt x="499" y="73"/>
                            <a:pt x="714" y="113"/>
                            <a:pt x="852" y="165"/>
                          </a:cubicBezTo>
                          <a:cubicBezTo>
                            <a:pt x="992" y="218"/>
                            <a:pt x="1114" y="302"/>
                            <a:pt x="1188" y="358"/>
                          </a:cubicBezTo>
                          <a:cubicBezTo>
                            <a:pt x="1262" y="414"/>
                            <a:pt x="1284" y="457"/>
                            <a:pt x="1295" y="506"/>
                          </a:cubicBezTo>
                          <a:cubicBezTo>
                            <a:pt x="1305" y="555"/>
                            <a:pt x="1266" y="650"/>
                            <a:pt x="1245" y="654"/>
                          </a:cubicBezTo>
                          <a:cubicBezTo>
                            <a:pt x="1224" y="657"/>
                            <a:pt x="1209" y="571"/>
                            <a:pt x="1172" y="525"/>
                          </a:cubicBezTo>
                          <a:cubicBezTo>
                            <a:pt x="1134" y="479"/>
                            <a:pt x="1083" y="423"/>
                            <a:pt x="1024" y="376"/>
                          </a:cubicBezTo>
                          <a:cubicBezTo>
                            <a:pt x="965" y="330"/>
                            <a:pt x="917" y="287"/>
                            <a:pt x="818" y="245"/>
                          </a:cubicBezTo>
                          <a:cubicBezTo>
                            <a:pt x="718" y="204"/>
                            <a:pt x="564" y="156"/>
                            <a:pt x="428" y="126"/>
                          </a:cubicBezTo>
                          <a:cubicBezTo>
                            <a:pt x="292" y="95"/>
                            <a:pt x="70" y="82"/>
                            <a:pt x="0" y="63"/>
                          </a:cubicBez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4027320" y="334800"/>
                    <a:ext cx="1462320" cy="1886760"/>
                    <a:chOff x="4027320" y="334800"/>
                    <a:chExt cx="1462320" cy="188676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flipH="1" rot="3474000">
                      <a:off x="4339800" y="1445760"/>
                      <a:ext cx="13554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4" h="415">
                          <a:moveTo>
                            <a:pt x="0" y="415"/>
                          </a:moveTo>
                          <a:cubicBezTo>
                            <a:pt x="17" y="402"/>
                            <a:pt x="442" y="204"/>
                            <a:pt x="673" y="138"/>
                          </a:cubicBezTo>
                          <a:cubicBezTo>
                            <a:pt x="904" y="71"/>
                            <a:pt x="1142" y="38"/>
                            <a:pt x="1385" y="18"/>
                          </a:cubicBezTo>
                          <a:cubicBezTo>
                            <a:pt x="1629" y="0"/>
                            <a:pt x="2012" y="8"/>
                            <a:pt x="2134" y="18"/>
                          </a:cubicBezTo>
                          <a:lnTo>
                            <a:pt x="2122" y="84"/>
                          </a:lnTo>
                          <a:cubicBezTo>
                            <a:pt x="1996" y="95"/>
                            <a:pt x="1644" y="57"/>
                            <a:pt x="1376" y="84"/>
                          </a:cubicBezTo>
                          <a:cubicBezTo>
                            <a:pt x="942" y="111"/>
                            <a:pt x="778" y="158"/>
                            <a:pt x="509" y="239"/>
                          </a:cubicBezTo>
                          <a:cubicBezTo>
                            <a:pt x="278" y="292"/>
                            <a:pt x="105" y="379"/>
                            <a:pt x="0" y="415"/>
                          </a:cubicBezTo>
                          <a:lnTo>
                            <a:pt x="0" y="415"/>
                          </a:lnTo>
                          <a:lnTo>
                            <a:pt x="0" y="415"/>
                          </a:lnTo>
                          <a:lnTo>
                            <a:pt x="0" y="41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H="1" rot="3474000">
                      <a:off x="4032720" y="545400"/>
                      <a:ext cx="72900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7" h="657">
                          <a:moveTo>
                            <a:pt x="3" y="6"/>
                          </a:moveTo>
                          <a:cubicBezTo>
                            <a:pt x="55" y="0"/>
                            <a:pt x="190" y="19"/>
                            <a:pt x="314" y="46"/>
                          </a:cubicBezTo>
                          <a:cubicBezTo>
                            <a:pt x="439" y="73"/>
                            <a:pt x="628" y="113"/>
                            <a:pt x="750" y="165"/>
                          </a:cubicBezTo>
                          <a:cubicBezTo>
                            <a:pt x="872" y="218"/>
                            <a:pt x="980" y="302"/>
                            <a:pt x="1045" y="358"/>
                          </a:cubicBezTo>
                          <a:cubicBezTo>
                            <a:pt x="1110" y="414"/>
                            <a:pt x="1130" y="457"/>
                            <a:pt x="1139" y="506"/>
                          </a:cubicBezTo>
                          <a:cubicBezTo>
                            <a:pt x="1147" y="555"/>
                            <a:pt x="1113" y="650"/>
                            <a:pt x="1095" y="654"/>
                          </a:cubicBezTo>
                          <a:cubicBezTo>
                            <a:pt x="1077" y="657"/>
                            <a:pt x="1063" y="571"/>
                            <a:pt x="1030" y="525"/>
                          </a:cubicBezTo>
                          <a:cubicBezTo>
                            <a:pt x="998" y="479"/>
                            <a:pt x="953" y="423"/>
                            <a:pt x="901" y="376"/>
                          </a:cubicBezTo>
                          <a:cubicBezTo>
                            <a:pt x="849" y="330"/>
                            <a:pt x="807" y="287"/>
                            <a:pt x="719" y="245"/>
                          </a:cubicBezTo>
                          <a:cubicBezTo>
                            <a:pt x="631" y="204"/>
                            <a:pt x="496" y="156"/>
                            <a:pt x="376" y="126"/>
                          </a:cubicBezTo>
                          <a:cubicBezTo>
                            <a:pt x="256" y="95"/>
                            <a:pt x="62" y="82"/>
                            <a:pt x="0" y="63"/>
                          </a:cubicBez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447440" y="244800"/>
                    <a:ext cx="1123200" cy="1947240"/>
                    <a:chOff x="4447440" y="244800"/>
                    <a:chExt cx="1123200" cy="194724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flipH="1" rot="4126800">
                      <a:off x="4554000" y="1400040"/>
                      <a:ext cx="13104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2" h="417">
                          <a:moveTo>
                            <a:pt x="0" y="417"/>
                          </a:moveTo>
                          <a:cubicBezTo>
                            <a:pt x="18" y="404"/>
                            <a:pt x="427" y="205"/>
                            <a:pt x="650" y="139"/>
                          </a:cubicBezTo>
                          <a:cubicBezTo>
                            <a:pt x="874" y="72"/>
                            <a:pt x="1103" y="39"/>
                            <a:pt x="1338" y="19"/>
                          </a:cubicBezTo>
                          <a:cubicBezTo>
                            <a:pt x="1573" y="0"/>
                            <a:pt x="1944" y="9"/>
                            <a:pt x="2062" y="19"/>
                          </a:cubicBezTo>
                          <a:lnTo>
                            <a:pt x="2050" y="85"/>
                          </a:lnTo>
                          <a:cubicBezTo>
                            <a:pt x="1928" y="96"/>
                            <a:pt x="1588" y="58"/>
                            <a:pt x="1329" y="85"/>
                          </a:cubicBezTo>
                          <a:cubicBezTo>
                            <a:pt x="911" y="112"/>
                            <a:pt x="751" y="159"/>
                            <a:pt x="492" y="241"/>
                          </a:cubicBezTo>
                          <a:cubicBezTo>
                            <a:pt x="269" y="294"/>
                            <a:pt x="102" y="381"/>
                            <a:pt x="0" y="417"/>
                          </a:cubicBezTo>
                          <a:lnTo>
                            <a:pt x="0" y="417"/>
                          </a:lnTo>
                          <a:lnTo>
                            <a:pt x="0" y="417"/>
                          </a:lnTo>
                          <a:lnTo>
                            <a:pt x="0" y="41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H="1" rot="4126800">
                      <a:off x="4417560" y="439200"/>
                      <a:ext cx="70380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7" h="657">
                          <a:moveTo>
                            <a:pt x="3" y="6"/>
                          </a:moveTo>
                          <a:cubicBezTo>
                            <a:pt x="53" y="0"/>
                            <a:pt x="183" y="19"/>
                            <a:pt x="303" y="46"/>
                          </a:cubicBezTo>
                          <a:cubicBezTo>
                            <a:pt x="423" y="73"/>
                            <a:pt x="606" y="113"/>
                            <a:pt x="723" y="165"/>
                          </a:cubicBezTo>
                          <a:cubicBezTo>
                            <a:pt x="842" y="218"/>
                            <a:pt x="946" y="302"/>
                            <a:pt x="1009" y="358"/>
                          </a:cubicBezTo>
                          <a:cubicBezTo>
                            <a:pt x="1071" y="414"/>
                            <a:pt x="1091" y="457"/>
                            <a:pt x="1099" y="506"/>
                          </a:cubicBezTo>
                          <a:cubicBezTo>
                            <a:pt x="1107" y="555"/>
                            <a:pt x="1075" y="650"/>
                            <a:pt x="1057" y="654"/>
                          </a:cubicBezTo>
                          <a:cubicBezTo>
                            <a:pt x="1040" y="657"/>
                            <a:pt x="1026" y="571"/>
                            <a:pt x="995" y="525"/>
                          </a:cubicBezTo>
                          <a:cubicBezTo>
                            <a:pt x="963" y="479"/>
                            <a:pt x="920" y="423"/>
                            <a:pt x="870" y="376"/>
                          </a:cubicBezTo>
                          <a:cubicBezTo>
                            <a:pt x="820" y="330"/>
                            <a:pt x="779" y="287"/>
                            <a:pt x="693" y="245"/>
                          </a:cubicBezTo>
                          <a:cubicBezTo>
                            <a:pt x="609" y="204"/>
                            <a:pt x="479" y="156"/>
                            <a:pt x="363" y="126"/>
                          </a:cubicBezTo>
                          <a:cubicBezTo>
                            <a:pt x="247" y="95"/>
                            <a:pt x="60" y="82"/>
                            <a:pt x="0" y="63"/>
                          </a:cubicBez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662440" y="952200"/>
                    <a:ext cx="2317320" cy="1112040"/>
                    <a:chOff x="5662440" y="952200"/>
                    <a:chExt cx="2317320" cy="111204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20274000">
                      <a:off x="5656320" y="1523520"/>
                      <a:ext cx="15192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2" h="417">
                          <a:moveTo>
                            <a:pt x="0" y="417"/>
                          </a:moveTo>
                          <a:cubicBezTo>
                            <a:pt x="20" y="404"/>
                            <a:pt x="496" y="205"/>
                            <a:pt x="755" y="139"/>
                          </a:cubicBezTo>
                          <a:cubicBezTo>
                            <a:pt x="1014" y="72"/>
                            <a:pt x="1280" y="39"/>
                            <a:pt x="1553" y="19"/>
                          </a:cubicBezTo>
                          <a:cubicBezTo>
                            <a:pt x="1825" y="0"/>
                            <a:pt x="2255" y="9"/>
                            <a:pt x="2392" y="19"/>
                          </a:cubicBezTo>
                          <a:lnTo>
                            <a:pt x="2378" y="85"/>
                          </a:lnTo>
                          <a:cubicBezTo>
                            <a:pt x="2236" y="96"/>
                            <a:pt x="1842" y="58"/>
                            <a:pt x="1542" y="85"/>
                          </a:cubicBezTo>
                          <a:cubicBezTo>
                            <a:pt x="1057" y="112"/>
                            <a:pt x="872" y="159"/>
                            <a:pt x="571" y="241"/>
                          </a:cubicBezTo>
                          <a:cubicBezTo>
                            <a:pt x="312" y="294"/>
                            <a:pt x="118" y="381"/>
                            <a:pt x="0" y="417"/>
                          </a:cubicBezTo>
                          <a:lnTo>
                            <a:pt x="0" y="417"/>
                          </a:lnTo>
                          <a:lnTo>
                            <a:pt x="0" y="417"/>
                          </a:lnTo>
                          <a:lnTo>
                            <a:pt x="0" y="41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20274000">
                      <a:off x="7115040" y="1090440"/>
                      <a:ext cx="8157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4" h="657">
                          <a:moveTo>
                            <a:pt x="3" y="6"/>
                          </a:moveTo>
                          <a:cubicBezTo>
                            <a:pt x="60" y="0"/>
                            <a:pt x="211" y="19"/>
                            <a:pt x="352" y="46"/>
                          </a:cubicBezTo>
                          <a:cubicBezTo>
                            <a:pt x="490" y="73"/>
                            <a:pt x="703" y="113"/>
                            <a:pt x="840" y="165"/>
                          </a:cubicBezTo>
                          <a:cubicBezTo>
                            <a:pt x="977" y="218"/>
                            <a:pt x="1097" y="302"/>
                            <a:pt x="1169" y="358"/>
                          </a:cubicBezTo>
                          <a:cubicBezTo>
                            <a:pt x="1242" y="414"/>
                            <a:pt x="1266" y="457"/>
                            <a:pt x="1276" y="506"/>
                          </a:cubicBezTo>
                          <a:cubicBezTo>
                            <a:pt x="1284" y="555"/>
                            <a:pt x="1246" y="650"/>
                            <a:pt x="1227" y="654"/>
                          </a:cubicBezTo>
                          <a:cubicBezTo>
                            <a:pt x="1207" y="657"/>
                            <a:pt x="1190" y="571"/>
                            <a:pt x="1154" y="525"/>
                          </a:cubicBezTo>
                          <a:cubicBezTo>
                            <a:pt x="1118" y="479"/>
                            <a:pt x="1066" y="423"/>
                            <a:pt x="1009" y="376"/>
                          </a:cubicBezTo>
                          <a:cubicBezTo>
                            <a:pt x="950" y="330"/>
                            <a:pt x="903" y="287"/>
                            <a:pt x="804" y="245"/>
                          </a:cubicBezTo>
                          <a:cubicBezTo>
                            <a:pt x="706" y="204"/>
                            <a:pt x="556" y="156"/>
                            <a:pt x="422" y="126"/>
                          </a:cubicBezTo>
                          <a:cubicBezTo>
                            <a:pt x="286" y="95"/>
                            <a:pt x="69" y="82"/>
                            <a:pt x="0" y="63"/>
                          </a:cubicBez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30320" y="626760"/>
                    <a:ext cx="2197440" cy="1450080"/>
                    <a:chOff x="5530320" y="626760"/>
                    <a:chExt cx="2197440" cy="145008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19678800">
                      <a:off x="5484600" y="1429560"/>
                      <a:ext cx="151884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2" h="417">
                          <a:moveTo>
                            <a:pt x="0" y="417"/>
                          </a:moveTo>
                          <a:cubicBezTo>
                            <a:pt x="20" y="404"/>
                            <a:pt x="496" y="205"/>
                            <a:pt x="755" y="139"/>
                          </a:cubicBezTo>
                          <a:cubicBezTo>
                            <a:pt x="1014" y="72"/>
                            <a:pt x="1280" y="39"/>
                            <a:pt x="1553" y="19"/>
                          </a:cubicBezTo>
                          <a:cubicBezTo>
                            <a:pt x="1825" y="0"/>
                            <a:pt x="2255" y="9"/>
                            <a:pt x="2392" y="19"/>
                          </a:cubicBezTo>
                          <a:lnTo>
                            <a:pt x="2378" y="85"/>
                          </a:lnTo>
                          <a:cubicBezTo>
                            <a:pt x="2236" y="96"/>
                            <a:pt x="1842" y="58"/>
                            <a:pt x="1542" y="85"/>
                          </a:cubicBezTo>
                          <a:cubicBezTo>
                            <a:pt x="1057" y="112"/>
                            <a:pt x="872" y="159"/>
                            <a:pt x="571" y="241"/>
                          </a:cubicBezTo>
                          <a:cubicBezTo>
                            <a:pt x="312" y="294"/>
                            <a:pt x="118" y="381"/>
                            <a:pt x="0" y="417"/>
                          </a:cubicBezTo>
                          <a:lnTo>
                            <a:pt x="0" y="417"/>
                          </a:lnTo>
                          <a:lnTo>
                            <a:pt x="0" y="417"/>
                          </a:lnTo>
                          <a:lnTo>
                            <a:pt x="0" y="41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19678800">
                      <a:off x="6863760" y="811080"/>
                      <a:ext cx="81576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4" h="655">
                          <a:moveTo>
                            <a:pt x="3" y="4"/>
                          </a:moveTo>
                          <a:cubicBezTo>
                            <a:pt x="60" y="0"/>
                            <a:pt x="211" y="17"/>
                            <a:pt x="352" y="45"/>
                          </a:cubicBezTo>
                          <a:cubicBezTo>
                            <a:pt x="490" y="72"/>
                            <a:pt x="703" y="112"/>
                            <a:pt x="840" y="164"/>
                          </a:cubicBezTo>
                          <a:cubicBezTo>
                            <a:pt x="977" y="217"/>
                            <a:pt x="1097" y="301"/>
                            <a:pt x="1169" y="357"/>
                          </a:cubicBezTo>
                          <a:cubicBezTo>
                            <a:pt x="1242" y="413"/>
                            <a:pt x="1266" y="455"/>
                            <a:pt x="1276" y="504"/>
                          </a:cubicBezTo>
                          <a:cubicBezTo>
                            <a:pt x="1285" y="553"/>
                            <a:pt x="1246" y="648"/>
                            <a:pt x="1227" y="652"/>
                          </a:cubicBezTo>
                          <a:cubicBezTo>
                            <a:pt x="1207" y="655"/>
                            <a:pt x="1190" y="569"/>
                            <a:pt x="1154" y="523"/>
                          </a:cubicBezTo>
                          <a:cubicBezTo>
                            <a:pt x="1118" y="477"/>
                            <a:pt x="1066" y="422"/>
                            <a:pt x="1009" y="375"/>
                          </a:cubicBezTo>
                          <a:cubicBezTo>
                            <a:pt x="950" y="329"/>
                            <a:pt x="903" y="286"/>
                            <a:pt x="804" y="244"/>
                          </a:cubicBezTo>
                          <a:cubicBezTo>
                            <a:pt x="706" y="203"/>
                            <a:pt x="556" y="155"/>
                            <a:pt x="422" y="125"/>
                          </a:cubicBezTo>
                          <a:cubicBezTo>
                            <a:pt x="286" y="94"/>
                            <a:pt x="69" y="80"/>
                            <a:pt x="0" y="62"/>
                          </a:cubicBezTo>
                          <a:lnTo>
                            <a:pt x="3" y="4"/>
                          </a:lnTo>
                          <a:lnTo>
                            <a:pt x="3" y="4"/>
                          </a:lnTo>
                          <a:lnTo>
                            <a:pt x="3" y="4"/>
                          </a:lnTo>
                          <a:lnTo>
                            <a:pt x="3" y="4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2" name=""/>
                  <p:cNvSpPr/>
                  <p:nvPr/>
                </p:nvSpPr>
                <p:spPr>
                  <a:xfrm flipH="1" rot="4578600">
                    <a:off x="4764960" y="1464480"/>
                    <a:ext cx="12650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2" h="282">
                        <a:moveTo>
                          <a:pt x="0" y="282"/>
                        </a:moveTo>
                        <a:cubicBezTo>
                          <a:pt x="16" y="273"/>
                          <a:pt x="413" y="138"/>
                          <a:pt x="628" y="93"/>
                        </a:cubicBezTo>
                        <a:cubicBezTo>
                          <a:pt x="844" y="49"/>
                          <a:pt x="1066" y="26"/>
                          <a:pt x="1293" y="13"/>
                        </a:cubicBezTo>
                        <a:cubicBezTo>
                          <a:pt x="1520" y="0"/>
                          <a:pt x="1877" y="6"/>
                          <a:pt x="1992" y="13"/>
                        </a:cubicBezTo>
                        <a:lnTo>
                          <a:pt x="1980" y="57"/>
                        </a:lnTo>
                        <a:cubicBezTo>
                          <a:pt x="1862" y="64"/>
                          <a:pt x="1534" y="39"/>
                          <a:pt x="1284" y="57"/>
                        </a:cubicBezTo>
                        <a:cubicBezTo>
                          <a:pt x="880" y="75"/>
                          <a:pt x="726" y="107"/>
                          <a:pt x="475" y="163"/>
                        </a:cubicBezTo>
                        <a:cubicBezTo>
                          <a:pt x="259" y="199"/>
                          <a:pt x="98" y="258"/>
                          <a:pt x="0" y="282"/>
                        </a:cubicBezTo>
                        <a:lnTo>
                          <a:pt x="0" y="282"/>
                        </a:lnTo>
                        <a:lnTo>
                          <a:pt x="0" y="282"/>
                        </a:lnTo>
                        <a:lnTo>
                          <a:pt x="0" y="28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4578600">
                    <a:off x="4795920" y="537480"/>
                    <a:ext cx="6807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2" h="447">
                        <a:moveTo>
                          <a:pt x="3" y="4"/>
                        </a:moveTo>
                        <a:cubicBezTo>
                          <a:pt x="51" y="0"/>
                          <a:pt x="177" y="13"/>
                          <a:pt x="293" y="31"/>
                        </a:cubicBezTo>
                        <a:cubicBezTo>
                          <a:pt x="410" y="49"/>
                          <a:pt x="587" y="77"/>
                          <a:pt x="701" y="112"/>
                        </a:cubicBezTo>
                        <a:cubicBezTo>
                          <a:pt x="816" y="147"/>
                          <a:pt x="916" y="205"/>
                          <a:pt x="977" y="243"/>
                        </a:cubicBezTo>
                        <a:cubicBezTo>
                          <a:pt x="1037" y="282"/>
                          <a:pt x="1057" y="310"/>
                          <a:pt x="1065" y="343"/>
                        </a:cubicBezTo>
                        <a:cubicBezTo>
                          <a:pt x="1072" y="377"/>
                          <a:pt x="1041" y="442"/>
                          <a:pt x="1024" y="444"/>
                        </a:cubicBezTo>
                        <a:cubicBezTo>
                          <a:pt x="1007" y="447"/>
                          <a:pt x="994" y="388"/>
                          <a:pt x="963" y="356"/>
                        </a:cubicBezTo>
                        <a:cubicBezTo>
                          <a:pt x="933" y="325"/>
                          <a:pt x="891" y="287"/>
                          <a:pt x="842" y="256"/>
                        </a:cubicBezTo>
                        <a:cubicBezTo>
                          <a:pt x="794" y="224"/>
                          <a:pt x="754" y="195"/>
                          <a:pt x="672" y="166"/>
                        </a:cubicBezTo>
                        <a:cubicBezTo>
                          <a:pt x="590" y="138"/>
                          <a:pt x="464" y="106"/>
                          <a:pt x="352" y="85"/>
                        </a:cubicBezTo>
                        <a:cubicBezTo>
                          <a:pt x="239" y="64"/>
                          <a:pt x="58" y="56"/>
                          <a:pt x="0" y="42"/>
                        </a:cubicBez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5357160" y="269280"/>
                    <a:ext cx="1195920" cy="1901880"/>
                    <a:chOff x="5357160" y="269280"/>
                    <a:chExt cx="1195920" cy="190188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rot="17742000">
                      <a:off x="5089680" y="1417680"/>
                      <a:ext cx="130788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0" h="360">
                          <a:moveTo>
                            <a:pt x="0" y="360"/>
                          </a:moveTo>
                          <a:cubicBezTo>
                            <a:pt x="17" y="347"/>
                            <a:pt x="427" y="176"/>
                            <a:pt x="650" y="120"/>
                          </a:cubicBezTo>
                          <a:cubicBezTo>
                            <a:pt x="872" y="62"/>
                            <a:pt x="1101" y="34"/>
                            <a:pt x="1336" y="17"/>
                          </a:cubicBezTo>
                          <a:cubicBezTo>
                            <a:pt x="1570" y="0"/>
                            <a:pt x="1942" y="7"/>
                            <a:pt x="2060" y="17"/>
                          </a:cubicBezTo>
                          <a:lnTo>
                            <a:pt x="2047" y="73"/>
                          </a:lnTo>
                          <a:cubicBezTo>
                            <a:pt x="1925" y="82"/>
                            <a:pt x="1586" y="50"/>
                            <a:pt x="1327" y="73"/>
                          </a:cubicBezTo>
                          <a:cubicBezTo>
                            <a:pt x="910" y="96"/>
                            <a:pt x="750" y="137"/>
                            <a:pt x="490" y="208"/>
                          </a:cubicBezTo>
                          <a:cubicBezTo>
                            <a:pt x="268" y="254"/>
                            <a:pt x="100" y="328"/>
                            <a:pt x="0" y="360"/>
                          </a:cubicBezTo>
                          <a:lnTo>
                            <a:pt x="0" y="360"/>
                          </a:lnTo>
                          <a:lnTo>
                            <a:pt x="0" y="360"/>
                          </a:lnTo>
                          <a:lnTo>
                            <a:pt x="0" y="36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rot="17742000">
                      <a:off x="5887440" y="484560"/>
                      <a:ext cx="703080" cy="35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7" h="562">
                          <a:moveTo>
                            <a:pt x="3" y="5"/>
                          </a:moveTo>
                          <a:cubicBezTo>
                            <a:pt x="53" y="0"/>
                            <a:pt x="183" y="17"/>
                            <a:pt x="303" y="39"/>
                          </a:cubicBezTo>
                          <a:cubicBezTo>
                            <a:pt x="423" y="62"/>
                            <a:pt x="606" y="97"/>
                            <a:pt x="723" y="141"/>
                          </a:cubicBezTo>
                          <a:cubicBezTo>
                            <a:pt x="842" y="186"/>
                            <a:pt x="946" y="258"/>
                            <a:pt x="1009" y="306"/>
                          </a:cubicBezTo>
                          <a:cubicBezTo>
                            <a:pt x="1071" y="354"/>
                            <a:pt x="1091" y="391"/>
                            <a:pt x="1099" y="433"/>
                          </a:cubicBezTo>
                          <a:cubicBezTo>
                            <a:pt x="1107" y="474"/>
                            <a:pt x="1075" y="556"/>
                            <a:pt x="1057" y="559"/>
                          </a:cubicBezTo>
                          <a:cubicBezTo>
                            <a:pt x="1040" y="562"/>
                            <a:pt x="1026" y="488"/>
                            <a:pt x="995" y="449"/>
                          </a:cubicBezTo>
                          <a:cubicBezTo>
                            <a:pt x="963" y="410"/>
                            <a:pt x="920" y="361"/>
                            <a:pt x="870" y="322"/>
                          </a:cubicBezTo>
                          <a:cubicBezTo>
                            <a:pt x="820" y="282"/>
                            <a:pt x="779" y="245"/>
                            <a:pt x="693" y="210"/>
                          </a:cubicBezTo>
                          <a:cubicBezTo>
                            <a:pt x="609" y="174"/>
                            <a:pt x="479" y="134"/>
                            <a:pt x="363" y="107"/>
                          </a:cubicBezTo>
                          <a:cubicBezTo>
                            <a:pt x="247" y="81"/>
                            <a:pt x="60" y="70"/>
                            <a:pt x="0" y="53"/>
                          </a:cubicBezTo>
                          <a:lnTo>
                            <a:pt x="3" y="5"/>
                          </a:lnTo>
                          <a:lnTo>
                            <a:pt x="3" y="5"/>
                          </a:lnTo>
                          <a:lnTo>
                            <a:pt x="3" y="5"/>
                          </a:lnTo>
                          <a:lnTo>
                            <a:pt x="3" y="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348160" y="388440"/>
                    <a:ext cx="1891440" cy="1796760"/>
                    <a:chOff x="5348160" y="388440"/>
                    <a:chExt cx="1891440" cy="179676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18822600">
                      <a:off x="5248080" y="1388880"/>
                      <a:ext cx="1424880" cy="33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2" h="522">
                          <a:moveTo>
                            <a:pt x="0" y="522"/>
                          </a:moveTo>
                          <a:cubicBezTo>
                            <a:pt x="19" y="505"/>
                            <a:pt x="465" y="257"/>
                            <a:pt x="708" y="173"/>
                          </a:cubicBezTo>
                          <a:cubicBezTo>
                            <a:pt x="950" y="90"/>
                            <a:pt x="1200" y="48"/>
                            <a:pt x="1455" y="23"/>
                          </a:cubicBezTo>
                          <a:cubicBezTo>
                            <a:pt x="1711" y="0"/>
                            <a:pt x="2114" y="10"/>
                            <a:pt x="2242" y="23"/>
                          </a:cubicBezTo>
                          <a:lnTo>
                            <a:pt x="2229" y="106"/>
                          </a:lnTo>
                          <a:cubicBezTo>
                            <a:pt x="2097" y="119"/>
                            <a:pt x="1728" y="72"/>
                            <a:pt x="1446" y="106"/>
                          </a:cubicBezTo>
                          <a:cubicBezTo>
                            <a:pt x="991" y="140"/>
                            <a:pt x="818" y="198"/>
                            <a:pt x="536" y="302"/>
                          </a:cubicBezTo>
                          <a:cubicBezTo>
                            <a:pt x="293" y="368"/>
                            <a:pt x="111" y="476"/>
                            <a:pt x="0" y="522"/>
                          </a:cubicBezTo>
                          <a:lnTo>
                            <a:pt x="0" y="522"/>
                          </a:lnTo>
                          <a:lnTo>
                            <a:pt x="0" y="522"/>
                          </a:lnTo>
                          <a:lnTo>
                            <a:pt x="0" y="52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8822600">
                      <a:off x="6404400" y="583560"/>
                      <a:ext cx="76392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2" h="822">
                          <a:moveTo>
                            <a:pt x="2" y="8"/>
                          </a:moveTo>
                          <a:cubicBezTo>
                            <a:pt x="56" y="0"/>
                            <a:pt x="198" y="24"/>
                            <a:pt x="329" y="58"/>
                          </a:cubicBezTo>
                          <a:cubicBezTo>
                            <a:pt x="459" y="91"/>
                            <a:pt x="658" y="142"/>
                            <a:pt x="786" y="207"/>
                          </a:cubicBezTo>
                          <a:cubicBezTo>
                            <a:pt x="913" y="273"/>
                            <a:pt x="1026" y="378"/>
                            <a:pt x="1094" y="448"/>
                          </a:cubicBezTo>
                          <a:cubicBezTo>
                            <a:pt x="1162" y="519"/>
                            <a:pt x="1184" y="572"/>
                            <a:pt x="1193" y="633"/>
                          </a:cubicBezTo>
                          <a:cubicBezTo>
                            <a:pt x="1202" y="694"/>
                            <a:pt x="1166" y="814"/>
                            <a:pt x="1147" y="818"/>
                          </a:cubicBezTo>
                          <a:cubicBezTo>
                            <a:pt x="1128" y="822"/>
                            <a:pt x="1113" y="714"/>
                            <a:pt x="1079" y="657"/>
                          </a:cubicBezTo>
                          <a:cubicBezTo>
                            <a:pt x="1045" y="600"/>
                            <a:pt x="997" y="529"/>
                            <a:pt x="943" y="471"/>
                          </a:cubicBezTo>
                          <a:cubicBezTo>
                            <a:pt x="888" y="413"/>
                            <a:pt x="844" y="359"/>
                            <a:pt x="753" y="307"/>
                          </a:cubicBezTo>
                          <a:cubicBezTo>
                            <a:pt x="661" y="255"/>
                            <a:pt x="520" y="196"/>
                            <a:pt x="394" y="157"/>
                          </a:cubicBezTo>
                          <a:cubicBezTo>
                            <a:pt x="268" y="119"/>
                            <a:pt x="64" y="103"/>
                            <a:pt x="0" y="78"/>
                          </a:cubicBezTo>
                          <a:lnTo>
                            <a:pt x="2" y="8"/>
                          </a:lnTo>
                          <a:lnTo>
                            <a:pt x="2" y="8"/>
                          </a:lnTo>
                          <a:lnTo>
                            <a:pt x="2" y="8"/>
                          </a:lnTo>
                          <a:lnTo>
                            <a:pt x="2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457960" y="294480"/>
                    <a:ext cx="429480" cy="1793880"/>
                    <a:chOff x="5457960" y="294480"/>
                    <a:chExt cx="429480" cy="179388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16696200">
                      <a:off x="5006880" y="1445040"/>
                      <a:ext cx="117648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2" h="167">
                          <a:moveTo>
                            <a:pt x="0" y="167"/>
                          </a:moveTo>
                          <a:cubicBezTo>
                            <a:pt x="16" y="161"/>
                            <a:pt x="384" y="82"/>
                            <a:pt x="585" y="55"/>
                          </a:cubicBezTo>
                          <a:cubicBezTo>
                            <a:pt x="785" y="29"/>
                            <a:pt x="991" y="15"/>
                            <a:pt x="1202" y="7"/>
                          </a:cubicBezTo>
                          <a:cubicBezTo>
                            <a:pt x="1413" y="0"/>
                            <a:pt x="1746" y="3"/>
                            <a:pt x="1852" y="7"/>
                          </a:cubicBezTo>
                          <a:lnTo>
                            <a:pt x="1841" y="34"/>
                          </a:lnTo>
                          <a:cubicBezTo>
                            <a:pt x="1732" y="38"/>
                            <a:pt x="1427" y="23"/>
                            <a:pt x="1194" y="34"/>
                          </a:cubicBezTo>
                          <a:cubicBezTo>
                            <a:pt x="818" y="45"/>
                            <a:pt x="675" y="63"/>
                            <a:pt x="442" y="96"/>
                          </a:cubicBezTo>
                          <a:cubicBezTo>
                            <a:pt x="242" y="117"/>
                            <a:pt x="92" y="152"/>
                            <a:pt x="0" y="167"/>
                          </a:cubicBezTo>
                          <a:lnTo>
                            <a:pt x="0" y="167"/>
                          </a:lnTo>
                          <a:lnTo>
                            <a:pt x="0" y="167"/>
                          </a:lnTo>
                          <a:lnTo>
                            <a:pt x="0" y="16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16696200">
                      <a:off x="5443920" y="534960"/>
                      <a:ext cx="63072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2" h="262">
                          <a:moveTo>
                            <a:pt x="1" y="1"/>
                          </a:moveTo>
                          <a:cubicBezTo>
                            <a:pt x="46" y="0"/>
                            <a:pt x="163" y="6"/>
                            <a:pt x="271" y="17"/>
                          </a:cubicBezTo>
                          <a:cubicBezTo>
                            <a:pt x="379" y="28"/>
                            <a:pt x="543" y="44"/>
                            <a:pt x="649" y="65"/>
                          </a:cubicBezTo>
                          <a:cubicBezTo>
                            <a:pt x="753" y="86"/>
                            <a:pt x="847" y="120"/>
                            <a:pt x="903" y="142"/>
                          </a:cubicBezTo>
                          <a:cubicBezTo>
                            <a:pt x="959" y="164"/>
                            <a:pt x="977" y="181"/>
                            <a:pt x="984" y="200"/>
                          </a:cubicBezTo>
                          <a:cubicBezTo>
                            <a:pt x="992" y="221"/>
                            <a:pt x="963" y="259"/>
                            <a:pt x="947" y="260"/>
                          </a:cubicBezTo>
                          <a:cubicBezTo>
                            <a:pt x="931" y="262"/>
                            <a:pt x="919" y="227"/>
                            <a:pt x="891" y="208"/>
                          </a:cubicBezTo>
                          <a:cubicBezTo>
                            <a:pt x="863" y="190"/>
                            <a:pt x="823" y="168"/>
                            <a:pt x="778" y="149"/>
                          </a:cubicBezTo>
                          <a:cubicBezTo>
                            <a:pt x="733" y="131"/>
                            <a:pt x="697" y="114"/>
                            <a:pt x="622" y="97"/>
                          </a:cubicBezTo>
                          <a:cubicBezTo>
                            <a:pt x="546" y="80"/>
                            <a:pt x="429" y="61"/>
                            <a:pt x="325" y="49"/>
                          </a:cubicBezTo>
                          <a:cubicBezTo>
                            <a:pt x="221" y="37"/>
                            <a:pt x="52" y="32"/>
                            <a:pt x="0" y="24"/>
                          </a:cubicBez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3062160" y="2533680"/>
                    <a:ext cx="2198880" cy="3000240"/>
                    <a:chOff x="3062160" y="2533680"/>
                    <a:chExt cx="2198880" cy="300024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flipH="1" rot="18336000">
                      <a:off x="3422880" y="331812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7" h="604">
                          <a:moveTo>
                            <a:pt x="0" y="604"/>
                          </a:moveTo>
                          <a:cubicBezTo>
                            <a:pt x="29" y="585"/>
                            <a:pt x="695" y="298"/>
                            <a:pt x="1057" y="201"/>
                          </a:cubicBezTo>
                          <a:cubicBezTo>
                            <a:pt x="1419" y="104"/>
                            <a:pt x="1791" y="56"/>
                            <a:pt x="2173" y="28"/>
                          </a:cubicBezTo>
                          <a:cubicBezTo>
                            <a:pt x="2554" y="0"/>
                            <a:pt x="3155" y="12"/>
                            <a:pt x="3347" y="28"/>
                          </a:cubicBezTo>
                          <a:lnTo>
                            <a:pt x="3328" y="123"/>
                          </a:lnTo>
                          <a:cubicBezTo>
                            <a:pt x="3130" y="139"/>
                            <a:pt x="2579" y="84"/>
                            <a:pt x="2158" y="123"/>
                          </a:cubicBezTo>
                          <a:cubicBezTo>
                            <a:pt x="1479" y="162"/>
                            <a:pt x="1221" y="229"/>
                            <a:pt x="800" y="350"/>
                          </a:cubicBezTo>
                          <a:cubicBezTo>
                            <a:pt x="438" y="426"/>
                            <a:pt x="166" y="552"/>
                            <a:pt x="0" y="604"/>
                          </a:cubicBezTo>
                          <a:lnTo>
                            <a:pt x="0" y="604"/>
                          </a:lnTo>
                          <a:lnTo>
                            <a:pt x="0" y="604"/>
                          </a:lnTo>
                          <a:lnTo>
                            <a:pt x="0" y="604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H="1" rot="18336000">
                      <a:off x="3069000" y="4591080"/>
                      <a:ext cx="11419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7" h="952">
                          <a:moveTo>
                            <a:pt x="5" y="9"/>
                          </a:moveTo>
                          <a:cubicBezTo>
                            <a:pt x="86" y="0"/>
                            <a:pt x="297" y="28"/>
                            <a:pt x="492" y="67"/>
                          </a:cubicBezTo>
                          <a:cubicBezTo>
                            <a:pt x="687" y="105"/>
                            <a:pt x="983" y="164"/>
                            <a:pt x="1174" y="240"/>
                          </a:cubicBezTo>
                          <a:cubicBezTo>
                            <a:pt x="1366" y="316"/>
                            <a:pt x="1535" y="437"/>
                            <a:pt x="1636" y="519"/>
                          </a:cubicBezTo>
                          <a:cubicBezTo>
                            <a:pt x="1738" y="601"/>
                            <a:pt x="1770" y="662"/>
                            <a:pt x="1784" y="733"/>
                          </a:cubicBezTo>
                          <a:cubicBezTo>
                            <a:pt x="1797" y="804"/>
                            <a:pt x="1744" y="942"/>
                            <a:pt x="1716" y="947"/>
                          </a:cubicBezTo>
                          <a:cubicBezTo>
                            <a:pt x="1687" y="952"/>
                            <a:pt x="1665" y="827"/>
                            <a:pt x="1614" y="761"/>
                          </a:cubicBezTo>
                          <a:cubicBezTo>
                            <a:pt x="1563" y="695"/>
                            <a:pt x="1492" y="613"/>
                            <a:pt x="1411" y="546"/>
                          </a:cubicBezTo>
                          <a:cubicBezTo>
                            <a:pt x="1330" y="478"/>
                            <a:pt x="1264" y="416"/>
                            <a:pt x="1126" y="356"/>
                          </a:cubicBezTo>
                          <a:cubicBezTo>
                            <a:pt x="989" y="295"/>
                            <a:pt x="777" y="227"/>
                            <a:pt x="589" y="182"/>
                          </a:cubicBezTo>
                          <a:cubicBezTo>
                            <a:pt x="402" y="138"/>
                            <a:pt x="97" y="120"/>
                            <a:pt x="0" y="91"/>
                          </a:cubicBezTo>
                          <a:lnTo>
                            <a:pt x="5" y="9"/>
                          </a:lnTo>
                          <a:lnTo>
                            <a:pt x="5" y="9"/>
                          </a:lnTo>
                          <a:lnTo>
                            <a:pt x="5" y="9"/>
                          </a:lnTo>
                          <a:lnTo>
                            <a:pt x="5" y="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3791880" y="2649960"/>
                    <a:ext cx="1482120" cy="2999880"/>
                    <a:chOff x="3791880" y="2649960"/>
                    <a:chExt cx="1482120" cy="299988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flipH="1" rot="17543400">
                      <a:off x="3736800" y="3439440"/>
                      <a:ext cx="1966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7" h="607">
                          <a:moveTo>
                            <a:pt x="0" y="607"/>
                          </a:moveTo>
                          <a:cubicBezTo>
                            <a:pt x="27" y="588"/>
                            <a:pt x="643" y="299"/>
                            <a:pt x="978" y="201"/>
                          </a:cubicBezTo>
                          <a:cubicBezTo>
                            <a:pt x="1313" y="105"/>
                            <a:pt x="1657" y="57"/>
                            <a:pt x="2010" y="28"/>
                          </a:cubicBezTo>
                          <a:cubicBezTo>
                            <a:pt x="2363" y="0"/>
                            <a:pt x="2919" y="13"/>
                            <a:pt x="3097" y="28"/>
                          </a:cubicBezTo>
                          <a:lnTo>
                            <a:pt x="3079" y="123"/>
                          </a:lnTo>
                          <a:cubicBezTo>
                            <a:pt x="2895" y="139"/>
                            <a:pt x="2386" y="85"/>
                            <a:pt x="1997" y="123"/>
                          </a:cubicBezTo>
                          <a:cubicBezTo>
                            <a:pt x="1368" y="163"/>
                            <a:pt x="1129" y="230"/>
                            <a:pt x="740" y="352"/>
                          </a:cubicBezTo>
                          <a:cubicBezTo>
                            <a:pt x="405" y="428"/>
                            <a:pt x="153" y="555"/>
                            <a:pt x="0" y="607"/>
                          </a:cubicBezTo>
                          <a:lnTo>
                            <a:pt x="0" y="607"/>
                          </a:lnTo>
                          <a:lnTo>
                            <a:pt x="0" y="607"/>
                          </a:lnTo>
                          <a:lnTo>
                            <a:pt x="0" y="60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17543400">
                      <a:off x="3745080" y="4745160"/>
                      <a:ext cx="105372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0" h="949">
                          <a:moveTo>
                            <a:pt x="3" y="8"/>
                          </a:moveTo>
                          <a:cubicBezTo>
                            <a:pt x="77" y="0"/>
                            <a:pt x="273" y="27"/>
                            <a:pt x="453" y="66"/>
                          </a:cubicBezTo>
                          <a:cubicBezTo>
                            <a:pt x="634" y="104"/>
                            <a:pt x="907" y="163"/>
                            <a:pt x="1084" y="239"/>
                          </a:cubicBezTo>
                          <a:cubicBezTo>
                            <a:pt x="1261" y="315"/>
                            <a:pt x="1417" y="436"/>
                            <a:pt x="1511" y="518"/>
                          </a:cubicBezTo>
                          <a:cubicBezTo>
                            <a:pt x="1605" y="600"/>
                            <a:pt x="1635" y="660"/>
                            <a:pt x="1648" y="731"/>
                          </a:cubicBezTo>
                          <a:cubicBezTo>
                            <a:pt x="1660" y="802"/>
                            <a:pt x="1611" y="940"/>
                            <a:pt x="1585" y="945"/>
                          </a:cubicBezTo>
                          <a:cubicBezTo>
                            <a:pt x="1558" y="949"/>
                            <a:pt x="1537" y="825"/>
                            <a:pt x="1491" y="759"/>
                          </a:cubicBezTo>
                          <a:cubicBezTo>
                            <a:pt x="1443" y="693"/>
                            <a:pt x="1378" y="612"/>
                            <a:pt x="1303" y="545"/>
                          </a:cubicBezTo>
                          <a:cubicBezTo>
                            <a:pt x="1228" y="477"/>
                            <a:pt x="1166" y="415"/>
                            <a:pt x="1039" y="355"/>
                          </a:cubicBezTo>
                          <a:cubicBezTo>
                            <a:pt x="912" y="294"/>
                            <a:pt x="718" y="226"/>
                            <a:pt x="543" y="181"/>
                          </a:cubicBezTo>
                          <a:cubicBezTo>
                            <a:pt x="371" y="137"/>
                            <a:pt x="89" y="119"/>
                            <a:pt x="0" y="90"/>
                          </a:cubicBez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lnTo>
                            <a:pt x="3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4509360" y="2702880"/>
                    <a:ext cx="875880" cy="2927880"/>
                    <a:chOff x="4509360" y="2702880"/>
                    <a:chExt cx="875880" cy="292788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 rot="16870800">
                      <a:off x="4088160" y="3488040"/>
                      <a:ext cx="1887120" cy="3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4" h="547">
                          <a:moveTo>
                            <a:pt x="0" y="547"/>
                          </a:moveTo>
                          <a:cubicBezTo>
                            <a:pt x="26" y="530"/>
                            <a:pt x="616" y="269"/>
                            <a:pt x="938" y="181"/>
                          </a:cubicBezTo>
                          <a:cubicBezTo>
                            <a:pt x="1260" y="95"/>
                            <a:pt x="1591" y="51"/>
                            <a:pt x="1930" y="24"/>
                          </a:cubicBezTo>
                          <a:cubicBezTo>
                            <a:pt x="2270" y="0"/>
                            <a:pt x="2804" y="10"/>
                            <a:pt x="2974" y="24"/>
                          </a:cubicBezTo>
                          <a:lnTo>
                            <a:pt x="2957" y="111"/>
                          </a:lnTo>
                          <a:cubicBezTo>
                            <a:pt x="2781" y="125"/>
                            <a:pt x="2292" y="75"/>
                            <a:pt x="1917" y="111"/>
                          </a:cubicBezTo>
                          <a:cubicBezTo>
                            <a:pt x="1314" y="147"/>
                            <a:pt x="1085" y="207"/>
                            <a:pt x="710" y="316"/>
                          </a:cubicBezTo>
                          <a:cubicBezTo>
                            <a:pt x="388" y="386"/>
                            <a:pt x="147" y="499"/>
                            <a:pt x="0" y="547"/>
                          </a:cubicBezTo>
                          <a:lnTo>
                            <a:pt x="0" y="547"/>
                          </a:lnTo>
                          <a:lnTo>
                            <a:pt x="0" y="547"/>
                          </a:lnTo>
                          <a:lnTo>
                            <a:pt x="0" y="54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 rot="16870800">
                      <a:off x="4365720" y="4810680"/>
                      <a:ext cx="1012680" cy="54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5" h="854">
                          <a:moveTo>
                            <a:pt x="3" y="7"/>
                          </a:moveTo>
                          <a:cubicBezTo>
                            <a:pt x="75" y="0"/>
                            <a:pt x="264" y="25"/>
                            <a:pt x="437" y="59"/>
                          </a:cubicBezTo>
                          <a:cubicBezTo>
                            <a:pt x="609" y="94"/>
                            <a:pt x="872" y="147"/>
                            <a:pt x="1041" y="215"/>
                          </a:cubicBezTo>
                          <a:cubicBezTo>
                            <a:pt x="1211" y="283"/>
                            <a:pt x="1360" y="393"/>
                            <a:pt x="1452" y="466"/>
                          </a:cubicBezTo>
                          <a:cubicBezTo>
                            <a:pt x="1542" y="539"/>
                            <a:pt x="1570" y="594"/>
                            <a:pt x="1582" y="658"/>
                          </a:cubicBezTo>
                          <a:cubicBezTo>
                            <a:pt x="1595" y="722"/>
                            <a:pt x="1546" y="847"/>
                            <a:pt x="1521" y="851"/>
                          </a:cubicBezTo>
                          <a:cubicBezTo>
                            <a:pt x="1496" y="855"/>
                            <a:pt x="1477" y="743"/>
                            <a:pt x="1432" y="683"/>
                          </a:cubicBezTo>
                          <a:cubicBezTo>
                            <a:pt x="1387" y="624"/>
                            <a:pt x="1323" y="550"/>
                            <a:pt x="1251" y="489"/>
                          </a:cubicBezTo>
                          <a:cubicBezTo>
                            <a:pt x="1179" y="429"/>
                            <a:pt x="1120" y="373"/>
                            <a:pt x="998" y="319"/>
                          </a:cubicBezTo>
                          <a:cubicBezTo>
                            <a:pt x="876" y="265"/>
                            <a:pt x="690" y="203"/>
                            <a:pt x="522" y="163"/>
                          </a:cubicBezTo>
                          <a:cubicBezTo>
                            <a:pt x="356" y="123"/>
                            <a:pt x="86" y="107"/>
                            <a:pt x="0" y="81"/>
                          </a:cubicBezTo>
                          <a:lnTo>
                            <a:pt x="3" y="7"/>
                          </a:lnTo>
                          <a:lnTo>
                            <a:pt x="3" y="7"/>
                          </a:lnTo>
                          <a:lnTo>
                            <a:pt x="3" y="7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678280" y="2482920"/>
                    <a:ext cx="2282760" cy="2955960"/>
                    <a:chOff x="5678280" y="2482920"/>
                    <a:chExt cx="2282760" cy="295596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3144000">
                      <a:off x="5416560" y="3249360"/>
                      <a:ext cx="212508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7" h="607">
                          <a:moveTo>
                            <a:pt x="0" y="607"/>
                          </a:moveTo>
                          <a:cubicBezTo>
                            <a:pt x="29" y="588"/>
                            <a:pt x="695" y="299"/>
                            <a:pt x="1057" y="201"/>
                          </a:cubicBezTo>
                          <a:cubicBezTo>
                            <a:pt x="1419" y="105"/>
                            <a:pt x="1791" y="57"/>
                            <a:pt x="2173" y="28"/>
                          </a:cubicBezTo>
                          <a:cubicBezTo>
                            <a:pt x="2554" y="0"/>
                            <a:pt x="3155" y="13"/>
                            <a:pt x="3347" y="28"/>
                          </a:cubicBezTo>
                          <a:lnTo>
                            <a:pt x="3328" y="123"/>
                          </a:lnTo>
                          <a:cubicBezTo>
                            <a:pt x="3130" y="139"/>
                            <a:pt x="2579" y="85"/>
                            <a:pt x="2158" y="123"/>
                          </a:cubicBezTo>
                          <a:cubicBezTo>
                            <a:pt x="1479" y="163"/>
                            <a:pt x="1221" y="230"/>
                            <a:pt x="800" y="352"/>
                          </a:cubicBezTo>
                          <a:cubicBezTo>
                            <a:pt x="438" y="428"/>
                            <a:pt x="166" y="555"/>
                            <a:pt x="0" y="607"/>
                          </a:cubicBezTo>
                          <a:lnTo>
                            <a:pt x="0" y="607"/>
                          </a:lnTo>
                          <a:lnTo>
                            <a:pt x="0" y="607"/>
                          </a:lnTo>
                          <a:lnTo>
                            <a:pt x="0" y="60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3144000">
                      <a:off x="6804000" y="4500360"/>
                      <a:ext cx="11394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5" h="952">
                          <a:moveTo>
                            <a:pt x="4" y="9"/>
                          </a:moveTo>
                          <a:cubicBezTo>
                            <a:pt x="85" y="0"/>
                            <a:pt x="296" y="28"/>
                            <a:pt x="491" y="67"/>
                          </a:cubicBezTo>
                          <a:cubicBezTo>
                            <a:pt x="686" y="105"/>
                            <a:pt x="982" y="164"/>
                            <a:pt x="1173" y="240"/>
                          </a:cubicBezTo>
                          <a:cubicBezTo>
                            <a:pt x="1364" y="316"/>
                            <a:pt x="1533" y="437"/>
                            <a:pt x="1634" y="519"/>
                          </a:cubicBezTo>
                          <a:cubicBezTo>
                            <a:pt x="1736" y="601"/>
                            <a:pt x="1768" y="662"/>
                            <a:pt x="1782" y="733"/>
                          </a:cubicBezTo>
                          <a:cubicBezTo>
                            <a:pt x="1794" y="804"/>
                            <a:pt x="1742" y="942"/>
                            <a:pt x="1714" y="947"/>
                          </a:cubicBezTo>
                          <a:cubicBezTo>
                            <a:pt x="1685" y="952"/>
                            <a:pt x="1663" y="827"/>
                            <a:pt x="1612" y="761"/>
                          </a:cubicBezTo>
                          <a:cubicBezTo>
                            <a:pt x="1561" y="695"/>
                            <a:pt x="1490" y="613"/>
                            <a:pt x="1409" y="546"/>
                          </a:cubicBezTo>
                          <a:cubicBezTo>
                            <a:pt x="1328" y="478"/>
                            <a:pt x="1262" y="416"/>
                            <a:pt x="1125" y="356"/>
                          </a:cubicBezTo>
                          <a:cubicBezTo>
                            <a:pt x="988" y="295"/>
                            <a:pt x="776" y="227"/>
                            <a:pt x="588" y="182"/>
                          </a:cubicBezTo>
                          <a:cubicBezTo>
                            <a:pt x="401" y="138"/>
                            <a:pt x="96" y="120"/>
                            <a:pt x="0" y="91"/>
                          </a:cubicBezTo>
                          <a:lnTo>
                            <a:pt x="4" y="9"/>
                          </a:lnTo>
                          <a:lnTo>
                            <a:pt x="4" y="9"/>
                          </a:lnTo>
                          <a:lnTo>
                            <a:pt x="4" y="9"/>
                          </a:lnTo>
                          <a:lnTo>
                            <a:pt x="4" y="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648040" y="2593440"/>
                    <a:ext cx="1758960" cy="3033720"/>
                    <a:chOff x="5648040" y="2593440"/>
                    <a:chExt cx="1758960" cy="303372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3745200">
                      <a:off x="5265720" y="3395520"/>
                      <a:ext cx="203436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2" h="582">
                          <a:moveTo>
                            <a:pt x="0" y="582"/>
                          </a:moveTo>
                          <a:cubicBezTo>
                            <a:pt x="27" y="564"/>
                            <a:pt x="664" y="286"/>
                            <a:pt x="1010" y="193"/>
                          </a:cubicBezTo>
                          <a:cubicBezTo>
                            <a:pt x="1357" y="101"/>
                            <a:pt x="1713" y="55"/>
                            <a:pt x="2078" y="27"/>
                          </a:cubicBezTo>
                          <a:cubicBezTo>
                            <a:pt x="2443" y="0"/>
                            <a:pt x="3018" y="12"/>
                            <a:pt x="3202" y="27"/>
                          </a:cubicBezTo>
                          <a:lnTo>
                            <a:pt x="3183" y="118"/>
                          </a:lnTo>
                          <a:cubicBezTo>
                            <a:pt x="2993" y="133"/>
                            <a:pt x="2466" y="81"/>
                            <a:pt x="2064" y="118"/>
                          </a:cubicBezTo>
                          <a:cubicBezTo>
                            <a:pt x="1414" y="156"/>
                            <a:pt x="1167" y="221"/>
                            <a:pt x="764" y="337"/>
                          </a:cubicBezTo>
                          <a:cubicBezTo>
                            <a:pt x="418" y="411"/>
                            <a:pt x="158" y="531"/>
                            <a:pt x="0" y="582"/>
                          </a:cubicBezTo>
                          <a:lnTo>
                            <a:pt x="0" y="582"/>
                          </a:lnTo>
                          <a:lnTo>
                            <a:pt x="0" y="582"/>
                          </a:lnTo>
                          <a:lnTo>
                            <a:pt x="0" y="582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3745200">
                      <a:off x="6351840" y="4719240"/>
                      <a:ext cx="1091160" cy="57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7" h="912">
                          <a:moveTo>
                            <a:pt x="3" y="9"/>
                          </a:moveTo>
                          <a:cubicBezTo>
                            <a:pt x="81" y="0"/>
                            <a:pt x="283" y="27"/>
                            <a:pt x="470" y="64"/>
                          </a:cubicBezTo>
                          <a:cubicBezTo>
                            <a:pt x="656" y="101"/>
                            <a:pt x="941" y="157"/>
                            <a:pt x="1124" y="230"/>
                          </a:cubicBezTo>
                          <a:cubicBezTo>
                            <a:pt x="1305" y="302"/>
                            <a:pt x="1466" y="420"/>
                            <a:pt x="1564" y="498"/>
                          </a:cubicBezTo>
                          <a:cubicBezTo>
                            <a:pt x="1661" y="576"/>
                            <a:pt x="1692" y="634"/>
                            <a:pt x="1704" y="702"/>
                          </a:cubicBezTo>
                          <a:cubicBezTo>
                            <a:pt x="1717" y="771"/>
                            <a:pt x="1667" y="903"/>
                            <a:pt x="1639" y="908"/>
                          </a:cubicBezTo>
                          <a:cubicBezTo>
                            <a:pt x="1612" y="912"/>
                            <a:pt x="1591" y="793"/>
                            <a:pt x="1542" y="728"/>
                          </a:cubicBezTo>
                          <a:cubicBezTo>
                            <a:pt x="1494" y="665"/>
                            <a:pt x="1426" y="588"/>
                            <a:pt x="1348" y="523"/>
                          </a:cubicBezTo>
                          <a:cubicBezTo>
                            <a:pt x="1270" y="459"/>
                            <a:pt x="1207" y="399"/>
                            <a:pt x="1077" y="340"/>
                          </a:cubicBezTo>
                          <a:cubicBezTo>
                            <a:pt x="946" y="283"/>
                            <a:pt x="743" y="217"/>
                            <a:pt x="563" y="175"/>
                          </a:cubicBezTo>
                          <a:cubicBezTo>
                            <a:pt x="383" y="132"/>
                            <a:pt x="92" y="115"/>
                            <a:pt x="0" y="87"/>
                          </a:cubicBez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lnTo>
                            <a:pt x="3" y="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576760" y="2711160"/>
                    <a:ext cx="1225440" cy="2986560"/>
                    <a:chOff x="5576760" y="2711160"/>
                    <a:chExt cx="1225440" cy="298656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4286400">
                      <a:off x="5046120" y="3544200"/>
                      <a:ext cx="197496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09" h="474">
                          <a:moveTo>
                            <a:pt x="0" y="475"/>
                          </a:moveTo>
                          <a:cubicBezTo>
                            <a:pt x="27" y="460"/>
                            <a:pt x="645" y="234"/>
                            <a:pt x="981" y="158"/>
                          </a:cubicBezTo>
                          <a:cubicBezTo>
                            <a:pt x="1318" y="82"/>
                            <a:pt x="1663" y="44"/>
                            <a:pt x="2018" y="21"/>
                          </a:cubicBezTo>
                          <a:cubicBezTo>
                            <a:pt x="2372" y="0"/>
                            <a:pt x="2930" y="9"/>
                            <a:pt x="3109" y="21"/>
                          </a:cubicBezTo>
                          <a:lnTo>
                            <a:pt x="3090" y="96"/>
                          </a:lnTo>
                          <a:cubicBezTo>
                            <a:pt x="2906" y="108"/>
                            <a:pt x="2395" y="66"/>
                            <a:pt x="2004" y="96"/>
                          </a:cubicBezTo>
                          <a:cubicBezTo>
                            <a:pt x="1373" y="127"/>
                            <a:pt x="1134" y="180"/>
                            <a:pt x="743" y="274"/>
                          </a:cubicBezTo>
                          <a:cubicBezTo>
                            <a:pt x="406" y="335"/>
                            <a:pt x="154" y="434"/>
                            <a:pt x="0" y="475"/>
                          </a:cubicBezTo>
                          <a:lnTo>
                            <a:pt x="0" y="475"/>
                          </a:lnTo>
                          <a:lnTo>
                            <a:pt x="0" y="475"/>
                          </a:lnTo>
                          <a:lnTo>
                            <a:pt x="0" y="47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4286400">
                      <a:off x="5879160" y="4882680"/>
                      <a:ext cx="10573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5" h="750">
                          <a:moveTo>
                            <a:pt x="2" y="7"/>
                          </a:moveTo>
                          <a:cubicBezTo>
                            <a:pt x="78" y="0"/>
                            <a:pt x="274" y="22"/>
                            <a:pt x="455" y="53"/>
                          </a:cubicBezTo>
                          <a:cubicBezTo>
                            <a:pt x="636" y="83"/>
                            <a:pt x="910" y="129"/>
                            <a:pt x="1088" y="189"/>
                          </a:cubicBezTo>
                          <a:cubicBezTo>
                            <a:pt x="1265" y="249"/>
                            <a:pt x="1421" y="344"/>
                            <a:pt x="1516" y="409"/>
                          </a:cubicBezTo>
                          <a:cubicBezTo>
                            <a:pt x="1610" y="473"/>
                            <a:pt x="1640" y="521"/>
                            <a:pt x="1652" y="577"/>
                          </a:cubicBezTo>
                          <a:cubicBezTo>
                            <a:pt x="1665" y="633"/>
                            <a:pt x="1616" y="742"/>
                            <a:pt x="1589" y="745"/>
                          </a:cubicBezTo>
                          <a:cubicBezTo>
                            <a:pt x="1563" y="750"/>
                            <a:pt x="1542" y="651"/>
                            <a:pt x="1495" y="598"/>
                          </a:cubicBezTo>
                          <a:cubicBezTo>
                            <a:pt x="1448" y="546"/>
                            <a:pt x="1382" y="483"/>
                            <a:pt x="1306" y="430"/>
                          </a:cubicBezTo>
                          <a:cubicBezTo>
                            <a:pt x="1231" y="377"/>
                            <a:pt x="1170" y="327"/>
                            <a:pt x="1042" y="280"/>
                          </a:cubicBezTo>
                          <a:cubicBezTo>
                            <a:pt x="915" y="233"/>
                            <a:pt x="720" y="179"/>
                            <a:pt x="545" y="144"/>
                          </a:cubicBezTo>
                          <a:cubicBezTo>
                            <a:pt x="371" y="108"/>
                            <a:pt x="88" y="94"/>
                            <a:pt x="0" y="72"/>
                          </a:cubicBezTo>
                          <a:lnTo>
                            <a:pt x="2" y="7"/>
                          </a:lnTo>
                          <a:lnTo>
                            <a:pt x="2" y="7"/>
                          </a:lnTo>
                          <a:lnTo>
                            <a:pt x="2" y="7"/>
                          </a:lnTo>
                          <a:lnTo>
                            <a:pt x="2" y="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521320" y="2840400"/>
                    <a:ext cx="698040" cy="2777760"/>
                    <a:chOff x="5521320" y="2840400"/>
                    <a:chExt cx="698040" cy="277776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4898400">
                      <a:off x="4896000" y="36079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7" h="477">
                          <a:moveTo>
                            <a:pt x="0" y="477"/>
                          </a:moveTo>
                          <a:cubicBezTo>
                            <a:pt x="25" y="462"/>
                            <a:pt x="593" y="235"/>
                            <a:pt x="902" y="159"/>
                          </a:cubicBezTo>
                          <a:cubicBezTo>
                            <a:pt x="1211" y="83"/>
                            <a:pt x="1528" y="45"/>
                            <a:pt x="1854" y="22"/>
                          </a:cubicBezTo>
                          <a:cubicBezTo>
                            <a:pt x="2181" y="0"/>
                            <a:pt x="2693" y="10"/>
                            <a:pt x="2857" y="22"/>
                          </a:cubicBezTo>
                          <a:lnTo>
                            <a:pt x="2840" y="97"/>
                          </a:lnTo>
                          <a:cubicBezTo>
                            <a:pt x="2671" y="109"/>
                            <a:pt x="2201" y="67"/>
                            <a:pt x="1841" y="97"/>
                          </a:cubicBezTo>
                          <a:cubicBezTo>
                            <a:pt x="1262" y="128"/>
                            <a:pt x="1041" y="181"/>
                            <a:pt x="682" y="276"/>
                          </a:cubicBezTo>
                          <a:cubicBezTo>
                            <a:pt x="373" y="337"/>
                            <a:pt x="141" y="436"/>
                            <a:pt x="0" y="477"/>
                          </a:cubicBezTo>
                          <a:lnTo>
                            <a:pt x="0" y="477"/>
                          </a:lnTo>
                          <a:lnTo>
                            <a:pt x="0" y="477"/>
                          </a:lnTo>
                          <a:lnTo>
                            <a:pt x="0" y="47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4898400">
                      <a:off x="5425920" y="4863240"/>
                      <a:ext cx="9741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4" h="749">
                          <a:moveTo>
                            <a:pt x="4" y="6"/>
                          </a:moveTo>
                          <a:cubicBezTo>
                            <a:pt x="73" y="0"/>
                            <a:pt x="254" y="21"/>
                            <a:pt x="420" y="52"/>
                          </a:cubicBezTo>
                          <a:cubicBezTo>
                            <a:pt x="587" y="82"/>
                            <a:pt x="840" y="128"/>
                            <a:pt x="1003" y="188"/>
                          </a:cubicBezTo>
                          <a:cubicBezTo>
                            <a:pt x="1166" y="248"/>
                            <a:pt x="1310" y="343"/>
                            <a:pt x="1397" y="408"/>
                          </a:cubicBezTo>
                          <a:cubicBezTo>
                            <a:pt x="1483" y="472"/>
                            <a:pt x="1511" y="520"/>
                            <a:pt x="1522" y="576"/>
                          </a:cubicBezTo>
                          <a:cubicBezTo>
                            <a:pt x="1534" y="632"/>
                            <a:pt x="1489" y="741"/>
                            <a:pt x="1464" y="744"/>
                          </a:cubicBezTo>
                          <a:cubicBezTo>
                            <a:pt x="1440" y="749"/>
                            <a:pt x="1421" y="650"/>
                            <a:pt x="1378" y="597"/>
                          </a:cubicBezTo>
                          <a:cubicBezTo>
                            <a:pt x="1334" y="545"/>
                            <a:pt x="1273" y="482"/>
                            <a:pt x="1204" y="429"/>
                          </a:cubicBezTo>
                          <a:cubicBezTo>
                            <a:pt x="1135" y="377"/>
                            <a:pt x="1078" y="326"/>
                            <a:pt x="961" y="279"/>
                          </a:cubicBezTo>
                          <a:cubicBezTo>
                            <a:pt x="844" y="232"/>
                            <a:pt x="664" y="178"/>
                            <a:pt x="503" y="143"/>
                          </a:cubicBezTo>
                          <a:cubicBezTo>
                            <a:pt x="343" y="107"/>
                            <a:pt x="83" y="93"/>
                            <a:pt x="0" y="71"/>
                          </a:cubicBezTo>
                          <a:lnTo>
                            <a:pt x="4" y="6"/>
                          </a:lnTo>
                          <a:lnTo>
                            <a:pt x="4" y="6"/>
                          </a:lnTo>
                          <a:lnTo>
                            <a:pt x="4" y="6"/>
                          </a:lnTo>
                          <a:lnTo>
                            <a:pt x="4" y="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4962240" y="2889720"/>
                    <a:ext cx="665640" cy="2715120"/>
                    <a:chOff x="4962240" y="2889720"/>
                    <a:chExt cx="665640" cy="27151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5755200">
                      <a:off x="4533120" y="3667320"/>
                      <a:ext cx="177408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2" h="365">
                          <a:moveTo>
                            <a:pt x="0" y="365"/>
                          </a:moveTo>
                          <a:cubicBezTo>
                            <a:pt x="24" y="352"/>
                            <a:pt x="579" y="178"/>
                            <a:pt x="881" y="120"/>
                          </a:cubicBezTo>
                          <a:cubicBezTo>
                            <a:pt x="1184" y="63"/>
                            <a:pt x="1494" y="33"/>
                            <a:pt x="1812" y="17"/>
                          </a:cubicBezTo>
                          <a:cubicBezTo>
                            <a:pt x="2130" y="0"/>
                            <a:pt x="2632" y="7"/>
                            <a:pt x="2792" y="17"/>
                          </a:cubicBezTo>
                          <a:lnTo>
                            <a:pt x="2776" y="74"/>
                          </a:lnTo>
                          <a:cubicBezTo>
                            <a:pt x="2611" y="83"/>
                            <a:pt x="2151" y="51"/>
                            <a:pt x="1800" y="74"/>
                          </a:cubicBezTo>
                          <a:cubicBezTo>
                            <a:pt x="1234" y="97"/>
                            <a:pt x="1017" y="138"/>
                            <a:pt x="667" y="210"/>
                          </a:cubicBezTo>
                          <a:cubicBezTo>
                            <a:pt x="365" y="256"/>
                            <a:pt x="138" y="332"/>
                            <a:pt x="0" y="365"/>
                          </a:cubicBezTo>
                          <a:lnTo>
                            <a:pt x="0" y="365"/>
                          </a:lnTo>
                          <a:lnTo>
                            <a:pt x="0" y="365"/>
                          </a:lnTo>
                          <a:lnTo>
                            <a:pt x="0" y="36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5755200">
                      <a:off x="4716360" y="4930920"/>
                      <a:ext cx="9511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7" h="572">
                          <a:moveTo>
                            <a:pt x="4" y="5"/>
                          </a:moveTo>
                          <a:cubicBezTo>
                            <a:pt x="71" y="0"/>
                            <a:pt x="247" y="17"/>
                            <a:pt x="410" y="40"/>
                          </a:cubicBezTo>
                          <a:cubicBezTo>
                            <a:pt x="572" y="63"/>
                            <a:pt x="820" y="99"/>
                            <a:pt x="979" y="144"/>
                          </a:cubicBezTo>
                          <a:cubicBezTo>
                            <a:pt x="1138" y="190"/>
                            <a:pt x="1278" y="263"/>
                            <a:pt x="1363" y="312"/>
                          </a:cubicBezTo>
                          <a:cubicBezTo>
                            <a:pt x="1448" y="362"/>
                            <a:pt x="1475" y="398"/>
                            <a:pt x="1486" y="441"/>
                          </a:cubicBezTo>
                          <a:cubicBezTo>
                            <a:pt x="1497" y="483"/>
                            <a:pt x="1453" y="567"/>
                            <a:pt x="1429" y="569"/>
                          </a:cubicBezTo>
                          <a:cubicBezTo>
                            <a:pt x="1405" y="572"/>
                            <a:pt x="1387" y="497"/>
                            <a:pt x="1344" y="457"/>
                          </a:cubicBezTo>
                          <a:cubicBezTo>
                            <a:pt x="1302" y="417"/>
                            <a:pt x="1243" y="369"/>
                            <a:pt x="1175" y="328"/>
                          </a:cubicBezTo>
                          <a:cubicBezTo>
                            <a:pt x="1107" y="288"/>
                            <a:pt x="1052" y="250"/>
                            <a:pt x="938" y="214"/>
                          </a:cubicBezTo>
                          <a:cubicBezTo>
                            <a:pt x="824" y="178"/>
                            <a:pt x="648" y="136"/>
                            <a:pt x="491" y="110"/>
                          </a:cubicBezTo>
                          <a:cubicBezTo>
                            <a:pt x="335" y="83"/>
                            <a:pt x="81" y="72"/>
                            <a:pt x="0" y="55"/>
                          </a:cubicBezTo>
                          <a:lnTo>
                            <a:pt x="4" y="5"/>
                          </a:lnTo>
                          <a:lnTo>
                            <a:pt x="4" y="5"/>
                          </a:lnTo>
                          <a:lnTo>
                            <a:pt x="4" y="5"/>
                          </a:lnTo>
                          <a:lnTo>
                            <a:pt x="4" y="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7" name=""/>
              <p:cNvGrpSpPr/>
              <p:nvPr/>
            </p:nvGrpSpPr>
            <p:grpSpPr>
              <a:xfrm>
                <a:off x="2174760" y="682560"/>
                <a:ext cx="6948000" cy="7341840"/>
                <a:chOff x="2174760" y="682560"/>
                <a:chExt cx="6948000" cy="734184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2174760" y="682560"/>
                  <a:ext cx="6948000" cy="7341840"/>
                  <a:chOff x="2174760" y="682560"/>
                  <a:chExt cx="6948000" cy="734184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flipV="1">
                    <a:off x="5407560" y="859680"/>
                    <a:ext cx="3715200" cy="5046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336" y="15870"/>
                        </a:moveTo>
                        <a:arcTo wR="10800" hR="10800" stAng="1680000" swAng="702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336" y="15870"/>
                        </a:moveTo>
                        <a:arcTo wR="10800" hR="10800" stAng="1680000" swAng="7020000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>
                    <a:off x="2554200" y="2274480"/>
                    <a:ext cx="3492000" cy="5749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236" y="1012"/>
                        </a:moveTo>
                        <a:arcTo wR="10800" hR="10800" stAng="-6900000" swAng="696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236" y="1012"/>
                        </a:moveTo>
                        <a:arcTo wR="10800" hR="10800" stAng="-6900000" swAng="6960000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5401800" y="1758600"/>
                    <a:ext cx="2174760" cy="5752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51" y="2289"/>
                        </a:moveTo>
                        <a:arcTo wR="10800" hR="10800" stAng="-7680000" swAng="774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51" y="2289"/>
                        </a:moveTo>
                        <a:arcTo wR="10800" hR="10800" stAng="-7680000" swAng="7740000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>
                    <a:off x="2174760" y="1293480"/>
                    <a:ext cx="3666960" cy="576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63" y="3163"/>
                        </a:moveTo>
                        <a:arcTo wR="10800" hR="10800" stAng="-8100000" swAng="816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63" y="3163"/>
                        </a:moveTo>
                        <a:arcTo wR="10800" hR="10800" stAng="-8100000" swAng="8160000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>
                    <a:off x="2486520" y="682560"/>
                    <a:ext cx="3080880" cy="5681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41" y="5077"/>
                        </a:moveTo>
                        <a:arcTo wR="10800" hR="10800" stAng="-8880000" swAng="582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41" y="5077"/>
                        </a:moveTo>
                        <a:arcTo wR="10800" hR="10800" stAng="-8880000" swAng="5820000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5244840" y="1882440"/>
                    <a:ext cx="1305360" cy="5681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51" y="2289"/>
                        </a:moveTo>
                        <a:arcTo wR="10800" hR="10800" stAng="-7680000" swAng="564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51" y="2289"/>
                        </a:moveTo>
                        <a:arcTo wR="10800" hR="10800" stAng="-7680000" swAng="5640000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4303440" y="836280"/>
                    <a:ext cx="51624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2959">
                        <a:moveTo>
                          <a:pt x="0" y="79"/>
                        </a:moveTo>
                        <a:cubicBezTo>
                          <a:pt x="117" y="39"/>
                          <a:pt x="234" y="0"/>
                          <a:pt x="251" y="19"/>
                        </a:cubicBezTo>
                        <a:cubicBezTo>
                          <a:pt x="267" y="39"/>
                          <a:pt x="83" y="169"/>
                          <a:pt x="100" y="199"/>
                        </a:cubicBezTo>
                        <a:cubicBezTo>
                          <a:pt x="117" y="229"/>
                          <a:pt x="334" y="169"/>
                          <a:pt x="351" y="199"/>
                        </a:cubicBezTo>
                        <a:cubicBezTo>
                          <a:pt x="368" y="229"/>
                          <a:pt x="192" y="339"/>
                          <a:pt x="200" y="379"/>
                        </a:cubicBezTo>
                        <a:cubicBezTo>
                          <a:pt x="209" y="419"/>
                          <a:pt x="384" y="409"/>
                          <a:pt x="401" y="439"/>
                        </a:cubicBezTo>
                        <a:cubicBezTo>
                          <a:pt x="418" y="469"/>
                          <a:pt x="284" y="529"/>
                          <a:pt x="301" y="559"/>
                        </a:cubicBezTo>
                        <a:cubicBezTo>
                          <a:pt x="318" y="589"/>
                          <a:pt x="485" y="589"/>
                          <a:pt x="502" y="619"/>
                        </a:cubicBezTo>
                        <a:cubicBezTo>
                          <a:pt x="518" y="649"/>
                          <a:pt x="393" y="709"/>
                          <a:pt x="401" y="739"/>
                        </a:cubicBezTo>
                        <a:cubicBezTo>
                          <a:pt x="410" y="769"/>
                          <a:pt x="535" y="769"/>
                          <a:pt x="553" y="799"/>
                        </a:cubicBezTo>
                        <a:cubicBezTo>
                          <a:pt x="570" y="829"/>
                          <a:pt x="493" y="879"/>
                          <a:pt x="502" y="919"/>
                        </a:cubicBezTo>
                        <a:cubicBezTo>
                          <a:pt x="510" y="959"/>
                          <a:pt x="586" y="999"/>
                          <a:pt x="603" y="1039"/>
                        </a:cubicBezTo>
                        <a:cubicBezTo>
                          <a:pt x="620" y="1079"/>
                          <a:pt x="586" y="1109"/>
                          <a:pt x="603" y="1159"/>
                        </a:cubicBezTo>
                        <a:cubicBezTo>
                          <a:pt x="620" y="1209"/>
                          <a:pt x="695" y="1279"/>
                          <a:pt x="703" y="1339"/>
                        </a:cubicBezTo>
                        <a:cubicBezTo>
                          <a:pt x="712" y="1399"/>
                          <a:pt x="645" y="1469"/>
                          <a:pt x="653" y="1519"/>
                        </a:cubicBezTo>
                        <a:cubicBezTo>
                          <a:pt x="662" y="1569"/>
                          <a:pt x="745" y="1589"/>
                          <a:pt x="754" y="1639"/>
                        </a:cubicBezTo>
                        <a:cubicBezTo>
                          <a:pt x="762" y="1689"/>
                          <a:pt x="703" y="1759"/>
                          <a:pt x="703" y="1819"/>
                        </a:cubicBezTo>
                        <a:cubicBezTo>
                          <a:pt x="703" y="1879"/>
                          <a:pt x="754" y="1949"/>
                          <a:pt x="754" y="1999"/>
                        </a:cubicBezTo>
                        <a:cubicBezTo>
                          <a:pt x="754" y="2049"/>
                          <a:pt x="695" y="2069"/>
                          <a:pt x="703" y="2119"/>
                        </a:cubicBezTo>
                        <a:cubicBezTo>
                          <a:pt x="712" y="2169"/>
                          <a:pt x="796" y="2239"/>
                          <a:pt x="804" y="2299"/>
                        </a:cubicBezTo>
                        <a:cubicBezTo>
                          <a:pt x="812" y="2359"/>
                          <a:pt x="754" y="2409"/>
                          <a:pt x="754" y="2479"/>
                        </a:cubicBezTo>
                        <a:cubicBezTo>
                          <a:pt x="754" y="2549"/>
                          <a:pt x="804" y="2669"/>
                          <a:pt x="804" y="2719"/>
                        </a:cubicBezTo>
                        <a:cubicBezTo>
                          <a:pt x="804" y="2769"/>
                          <a:pt x="754" y="2739"/>
                          <a:pt x="754" y="2779"/>
                        </a:cubicBezTo>
                        <a:cubicBezTo>
                          <a:pt x="754" y="2819"/>
                          <a:pt x="779" y="2889"/>
                          <a:pt x="804" y="2959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 rot="20253000">
                  <a:off x="6129000" y="2181960"/>
                  <a:ext cx="544320" cy="1031760"/>
                </a:xfrm>
                <a:custGeom>
                  <a:avLst/>
                  <a:gdLst/>
                  <a:ahLst/>
                  <a:rect l="l" t="t" r="r" b="b"/>
                  <a:pathLst>
                    <a:path w="857" h="1624">
                      <a:moveTo>
                        <a:pt x="0" y="43"/>
                      </a:moveTo>
                      <a:cubicBezTo>
                        <a:pt x="122" y="21"/>
                        <a:pt x="246" y="0"/>
                        <a:pt x="264" y="9"/>
                      </a:cubicBezTo>
                      <a:cubicBezTo>
                        <a:pt x="282" y="21"/>
                        <a:pt x="87" y="92"/>
                        <a:pt x="105" y="108"/>
                      </a:cubicBezTo>
                      <a:cubicBezTo>
                        <a:pt x="122" y="126"/>
                        <a:pt x="352" y="92"/>
                        <a:pt x="370" y="108"/>
                      </a:cubicBezTo>
                      <a:cubicBezTo>
                        <a:pt x="388" y="126"/>
                        <a:pt x="202" y="186"/>
                        <a:pt x="211" y="208"/>
                      </a:cubicBezTo>
                      <a:cubicBezTo>
                        <a:pt x="220" y="229"/>
                        <a:pt x="406" y="225"/>
                        <a:pt x="423" y="240"/>
                      </a:cubicBezTo>
                      <a:cubicBezTo>
                        <a:pt x="441" y="257"/>
                        <a:pt x="299" y="291"/>
                        <a:pt x="317" y="307"/>
                      </a:cubicBezTo>
                      <a:cubicBezTo>
                        <a:pt x="335" y="322"/>
                        <a:pt x="512" y="322"/>
                        <a:pt x="529" y="339"/>
                      </a:cubicBezTo>
                      <a:cubicBezTo>
                        <a:pt x="547" y="355"/>
                        <a:pt x="414" y="388"/>
                        <a:pt x="423" y="405"/>
                      </a:cubicBezTo>
                      <a:cubicBezTo>
                        <a:pt x="432" y="421"/>
                        <a:pt x="565" y="421"/>
                        <a:pt x="583" y="439"/>
                      </a:cubicBezTo>
                      <a:cubicBezTo>
                        <a:pt x="600" y="455"/>
                        <a:pt x="521" y="482"/>
                        <a:pt x="529" y="504"/>
                      </a:cubicBezTo>
                      <a:cubicBezTo>
                        <a:pt x="538" y="526"/>
                        <a:pt x="618" y="548"/>
                        <a:pt x="636" y="570"/>
                      </a:cubicBezTo>
                      <a:cubicBezTo>
                        <a:pt x="653" y="593"/>
                        <a:pt x="618" y="608"/>
                        <a:pt x="636" y="635"/>
                      </a:cubicBezTo>
                      <a:cubicBezTo>
                        <a:pt x="653" y="663"/>
                        <a:pt x="733" y="701"/>
                        <a:pt x="742" y="734"/>
                      </a:cubicBezTo>
                      <a:cubicBezTo>
                        <a:pt x="751" y="767"/>
                        <a:pt x="680" y="806"/>
                        <a:pt x="689" y="833"/>
                      </a:cubicBezTo>
                      <a:cubicBezTo>
                        <a:pt x="698" y="861"/>
                        <a:pt x="786" y="872"/>
                        <a:pt x="795" y="900"/>
                      </a:cubicBezTo>
                      <a:cubicBezTo>
                        <a:pt x="804" y="927"/>
                        <a:pt x="742" y="965"/>
                        <a:pt x="742" y="998"/>
                      </a:cubicBezTo>
                      <a:cubicBezTo>
                        <a:pt x="742" y="1031"/>
                        <a:pt x="795" y="1069"/>
                        <a:pt x="795" y="1097"/>
                      </a:cubicBezTo>
                      <a:cubicBezTo>
                        <a:pt x="795" y="1124"/>
                        <a:pt x="733" y="1135"/>
                        <a:pt x="742" y="1163"/>
                      </a:cubicBezTo>
                      <a:cubicBezTo>
                        <a:pt x="751" y="1190"/>
                        <a:pt x="839" y="1229"/>
                        <a:pt x="848" y="1261"/>
                      </a:cubicBezTo>
                      <a:cubicBezTo>
                        <a:pt x="857" y="1294"/>
                        <a:pt x="795" y="1322"/>
                        <a:pt x="795" y="1360"/>
                      </a:cubicBezTo>
                      <a:cubicBezTo>
                        <a:pt x="795" y="1399"/>
                        <a:pt x="848" y="1465"/>
                        <a:pt x="848" y="1492"/>
                      </a:cubicBezTo>
                      <a:cubicBezTo>
                        <a:pt x="848" y="1520"/>
                        <a:pt x="795" y="1503"/>
                        <a:pt x="795" y="1525"/>
                      </a:cubicBezTo>
                      <a:cubicBezTo>
                        <a:pt x="795" y="1547"/>
                        <a:pt x="821" y="1585"/>
                        <a:pt x="848" y="1624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7" name=""/>
            <p:cNvGrpSpPr/>
            <p:nvPr/>
          </p:nvGrpSpPr>
          <p:grpSpPr>
            <a:xfrm>
              <a:off x="2340000" y="712440"/>
              <a:ext cx="6413400" cy="7459200"/>
              <a:chOff x="2340000" y="712440"/>
              <a:chExt cx="6413400" cy="745920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4467960" y="32349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942" h="2872">
                    <a:moveTo>
                      <a:pt x="0" y="77"/>
                    </a:moveTo>
                    <a:cubicBezTo>
                      <a:pt x="135" y="38"/>
                      <a:pt x="271" y="0"/>
                      <a:pt x="291" y="19"/>
                    </a:cubicBezTo>
                    <a:cubicBezTo>
                      <a:pt x="310" y="38"/>
                      <a:pt x="97" y="164"/>
                      <a:pt x="116" y="194"/>
                    </a:cubicBezTo>
                    <a:cubicBezTo>
                      <a:pt x="135" y="223"/>
                      <a:pt x="388" y="164"/>
                      <a:pt x="407" y="194"/>
                    </a:cubicBezTo>
                    <a:cubicBezTo>
                      <a:pt x="427" y="223"/>
                      <a:pt x="223" y="329"/>
                      <a:pt x="233" y="368"/>
                    </a:cubicBezTo>
                    <a:cubicBezTo>
                      <a:pt x="242" y="407"/>
                      <a:pt x="446" y="397"/>
                      <a:pt x="466" y="426"/>
                    </a:cubicBezTo>
                    <a:cubicBezTo>
                      <a:pt x="485" y="456"/>
                      <a:pt x="330" y="514"/>
                      <a:pt x="349" y="543"/>
                    </a:cubicBezTo>
                    <a:cubicBezTo>
                      <a:pt x="368" y="572"/>
                      <a:pt x="563" y="572"/>
                      <a:pt x="582" y="601"/>
                    </a:cubicBezTo>
                    <a:cubicBezTo>
                      <a:pt x="602" y="630"/>
                      <a:pt x="456" y="688"/>
                      <a:pt x="466" y="718"/>
                    </a:cubicBezTo>
                    <a:cubicBezTo>
                      <a:pt x="475" y="747"/>
                      <a:pt x="621" y="747"/>
                      <a:pt x="641" y="776"/>
                    </a:cubicBezTo>
                    <a:cubicBezTo>
                      <a:pt x="661" y="805"/>
                      <a:pt x="572" y="853"/>
                      <a:pt x="582" y="892"/>
                    </a:cubicBezTo>
                    <a:cubicBezTo>
                      <a:pt x="592" y="931"/>
                      <a:pt x="680" y="970"/>
                      <a:pt x="700" y="1009"/>
                    </a:cubicBezTo>
                    <a:cubicBezTo>
                      <a:pt x="719" y="1048"/>
                      <a:pt x="680" y="1077"/>
                      <a:pt x="700" y="1125"/>
                    </a:cubicBezTo>
                    <a:cubicBezTo>
                      <a:pt x="719" y="1174"/>
                      <a:pt x="806" y="1242"/>
                      <a:pt x="816" y="1300"/>
                    </a:cubicBezTo>
                    <a:cubicBezTo>
                      <a:pt x="826" y="1358"/>
                      <a:pt x="748" y="1426"/>
                      <a:pt x="758" y="1475"/>
                    </a:cubicBezTo>
                    <a:cubicBezTo>
                      <a:pt x="768" y="1523"/>
                      <a:pt x="865" y="1542"/>
                      <a:pt x="874" y="1591"/>
                    </a:cubicBezTo>
                    <a:cubicBezTo>
                      <a:pt x="884" y="1639"/>
                      <a:pt x="816" y="1707"/>
                      <a:pt x="816" y="1766"/>
                    </a:cubicBezTo>
                    <a:cubicBezTo>
                      <a:pt x="816" y="1824"/>
                      <a:pt x="874" y="1892"/>
                      <a:pt x="874" y="1940"/>
                    </a:cubicBezTo>
                    <a:cubicBezTo>
                      <a:pt x="874" y="1989"/>
                      <a:pt x="806" y="2008"/>
                      <a:pt x="816" y="2057"/>
                    </a:cubicBezTo>
                    <a:cubicBezTo>
                      <a:pt x="826" y="2105"/>
                      <a:pt x="923" y="2173"/>
                      <a:pt x="933" y="2231"/>
                    </a:cubicBezTo>
                    <a:cubicBezTo>
                      <a:pt x="942" y="2290"/>
                      <a:pt x="874" y="2338"/>
                      <a:pt x="874" y="2406"/>
                    </a:cubicBezTo>
                    <a:cubicBezTo>
                      <a:pt x="874" y="2474"/>
                      <a:pt x="933" y="2590"/>
                      <a:pt x="933" y="2639"/>
                    </a:cubicBezTo>
                    <a:cubicBezTo>
                      <a:pt x="933" y="2688"/>
                      <a:pt x="874" y="2658"/>
                      <a:pt x="874" y="2697"/>
                    </a:cubicBezTo>
                    <a:cubicBezTo>
                      <a:pt x="874" y="2736"/>
                      <a:pt x="904" y="2804"/>
                      <a:pt x="933" y="287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3381480" y="2487240"/>
                <a:ext cx="5234400" cy="5684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413" y="321"/>
                    </a:moveTo>
                    <a:arcTo wR="10800" hR="10800" stAng="-4560000" swAng="468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413" y="321"/>
                    </a:moveTo>
                    <a:arcTo wR="10800" hR="10800" stAng="-4560000" swAng="468000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643200" y="2122200"/>
                <a:ext cx="2278080" cy="57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06" y="651"/>
                    </a:moveTo>
                    <a:arcTo wR="10800" hR="10800" stAng="-6600000" swAng="666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06" y="651"/>
                    </a:moveTo>
                    <a:arcTo wR="10800" hR="10800" stAng="-6600000" swAng="6660000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2340000" y="1739520"/>
                <a:ext cx="3654720" cy="575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00" y="2175"/>
                    </a:moveTo>
                    <a:arcTo wR="10800" hR="10800" stAng="-7620000" swAng="768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00" y="2175"/>
                    </a:moveTo>
                    <a:arcTo wR="10800" hR="10800" stAng="-7620000" swAng="768000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74520" y="2150640"/>
                <a:ext cx="579960" cy="576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003" y="2407"/>
                    </a:moveTo>
                    <a:arcTo wR="10800" hR="10800" stAng="-7740000" swAng="7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003" y="2407"/>
                    </a:moveTo>
                    <a:arcTo wR="10800" hR="10800" stAng="-7740000" swAng="7800000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1240" y="2139480"/>
                <a:ext cx="1528560" cy="575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51" y="2289"/>
                    </a:moveTo>
                    <a:arcTo wR="10800" hR="10800" stAng="-7680000" swAng="774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51" y="2289"/>
                    </a:moveTo>
                    <a:arcTo wR="10800" hR="10800" stAng="-7680000" swAng="774000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154920" y="35460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942" h="2872">
                    <a:moveTo>
                      <a:pt x="0" y="77"/>
                    </a:moveTo>
                    <a:cubicBezTo>
                      <a:pt x="135" y="38"/>
                      <a:pt x="271" y="0"/>
                      <a:pt x="291" y="19"/>
                    </a:cubicBezTo>
                    <a:cubicBezTo>
                      <a:pt x="310" y="38"/>
                      <a:pt x="97" y="164"/>
                      <a:pt x="116" y="194"/>
                    </a:cubicBezTo>
                    <a:cubicBezTo>
                      <a:pt x="135" y="223"/>
                      <a:pt x="388" y="164"/>
                      <a:pt x="407" y="194"/>
                    </a:cubicBezTo>
                    <a:cubicBezTo>
                      <a:pt x="427" y="223"/>
                      <a:pt x="223" y="329"/>
                      <a:pt x="233" y="368"/>
                    </a:cubicBezTo>
                    <a:cubicBezTo>
                      <a:pt x="242" y="407"/>
                      <a:pt x="446" y="397"/>
                      <a:pt x="466" y="426"/>
                    </a:cubicBezTo>
                    <a:cubicBezTo>
                      <a:pt x="485" y="456"/>
                      <a:pt x="330" y="514"/>
                      <a:pt x="349" y="543"/>
                    </a:cubicBezTo>
                    <a:cubicBezTo>
                      <a:pt x="368" y="572"/>
                      <a:pt x="563" y="572"/>
                      <a:pt x="582" y="601"/>
                    </a:cubicBezTo>
                    <a:cubicBezTo>
                      <a:pt x="602" y="630"/>
                      <a:pt x="456" y="688"/>
                      <a:pt x="466" y="718"/>
                    </a:cubicBezTo>
                    <a:cubicBezTo>
                      <a:pt x="475" y="747"/>
                      <a:pt x="621" y="747"/>
                      <a:pt x="641" y="776"/>
                    </a:cubicBezTo>
                    <a:cubicBezTo>
                      <a:pt x="661" y="805"/>
                      <a:pt x="572" y="853"/>
                      <a:pt x="582" y="892"/>
                    </a:cubicBezTo>
                    <a:cubicBezTo>
                      <a:pt x="592" y="931"/>
                      <a:pt x="680" y="970"/>
                      <a:pt x="700" y="1009"/>
                    </a:cubicBezTo>
                    <a:cubicBezTo>
                      <a:pt x="719" y="1048"/>
                      <a:pt x="680" y="1077"/>
                      <a:pt x="700" y="1125"/>
                    </a:cubicBezTo>
                    <a:cubicBezTo>
                      <a:pt x="719" y="1174"/>
                      <a:pt x="806" y="1242"/>
                      <a:pt x="816" y="1300"/>
                    </a:cubicBezTo>
                    <a:cubicBezTo>
                      <a:pt x="826" y="1358"/>
                      <a:pt x="748" y="1426"/>
                      <a:pt x="758" y="1475"/>
                    </a:cubicBezTo>
                    <a:cubicBezTo>
                      <a:pt x="768" y="1523"/>
                      <a:pt x="865" y="1542"/>
                      <a:pt x="874" y="1591"/>
                    </a:cubicBezTo>
                    <a:cubicBezTo>
                      <a:pt x="884" y="1639"/>
                      <a:pt x="816" y="1707"/>
                      <a:pt x="816" y="1766"/>
                    </a:cubicBezTo>
                    <a:cubicBezTo>
                      <a:pt x="816" y="1824"/>
                      <a:pt x="874" y="1892"/>
                      <a:pt x="874" y="1940"/>
                    </a:cubicBezTo>
                    <a:cubicBezTo>
                      <a:pt x="874" y="1989"/>
                      <a:pt x="806" y="2008"/>
                      <a:pt x="816" y="2057"/>
                    </a:cubicBezTo>
                    <a:cubicBezTo>
                      <a:pt x="826" y="2105"/>
                      <a:pt x="923" y="2173"/>
                      <a:pt x="933" y="2231"/>
                    </a:cubicBezTo>
                    <a:cubicBezTo>
                      <a:pt x="942" y="2290"/>
                      <a:pt x="874" y="2338"/>
                      <a:pt x="874" y="2406"/>
                    </a:cubicBezTo>
                    <a:cubicBezTo>
                      <a:pt x="874" y="2474"/>
                      <a:pt x="933" y="2590"/>
                      <a:pt x="933" y="2639"/>
                    </a:cubicBezTo>
                    <a:cubicBezTo>
                      <a:pt x="933" y="2688"/>
                      <a:pt x="874" y="2658"/>
                      <a:pt x="874" y="2697"/>
                    </a:cubicBezTo>
                    <a:cubicBezTo>
                      <a:pt x="874" y="2736"/>
                      <a:pt x="904" y="2804"/>
                      <a:pt x="933" y="2872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 rot="19660800">
                <a:off x="5223960" y="2946960"/>
                <a:ext cx="544680" cy="1033560"/>
              </a:xfrm>
              <a:custGeom>
                <a:avLst/>
                <a:gdLst/>
                <a:ahLst/>
                <a:rect l="l" t="t" r="r" b="b"/>
                <a:pathLst>
                  <a:path w="857" h="1627">
                    <a:moveTo>
                      <a:pt x="0" y="43"/>
                    </a:moveTo>
                    <a:cubicBezTo>
                      <a:pt x="122" y="21"/>
                      <a:pt x="246" y="0"/>
                      <a:pt x="264" y="10"/>
                    </a:cubicBezTo>
                    <a:cubicBezTo>
                      <a:pt x="282" y="21"/>
                      <a:pt x="87" y="93"/>
                      <a:pt x="105" y="109"/>
                    </a:cubicBezTo>
                    <a:cubicBezTo>
                      <a:pt x="122" y="126"/>
                      <a:pt x="352" y="93"/>
                      <a:pt x="370" y="109"/>
                    </a:cubicBezTo>
                    <a:cubicBezTo>
                      <a:pt x="388" y="126"/>
                      <a:pt x="202" y="186"/>
                      <a:pt x="211" y="208"/>
                    </a:cubicBezTo>
                    <a:cubicBezTo>
                      <a:pt x="220" y="230"/>
                      <a:pt x="406" y="225"/>
                      <a:pt x="423" y="241"/>
                    </a:cubicBezTo>
                    <a:cubicBezTo>
                      <a:pt x="441" y="258"/>
                      <a:pt x="299" y="291"/>
                      <a:pt x="317" y="307"/>
                    </a:cubicBezTo>
                    <a:cubicBezTo>
                      <a:pt x="335" y="324"/>
                      <a:pt x="512" y="324"/>
                      <a:pt x="529" y="340"/>
                    </a:cubicBezTo>
                    <a:cubicBezTo>
                      <a:pt x="547" y="356"/>
                      <a:pt x="414" y="389"/>
                      <a:pt x="423" y="406"/>
                    </a:cubicBezTo>
                    <a:cubicBezTo>
                      <a:pt x="432" y="422"/>
                      <a:pt x="565" y="422"/>
                      <a:pt x="583" y="439"/>
                    </a:cubicBezTo>
                    <a:cubicBezTo>
                      <a:pt x="600" y="455"/>
                      <a:pt x="521" y="483"/>
                      <a:pt x="529" y="505"/>
                    </a:cubicBezTo>
                    <a:cubicBezTo>
                      <a:pt x="538" y="527"/>
                      <a:pt x="618" y="549"/>
                      <a:pt x="636" y="571"/>
                    </a:cubicBezTo>
                    <a:cubicBezTo>
                      <a:pt x="653" y="593"/>
                      <a:pt x="618" y="609"/>
                      <a:pt x="636" y="637"/>
                    </a:cubicBezTo>
                    <a:cubicBezTo>
                      <a:pt x="653" y="665"/>
                      <a:pt x="733" y="703"/>
                      <a:pt x="742" y="736"/>
                    </a:cubicBezTo>
                    <a:cubicBezTo>
                      <a:pt x="751" y="769"/>
                      <a:pt x="680" y="808"/>
                      <a:pt x="689" y="835"/>
                    </a:cubicBezTo>
                    <a:cubicBezTo>
                      <a:pt x="698" y="863"/>
                      <a:pt x="786" y="874"/>
                      <a:pt x="795" y="901"/>
                    </a:cubicBezTo>
                    <a:cubicBezTo>
                      <a:pt x="804" y="929"/>
                      <a:pt x="742" y="967"/>
                      <a:pt x="742" y="1000"/>
                    </a:cubicBezTo>
                    <a:cubicBezTo>
                      <a:pt x="742" y="1033"/>
                      <a:pt x="795" y="1071"/>
                      <a:pt x="795" y="1099"/>
                    </a:cubicBezTo>
                    <a:cubicBezTo>
                      <a:pt x="795" y="1126"/>
                      <a:pt x="733" y="1137"/>
                      <a:pt x="742" y="1165"/>
                    </a:cubicBezTo>
                    <a:cubicBezTo>
                      <a:pt x="751" y="1192"/>
                      <a:pt x="839" y="1231"/>
                      <a:pt x="848" y="1264"/>
                    </a:cubicBezTo>
                    <a:cubicBezTo>
                      <a:pt x="857" y="1297"/>
                      <a:pt x="795" y="1325"/>
                      <a:pt x="795" y="1363"/>
                    </a:cubicBezTo>
                    <a:cubicBezTo>
                      <a:pt x="795" y="1402"/>
                      <a:pt x="848" y="1468"/>
                      <a:pt x="848" y="1495"/>
                    </a:cubicBezTo>
                    <a:cubicBezTo>
                      <a:pt x="848" y="1523"/>
                      <a:pt x="795" y="1506"/>
                      <a:pt x="795" y="1528"/>
                    </a:cubicBezTo>
                    <a:cubicBezTo>
                      <a:pt x="795" y="1550"/>
                      <a:pt x="822" y="1589"/>
                      <a:pt x="848" y="1627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2687040" y="3384360"/>
                <a:ext cx="1338120" cy="1879560"/>
              </a:xfrm>
              <a:custGeom>
                <a:avLst/>
                <a:gdLst/>
                <a:ahLst/>
                <a:rect l="l" t="t" r="r" b="b"/>
                <a:pathLst>
                  <a:path w="2107" h="2959">
                    <a:moveTo>
                      <a:pt x="0" y="79"/>
                    </a:moveTo>
                    <a:cubicBezTo>
                      <a:pt x="304" y="39"/>
                      <a:pt x="608" y="0"/>
                      <a:pt x="651" y="19"/>
                    </a:cubicBezTo>
                    <a:cubicBezTo>
                      <a:pt x="695" y="39"/>
                      <a:pt x="217" y="169"/>
                      <a:pt x="260" y="199"/>
                    </a:cubicBezTo>
                    <a:cubicBezTo>
                      <a:pt x="304" y="229"/>
                      <a:pt x="868" y="169"/>
                      <a:pt x="912" y="199"/>
                    </a:cubicBezTo>
                    <a:cubicBezTo>
                      <a:pt x="955" y="229"/>
                      <a:pt x="499" y="339"/>
                      <a:pt x="521" y="379"/>
                    </a:cubicBezTo>
                    <a:cubicBezTo>
                      <a:pt x="543" y="419"/>
                      <a:pt x="999" y="409"/>
                      <a:pt x="1042" y="439"/>
                    </a:cubicBezTo>
                    <a:cubicBezTo>
                      <a:pt x="1086" y="469"/>
                      <a:pt x="738" y="529"/>
                      <a:pt x="782" y="559"/>
                    </a:cubicBezTo>
                    <a:cubicBezTo>
                      <a:pt x="825" y="589"/>
                      <a:pt x="1259" y="589"/>
                      <a:pt x="1303" y="619"/>
                    </a:cubicBezTo>
                    <a:cubicBezTo>
                      <a:pt x="1346" y="649"/>
                      <a:pt x="1021" y="709"/>
                      <a:pt x="1042" y="739"/>
                    </a:cubicBezTo>
                    <a:cubicBezTo>
                      <a:pt x="1064" y="769"/>
                      <a:pt x="1390" y="769"/>
                      <a:pt x="1433" y="799"/>
                    </a:cubicBezTo>
                    <a:cubicBezTo>
                      <a:pt x="1477" y="829"/>
                      <a:pt x="1281" y="879"/>
                      <a:pt x="1303" y="919"/>
                    </a:cubicBezTo>
                    <a:cubicBezTo>
                      <a:pt x="1325" y="959"/>
                      <a:pt x="1520" y="999"/>
                      <a:pt x="1564" y="1039"/>
                    </a:cubicBezTo>
                    <a:cubicBezTo>
                      <a:pt x="1607" y="1079"/>
                      <a:pt x="1520" y="1109"/>
                      <a:pt x="1564" y="1159"/>
                    </a:cubicBezTo>
                    <a:cubicBezTo>
                      <a:pt x="1607" y="1209"/>
                      <a:pt x="1803" y="1279"/>
                      <a:pt x="1824" y="1339"/>
                    </a:cubicBezTo>
                    <a:cubicBezTo>
                      <a:pt x="1846" y="1399"/>
                      <a:pt x="1672" y="1469"/>
                      <a:pt x="1694" y="1519"/>
                    </a:cubicBezTo>
                    <a:cubicBezTo>
                      <a:pt x="1716" y="1569"/>
                      <a:pt x="1933" y="1589"/>
                      <a:pt x="1955" y="1639"/>
                    </a:cubicBezTo>
                    <a:cubicBezTo>
                      <a:pt x="1976" y="1689"/>
                      <a:pt x="1824" y="1759"/>
                      <a:pt x="1824" y="1819"/>
                    </a:cubicBezTo>
                    <a:cubicBezTo>
                      <a:pt x="1824" y="1879"/>
                      <a:pt x="1955" y="1949"/>
                      <a:pt x="1955" y="1999"/>
                    </a:cubicBezTo>
                    <a:cubicBezTo>
                      <a:pt x="1955" y="2049"/>
                      <a:pt x="1803" y="2069"/>
                      <a:pt x="1824" y="2119"/>
                    </a:cubicBezTo>
                    <a:cubicBezTo>
                      <a:pt x="1846" y="2169"/>
                      <a:pt x="2063" y="2239"/>
                      <a:pt x="2085" y="2299"/>
                    </a:cubicBezTo>
                    <a:cubicBezTo>
                      <a:pt x="2107" y="2359"/>
                      <a:pt x="1955" y="2409"/>
                      <a:pt x="1955" y="2479"/>
                    </a:cubicBezTo>
                    <a:cubicBezTo>
                      <a:pt x="1955" y="2549"/>
                      <a:pt x="2085" y="2669"/>
                      <a:pt x="2085" y="2719"/>
                    </a:cubicBezTo>
                    <a:cubicBezTo>
                      <a:pt x="2085" y="2769"/>
                      <a:pt x="1955" y="2739"/>
                      <a:pt x="1955" y="2779"/>
                    </a:cubicBezTo>
                    <a:cubicBezTo>
                      <a:pt x="1955" y="2819"/>
                      <a:pt x="2020" y="2889"/>
                      <a:pt x="2085" y="2959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317760" y="1398240"/>
                <a:ext cx="857520" cy="1879560"/>
              </a:xfrm>
              <a:custGeom>
                <a:avLst/>
                <a:gdLst/>
                <a:ahLst/>
                <a:rect l="l" t="t" r="r" b="b"/>
                <a:pathLst>
                  <a:path w="1350" h="2959">
                    <a:moveTo>
                      <a:pt x="0" y="79"/>
                    </a:moveTo>
                    <a:cubicBezTo>
                      <a:pt x="193" y="39"/>
                      <a:pt x="389" y="0"/>
                      <a:pt x="416" y="19"/>
                    </a:cubicBezTo>
                    <a:cubicBezTo>
                      <a:pt x="443" y="39"/>
                      <a:pt x="137" y="169"/>
                      <a:pt x="165" y="199"/>
                    </a:cubicBezTo>
                    <a:cubicBezTo>
                      <a:pt x="193" y="229"/>
                      <a:pt x="555" y="169"/>
                      <a:pt x="583" y="199"/>
                    </a:cubicBezTo>
                    <a:cubicBezTo>
                      <a:pt x="612" y="229"/>
                      <a:pt x="318" y="339"/>
                      <a:pt x="332" y="379"/>
                    </a:cubicBezTo>
                    <a:cubicBezTo>
                      <a:pt x="346" y="419"/>
                      <a:pt x="639" y="409"/>
                      <a:pt x="666" y="439"/>
                    </a:cubicBezTo>
                    <a:cubicBezTo>
                      <a:pt x="694" y="469"/>
                      <a:pt x="471" y="529"/>
                      <a:pt x="499" y="559"/>
                    </a:cubicBezTo>
                    <a:cubicBezTo>
                      <a:pt x="527" y="589"/>
                      <a:pt x="806" y="589"/>
                      <a:pt x="834" y="619"/>
                    </a:cubicBezTo>
                    <a:cubicBezTo>
                      <a:pt x="861" y="649"/>
                      <a:pt x="653" y="709"/>
                      <a:pt x="666" y="739"/>
                    </a:cubicBezTo>
                    <a:cubicBezTo>
                      <a:pt x="680" y="769"/>
                      <a:pt x="889" y="769"/>
                      <a:pt x="917" y="799"/>
                    </a:cubicBezTo>
                    <a:cubicBezTo>
                      <a:pt x="945" y="829"/>
                      <a:pt x="821" y="879"/>
                      <a:pt x="834" y="919"/>
                    </a:cubicBezTo>
                    <a:cubicBezTo>
                      <a:pt x="848" y="959"/>
                      <a:pt x="974" y="999"/>
                      <a:pt x="1002" y="1039"/>
                    </a:cubicBezTo>
                    <a:cubicBezTo>
                      <a:pt x="1029" y="1079"/>
                      <a:pt x="974" y="1109"/>
                      <a:pt x="1002" y="1159"/>
                    </a:cubicBezTo>
                    <a:cubicBezTo>
                      <a:pt x="1029" y="1209"/>
                      <a:pt x="1154" y="1279"/>
                      <a:pt x="1168" y="1339"/>
                    </a:cubicBezTo>
                    <a:cubicBezTo>
                      <a:pt x="1182" y="1399"/>
                      <a:pt x="1071" y="1469"/>
                      <a:pt x="1084" y="1519"/>
                    </a:cubicBezTo>
                    <a:cubicBezTo>
                      <a:pt x="1099" y="1569"/>
                      <a:pt x="1239" y="1589"/>
                      <a:pt x="1253" y="1639"/>
                    </a:cubicBezTo>
                    <a:cubicBezTo>
                      <a:pt x="1267" y="1689"/>
                      <a:pt x="1168" y="1759"/>
                      <a:pt x="1168" y="1819"/>
                    </a:cubicBezTo>
                    <a:cubicBezTo>
                      <a:pt x="1168" y="1879"/>
                      <a:pt x="1253" y="1949"/>
                      <a:pt x="1253" y="1999"/>
                    </a:cubicBezTo>
                    <a:cubicBezTo>
                      <a:pt x="1253" y="2049"/>
                      <a:pt x="1154" y="2069"/>
                      <a:pt x="1168" y="2119"/>
                    </a:cubicBezTo>
                    <a:cubicBezTo>
                      <a:pt x="1182" y="2169"/>
                      <a:pt x="1321" y="2239"/>
                      <a:pt x="1336" y="2299"/>
                    </a:cubicBezTo>
                    <a:cubicBezTo>
                      <a:pt x="1350" y="2359"/>
                      <a:pt x="1253" y="2409"/>
                      <a:pt x="1253" y="2479"/>
                    </a:cubicBezTo>
                    <a:cubicBezTo>
                      <a:pt x="1253" y="2549"/>
                      <a:pt x="1336" y="2669"/>
                      <a:pt x="1336" y="2719"/>
                    </a:cubicBezTo>
                    <a:cubicBezTo>
                      <a:pt x="1336" y="2769"/>
                      <a:pt x="1253" y="2739"/>
                      <a:pt x="1253" y="2779"/>
                    </a:cubicBezTo>
                    <a:cubicBezTo>
                      <a:pt x="1253" y="2819"/>
                      <a:pt x="1293" y="2889"/>
                      <a:pt x="1336" y="2959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12120" y="310788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1955" h="3109">
                    <a:moveTo>
                      <a:pt x="0" y="84"/>
                    </a:moveTo>
                    <a:cubicBezTo>
                      <a:pt x="282" y="42"/>
                      <a:pt x="564" y="0"/>
                      <a:pt x="603" y="21"/>
                    </a:cubicBezTo>
                    <a:cubicBezTo>
                      <a:pt x="645" y="42"/>
                      <a:pt x="201" y="178"/>
                      <a:pt x="240" y="210"/>
                    </a:cubicBezTo>
                    <a:cubicBezTo>
                      <a:pt x="282" y="241"/>
                      <a:pt x="805" y="178"/>
                      <a:pt x="846" y="210"/>
                    </a:cubicBezTo>
                    <a:cubicBezTo>
                      <a:pt x="886" y="241"/>
                      <a:pt x="462" y="357"/>
                      <a:pt x="483" y="399"/>
                    </a:cubicBezTo>
                    <a:cubicBezTo>
                      <a:pt x="504" y="441"/>
                      <a:pt x="927" y="430"/>
                      <a:pt x="967" y="462"/>
                    </a:cubicBezTo>
                    <a:cubicBezTo>
                      <a:pt x="1008" y="493"/>
                      <a:pt x="684" y="556"/>
                      <a:pt x="724" y="588"/>
                    </a:cubicBezTo>
                    <a:cubicBezTo>
                      <a:pt x="765" y="619"/>
                      <a:pt x="1168" y="619"/>
                      <a:pt x="1209" y="651"/>
                    </a:cubicBezTo>
                    <a:cubicBezTo>
                      <a:pt x="1249" y="682"/>
                      <a:pt x="946" y="745"/>
                      <a:pt x="967" y="777"/>
                    </a:cubicBezTo>
                    <a:cubicBezTo>
                      <a:pt x="987" y="808"/>
                      <a:pt x="1289" y="808"/>
                      <a:pt x="1330" y="840"/>
                    </a:cubicBezTo>
                    <a:cubicBezTo>
                      <a:pt x="1369" y="871"/>
                      <a:pt x="1189" y="924"/>
                      <a:pt x="1209" y="966"/>
                    </a:cubicBezTo>
                    <a:cubicBezTo>
                      <a:pt x="1228" y="1008"/>
                      <a:pt x="1411" y="1050"/>
                      <a:pt x="1450" y="1092"/>
                    </a:cubicBezTo>
                    <a:cubicBezTo>
                      <a:pt x="1490" y="1134"/>
                      <a:pt x="1411" y="1165"/>
                      <a:pt x="1450" y="1218"/>
                    </a:cubicBezTo>
                    <a:cubicBezTo>
                      <a:pt x="1490" y="1271"/>
                      <a:pt x="1673" y="1344"/>
                      <a:pt x="1693" y="1407"/>
                    </a:cubicBezTo>
                    <a:cubicBezTo>
                      <a:pt x="1712" y="1470"/>
                      <a:pt x="1552" y="1544"/>
                      <a:pt x="1571" y="1596"/>
                    </a:cubicBezTo>
                    <a:cubicBezTo>
                      <a:pt x="1591" y="1649"/>
                      <a:pt x="1793" y="1670"/>
                      <a:pt x="1814" y="1722"/>
                    </a:cubicBezTo>
                    <a:cubicBezTo>
                      <a:pt x="1834" y="1775"/>
                      <a:pt x="1693" y="1848"/>
                      <a:pt x="1693" y="1911"/>
                    </a:cubicBezTo>
                    <a:cubicBezTo>
                      <a:pt x="1693" y="1974"/>
                      <a:pt x="1814" y="2048"/>
                      <a:pt x="1814" y="2100"/>
                    </a:cubicBezTo>
                    <a:cubicBezTo>
                      <a:pt x="1814" y="2153"/>
                      <a:pt x="1673" y="2174"/>
                      <a:pt x="1693" y="2226"/>
                    </a:cubicBezTo>
                    <a:cubicBezTo>
                      <a:pt x="1712" y="2279"/>
                      <a:pt x="1915" y="2353"/>
                      <a:pt x="1934" y="2416"/>
                    </a:cubicBezTo>
                    <a:cubicBezTo>
                      <a:pt x="1955" y="2479"/>
                      <a:pt x="1814" y="2531"/>
                      <a:pt x="1814" y="2605"/>
                    </a:cubicBezTo>
                    <a:cubicBezTo>
                      <a:pt x="1814" y="2678"/>
                      <a:pt x="1934" y="2804"/>
                      <a:pt x="1934" y="2857"/>
                    </a:cubicBezTo>
                    <a:cubicBezTo>
                      <a:pt x="1934" y="2909"/>
                      <a:pt x="1814" y="2878"/>
                      <a:pt x="1814" y="2920"/>
                    </a:cubicBezTo>
                    <a:cubicBezTo>
                      <a:pt x="1814" y="2962"/>
                      <a:pt x="1874" y="3035"/>
                      <a:pt x="1934" y="3109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65920" y="2109600"/>
                <a:ext cx="1873440" cy="1315800"/>
              </a:xfrm>
              <a:custGeom>
                <a:avLst/>
                <a:gdLst/>
                <a:ahLst/>
                <a:rect l="l" t="t" r="r" b="b"/>
                <a:pathLst>
                  <a:path w="2949" h="2072">
                    <a:moveTo>
                      <a:pt x="0" y="56"/>
                    </a:moveTo>
                    <a:cubicBezTo>
                      <a:pt x="425" y="28"/>
                      <a:pt x="850" y="0"/>
                      <a:pt x="911" y="14"/>
                    </a:cubicBezTo>
                    <a:cubicBezTo>
                      <a:pt x="972" y="28"/>
                      <a:pt x="303" y="119"/>
                      <a:pt x="364" y="140"/>
                    </a:cubicBezTo>
                    <a:cubicBezTo>
                      <a:pt x="425" y="161"/>
                      <a:pt x="1215" y="119"/>
                      <a:pt x="1276" y="140"/>
                    </a:cubicBezTo>
                    <a:cubicBezTo>
                      <a:pt x="1337" y="161"/>
                      <a:pt x="699" y="238"/>
                      <a:pt x="729" y="266"/>
                    </a:cubicBezTo>
                    <a:cubicBezTo>
                      <a:pt x="759" y="294"/>
                      <a:pt x="1398" y="287"/>
                      <a:pt x="1458" y="308"/>
                    </a:cubicBezTo>
                    <a:cubicBezTo>
                      <a:pt x="1520" y="329"/>
                      <a:pt x="1033" y="371"/>
                      <a:pt x="1094" y="392"/>
                    </a:cubicBezTo>
                    <a:cubicBezTo>
                      <a:pt x="1154" y="413"/>
                      <a:pt x="1763" y="413"/>
                      <a:pt x="1824" y="434"/>
                    </a:cubicBezTo>
                    <a:cubicBezTo>
                      <a:pt x="1885" y="455"/>
                      <a:pt x="1428" y="497"/>
                      <a:pt x="1458" y="518"/>
                    </a:cubicBezTo>
                    <a:cubicBezTo>
                      <a:pt x="1490" y="539"/>
                      <a:pt x="1946" y="539"/>
                      <a:pt x="2006" y="560"/>
                    </a:cubicBezTo>
                    <a:cubicBezTo>
                      <a:pt x="2067" y="581"/>
                      <a:pt x="1794" y="616"/>
                      <a:pt x="1824" y="644"/>
                    </a:cubicBezTo>
                    <a:cubicBezTo>
                      <a:pt x="1854" y="672"/>
                      <a:pt x="2128" y="700"/>
                      <a:pt x="2189" y="728"/>
                    </a:cubicBezTo>
                    <a:cubicBezTo>
                      <a:pt x="2250" y="756"/>
                      <a:pt x="2128" y="777"/>
                      <a:pt x="2189" y="812"/>
                    </a:cubicBezTo>
                    <a:cubicBezTo>
                      <a:pt x="2250" y="847"/>
                      <a:pt x="2523" y="896"/>
                      <a:pt x="2553" y="938"/>
                    </a:cubicBezTo>
                    <a:cubicBezTo>
                      <a:pt x="2584" y="980"/>
                      <a:pt x="2341" y="1029"/>
                      <a:pt x="2371" y="1064"/>
                    </a:cubicBezTo>
                    <a:cubicBezTo>
                      <a:pt x="2402" y="1099"/>
                      <a:pt x="2705" y="1113"/>
                      <a:pt x="2736" y="1148"/>
                    </a:cubicBezTo>
                    <a:cubicBezTo>
                      <a:pt x="2766" y="1183"/>
                      <a:pt x="2553" y="1232"/>
                      <a:pt x="2553" y="1274"/>
                    </a:cubicBezTo>
                    <a:cubicBezTo>
                      <a:pt x="2553" y="1316"/>
                      <a:pt x="2736" y="1365"/>
                      <a:pt x="2736" y="1400"/>
                    </a:cubicBezTo>
                    <a:cubicBezTo>
                      <a:pt x="2736" y="1435"/>
                      <a:pt x="2523" y="1449"/>
                      <a:pt x="2553" y="1484"/>
                    </a:cubicBezTo>
                    <a:cubicBezTo>
                      <a:pt x="2584" y="1519"/>
                      <a:pt x="2888" y="1568"/>
                      <a:pt x="2918" y="1610"/>
                    </a:cubicBezTo>
                    <a:cubicBezTo>
                      <a:pt x="2949" y="1652"/>
                      <a:pt x="2736" y="1687"/>
                      <a:pt x="2736" y="1736"/>
                    </a:cubicBezTo>
                    <a:cubicBezTo>
                      <a:pt x="2736" y="1785"/>
                      <a:pt x="2918" y="1869"/>
                      <a:pt x="2918" y="1904"/>
                    </a:cubicBezTo>
                    <a:cubicBezTo>
                      <a:pt x="2918" y="1939"/>
                      <a:pt x="2736" y="1918"/>
                      <a:pt x="2736" y="1946"/>
                    </a:cubicBezTo>
                    <a:cubicBezTo>
                      <a:pt x="2736" y="1974"/>
                      <a:pt x="2827" y="2023"/>
                      <a:pt x="2918" y="2072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935760" y="71244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1287" h="2784">
                    <a:moveTo>
                      <a:pt x="0" y="75"/>
                    </a:moveTo>
                    <a:cubicBezTo>
                      <a:pt x="185" y="37"/>
                      <a:pt x="371" y="0"/>
                      <a:pt x="398" y="18"/>
                    </a:cubicBezTo>
                    <a:cubicBezTo>
                      <a:pt x="424" y="37"/>
                      <a:pt x="132" y="159"/>
                      <a:pt x="159" y="188"/>
                    </a:cubicBezTo>
                    <a:cubicBezTo>
                      <a:pt x="185" y="216"/>
                      <a:pt x="530" y="159"/>
                      <a:pt x="557" y="188"/>
                    </a:cubicBezTo>
                    <a:cubicBezTo>
                      <a:pt x="584" y="216"/>
                      <a:pt x="305" y="319"/>
                      <a:pt x="318" y="357"/>
                    </a:cubicBezTo>
                    <a:cubicBezTo>
                      <a:pt x="331" y="395"/>
                      <a:pt x="610" y="385"/>
                      <a:pt x="637" y="413"/>
                    </a:cubicBezTo>
                    <a:cubicBezTo>
                      <a:pt x="663" y="442"/>
                      <a:pt x="451" y="498"/>
                      <a:pt x="477" y="526"/>
                    </a:cubicBezTo>
                    <a:cubicBezTo>
                      <a:pt x="504" y="555"/>
                      <a:pt x="769" y="555"/>
                      <a:pt x="796" y="583"/>
                    </a:cubicBezTo>
                    <a:cubicBezTo>
                      <a:pt x="823" y="611"/>
                      <a:pt x="623" y="668"/>
                      <a:pt x="637" y="696"/>
                    </a:cubicBezTo>
                    <a:cubicBezTo>
                      <a:pt x="650" y="724"/>
                      <a:pt x="849" y="724"/>
                      <a:pt x="876" y="752"/>
                    </a:cubicBezTo>
                    <a:cubicBezTo>
                      <a:pt x="902" y="780"/>
                      <a:pt x="783" y="827"/>
                      <a:pt x="796" y="865"/>
                    </a:cubicBezTo>
                    <a:cubicBezTo>
                      <a:pt x="809" y="903"/>
                      <a:pt x="929" y="940"/>
                      <a:pt x="955" y="978"/>
                    </a:cubicBezTo>
                    <a:cubicBezTo>
                      <a:pt x="982" y="1016"/>
                      <a:pt x="929" y="1044"/>
                      <a:pt x="955" y="1091"/>
                    </a:cubicBezTo>
                    <a:cubicBezTo>
                      <a:pt x="982" y="1138"/>
                      <a:pt x="1101" y="1204"/>
                      <a:pt x="1115" y="1260"/>
                    </a:cubicBezTo>
                    <a:cubicBezTo>
                      <a:pt x="1128" y="1317"/>
                      <a:pt x="1022" y="1383"/>
                      <a:pt x="1035" y="1430"/>
                    </a:cubicBezTo>
                    <a:cubicBezTo>
                      <a:pt x="1048" y="1477"/>
                      <a:pt x="1181" y="1495"/>
                      <a:pt x="1194" y="1543"/>
                    </a:cubicBezTo>
                    <a:cubicBezTo>
                      <a:pt x="1207" y="1590"/>
                      <a:pt x="1115" y="1655"/>
                      <a:pt x="1115" y="1712"/>
                    </a:cubicBezTo>
                    <a:cubicBezTo>
                      <a:pt x="1115" y="1768"/>
                      <a:pt x="1194" y="1834"/>
                      <a:pt x="1194" y="1881"/>
                    </a:cubicBezTo>
                    <a:cubicBezTo>
                      <a:pt x="1194" y="1928"/>
                      <a:pt x="1101" y="1947"/>
                      <a:pt x="1115" y="1994"/>
                    </a:cubicBezTo>
                    <a:cubicBezTo>
                      <a:pt x="1128" y="2041"/>
                      <a:pt x="1261" y="2107"/>
                      <a:pt x="1274" y="2164"/>
                    </a:cubicBezTo>
                    <a:cubicBezTo>
                      <a:pt x="1287" y="2220"/>
                      <a:pt x="1194" y="2267"/>
                      <a:pt x="1194" y="2333"/>
                    </a:cubicBezTo>
                    <a:cubicBezTo>
                      <a:pt x="1194" y="2399"/>
                      <a:pt x="1274" y="2512"/>
                      <a:pt x="1274" y="2559"/>
                    </a:cubicBezTo>
                    <a:cubicBezTo>
                      <a:pt x="1274" y="2606"/>
                      <a:pt x="1194" y="2578"/>
                      <a:pt x="1194" y="2615"/>
                    </a:cubicBezTo>
                    <a:cubicBezTo>
                      <a:pt x="1194" y="2653"/>
                      <a:pt x="1234" y="2719"/>
                      <a:pt x="1274" y="2784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347000">
                <a:off x="4182840" y="2153880"/>
                <a:ext cx="543960" cy="1031400"/>
              </a:xfrm>
              <a:custGeom>
                <a:avLst/>
                <a:gdLst/>
                <a:ahLst/>
                <a:rect l="l" t="t" r="r" b="b"/>
                <a:pathLst>
                  <a:path w="857" h="1625">
                    <a:moveTo>
                      <a:pt x="0" y="43"/>
                    </a:moveTo>
                    <a:cubicBezTo>
                      <a:pt x="122" y="21"/>
                      <a:pt x="246" y="0"/>
                      <a:pt x="264" y="9"/>
                    </a:cubicBezTo>
                    <a:cubicBezTo>
                      <a:pt x="282" y="21"/>
                      <a:pt x="87" y="92"/>
                      <a:pt x="105" y="109"/>
                    </a:cubicBezTo>
                    <a:cubicBezTo>
                      <a:pt x="122" y="126"/>
                      <a:pt x="352" y="92"/>
                      <a:pt x="370" y="109"/>
                    </a:cubicBezTo>
                    <a:cubicBezTo>
                      <a:pt x="388" y="126"/>
                      <a:pt x="202" y="186"/>
                      <a:pt x="211" y="208"/>
                    </a:cubicBezTo>
                    <a:cubicBezTo>
                      <a:pt x="220" y="230"/>
                      <a:pt x="406" y="225"/>
                      <a:pt x="423" y="240"/>
                    </a:cubicBezTo>
                    <a:cubicBezTo>
                      <a:pt x="441" y="258"/>
                      <a:pt x="299" y="291"/>
                      <a:pt x="317" y="307"/>
                    </a:cubicBezTo>
                    <a:cubicBezTo>
                      <a:pt x="335" y="324"/>
                      <a:pt x="512" y="324"/>
                      <a:pt x="529" y="340"/>
                    </a:cubicBezTo>
                    <a:cubicBezTo>
                      <a:pt x="547" y="356"/>
                      <a:pt x="414" y="389"/>
                      <a:pt x="423" y="406"/>
                    </a:cubicBezTo>
                    <a:cubicBezTo>
                      <a:pt x="432" y="422"/>
                      <a:pt x="565" y="422"/>
                      <a:pt x="583" y="439"/>
                    </a:cubicBezTo>
                    <a:cubicBezTo>
                      <a:pt x="600" y="455"/>
                      <a:pt x="521" y="482"/>
                      <a:pt x="529" y="505"/>
                    </a:cubicBezTo>
                    <a:cubicBezTo>
                      <a:pt x="538" y="526"/>
                      <a:pt x="618" y="549"/>
                      <a:pt x="636" y="570"/>
                    </a:cubicBezTo>
                    <a:cubicBezTo>
                      <a:pt x="653" y="593"/>
                      <a:pt x="618" y="609"/>
                      <a:pt x="636" y="637"/>
                    </a:cubicBezTo>
                    <a:cubicBezTo>
                      <a:pt x="653" y="664"/>
                      <a:pt x="733" y="702"/>
                      <a:pt x="742" y="735"/>
                    </a:cubicBezTo>
                    <a:cubicBezTo>
                      <a:pt x="751" y="768"/>
                      <a:pt x="680" y="807"/>
                      <a:pt x="689" y="833"/>
                    </a:cubicBezTo>
                    <a:cubicBezTo>
                      <a:pt x="698" y="862"/>
                      <a:pt x="786" y="873"/>
                      <a:pt x="795" y="900"/>
                    </a:cubicBezTo>
                    <a:cubicBezTo>
                      <a:pt x="804" y="928"/>
                      <a:pt x="742" y="966"/>
                      <a:pt x="742" y="999"/>
                    </a:cubicBezTo>
                    <a:cubicBezTo>
                      <a:pt x="742" y="1032"/>
                      <a:pt x="795" y="1070"/>
                      <a:pt x="795" y="1098"/>
                    </a:cubicBezTo>
                    <a:cubicBezTo>
                      <a:pt x="795" y="1125"/>
                      <a:pt x="733" y="1136"/>
                      <a:pt x="742" y="1164"/>
                    </a:cubicBezTo>
                    <a:cubicBezTo>
                      <a:pt x="751" y="1191"/>
                      <a:pt x="839" y="1230"/>
                      <a:pt x="848" y="1263"/>
                    </a:cubicBezTo>
                    <a:cubicBezTo>
                      <a:pt x="857" y="1296"/>
                      <a:pt x="795" y="1323"/>
                      <a:pt x="795" y="1361"/>
                    </a:cubicBezTo>
                    <a:cubicBezTo>
                      <a:pt x="795" y="1400"/>
                      <a:pt x="848" y="1466"/>
                      <a:pt x="848" y="1493"/>
                    </a:cubicBezTo>
                    <a:cubicBezTo>
                      <a:pt x="848" y="1521"/>
                      <a:pt x="795" y="1504"/>
                      <a:pt x="795" y="1526"/>
                    </a:cubicBezTo>
                    <a:cubicBezTo>
                      <a:pt x="795" y="1548"/>
                      <a:pt x="822" y="1587"/>
                      <a:pt x="848" y="1625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8DC3-AE06-4F81-B626-806323C0B753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1829" h="3282">
                <a:moveTo>
                  <a:pt x="1829" y="385"/>
                </a:moveTo>
                <a:lnTo>
                  <a:pt x="1615" y="71"/>
                </a:lnTo>
                <a:lnTo>
                  <a:pt x="1411" y="0"/>
                </a:lnTo>
                <a:lnTo>
                  <a:pt x="69" y="2503"/>
                </a:lnTo>
                <a:lnTo>
                  <a:pt x="69" y="2874"/>
                </a:lnTo>
                <a:lnTo>
                  <a:pt x="0" y="3233"/>
                </a:lnTo>
                <a:lnTo>
                  <a:pt x="45" y="3282"/>
                </a:lnTo>
                <a:lnTo>
                  <a:pt x="276" y="2987"/>
                </a:lnTo>
                <a:lnTo>
                  <a:pt x="465" y="2874"/>
                </a:lnTo>
                <a:lnTo>
                  <a:pt x="1829" y="385"/>
                </a:lnTo>
                <a:lnTo>
                  <a:pt x="1829" y="385"/>
                </a:lnTo>
                <a:lnTo>
                  <a:pt x="1829" y="385"/>
                </a:lnTo>
                <a:lnTo>
                  <a:pt x="1829" y="385"/>
                </a:lnTo>
                <a:lnTo>
                  <a:pt x="1829" y="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ck to edit the outline text forma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indent="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 Outline Leve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indent="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rd Outline Leve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5400" indent="2959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urth Outline Leve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4" marL="5400" indent="2959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fth Outline Leve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5" marL="5400" indent="2959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xth Outline Leve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6" marL="5400" indent="2959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venth Outline Level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6625-CE4C-4914-960B-89AE3C07015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1834" h="3302">
                <a:moveTo>
                  <a:pt x="1444" y="0"/>
                </a:moveTo>
                <a:lnTo>
                  <a:pt x="81" y="2528"/>
                </a:lnTo>
                <a:lnTo>
                  <a:pt x="81" y="2854"/>
                </a:lnTo>
                <a:lnTo>
                  <a:pt x="0" y="3240"/>
                </a:lnTo>
                <a:lnTo>
                  <a:pt x="31" y="3302"/>
                </a:lnTo>
                <a:lnTo>
                  <a:pt x="265" y="2989"/>
                </a:lnTo>
                <a:lnTo>
                  <a:pt x="480" y="2871"/>
                </a:lnTo>
                <a:lnTo>
                  <a:pt x="1834" y="381"/>
                </a:lnTo>
                <a:lnTo>
                  <a:pt x="1631" y="85"/>
                </a:lnTo>
                <a:lnTo>
                  <a:pt x="1444" y="0"/>
                </a:lnTo>
                <a:lnTo>
                  <a:pt x="1444" y="0"/>
                </a:lnTo>
                <a:lnTo>
                  <a:pt x="1444" y="0"/>
                </a:lnTo>
                <a:lnTo>
                  <a:pt x="1444" y="0"/>
                </a:lnTo>
                <a:lnTo>
                  <a:pt x="1444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1615" h="2475">
                <a:moveTo>
                  <a:pt x="0" y="2214"/>
                </a:moveTo>
                <a:lnTo>
                  <a:pt x="271" y="2275"/>
                </a:lnTo>
                <a:lnTo>
                  <a:pt x="464" y="2475"/>
                </a:lnTo>
                <a:lnTo>
                  <a:pt x="1614" y="355"/>
                </a:lnTo>
                <a:lnTo>
                  <a:pt x="1335" y="73"/>
                </a:lnTo>
                <a:lnTo>
                  <a:pt x="1195" y="0"/>
                </a:lnTo>
                <a:lnTo>
                  <a:pt x="0" y="2214"/>
                </a:lnTo>
                <a:lnTo>
                  <a:pt x="0" y="2214"/>
                </a:lnTo>
                <a:lnTo>
                  <a:pt x="0" y="2214"/>
                </a:lnTo>
                <a:lnTo>
                  <a:pt x="0" y="2214"/>
                </a:lnTo>
                <a:lnTo>
                  <a:pt x="0" y="2214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722" h="1622">
                  <a:moveTo>
                    <a:pt x="1984" y="1574"/>
                  </a:moveTo>
                  <a:lnTo>
                    <a:pt x="1775" y="1382"/>
                  </a:lnTo>
                  <a:lnTo>
                    <a:pt x="1664" y="596"/>
                  </a:lnTo>
                  <a:lnTo>
                    <a:pt x="2674" y="412"/>
                  </a:lnTo>
                  <a:lnTo>
                    <a:pt x="2722" y="253"/>
                  </a:lnTo>
                  <a:lnTo>
                    <a:pt x="2624" y="124"/>
                  </a:lnTo>
                  <a:lnTo>
                    <a:pt x="1595" y="263"/>
                  </a:lnTo>
                  <a:lnTo>
                    <a:pt x="1524" y="39"/>
                  </a:lnTo>
                  <a:lnTo>
                    <a:pt x="1356" y="0"/>
                  </a:lnTo>
                  <a:lnTo>
                    <a:pt x="1198" y="35"/>
                  </a:lnTo>
                  <a:lnTo>
                    <a:pt x="1110" y="132"/>
                  </a:lnTo>
                  <a:lnTo>
                    <a:pt x="1171" y="356"/>
                  </a:lnTo>
                  <a:lnTo>
                    <a:pt x="825" y="551"/>
                  </a:lnTo>
                  <a:lnTo>
                    <a:pt x="1229" y="591"/>
                  </a:lnTo>
                  <a:lnTo>
                    <a:pt x="1390" y="1111"/>
                  </a:lnTo>
                  <a:lnTo>
                    <a:pt x="176" y="586"/>
                  </a:lnTo>
                  <a:lnTo>
                    <a:pt x="57" y="636"/>
                  </a:lnTo>
                  <a:lnTo>
                    <a:pt x="0" y="794"/>
                  </a:lnTo>
                  <a:lnTo>
                    <a:pt x="68" y="973"/>
                  </a:lnTo>
                  <a:lnTo>
                    <a:pt x="1424" y="1609"/>
                  </a:lnTo>
                  <a:lnTo>
                    <a:pt x="1723" y="1569"/>
                  </a:lnTo>
                  <a:lnTo>
                    <a:pt x="1963" y="1622"/>
                  </a:lnTo>
                  <a:lnTo>
                    <a:pt x="1984" y="1574"/>
                  </a:lnTo>
                  <a:lnTo>
                    <a:pt x="1984" y="1574"/>
                  </a:lnTo>
                  <a:lnTo>
                    <a:pt x="1984" y="1574"/>
                  </a:lnTo>
                  <a:lnTo>
                    <a:pt x="1984" y="1574"/>
                  </a:lnTo>
                  <a:lnTo>
                    <a:pt x="1984" y="1574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77" h="322">
                  <a:moveTo>
                    <a:pt x="0" y="8"/>
                  </a:moveTo>
                  <a:lnTo>
                    <a:pt x="148" y="0"/>
                  </a:lnTo>
                  <a:lnTo>
                    <a:pt x="177" y="291"/>
                  </a:lnTo>
                  <a:lnTo>
                    <a:pt x="9" y="32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980" h="1025">
                  <a:moveTo>
                    <a:pt x="171" y="0"/>
                  </a:moveTo>
                  <a:lnTo>
                    <a:pt x="1661" y="647"/>
                  </a:lnTo>
                  <a:lnTo>
                    <a:pt x="1782" y="796"/>
                  </a:lnTo>
                  <a:lnTo>
                    <a:pt x="1980" y="988"/>
                  </a:lnTo>
                  <a:lnTo>
                    <a:pt x="1953" y="1025"/>
                  </a:lnTo>
                  <a:lnTo>
                    <a:pt x="1685" y="982"/>
                  </a:lnTo>
                  <a:lnTo>
                    <a:pt x="1429" y="1012"/>
                  </a:lnTo>
                  <a:lnTo>
                    <a:pt x="52" y="372"/>
                  </a:lnTo>
                  <a:lnTo>
                    <a:pt x="0" y="187"/>
                  </a:lnTo>
                  <a:lnTo>
                    <a:pt x="57" y="38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312" h="935">
                  <a:moveTo>
                    <a:pt x="0" y="405"/>
                  </a:moveTo>
                  <a:lnTo>
                    <a:pt x="1153" y="935"/>
                  </a:lnTo>
                  <a:lnTo>
                    <a:pt x="1174" y="667"/>
                  </a:lnTo>
                  <a:lnTo>
                    <a:pt x="1312" y="528"/>
                  </a:lnTo>
                  <a:lnTo>
                    <a:pt x="97" y="0"/>
                  </a:lnTo>
                  <a:lnTo>
                    <a:pt x="0" y="158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337" h="302">
                  <a:moveTo>
                    <a:pt x="0" y="35"/>
                  </a:moveTo>
                  <a:lnTo>
                    <a:pt x="198" y="0"/>
                  </a:lnTo>
                  <a:lnTo>
                    <a:pt x="311" y="45"/>
                  </a:lnTo>
                  <a:lnTo>
                    <a:pt x="337" y="174"/>
                  </a:lnTo>
                  <a:lnTo>
                    <a:pt x="203" y="183"/>
                  </a:lnTo>
                  <a:lnTo>
                    <a:pt x="39" y="30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90" h="279">
                  <a:moveTo>
                    <a:pt x="190" y="4"/>
                  </a:moveTo>
                  <a:lnTo>
                    <a:pt x="190" y="280"/>
                  </a:lnTo>
                  <a:lnTo>
                    <a:pt x="0" y="10"/>
                  </a:lnTo>
                  <a:lnTo>
                    <a:pt x="90" y="0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90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482" h="957">
                  <a:moveTo>
                    <a:pt x="0" y="100"/>
                  </a:moveTo>
                  <a:lnTo>
                    <a:pt x="108" y="0"/>
                  </a:lnTo>
                  <a:lnTo>
                    <a:pt x="290" y="7"/>
                  </a:lnTo>
                  <a:lnTo>
                    <a:pt x="482" y="957"/>
                  </a:lnTo>
                  <a:lnTo>
                    <a:pt x="348" y="902"/>
                  </a:lnTo>
                  <a:lnTo>
                    <a:pt x="190" y="84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910" h="434">
                  <a:moveTo>
                    <a:pt x="865" y="0"/>
                  </a:moveTo>
                  <a:lnTo>
                    <a:pt x="0" y="132"/>
                  </a:lnTo>
                  <a:lnTo>
                    <a:pt x="33" y="434"/>
                  </a:lnTo>
                  <a:lnTo>
                    <a:pt x="893" y="296"/>
                  </a:lnTo>
                  <a:lnTo>
                    <a:pt x="910" y="53"/>
                  </a:lnTo>
                  <a:lnTo>
                    <a:pt x="865" y="0"/>
                  </a:lnTo>
                  <a:lnTo>
                    <a:pt x="865" y="0"/>
                  </a:lnTo>
                  <a:lnTo>
                    <a:pt x="865" y="0"/>
                  </a:lnTo>
                  <a:lnTo>
                    <a:pt x="865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89" h="167">
                  <a:moveTo>
                    <a:pt x="339" y="0"/>
                  </a:moveTo>
                  <a:lnTo>
                    <a:pt x="0" y="96"/>
                  </a:lnTo>
                  <a:lnTo>
                    <a:pt x="389" y="167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92" h="217">
                      <a:moveTo>
                        <a:pt x="0" y="132"/>
                      </a:moveTo>
                      <a:lnTo>
                        <a:pt x="142" y="12"/>
                      </a:lnTo>
                      <a:lnTo>
                        <a:pt x="267" y="0"/>
                      </a:lnTo>
                      <a:lnTo>
                        <a:pt x="366" y="33"/>
                      </a:lnTo>
                      <a:lnTo>
                        <a:pt x="392" y="113"/>
                      </a:lnTo>
                      <a:lnTo>
                        <a:pt x="209" y="83"/>
                      </a:lnTo>
                      <a:lnTo>
                        <a:pt x="92" y="125"/>
                      </a:lnTo>
                      <a:lnTo>
                        <a:pt x="16" y="217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87" h="332">
                      <a:moveTo>
                        <a:pt x="0" y="49"/>
                      </a:moveTo>
                      <a:lnTo>
                        <a:pt x="200" y="332"/>
                      </a:lnTo>
                      <a:lnTo>
                        <a:pt x="287" y="313"/>
                      </a:lnTo>
                      <a:lnTo>
                        <a:pt x="278" y="21"/>
                      </a:lnTo>
                      <a:lnTo>
                        <a:pt x="207" y="0"/>
                      </a:lnTo>
                      <a:lnTo>
                        <a:pt x="223" y="246"/>
                      </a:lnTo>
                      <a:lnTo>
                        <a:pt x="88" y="4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107" h="292">
                      <a:moveTo>
                        <a:pt x="0" y="23"/>
                      </a:moveTo>
                      <a:lnTo>
                        <a:pt x="44" y="116"/>
                      </a:lnTo>
                      <a:lnTo>
                        <a:pt x="54" y="192"/>
                      </a:lnTo>
                      <a:lnTo>
                        <a:pt x="33" y="292"/>
                      </a:lnTo>
                      <a:lnTo>
                        <a:pt x="98" y="275"/>
                      </a:lnTo>
                      <a:lnTo>
                        <a:pt x="107" y="144"/>
                      </a:lnTo>
                      <a:lnTo>
                        <a:pt x="56" y="0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487" h="624">
                    <a:moveTo>
                      <a:pt x="125" y="0"/>
                    </a:moveTo>
                    <a:lnTo>
                      <a:pt x="1487" y="612"/>
                    </a:lnTo>
                    <a:lnTo>
                      <a:pt x="1345" y="624"/>
                    </a:lnTo>
                    <a:lnTo>
                      <a:pt x="0" y="33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609" h="369">
                    <a:moveTo>
                      <a:pt x="15" y="42"/>
                    </a:moveTo>
                    <a:lnTo>
                      <a:pt x="197" y="82"/>
                    </a:lnTo>
                    <a:lnTo>
                      <a:pt x="402" y="171"/>
                    </a:lnTo>
                    <a:lnTo>
                      <a:pt x="548" y="303"/>
                    </a:lnTo>
                    <a:lnTo>
                      <a:pt x="405" y="287"/>
                    </a:lnTo>
                    <a:lnTo>
                      <a:pt x="171" y="182"/>
                    </a:lnTo>
                    <a:lnTo>
                      <a:pt x="60" y="99"/>
                    </a:lnTo>
                    <a:lnTo>
                      <a:pt x="132" y="203"/>
                    </a:lnTo>
                    <a:lnTo>
                      <a:pt x="338" y="337"/>
                    </a:lnTo>
                    <a:lnTo>
                      <a:pt x="579" y="369"/>
                    </a:lnTo>
                    <a:lnTo>
                      <a:pt x="609" y="279"/>
                    </a:lnTo>
                    <a:lnTo>
                      <a:pt x="489" y="149"/>
                    </a:lnTo>
                    <a:lnTo>
                      <a:pt x="211" y="21"/>
                    </a:lnTo>
                    <a:lnTo>
                      <a:pt x="0" y="0"/>
                    </a:lnTo>
                    <a:lnTo>
                      <a:pt x="15" y="42"/>
                    </a:lnTo>
                    <a:lnTo>
                      <a:pt x="15" y="42"/>
                    </a:lnTo>
                    <a:lnTo>
                      <a:pt x="15" y="42"/>
                    </a:lnTo>
                    <a:lnTo>
                      <a:pt x="15" y="42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67" h="594">
                    <a:moveTo>
                      <a:pt x="30" y="0"/>
                    </a:moveTo>
                    <a:lnTo>
                      <a:pt x="114" y="31"/>
                    </a:lnTo>
                    <a:lnTo>
                      <a:pt x="100" y="238"/>
                    </a:lnTo>
                    <a:lnTo>
                      <a:pt x="133" y="407"/>
                    </a:lnTo>
                    <a:lnTo>
                      <a:pt x="267" y="561"/>
                    </a:lnTo>
                    <a:lnTo>
                      <a:pt x="121" y="594"/>
                    </a:lnTo>
                    <a:lnTo>
                      <a:pt x="37" y="428"/>
                    </a:lnTo>
                    <a:lnTo>
                      <a:pt x="0" y="7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87" h="217">
                      <a:moveTo>
                        <a:pt x="137" y="0"/>
                      </a:moveTo>
                      <a:lnTo>
                        <a:pt x="49" y="82"/>
                      </a:lnTo>
                      <a:lnTo>
                        <a:pt x="0" y="217"/>
                      </a:lnTo>
                      <a:lnTo>
                        <a:pt x="100" y="201"/>
                      </a:lnTo>
                      <a:lnTo>
                        <a:pt x="128" y="105"/>
                      </a:lnTo>
                      <a:lnTo>
                        <a:pt x="187" y="33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2105" h="1099">
                      <a:moveTo>
                        <a:pt x="195" y="0"/>
                      </a:moveTo>
                      <a:lnTo>
                        <a:pt x="77" y="64"/>
                      </a:lnTo>
                      <a:lnTo>
                        <a:pt x="0" y="260"/>
                      </a:lnTo>
                      <a:lnTo>
                        <a:pt x="83" y="447"/>
                      </a:lnTo>
                      <a:lnTo>
                        <a:pt x="1477" y="1083"/>
                      </a:lnTo>
                      <a:lnTo>
                        <a:pt x="1776" y="1043"/>
                      </a:lnTo>
                      <a:lnTo>
                        <a:pt x="2019" y="1099"/>
                      </a:lnTo>
                      <a:lnTo>
                        <a:pt x="2105" y="1009"/>
                      </a:lnTo>
                      <a:lnTo>
                        <a:pt x="1877" y="829"/>
                      </a:lnTo>
                      <a:lnTo>
                        <a:pt x="1785" y="639"/>
                      </a:lnTo>
                      <a:lnTo>
                        <a:pt x="1710" y="658"/>
                      </a:lnTo>
                      <a:lnTo>
                        <a:pt x="1798" y="829"/>
                      </a:lnTo>
                      <a:lnTo>
                        <a:pt x="1972" y="1012"/>
                      </a:lnTo>
                      <a:lnTo>
                        <a:pt x="1766" y="983"/>
                      </a:lnTo>
                      <a:lnTo>
                        <a:pt x="1523" y="1017"/>
                      </a:lnTo>
                      <a:lnTo>
                        <a:pt x="1568" y="812"/>
                      </a:lnTo>
                      <a:lnTo>
                        <a:pt x="1671" y="672"/>
                      </a:lnTo>
                      <a:lnTo>
                        <a:pt x="1551" y="689"/>
                      </a:lnTo>
                      <a:lnTo>
                        <a:pt x="1456" y="822"/>
                      </a:lnTo>
                      <a:lnTo>
                        <a:pt x="1423" y="988"/>
                      </a:lnTo>
                      <a:lnTo>
                        <a:pt x="131" y="387"/>
                      </a:lnTo>
                      <a:lnTo>
                        <a:pt x="99" y="268"/>
                      </a:lnTo>
                      <a:lnTo>
                        <a:pt x="128" y="118"/>
                      </a:lnTo>
                      <a:lnTo>
                        <a:pt x="271" y="0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195" y="0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99" h="417">
                      <a:moveTo>
                        <a:pt x="145" y="0"/>
                      </a:moveTo>
                      <a:lnTo>
                        <a:pt x="23" y="132"/>
                      </a:lnTo>
                      <a:lnTo>
                        <a:pt x="0" y="286"/>
                      </a:lnTo>
                      <a:lnTo>
                        <a:pt x="41" y="391"/>
                      </a:lnTo>
                      <a:lnTo>
                        <a:pt x="117" y="417"/>
                      </a:lnTo>
                      <a:lnTo>
                        <a:pt x="94" y="191"/>
                      </a:lnTo>
                      <a:lnTo>
                        <a:pt x="199" y="21"/>
                      </a:lnTo>
                      <a:lnTo>
                        <a:pt x="145" y="0"/>
                      </a:lnTo>
                      <a:lnTo>
                        <a:pt x="145" y="0"/>
                      </a:lnTo>
                      <a:lnTo>
                        <a:pt x="145" y="0"/>
                      </a:lnTo>
                      <a:lnTo>
                        <a:pt x="145" y="0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804" h="1485">
                      <a:moveTo>
                        <a:pt x="273" y="1119"/>
                      </a:moveTo>
                      <a:lnTo>
                        <a:pt x="0" y="155"/>
                      </a:lnTo>
                      <a:lnTo>
                        <a:pt x="101" y="45"/>
                      </a:lnTo>
                      <a:lnTo>
                        <a:pt x="323" y="0"/>
                      </a:lnTo>
                      <a:lnTo>
                        <a:pt x="500" y="70"/>
                      </a:lnTo>
                      <a:lnTo>
                        <a:pt x="804" y="1485"/>
                      </a:lnTo>
                      <a:lnTo>
                        <a:pt x="695" y="1362"/>
                      </a:lnTo>
                      <a:lnTo>
                        <a:pt x="445" y="120"/>
                      </a:lnTo>
                      <a:lnTo>
                        <a:pt x="283" y="76"/>
                      </a:lnTo>
                      <a:lnTo>
                        <a:pt x="149" y="91"/>
                      </a:lnTo>
                      <a:lnTo>
                        <a:pt x="95" y="176"/>
                      </a:lnTo>
                      <a:lnTo>
                        <a:pt x="383" y="1154"/>
                      </a:lnTo>
                      <a:lnTo>
                        <a:pt x="273" y="1119"/>
                      </a:lnTo>
                      <a:lnTo>
                        <a:pt x="273" y="1119"/>
                      </a:lnTo>
                      <a:lnTo>
                        <a:pt x="273" y="1119"/>
                      </a:lnTo>
                      <a:lnTo>
                        <a:pt x="273" y="1119"/>
                      </a:lnTo>
                      <a:lnTo>
                        <a:pt x="273" y="11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239" h="630">
                      <a:moveTo>
                        <a:pt x="0" y="31"/>
                      </a:moveTo>
                      <a:lnTo>
                        <a:pt x="93" y="242"/>
                      </a:lnTo>
                      <a:lnTo>
                        <a:pt x="141" y="397"/>
                      </a:lnTo>
                      <a:lnTo>
                        <a:pt x="145" y="630"/>
                      </a:lnTo>
                      <a:lnTo>
                        <a:pt x="240" y="630"/>
                      </a:lnTo>
                      <a:lnTo>
                        <a:pt x="231" y="450"/>
                      </a:lnTo>
                      <a:lnTo>
                        <a:pt x="202" y="260"/>
                      </a:lnTo>
                      <a:lnTo>
                        <a:pt x="123" y="73"/>
                      </a:lnTo>
                      <a:lnTo>
                        <a:pt x="78" y="0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487" h="337">
                      <a:moveTo>
                        <a:pt x="371" y="0"/>
                      </a:moveTo>
                      <a:lnTo>
                        <a:pt x="321" y="21"/>
                      </a:lnTo>
                      <a:lnTo>
                        <a:pt x="316" y="82"/>
                      </a:lnTo>
                      <a:lnTo>
                        <a:pt x="0" y="212"/>
                      </a:lnTo>
                      <a:lnTo>
                        <a:pt x="0" y="278"/>
                      </a:lnTo>
                      <a:lnTo>
                        <a:pt x="355" y="283"/>
                      </a:lnTo>
                      <a:lnTo>
                        <a:pt x="400" y="337"/>
                      </a:lnTo>
                      <a:lnTo>
                        <a:pt x="487" y="333"/>
                      </a:lnTo>
                      <a:lnTo>
                        <a:pt x="478" y="238"/>
                      </a:lnTo>
                      <a:lnTo>
                        <a:pt x="144" y="220"/>
                      </a:lnTo>
                      <a:lnTo>
                        <a:pt x="416" y="111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1177" h="529">
                      <a:moveTo>
                        <a:pt x="0" y="163"/>
                      </a:moveTo>
                      <a:lnTo>
                        <a:pt x="1079" y="0"/>
                      </a:lnTo>
                      <a:lnTo>
                        <a:pt x="1158" y="97"/>
                      </a:lnTo>
                      <a:lnTo>
                        <a:pt x="1177" y="226"/>
                      </a:lnTo>
                      <a:lnTo>
                        <a:pt x="1129" y="352"/>
                      </a:lnTo>
                      <a:lnTo>
                        <a:pt x="71" y="529"/>
                      </a:lnTo>
                      <a:lnTo>
                        <a:pt x="66" y="480"/>
                      </a:lnTo>
                      <a:lnTo>
                        <a:pt x="1079" y="302"/>
                      </a:lnTo>
                      <a:lnTo>
                        <a:pt x="1117" y="181"/>
                      </a:lnTo>
                      <a:lnTo>
                        <a:pt x="1051" y="71"/>
                      </a:lnTo>
                      <a:lnTo>
                        <a:pt x="0" y="231"/>
                      </a:lnTo>
                      <a:lnTo>
                        <a:pt x="0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612" h="215">
                      <a:moveTo>
                        <a:pt x="0" y="155"/>
                      </a:moveTo>
                      <a:lnTo>
                        <a:pt x="82" y="215"/>
                      </a:lnTo>
                      <a:lnTo>
                        <a:pt x="278" y="204"/>
                      </a:lnTo>
                      <a:lnTo>
                        <a:pt x="524" y="144"/>
                      </a:lnTo>
                      <a:lnTo>
                        <a:pt x="612" y="52"/>
                      </a:lnTo>
                      <a:lnTo>
                        <a:pt x="556" y="2"/>
                      </a:lnTo>
                      <a:lnTo>
                        <a:pt x="317" y="0"/>
                      </a:lnTo>
                      <a:lnTo>
                        <a:pt x="138" y="14"/>
                      </a:lnTo>
                      <a:lnTo>
                        <a:pt x="18" y="94"/>
                      </a:lnTo>
                      <a:lnTo>
                        <a:pt x="140" y="116"/>
                      </a:lnTo>
                      <a:lnTo>
                        <a:pt x="345" y="63"/>
                      </a:lnTo>
                      <a:lnTo>
                        <a:pt x="522" y="63"/>
                      </a:lnTo>
                      <a:lnTo>
                        <a:pt x="336" y="136"/>
                      </a:lnTo>
                      <a:lnTo>
                        <a:pt x="178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2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512" h="3567">
                  <a:moveTo>
                    <a:pt x="459" y="3447"/>
                  </a:moveTo>
                  <a:lnTo>
                    <a:pt x="252" y="3216"/>
                  </a:lnTo>
                  <a:lnTo>
                    <a:pt x="211" y="3039"/>
                  </a:lnTo>
                  <a:lnTo>
                    <a:pt x="246" y="2776"/>
                  </a:lnTo>
                  <a:lnTo>
                    <a:pt x="392" y="2458"/>
                  </a:lnTo>
                  <a:lnTo>
                    <a:pt x="425" y="2261"/>
                  </a:lnTo>
                  <a:lnTo>
                    <a:pt x="392" y="2127"/>
                  </a:lnTo>
                  <a:lnTo>
                    <a:pt x="266" y="2030"/>
                  </a:lnTo>
                  <a:lnTo>
                    <a:pt x="239" y="1908"/>
                  </a:lnTo>
                  <a:lnTo>
                    <a:pt x="285" y="1733"/>
                  </a:lnTo>
                  <a:lnTo>
                    <a:pt x="491" y="1262"/>
                  </a:lnTo>
                  <a:lnTo>
                    <a:pt x="512" y="1032"/>
                  </a:lnTo>
                  <a:lnTo>
                    <a:pt x="459" y="778"/>
                  </a:lnTo>
                  <a:lnTo>
                    <a:pt x="285" y="658"/>
                  </a:lnTo>
                  <a:lnTo>
                    <a:pt x="132" y="460"/>
                  </a:lnTo>
                  <a:lnTo>
                    <a:pt x="0" y="0"/>
                  </a:lnTo>
                  <a:lnTo>
                    <a:pt x="19" y="417"/>
                  </a:lnTo>
                  <a:lnTo>
                    <a:pt x="118" y="668"/>
                  </a:lnTo>
                  <a:lnTo>
                    <a:pt x="252" y="822"/>
                  </a:lnTo>
                  <a:lnTo>
                    <a:pt x="398" y="909"/>
                  </a:lnTo>
                  <a:lnTo>
                    <a:pt x="406" y="1140"/>
                  </a:lnTo>
                  <a:lnTo>
                    <a:pt x="331" y="1382"/>
                  </a:lnTo>
                  <a:lnTo>
                    <a:pt x="159" y="1811"/>
                  </a:lnTo>
                  <a:lnTo>
                    <a:pt x="152" y="2085"/>
                  </a:lnTo>
                  <a:lnTo>
                    <a:pt x="312" y="2238"/>
                  </a:lnTo>
                  <a:lnTo>
                    <a:pt x="305" y="2381"/>
                  </a:lnTo>
                  <a:lnTo>
                    <a:pt x="165" y="2678"/>
                  </a:lnTo>
                  <a:lnTo>
                    <a:pt x="106" y="2963"/>
                  </a:lnTo>
                  <a:lnTo>
                    <a:pt x="159" y="3270"/>
                  </a:lnTo>
                  <a:lnTo>
                    <a:pt x="285" y="3434"/>
                  </a:lnTo>
                  <a:lnTo>
                    <a:pt x="445" y="3567"/>
                  </a:lnTo>
                  <a:lnTo>
                    <a:pt x="459" y="3447"/>
                  </a:lnTo>
                  <a:lnTo>
                    <a:pt x="459" y="3447"/>
                  </a:lnTo>
                  <a:lnTo>
                    <a:pt x="459" y="3447"/>
                  </a:lnTo>
                  <a:lnTo>
                    <a:pt x="459" y="3447"/>
                  </a:lnTo>
                  <a:lnTo>
                    <a:pt x="459" y="3447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512" h="4082">
                  <a:moveTo>
                    <a:pt x="459" y="3944"/>
                  </a:moveTo>
                  <a:lnTo>
                    <a:pt x="252" y="3681"/>
                  </a:lnTo>
                  <a:lnTo>
                    <a:pt x="211" y="3478"/>
                  </a:lnTo>
                  <a:lnTo>
                    <a:pt x="246" y="3177"/>
                  </a:lnTo>
                  <a:lnTo>
                    <a:pt x="392" y="2813"/>
                  </a:lnTo>
                  <a:lnTo>
                    <a:pt x="425" y="2587"/>
                  </a:lnTo>
                  <a:lnTo>
                    <a:pt x="392" y="2434"/>
                  </a:lnTo>
                  <a:lnTo>
                    <a:pt x="266" y="2323"/>
                  </a:lnTo>
                  <a:lnTo>
                    <a:pt x="239" y="2183"/>
                  </a:lnTo>
                  <a:lnTo>
                    <a:pt x="285" y="1983"/>
                  </a:lnTo>
                  <a:lnTo>
                    <a:pt x="491" y="1444"/>
                  </a:lnTo>
                  <a:lnTo>
                    <a:pt x="512" y="1181"/>
                  </a:lnTo>
                  <a:lnTo>
                    <a:pt x="459" y="891"/>
                  </a:lnTo>
                  <a:lnTo>
                    <a:pt x="285" y="753"/>
                  </a:lnTo>
                  <a:lnTo>
                    <a:pt x="132" y="527"/>
                  </a:lnTo>
                  <a:lnTo>
                    <a:pt x="0" y="0"/>
                  </a:lnTo>
                  <a:lnTo>
                    <a:pt x="19" y="477"/>
                  </a:lnTo>
                  <a:lnTo>
                    <a:pt x="118" y="765"/>
                  </a:lnTo>
                  <a:lnTo>
                    <a:pt x="252" y="941"/>
                  </a:lnTo>
                  <a:lnTo>
                    <a:pt x="398" y="1041"/>
                  </a:lnTo>
                  <a:lnTo>
                    <a:pt x="406" y="1305"/>
                  </a:lnTo>
                  <a:lnTo>
                    <a:pt x="331" y="1582"/>
                  </a:lnTo>
                  <a:lnTo>
                    <a:pt x="159" y="2072"/>
                  </a:lnTo>
                  <a:lnTo>
                    <a:pt x="152" y="2386"/>
                  </a:lnTo>
                  <a:lnTo>
                    <a:pt x="312" y="2561"/>
                  </a:lnTo>
                  <a:lnTo>
                    <a:pt x="305" y="2724"/>
                  </a:lnTo>
                  <a:lnTo>
                    <a:pt x="165" y="3064"/>
                  </a:lnTo>
                  <a:lnTo>
                    <a:pt x="106" y="3391"/>
                  </a:lnTo>
                  <a:lnTo>
                    <a:pt x="159" y="3742"/>
                  </a:lnTo>
                  <a:lnTo>
                    <a:pt x="285" y="3929"/>
                  </a:lnTo>
                  <a:lnTo>
                    <a:pt x="445" y="4082"/>
                  </a:lnTo>
                  <a:lnTo>
                    <a:pt x="459" y="3944"/>
                  </a:lnTo>
                  <a:lnTo>
                    <a:pt x="459" y="3944"/>
                  </a:lnTo>
                  <a:lnTo>
                    <a:pt x="459" y="3944"/>
                  </a:lnTo>
                  <a:lnTo>
                    <a:pt x="459" y="3944"/>
                  </a:lnTo>
                  <a:lnTo>
                    <a:pt x="459" y="3944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171560" y="-87120"/>
            <a:ext cx="2427120" cy="2246760"/>
            <a:chOff x="7171560" y="-87120"/>
            <a:chExt cx="2427120" cy="2246760"/>
          </a:xfrm>
        </p:grpSpPr>
        <p:grpSp>
          <p:nvGrpSpPr>
            <p:cNvPr id="631" name=""/>
            <p:cNvGrpSpPr/>
            <p:nvPr/>
          </p:nvGrpSpPr>
          <p:grpSpPr>
            <a:xfrm>
              <a:off x="7171560" y="-87120"/>
              <a:ext cx="2427120" cy="2246760"/>
              <a:chOff x="7171560" y="-87120"/>
              <a:chExt cx="2427120" cy="2246760"/>
            </a:xfrm>
          </p:grpSpPr>
          <p:sp>
            <p:nvSpPr>
              <p:cNvPr id="632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155" h="719">
                    <a:moveTo>
                      <a:pt x="77" y="8"/>
                    </a:moveTo>
                    <a:lnTo>
                      <a:pt x="80" y="305"/>
                    </a:lnTo>
                    <a:lnTo>
                      <a:pt x="0" y="719"/>
                    </a:lnTo>
                    <a:lnTo>
                      <a:pt x="49" y="704"/>
                    </a:lnTo>
                    <a:lnTo>
                      <a:pt x="137" y="335"/>
                    </a:lnTo>
                    <a:lnTo>
                      <a:pt x="155" y="0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7171560" y="-87120"/>
                <a:ext cx="2427120" cy="2246760"/>
                <a:chOff x="7171560" y="-87120"/>
                <a:chExt cx="2427120" cy="2246760"/>
              </a:xfrm>
            </p:grpSpPr>
            <p:sp>
              <p:nvSpPr>
                <p:cNvPr id="634" name="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382" h="312">
                      <a:moveTo>
                        <a:pt x="0" y="0"/>
                      </a:moveTo>
                      <a:lnTo>
                        <a:pt x="188" y="164"/>
                      </a:lnTo>
                      <a:lnTo>
                        <a:pt x="316" y="312"/>
                      </a:lnTo>
                      <a:lnTo>
                        <a:pt x="382" y="125"/>
                      </a:lnTo>
                      <a:lnTo>
                        <a:pt x="227" y="8"/>
                      </a:lnTo>
                      <a:lnTo>
                        <a:pt x="293" y="164"/>
                      </a:lnTo>
                      <a:lnTo>
                        <a:pt x="82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8427200">
                  <a:off x="8012880" y="526680"/>
                  <a:ext cx="428760" cy="695160"/>
                </a:xfrm>
                <a:custGeom>
                  <a:avLst/>
                  <a:gdLst/>
                  <a:ahLst/>
                  <a:rect l="l" t="t" r="r" b="b"/>
                  <a:pathLst>
                    <a:path w="675" h="1094">
                      <a:moveTo>
                        <a:pt x="469" y="114"/>
                      </a:moveTo>
                      <a:lnTo>
                        <a:pt x="307" y="313"/>
                      </a:lnTo>
                      <a:lnTo>
                        <a:pt x="102" y="678"/>
                      </a:lnTo>
                      <a:lnTo>
                        <a:pt x="0" y="980"/>
                      </a:lnTo>
                      <a:lnTo>
                        <a:pt x="36" y="1094"/>
                      </a:lnTo>
                      <a:lnTo>
                        <a:pt x="165" y="1069"/>
                      </a:lnTo>
                      <a:lnTo>
                        <a:pt x="366" y="813"/>
                      </a:lnTo>
                      <a:lnTo>
                        <a:pt x="554" y="475"/>
                      </a:lnTo>
                      <a:lnTo>
                        <a:pt x="655" y="240"/>
                      </a:lnTo>
                      <a:lnTo>
                        <a:pt x="674" y="74"/>
                      </a:lnTo>
                      <a:lnTo>
                        <a:pt x="619" y="0"/>
                      </a:lnTo>
                      <a:lnTo>
                        <a:pt x="529" y="57"/>
                      </a:lnTo>
                      <a:lnTo>
                        <a:pt x="614" y="95"/>
                      </a:lnTo>
                      <a:lnTo>
                        <a:pt x="554" y="313"/>
                      </a:lnTo>
                      <a:lnTo>
                        <a:pt x="437" y="583"/>
                      </a:lnTo>
                      <a:lnTo>
                        <a:pt x="221" y="897"/>
                      </a:lnTo>
                      <a:lnTo>
                        <a:pt x="73" y="991"/>
                      </a:lnTo>
                      <a:lnTo>
                        <a:pt x="84" y="839"/>
                      </a:lnTo>
                      <a:lnTo>
                        <a:pt x="276" y="448"/>
                      </a:lnTo>
                      <a:lnTo>
                        <a:pt x="527" y="105"/>
                      </a:lnTo>
                      <a:lnTo>
                        <a:pt x="469" y="114"/>
                      </a:lnTo>
                      <a:lnTo>
                        <a:pt x="469" y="114"/>
                      </a:lnTo>
                      <a:lnTo>
                        <a:pt x="469" y="114"/>
                      </a:lnTo>
                      <a:lnTo>
                        <a:pt x="469" y="114"/>
                      </a:lnTo>
                      <a:lnTo>
                        <a:pt x="469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8427200">
                  <a:off x="7713360" y="29016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1264" h="2244">
                      <a:moveTo>
                        <a:pt x="1226" y="0"/>
                      </a:moveTo>
                      <a:lnTo>
                        <a:pt x="0" y="2245"/>
                      </a:lnTo>
                      <a:lnTo>
                        <a:pt x="121" y="2181"/>
                      </a:lnTo>
                      <a:lnTo>
                        <a:pt x="1265" y="54"/>
                      </a:lnTo>
                      <a:lnTo>
                        <a:pt x="1226" y="0"/>
                      </a:lnTo>
                      <a:lnTo>
                        <a:pt x="1226" y="0"/>
                      </a:lnTo>
                      <a:lnTo>
                        <a:pt x="1226" y="0"/>
                      </a:lnTo>
                      <a:lnTo>
                        <a:pt x="1226" y="0"/>
                      </a:lnTo>
                      <a:lnTo>
                        <a:pt x="12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8427200">
                  <a:off x="7783560" y="-3024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1895" h="3359">
                      <a:moveTo>
                        <a:pt x="59" y="2534"/>
                      </a:moveTo>
                      <a:lnTo>
                        <a:pt x="246" y="2525"/>
                      </a:lnTo>
                      <a:lnTo>
                        <a:pt x="516" y="2681"/>
                      </a:lnTo>
                      <a:lnTo>
                        <a:pt x="428" y="2509"/>
                      </a:lnTo>
                      <a:lnTo>
                        <a:pt x="230" y="2408"/>
                      </a:lnTo>
                      <a:lnTo>
                        <a:pt x="400" y="2422"/>
                      </a:lnTo>
                      <a:lnTo>
                        <a:pt x="615" y="2556"/>
                      </a:lnTo>
                      <a:lnTo>
                        <a:pt x="1800" y="374"/>
                      </a:lnTo>
                      <a:lnTo>
                        <a:pt x="1623" y="131"/>
                      </a:lnTo>
                      <a:lnTo>
                        <a:pt x="1454" y="0"/>
                      </a:lnTo>
                      <a:lnTo>
                        <a:pt x="1695" y="69"/>
                      </a:lnTo>
                      <a:lnTo>
                        <a:pt x="1894" y="381"/>
                      </a:lnTo>
                      <a:lnTo>
                        <a:pt x="521" y="2916"/>
                      </a:lnTo>
                      <a:lnTo>
                        <a:pt x="302" y="3039"/>
                      </a:lnTo>
                      <a:lnTo>
                        <a:pt x="65" y="3360"/>
                      </a:lnTo>
                      <a:lnTo>
                        <a:pt x="0" y="3267"/>
                      </a:lnTo>
                      <a:lnTo>
                        <a:pt x="82" y="3235"/>
                      </a:lnTo>
                      <a:lnTo>
                        <a:pt x="235" y="3016"/>
                      </a:lnTo>
                      <a:lnTo>
                        <a:pt x="101" y="2916"/>
                      </a:lnTo>
                      <a:lnTo>
                        <a:pt x="101" y="2828"/>
                      </a:lnTo>
                      <a:lnTo>
                        <a:pt x="258" y="2938"/>
                      </a:lnTo>
                      <a:lnTo>
                        <a:pt x="258" y="2838"/>
                      </a:lnTo>
                      <a:lnTo>
                        <a:pt x="379" y="2868"/>
                      </a:lnTo>
                      <a:lnTo>
                        <a:pt x="267" y="2742"/>
                      </a:lnTo>
                      <a:lnTo>
                        <a:pt x="395" y="2728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lnTo>
                        <a:pt x="59" y="25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8427200">
                  <a:off x="8412480" y="14245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422" h="305">
                      <a:moveTo>
                        <a:pt x="0" y="71"/>
                      </a:moveTo>
                      <a:lnTo>
                        <a:pt x="160" y="94"/>
                      </a:lnTo>
                      <a:lnTo>
                        <a:pt x="401" y="305"/>
                      </a:lnTo>
                      <a:lnTo>
                        <a:pt x="422" y="256"/>
                      </a:lnTo>
                      <a:lnTo>
                        <a:pt x="280" y="101"/>
                      </a:lnTo>
                      <a:lnTo>
                        <a:pt x="16" y="0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18427200">
                  <a:off x="8342280" y="12819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452" h="359">
                      <a:moveTo>
                        <a:pt x="0" y="67"/>
                      </a:moveTo>
                      <a:lnTo>
                        <a:pt x="214" y="132"/>
                      </a:lnTo>
                      <a:lnTo>
                        <a:pt x="403" y="360"/>
                      </a:lnTo>
                      <a:lnTo>
                        <a:pt x="452" y="262"/>
                      </a:lnTo>
                      <a:lnTo>
                        <a:pt x="265" y="100"/>
                      </a:lnTo>
                      <a:lnTo>
                        <a:pt x="44" y="0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452" h="367">
                      <a:moveTo>
                        <a:pt x="0" y="69"/>
                      </a:moveTo>
                      <a:lnTo>
                        <a:pt x="199" y="124"/>
                      </a:lnTo>
                      <a:lnTo>
                        <a:pt x="409" y="367"/>
                      </a:lnTo>
                      <a:lnTo>
                        <a:pt x="452" y="280"/>
                      </a:lnTo>
                      <a:lnTo>
                        <a:pt x="248" y="77"/>
                      </a:lnTo>
                      <a:lnTo>
                        <a:pt x="34" y="0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8427200">
                  <a:off x="7854840" y="224280"/>
                  <a:ext cx="282600" cy="217080"/>
                </a:xfrm>
                <a:custGeom>
                  <a:avLst/>
                  <a:gdLst/>
                  <a:ahLst/>
                  <a:rect l="l" t="t" r="r" b="b"/>
                  <a:pathLst>
                    <a:path w="444" h="342">
                      <a:moveTo>
                        <a:pt x="0" y="77"/>
                      </a:moveTo>
                      <a:lnTo>
                        <a:pt x="170" y="116"/>
                      </a:lnTo>
                      <a:lnTo>
                        <a:pt x="417" y="342"/>
                      </a:lnTo>
                      <a:lnTo>
                        <a:pt x="445" y="273"/>
                      </a:lnTo>
                      <a:lnTo>
                        <a:pt x="192" y="46"/>
                      </a:lnTo>
                      <a:lnTo>
                        <a:pt x="26" y="0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14009" h="10677">
                <a:moveTo>
                  <a:pt x="9920" y="0"/>
                </a:moveTo>
                <a:lnTo>
                  <a:pt x="0" y="2876"/>
                </a:lnTo>
                <a:lnTo>
                  <a:pt x="7624" y="10677"/>
                </a:lnTo>
                <a:lnTo>
                  <a:pt x="14009" y="3319"/>
                </a:lnTo>
                <a:lnTo>
                  <a:pt x="9920" y="0"/>
                </a:lnTo>
                <a:lnTo>
                  <a:pt x="9920" y="0"/>
                </a:lnTo>
                <a:lnTo>
                  <a:pt x="9920" y="0"/>
                </a:lnTo>
                <a:lnTo>
                  <a:pt x="9920" y="0"/>
                </a:lnTo>
                <a:lnTo>
                  <a:pt x="9920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187-9452-4AFD-9A89-58E1420C954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85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5625" h="2542">
                  <a:moveTo>
                    <a:pt x="5625" y="2425"/>
                  </a:moveTo>
                  <a:lnTo>
                    <a:pt x="5029" y="1952"/>
                  </a:lnTo>
                  <a:lnTo>
                    <a:pt x="3938" y="1289"/>
                  </a:lnTo>
                  <a:lnTo>
                    <a:pt x="502" y="0"/>
                  </a:lnTo>
                  <a:lnTo>
                    <a:pt x="162" y="122"/>
                  </a:lnTo>
                  <a:lnTo>
                    <a:pt x="0" y="509"/>
                  </a:lnTo>
                  <a:lnTo>
                    <a:pt x="198" y="951"/>
                  </a:lnTo>
                  <a:lnTo>
                    <a:pt x="4038" y="2511"/>
                  </a:lnTo>
                  <a:lnTo>
                    <a:pt x="4881" y="2413"/>
                  </a:lnTo>
                  <a:lnTo>
                    <a:pt x="5561" y="2542"/>
                  </a:lnTo>
                  <a:lnTo>
                    <a:pt x="5625" y="2425"/>
                  </a:lnTo>
                  <a:lnTo>
                    <a:pt x="5625" y="2425"/>
                  </a:lnTo>
                  <a:lnTo>
                    <a:pt x="5625" y="2425"/>
                  </a:lnTo>
                  <a:lnTo>
                    <a:pt x="5625" y="2425"/>
                  </a:lnTo>
                  <a:lnTo>
                    <a:pt x="5625" y="242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5610" h="2517">
                  <a:moveTo>
                    <a:pt x="484" y="0"/>
                  </a:moveTo>
                  <a:lnTo>
                    <a:pt x="4708" y="1591"/>
                  </a:lnTo>
                  <a:lnTo>
                    <a:pt x="5051" y="1956"/>
                  </a:lnTo>
                  <a:lnTo>
                    <a:pt x="5610" y="2428"/>
                  </a:lnTo>
                  <a:lnTo>
                    <a:pt x="5535" y="2517"/>
                  </a:lnTo>
                  <a:lnTo>
                    <a:pt x="4775" y="2413"/>
                  </a:lnTo>
                  <a:lnTo>
                    <a:pt x="4050" y="2486"/>
                  </a:lnTo>
                  <a:lnTo>
                    <a:pt x="148" y="913"/>
                  </a:lnTo>
                  <a:lnTo>
                    <a:pt x="0" y="459"/>
                  </a:lnTo>
                  <a:lnTo>
                    <a:pt x="162" y="98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3719" h="2297">
                  <a:moveTo>
                    <a:pt x="0" y="999"/>
                  </a:moveTo>
                  <a:lnTo>
                    <a:pt x="3268" y="2297"/>
                  </a:lnTo>
                  <a:lnTo>
                    <a:pt x="3328" y="1642"/>
                  </a:lnTo>
                  <a:lnTo>
                    <a:pt x="3719" y="1297"/>
                  </a:lnTo>
                  <a:lnTo>
                    <a:pt x="275" y="0"/>
                  </a:lnTo>
                  <a:lnTo>
                    <a:pt x="0" y="390"/>
                  </a:lnTo>
                  <a:lnTo>
                    <a:pt x="0" y="999"/>
                  </a:lnTo>
                  <a:lnTo>
                    <a:pt x="0" y="999"/>
                  </a:lnTo>
                  <a:lnTo>
                    <a:pt x="0" y="999"/>
                  </a:lnTo>
                  <a:lnTo>
                    <a:pt x="0" y="999"/>
                  </a:lnTo>
                  <a:lnTo>
                    <a:pt x="0" y="999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89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530" h="534">
                    <a:moveTo>
                      <a:pt x="388" y="0"/>
                    </a:moveTo>
                    <a:lnTo>
                      <a:pt x="140" y="203"/>
                    </a:lnTo>
                    <a:lnTo>
                      <a:pt x="0" y="534"/>
                    </a:lnTo>
                    <a:lnTo>
                      <a:pt x="282" y="494"/>
                    </a:lnTo>
                    <a:lnTo>
                      <a:pt x="363" y="258"/>
                    </a:lnTo>
                    <a:lnTo>
                      <a:pt x="529" y="82"/>
                    </a:lnTo>
                    <a:lnTo>
                      <a:pt x="388" y="0"/>
                    </a:lnTo>
                    <a:lnTo>
                      <a:pt x="388" y="0"/>
                    </a:lnTo>
                    <a:lnTo>
                      <a:pt x="388" y="0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5964" h="2702">
                    <a:moveTo>
                      <a:pt x="551" y="0"/>
                    </a:moveTo>
                    <a:lnTo>
                      <a:pt x="222" y="159"/>
                    </a:lnTo>
                    <a:lnTo>
                      <a:pt x="0" y="638"/>
                    </a:lnTo>
                    <a:lnTo>
                      <a:pt x="236" y="1099"/>
                    </a:lnTo>
                    <a:lnTo>
                      <a:pt x="4185" y="2662"/>
                    </a:lnTo>
                    <a:lnTo>
                      <a:pt x="5035" y="2564"/>
                    </a:lnTo>
                    <a:lnTo>
                      <a:pt x="5723" y="2702"/>
                    </a:lnTo>
                    <a:lnTo>
                      <a:pt x="5964" y="2481"/>
                    </a:lnTo>
                    <a:lnTo>
                      <a:pt x="5319" y="2039"/>
                    </a:lnTo>
                    <a:lnTo>
                      <a:pt x="5057" y="1572"/>
                    </a:lnTo>
                    <a:lnTo>
                      <a:pt x="4848" y="1618"/>
                    </a:lnTo>
                    <a:lnTo>
                      <a:pt x="5096" y="2039"/>
                    </a:lnTo>
                    <a:lnTo>
                      <a:pt x="5588" y="2487"/>
                    </a:lnTo>
                    <a:lnTo>
                      <a:pt x="5004" y="2416"/>
                    </a:lnTo>
                    <a:lnTo>
                      <a:pt x="4316" y="2499"/>
                    </a:lnTo>
                    <a:lnTo>
                      <a:pt x="4444" y="1996"/>
                    </a:lnTo>
                    <a:lnTo>
                      <a:pt x="4738" y="1652"/>
                    </a:lnTo>
                    <a:lnTo>
                      <a:pt x="4394" y="1695"/>
                    </a:lnTo>
                    <a:lnTo>
                      <a:pt x="4125" y="2020"/>
                    </a:lnTo>
                    <a:lnTo>
                      <a:pt x="4033" y="2429"/>
                    </a:lnTo>
                    <a:lnTo>
                      <a:pt x="378" y="952"/>
                    </a:lnTo>
                    <a:lnTo>
                      <a:pt x="282" y="660"/>
                    </a:lnTo>
                    <a:lnTo>
                      <a:pt x="363" y="291"/>
                    </a:lnTo>
                    <a:lnTo>
                      <a:pt x="767" y="0"/>
                    </a:lnTo>
                    <a:lnTo>
                      <a:pt x="551" y="0"/>
                    </a:lnTo>
                    <a:lnTo>
                      <a:pt x="551" y="0"/>
                    </a:lnTo>
                    <a:lnTo>
                      <a:pt x="551" y="0"/>
                    </a:lnTo>
                    <a:lnTo>
                      <a:pt x="551" y="0"/>
                    </a:lnTo>
                    <a:lnTo>
                      <a:pt x="5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4215" h="1534">
                    <a:moveTo>
                      <a:pt x="354" y="0"/>
                    </a:moveTo>
                    <a:lnTo>
                      <a:pt x="4215" y="1503"/>
                    </a:lnTo>
                    <a:lnTo>
                      <a:pt x="3811" y="1534"/>
                    </a:lnTo>
                    <a:lnTo>
                      <a:pt x="0" y="81"/>
                    </a:lnTo>
                    <a:lnTo>
                      <a:pt x="354" y="0"/>
                    </a:lnTo>
                    <a:lnTo>
                      <a:pt x="354" y="0"/>
                    </a:lnTo>
                    <a:lnTo>
                      <a:pt x="354" y="0"/>
                    </a:lnTo>
                    <a:lnTo>
                      <a:pt x="354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567" h="1024">
                    <a:moveTo>
                      <a:pt x="411" y="0"/>
                    </a:moveTo>
                    <a:lnTo>
                      <a:pt x="67" y="323"/>
                    </a:lnTo>
                    <a:lnTo>
                      <a:pt x="0" y="702"/>
                    </a:lnTo>
                    <a:lnTo>
                      <a:pt x="117" y="960"/>
                    </a:lnTo>
                    <a:lnTo>
                      <a:pt x="333" y="1024"/>
                    </a:lnTo>
                    <a:lnTo>
                      <a:pt x="269" y="471"/>
                    </a:lnTo>
                    <a:lnTo>
                      <a:pt x="567" y="52"/>
                    </a:lnTo>
                    <a:lnTo>
                      <a:pt x="411" y="0"/>
                    </a:lnTo>
                    <a:lnTo>
                      <a:pt x="411" y="0"/>
                    </a:lnTo>
                    <a:lnTo>
                      <a:pt x="411" y="0"/>
                    </a:lnTo>
                    <a:lnTo>
                      <a:pt x="411" y="0"/>
                    </a:lnTo>
                    <a:lnTo>
                      <a:pt x="4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1727" h="910">
                    <a:moveTo>
                      <a:pt x="49" y="104"/>
                    </a:moveTo>
                    <a:lnTo>
                      <a:pt x="565" y="202"/>
                    </a:lnTo>
                    <a:lnTo>
                      <a:pt x="1144" y="421"/>
                    </a:lnTo>
                    <a:lnTo>
                      <a:pt x="1554" y="747"/>
                    </a:lnTo>
                    <a:lnTo>
                      <a:pt x="1151" y="707"/>
                    </a:lnTo>
                    <a:lnTo>
                      <a:pt x="491" y="448"/>
                    </a:lnTo>
                    <a:lnTo>
                      <a:pt x="176" y="245"/>
                    </a:lnTo>
                    <a:lnTo>
                      <a:pt x="378" y="501"/>
                    </a:lnTo>
                    <a:lnTo>
                      <a:pt x="960" y="830"/>
                    </a:lnTo>
                    <a:lnTo>
                      <a:pt x="1646" y="910"/>
                    </a:lnTo>
                    <a:lnTo>
                      <a:pt x="1727" y="688"/>
                    </a:lnTo>
                    <a:lnTo>
                      <a:pt x="1391" y="368"/>
                    </a:lnTo>
                    <a:lnTo>
                      <a:pt x="600" y="52"/>
                    </a:lnTo>
                    <a:lnTo>
                      <a:pt x="0" y="0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9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"/>
          <p:cNvGrpSpPr/>
          <p:nvPr/>
        </p:nvGrpSpPr>
        <p:grpSpPr>
          <a:xfrm>
            <a:off x="7795800" y="4318200"/>
            <a:ext cx="980280" cy="1159920"/>
            <a:chOff x="7795800" y="4318200"/>
            <a:chExt cx="980280" cy="1159920"/>
          </a:xfrm>
        </p:grpSpPr>
        <p:sp>
          <p:nvSpPr>
            <p:cNvPr id="695" name="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1572" h="732">
                  <a:moveTo>
                    <a:pt x="1572" y="698"/>
                  </a:moveTo>
                  <a:lnTo>
                    <a:pt x="1406" y="562"/>
                  </a:lnTo>
                  <a:lnTo>
                    <a:pt x="1101" y="371"/>
                  </a:lnTo>
                  <a:lnTo>
                    <a:pt x="140" y="0"/>
                  </a:lnTo>
                  <a:lnTo>
                    <a:pt x="45" y="35"/>
                  </a:lnTo>
                  <a:lnTo>
                    <a:pt x="0" y="146"/>
                  </a:lnTo>
                  <a:lnTo>
                    <a:pt x="55" y="274"/>
                  </a:lnTo>
                  <a:lnTo>
                    <a:pt x="1128" y="723"/>
                  </a:lnTo>
                  <a:lnTo>
                    <a:pt x="1364" y="695"/>
                  </a:lnTo>
                  <a:lnTo>
                    <a:pt x="1554" y="732"/>
                  </a:lnTo>
                  <a:lnTo>
                    <a:pt x="1572" y="698"/>
                  </a:lnTo>
                  <a:lnTo>
                    <a:pt x="1572" y="698"/>
                  </a:lnTo>
                  <a:lnTo>
                    <a:pt x="1572" y="698"/>
                  </a:lnTo>
                  <a:lnTo>
                    <a:pt x="1572" y="698"/>
                  </a:lnTo>
                  <a:lnTo>
                    <a:pt x="1572" y="698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320000">
              <a:off x="7767360" y="4638600"/>
              <a:ext cx="995400" cy="459000"/>
            </a:xfrm>
            <a:custGeom>
              <a:avLst/>
              <a:gdLst/>
              <a:ahLst/>
              <a:rect l="l" t="t" r="r" b="b"/>
              <a:pathLst>
                <a:path w="1567" h="722">
                  <a:moveTo>
                    <a:pt x="135" y="0"/>
                  </a:moveTo>
                  <a:lnTo>
                    <a:pt x="1315" y="457"/>
                  </a:lnTo>
                  <a:lnTo>
                    <a:pt x="1411" y="561"/>
                  </a:lnTo>
                  <a:lnTo>
                    <a:pt x="1567" y="697"/>
                  </a:lnTo>
                  <a:lnTo>
                    <a:pt x="1546" y="722"/>
                  </a:lnTo>
                  <a:lnTo>
                    <a:pt x="1334" y="692"/>
                  </a:lnTo>
                  <a:lnTo>
                    <a:pt x="1131" y="714"/>
                  </a:lnTo>
                  <a:lnTo>
                    <a:pt x="41" y="262"/>
                  </a:lnTo>
                  <a:lnTo>
                    <a:pt x="0" y="131"/>
                  </a:lnTo>
                  <a:lnTo>
                    <a:pt x="45" y="2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320000">
              <a:off x="7936920" y="4622760"/>
              <a:ext cx="660240" cy="422280"/>
            </a:xfrm>
            <a:custGeom>
              <a:avLst/>
              <a:gdLst/>
              <a:ahLst/>
              <a:rect l="l" t="t" r="r" b="b"/>
              <a:pathLst>
                <a:path w="1040" h="665">
                  <a:moveTo>
                    <a:pt x="0" y="289"/>
                  </a:moveTo>
                  <a:lnTo>
                    <a:pt x="914" y="665"/>
                  </a:lnTo>
                  <a:lnTo>
                    <a:pt x="930" y="474"/>
                  </a:lnTo>
                  <a:lnTo>
                    <a:pt x="1040" y="374"/>
                  </a:lnTo>
                  <a:lnTo>
                    <a:pt x="77" y="0"/>
                  </a:lnTo>
                  <a:lnTo>
                    <a:pt x="0" y="112"/>
                  </a:lnTo>
                  <a:lnTo>
                    <a:pt x="0" y="289"/>
                  </a:lnTo>
                  <a:lnTo>
                    <a:pt x="0" y="289"/>
                  </a:lnTo>
                  <a:lnTo>
                    <a:pt x="0" y="289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7795800" y="4318200"/>
              <a:ext cx="980280" cy="1159920"/>
              <a:chOff x="7795800" y="4318200"/>
              <a:chExt cx="980280" cy="1159920"/>
            </a:xfrm>
          </p:grpSpPr>
          <p:sp>
            <p:nvSpPr>
              <p:cNvPr id="699" name="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47" h="152">
                    <a:moveTo>
                      <a:pt x="108" y="0"/>
                    </a:moveTo>
                    <a:lnTo>
                      <a:pt x="39" y="58"/>
                    </a:lnTo>
                    <a:lnTo>
                      <a:pt x="0" y="152"/>
                    </a:lnTo>
                    <a:lnTo>
                      <a:pt x="78" y="141"/>
                    </a:lnTo>
                    <a:lnTo>
                      <a:pt x="101" y="74"/>
                    </a:lnTo>
                    <a:lnTo>
                      <a:pt x="147" y="23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7320000">
                <a:off x="7756560" y="4650840"/>
                <a:ext cx="1058760" cy="494280"/>
              </a:xfrm>
              <a:custGeom>
                <a:avLst/>
                <a:gdLst/>
                <a:ahLst/>
                <a:rect l="l" t="t" r="r" b="b"/>
                <a:pathLst>
                  <a:path w="1667" h="777">
                    <a:moveTo>
                      <a:pt x="154" y="0"/>
                    </a:moveTo>
                    <a:lnTo>
                      <a:pt x="62" y="45"/>
                    </a:lnTo>
                    <a:lnTo>
                      <a:pt x="0" y="183"/>
                    </a:lnTo>
                    <a:lnTo>
                      <a:pt x="66" y="316"/>
                    </a:lnTo>
                    <a:lnTo>
                      <a:pt x="1170" y="766"/>
                    </a:lnTo>
                    <a:lnTo>
                      <a:pt x="1408" y="737"/>
                    </a:lnTo>
                    <a:lnTo>
                      <a:pt x="1600" y="777"/>
                    </a:lnTo>
                    <a:lnTo>
                      <a:pt x="1667" y="713"/>
                    </a:lnTo>
                    <a:lnTo>
                      <a:pt x="1487" y="586"/>
                    </a:lnTo>
                    <a:lnTo>
                      <a:pt x="1414" y="452"/>
                    </a:lnTo>
                    <a:lnTo>
                      <a:pt x="1355" y="465"/>
                    </a:lnTo>
                    <a:lnTo>
                      <a:pt x="1424" y="586"/>
                    </a:lnTo>
                    <a:lnTo>
                      <a:pt x="1562" y="715"/>
                    </a:lnTo>
                    <a:lnTo>
                      <a:pt x="1399" y="695"/>
                    </a:lnTo>
                    <a:lnTo>
                      <a:pt x="1207" y="719"/>
                    </a:lnTo>
                    <a:lnTo>
                      <a:pt x="1242" y="574"/>
                    </a:lnTo>
                    <a:lnTo>
                      <a:pt x="1324" y="475"/>
                    </a:lnTo>
                    <a:lnTo>
                      <a:pt x="1228" y="487"/>
                    </a:lnTo>
                    <a:lnTo>
                      <a:pt x="1153" y="581"/>
                    </a:lnTo>
                    <a:lnTo>
                      <a:pt x="1127" y="698"/>
                    </a:lnTo>
                    <a:lnTo>
                      <a:pt x="105" y="273"/>
                    </a:lnTo>
                    <a:lnTo>
                      <a:pt x="79" y="189"/>
                    </a:lnTo>
                    <a:lnTo>
                      <a:pt x="101" y="83"/>
                    </a:lnTo>
                    <a:lnTo>
                      <a:pt x="21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7320000">
                <a:off x="803592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79" h="440">
                    <a:moveTo>
                      <a:pt x="99" y="0"/>
                    </a:moveTo>
                    <a:lnTo>
                      <a:pt x="1179" y="431"/>
                    </a:lnTo>
                    <a:lnTo>
                      <a:pt x="1066" y="440"/>
                    </a:lnTo>
                    <a:lnTo>
                      <a:pt x="0" y="21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7320000">
                <a:off x="8514720" y="4559040"/>
                <a:ext cx="99720" cy="189360"/>
              </a:xfrm>
              <a:custGeom>
                <a:avLst/>
                <a:gdLst/>
                <a:ahLst/>
                <a:rect l="l" t="t" r="r" b="b"/>
                <a:pathLst>
                  <a:path w="157" h="297">
                    <a:moveTo>
                      <a:pt x="114" y="0"/>
                    </a:moveTo>
                    <a:lnTo>
                      <a:pt x="18" y="93"/>
                    </a:lnTo>
                    <a:lnTo>
                      <a:pt x="0" y="203"/>
                    </a:lnTo>
                    <a:lnTo>
                      <a:pt x="32" y="278"/>
                    </a:lnTo>
                    <a:lnTo>
                      <a:pt x="92" y="297"/>
                    </a:lnTo>
                    <a:lnTo>
                      <a:pt x="74" y="136"/>
                    </a:lnTo>
                    <a:lnTo>
                      <a:pt x="157" y="1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7320000">
                <a:off x="8156160" y="4764240"/>
                <a:ext cx="304920" cy="165240"/>
              </a:xfrm>
              <a:custGeom>
                <a:avLst/>
                <a:gdLst/>
                <a:ahLst/>
                <a:rect l="l" t="t" r="r" b="b"/>
                <a:pathLst>
                  <a:path w="479" h="259">
                    <a:moveTo>
                      <a:pt x="12" y="29"/>
                    </a:moveTo>
                    <a:lnTo>
                      <a:pt x="156" y="56"/>
                    </a:lnTo>
                    <a:lnTo>
                      <a:pt x="317" y="120"/>
                    </a:lnTo>
                    <a:lnTo>
                      <a:pt x="432" y="213"/>
                    </a:lnTo>
                    <a:lnTo>
                      <a:pt x="319" y="201"/>
                    </a:lnTo>
                    <a:lnTo>
                      <a:pt x="136" y="127"/>
                    </a:lnTo>
                    <a:lnTo>
                      <a:pt x="48" y="70"/>
                    </a:lnTo>
                    <a:lnTo>
                      <a:pt x="104" y="142"/>
                    </a:lnTo>
                    <a:lnTo>
                      <a:pt x="266" y="236"/>
                    </a:lnTo>
                    <a:lnTo>
                      <a:pt x="457" y="259"/>
                    </a:lnTo>
                    <a:lnTo>
                      <a:pt x="480" y="195"/>
                    </a:lnTo>
                    <a:lnTo>
                      <a:pt x="386" y="105"/>
                    </a:lnTo>
                    <a:lnTo>
                      <a:pt x="166" y="14"/>
                    </a:lnTo>
                    <a:lnTo>
                      <a:pt x="0" y="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10720" h="1147">
                <a:moveTo>
                  <a:pt x="0" y="0"/>
                </a:moveTo>
                <a:cubicBezTo>
                  <a:pt x="339" y="107"/>
                  <a:pt x="1390" y="579"/>
                  <a:pt x="2040" y="639"/>
                </a:cubicBezTo>
                <a:cubicBezTo>
                  <a:pt x="2689" y="699"/>
                  <a:pt x="3467" y="310"/>
                  <a:pt x="3900" y="360"/>
                </a:cubicBezTo>
                <a:cubicBezTo>
                  <a:pt x="4332" y="409"/>
                  <a:pt x="4312" y="937"/>
                  <a:pt x="4640" y="939"/>
                </a:cubicBezTo>
                <a:cubicBezTo>
                  <a:pt x="4967" y="942"/>
                  <a:pt x="5160" y="347"/>
                  <a:pt x="5860" y="380"/>
                </a:cubicBezTo>
                <a:cubicBezTo>
                  <a:pt x="6560" y="412"/>
                  <a:pt x="8030" y="1147"/>
                  <a:pt x="8840" y="1140"/>
                </a:cubicBezTo>
                <a:cubicBezTo>
                  <a:pt x="9650" y="1132"/>
                  <a:pt x="10412" y="469"/>
                  <a:pt x="10720" y="339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1400" h="599">
                <a:moveTo>
                  <a:pt x="0" y="80"/>
                </a:moveTo>
                <a:cubicBezTo>
                  <a:pt x="255" y="221"/>
                  <a:pt x="511" y="366"/>
                  <a:pt x="700" y="359"/>
                </a:cubicBezTo>
                <a:cubicBezTo>
                  <a:pt x="886" y="351"/>
                  <a:pt x="1002" y="0"/>
                  <a:pt x="1120" y="38"/>
                </a:cubicBezTo>
                <a:cubicBezTo>
                  <a:pt x="1237" y="80"/>
                  <a:pt x="1351" y="501"/>
                  <a:pt x="1400" y="599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24000" y="765000"/>
            <a:ext cx="8305560" cy="100836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Times New Roman"/>
                <a:ea typeface="黑体"/>
              </a:rPr>
              <a:t>中国人失掉自信力了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72360" y="299736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鲁  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059280" y="260280"/>
            <a:ext cx="2881080" cy="6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黑体"/>
              </a:rPr>
              <a:t>五、梳理结构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10" name=""/>
          <p:cNvSpPr/>
          <p:nvPr/>
        </p:nvSpPr>
        <p:spPr>
          <a:xfrm>
            <a:off x="179280" y="119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以上可知，全文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自然段，可分为三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68360" y="213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一部分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-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：摆敌论，树靶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8360" y="292428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二部分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-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：驳敌论，打靶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两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9640" y="5805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：得结论，立观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16000" y="4292640"/>
            <a:ext cx="6480360" cy="52056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层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-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：针对敌论，直接反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16000" y="5054760"/>
            <a:ext cx="6408720" cy="52056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层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-8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：树立观点，间接驳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849320" y="4111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初读课文，整体感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1197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方的错误观点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为什么认为它是错误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正面提出的观点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依据是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428920" y="2724120"/>
            <a:ext cx="35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精读课文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分析文章的思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1157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敌的论点论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2514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95280" y="42051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-152280" y="6110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6172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8514" y="21600"/>
                </a:lnTo>
                <a:lnTo>
                  <a:pt x="18514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14" y="7181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8514" y="21600"/>
                </a:lnTo>
                <a:lnTo>
                  <a:pt x="18514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14" y="7181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8514" y="21600"/>
                </a:lnTo>
                <a:lnTo>
                  <a:pt x="18514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14" y="7181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8514" y="21600"/>
                </a:lnTo>
                <a:lnTo>
                  <a:pt x="18514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14" y="7181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81880" y="228600"/>
            <a:ext cx="457200" cy="60948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609480"/>
              <a:gd name="textAreaBottom" fmla="*/ 58104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50" y="27439"/>
                </a:lnTo>
                <a:lnTo>
                  <a:pt x="20250" y="135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350" y="27439"/>
                </a:lnTo>
                <a:lnTo>
                  <a:pt x="20250" y="2743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350" y="1350"/>
                </a:lnTo>
                <a:lnTo>
                  <a:pt x="1350" y="27439"/>
                </a:lnTo>
                <a:close/>
              </a:path>
              <a:path fill="darken" w="21600" h="28789">
                <a:moveTo>
                  <a:pt x="10800" y="7394"/>
                </a:moveTo>
                <a:lnTo>
                  <a:pt x="13390" y="10019"/>
                </a:lnTo>
                <a:lnTo>
                  <a:pt x="13390" y="8269"/>
                </a:lnTo>
                <a:lnTo>
                  <a:pt x="15175" y="8269"/>
                </a:lnTo>
                <a:lnTo>
                  <a:pt x="15175" y="11804"/>
                </a:lnTo>
                <a:lnTo>
                  <a:pt x="17800" y="14394"/>
                </a:lnTo>
                <a:lnTo>
                  <a:pt x="16138" y="14394"/>
                </a:lnTo>
                <a:lnTo>
                  <a:pt x="16138" y="21622"/>
                </a:lnTo>
                <a:lnTo>
                  <a:pt x="5463" y="21622"/>
                </a:lnTo>
                <a:lnTo>
                  <a:pt x="5463" y="14394"/>
                </a:lnTo>
                <a:lnTo>
                  <a:pt x="3800" y="14394"/>
                </a:lnTo>
                <a:close/>
              </a:path>
              <a:path fill="darkenLess" w="21600" h="28789">
                <a:moveTo>
                  <a:pt x="13390" y="10019"/>
                </a:moveTo>
                <a:lnTo>
                  <a:pt x="13390" y="8269"/>
                </a:lnTo>
                <a:lnTo>
                  <a:pt x="15175" y="8269"/>
                </a:lnTo>
                <a:lnTo>
                  <a:pt x="15175" y="11804"/>
                </a:lnTo>
                <a:close/>
              </a:path>
              <a:path fill="darkenLess" w="21600" h="28789">
                <a:moveTo>
                  <a:pt x="9873" y="17912"/>
                </a:moveTo>
                <a:lnTo>
                  <a:pt x="11728" y="17912"/>
                </a:lnTo>
                <a:lnTo>
                  <a:pt x="11728" y="21622"/>
                </a:lnTo>
                <a:lnTo>
                  <a:pt x="16138" y="21622"/>
                </a:lnTo>
                <a:lnTo>
                  <a:pt x="16138" y="14394"/>
                </a:lnTo>
                <a:lnTo>
                  <a:pt x="5463" y="14394"/>
                </a:lnTo>
                <a:lnTo>
                  <a:pt x="5463" y="21622"/>
                </a:lnTo>
                <a:lnTo>
                  <a:pt x="9873" y="2162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621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676520" y="289548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371600" y="4572000"/>
            <a:ext cx="16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6477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3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3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3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3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684360" y="227664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对文中五处“中国人”的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参考课后练习二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5280" y="260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研读赏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8600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1280" y="141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有并不失掉自信力的中国人在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请你根据自己的了解为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段中“……的人”注解举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514600" y="3200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514600" y="402264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514600" y="478476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514600" y="5546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4400" y="32274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4400" y="39736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73480" y="4827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73480" y="5573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68360" y="119700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388880" y="74916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１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中国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失掉自信力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792080" y="141300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２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有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慨叹曰：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中国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失掉了失信力了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黑体"/>
              </a:rPr>
              <a:t>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151720" y="357336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３、那也只能说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中国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曾经有过“他信力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54840" y="4941720"/>
            <a:ext cx="32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４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中国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现在是发展着“自欺力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003640" y="765000"/>
            <a:ext cx="2880000" cy="5205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所有中国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9640" y="2060640"/>
            <a:ext cx="151128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有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51440" y="2060640"/>
            <a:ext cx="316764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国民党反动统治者及御用的文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4000" y="2924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中国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195640" y="2852640"/>
            <a:ext cx="2614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全体中国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5280" y="4221000"/>
            <a:ext cx="694368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指国民党反动统治者及其御用的文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9640" y="5516640"/>
            <a:ext cx="715968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指国民党反动统治者及其御用的文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0920" y="189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品读语句，辨析下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色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词语的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8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822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683440" y="52560"/>
            <a:ext cx="375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５、要论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中国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，必须不被搽在表面的自欺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人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脂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所诓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2708280"/>
            <a:ext cx="50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６、这就是中国的“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脊梁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4005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７、自信力的有无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状元宰相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的文章不足为据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8520" y="1249200"/>
            <a:ext cx="820800" cy="520560"/>
          </a:xfrm>
          <a:prstGeom prst="rect">
            <a:avLst/>
          </a:prstGeom>
          <a:solidFill>
            <a:srgbClr val="99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Verdana"/>
                <a:ea typeface="黑体"/>
              </a:rPr>
              <a:t>中国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08000" y="1197000"/>
            <a:ext cx="58755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少数顽固分子之外的中国人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6720" y="1968480"/>
            <a:ext cx="607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脂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35280" y="1916280"/>
            <a:ext cx="451008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指表面的文字、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070720" y="3284640"/>
            <a:ext cx="402120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指脚踏实地地为民族的进步而奋斗的人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98360" y="4653000"/>
            <a:ext cx="359460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Verdana"/>
                <a:ea typeface="黑体"/>
              </a:rPr>
              <a:t>指当时国民党反动政客及御用的文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4000" y="5373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８、要自己去看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地底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8360" y="5911920"/>
            <a:ext cx="8424720" cy="520560"/>
          </a:xfrm>
          <a:prstGeom prst="rect">
            <a:avLst/>
          </a:prstGeom>
          <a:solidFill>
            <a:srgbClr val="9900cc">
              <a:alpha val="23000"/>
            </a:srgbClr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黑体"/>
              </a:rPr>
              <a:t>指当时还处于地下斗争状态的中国共产党及其领导下的革命力量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95280" y="404640"/>
            <a:ext cx="6481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最后一段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出下列词语在文中的意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脂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筋骨和脊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状元宰相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底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0920" y="20606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美化、伪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059280" y="28526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精神、品质、人格、操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90920" y="364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国民党反动政客及御用文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79640" y="45813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民群众的生活和斗争，暗指当时还处于地下斗争的中国共产党及其领导下的革命力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765000"/>
            <a:ext cx="7848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课文说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我们从古以来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就有埋头苦干的人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有拼命硬干的人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有为民请命的人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有舍身求法的人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他们是中国的脊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.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这一类人们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在上世纪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3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年代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有确信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不自欺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在前仆后继的战斗，在今天，他们是什么样的人呢？请说一段话，作一番介绍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268360" y="2421000"/>
            <a:ext cx="2951280" cy="703440"/>
          </a:xfrm>
          <a:prstGeom prst="rect">
            <a:avLst/>
          </a:prstGeom>
          <a:solidFill>
            <a:srgbClr val="ffffff">
              <a:alpha val="59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立论、驳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26920" y="3573360"/>
            <a:ext cx="7345440" cy="642600"/>
          </a:xfrm>
          <a:prstGeom prst="rect">
            <a:avLst/>
          </a:prstGeom>
          <a:solidFill>
            <a:srgbClr val="ffffff">
              <a:alpha val="89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6680" indent="-1336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驳论：用正确的观点披露或驳斥 错误的观点，从而进一步阐明和确立正确的观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0159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201680" y="134136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、论证方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0"/>
            <a:ext cx="50036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驳论文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5580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驳论文知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95280" y="1905120"/>
            <a:ext cx="693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08000" y="1676520"/>
            <a:ext cx="3527280" cy="1008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驳论方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42920" y="2489040"/>
            <a:ext cx="335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、驳论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00600" y="2133720"/>
            <a:ext cx="1523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直接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00600" y="2895480"/>
            <a:ext cx="1447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间接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00720" y="2438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040 h 838440"/>
              <a:gd name="textAreaBottom" fmla="*/ 81540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2"/>
                  <a:pt x="10800" y="1923"/>
                </a:cubicBezTo>
                <a:lnTo>
                  <a:pt x="10800" y="7486"/>
                </a:lnTo>
                <a:cubicBezTo>
                  <a:pt x="10800" y="8448"/>
                  <a:pt x="5400" y="9409"/>
                  <a:pt x="0" y="9409"/>
                </a:cubicBezTo>
                <a:cubicBezTo>
                  <a:pt x="5400" y="9409"/>
                  <a:pt x="10800" y="10371"/>
                  <a:pt x="10800" y="11332"/>
                </a:cubicBezTo>
                <a:lnTo>
                  <a:pt x="10800" y="19677"/>
                </a:lnTo>
                <a:cubicBezTo>
                  <a:pt x="10800" y="2063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00200" y="3809880"/>
            <a:ext cx="3124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116000" y="3213000"/>
            <a:ext cx="32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、驳论据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3933720"/>
            <a:ext cx="3353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、驳论证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0320" y="4653000"/>
            <a:ext cx="3504960" cy="642600"/>
          </a:xfrm>
          <a:prstGeom prst="rect">
            <a:avLst/>
          </a:prstGeom>
          <a:solidFill>
            <a:srgbClr val="5dd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批驳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68360" y="5373720"/>
            <a:ext cx="7199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先破后立、边破边立、先立后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rId2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685800"/>
              <a:gd name="textAreaBottom" fmla="*/ 64800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50" y="22953"/>
                </a:lnTo>
                <a:lnTo>
                  <a:pt x="20250" y="135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350" y="22953"/>
                </a:lnTo>
                <a:lnTo>
                  <a:pt x="20250" y="2295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2953"/>
                </a:lnTo>
                <a:close/>
              </a:path>
              <a:path fill="darken" w="21600" h="24303">
                <a:moveTo>
                  <a:pt x="10800" y="5152"/>
                </a:moveTo>
                <a:lnTo>
                  <a:pt x="13390" y="7777"/>
                </a:lnTo>
                <a:lnTo>
                  <a:pt x="13390" y="6027"/>
                </a:lnTo>
                <a:lnTo>
                  <a:pt x="15175" y="6027"/>
                </a:lnTo>
                <a:lnTo>
                  <a:pt x="15175" y="9562"/>
                </a:lnTo>
                <a:lnTo>
                  <a:pt x="17800" y="12152"/>
                </a:lnTo>
                <a:lnTo>
                  <a:pt x="16138" y="12152"/>
                </a:lnTo>
                <a:lnTo>
                  <a:pt x="16138" y="19379"/>
                </a:lnTo>
                <a:lnTo>
                  <a:pt x="5463" y="19379"/>
                </a:lnTo>
                <a:lnTo>
                  <a:pt x="5463" y="12152"/>
                </a:lnTo>
                <a:lnTo>
                  <a:pt x="3800" y="12152"/>
                </a:lnTo>
                <a:close/>
              </a:path>
              <a:path fill="darkenLess" w="21600" h="24303">
                <a:moveTo>
                  <a:pt x="13390" y="7777"/>
                </a:moveTo>
                <a:lnTo>
                  <a:pt x="13390" y="6027"/>
                </a:lnTo>
                <a:lnTo>
                  <a:pt x="15175" y="6027"/>
                </a:lnTo>
                <a:lnTo>
                  <a:pt x="15175" y="9562"/>
                </a:lnTo>
                <a:close/>
              </a:path>
              <a:path fill="darkenLess" w="21600" h="24303">
                <a:moveTo>
                  <a:pt x="9873" y="15669"/>
                </a:moveTo>
                <a:lnTo>
                  <a:pt x="11728" y="15669"/>
                </a:lnTo>
                <a:lnTo>
                  <a:pt x="11728" y="19379"/>
                </a:lnTo>
                <a:lnTo>
                  <a:pt x="16138" y="19379"/>
                </a:lnTo>
                <a:lnTo>
                  <a:pt x="16138" y="12152"/>
                </a:lnTo>
                <a:lnTo>
                  <a:pt x="5463" y="12152"/>
                </a:lnTo>
                <a:lnTo>
                  <a:pt x="5463" y="19379"/>
                </a:lnTo>
                <a:lnTo>
                  <a:pt x="9873" y="193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143000" y="990720"/>
            <a:ext cx="4267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5280" y="476280"/>
            <a:ext cx="640872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4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、驳论文写作思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295280" y="2133720"/>
            <a:ext cx="19051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38280" y="2895480"/>
            <a:ext cx="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3352680" y="2514600"/>
            <a:ext cx="45720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2133720"/>
            <a:ext cx="17524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95280" y="3809880"/>
            <a:ext cx="2133720" cy="14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00600" y="2895480"/>
            <a:ext cx="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3920" y="3809880"/>
            <a:ext cx="1904760" cy="202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24360" y="2492280"/>
            <a:ext cx="53352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48520" y="2209680"/>
            <a:ext cx="20574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2895480"/>
            <a:ext cx="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19920" y="3809880"/>
            <a:ext cx="2361960" cy="1477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7"/>
          </p:cNvPr>
          <p:cNvSpPr/>
          <p:nvPr/>
        </p:nvSpPr>
        <p:spPr>
          <a:xfrm>
            <a:off x="8101080" y="0"/>
            <a:ext cx="792000" cy="692280"/>
          </a:xfrm>
          <a:custGeom>
            <a:avLst/>
            <a:gdLst>
              <a:gd name="textAreaLeft" fmla="*/ 43200 w 792000"/>
              <a:gd name="textAreaRight" fmla="*/ 748800 w 792000"/>
              <a:gd name="textAreaTop" fmla="*/ 43200 h 692280"/>
              <a:gd name="textAreaBottom" fmla="*/ 649080 h 692280"/>
            </a:gdLst>
            <a:ahLst/>
            <a:rect l="textAreaLeft" t="textAreaTop" r="textAreaRight" b="textAreaBottom"/>
            <a:pathLst>
              <a:path w="24710" h="21600">
                <a:moveTo>
                  <a:pt x="0" y="0"/>
                </a:moveTo>
                <a:lnTo>
                  <a:pt x="24710" y="0"/>
                </a:lnTo>
                <a:lnTo>
                  <a:pt x="24710" y="21600"/>
                </a:lnTo>
                <a:lnTo>
                  <a:pt x="0" y="21600"/>
                </a:lnTo>
                <a:close/>
              </a:path>
              <a:path fill="lightenLess" w="24710" h="21600">
                <a:moveTo>
                  <a:pt x="0" y="0"/>
                </a:moveTo>
                <a:lnTo>
                  <a:pt x="24710" y="0"/>
                </a:lnTo>
                <a:lnTo>
                  <a:pt x="23360" y="1350"/>
                </a:lnTo>
                <a:lnTo>
                  <a:pt x="1350" y="1350"/>
                </a:lnTo>
                <a:close/>
              </a:path>
              <a:path fill="darken" w="24710" h="21600">
                <a:moveTo>
                  <a:pt x="24710" y="0"/>
                </a:moveTo>
                <a:lnTo>
                  <a:pt x="24710" y="21600"/>
                </a:lnTo>
                <a:lnTo>
                  <a:pt x="23360" y="20250"/>
                </a:lnTo>
                <a:lnTo>
                  <a:pt x="23360" y="1350"/>
                </a:lnTo>
                <a:close/>
              </a:path>
              <a:path fill="darkenLess" w="24710" h="21600">
                <a:moveTo>
                  <a:pt x="247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60" y="20250"/>
                </a:lnTo>
                <a:close/>
              </a:path>
              <a:path fill="lighten" w="247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710" h="21600">
                <a:moveTo>
                  <a:pt x="12355" y="3800"/>
                </a:moveTo>
                <a:lnTo>
                  <a:pt x="14945" y="6425"/>
                </a:lnTo>
                <a:lnTo>
                  <a:pt x="14945" y="4675"/>
                </a:lnTo>
                <a:lnTo>
                  <a:pt x="16730" y="4675"/>
                </a:lnTo>
                <a:lnTo>
                  <a:pt x="16730" y="8210"/>
                </a:lnTo>
                <a:lnTo>
                  <a:pt x="19355" y="10800"/>
                </a:lnTo>
                <a:lnTo>
                  <a:pt x="17692" y="10800"/>
                </a:lnTo>
                <a:lnTo>
                  <a:pt x="17692" y="18028"/>
                </a:lnTo>
                <a:lnTo>
                  <a:pt x="7017" y="18028"/>
                </a:lnTo>
                <a:lnTo>
                  <a:pt x="7017" y="10800"/>
                </a:lnTo>
                <a:lnTo>
                  <a:pt x="5355" y="10800"/>
                </a:lnTo>
                <a:close/>
              </a:path>
              <a:path fill="darkenLess" w="24710" h="21600">
                <a:moveTo>
                  <a:pt x="14945" y="6425"/>
                </a:moveTo>
                <a:lnTo>
                  <a:pt x="14945" y="4675"/>
                </a:lnTo>
                <a:lnTo>
                  <a:pt x="16730" y="4675"/>
                </a:lnTo>
                <a:lnTo>
                  <a:pt x="16730" y="8210"/>
                </a:lnTo>
                <a:close/>
              </a:path>
              <a:path fill="darkenLess" w="24710" h="21600">
                <a:moveTo>
                  <a:pt x="11427" y="14318"/>
                </a:moveTo>
                <a:lnTo>
                  <a:pt x="13282" y="14318"/>
                </a:lnTo>
                <a:lnTo>
                  <a:pt x="13282" y="18028"/>
                </a:lnTo>
                <a:lnTo>
                  <a:pt x="17692" y="18028"/>
                </a:lnTo>
                <a:lnTo>
                  <a:pt x="17692" y="10800"/>
                </a:lnTo>
                <a:lnTo>
                  <a:pt x="7017" y="10800"/>
                </a:lnTo>
                <a:lnTo>
                  <a:pt x="7017" y="18028"/>
                </a:lnTo>
                <a:lnTo>
                  <a:pt x="11427" y="1802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07280" cy="1800360"/>
          </a:xfrm>
          <a:prstGeom prst="rect">
            <a:avLst/>
          </a:prstGeom>
          <a:solidFill>
            <a:srgbClr val="00cc99">
              <a:alpha val="39000"/>
            </a:srgbClr>
          </a:solidFill>
          <a:ln w="2232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像一般的议论文那样地说理，而是用文艺性的笔调，形象化手法来议论说理。兼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政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文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因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207280" cy="3816360"/>
          </a:xfrm>
          <a:prstGeom prst="rect">
            <a:avLst/>
          </a:prstGeom>
          <a:solidFill>
            <a:srgbClr val="ffffff">
              <a:alpha val="30000"/>
            </a:srgbClr>
          </a:soli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黑体"/>
              <a:buChar char="•"/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篇幅短小，取材广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敏锐迅速，泼辣犀利，战斗性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像匕首、投枪，能和读者一同杀出一条血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冷嘲热讽、幽默风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说理生动、议论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8636040" y="0"/>
            <a:ext cx="507960" cy="13413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 txBox="1"/>
          <p:nvPr/>
        </p:nvSpPr>
        <p:spPr>
          <a:xfrm>
            <a:off x="468360" y="404640"/>
            <a:ext cx="107928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黑体"/>
              </a:rPr>
              <a:t>杂文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808200" y="476280"/>
            <a:ext cx="19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31440" y="549360"/>
            <a:ext cx="61282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会抓住关键词句揣摩品味，了解文章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及作的思想感情，明确文章观点及所阐明的事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对比中明确驳论文的一般行文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受鲁迅先生民族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457200" y="1693800"/>
            <a:ext cx="1066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7200" y="2455920"/>
            <a:ext cx="1066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" y="3979800"/>
            <a:ext cx="1066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57200" y="3218040"/>
            <a:ext cx="1066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" y="5504040"/>
            <a:ext cx="19051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怀古伤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" y="4741920"/>
            <a:ext cx="19051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民请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59280" y="1700280"/>
            <a:ext cx="2819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所感触而叹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59280" y="2540160"/>
            <a:ext cx="5805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使人迷惑的形式来掩盖真相的欺骗手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059280" y="328464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哄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59280" y="405612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涂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59280" y="4724280"/>
            <a:ext cx="5047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人民保全生命或解除困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59280" y="5516640"/>
            <a:ext cx="576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追念古代的事情因现在的事而悲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164360" y="333360"/>
            <a:ext cx="936720" cy="574560"/>
          </a:xfrm>
          <a:custGeom>
            <a:avLst/>
            <a:gdLst>
              <a:gd name="textAreaLeft" fmla="*/ 35640 w 936720"/>
              <a:gd name="textAreaRight" fmla="*/ 901080 w 936720"/>
              <a:gd name="textAreaTop" fmla="*/ 35640 h 574560"/>
              <a:gd name="textAreaBottom" fmla="*/ 538920 h 574560"/>
            </a:gdLst>
            <a:ahLst/>
            <a:rect l="textAreaLeft" t="textAreaTop" r="textAreaRight" b="textAreaBottom"/>
            <a:pathLst>
              <a:path w="35207" h="21600">
                <a:moveTo>
                  <a:pt x="0" y="0"/>
                </a:moveTo>
                <a:lnTo>
                  <a:pt x="35207" y="0"/>
                </a:lnTo>
                <a:lnTo>
                  <a:pt x="35207" y="21600"/>
                </a:lnTo>
                <a:lnTo>
                  <a:pt x="0" y="21600"/>
                </a:lnTo>
                <a:close/>
              </a:path>
              <a:path fill="lightenLess" w="35207" h="21600">
                <a:moveTo>
                  <a:pt x="0" y="0"/>
                </a:moveTo>
                <a:lnTo>
                  <a:pt x="35207" y="0"/>
                </a:lnTo>
                <a:lnTo>
                  <a:pt x="33857" y="1350"/>
                </a:lnTo>
                <a:lnTo>
                  <a:pt x="1350" y="1350"/>
                </a:lnTo>
                <a:close/>
              </a:path>
              <a:path fill="darken" w="35207" h="21600">
                <a:moveTo>
                  <a:pt x="35207" y="0"/>
                </a:moveTo>
                <a:lnTo>
                  <a:pt x="35207" y="21600"/>
                </a:lnTo>
                <a:lnTo>
                  <a:pt x="33857" y="20250"/>
                </a:lnTo>
                <a:lnTo>
                  <a:pt x="33857" y="1350"/>
                </a:lnTo>
                <a:close/>
              </a:path>
              <a:path fill="darkenLess" w="35207" h="21600">
                <a:moveTo>
                  <a:pt x="3520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857" y="20250"/>
                </a:lnTo>
                <a:close/>
              </a:path>
              <a:path fill="lighten" w="3520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207" h="21600">
                <a:moveTo>
                  <a:pt x="17603" y="3800"/>
                </a:moveTo>
                <a:lnTo>
                  <a:pt x="20193" y="6425"/>
                </a:lnTo>
                <a:lnTo>
                  <a:pt x="20193" y="4675"/>
                </a:lnTo>
                <a:lnTo>
                  <a:pt x="21978" y="4675"/>
                </a:lnTo>
                <a:lnTo>
                  <a:pt x="21978" y="8210"/>
                </a:lnTo>
                <a:lnTo>
                  <a:pt x="24603" y="10800"/>
                </a:lnTo>
                <a:lnTo>
                  <a:pt x="22941" y="10800"/>
                </a:lnTo>
                <a:lnTo>
                  <a:pt x="22941" y="18028"/>
                </a:lnTo>
                <a:lnTo>
                  <a:pt x="12266" y="18028"/>
                </a:lnTo>
                <a:lnTo>
                  <a:pt x="12266" y="10800"/>
                </a:lnTo>
                <a:lnTo>
                  <a:pt x="10603" y="10800"/>
                </a:lnTo>
                <a:close/>
              </a:path>
              <a:path fill="darkenLess" w="35207" h="21600">
                <a:moveTo>
                  <a:pt x="20193" y="6425"/>
                </a:moveTo>
                <a:lnTo>
                  <a:pt x="20193" y="4675"/>
                </a:lnTo>
                <a:lnTo>
                  <a:pt x="21978" y="4675"/>
                </a:lnTo>
                <a:lnTo>
                  <a:pt x="21978" y="8210"/>
                </a:lnTo>
                <a:close/>
              </a:path>
              <a:path fill="darkenLess" w="35207" h="21600">
                <a:moveTo>
                  <a:pt x="16676" y="14318"/>
                </a:moveTo>
                <a:lnTo>
                  <a:pt x="18531" y="14318"/>
                </a:lnTo>
                <a:lnTo>
                  <a:pt x="18531" y="18028"/>
                </a:lnTo>
                <a:lnTo>
                  <a:pt x="22941" y="18028"/>
                </a:lnTo>
                <a:lnTo>
                  <a:pt x="22941" y="10800"/>
                </a:lnTo>
                <a:lnTo>
                  <a:pt x="12266" y="10800"/>
                </a:lnTo>
                <a:lnTo>
                  <a:pt x="12266" y="18028"/>
                </a:lnTo>
                <a:lnTo>
                  <a:pt x="16676" y="180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203640" y="189000"/>
            <a:ext cx="32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黑体"/>
              </a:rPr>
              <a:t>四、听读课文／积累字词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97" name=""/>
          <p:cNvSpPr/>
          <p:nvPr/>
        </p:nvSpPr>
        <p:spPr>
          <a:xfrm>
            <a:off x="2523960" y="9810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给下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红色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的字注音，并解释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763640" y="1647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kà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620720" y="236700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xu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47640" y="314172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ku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706760" y="38289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7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7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8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57200" y="1522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9480" y="8380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81.9.25-1936.10.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原名周树人，字豫才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浙江绍兴人。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我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现代伟大的无产阶级文学家、思想家、革命家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作品有：小说集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《呐喊》、《彷徨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历史小说集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《故事新编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散文集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《朝花夕拾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散文诗集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《野草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杂文集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《华盖集》、《南腔北调集》、《坟》、《热风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等十五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81880" y="533520"/>
            <a:ext cx="5335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90720" y="54864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横眉冷对千夫指      俯首甘为孺子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762120" y="16765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本文写于“九一八”事变三周年之后。中国近代本来就国运积弱，屡遭欺侮，“九一八”事变，东北三省全部沦陷。国际联盟承认日本在中国的东北有特殊地位。日本的铁蹄进一步向华北深入。这时失败的阴影、悲观的情绪笼罩了国民党统治集团。国民党的《大公报》社论中说：“民族之自尊心与自信力，既已荡焉无存，不待外侮之来，国家固早已濒于精神幻灭之域”。然而鲁迅却凭着对社会现状的洞悉，发出中国人当自信自强的呐喊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2628720" y="419040"/>
            <a:ext cx="3429360" cy="686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429000" y="45720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时代背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8:20:33Z</dcterms:created>
  <dc:creator>为您服务教育网　http://www.wsbedu.com/</dc:creator>
  <dc:description/>
  <dc:language>en-US</dc:language>
  <cp:lastModifiedBy>lenovo'</cp:lastModifiedBy>
  <dcterms:modified xsi:type="dcterms:W3CDTF">2015-10-23T09:12:51Z</dcterms:modified>
  <cp:revision>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