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wmf" ContentType="image/x-wmf"/>
  <Override PartName="/ppt/media/image8.jpeg" ContentType="image/jpeg"/>
  <Override PartName="/ppt/media/image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F7A-7D9F-4DB2-9571-58D70A4D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E32-E70B-4E7F-9758-B8D0E83F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921-2F41-44F9-98DF-45CCC83A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AF5-3195-4560-869B-5ADE59D6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6CD-9238-4FCB-808F-2478C64E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422-F9E9-43D5-B042-1B1C8B4D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34F-FD78-415E-A362-9FB2F98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46B-461E-4B07-8F92-6A839899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2A7-FBB8-4D77-A1B1-6F85FA77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DD2-2438-464C-98FA-519B19E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310-D9BF-4B84-B750-D687099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273-1A67-4EAF-8073-1F2CC032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3781-396C-45AD-9766-1FEA65A8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038480" cy="5086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648320" y="914400"/>
            <a:ext cx="3962160" cy="508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5400000">
            <a:off x="-38520" y="2857320"/>
            <a:ext cx="381024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中国石拱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2395800" y="4309200"/>
            <a:ext cx="17604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茅以升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4800600" y="9907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876920" y="10666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4876920" y="10666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5867280" y="41911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4800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华文隶书"/>
              </a:rPr>
              <a:t>进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38098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列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杰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妙绝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95760" y="106668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代久远。悠：长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1905120"/>
            <a:ext cx="717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色的，超过一般水平的作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2819520"/>
            <a:ext cx="443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武雄壮的姿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581280"/>
            <a:ext cx="533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非常灵巧，独一无二，没有什么可以相比的。伦：同类、同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5410080"/>
            <a:ext cx="618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配合得适当、匀称而协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57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字音词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生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457200"/>
            <a:ext cx="32767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推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地取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姿万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1066680"/>
            <a:ext cx="574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分重视，并给以很高的评价。崇：尊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2362320"/>
            <a:ext cx="576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当地找所需要的材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65760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各种各样的形状和姿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876920"/>
            <a:ext cx="6248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雄伟美丽而罕见的景象或出奇少有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457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字音词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生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914400" cy="852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90920" y="1522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中国石拱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04920" y="838080"/>
            <a:ext cx="480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（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（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990720"/>
            <a:ext cx="432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总述石拱桥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1905120"/>
            <a:ext cx="478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说明中国石拱桥状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9240" y="2819520"/>
            <a:ext cx="478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惊人的杰作赵州桥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65760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闻名世界的卢沟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4495680"/>
            <a:ext cx="6172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中国石拱桥取得成就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5334120"/>
            <a:ext cx="563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国石拱桥当代的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0280" y="297180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古代状况中国石拱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077320" y="6019920"/>
            <a:ext cx="761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457200"/>
            <a:ext cx="1219320" cy="10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桥</a:t>
            </a:r>
            <a:r>
              <a:rPr b="0" lang="en-US" sz="4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: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447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架在空中</a:t>
            </a:r>
            <a:r>
              <a:rPr b="1" lang="en-US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上能行车走人</a:t>
            </a:r>
            <a:r>
              <a:rPr b="1" lang="en-US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下能过水行船的路称为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9480" y="3200400"/>
            <a:ext cx="186696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石拱桥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: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038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主要以石头为建筑材料</a:t>
            </a:r>
            <a:r>
              <a:rPr b="1" lang="en-US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主要承重结构的桥身为弧形的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572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定义石拱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848720" y="5791320"/>
            <a:ext cx="9903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53416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2743200" y="685800"/>
            <a:ext cx="380988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国石拱桥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467480" y="457200"/>
            <a:ext cx="9907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783880" y="457200"/>
            <a:ext cx="423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初读课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理解本文的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Times New Roman"/>
              </a:rPr>
              <a:t>说明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Times New Roman"/>
              </a:rPr>
              <a:t>对象的特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2421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国石拱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59000" y="3200400"/>
            <a:ext cx="152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形式优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结构坚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历史悠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905120"/>
            <a:ext cx="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1828800"/>
            <a:ext cx="0" cy="1219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rcRect l="0" t="0" r="4927" b="0"/>
          <a:stretch/>
        </p:blipFill>
        <p:spPr>
          <a:xfrm>
            <a:off x="152280" y="3657600"/>
            <a:ext cx="4953240" cy="3200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257800" y="380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初读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620120" y="5791320"/>
            <a:ext cx="10666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55281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990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课文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看，石拱桥具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9810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形式优美  结构坚固  历史悠久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31240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怎样说明这些特征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11480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把桥比喻成“虹”说明石拱桥的形式优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525780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用“出现的较早”，“雄跨”说明石拱桥的结构坚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3049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具体讲解</a:t>
            </a:r>
            <a:r>
              <a:rPr b="1" lang="en-US" sz="2000" spc="-1" strike="noStrike">
                <a:solidFill>
                  <a:srgbClr val="0066ff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99cc"/>
                </a:solidFill>
                <a:latin typeface="黑体"/>
                <a:ea typeface="黑体"/>
              </a:rPr>
              <a:t>石拱桥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772400" y="6027840"/>
            <a:ext cx="10666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990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精读写赵州桥和卢沟桥片段，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213372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赵州桥和卢沟桥的特点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3886200" cy="2438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733560" cy="2438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71600" y="3276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赵州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卢沟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3049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具体讲解</a:t>
            </a:r>
            <a:r>
              <a:rPr b="1" lang="en-US" sz="2000" spc="-1" strike="noStrike">
                <a:solidFill>
                  <a:srgbClr val="0066ff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99cc"/>
                </a:solidFill>
                <a:latin typeface="黑体"/>
                <a:ea typeface="黑体"/>
              </a:rPr>
              <a:t>卢沟桥赵州桥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76320" y="762120"/>
          <a:ext cx="9067680" cy="5562360"/>
        </p:xfrm>
        <a:graphic>
          <a:graphicData uri="http://schemas.openxmlformats.org/drawingml/2006/table">
            <a:tbl>
              <a:tblPr/>
              <a:tblGrid>
                <a:gridCol w="990720"/>
                <a:gridCol w="1295280"/>
                <a:gridCol w="2743200"/>
                <a:gridCol w="4038480"/>
              </a:tblGrid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0" y="990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桥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2560" y="19051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2560" y="41911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990720"/>
            <a:ext cx="11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9120" y="190512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横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在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4267080"/>
            <a:ext cx="117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位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永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43360" y="990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历史和修建年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65520" y="1600200"/>
            <a:ext cx="192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修建于公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605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左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到现在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有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300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多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87960" y="4191120"/>
            <a:ext cx="242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修建于公元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89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至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19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间，至今已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800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多年的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90360" y="914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58800" y="1828800"/>
            <a:ext cx="223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一个大拱；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大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两肩各有两个小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大拱由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道拱圈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成；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全桥结构匀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66400" y="3657600"/>
            <a:ext cx="2841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个半圆形石拱组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每个石拱长度不一，几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与河面平行。每两个石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之间有石砌桥墩，把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石拱联成一个整体，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座联拱石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152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具体讲解</a:t>
            </a:r>
            <a:r>
              <a:rPr b="1" lang="en-US" sz="2000" spc="-1" strike="noStrike">
                <a:solidFill>
                  <a:srgbClr val="0066ff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99cc"/>
                </a:solidFill>
                <a:latin typeface="黑体"/>
                <a:ea typeface="黑体"/>
              </a:rPr>
              <a:t>卢沟桥赵州桥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924680" y="6086520"/>
            <a:ext cx="990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6680" y="533520"/>
            <a:ext cx="182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小结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1828800"/>
            <a:ext cx="82296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文章第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段，先总述石拱桥的特点，再说明中国石拱桥的特点，由一般到个别，由中国石拱桥的惊人杰作，引出赵州桥，又介绍了卢沟桥举例说明中国石拱桥具有历史悠久、结构坚固、形式优美的主要特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3049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具体讲解</a:t>
            </a:r>
            <a:r>
              <a:rPr b="1" lang="en-US" sz="2000" spc="-1" strike="noStrike">
                <a:solidFill>
                  <a:srgbClr val="0066ff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99cc"/>
                </a:solidFill>
                <a:latin typeface="黑体"/>
                <a:ea typeface="黑体"/>
              </a:rPr>
              <a:t>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56272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3049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3716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音词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5146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6576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8006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24480" y="5181480"/>
            <a:ext cx="2035440" cy="123696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80808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6781680" y="5410080"/>
            <a:ext cx="1067040" cy="520560"/>
          </a:xfrm>
          <a:prstGeom prst="rect">
            <a:avLst/>
          </a:prstGeom>
          <a:solidFill>
            <a:srgbClr val="c0c0c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退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9436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685800"/>
            <a:ext cx="86868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为了准确地说明事物，说明文很讲究用语的分寸。特别表示时间、空间、数量、范围、程度、特征、性质、程序等的词语，都要求准确无误。请看课后练习二，朗读下面的语句，说说句中加点词语的作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228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课后题讲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324480" y="520056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990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 ⑴“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比较”表现石拱桥在世界桥梁史上出现不是“最早”也不是“很迟”，准确地说明出现的程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8954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⑵“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大约”、“可能”表示估计，因为这是文献上的记录，作者不可能亲自看见“旅人桥”的建成，只能根据记录，但文献上的记录是否属实，作者不得而知，因此，只能用“大约”表示估计，这也是语言准确性的一种表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228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课后题讲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838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⑶“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几乎”表示程度，说明我国的石拱桥很普及，差不多到处都有。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2286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⑷“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左右”表示估计，说明这座桥大致的修建时间，避免了绝对化。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36576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⑸“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当时可算”表示时间，说明赵州桥大拱的长度在当时可算是世界上最长的石拱，但随着历史的发展，很多石拱桥的拱长都超过了赵州桥的大拱长度。如果去掉“当时可算”显然不准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48320" y="228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课后题讲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772400" y="5969160"/>
            <a:ext cx="1143000" cy="88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380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小结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600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文章以赵州桥和卢沟桥为例，具体说明了中国石拱桥的历史悠久、结构坚固、形式优美的特征，以及解放后的新发展，赞扬了我国劳动人民的聪明才智和社会主义制度的无比优越。文章语言准确而简洁，平实而周密，很好地说明了对象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2286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文章总结</a:t>
            </a:r>
            <a:r>
              <a:rPr b="1" lang="en-US" sz="2000" spc="-1" strike="noStrike">
                <a:solidFill>
                  <a:srgbClr val="0066ff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99cc"/>
                </a:solidFill>
                <a:latin typeface="黑体"/>
                <a:ea typeface="黑体"/>
              </a:rPr>
              <a:t>小结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467480" y="5562720"/>
            <a:ext cx="129564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228600"/>
            <a:ext cx="518148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0" lang="zh-CN" sz="32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当土地与土地被水分割了的时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当道路与道路被水截断了的时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智慧的人类伫立在水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于是产生了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苦于跋涉的人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应该感谢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桥是土地与土地的联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桥是河流与土地的联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桥是船只与车辆点头致敬的驿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桥是乘船者与步行者挥手告别的地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2286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cc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课文讲解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bbe0e3"/>
                </a:solidFill>
                <a:latin typeface="黑体"/>
                <a:ea typeface="黑体"/>
              </a:rPr>
              <a:t>文章总结</a:t>
            </a:r>
            <a:r>
              <a:rPr b="1" lang="en-US" sz="2000" spc="-1" strike="noStrike">
                <a:solidFill>
                  <a:srgbClr val="0066ff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99cc"/>
                </a:solidFill>
                <a:latin typeface="黑体"/>
                <a:ea typeface="黑体"/>
              </a:rPr>
              <a:t>桥诗歌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620120" y="5715000"/>
            <a:ext cx="1218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95280" y="609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6858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说明文注重说明方法的运用 举例说明本文运用了哪些说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17720" y="24382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打比方     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0080" y="33526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石拱桥的桥洞成弧形，就像虹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64960" y="426708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将石拱桥的桥洞比作虹，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黑体"/>
              </a:rPr>
              <a:t>形象生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说明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拱桥桥洞的形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突出了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优美的特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19920" y="838080"/>
            <a:ext cx="2819160" cy="2103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943600" y="228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cc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66ff"/>
                </a:solidFill>
                <a:latin typeface="黑体"/>
                <a:ea typeface="黑体"/>
              </a:rPr>
              <a:t>语言特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41400" y="12952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列数据     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6680" y="2895480"/>
            <a:ext cx="592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赵州桥非常雄伟，全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0.8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两端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9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中部略窄，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9120" y="4343400"/>
            <a:ext cx="659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列举数据，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黑体"/>
              </a:rPr>
              <a:t>准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黑体"/>
              </a:rPr>
              <a:t>具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地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赵州桥非常雄伟”的特点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给人以具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而清晰的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095880" y="228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cc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66ff"/>
                </a:solidFill>
                <a:latin typeface="黑体"/>
                <a:ea typeface="黑体"/>
              </a:rPr>
              <a:t>语言特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65080" y="13716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作比较     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72160" y="4724280"/>
            <a:ext cx="686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比较，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突出了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卢沟桥结构坚固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的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能给读者留下具体清晰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38760" y="3200400"/>
            <a:ext cx="63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永定河发水时，来势很猛，以前两岸河堤常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冲毁，但是这座桥却极少出事，足见它的坚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867280" y="838080"/>
            <a:ext cx="2810160" cy="22957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943600" y="228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cc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66ff"/>
                </a:solidFill>
                <a:latin typeface="黑体"/>
                <a:ea typeface="黑体"/>
              </a:rPr>
              <a:t>语言特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12800" y="13716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举例子     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53720" y="2209680"/>
            <a:ext cx="530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我国的石拱桥）在建筑技术上有很多创造，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重吊装方面更有意想不到的办法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福建漳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江东桥，修建于八百多年前，有的石梁一块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二百来吨重，究竟是怎么安装上去的，至今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完全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71800" y="4876920"/>
            <a:ext cx="68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举例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具体而清楚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说明了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我国石拱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在建筑技术上有很多令人意想不到的创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638680" y="1522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19920" y="152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cc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66ff"/>
                </a:solidFill>
                <a:latin typeface="黑体"/>
                <a:ea typeface="黑体"/>
              </a:rPr>
              <a:t>语言特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772400" y="4495680"/>
            <a:ext cx="106668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68460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知识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1840" y="23875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1981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字音词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3048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文章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课文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5257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语言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生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3200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定义石拱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初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具体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5257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课后题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文章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89" idx="1"/>
            <a:endCxn id="288" idx="3"/>
          </p:cNvCxnSpPr>
          <p:nvPr/>
        </p:nvCxnSpPr>
        <p:spPr>
          <a:xfrm flipV="1" rot="10800000">
            <a:off x="869400" y="1098360"/>
            <a:ext cx="501840" cy="18849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11430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0" idx="3"/>
            <a:endCxn id="294" idx="1"/>
          </p:cNvCxnSpPr>
          <p:nvPr/>
        </p:nvCxnSpPr>
        <p:spPr>
          <a:xfrm flipV="1">
            <a:off x="3124080" y="1904400"/>
            <a:ext cx="534240" cy="3373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2" idx="3"/>
            <a:endCxn id="296" idx="1"/>
          </p:cNvCxnSpPr>
          <p:nvPr/>
        </p:nvCxnSpPr>
        <p:spPr>
          <a:xfrm flipV="1">
            <a:off x="3428640" y="3428640"/>
            <a:ext cx="305640" cy="10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0" idx="1"/>
            <a:endCxn id="292" idx="3"/>
          </p:cNvCxnSpPr>
          <p:nvPr/>
        </p:nvCxnSpPr>
        <p:spPr>
          <a:xfrm rot="10800000">
            <a:off x="3428280" y="4450680"/>
            <a:ext cx="305640" cy="1721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61722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石拱桥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赵州桥卢沟桥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1"/>
            <a:endCxn id="298" idx="3"/>
          </p:cNvCxnSpPr>
          <p:nvPr/>
        </p:nvCxnSpPr>
        <p:spPr>
          <a:xfrm flipV="1" rot="10800000">
            <a:off x="5257080" y="4190040"/>
            <a:ext cx="915120" cy="6102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10" idx="1"/>
            <a:endCxn id="298" idx="3"/>
          </p:cNvCxnSpPr>
          <p:nvPr/>
        </p:nvCxnSpPr>
        <p:spPr>
          <a:xfrm rot="10800000">
            <a:off x="5257080" y="4799880"/>
            <a:ext cx="915120" cy="4579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57150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小结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桥诗歌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4" idx="1"/>
            <a:endCxn id="300" idx="3"/>
          </p:cNvCxnSpPr>
          <p:nvPr/>
        </p:nvCxnSpPr>
        <p:spPr>
          <a:xfrm flipV="1" rot="10800000">
            <a:off x="5562000" y="5790960"/>
            <a:ext cx="6865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315" idx="1"/>
            <a:endCxn id="300" idx="3"/>
          </p:cNvCxnSpPr>
          <p:nvPr/>
        </p:nvCxnSpPr>
        <p:spPr>
          <a:xfrm rot="10800000">
            <a:off x="5562000" y="6171480"/>
            <a:ext cx="6865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295" idx="1"/>
            <a:endCxn id="290" idx="3"/>
          </p:cNvCxnSpPr>
          <p:nvPr/>
        </p:nvCxnSpPr>
        <p:spPr>
          <a:xfrm rot="10800000">
            <a:off x="3123360" y="2241000"/>
            <a:ext cx="534240" cy="3499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5867280" y="26668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06720" y="274320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桥 、石拱桥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中国石拱桥视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>
            <a:stCxn id="320" idx="1"/>
            <a:endCxn id="296" idx="3"/>
          </p:cNvCxnSpPr>
          <p:nvPr/>
        </p:nvCxnSpPr>
        <p:spPr>
          <a:xfrm flipV="1" rot="10800000">
            <a:off x="5485680" y="2971440"/>
            <a:ext cx="6865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1" idx="1"/>
          </p:cNvCxnSpPr>
          <p:nvPr/>
        </p:nvCxnSpPr>
        <p:spPr>
          <a:xfrm rot="10800000">
            <a:off x="5562000" y="3428280"/>
            <a:ext cx="53388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371600" y="6172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知识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288" idx="3"/>
            <a:endCxn id="324" idx="1"/>
          </p:cNvCxnSpPr>
          <p:nvPr/>
        </p:nvCxnSpPr>
        <p:spPr>
          <a:xfrm>
            <a:off x="869760" y="2982960"/>
            <a:ext cx="501840" cy="34502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924680" y="5867280"/>
            <a:ext cx="106704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5335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8288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音词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12408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4197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7150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129528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25146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endCxn id="64" idx="1"/>
          </p:cNvCxnSpPr>
          <p:nvPr/>
        </p:nvCxnSpPr>
        <p:spPr>
          <a:xfrm flipV="1">
            <a:off x="2590920" y="1585440"/>
            <a:ext cx="1829520" cy="548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/>
          <p:nvPr/>
        </p:nvCxnSpPr>
        <p:spPr>
          <a:xfrm>
            <a:off x="2590920" y="2133360"/>
            <a:ext cx="1829520" cy="686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315200" y="556272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981080" y="1066680"/>
            <a:ext cx="480060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中国石拱桥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1981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茅以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2819520"/>
            <a:ext cx="5105520" cy="2819160"/>
          </a:xfrm>
          <a:prstGeom prst="rect">
            <a:avLst/>
          </a:prstGeom>
          <a:solidFill>
            <a:srgbClr val="3366ff">
              <a:alpha val="51000"/>
            </a:srgbClr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66880" y="3581280"/>
            <a:ext cx="34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是否真的要退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952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391520" y="554364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724280" y="4419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音词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12408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4197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7150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9051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石拱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8195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初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36576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体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5720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后题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54864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章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3" idx="3"/>
            <a:endCxn id="75" idx="1"/>
          </p:cNvCxnSpPr>
          <p:nvPr/>
        </p:nvCxnSpPr>
        <p:spPr>
          <a:xfrm flipV="1">
            <a:off x="2590920" y="2133000"/>
            <a:ext cx="1219680" cy="25772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9" idx="1"/>
            <a:endCxn id="73" idx="3"/>
          </p:cNvCxnSpPr>
          <p:nvPr/>
        </p:nvCxnSpPr>
        <p:spPr>
          <a:xfrm rot="10800000">
            <a:off x="2590200" y="4709520"/>
            <a:ext cx="1219680" cy="1005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76" idx="1"/>
          </p:cNvCxnSpPr>
          <p:nvPr/>
        </p:nvCxnSpPr>
        <p:spPr>
          <a:xfrm flipH="1">
            <a:off x="3199680" y="3047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77" idx="1"/>
          </p:cNvCxnSpPr>
          <p:nvPr/>
        </p:nvCxnSpPr>
        <p:spPr>
          <a:xfrm flipH="1">
            <a:off x="3199680" y="38858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8" idx="1"/>
          </p:cNvCxnSpPr>
          <p:nvPr/>
        </p:nvCxnSpPr>
        <p:spPr>
          <a:xfrm flipH="1">
            <a:off x="3199680" y="48002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5880" y="304920"/>
            <a:ext cx="2819520" cy="210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467480" y="533412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5335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音词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12408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44197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7150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9051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石拱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8195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初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6576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体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5720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后题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4864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章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0" idx="3"/>
            <a:endCxn id="92" idx="1"/>
          </p:cNvCxnSpPr>
          <p:nvPr/>
        </p:nvCxnSpPr>
        <p:spPr>
          <a:xfrm flipV="1">
            <a:off x="2590920" y="2133000"/>
            <a:ext cx="1219680" cy="25772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6" idx="1"/>
            <a:endCxn id="90" idx="3"/>
          </p:cNvCxnSpPr>
          <p:nvPr/>
        </p:nvCxnSpPr>
        <p:spPr>
          <a:xfrm rot="10800000">
            <a:off x="2590200" y="4709520"/>
            <a:ext cx="1219680" cy="1005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3" idx="1"/>
          </p:cNvCxnSpPr>
          <p:nvPr/>
        </p:nvCxnSpPr>
        <p:spPr>
          <a:xfrm flipH="1">
            <a:off x="3199680" y="3047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4" idx="1"/>
          </p:cNvCxnSpPr>
          <p:nvPr/>
        </p:nvCxnSpPr>
        <p:spPr>
          <a:xfrm flipH="1">
            <a:off x="3199680" y="38858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5" idx="1"/>
          </p:cNvCxnSpPr>
          <p:nvPr/>
        </p:nvCxnSpPr>
        <p:spPr>
          <a:xfrm flipH="1">
            <a:off x="3199680" y="48002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467480" y="5334120"/>
            <a:ext cx="13716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53080" y="1447920"/>
            <a:ext cx="236232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桥、石拱桥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2438280"/>
            <a:ext cx="243864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国石拱桥视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3" idx="1"/>
            <a:endCxn id="92" idx="3"/>
          </p:cNvCxnSpPr>
          <p:nvPr/>
        </p:nvCxnSpPr>
        <p:spPr>
          <a:xfrm flipV="1" rot="10800000">
            <a:off x="5637960" y="1676160"/>
            <a:ext cx="915120" cy="4579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4" idx="1"/>
            <a:endCxn id="92" idx="3"/>
          </p:cNvCxnSpPr>
          <p:nvPr/>
        </p:nvCxnSpPr>
        <p:spPr>
          <a:xfrm rot="10800000">
            <a:off x="5637960" y="2133000"/>
            <a:ext cx="915120" cy="5338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5335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8288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音词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12408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4197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57150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9051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石拱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8195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初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36576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体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45720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后题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4864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章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28195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石拱桥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3657600"/>
            <a:ext cx="281952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卢沟桥赵州桥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6483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endCxn id="117" idx="1"/>
          </p:cNvCxnSpPr>
          <p:nvPr/>
        </p:nvCxnSpPr>
        <p:spPr>
          <a:xfrm flipV="1">
            <a:off x="5638680" y="3047760"/>
            <a:ext cx="915120" cy="8388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endCxn id="119" idx="1"/>
          </p:cNvCxnSpPr>
          <p:nvPr/>
        </p:nvCxnSpPr>
        <p:spPr>
          <a:xfrm flipH="1" rot="16200000">
            <a:off x="5829120" y="4152600"/>
            <a:ext cx="9914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60199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/>
          <p:nvPr/>
        </p:nvCxnSpPr>
        <p:spPr>
          <a:xfrm rot="10800000">
            <a:off x="2590200" y="4723560"/>
            <a:ext cx="1219680" cy="10058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3" idx="1"/>
          </p:cNvCxnSpPr>
          <p:nvPr/>
        </p:nvCxnSpPr>
        <p:spPr>
          <a:xfrm flipH="1">
            <a:off x="3199680" y="3047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14" idx="1"/>
          </p:cNvCxnSpPr>
          <p:nvPr/>
        </p:nvCxnSpPr>
        <p:spPr>
          <a:xfrm flipH="1">
            <a:off x="3199680" y="38858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15" idx="1"/>
          </p:cNvCxnSpPr>
          <p:nvPr/>
        </p:nvCxnSpPr>
        <p:spPr>
          <a:xfrm flipH="1">
            <a:off x="3199680" y="48002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12" idx="1"/>
          </p:cNvCxnSpPr>
          <p:nvPr/>
        </p:nvCxnSpPr>
        <p:spPr>
          <a:xfrm flipV="1" rot="10800000">
            <a:off x="3199680" y="2132640"/>
            <a:ext cx="610200" cy="2972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819520" cy="210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391520" y="5638680"/>
            <a:ext cx="1295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5335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8288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音词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41972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715000"/>
            <a:ext cx="18288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9051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石拱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28195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初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36576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体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45720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后题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54864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章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/>
          <p:nvPr/>
        </p:nvCxnSpPr>
        <p:spPr>
          <a:xfrm rot="10800000">
            <a:off x="2590200" y="4723560"/>
            <a:ext cx="1219680" cy="10058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6" idx="1"/>
          </p:cNvCxnSpPr>
          <p:nvPr/>
        </p:nvCxnSpPr>
        <p:spPr>
          <a:xfrm flipH="1">
            <a:off x="3199680" y="3047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7" idx="1"/>
          </p:cNvCxnSpPr>
          <p:nvPr/>
        </p:nvCxnSpPr>
        <p:spPr>
          <a:xfrm flipH="1">
            <a:off x="3199680" y="38858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8" idx="1"/>
          </p:cNvCxnSpPr>
          <p:nvPr/>
        </p:nvCxnSpPr>
        <p:spPr>
          <a:xfrm flipH="1">
            <a:off x="3199680" y="48002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5" idx="1"/>
          </p:cNvCxnSpPr>
          <p:nvPr/>
        </p:nvCxnSpPr>
        <p:spPr>
          <a:xfrm flipV="1" rot="10800000">
            <a:off x="3199680" y="2132640"/>
            <a:ext cx="610200" cy="2972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6705720" y="480060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结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6019920"/>
            <a:ext cx="182880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桥诗歌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39" idx="3"/>
            <a:endCxn id="145" idx="1"/>
          </p:cNvCxnSpPr>
          <p:nvPr/>
        </p:nvCxnSpPr>
        <p:spPr>
          <a:xfrm flipV="1">
            <a:off x="5638680" y="5028480"/>
            <a:ext cx="1067760" cy="6865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6" idx="1"/>
            <a:endCxn id="139" idx="3"/>
          </p:cNvCxnSpPr>
          <p:nvPr/>
        </p:nvCxnSpPr>
        <p:spPr>
          <a:xfrm rot="10800000">
            <a:off x="5637960" y="5714280"/>
            <a:ext cx="1067760" cy="5342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819520" cy="2103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696080" y="3505320"/>
            <a:ext cx="99072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14800" y="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茅以升（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896——1989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），我国近代桥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工程学的奠基人，著名的桥梁学专家。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9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年获美国加里基工学院博士学位。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933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年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持设计并领导建造了中国第一座现代化的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桥。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948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年当选为中央研究院院士。五十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代有参加设计了规模更大的武汉长江大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959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年，在首都“十大建筑”的建设中，茅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升担任人民大会堂结构审查组组长。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989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被美国科学院授予外籍院士称号。他编写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《中国桥梁史》。他为中国的桥梁事业做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了杰出的贡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388620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380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8153280" y="6218280"/>
            <a:ext cx="685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10666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弧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谐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桥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墩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郦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鷟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匀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惟妙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23200" y="1295280"/>
            <a:ext cx="78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56800" y="1295280"/>
            <a:ext cx="1343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ǒ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5240" y="2133720"/>
            <a:ext cx="114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53920" y="2057400"/>
            <a:ext cx="1054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dǒ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3440" y="2895480"/>
            <a:ext cx="85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17280" y="2895480"/>
            <a:ext cx="103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1480" y="3733920"/>
            <a:ext cx="107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d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31200" y="3657600"/>
            <a:ext cx="109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ì</a:t>
            </a: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66400" y="4419720"/>
            <a:ext cx="128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84080" y="4495680"/>
            <a:ext cx="226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ún ch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07360" y="5257800"/>
            <a:ext cx="114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0480" y="228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面的红色字注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04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开始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字音词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生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772400" y="5791320"/>
            <a:ext cx="990720" cy="87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1:04:48Z</dcterms:created>
  <dc:creator>dell</dc:creator>
  <dc:description/>
  <dc:language>en-US</dc:language>
  <cp:lastModifiedBy>dell</cp:lastModifiedBy>
  <dcterms:modified xsi:type="dcterms:W3CDTF">2015-10-21T06:17:59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