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5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1.gif" ContentType="image/gif"/>
  <Override PartName="/ppt/media/image11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5.jpeg" ContentType="image/jpeg"/>
  <Override PartName="/ppt/media/image14.gif" ContentType="image/gif"/>
  <Override PartName="/ppt/media/image16.jpeg" ContentType="image/jpeg"/>
  <Override PartName="/ppt/media/image13.gif" ContentType="image/gif"/>
  <Override PartName="/ppt/media/image2.jpeg" ContentType="image/jpeg"/>
  <Override PartName="/ppt/media/image4.gif" ContentType="image/gif"/>
  <Override PartName="/ppt/media/image1.jpeg" ContentType="image/jpeg"/>
  <Override PartName="/ppt/media/camera.wav" ContentType="audio/x-wav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9CE-D349-41C4-9B5D-36CC7E9E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086-8E9F-4A7C-9E09-532A65F6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FB9-D907-4F3D-9BE7-EBDF5A8F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BBA-E4C1-4615-8E34-A3020953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9EEE-8E92-4398-B40A-F5089178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CC3F-AFB1-4806-A402-F34161A6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9890-6B40-4952-A3C5-133046E7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8905-6CB2-42F4-A368-3685EB7C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FC19-64A2-495E-ACC2-7F237420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EE77-81D3-4031-AE89-7959B926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2B4F-F834-47CD-9F0A-25CC88CF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B16-64D1-493B-B0DD-E5579BE3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3B06-0B34-4D47-BA7C-38831DA2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EE75-1EFA-493F-BF6B-E57C759D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E2CD-ADC5-4756-AEB7-358462E4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8BF3-938F-42B0-BD71-EA51F69C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55EB-707A-4E77-A5B8-A4A92404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945-E321-4E0B-99E5-0E43FA30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34A-FF96-4C64-8268-14C8DB23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267-2A41-42EB-B3D1-9D13E98C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316-E08A-4331-A0C6-75AFC825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F20-2F6D-4AC1-B066-FCAA245F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887-7D42-4345-8A39-B1D6BB32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CC7-65BC-458E-B4C8-9B5703B4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CAA5-0B86-4692-9C8B-783D0EB0713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E1B9-2BA1-4100-AB5B-477B4C030E5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7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067280" y="-603360"/>
            <a:ext cx="5076720" cy="5904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476360" y="981000"/>
            <a:ext cx="304812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中国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/>
          <p:nvPr/>
        </p:nvSpPr>
        <p:spPr>
          <a:xfrm>
            <a:off x="6429960" y="52293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茅以升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70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91840" y="1798560"/>
            <a:ext cx="288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赵州桥修建于公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0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左右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0492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800600" y="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05720" y="3657600"/>
            <a:ext cx="1523880" cy="1143000"/>
          </a:xfrm>
          <a:prstGeom prst="wedgeRoundRectCallout">
            <a:avLst>
              <a:gd name="adj1" fmla="val -12810"/>
              <a:gd name="adj2" fmla="val -123750"/>
              <a:gd name="adj3" fmla="val 16667"/>
            </a:avLst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能否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删去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98320" y="2266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左右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4365720"/>
            <a:ext cx="2952720" cy="1143000"/>
          </a:xfrm>
          <a:prstGeom prst="wedgeRoundRectCallout">
            <a:avLst>
              <a:gd name="adj1" fmla="val -39245"/>
              <a:gd name="adj2" fmla="val -227083"/>
              <a:gd name="adj3" fmla="val 16667"/>
            </a:avLst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确数可以为文章增加说服力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1360" y="1920960"/>
            <a:ext cx="314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6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云南省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了一座世界最长的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独拱石桥，名叫“长虹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大桥”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763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楷体_GB2312"/>
              </a:rPr>
              <a:t>石拱桥的桥洞成弧形，就像虹。</a:t>
            </a:r>
            <a:r>
              <a:rPr b="1" lang="zh-CN" sz="3200" spc="-1" strike="noStrike">
                <a:solidFill>
                  <a:srgbClr val="0087da"/>
                </a:solidFill>
                <a:latin typeface="Arial"/>
                <a:ea typeface="楷体_GB2312"/>
              </a:rPr>
              <a:t>古代神话里说，雨后彩虹是“人间天上的桥”，通过彩虹就能上天。我国的诗人爱把拱桥比作虹，说拱桥是“卧虹”“飞虹”，把水上拱桥形容为“长虹卧波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645000"/>
            <a:ext cx="784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开头把石拱桥的桥洞比作虹，起什么作用？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4221000"/>
            <a:ext cx="59767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7da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87da"/>
                </a:solidFill>
                <a:latin typeface="Arial"/>
              </a:rPr>
              <a:t>、生动形象地说明其形状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7da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87da"/>
                </a:solidFill>
                <a:latin typeface="Arial"/>
              </a:rPr>
              <a:t>、突出其形式优美的特点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351936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spcBef>
                <a:spcPts val="1749"/>
              </a:spcBef>
              <a:buClr>
                <a:srgbClr val="0087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7da"/>
                </a:solidFill>
                <a:latin typeface="Times New Roman"/>
                <a:ea typeface="楷体_GB2312"/>
              </a:rPr>
              <a:t>不可。这两个词表示递进关系，去掉就成了并列关系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297000" indent="-297000">
              <a:spcBef>
                <a:spcPts val="1749"/>
              </a:spcBef>
              <a:buClr>
                <a:srgbClr val="0087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7da"/>
                </a:solidFill>
                <a:latin typeface="Times New Roman"/>
                <a:ea typeface="楷体_GB2312"/>
              </a:rPr>
              <a:t>不可颠倒。形式优美，是初步的直观印象；结构坚固，是进一步的理性认识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093680"/>
            <a:ext cx="8062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这种桥</a:t>
            </a:r>
            <a:r>
              <a:rPr b="0" lang="zh-CN" sz="2800" spc="-1" strike="noStrike">
                <a:solidFill>
                  <a:srgbClr val="ff9933"/>
                </a:solidFill>
                <a:latin typeface="Arial"/>
              </a:rPr>
              <a:t>不但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形式优美，</a:t>
            </a:r>
            <a:r>
              <a:rPr b="0" lang="zh-CN" sz="2800" spc="-1" strike="noStrike">
                <a:solidFill>
                  <a:srgbClr val="ff9933"/>
                </a:solidFill>
                <a:latin typeface="Arial"/>
              </a:rPr>
              <a:t>而且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结构坚固。</a:t>
            </a:r>
            <a:br>
              <a:rPr sz="2800"/>
            </a:b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去掉“不但”“而且” 可以吗？</a:t>
            </a:r>
            <a:br>
              <a:rPr sz="2800"/>
            </a:b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或把“形式优美”、“结构坚固”次序颠倒一下可以吗？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52600" y="3778200"/>
            <a:ext cx="80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749"/>
              </a:spcBef>
              <a:buClr>
                <a:srgbClr val="0087da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7da"/>
                </a:solidFill>
                <a:latin typeface="楷体_GB2312"/>
                <a:ea typeface="楷体_GB2312"/>
              </a:rPr>
              <a:t>不可。这两个词表示根据现有材料推测，这样说防止了绝对化，语言严密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7da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87da"/>
                </a:solidFill>
                <a:latin typeface="Arial"/>
              </a:rPr>
              <a:t>《水经注》里提到的“旅人桥” ，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大约</a:t>
            </a:r>
            <a:r>
              <a:rPr b="0" lang="zh-CN" sz="2400" spc="-1" strike="noStrike">
                <a:solidFill>
                  <a:srgbClr val="0087da"/>
                </a:solidFill>
                <a:latin typeface="Arial"/>
              </a:rPr>
              <a:t>建成于公元</a:t>
            </a:r>
            <a:r>
              <a:rPr b="0" lang="zh-CN" sz="2400" spc="-1" strike="noStrike">
                <a:solidFill>
                  <a:srgbClr val="0087da"/>
                </a:solidFill>
                <a:latin typeface="Arial"/>
              </a:rPr>
              <a:t>282</a:t>
            </a:r>
            <a:r>
              <a:rPr b="0" lang="zh-CN" sz="2400" spc="-1" strike="noStrike">
                <a:solidFill>
                  <a:srgbClr val="0087da"/>
                </a:solidFill>
                <a:latin typeface="Arial"/>
              </a:rPr>
              <a:t>年，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可能</a:t>
            </a:r>
            <a:r>
              <a:rPr b="0" lang="zh-CN" sz="2400" spc="-1" strike="noStrike">
                <a:solidFill>
                  <a:srgbClr val="0087da"/>
                </a:solidFill>
                <a:latin typeface="Arial"/>
              </a:rPr>
              <a:t>是有记载的最早的石拱桥了。</a:t>
            </a:r>
            <a:br>
              <a:rPr sz="2000"/>
            </a:br>
            <a:r>
              <a:rPr b="0" lang="zh-CN" sz="2000" spc="-1" strike="noStrike">
                <a:solidFill>
                  <a:srgbClr val="0087da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“大约”、“可能”可否删除？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76280" y="3490920"/>
            <a:ext cx="81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749"/>
              </a:spcBef>
              <a:buClr>
                <a:srgbClr val="0087da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7da"/>
                </a:solidFill>
                <a:latin typeface="楷体_GB2312"/>
                <a:ea typeface="楷体_GB2312"/>
              </a:rPr>
              <a:t>不可。用上</a:t>
            </a:r>
            <a:r>
              <a:rPr b="1" lang="zh-CN" sz="28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“几乎”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87da"/>
                </a:solidFill>
                <a:latin typeface="楷体_GB2312"/>
                <a:ea typeface="楷体_GB2312"/>
              </a:rPr>
              <a:t>既强调石拱桥分布广泛，又考虑到有的地方没有石拱桥，使语言准确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938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7da"/>
                </a:solidFill>
                <a:latin typeface="Arial"/>
              </a:rPr>
              <a:t>我国的石拱桥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几乎</a:t>
            </a:r>
            <a:r>
              <a:rPr b="0" lang="zh-CN" sz="3200" spc="-1" strike="noStrike">
                <a:solidFill>
                  <a:srgbClr val="0087da"/>
                </a:solidFill>
                <a:latin typeface="Arial"/>
              </a:rPr>
              <a:t>到处都有。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3600" spc="-1" strike="noStrike">
                <a:solidFill>
                  <a:srgbClr val="0087da"/>
                </a:solidFill>
                <a:latin typeface="Arial"/>
              </a:rPr>
              <a:t>“几乎” 可否删除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90972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ff7c80"/>
                </a:solidFill>
                <a:latin typeface="Arial"/>
                <a:ea typeface="华文彩云"/>
              </a:rPr>
              <a:t>概括石拱桥的特点</a:t>
            </a:r>
            <a:endParaRPr b="0" lang="en-US" sz="4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7360" y="2636640"/>
            <a:ext cx="8440560" cy="32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7da"/>
                </a:solidFill>
                <a:latin typeface="Arial"/>
                <a:ea typeface="楷体_GB2312"/>
              </a:rPr>
              <a:t>　　石拱桥在世界桥梁史上出现得比较早。这种桥不但形式优美，而且结构坚固，能几十年几百年甚至上千年雄跨在江河之上，在交通方面发挥作用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05080" y="3197160"/>
            <a:ext cx="727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87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7da"/>
                </a:solidFill>
                <a:latin typeface="Times New Roman"/>
                <a:ea typeface="楷体_GB2312"/>
              </a:rPr>
              <a:t>历史悠久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87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7da"/>
                </a:solidFill>
                <a:latin typeface="Times New Roman"/>
                <a:ea typeface="楷体_GB2312"/>
              </a:rPr>
              <a:t>形式优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87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7da"/>
                </a:solidFill>
                <a:latin typeface="Times New Roman"/>
                <a:ea typeface="楷体_GB2312"/>
              </a:rPr>
              <a:t>结构坚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6320" y="1125360"/>
            <a:ext cx="777240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7da"/>
                </a:solidFill>
                <a:latin typeface="Arial"/>
              </a:rPr>
              <a:t>石拱桥有什么特点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29000" y="6094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 Narrow"/>
                <a:ea typeface="黑体"/>
              </a:rPr>
              <a:t>赵州桥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8458200" cy="4735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99072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朗读课文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段，思考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作者是怎样围绕赵州桥来说明中国石拱桥的特点的？作者的写作思路怎样？用了什么说明结构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5812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3429000"/>
            <a:ext cx="815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四段：赵州桥的位置、建造时间及解放后的修整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五段：赵州桥的长度、宽度、设计施工的精巧分四点说明。设计者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2139840"/>
            <a:ext cx="8534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749"/>
              </a:spcBef>
              <a:buClr>
                <a:srgbClr val="306f7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6f74"/>
                </a:solidFill>
                <a:latin typeface="Times New Roman"/>
              </a:rPr>
              <a:t>赵州桥非常雄伟……唐朝的张嘉贞说它“制造奇特，人不知其所以为”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06f7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6f74"/>
                </a:solidFill>
                <a:latin typeface="Times New Roman"/>
              </a:rPr>
              <a:t>这座桥的特点是……远望这座桥就像“初月出云，长虹饮涧”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06f7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6f74"/>
                </a:solidFill>
                <a:latin typeface="Times New Roman"/>
              </a:rPr>
              <a:t>赵州桥高度的技术水平和不朽的艺术价值……在桥头的碑文里还刻着他的名字。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0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6f74"/>
                </a:solidFill>
                <a:latin typeface="Arial"/>
              </a:rPr>
              <a:t>把第五段分为三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740720" y="2460600"/>
            <a:ext cx="67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总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740720" y="3665520"/>
            <a:ext cx="67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分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812000" y="4745160"/>
            <a:ext cx="6732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总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0520" cy="340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80000" y="836640"/>
            <a:ext cx="32400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7da"/>
                </a:solidFill>
                <a:latin typeface="Times New Roman"/>
              </a:rPr>
              <a:t>茅以升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7da"/>
                </a:solidFill>
                <a:latin typeface="Times New Roman"/>
              </a:rPr>
              <a:t>1896-1989</a:t>
            </a:r>
            <a:r>
              <a:rPr b="1" lang="zh-CN" sz="2800" spc="-1" strike="noStrike">
                <a:solidFill>
                  <a:srgbClr val="0087d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4a2"/>
                </a:solidFill>
                <a:latin typeface="Arial"/>
              </a:rPr>
              <a:t>江苏镇江人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7da"/>
                </a:solidFill>
                <a:latin typeface="Times New Roman"/>
              </a:rPr>
              <a:t>著名桥梁专家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7da"/>
                </a:solidFill>
                <a:latin typeface="Times New Roman"/>
              </a:rPr>
              <a:t>中科院院士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16000" y="188640"/>
            <a:ext cx="4187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600" spc="-1" strike="noStrike">
                <a:solidFill>
                  <a:srgbClr val="ff6600"/>
                </a:solidFill>
                <a:latin typeface="Arial"/>
                <a:ea typeface="华文彩云"/>
              </a:rPr>
              <a:t>作者</a:t>
            </a:r>
            <a:endParaRPr b="0" lang="en-US" sz="7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3664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986360"/>
            <a:ext cx="80629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　　</a:t>
            </a:r>
            <a:r>
              <a:rPr b="0" lang="en-US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1916</a:t>
            </a: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年毕业于唐山工业专门学校土木系。次年获美国康奈尔大学土木专业硕士学位。</a:t>
            </a:r>
            <a:r>
              <a:rPr b="0" lang="en-US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1921</a:t>
            </a: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年获美国卡耐基理工学院工学博士学位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38640" y="3141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4a2"/>
                </a:solidFill>
                <a:latin typeface="Arial"/>
              </a:rPr>
              <a:t>图片背景为钱塘江大桥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789360"/>
            <a:ext cx="8424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　　他主持设计的钱塘江大桥，是我国第一座由中国人自己设计建造的铁路公路两用桥；他还参加了新中国第一座现代化的大桥</a:t>
            </a:r>
            <a:r>
              <a:rPr b="0" lang="en-US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──</a:t>
            </a: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武汉长江大桥的建造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2060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6f74"/>
                </a:solidFill>
                <a:latin typeface="Times New Roman"/>
                <a:ea typeface="楷体_GB2312"/>
              </a:rPr>
              <a:t>由主到次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6f74"/>
                </a:solidFill>
                <a:latin typeface="Arial"/>
              </a:rPr>
              <a:t>赵州桥的四个特点</a:t>
            </a:r>
            <a:br>
              <a:rPr sz="3200"/>
            </a:br>
            <a:r>
              <a:rPr b="0" lang="zh-CN" sz="3200" spc="-1" strike="noStrike">
                <a:solidFill>
                  <a:srgbClr val="306f74"/>
                </a:solidFill>
                <a:latin typeface="Arial"/>
              </a:rPr>
              <a:t>按什么顺序排列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3141720"/>
            <a:ext cx="74170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06f74"/>
                </a:solidFill>
                <a:latin typeface="Arial"/>
              </a:rPr>
              <a:t>写赵州桥长</a:t>
            </a:r>
            <a:r>
              <a:rPr b="0" lang="zh-CN" sz="3600" spc="-1" strike="noStrike">
                <a:solidFill>
                  <a:srgbClr val="306f74"/>
                </a:solidFill>
                <a:latin typeface="Arial"/>
              </a:rPr>
              <a:t>50.82</a:t>
            </a:r>
            <a:r>
              <a:rPr b="0" lang="zh-CN" sz="3600" spc="-1" strike="noStrike">
                <a:solidFill>
                  <a:srgbClr val="306f74"/>
                </a:solidFill>
                <a:latin typeface="Arial"/>
              </a:rPr>
              <a:t>米，宽</a:t>
            </a:r>
            <a:r>
              <a:rPr b="0" lang="zh-CN" sz="3600" spc="-1" strike="noStrike">
                <a:solidFill>
                  <a:srgbClr val="306f74"/>
                </a:solidFill>
                <a:latin typeface="Arial"/>
              </a:rPr>
              <a:t>9.6</a:t>
            </a:r>
            <a:r>
              <a:rPr b="0" lang="zh-CN" sz="3600" spc="-1" strike="noStrike">
                <a:solidFill>
                  <a:srgbClr val="306f74"/>
                </a:solidFill>
                <a:latin typeface="Arial"/>
              </a:rPr>
              <a:t>米，</a:t>
            </a:r>
            <a:br>
              <a:rPr sz="3600"/>
            </a:br>
            <a:r>
              <a:rPr b="0" lang="zh-CN" sz="3600" spc="-1" strike="noStrike">
                <a:solidFill>
                  <a:srgbClr val="306f74"/>
                </a:solidFill>
                <a:latin typeface="Arial"/>
              </a:rPr>
              <a:t>是为了说明什么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4653000"/>
            <a:ext cx="55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使用准确的数字，给读者清晰明确之感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同时也说明赵州桥“非常雄伟”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11280" y="3068640"/>
            <a:ext cx="8024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00000"/>
              </a:lnSpc>
              <a:spcBef>
                <a:spcPts val="1749"/>
              </a:spcBef>
              <a:buClr>
                <a:srgbClr val="0064a2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在当时”从时间上加以限定，更符合实际情况，语言也更准确。不可删除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384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全桥只有一个大拱，长达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37.4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米，</a:t>
            </a:r>
            <a:r>
              <a:rPr b="0" lang="zh-CN" sz="2800" spc="-1" strike="noStrike">
                <a:solidFill>
                  <a:srgbClr val="ff9933"/>
                </a:solidFill>
                <a:latin typeface="Arial"/>
              </a:rPr>
              <a:t>在当时</a:t>
            </a:r>
            <a:r>
              <a:rPr b="0" lang="zh-CN" sz="2800" spc="-1" strike="noStrike">
                <a:solidFill>
                  <a:srgbClr val="0064a2"/>
                </a:solidFill>
                <a:latin typeface="Arial"/>
              </a:rPr>
              <a:t>可算是世界上最长的石拱。</a:t>
            </a:r>
            <a:br>
              <a:rPr sz="2400"/>
            </a:br>
            <a:r>
              <a:rPr b="0" lang="zh-CN" sz="3200" spc="-1" strike="noStrike">
                <a:solidFill>
                  <a:srgbClr val="0064a2"/>
                </a:solidFill>
                <a:latin typeface="Arial"/>
              </a:rPr>
              <a:t> “在当时”可否删去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855880"/>
            <a:ext cx="8229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4a2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节约石料，减轻桥身重量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4a2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在河水暴涨时增加桥洞过水量，减轻洪水对桥身的冲击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4a2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桥身更美观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2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大拱的两肩上，各有两个小拱。</a:t>
            </a:r>
            <a:r>
              <a:rPr b="0" lang="zh-CN" sz="2800" spc="-1" strike="noStrike">
                <a:solidFill>
                  <a:srgbClr val="0064a2"/>
                </a:solidFill>
                <a:latin typeface="Arial"/>
              </a:rPr>
              <a:t>这种设计有哪几种作用？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724360" y="4437000"/>
            <a:ext cx="187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作诠释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2627280"/>
            <a:ext cx="815328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 algn="ctr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明赵州桥制造奇特，施工技术巧妙绝伦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297000" indent="-297000" algn="ctr">
              <a:spcBef>
                <a:spcPts val="561"/>
              </a:spcBef>
              <a:buClr>
                <a:srgbClr val="0087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7a77"/>
              </a:solidFill>
              <a:latin typeface="Times New Roman"/>
            </a:endParaRPr>
          </a:p>
          <a:p>
            <a:pPr marL="297000" indent="-297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a2"/>
                </a:solidFill>
                <a:latin typeface="Times New Roman"/>
              </a:rPr>
              <a:t>引用张鷟的话是什么目的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297000" indent="-297000" algn="ctr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明赵州桥形式优美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36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4a2"/>
                </a:solidFill>
                <a:latin typeface="Arial"/>
              </a:rPr>
              <a:t>引用张嘉贞的话是什么目的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2895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赵州桥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1295280"/>
            <a:ext cx="75960" cy="4419720"/>
          </a:xfrm>
          <a:custGeom>
            <a:avLst/>
            <a:gdLst>
              <a:gd name="textAreaLeft" fmla="*/ 48600 w 75960"/>
              <a:gd name="textAreaRight" fmla="*/ 76320 w 7596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990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．形式优美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16765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初月出云，长虹饮涧”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2590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．结构坚固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33526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300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年，仍保持原来的雄姿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42670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．历史悠久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5257800"/>
            <a:ext cx="47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修建于公元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605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年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242100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逻辑顺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291960" indent="-29196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7da"/>
                </a:solidFill>
                <a:latin typeface="Times New Roman"/>
              </a:rPr>
              <a:t>这一段运用了什么说明方法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291960" indent="-291960" algn="ctr">
              <a:spcBef>
                <a:spcPts val="1749"/>
              </a:spcBef>
              <a:buClr>
                <a:srgbClr val="0064a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列数字　打比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291960" indent="-291960" algn="ctr">
              <a:spcBef>
                <a:spcPts val="1749"/>
              </a:spcBef>
              <a:buClr>
                <a:srgbClr val="0064a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作诠释　引资料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7964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写赵州桥这一段</a:t>
            </a:r>
            <a:br>
              <a:rPr sz="2800"/>
            </a:b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运用了什么说明顺序？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24080" y="30492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ff"/>
                </a:solidFill>
                <a:latin typeface="Arial Narrow"/>
                <a:ea typeface="隶书"/>
              </a:rPr>
              <a:t>卢沟桥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1319040"/>
            <a:ext cx="8153280" cy="5234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8200" y="752400"/>
            <a:ext cx="8067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7da"/>
                </a:solidFill>
                <a:latin typeface="Arial"/>
                <a:ea typeface="华文彩云"/>
              </a:rPr>
              <a:t>朗读写卢沟桥的</a:t>
            </a:r>
            <a:r>
              <a:rPr b="0" lang="en-US" sz="3200" spc="-1" strike="noStrike">
                <a:solidFill>
                  <a:srgbClr val="0087da"/>
                </a:solidFill>
                <a:latin typeface="Arial"/>
                <a:ea typeface="华文彩云"/>
              </a:rPr>
              <a:t>6</a:t>
            </a:r>
            <a:r>
              <a:rPr b="0" lang="zh-CN" sz="3200" spc="-1" strike="noStrike">
                <a:solidFill>
                  <a:srgbClr val="0087da"/>
                </a:solidFill>
                <a:latin typeface="Arial"/>
                <a:ea typeface="华文彩云"/>
              </a:rPr>
              <a:t>、</a:t>
            </a:r>
            <a:r>
              <a:rPr b="0" lang="en-US" sz="3200" spc="-1" strike="noStrike">
                <a:solidFill>
                  <a:srgbClr val="0087da"/>
                </a:solidFill>
                <a:latin typeface="Arial"/>
                <a:ea typeface="华文彩云"/>
              </a:rPr>
              <a:t>7</a:t>
            </a:r>
            <a:r>
              <a:rPr b="0" lang="zh-CN" sz="3200" spc="-1" strike="noStrike">
                <a:solidFill>
                  <a:srgbClr val="0087da"/>
                </a:solidFill>
                <a:latin typeface="Arial"/>
                <a:ea typeface="华文彩云"/>
              </a:rPr>
              <a:t>、</a:t>
            </a:r>
            <a:r>
              <a:rPr b="0" lang="en-US" sz="3200" spc="-1" strike="noStrike">
                <a:solidFill>
                  <a:srgbClr val="0087da"/>
                </a:solidFill>
                <a:latin typeface="Arial"/>
                <a:ea typeface="华文彩云"/>
              </a:rPr>
              <a:t>8</a:t>
            </a:r>
            <a:r>
              <a:rPr b="0" lang="zh-CN" sz="3200" spc="-1" strike="noStrike">
                <a:solidFill>
                  <a:srgbClr val="0087da"/>
                </a:solidFill>
                <a:latin typeface="Arial"/>
                <a:ea typeface="华文彩云"/>
              </a:rPr>
              <a:t>自然段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41440" y="2074680"/>
            <a:ext cx="806112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　　永定河上的卢沟桥，修建于公元</a:t>
            </a:r>
            <a:r>
              <a:rPr b="0" lang="en-US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1189</a:t>
            </a: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到</a:t>
            </a:r>
            <a:r>
              <a:rPr b="0" lang="en-US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1192</a:t>
            </a: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年间</a:t>
            </a:r>
            <a:r>
              <a:rPr b="0" lang="en-US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揭开了抗日战争的序幕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693800" y="3429000"/>
            <a:ext cx="5754600" cy="26956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指出卢沟桥的下列情况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位置：位于永定河上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修建年代：公元</a:t>
            </a: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1189——1192</a:t>
            </a: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结构特征：由</a:t>
            </a: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个半圆形的石拱组成，每个石拱长度不一，自</a:t>
            </a: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米到</a:t>
            </a: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21.6</a:t>
            </a: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米。每两个石拱之间有石砌桥墩，把</a:t>
            </a: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个石拱联成一个整体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1830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buClr>
                <a:srgbClr val="0064a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卢沟桥是联拱石桥，赵州桥是独拱石桥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2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4a2"/>
                </a:solidFill>
                <a:latin typeface="Arial"/>
              </a:rPr>
              <a:t>卢沟桥与赵州桥最大的不同是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4680000" cy="3151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27640" y="2708280"/>
            <a:ext cx="4537080" cy="3168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709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64a2"/>
                </a:solidFill>
                <a:latin typeface="Arial"/>
              </a:rPr>
              <a:t>茅以升</a:t>
            </a:r>
            <a:endParaRPr b="0" lang="en-US" sz="4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335772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4a2"/>
                </a:solidFill>
                <a:latin typeface="Arial"/>
                <a:ea typeface="楷体_GB2312"/>
              </a:rPr>
              <a:t>他为我国桥梁设计、建设事业作出了杰出的贡献，同时致力于研究和教学工作，在教育界工作二十余年中当过五所学校的教授、两个大学的校长、两个学院的院长。积极倡导科普教育，培养了大批专门人才，并撰写了大量介绍桥梁知识的文章，著有</a:t>
            </a:r>
            <a:r>
              <a:rPr b="0" lang="en-US" sz="3200" spc="-1" strike="noStrike">
                <a:solidFill>
                  <a:srgbClr val="0064a2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64a2"/>
                </a:solidFill>
                <a:latin typeface="Arial"/>
                <a:ea typeface="楷体_GB2312"/>
              </a:rPr>
              <a:t>桥话</a:t>
            </a:r>
            <a:r>
              <a:rPr b="0" lang="en-US" sz="3200" spc="-1" strike="noStrike">
                <a:solidFill>
                  <a:srgbClr val="0064a2"/>
                </a:solidFill>
                <a:latin typeface="Arial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64a2"/>
                </a:solidFill>
                <a:latin typeface="Arial"/>
                <a:ea typeface="楷体_GB2312"/>
              </a:rPr>
              <a:t>、</a:t>
            </a:r>
            <a:r>
              <a:rPr b="0" lang="en-US" sz="3200" spc="-1" strike="noStrike">
                <a:solidFill>
                  <a:srgbClr val="0064a2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64a2"/>
                </a:solidFill>
                <a:latin typeface="Arial"/>
                <a:ea typeface="楷体_GB2312"/>
              </a:rPr>
              <a:t>中国桥梁史</a:t>
            </a:r>
            <a:r>
              <a:rPr b="0" lang="en-US" sz="3200" spc="-1" strike="noStrike">
                <a:solidFill>
                  <a:srgbClr val="0064a2"/>
                </a:solidFill>
                <a:latin typeface="Arial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64a2"/>
                </a:solidFill>
                <a:latin typeface="Arial"/>
                <a:ea typeface="楷体_GB2312"/>
              </a:rPr>
              <a:t>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35280" y="189000"/>
            <a:ext cx="4330800" cy="2808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95440" y="3557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说明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历史悠久</a:t>
            </a:r>
            <a:r>
              <a:rPr b="1" lang="zh-CN" sz="32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”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96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a2"/>
                </a:solidFill>
                <a:latin typeface="Arial"/>
              </a:rPr>
              <a:t>写卢沟桥的修建年代</a:t>
            </a:r>
            <a:br>
              <a:rPr sz="3600"/>
            </a:br>
            <a:r>
              <a:rPr b="0" lang="zh-CN" sz="3600" spc="-1" strike="noStrike">
                <a:solidFill>
                  <a:srgbClr val="0064a2"/>
                </a:solidFill>
                <a:latin typeface="Arial"/>
              </a:rPr>
              <a:t>是为了说明它什么特点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350028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拿河堤与卢沟桥作比较，说明卢沟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结构坚固</a:t>
            </a: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411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a2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64a2"/>
                </a:solidFill>
                <a:latin typeface="Arial"/>
              </a:rPr>
              <a:t>写“永定河发水时，来势很猛，两岸河堤常被冲毁”是什么意图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95360" y="4424400"/>
            <a:ext cx="45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说明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形式优美</a:t>
            </a:r>
            <a:r>
              <a:rPr b="1" lang="zh-CN" sz="32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”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30000"/>
            <a:ext cx="3886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a2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64a2"/>
                </a:solidFill>
                <a:latin typeface="Arial"/>
              </a:rPr>
              <a:t>写柱头上的狮子是为了说明它什么特点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4120" y="1239840"/>
            <a:ext cx="2879640" cy="4276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1557360"/>
            <a:ext cx="8229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每个柱头上都雕刻着不同姿态的狮子。这些石刻狮子，有的母子相抱，有的交头接耳，有的像倾听水声，千态万状，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惟妙惟肖</a:t>
            </a: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64a2"/>
                </a:solidFill>
                <a:latin typeface="Times New Roman"/>
              </a:rPr>
              <a:t>惟妙惟肖”：</a:t>
            </a:r>
            <a:r>
              <a:rPr b="0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形容描绘得十分精妙逼真。肖，相似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64a2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4a2"/>
                </a:solidFill>
                <a:latin typeface="Arial"/>
              </a:rPr>
              <a:t>这一段运用“描写” 的句子是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40053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 algn="ctr">
              <a:spcBef>
                <a:spcPts val="1749"/>
              </a:spcBef>
              <a:buClr>
                <a:srgbClr val="0064a2"/>
              </a:buClr>
              <a:buFont typeface="Times New Roman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运用描写的手法，使文章生动、形象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4869000"/>
            <a:ext cx="7777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64a2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a2"/>
                </a:solidFill>
                <a:latin typeface="Arial"/>
              </a:rPr>
              <a:t>第六段采用了哪些说明方法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列数字、作诠释、作比较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82400" y="1949040"/>
            <a:ext cx="6716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64a2"/>
                </a:solidFill>
                <a:latin typeface="Arial"/>
              </a:rPr>
              <a:t>写马可</a:t>
            </a: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Times New Roman"/>
              </a:rPr>
              <a:t>·</a:t>
            </a:r>
            <a:r>
              <a:rPr b="0" lang="zh-CN" sz="2800" spc="-1" strike="noStrike">
                <a:solidFill>
                  <a:srgbClr val="0064a2"/>
                </a:solidFill>
                <a:latin typeface="Arial"/>
              </a:rPr>
              <a:t>波罗十分推崇卢沟桥，</a:t>
            </a:r>
            <a:br>
              <a:rPr sz="2800"/>
            </a:br>
            <a:r>
              <a:rPr b="0" lang="zh-CN" sz="2800" spc="-1" strike="noStrike">
                <a:solidFill>
                  <a:srgbClr val="0064a2"/>
                </a:solidFill>
                <a:latin typeface="Arial"/>
              </a:rPr>
              <a:t>是什么意图？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9760" y="3708360"/>
            <a:ext cx="726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spcBef>
                <a:spcPts val="1749"/>
              </a:spcBef>
              <a:buClr>
                <a:srgbClr val="0064a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说明“早在</a:t>
            </a: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世纪，卢沟桥就闻名世界”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297000" indent="-297000">
              <a:spcBef>
                <a:spcPts val="1749"/>
              </a:spcBef>
              <a:buClr>
                <a:srgbClr val="0064a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也说明它“美丽”，是“惊人的杰作”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7940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64a2"/>
                </a:solidFill>
                <a:latin typeface="Arial"/>
              </a:rPr>
              <a:t>写“卢沟晓月”很早就成为北京的胜景，是什么意图？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84520" y="29275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spcBef>
                <a:spcPts val="1749"/>
              </a:spcBef>
              <a:buClr>
                <a:srgbClr val="0064a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说明它“建筑优美”（或形式优美）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297000" indent="-297000">
              <a:spcBef>
                <a:spcPts val="1749"/>
              </a:spcBef>
              <a:buClr>
                <a:srgbClr val="0064a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也说明它是“惊人的杰作”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2997360" cy="40291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19000" y="13287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Arial"/>
              </a:rPr>
              <a:t>石拱桥——我国的石拱桥——赵州桥和卢沟桥</a:t>
            </a:r>
            <a:br>
              <a:rPr sz="3200"/>
            </a:br>
            <a:r>
              <a:rPr b="0" lang="zh-CN" sz="3200" spc="-1" strike="noStrike">
                <a:solidFill>
                  <a:srgbClr val="0087da"/>
                </a:solidFill>
                <a:latin typeface="Arial"/>
              </a:rPr>
              <a:t>这是什么顺序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87160" y="3670200"/>
            <a:ext cx="823428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7da"/>
                </a:solidFill>
                <a:latin typeface="Arial"/>
                <a:ea typeface="楷体_GB2312"/>
              </a:rPr>
              <a:t>范围由大到小，由概括到具体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7da"/>
                </a:solidFill>
                <a:latin typeface="Arial"/>
                <a:ea typeface="楷体_GB2312"/>
              </a:rPr>
              <a:t>属逻辑顺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267920"/>
            <a:ext cx="8062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7da"/>
                </a:solidFill>
                <a:latin typeface="Arial"/>
                <a:ea typeface="华文彩云"/>
              </a:rPr>
              <a:t>概括我国石拱桥的特点：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0360" y="2349000"/>
            <a:ext cx="853272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7da"/>
                </a:solidFill>
                <a:latin typeface="Arial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0087da"/>
                </a:solidFill>
                <a:latin typeface="Arial"/>
                <a:ea typeface="楷体_GB2312"/>
              </a:rPr>
              <a:t>我国的石拱桥有悠久的历史。</a:t>
            </a:r>
            <a:r>
              <a:rPr b="0" lang="en-US" sz="3600" spc="-1" strike="noStrike">
                <a:solidFill>
                  <a:srgbClr val="0087da"/>
                </a:solidFill>
                <a:latin typeface="Arial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87da"/>
                </a:solidFill>
                <a:latin typeface="Arial"/>
                <a:ea typeface="楷体_GB2312"/>
              </a:rPr>
              <a:t>水经注</a:t>
            </a:r>
            <a:r>
              <a:rPr b="0" lang="en-US" sz="3600" spc="-1" strike="noStrike">
                <a:solidFill>
                  <a:srgbClr val="0087da"/>
                </a:solidFill>
                <a:latin typeface="Arial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87da"/>
                </a:solidFill>
                <a:latin typeface="Arial"/>
                <a:ea typeface="楷体_GB2312"/>
              </a:rPr>
              <a:t>里提到的“旅人桥</a:t>
            </a:r>
            <a:r>
              <a:rPr b="0" lang="en-US" sz="3600" spc="-1" strike="noStrike">
                <a:solidFill>
                  <a:srgbClr val="0087da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87da"/>
                </a:solidFill>
                <a:latin typeface="Arial"/>
                <a:ea typeface="楷体_GB2312"/>
              </a:rPr>
              <a:t>，大约建成于公元</a:t>
            </a:r>
            <a:r>
              <a:rPr b="0" lang="en-US" sz="3600" spc="-1" strike="noStrike">
                <a:solidFill>
                  <a:srgbClr val="0087da"/>
                </a:solidFill>
                <a:latin typeface="Arial"/>
                <a:ea typeface="楷体_GB2312"/>
              </a:rPr>
              <a:t>282</a:t>
            </a:r>
            <a:r>
              <a:rPr b="0" lang="zh-CN" sz="3600" spc="-1" strike="noStrike">
                <a:solidFill>
                  <a:srgbClr val="0087da"/>
                </a:solidFill>
                <a:latin typeface="Arial"/>
                <a:ea typeface="楷体_GB2312"/>
              </a:rPr>
              <a:t>年，可能是有记载的最早的石拱桥了。我国的石拱桥几乎到处都有。这些桥大小不一，形式多样，有许多是惊人的杰作。其中最著名的当推河北省赵县的赵州桥，还有北京丰台区的卢沟桥。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0720" y="685800"/>
            <a:ext cx="829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7da"/>
                </a:solidFill>
                <a:latin typeface="Arial"/>
                <a:ea typeface="华文彩云"/>
              </a:rPr>
              <a:t>朗读第九段、</a:t>
            </a:r>
            <a:r>
              <a:rPr b="0" lang="zh-CN" sz="3200" spc="-1" strike="noStrike">
                <a:solidFill>
                  <a:srgbClr val="0064a2"/>
                </a:solidFill>
                <a:latin typeface="Arial"/>
                <a:ea typeface="华文彩云"/>
              </a:rPr>
              <a:t>概括这一段段意</a:t>
            </a:r>
            <a:r>
              <a:rPr b="0" lang="zh-CN" sz="3200" spc="-1" strike="noStrike">
                <a:solidFill>
                  <a:srgbClr val="0087da"/>
                </a:solidFill>
                <a:latin typeface="Arial"/>
                <a:ea typeface="华文彩云"/>
              </a:rPr>
              <a:t>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582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87da"/>
                </a:solidFill>
                <a:latin typeface="Arial"/>
                <a:ea typeface="楷体_GB2312"/>
              </a:rPr>
              <a:t>　　为什么我国的石拱桥会有这样光辉的成就呢</a:t>
            </a:r>
            <a:r>
              <a:rPr b="0" lang="en-US" sz="2600" spc="-1" strike="noStrike">
                <a:solidFill>
                  <a:srgbClr val="0087da"/>
                </a:solidFill>
                <a:latin typeface="Arial"/>
                <a:ea typeface="楷体_GB2312"/>
              </a:rPr>
              <a:t>?</a:t>
            </a:r>
            <a:r>
              <a:rPr b="0" lang="zh-CN" sz="2600" spc="-1" strike="noStrike">
                <a:solidFill>
                  <a:srgbClr val="0087da"/>
                </a:solidFill>
                <a:latin typeface="Arial"/>
                <a:ea typeface="楷体_GB2312"/>
              </a:rPr>
              <a:t>首先，在于我国劳动人民的勤劳和智慧。他们制作石料的工艺极其精巧，能把石料切成整块大石碑，又能把石块雕刻成各种形象。在建筑技术上有很多创造，在起重吊装方面更有意想不到的办法。如福建漳州的江东桥，修建于八百年前，有的石梁一块就有二百来吨重，究竟是怎样安装上去的，至今还不完全知道。其次，我国石拱桥的设计施工有优良传统，建成的桥，用料省，结构巧，强度高。再其次，我国富有建筑用的各种石料，便于就地取材，这也为修造石桥提供了有利条件。 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5229360"/>
            <a:ext cx="77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国石拱桥取得光辉成就的原因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39800" y="2319480"/>
            <a:ext cx="815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 algn="just">
              <a:lnSpc>
                <a:spcPct val="100000"/>
              </a:lnSpc>
              <a:spcBef>
                <a:spcPts val="1749"/>
              </a:spcBef>
              <a:buClr>
                <a:srgbClr val="ff99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首先</a:t>
            </a:r>
            <a:r>
              <a:rPr b="1" lang="zh-CN" sz="2800" spc="-1" strike="noStrike">
                <a:solidFill>
                  <a:srgbClr val="0087da"/>
                </a:solidFill>
                <a:latin typeface="楷体_GB2312"/>
                <a:ea typeface="楷体_GB2312"/>
              </a:rPr>
              <a:t>是我国劳动人民的勤劳和智慧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297000" indent="-297000" algn="just">
              <a:lnSpc>
                <a:spcPct val="100000"/>
              </a:lnSpc>
              <a:spcBef>
                <a:spcPts val="1749"/>
              </a:spcBef>
              <a:buClr>
                <a:srgbClr val="ff99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其次</a:t>
            </a:r>
            <a:r>
              <a:rPr b="1" lang="zh-CN" sz="2800" spc="-1" strike="noStrike">
                <a:solidFill>
                  <a:srgbClr val="0087da"/>
                </a:solidFill>
                <a:latin typeface="楷体_GB2312"/>
                <a:ea typeface="楷体_GB2312"/>
              </a:rPr>
              <a:t>是我国石拱桥的设计施工有优良的传统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297000" indent="-297000" algn="just">
              <a:lnSpc>
                <a:spcPct val="100000"/>
              </a:lnSpc>
              <a:spcBef>
                <a:spcPts val="1749"/>
              </a:spcBef>
              <a:buClr>
                <a:srgbClr val="ff99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再次</a:t>
            </a:r>
            <a:r>
              <a:rPr b="1" lang="zh-CN" sz="2800" spc="-1" strike="noStrike">
                <a:solidFill>
                  <a:srgbClr val="0087da"/>
                </a:solidFill>
                <a:latin typeface="楷体_GB2312"/>
                <a:ea typeface="楷体_GB2312"/>
              </a:rPr>
              <a:t>是我国富有建筑用的各种石料，便于就地取材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0240" y="85068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7da"/>
                </a:solidFill>
                <a:latin typeface="楷体_GB2312"/>
              </a:rPr>
              <a:t>我国石拱桥取得光辉成就</a:t>
            </a:r>
            <a:br>
              <a:rPr sz="3200"/>
            </a:br>
            <a:r>
              <a:rPr b="0" lang="zh-CN" sz="3200" spc="-1" strike="noStrike">
                <a:solidFill>
                  <a:srgbClr val="0087da"/>
                </a:solidFill>
                <a:latin typeface="楷体_GB2312"/>
              </a:rPr>
              <a:t>有哪些原因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5084640"/>
            <a:ext cx="584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7da"/>
                </a:solidFill>
                <a:latin typeface="Times New Roman"/>
              </a:rPr>
              <a:t>这些原因按什么顺序排列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297000" indent="-297000">
              <a:spcBef>
                <a:spcPts val="1749"/>
              </a:spcBef>
              <a:buClr>
                <a:srgbClr val="0087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7da"/>
                </a:solidFill>
                <a:latin typeface="Times New Roman"/>
                <a:ea typeface="楷体_GB2312"/>
              </a:rPr>
              <a:t>由主到次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6920" y="1916280"/>
            <a:ext cx="79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拱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桥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ŏng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弧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形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ú      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河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xiáo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坡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ŏu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zhăng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匀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únchè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xié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鷟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zhuó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墩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ūn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河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堤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ī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惟妙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xiào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崇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óng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祟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uì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鬼鬼祟祟 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赞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ēng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5734080"/>
            <a:ext cx="106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404640"/>
            <a:ext cx="201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注音：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278280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 algn="just">
              <a:spcBef>
                <a:spcPts val="1749"/>
              </a:spcBef>
              <a:buClr>
                <a:srgbClr val="0064a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说明“我国劳动人民的勤劳和智慧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297000" indent="-297000" algn="just">
              <a:spcBef>
                <a:spcPts val="1749"/>
              </a:spcBef>
              <a:buClr>
                <a:srgbClr val="0064a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Times New Roman"/>
                <a:ea typeface="楷体_GB2312"/>
              </a:rPr>
              <a:t>说明 “在建筑技术上有很多创造，在起重吊装方面更有意想不到的办法” 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422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7da"/>
                </a:solidFill>
                <a:latin typeface="Arial"/>
              </a:rPr>
              <a:t>举江东桥的例子是想说明什么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520" y="690480"/>
            <a:ext cx="84582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4a2"/>
                </a:solidFill>
                <a:latin typeface="Arial"/>
                <a:ea typeface="华文彩云"/>
              </a:rPr>
              <a:t>朗读第十段、概括这一段段意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520" y="1625760"/>
            <a:ext cx="8458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64a2"/>
                </a:solidFill>
                <a:latin typeface="Arial"/>
                <a:ea typeface="楷体_GB2312"/>
              </a:rPr>
              <a:t>　　两千年来，我国修建了无数的石拱桥。解放后，全国大规模兴建起各种型式的公路桥与铁路桥，其中就有不少石拱桥。</a:t>
            </a:r>
            <a:r>
              <a:rPr b="0" lang="zh-CN" sz="2700" spc="-1" strike="noStrike">
                <a:solidFill>
                  <a:srgbClr val="0064a2"/>
                </a:solidFill>
                <a:latin typeface="Arial"/>
                <a:ea typeface="楷体_GB2312"/>
              </a:rPr>
              <a:t>1961</a:t>
            </a:r>
            <a:r>
              <a:rPr b="0" lang="zh-CN" sz="2700" spc="-1" strike="noStrike">
                <a:solidFill>
                  <a:srgbClr val="0064a2"/>
                </a:solidFill>
                <a:latin typeface="Arial"/>
                <a:ea typeface="楷体_GB2312"/>
              </a:rPr>
              <a:t>年，云南省建成了一座世界最长的独拱石桥，名叫“长虹大桥”，石拱长达</a:t>
            </a:r>
            <a:r>
              <a:rPr b="0" lang="zh-CN" sz="2700" spc="-1" strike="noStrike">
                <a:solidFill>
                  <a:srgbClr val="0064a2"/>
                </a:solidFill>
                <a:latin typeface="Arial"/>
                <a:ea typeface="楷体_GB2312"/>
              </a:rPr>
              <a:t>112.5</a:t>
            </a:r>
            <a:r>
              <a:rPr b="0" lang="zh-CN" sz="2700" spc="-1" strike="noStrike">
                <a:solidFill>
                  <a:srgbClr val="0064a2"/>
                </a:solidFill>
                <a:latin typeface="Arial"/>
                <a:ea typeface="楷体_GB2312"/>
              </a:rPr>
              <a:t>米。在传统的石拱桥的基础上，我们还造了大量的钢筋混凝土拱桥，其中“双曲拱桥”是我国劳动人民的新创造，是世界上所仅有的。近几年来，全国造了总长二十余万米的这种拱桥，其中最大的一孔，长达</a:t>
            </a:r>
            <a:r>
              <a:rPr b="0" lang="zh-CN" sz="2700" spc="-1" strike="noStrike">
                <a:solidFill>
                  <a:srgbClr val="0064a2"/>
                </a:solidFill>
                <a:latin typeface="Arial"/>
                <a:ea typeface="楷体_GB2312"/>
              </a:rPr>
              <a:t>150</a:t>
            </a:r>
            <a:r>
              <a:rPr b="0" lang="zh-CN" sz="2700" spc="-1" strike="noStrike">
                <a:solidFill>
                  <a:srgbClr val="0064a2"/>
                </a:solidFill>
                <a:latin typeface="Arial"/>
                <a:ea typeface="楷体_GB2312"/>
              </a:rPr>
              <a:t>米。我国桥梁事业的飞跃发展，表明了我国社会主义制度的无比优越。 </a:t>
            </a:r>
            <a:endParaRPr b="0" lang="en-US" sz="27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5445000"/>
            <a:ext cx="60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解放后我国石拱桥的发展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63480" y="135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7da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87da"/>
                </a:solidFill>
                <a:latin typeface="Arial"/>
              </a:rPr>
              <a:t>发展”分为哪几方面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09520" y="2555640"/>
            <a:ext cx="7772400" cy="28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4a2"/>
                </a:solidFill>
                <a:latin typeface="Arial"/>
                <a:ea typeface="楷体_GB2312"/>
              </a:rPr>
              <a:t>数量增多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4a2"/>
                </a:solidFill>
                <a:latin typeface="Arial"/>
                <a:ea typeface="楷体_GB2312"/>
              </a:rPr>
              <a:t>跨度加大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4a2"/>
                </a:solidFill>
                <a:latin typeface="Arial"/>
                <a:ea typeface="楷体_GB2312"/>
              </a:rPr>
              <a:t>由石拱桥发展为钢筋混凝土拱桥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4a2"/>
                </a:solidFill>
                <a:latin typeface="Arial"/>
                <a:ea typeface="楷体_GB2312"/>
              </a:rPr>
              <a:t>创造了“双曲拱桥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67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7da"/>
                </a:solidFill>
                <a:latin typeface="Arial"/>
              </a:rPr>
              <a:t>填表概括赵州桥和卢沟桥的特点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5280" y="1052640"/>
          <a:ext cx="8413920" cy="5225760"/>
        </p:xfrm>
        <a:graphic>
          <a:graphicData uri="http://schemas.openxmlformats.org/drawingml/2006/table">
            <a:tbl>
              <a:tblPr/>
              <a:tblGrid>
                <a:gridCol w="685800"/>
                <a:gridCol w="1067040"/>
                <a:gridCol w="1676160"/>
                <a:gridCol w="4984920"/>
              </a:tblGrid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7da"/>
                          </a:solidFill>
                          <a:latin typeface="Arial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7da"/>
                          </a:solidFill>
                          <a:latin typeface="Arial"/>
                        </a:rPr>
                        <a:t>位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7da"/>
                          </a:solidFill>
                          <a:latin typeface="Arial"/>
                        </a:rPr>
                        <a:t>修建年代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7da"/>
                          </a:solidFill>
                          <a:latin typeface="Arial"/>
                        </a:rPr>
                        <a:t>结构特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1872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88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7da"/>
                          </a:solidFill>
                          <a:latin typeface="Arial"/>
                        </a:rPr>
                        <a:t>赵州桥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7da"/>
                          </a:solidFill>
                          <a:latin typeface="Arial"/>
                        </a:rPr>
                        <a:t>卢沟桥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1872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872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209680" y="2209680"/>
            <a:ext cx="14479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公元</a:t>
            </a: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605</a:t>
            </a: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年左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1189</a:t>
            </a: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到</a:t>
            </a: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1192</a:t>
            </a: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年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2133720"/>
            <a:ext cx="106668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横跨在洨河上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位于永定河上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23623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2133720"/>
            <a:ext cx="4800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全桥只有一个大拱，长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37.4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米。大拱的两肩上，各有两个小拱。大拱由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28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道拱圈拼成，就像这么多同样形状的弓合拢在一起。结构匀称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由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个半圆形的石拱组成，每个石拱长度自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米到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21.6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米。桥宽约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米，路面平坦。每两个石拱之间有石砌桥墩，把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个石拱联成一个整体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2585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Arial"/>
              </a:rPr>
              <a:t>本文题为“中国石拱桥”，</a:t>
            </a:r>
            <a:br>
              <a:rPr sz="2800"/>
            </a:br>
            <a:r>
              <a:rPr b="0" lang="zh-CN" sz="2800" spc="-1" strike="noStrike">
                <a:solidFill>
                  <a:srgbClr val="0064a2"/>
                </a:solidFill>
                <a:latin typeface="Arial"/>
              </a:rPr>
              <a:t>却为什么用大量篇幅写赵州桥和卢沟桥？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3531960"/>
            <a:ext cx="854064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写赵州桥和卢沟桥，是作为有代表性例子写中国石拱桥的特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067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下列句子运用了什么说明方法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石拱桥的桥洞成弧形，就像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我国的石拱桥有悠久的历史。《水经注》里提到的“旅人桥”，大约建成于公元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282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年，可能是有记载的最早的石拱桥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桥洞不是普通半圆形，而是像一张弓，因而大拱上面的道路没有陡坡，便于车马上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这个创造性的设计，不但节约了石料，减轻了桥身的重量，而且在河水暴涨的时候，还可以增加桥洞的过水量，减轻洪水对桥身体的冲击。同时，拱上加拱，桥身也更美观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78560" y="11574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Times New Roman"/>
                <a:ea typeface="华文新魏"/>
              </a:rPr>
              <a:t>打比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56400" y="2590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Times New Roman"/>
                <a:ea typeface="华文新魏"/>
              </a:rPr>
              <a:t>举例子    引资料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13600" y="3581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Times New Roman"/>
                <a:ea typeface="华文新魏"/>
              </a:rPr>
              <a:t>打比方　作诠释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54100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Times New Roman"/>
                <a:ea typeface="华文新魏"/>
              </a:rPr>
              <a:t>作诠释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80520" y="674280"/>
            <a:ext cx="8458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桥长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265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米，由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个半圆形的石拱组成，每个石拱长度不一，自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米到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21.6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米。桥宽约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米，路面平坦，几乎与河面平行。</a:t>
            </a:r>
            <a:br>
              <a:rPr sz="2800"/>
            </a:b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永定河发水时，来势很猛，以前两岸河堤常被冲毁，但是这座桥从没出过事，足见它的坚固。</a:t>
            </a:r>
            <a:br>
              <a:rPr sz="2800"/>
            </a:b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在起重吊装方面更有意想不到的办法。如福建漳州的江东桥，修建于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800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年前，有的石梁一块就有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200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来吨重，究竟是怎样安装上去的，至今还不完全知道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16034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Times New Roman"/>
                <a:ea typeface="华文新魏"/>
              </a:rPr>
              <a:t>列数字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30542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Times New Roman"/>
                <a:ea typeface="华文新魏"/>
              </a:rPr>
              <a:t>作比较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4854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Times New Roman"/>
                <a:ea typeface="华文新魏"/>
              </a:rPr>
              <a:t>举例子  列数字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2209680"/>
            <a:ext cx="838080" cy="26672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2667240"/>
              <a:gd name="textAreaBottom" fmla="*/ 2613240 h 2667240"/>
            </a:gdLst>
            <a:ahLst/>
            <a:rect l="textAreaLeft" t="textAreaTop" r="textAreaRight" b="textAreaBottom"/>
            <a:pathLst>
              <a:path w="21600" h="68723">
                <a:moveTo>
                  <a:pt x="0" y="0"/>
                </a:moveTo>
                <a:lnTo>
                  <a:pt x="21600" y="0"/>
                </a:lnTo>
                <a:lnTo>
                  <a:pt x="21600" y="68723"/>
                </a:lnTo>
                <a:lnTo>
                  <a:pt x="0" y="68723"/>
                </a:lnTo>
                <a:close/>
              </a:path>
              <a:path fill="lightenLess" w="21600" h="68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8723">
                <a:moveTo>
                  <a:pt x="21600" y="0"/>
                </a:moveTo>
                <a:lnTo>
                  <a:pt x="21600" y="68723"/>
                </a:lnTo>
                <a:lnTo>
                  <a:pt x="20200" y="67323"/>
                </a:lnTo>
                <a:lnTo>
                  <a:pt x="20200" y="1400"/>
                </a:lnTo>
                <a:close/>
              </a:path>
              <a:path fill="darkenLess" w="21600" h="68723">
                <a:moveTo>
                  <a:pt x="21600" y="68723"/>
                </a:moveTo>
                <a:lnTo>
                  <a:pt x="0" y="68723"/>
                </a:lnTo>
                <a:lnTo>
                  <a:pt x="1400" y="67323"/>
                </a:lnTo>
                <a:lnTo>
                  <a:pt x="20200" y="67323"/>
                </a:lnTo>
                <a:close/>
              </a:path>
              <a:path fill="lighten" w="21600" h="68723">
                <a:moveTo>
                  <a:pt x="0" y="68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67323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石拱桥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2209680"/>
            <a:ext cx="838080" cy="26672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2667240"/>
              <a:gd name="textAreaBottom" fmla="*/ 2613240 h 2667240"/>
            </a:gdLst>
            <a:ahLst/>
            <a:rect l="textAreaLeft" t="textAreaTop" r="textAreaRight" b="textAreaBottom"/>
            <a:pathLst>
              <a:path w="21600" h="68723">
                <a:moveTo>
                  <a:pt x="0" y="0"/>
                </a:moveTo>
                <a:lnTo>
                  <a:pt x="21600" y="0"/>
                </a:lnTo>
                <a:lnTo>
                  <a:pt x="21600" y="68723"/>
                </a:lnTo>
                <a:lnTo>
                  <a:pt x="0" y="68723"/>
                </a:lnTo>
                <a:close/>
              </a:path>
              <a:path fill="lightenLess" w="21600" h="68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8723">
                <a:moveTo>
                  <a:pt x="21600" y="0"/>
                </a:moveTo>
                <a:lnTo>
                  <a:pt x="21600" y="68723"/>
                </a:lnTo>
                <a:lnTo>
                  <a:pt x="20200" y="67323"/>
                </a:lnTo>
                <a:lnTo>
                  <a:pt x="20200" y="1400"/>
                </a:lnTo>
                <a:close/>
              </a:path>
              <a:path fill="darkenLess" w="21600" h="68723">
                <a:moveTo>
                  <a:pt x="21600" y="68723"/>
                </a:moveTo>
                <a:lnTo>
                  <a:pt x="0" y="68723"/>
                </a:lnTo>
                <a:lnTo>
                  <a:pt x="1400" y="67323"/>
                </a:lnTo>
                <a:lnTo>
                  <a:pt x="20200" y="67323"/>
                </a:lnTo>
                <a:close/>
              </a:path>
              <a:path fill="lighten" w="21600" h="68723">
                <a:moveTo>
                  <a:pt x="0" y="68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67323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国石拱桥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3526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59280" y="191628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80000" y="191628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bf7ff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赵州桥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371628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bf7ff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卢沟桥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3640" y="306864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80360" y="1413000"/>
            <a:ext cx="1143000" cy="38862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3886200"/>
              <a:gd name="textAreaBottom" fmla="*/ 3812400 h 3886200"/>
            </a:gdLst>
            <a:ahLst/>
            <a:rect l="textAreaLeft" t="textAreaTop" r="textAreaRight" b="textAreaBottom"/>
            <a:pathLst>
              <a:path w="21600" h="73424">
                <a:moveTo>
                  <a:pt x="0" y="0"/>
                </a:moveTo>
                <a:lnTo>
                  <a:pt x="21600" y="0"/>
                </a:lnTo>
                <a:lnTo>
                  <a:pt x="21600" y="73424"/>
                </a:lnTo>
                <a:lnTo>
                  <a:pt x="0" y="73424"/>
                </a:lnTo>
                <a:close/>
              </a:path>
              <a:path fill="lightenLess" w="21600" h="734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3424">
                <a:moveTo>
                  <a:pt x="21600" y="0"/>
                </a:moveTo>
                <a:lnTo>
                  <a:pt x="21600" y="73424"/>
                </a:lnTo>
                <a:lnTo>
                  <a:pt x="20200" y="72024"/>
                </a:lnTo>
                <a:lnTo>
                  <a:pt x="20200" y="1400"/>
                </a:lnTo>
                <a:close/>
              </a:path>
              <a:path fill="darkenLess" w="21600" h="73424">
                <a:moveTo>
                  <a:pt x="21600" y="73424"/>
                </a:moveTo>
                <a:lnTo>
                  <a:pt x="0" y="73424"/>
                </a:lnTo>
                <a:lnTo>
                  <a:pt x="1400" y="72024"/>
                </a:lnTo>
                <a:lnTo>
                  <a:pt x="20200" y="72024"/>
                </a:lnTo>
                <a:close/>
              </a:path>
              <a:path fill="lighten" w="21600" h="73424">
                <a:moveTo>
                  <a:pt x="0" y="73424"/>
                </a:moveTo>
                <a:lnTo>
                  <a:pt x="0" y="0"/>
                </a:lnTo>
                <a:lnTo>
                  <a:pt x="1400" y="1400"/>
                </a:lnTo>
                <a:lnTo>
                  <a:pt x="1400" y="72024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放后兴建的各种拱桥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66680" y="380880"/>
            <a:ext cx="47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从整体看，全文用了什么说明顺序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3280" y="5486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一般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02160" y="548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特殊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586728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657600" y="44197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83040" y="34452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请在文中依次找出所写的桥名及建成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的时间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6640" y="2301840"/>
            <a:ext cx="568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旅人桥：大约建成于公元二八二年；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州桥：建于公元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0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左右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卢沟桥：建成于公元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18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19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间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长虹大桥：建于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96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8280" y="4724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是什么说明顺序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5715000"/>
            <a:ext cx="3048120" cy="838080"/>
          </a:xfrm>
          <a:prstGeom prst="ellipse">
            <a:avLst/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时间顺序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国石拱桥的总体特点是什么？以赵州桥为例，它是如何体现中国石拱桥的特点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历史悠久、形式优美、结构坚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体现：赵州桥修建于公元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60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左右，已有一千三百多年的历史了，体现了它历史悠久；赵州桥长达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7.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米，敞肩拱形式，大拱由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道拱圈拼成，以及和四周景色配合的和谐，桥上雕饰也十分精美等，有力的说明赵州桥确实是惊人的杰作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3960" y="396720"/>
            <a:ext cx="155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悠久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杰作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雄姿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和谐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推崇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胜景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巧妙绝伦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就地取材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惟妙惟肖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7920" y="425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代久远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5040" y="9907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出色的、超过一般水平的作品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68600" y="14637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威武雄伟的姿态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37360" y="19969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配合得适当、匀称而协调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35320" y="265896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十分重视，并作很高的评价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崇，尊重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9760" y="319716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优美的景色。 胜，优美的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000" y="3733920"/>
            <a:ext cx="76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形容非常灵巧，独一无二，没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什么可以相比的。伦：同类、同等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30400" y="4830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当地找所需要的材料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5516640"/>
            <a:ext cx="63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里形容雕刻得十分精妙逼真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肖：相似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7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石拱桥在世界桥梁史上出现的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比较早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表较早”程度较轻，这样的表达比较稳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52600" y="3778200"/>
            <a:ext cx="80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7da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7da"/>
                </a:solidFill>
                <a:latin typeface="楷体_GB2312"/>
                <a:ea typeface="楷体_GB2312"/>
              </a:rPr>
              <a:t>大约”、“可能”都表示不确定，只是推测的情况。“有记载的”使发言的根据增加可靠性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7da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87da"/>
                </a:solidFill>
                <a:latin typeface="Arial"/>
              </a:rPr>
              <a:t>《水经注》里提到的“旅人桥” ，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大约</a:t>
            </a:r>
            <a:r>
              <a:rPr b="0" lang="zh-CN" sz="2400" spc="-1" strike="noStrike">
                <a:solidFill>
                  <a:srgbClr val="0087da"/>
                </a:solidFill>
                <a:latin typeface="Arial"/>
              </a:rPr>
              <a:t>建成于公元</a:t>
            </a:r>
            <a:r>
              <a:rPr b="0" lang="zh-CN" sz="2400" spc="-1" strike="noStrike">
                <a:solidFill>
                  <a:srgbClr val="0087da"/>
                </a:solidFill>
                <a:latin typeface="Arial"/>
              </a:rPr>
              <a:t>282</a:t>
            </a:r>
            <a:r>
              <a:rPr b="0" lang="zh-CN" sz="2400" spc="-1" strike="noStrike">
                <a:solidFill>
                  <a:srgbClr val="0087da"/>
                </a:solidFill>
                <a:latin typeface="Arial"/>
              </a:rPr>
              <a:t>年，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可能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是有记载的</a:t>
            </a:r>
            <a:r>
              <a:rPr b="0" lang="zh-CN" sz="2400" spc="-1" strike="noStrike">
                <a:solidFill>
                  <a:srgbClr val="0087da"/>
                </a:solidFill>
                <a:latin typeface="Arial"/>
              </a:rPr>
              <a:t>最早的石拱桥了。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76280" y="3490920"/>
            <a:ext cx="81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7da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7da"/>
                </a:solidFill>
                <a:latin typeface="楷体_GB2312"/>
                <a:ea typeface="楷体_GB2312"/>
              </a:rPr>
              <a:t>几乎”强调了石拱桥的分布范围很广，但并不排除有的地方没有石拱桥的可能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2938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7da"/>
                </a:solidFill>
                <a:latin typeface="Arial"/>
              </a:rPr>
              <a:t>我国的石拱桥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几乎</a:t>
            </a:r>
            <a:r>
              <a:rPr b="0" lang="zh-CN" sz="3200" spc="-1" strike="noStrike">
                <a:solidFill>
                  <a:srgbClr val="0087da"/>
                </a:solidFill>
                <a:latin typeface="Arial"/>
              </a:rPr>
              <a:t>到处都有。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11280" y="3068640"/>
            <a:ext cx="80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4a2"/>
                </a:solidFill>
                <a:latin typeface="楷体_GB2312"/>
                <a:ea typeface="楷体_GB2312"/>
              </a:rPr>
              <a:t>当时”是从时间上限定，“可算”是从程度上限定。这样才更符合实际情况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384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（赵州桥）全桥只有一个大拱，长达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37.4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米，</a:t>
            </a:r>
            <a:r>
              <a:rPr b="0" lang="zh-CN" sz="2800" spc="-1" strike="noStrike">
                <a:solidFill>
                  <a:srgbClr val="ff9933"/>
                </a:solidFill>
                <a:latin typeface="Arial"/>
              </a:rPr>
              <a:t>在当时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可算是</a:t>
            </a:r>
            <a:r>
              <a:rPr b="0" lang="zh-CN" sz="2800" spc="-1" strike="noStrike">
                <a:solidFill>
                  <a:srgbClr val="0064a2"/>
                </a:solidFill>
                <a:latin typeface="Arial"/>
              </a:rPr>
              <a:t>世界上最长的石拱。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825120"/>
            <a:ext cx="770256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87da"/>
                </a:solidFill>
                <a:latin typeface="Arial"/>
              </a:rPr>
              <a:t>阅读课文后面《辞海》上关于卢沟桥的介绍，与课文相比，多了哪些内容？你是否觉得课文对卢沟桥的说明不够全面？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3394080"/>
            <a:ext cx="854064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多出：“卢沟晓月”碑、抗日战争纪念馆和纪念碑、桥旁的新桥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课文通过卢沟桥介绍中国石拱桥的特点，如果像《辞海》那样面面俱到，势必模糊了写作目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036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Arial"/>
              </a:rPr>
              <a:t>《夜宿卢沟》主要写的是什么？它与课文对卢沟桥的介绍相比，写法有什么不同？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9840" y="2955960"/>
            <a:ext cx="8464320" cy="23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《夜宿卢沟》是记叙文，课文是说明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a2"/>
                </a:solidFill>
                <a:latin typeface="Arial"/>
                <a:ea typeface="楷体_GB2312"/>
              </a:rPr>
              <a:t>《夜宿卢沟》写的是观赏“卢沟晓月”的情景，重点写月光和桥下流水，最后才写到卢沟桥，主要方法是记叙和描写。课文是用平实的方法说明卢沟桥的特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1042920" y="476280"/>
            <a:ext cx="7201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大家！</a:t>
            </a:r>
            <a:endParaRPr b="1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  <p:sndAc>
      <p:stSnd>
        <p:snd r:embed="rId5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300" spc="-1" strike="noStrike">
                <a:solidFill>
                  <a:srgbClr val="003399"/>
                </a:solidFill>
                <a:latin typeface="Arial"/>
                <a:ea typeface="华文行楷"/>
              </a:rPr>
              <a:t>中国石拱桥</a:t>
            </a:r>
            <a:endParaRPr b="0" lang="en-US" sz="5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说明文为了更好说明事物、事理的特征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要注意运用说明方法；为了使说明的内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条理化，还要注意说明顺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53000" y="1125360"/>
            <a:ext cx="1704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时间顺序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空间顺序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逻辑顺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68800" y="1268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（时间先后、朝代先后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62160" y="249228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（从上到下、从里到外、从南到北等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27880" y="3573360"/>
            <a:ext cx="77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从因到果、从整体到局部、从一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般到特殊、从主到次等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71640" y="-67464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906120" cy="8001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66680" y="25146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打比方、举例子、作比较、分类别、列数字、下定义、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画图表、引用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590920" y="380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209680" y="0"/>
            <a:ext cx="4648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准确的说明语言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1" name=""/>
          <p:cNvSpPr/>
          <p:nvPr/>
        </p:nvSpPr>
        <p:spPr>
          <a:xfrm>
            <a:off x="3099240" y="144792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所谓准确，就是按照事物的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情况，选用最恰当的词语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恰如其分地把事物的特征、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本质和规律性表达出来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6480" y="3886200"/>
            <a:ext cx="196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主要表现在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数量、程度、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范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方面用词准确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04T13:50:46Z</dcterms:modified>
  <cp:revision>160</cp:revision>
  <dc:subject/>
  <dc:title>PowerPoint Presentation</dc:title>
</cp:coreProperties>
</file>