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chimes.wav" ContentType="audio/x-wav"/>
  <Override PartName="/ppt/media/image6.jpeg" ContentType="image/jpeg"/>
  <Override PartName="/ppt/media/applause.wav" ContentType="audio/x-wav"/>
  <Override PartName="/ppt/media/camera.wav" ContentType="audio/x-wav"/>
  <Override PartName="/ppt/media/image7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57A9-7877-4490-B196-B821B733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9087-B927-4FBA-8461-8C436D179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1D50-5DC9-4550-8BA6-763B3F5C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46AE-DAC8-4BF0-A4C4-83DFAF31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EE0F-6CF7-4C2B-92C6-CB30675B9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4567-6A14-4270-B23F-C501A995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006B-FBBF-4F21-899D-6058BBF7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EB295-2D30-43F7-B943-F8BF6E633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BEA2-A4F9-4C45-8303-11EC4585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89E3-34BB-469A-ACEF-F1D78DCB5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13F6F-52D1-4798-9778-13921008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915A-F28B-4E07-BEFF-98B5BC70E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BD54-76E3-4981-A23D-59C3E07E2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03DC1-44A5-4988-965A-633DDAE8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913A-5687-436F-BE4D-597362C21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34821-AA5A-4AC7-B8B8-5F69945CB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B75A1-7CA6-49EE-A730-99B47ACC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C7C6-A3BF-4706-8074-36246584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249C-3208-4921-95A8-86C5262B8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0D6D-68E9-4BC6-B39A-561941BD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7CDE-C182-4DB9-8F6B-F5D28D09B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00FE-0223-4AD4-AF6D-CA2936CC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916A-0740-46DE-BB39-C66B9DFB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F7A-63D5-4BA0-9D95-E2707F5F5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922D8-0E1B-4B9D-A541-CE0623B29F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7C52-0017-4D99-9B1E-7383CD52E6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amera.wav"/><Relationship Id="rId1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982080" cy="75438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14760" y="1565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19320" y="1523880"/>
            <a:ext cx="6248160" cy="19004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中国石拱桥</a:t>
            </a:r>
            <a:endParaRPr b="0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/>
          <p:nvPr/>
        </p:nvSpPr>
        <p:spPr>
          <a:xfrm>
            <a:off x="3372120" y="3200400"/>
            <a:ext cx="2055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Times New Roman"/>
              </a:rPr>
              <a:t>茅   以   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41360" y="934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609480"/>
          <a:ext cx="8991720" cy="5562720"/>
        </p:xfrm>
        <a:graphic>
          <a:graphicData uri="http://schemas.openxmlformats.org/drawingml/2006/table">
            <a:tbl>
              <a:tblPr/>
              <a:tblGrid>
                <a:gridCol w="914400"/>
                <a:gridCol w="1371600"/>
                <a:gridCol w="2743200"/>
                <a:gridCol w="39625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3" name=""/>
          <p:cNvSpPr/>
          <p:nvPr/>
        </p:nvSpPr>
        <p:spPr>
          <a:xfrm>
            <a:off x="18612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52800" y="685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67400" y="6858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历史和修建年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9480" y="6858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结构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2560" y="144792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8880" y="3657600"/>
            <a:ext cx="45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卢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29120" y="152388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横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在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27600" y="3573360"/>
            <a:ext cx="729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位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永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河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89200" y="1371600"/>
            <a:ext cx="1923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建于公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05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左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到现在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有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3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多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64280" y="3581280"/>
            <a:ext cx="242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修建于公元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9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至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19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间，至今已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800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多年的历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58800" y="1523880"/>
            <a:ext cx="223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一个大拱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大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两肩各有两个小拱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大拱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道拱圈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成；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、全桥结构匀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666400" y="3505320"/>
            <a:ext cx="2841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半圆形石拱组成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每个石拱长度不一，几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河面平行。每两个石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之间有石砌桥墩，把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1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石拱联成一个整体，是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座联拱石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598760" y="457200"/>
            <a:ext cx="5703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为了准确说明事物，说明文用语很讲究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寸。如果把括号中的词语去掉，表达的意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有什么变化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044960" y="2057400"/>
            <a:ext cx="149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石拱桥在世界桥梁史上出现得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比较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89480" y="2743200"/>
            <a:ext cx="5748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《水经注》里提到的“旅人桥”，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大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建成于公元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82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年，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可能是有记载的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早的石拱桥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15600" y="4572000"/>
            <a:ext cx="292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我国的石拱桥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几乎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到处都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20760" y="5302080"/>
            <a:ext cx="565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全桥只有一个大拱，长达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7.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米，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当时可算是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）世界上最长的石拱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416600" y="457200"/>
            <a:ext cx="652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了解常用的说明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为了把事物特征说清楚，或把事理阐述明白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Times New Roman"/>
              </a:rPr>
              <a:t>要有相适应的说明方法。常见的说明方法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举例子   分类别   列数据      作比较      画图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下定义    作诠释    打比方     摹状貌  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>
            <a:lum brigh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06360" y="1981080"/>
            <a:ext cx="18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200" y="92160"/>
            <a:ext cx="875772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桥洞不是普通半圆形，而是像一张弓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桥长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6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，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个半圆形的石拱组成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每个石拱长度不一，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1.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米。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永定河发水时，来势很猛，以前两岸河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常被冲毁，但是这座桥从未出过事。（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这些石刻狮子，有的母子相抱，有的交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接耳，有的像倾听水声，千态万状，惟妙惟肖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         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61680" y="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41200" y="152388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列数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59960" y="30481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作比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41200" y="487692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摹状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562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902320" y="5334120"/>
            <a:ext cx="309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唐朝的张鷟说，远望这座桥就像“初月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云，长虹饮涧”。（       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88480" y="579132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引用、打比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31240" y="223920"/>
            <a:ext cx="75254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作者简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茅以升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896——198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，我国近代桥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工程学的奠基人，著名的桥梁学专家。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2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获美国加里基工学院博士学位。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33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持设计并领导建造了中国第一座现代化的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桥。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48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当选为中央研究院院士。五十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代有参加设计了规模更大的武汉长江大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5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，在首都“十大建筑”的建设中，茅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升担任人民大会堂结构审查组组长。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1989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被美国科学院授予外籍院士称号。他编写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《中国桥梁史》。他为中国的桥梁事业做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了杰出的贡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</a:t>
            </a: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给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黄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字注音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匀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称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推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崇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巧妙绝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伦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残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损                    雄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跨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弧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形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惟妙惟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肖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桥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墩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雄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姿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69480" y="53352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hè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93480" y="533520"/>
            <a:ext cx="158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hó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42800" y="457200"/>
            <a:ext cx="921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lú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47520" y="1125360"/>
            <a:ext cx="99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á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70320" y="1066680"/>
            <a:ext cx="10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ku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69840" y="114300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h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03040" y="1676520"/>
            <a:ext cx="11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xià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89840" y="167652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dū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38520" y="1676520"/>
            <a:ext cx="5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z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701520" y="3048120"/>
            <a:ext cx="1744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下列词语解释有误的一项是（ 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惟妙惟肖：形容描写得十分精妙逼真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巧妙绝伦：独一无二，没有什么可比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千态万状：形容各种各样奇怪的事物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就地取材：就在原地选用需要的材料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255360" y="3124080"/>
            <a:ext cx="4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>
            <a:lum bright="72000"/>
          </a:blip>
          <a:stretch/>
        </p:blipFill>
        <p:spPr>
          <a:xfrm>
            <a:off x="-2133720" y="-685800"/>
            <a:ext cx="11734920" cy="7543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3600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整体感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中国石拱桥的共同特点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赵州桥和卢沟桥的特点分别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文章为什么只重点介绍赵州桥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卢沟桥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试理清本文的说明顺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Times New Roman"/>
              </a:rPr>
              <a:t>                                                                               </a:t>
            </a: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中国石拱桥的特点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:</a:t>
            </a:r>
            <a:endParaRPr b="1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7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形式优美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,</a:t>
            </a: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结构坚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675080" y="561960"/>
            <a:ext cx="5833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本文以赵州桥、卢沟桥为例说明中国石拱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原因是（      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都是闻名世界的古代石拱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都具有中国石拱桥的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各具特点：一为独拱，一为联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D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、这两座桥既有我国石拱桥的共同特征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又各具特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24600" y="9874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416320" y="0"/>
            <a:ext cx="429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重点研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、试以赵州桥和卢沟桥为例，分别说说它们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Times New Roman"/>
              </a:rPr>
              <a:t>是如何体现中国石拱桥的特点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11640" y="1752480"/>
            <a:ext cx="936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、说明文的语言要求准确、周密，作者用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哪些准确、周密的语言来写赵州桥和卢沟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的特征？请找出几句抄写下来，并加以分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1:57:13Z</dcterms:created>
  <dc:creator>high</dc:creator>
  <dc:description/>
  <dc:language>en-US</dc:language>
  <cp:lastModifiedBy>微软用户</cp:lastModifiedBy>
  <dcterms:modified xsi:type="dcterms:W3CDTF">2013-09-30T09:47:42Z</dcterms:modified>
  <cp:revision>27</cp:revision>
  <dc:subject/>
  <dc:title>PowerPoint 演示文稿</dc:title>
</cp:coreProperties>
</file>