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5.wmf" ContentType="image/x-wmf"/>
  <Override PartName="/ppt/media/image46.wmf" ContentType="image/x-wmf"/>
  <Override PartName="/ppt/media/image69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47.wmf" ContentType="image/x-wmf"/>
  <Override PartName="/ppt/media/image13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20.jpeg" ContentType="image/jpeg"/>
  <Override PartName="/ppt/media/image23.jpeg" ContentType="image/jpeg"/>
  <Override PartName="/ppt/media/chimes.wav" ContentType="audio/x-wav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62.jpeg" ContentType="image/jpeg"/>
  <Override PartName="/ppt/media/image79.jpeg" ContentType="image/jpeg"/>
  <Override PartName="/ppt/media/image7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48.png" ContentType="image/pn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59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4.jpeg" ContentType="image/jpeg"/>
  <Override PartName="/ppt/media/image41.jpeg" ContentType="image/jpeg"/>
  <Override PartName="/ppt/media/image4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6.jpeg" ContentType="image/jpeg"/>
  <Override PartName="/ppt/media/image50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E65-8DDF-4410-8853-CA1E8934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DC1-3BC1-4F8E-BD0F-1A94CBA0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060-2E90-4B4C-B1DC-385B44EB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34A-4D77-4719-9652-1EC561CC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148-E726-492F-A497-6E231C00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CE4-1835-4678-A328-1494A9C0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9C2-4F0C-44C0-B118-5367596C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C64-51E8-4B45-9778-82F0BD32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6D8-B4AC-4BAA-8680-5AD9109B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F58-4BAE-4D5D-B9B7-D31F0EB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F23-9F64-4390-B4C3-EA8EA027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478-C2A2-4BA7-9197-828F85AA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E0B3-C3CB-4478-9818-6D0C742212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65.jpeg"/><Relationship Id="rId9" Type="http://schemas.openxmlformats.org/officeDocument/2006/relationships/image" Target="../media/image66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hyperlink" Target="http://image.baidu.com/i?ct=503316480&amp;z=0&amp;tn=baiduimagedetail&amp;word=%B0%AE%D0%C4&amp;in=2&amp;cl=2&amp;cm=1&amp;sc=0&amp;lm=-1&amp;pn=1&amp;rn=1" TargetMode="External"/><Relationship Id="rId6" Type="http://schemas.openxmlformats.org/officeDocument/2006/relationships/image" Target="../media/image80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1143000"/>
            <a:ext cx="65534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宋体"/>
              </a:rPr>
              <a:t>中华少年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33595" b="1875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73196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32000" y="0"/>
            <a:ext cx="1817640" cy="1801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086600" y="5603760"/>
            <a:ext cx="1798560" cy="1254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289548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自由朗读课文，带有生字、新词的句子多读几遍，划出自己觉得最难读好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同桌之间读一读课文，指出对方读得特别好的地方，一起读一读这些诗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58600" y="404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整体感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85800" y="6095880"/>
            <a:ext cx="5256360" cy="582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520" y="304920"/>
            <a:ext cx="6172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甲     从巍峨峻拔的高原走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我是冰山上的一朵雪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乙     从碧波环抱的宝岛走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我是海风中的一只乳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丙     从苍苍茫茫的草原走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我是蓝天下翱翔的雏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丁     从七沟八梁的黄土坡走来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我是黄河边鲜嫩的山丹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齐     啊！神州大地生长的希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我们是中华的少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943600" y="0"/>
            <a:ext cx="1981080" cy="1162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248520" y="11430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点击图片看楼主的相册"/>
          <p:cNvPicPr/>
          <p:nvPr/>
        </p:nvPicPr>
        <p:blipFill>
          <a:blip r:embed="rId4">
            <a:lum bright="12000"/>
          </a:blip>
          <a:srcRect l="0" t="5064" r="1266" b="8863"/>
          <a:stretch/>
        </p:blipFill>
        <p:spPr>
          <a:xfrm>
            <a:off x="6553080" y="25146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781680" y="403848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7238880" y="54291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8800" y="1523880"/>
            <a:ext cx="7086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丁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 九曲黄河让我懂得百折不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甲        莽莽昆仑使我学会顶天立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丙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 教我纯洁的是北国的雪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乙        教我热烈的是南疆的红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甲乙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龙的故土，民族的摇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锦绣山川，我们的家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1296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6492" t="12117" r="3687" b="7664"/>
          <a:stretch/>
        </p:blipFill>
        <p:spPr>
          <a:xfrm>
            <a:off x="6553080" y="0"/>
            <a:ext cx="2590920" cy="145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781680" y="5313240"/>
            <a:ext cx="2362320" cy="1544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5316480"/>
            <a:ext cx="21337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95280" y="152280"/>
            <a:ext cx="7696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甲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到刚劲端庄的方块字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感受“水浒”“三国”的英雄气概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乙    到如歌如画的唐诗宋词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领略枫桥的钟声，大漠的孤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丙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在外婆的歌谣里牙牙学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女娲、大禹的故事萦绕耳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丁    在爷爷的臂弯下蹒跚学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冬子、雷锋的脚印引我向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丙丁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炎黄子孙，中华儿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黑眼睛黄皮肤，不改的容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143000" cy="1666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2362320"/>
            <a:ext cx="1143000" cy="1190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620120" y="20574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086600" y="4495680"/>
            <a:ext cx="2057400" cy="1805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0" y="3581280"/>
            <a:ext cx="1219320" cy="1121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rcRect l="0" t="0" r="8728" b="6671"/>
          <a:stretch/>
        </p:blipFill>
        <p:spPr>
          <a:xfrm>
            <a:off x="7997760" y="304920"/>
            <a:ext cx="114624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315200" y="3276720"/>
            <a:ext cx="1828800" cy="1225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0" y="4724280"/>
            <a:ext cx="121932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1608120"/>
            <a:ext cx="8686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丁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五月的端阳，心随龙舟把诗魂追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乙     八月中秋，借皎皎圆月遥寄思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丙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敖包会上，射箭摔跤、尽显小牧民的强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甲     手捧哈达，欢歌劲舞，献给朋友美好的祝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乙丙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东方之美滋养着龙的传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五千年文化植根在我们心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1176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0" t="5000" r="1252" b="5000"/>
          <a:stretch/>
        </p:blipFill>
        <p:spPr>
          <a:xfrm>
            <a:off x="7162920" y="0"/>
            <a:ext cx="1981080" cy="1353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5295960"/>
            <a:ext cx="2082960" cy="156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7112160" y="5334120"/>
            <a:ext cx="2031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228600"/>
            <a:ext cx="7315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丁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我们铭记着中华母亲的功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更不忘她承受的千灾万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黄河纤夫拉不直问号般的身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长城的古砖挡不住洋炮的弹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丙     啊！是七月的星火，南湖的航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让东方雄狮从噩梦中奋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甲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先驱的热血复苏了千年的冻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神州才露出青春的笑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乙    “春天的故事”响彻大江南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中华啊！展开了崭新的画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2057400" cy="1365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086600" y="1752480"/>
            <a:ext cx="2057400" cy="157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086600" y="3295800"/>
            <a:ext cx="2057400" cy="1504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086600" y="4800600"/>
            <a:ext cx="2057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219320" y="2209680"/>
            <a:ext cx="7467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甲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今天，历史和未来将由我们焊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时代的接力棒要靠我们相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站在心的起跑线上响亮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齐       少年要谱写中华更璀璨的诗篇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6019920" y="5016600"/>
            <a:ext cx="3124080" cy="1841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19320" y="685800"/>
            <a:ext cx="7696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甲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不期望脚下处处阳关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乙       不幻想头顶一片艳阳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丙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不迷恋父兄给予的蜜罐温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丁       不忘记“最危险的时候”战歌飞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甲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要做旗舰去长风破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乙       要做火箭去推动飞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丙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要像利剑把贫穷斩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丁       要用爱心把世界相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095880" y="3200400"/>
            <a:ext cx="1143000" cy="885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477120" y="3962520"/>
            <a:ext cx="1266840" cy="99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934320" y="4800600"/>
            <a:ext cx="1333440" cy="933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67480" y="5638680"/>
            <a:ext cx="1333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>
            <a:lum bright="6000"/>
          </a:blip>
          <a:srcRect l="4169" t="0" r="49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43000" y="152280"/>
            <a:ext cx="7696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甲丁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听，芦笙和唢呐一齐吹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乙丙      看，乳燕和雏鹰比翼联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齐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五十六朵鲜花竞相开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装点祖国万里大花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1706"/>
                </a:solidFill>
                <a:latin typeface="华文中宋"/>
                <a:ea typeface="华文中宋"/>
              </a:rPr>
              <a:t>甲        让先辈的英灵自豪地惊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中宋"/>
                <a:ea typeface="华文中宋"/>
              </a:rPr>
              <a:t>齐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啊！这就是我的中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这就是中华的少年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58040" y="2286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要记住的历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371600"/>
            <a:ext cx="853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鸦片战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次鸦片战争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40-184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点：广州 珠江口。战争结果：英国胜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接原因：林则徐领导的禁烟活动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本原因：英殖民主义为了开辟殖民地市场，掠夺发展中国家廉价的工业原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果：战后的中国的主权和领土完整遭到破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次鸦片战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5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（咸丰六年至十年）英、法在俄、美支持下联合发动的侵华战争。因其实质是鸦片战争的继续和扩大而得名，亦称英法联军之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果：割让给俄国大约八十万平方公里的中国领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920" y="101520"/>
            <a:ext cx="4254480" cy="2689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53080" y="489276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711680" y="4889520"/>
            <a:ext cx="149688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97560" y="139680"/>
            <a:ext cx="4495680" cy="2982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997680" y="3301920"/>
            <a:ext cx="2095560" cy="1486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60" y="35053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76920" y="3733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藏高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304920"/>
            <a:ext cx="883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九一八事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在中国许多非正式场合都被称为“国耻日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3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，日本驻中国东北地区的关东军突然袭击沈阳，以武力攻击东北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，日本制造“柳条湖事件”，发动了对中国东北的战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发生过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许，日本关东军在沈阳北大营南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的柳条湖附近，将南满铁路一段路轨炸毁，称是中国军队破坏铁路。日军独立守备队第二大队即向中国东北军驻地北大营发动进攻。这就是震惊中外的九一八事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国民党政府对日本的侵略采取不抵抗政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上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，日军几乎未受到抵抗便将沈阳全城占领。东北军撤向锦州。此后，东北各地的中国军队继续执行蒋介石的不抵抗主义，使日军得以迅速占领辽宁、吉林、黑龙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中国共产党的号召下，中国人民从此掀起了抗日救亡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228600"/>
            <a:ext cx="85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七事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帝国主义为了独占中国，发动了蓄谋已久的全面侵华战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夜，日军借口一个士兵失踪，要进入北平西南的宛平县城搜查。中国守军拒绝了这一无理的要求。日军开枪开炮猛轰卢沟桥，向城内的中国守军进攻。中国守军吉星文团奋起还击。掀开了全民族抗日的序幕。日本侵略者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九一八事变侵吞我国东北后，为进一步挑起全面侵华战争，陆续运兵入关。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日军已从东、西、北三面包围了北平（今北京市）。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起，驻丰台的日军连续举行挑衅性的军事演习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驻华日军悍然发动“七七事变”（又称“卢沟桥事变”），日本开始全面侵华，抗日战争爆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819520" y="2362320"/>
            <a:ext cx="3504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中宋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83560" y="3048120"/>
            <a:ext cx="2095200" cy="1571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58000" y="152280"/>
            <a:ext cx="2133720" cy="1279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83560" y="1600200"/>
            <a:ext cx="2095200" cy="12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809880" y="15228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8920" y="4019400"/>
            <a:ext cx="4191120" cy="2800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006960" y="4673520"/>
            <a:ext cx="2971800" cy="21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29200" y="2743200"/>
            <a:ext cx="685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9880" y="15228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2280" y="3314880"/>
            <a:ext cx="4876920" cy="3390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248520" y="152280"/>
            <a:ext cx="2666880" cy="2462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土高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638680" y="4248000"/>
            <a:ext cx="32767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1981080" cy="1938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210360" y="50760"/>
            <a:ext cx="2895480" cy="1909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3360" y="4368960"/>
            <a:ext cx="4572000" cy="2411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997680" y="2133720"/>
            <a:ext cx="2095560" cy="1657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895480" y="50760"/>
            <a:ext cx="3124440" cy="2073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5715000" y="4118040"/>
            <a:ext cx="3371760" cy="265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3352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壮丽黄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886200" cy="2560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75120" y="5372280"/>
            <a:ext cx="2095560" cy="1390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1520" y="4094280"/>
            <a:ext cx="3784680" cy="270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159600" y="4844880"/>
            <a:ext cx="2857320" cy="2025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952880" y="12708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52480" y="3124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巍巍昆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14800" cy="3630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495680" y="152280"/>
            <a:ext cx="4438800" cy="3786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52280" y="4479840"/>
            <a:ext cx="3353040" cy="2225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638680" y="4135320"/>
            <a:ext cx="3353040" cy="2498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038480" y="5181480"/>
            <a:ext cx="1067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34200" cy="6477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400800" y="4724280"/>
            <a:ext cx="2552760" cy="1914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952880" y="152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952880" y="5181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620800" cy="327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34120" y="396252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407280" y="228600"/>
            <a:ext cx="2506680" cy="3581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62520" y="2438280"/>
            <a:ext cx="2361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天立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为您服务教育网　http://www.wsbedu.com/</dc:creator>
  <dc:description/>
  <dc:language>en-US</dc:language>
  <cp:lastModifiedBy>微软用户</cp:lastModifiedBy>
  <dcterms:modified xsi:type="dcterms:W3CDTF">2012-09-16T10:04:05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