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ind.wav" ContentType="audio/x-wav"/>
  <Override PartName="/ppt/media/chimes.wav" ContentType="audio/x-wav"/>
  <Override PartName="/ppt/media/image12.jpeg" ContentType="image/jpeg"/>
  <Override PartName="/ppt/media/cashreg.wav" ContentType="audio/x-wav"/>
  <Override PartName="/ppt/media/hammer.wav" ContentType="audio/x-wav"/>
  <Override PartName="/ppt/media/image7.jpeg" ContentType="image/jpeg"/>
  <Override PartName="/ppt/media/image6.jpeg" ContentType="image/jpeg"/>
  <Override PartName="/ppt/media/type.wav" ContentType="audio/x-wav"/>
  <Override PartName="/ppt/media/image15.jpeg" ContentType="image/jpeg"/>
  <Override PartName="/ppt/media/laser.wav" ContentType="audio/x-wav"/>
  <Override PartName="/ppt/media/image14.jpeg" ContentType="image/jpeg"/>
  <Override PartName="/ppt/media/camera.wav" ContentType="audio/x-wav"/>
  <Override PartName="/ppt/media/coin.wav" ContentType="audio/x-wav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suction.wav" ContentType="audio/x-wav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8E5-D6BA-4C6F-9097-EE430AAB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29D-3439-4662-8DA9-D6A1AB64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75380-871D-4390-BDC9-5DC07142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1B82F-6748-40EF-974C-73761176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D0693-6309-4B29-9F44-E525AFA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E4118-9B7F-4C53-8F10-C13BE32E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C82E0-EA99-43ED-90F4-47AB1051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43834-226F-4D38-B97A-B757F776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59FCB-293E-4659-B2C1-A39ECAE6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712D6-6ACF-48C5-A468-5069F42C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37E5E-04FA-42B3-B155-902742F7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06693-DC9E-4A0E-A38D-F24C765E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7C3-BD79-4039-B891-15803BB9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0E277-7869-40D7-A695-AA449B4F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CF1E7-1BA1-4A37-B813-32B80DC4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5D0E5-6B47-489F-BBC8-97D9AA54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7835B-D7BA-4D0C-91FD-370C8103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B5089-AE54-4E65-9D9D-14A64927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62836-02EB-4B76-9D2F-D45A134B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A07E6-F525-4470-A607-9A78888E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480DA-61F0-4AD6-87C2-1C2AC906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FAD05-D6BB-48FF-8472-B22457A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D7E65-E17C-4A61-8F0A-055063A8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483-20DA-4D9C-962F-D31C6C5E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E215B-DD50-486E-9E69-FE9DCE20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AF4DE-06FB-401D-9155-CDBA2CDA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007A0-D77D-49DA-881A-4495A626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FB465-EF43-4621-9A59-8BAE9377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8A2F2-8CF1-498F-98D3-F0DFDE79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48C84-5163-461B-A259-AD3C9DD5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53223-CE6B-43BA-A0A5-DFBCAA19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C9CDB-BB71-42F3-AD9E-2DB633E6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0118C-537F-4EDE-B593-E23255B1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6396D-106D-4687-B358-9BA12627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D61C-13B7-4CAD-A009-9473A96D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66E28-99DA-453E-96AA-BB0FA44E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8AFA8-FC44-41BE-9A9F-F8FF217B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ECF95-8DAF-4B3C-BAFA-A475BA6C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CF43A-BADB-4C60-A2A1-DAABDEAE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D58C0-D670-4C11-B106-929FBB9B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6A27F-2C17-4552-96E8-F4705A73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A78C9-D23C-436C-99E6-66CF6734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902B5-B7F8-48CE-913C-CB0A6500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96308-70FC-49EE-B925-EFD95536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FDF36-7290-4B57-81F5-0C9F400C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4ECD-9552-48ED-9BBB-174EB13A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82597-FE48-419B-BC16-E0BEC2F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8BC18-7513-41F7-9371-38D7CE8C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84CD1-0861-467A-8566-5B9FA23D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10BF7-2261-4A27-83BD-DF4C6C5E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3014D-DBA3-420E-BF49-1D5EAAFB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957A-4190-4F06-87A5-2BF65CCA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5728-9901-4569-B000-E98F1210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4005-DB3E-4CC8-81F2-A0CCF7ED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634B-6510-4C17-97F6-E24F36D8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1410-7CD9-4192-85F1-FE7BD5A1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24D-0F48-4053-B59A-18E6A42E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34E7-03AF-4659-9752-C22BDF78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14AE-E354-41EB-A14E-D428CCB1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529D-214F-49E8-9C08-D36AE608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F2AC-77EC-494E-BD2A-08C799FA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4622-2943-41CD-ACE1-F9B8F47A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8CA3-00D0-4054-BA70-704EB818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6F94-FBAD-417A-8275-A74A7987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CBA2-33C7-46BC-9BB8-B00649C6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74A3-A9AF-4806-BEAE-9373C801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CB39-85F4-4D3C-AB5E-CC31B326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5A8-2CAD-4BBD-80BD-F99B095E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2E86-90D6-4A4E-86ED-D2F4EA1E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1C7D-7F99-4B28-861C-03A72C8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D2F1-E88C-489D-80F3-667DAACD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BF65D-4F6D-4469-B2C5-5043516F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A4CB-9E38-42F4-AAF5-AC04B98F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ED3F8-F628-4FE2-A683-170A71F6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ECC22-D1B8-4826-A3F7-D881634B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A703-E6C6-44B7-B5EF-26379538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7C8A-FBBE-4F4E-A445-F93066CB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40493-2450-46C9-A85A-6E7383A1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CA0-90EB-41E4-8AEB-3C591C48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64305-23F9-45DE-B280-6F179E06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E967-31DF-49C7-A788-A46F37B3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FCBAD-152D-46A7-93B2-238B0BC5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E0513-C896-4A28-A3FC-112B1458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F5230-BA52-40FC-A197-2FFA4E4B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6EE9B-1BD8-47BD-9BF1-E70DBCC7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01EC-32B6-4206-8F6C-460C09A9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D280-FEB8-42CE-8A7F-B99E1FEA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A8FF-DB05-48D6-A9FC-8409841D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DD5F1-84A4-4BAB-89A3-892BEF7C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C4F-06DA-4712-A193-0094F869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1AAE2-2A5E-4D2E-9D43-14699BAA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E5BE7-1958-4D6E-B084-73105820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4A260-350F-4480-AFF7-E093B05B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9D22D-CCB7-4453-967A-86276C4D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7A46-E1EE-4133-8931-A9AE3775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88B58-7A8D-4581-B2E3-C1739353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08155-E12A-41B4-A67F-4722806A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F11A-4323-4208-951B-7E6F06BF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FF698-6C07-4599-BE9A-29AC8EDC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BEB7-15AC-424A-B28C-1F346615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1A1-ECB9-4DC0-9B9D-D21017BE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128BC-1209-4063-81AF-62EE33EC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E98AF-BA8A-4B40-877B-10078152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3515E-FEC0-451E-855E-C653CB0D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CB3A9-0453-47EE-AD71-275B67E3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B38D-1249-4EAA-8823-0486683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59E28-9F73-4F5F-8C65-BC13F0AF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88045-B4F6-43D3-A957-ABFE784C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F5C73-04B7-4EED-9E50-E634FED6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BBFEF-FE58-4FA8-9AB4-DD4C3560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A85D0-C69A-434A-A968-835C64F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1C1-B14C-41AB-AD29-0D5EC24B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607A6-5CEA-40DA-A2FE-ACB18E06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9F05D-FEC4-4E40-B6C3-C55A6AC8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79702-2FB8-4653-87DF-03AE2020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AA51A-33BA-4B2A-A34E-F5ED1CE4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E5B49-F8E7-4EE2-BA8B-B480500E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826DF-C5AC-45CB-80C6-6C051B85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148EE-1E8F-43F5-BDF1-E8185821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87EAE-5857-4C04-BDBD-94D81763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B5B08-1B43-4758-B55D-A3CAC1FF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57FB1-37E3-4EA6-822B-E2C4910C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C73-61E7-4D92-AA03-25D818C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E2E3C-7673-46A5-8B61-6B92B02C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4A692-E0D8-435D-82D2-D0103786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5574B-BE85-47DD-B0D9-038C9144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138A0-E92F-4293-A07A-146B7584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78F43-6D13-4C31-9A9F-BDF8E556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9F947-4F78-4DC6-A010-DA81B75B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A7424-089F-4D8C-86F0-20B1ECCC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EBDA6-EA45-4394-8714-14A74B71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6048B-FE13-4373-A747-F171D8CA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47854-FCDE-4BA1-A861-AA4436F1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132-238E-4C00-A726-67FC8CF5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49F34-B2FA-4E7F-9BA5-32E28249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13562-090D-4D74-BCA7-A2DF0C53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952AE-E0E4-4FC0-ADFF-5B647070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C4628-7E11-4D62-A776-243BADBC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4CB3C-F287-449A-A58A-F0783EC5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8EE5C-B9F8-44F5-A549-DE35602E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31475-80C6-4CE6-B75D-970E084D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B88BE-B868-419B-B20B-BCBC5C11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E96C2-9DD0-4A1C-9E54-2924A5B9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01484-D150-4531-AAE9-52216868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8B5D-BA6A-40C6-BE0C-C54437B5E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621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35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81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28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2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B217-1A3A-469F-BB91-66223AC98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3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92C9-01AF-46AF-98A9-A7B876A8B0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08B6-DA7A-4A0D-BD44-FFD48462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226-E3B9-4EF3-AB27-2FA4C0A00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9C32-E9C6-42BA-A0C7-B00F4EE28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24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70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84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98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12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26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40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54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56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6150-C3B1-4B69-AE44-83149986A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1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A846-BBC3-47FE-9C54-D4FBEE8101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2794-8275-4CB8-A09C-925E1BE7C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2299-A653-4447-9F6A-DC0DA56C7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06F1-5A1E-4396-8800-330C1F08E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9772-E83D-4B2C-B065-7C8F042B0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audio" Target="../media/wind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hammer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oin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suction.wav"/><Relationship Id="rId10" Type="http://schemas.openxmlformats.org/officeDocument/2006/relationships/audio" Target="../media/type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oin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oin.wav"/><Relationship Id="rId10" Type="http://schemas.openxmlformats.org/officeDocument/2006/relationships/audio" Target="../media/laser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ammer.wav"/><Relationship Id="rId3" Type="http://schemas.openxmlformats.org/officeDocument/2006/relationships/audio" Target="../media/camera.wav"/><Relationship Id="rId4" Type="http://schemas.openxmlformats.org/officeDocument/2006/relationships/audio" Target="../media/hammer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audio" Target="../media/hammer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WordArt 4"/>
          <p:cNvSpPr txBox="1"/>
          <p:nvPr/>
        </p:nvSpPr>
        <p:spPr>
          <a:xfrm>
            <a:off x="2895480" y="1752480"/>
            <a:ext cx="304812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新魏"/>
              </a:rPr>
              <a:t>孙膑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923" name="WordArt 5"/>
          <p:cNvSpPr txBox="1"/>
          <p:nvPr/>
        </p:nvSpPr>
        <p:spPr>
          <a:xfrm>
            <a:off x="5486400" y="3657600"/>
            <a:ext cx="1828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行楷"/>
              </a:rPr>
              <a:t>司马迁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pic>
        <p:nvPicPr>
          <p:cNvPr id="924" name="Picture 7" descr="getimg5"/>
          <p:cNvPicPr/>
          <p:nvPr/>
        </p:nvPicPr>
        <p:blipFill>
          <a:blip r:embed="rId5"/>
          <a:stretch/>
        </p:blipFill>
        <p:spPr>
          <a:xfrm>
            <a:off x="152280" y="380880"/>
            <a:ext cx="1295640" cy="1524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0" descr="getimg"/>
          <p:cNvPicPr/>
          <p:nvPr/>
        </p:nvPicPr>
        <p:blipFill>
          <a:blip r:embed="rId6"/>
          <a:stretch/>
        </p:blipFill>
        <p:spPr>
          <a:xfrm>
            <a:off x="80773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304920" y="3599640"/>
            <a:ext cx="86868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buClr>
                <a:srgbClr val="008000"/>
              </a:buClr>
              <a:buFont typeface="Arial Narrow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如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庞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乃阴使召孙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庞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疾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就把庞涓其人的险恶用心，阴谋伎俩及心胸狭窄，嫉贤妒能的本能暴露无遗。写孙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围魏救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用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魏果去邯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计杀庞涓时用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庞涓果夜至斫木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两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就把孙膑的智谋过人、神机妙算表现得淋漓尽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891960" y="304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鉴赏与写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748440" y="990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言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7"/>
          <p:cNvSpPr/>
          <p:nvPr/>
        </p:nvSpPr>
        <p:spPr>
          <a:xfrm>
            <a:off x="2734920" y="1828800"/>
            <a:ext cx="11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 Narrow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文语言精练，富于表现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amera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4"/>
          <p:cNvSpPr/>
          <p:nvPr/>
        </p:nvSpPr>
        <p:spPr>
          <a:xfrm>
            <a:off x="457200" y="5044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庞涓：骄傲自大。具体表现在：当他看到孙膑设计的假象时，轻易大喜，还自得地说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固知齐军怯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时，庞涓还具有残忍、忌妒心强的性格特点，具体表现在他对同学孙膑因妒而施之以酷刑一事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5"/>
          <p:cNvSpPr/>
          <p:nvPr/>
        </p:nvSpPr>
        <p:spPr>
          <a:xfrm>
            <a:off x="3663360" y="380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难点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457200" y="1295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合本文具体内容分析孙膑和庞涓的人物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457200" y="2362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孙膑：足智多谋，有卓越的军事才能。具体表现在：在马陵道之战中，孙膑洞悉敌军弱点，故作假象，巧设伏兵，造成庞涓的错觉，诱敌就范，战而胜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4"/>
          <p:cNvSpPr/>
          <p:nvPr/>
        </p:nvSpPr>
        <p:spPr>
          <a:xfrm>
            <a:off x="896400" y="3626640"/>
            <a:ext cx="48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弱罢于内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　　　　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5"/>
          <p:cNvSpPr/>
          <p:nvPr/>
        </p:nvSpPr>
        <p:spPr>
          <a:xfrm>
            <a:off x="34290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839160" y="1219320"/>
            <a:ext cx="13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9900cc"/>
                </a:solidFill>
                <a:latin typeface="宋体"/>
              </a:rPr>
              <a:t>通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835920" y="2033640"/>
            <a:ext cx="55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欲隐勿见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　　　　　　　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1326600" y="2765520"/>
            <a:ext cx="58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夫解杂乱纷叫者不控捲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　　　　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10"/>
          <p:cNvSpPr/>
          <p:nvPr/>
        </p:nvSpPr>
        <p:spPr>
          <a:xfrm>
            <a:off x="2209680" y="25909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1"/>
          <p:cNvSpPr/>
          <p:nvPr/>
        </p:nvSpPr>
        <p:spPr>
          <a:xfrm>
            <a:off x="4648320" y="33526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12"/>
          <p:cNvSpPr/>
          <p:nvPr/>
        </p:nvSpPr>
        <p:spPr>
          <a:xfrm>
            <a:off x="1752480" y="4191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3"/>
          <p:cNvSpPr/>
          <p:nvPr/>
        </p:nvSpPr>
        <p:spPr>
          <a:xfrm>
            <a:off x="457200" y="5206320"/>
            <a:ext cx="86868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魏国去邯郸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　　　　　　　　　　　　　　　　　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4"/>
          <p:cNvSpPr/>
          <p:nvPr/>
        </p:nvSpPr>
        <p:spPr>
          <a:xfrm>
            <a:off x="921240" y="457200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古今异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15"/>
          <p:cNvSpPr/>
          <p:nvPr/>
        </p:nvSpPr>
        <p:spPr>
          <a:xfrm>
            <a:off x="1523880" y="5791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"/>
          <p:cNvSpPr/>
          <p:nvPr/>
        </p:nvSpPr>
        <p:spPr>
          <a:xfrm>
            <a:off x="3107880" y="2057400"/>
            <a:ext cx="27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8"/>
          <p:cNvSpPr/>
          <p:nvPr/>
        </p:nvSpPr>
        <p:spPr>
          <a:xfrm>
            <a:off x="5299920" y="2819520"/>
            <a:ext cx="19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9"/>
          <p:cNvSpPr/>
          <p:nvPr/>
        </p:nvSpPr>
        <p:spPr>
          <a:xfrm>
            <a:off x="3166560" y="3657600"/>
            <a:ext cx="19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20"/>
          <p:cNvSpPr/>
          <p:nvPr/>
        </p:nvSpPr>
        <p:spPr>
          <a:xfrm>
            <a:off x="2316960" y="58672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古义：离开；今义：从所在地到别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1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4"/>
          <p:cNvSpPr/>
          <p:nvPr/>
        </p:nvSpPr>
        <p:spPr>
          <a:xfrm>
            <a:off x="2975040" y="6018840"/>
            <a:ext cx="21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之二虫又何知</a:t>
            </a:r>
            <a:r>
              <a:rPr b="1" lang="en-US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指示代词，这、此</a:t>
            </a:r>
            <a:r>
              <a:rPr b="1" lang="en-US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34290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6"/>
          <p:cNvSpPr/>
          <p:nvPr/>
        </p:nvSpPr>
        <p:spPr>
          <a:xfrm>
            <a:off x="1205640" y="990720"/>
            <a:ext cx="10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7"/>
          <p:cNvSpPr/>
          <p:nvPr/>
        </p:nvSpPr>
        <p:spPr>
          <a:xfrm>
            <a:off x="407880" y="2057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8"/>
          <p:cNvSpPr/>
          <p:nvPr/>
        </p:nvSpPr>
        <p:spPr>
          <a:xfrm>
            <a:off x="1928520" y="1828800"/>
            <a:ext cx="25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忌数与齐诸公子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次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9"/>
          <p:cNvSpPr/>
          <p:nvPr/>
        </p:nvSpPr>
        <p:spPr>
          <a:xfrm>
            <a:off x="1805040" y="2514600"/>
            <a:ext cx="22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又数刀毙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多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0"/>
          <p:cNvSpPr/>
          <p:nvPr/>
        </p:nvSpPr>
        <p:spPr>
          <a:xfrm>
            <a:off x="407880" y="4495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1"/>
          <p:cNvSpPr/>
          <p:nvPr/>
        </p:nvSpPr>
        <p:spPr>
          <a:xfrm>
            <a:off x="2066400" y="3276720"/>
            <a:ext cx="27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窃载与之齐</a:t>
            </a:r>
            <a:r>
              <a:rPr b="1" lang="en-US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动词，去，往</a:t>
            </a:r>
            <a:r>
              <a:rPr b="1" lang="en-US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2"/>
          <p:cNvSpPr/>
          <p:nvPr/>
        </p:nvSpPr>
        <p:spPr>
          <a:xfrm>
            <a:off x="2313360" y="388620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齐将田忌善而客待之</a:t>
            </a:r>
            <a:r>
              <a:rPr b="1" lang="en-US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代词，指孙膑</a:t>
            </a:r>
            <a:r>
              <a:rPr b="1" lang="en-US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3"/>
          <p:cNvSpPr/>
          <p:nvPr/>
        </p:nvSpPr>
        <p:spPr>
          <a:xfrm>
            <a:off x="2080800" y="4495680"/>
            <a:ext cx="25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遂成竖子之名</a:t>
            </a:r>
            <a:r>
              <a:rPr b="1" lang="en-US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助词，的</a:t>
            </a:r>
            <a:r>
              <a:rPr b="1" lang="en-US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1600200" y="5105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心之所向</a:t>
            </a:r>
            <a:r>
              <a:rPr b="1" lang="en-US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助词，放在主语和谓语之间，取消句子的独立性</a:t>
            </a:r>
            <a:r>
              <a:rPr b="1" lang="en-US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15"/>
          <p:cNvSpPr/>
          <p:nvPr/>
        </p:nvSpPr>
        <p:spPr>
          <a:xfrm>
            <a:off x="1143000" y="200484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16"/>
          <p:cNvSpPr/>
          <p:nvPr/>
        </p:nvSpPr>
        <p:spPr>
          <a:xfrm>
            <a:off x="1066680" y="3429000"/>
            <a:ext cx="381240" cy="2895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17"/>
          <p:cNvSpPr/>
          <p:nvPr/>
        </p:nvSpPr>
        <p:spPr>
          <a:xfrm>
            <a:off x="1981080" y="22096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18"/>
          <p:cNvSpPr/>
          <p:nvPr/>
        </p:nvSpPr>
        <p:spPr>
          <a:xfrm>
            <a:off x="1981080" y="28954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19"/>
          <p:cNvSpPr/>
          <p:nvPr/>
        </p:nvSpPr>
        <p:spPr>
          <a:xfrm>
            <a:off x="1828800" y="64008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20"/>
          <p:cNvSpPr/>
          <p:nvPr/>
        </p:nvSpPr>
        <p:spPr>
          <a:xfrm>
            <a:off x="2133720" y="548640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21"/>
          <p:cNvSpPr/>
          <p:nvPr/>
        </p:nvSpPr>
        <p:spPr>
          <a:xfrm>
            <a:off x="3048120" y="48769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22"/>
          <p:cNvSpPr/>
          <p:nvPr/>
        </p:nvSpPr>
        <p:spPr>
          <a:xfrm>
            <a:off x="4191120" y="42670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AutoShape 23"/>
          <p:cNvSpPr/>
          <p:nvPr/>
        </p:nvSpPr>
        <p:spPr>
          <a:xfrm>
            <a:off x="2666880" y="36576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4"/>
          <p:cNvSpPr/>
          <p:nvPr/>
        </p:nvSpPr>
        <p:spPr>
          <a:xfrm>
            <a:off x="3429000" y="304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5"/>
          <p:cNvSpPr/>
          <p:nvPr/>
        </p:nvSpPr>
        <p:spPr>
          <a:xfrm>
            <a:off x="380880" y="54093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遂以为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后面省略宾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指孙膑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6"/>
          <p:cNvSpPr/>
          <p:nvPr/>
        </p:nvSpPr>
        <p:spPr>
          <a:xfrm>
            <a:off x="692640" y="139716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380880" y="2057400"/>
            <a:ext cx="81536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则以法刑断其两足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词活用作动词，施行刑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欲隐勿见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使动用法，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隐居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乃钻火烛之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词活用作动词，这里是照亮的意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8"/>
          <p:cNvSpPr/>
          <p:nvPr/>
        </p:nvSpPr>
        <p:spPr>
          <a:xfrm>
            <a:off x="692640" y="406404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文言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625320" y="4800600"/>
            <a:ext cx="12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省略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4"/>
          <p:cNvSpPr/>
          <p:nvPr/>
        </p:nvSpPr>
        <p:spPr>
          <a:xfrm>
            <a:off x="3429000" y="3049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5"/>
          <p:cNvSpPr/>
          <p:nvPr/>
        </p:nvSpPr>
        <p:spPr>
          <a:xfrm>
            <a:off x="1169640" y="1218240"/>
            <a:ext cx="23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易读错写错的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6"/>
          <p:cNvSpPr/>
          <p:nvPr/>
        </p:nvSpPr>
        <p:spPr>
          <a:xfrm>
            <a:off x="7021440" y="5714280"/>
            <a:ext cx="13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刭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8"/>
          <p:cNvSpPr/>
          <p:nvPr/>
        </p:nvSpPr>
        <p:spPr>
          <a:xfrm>
            <a:off x="1211760" y="211284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而黥之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9"/>
          <p:cNvSpPr/>
          <p:nvPr/>
        </p:nvSpPr>
        <p:spPr>
          <a:xfrm>
            <a:off x="1211760" y="302724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说齐使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0"/>
          <p:cNvSpPr/>
          <p:nvPr/>
        </p:nvSpPr>
        <p:spPr>
          <a:xfrm>
            <a:off x="4187880" y="2189160"/>
            <a:ext cx="13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窃载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1"/>
          <p:cNvSpPr/>
          <p:nvPr/>
        </p:nvSpPr>
        <p:spPr>
          <a:xfrm>
            <a:off x="6935400" y="218916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驷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2"/>
          <p:cNvSpPr/>
          <p:nvPr/>
        </p:nvSpPr>
        <p:spPr>
          <a:xfrm>
            <a:off x="4202280" y="485604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馀  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3"/>
          <p:cNvSpPr/>
          <p:nvPr/>
        </p:nvSpPr>
        <p:spPr>
          <a:xfrm>
            <a:off x="6935400" y="302724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辎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14"/>
          <p:cNvSpPr/>
          <p:nvPr/>
        </p:nvSpPr>
        <p:spPr>
          <a:xfrm>
            <a:off x="762120" y="3933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控捲  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5"/>
          <p:cNvSpPr/>
          <p:nvPr/>
        </p:nvSpPr>
        <p:spPr>
          <a:xfrm>
            <a:off x="6935400" y="394164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亢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6"/>
          <p:cNvSpPr/>
          <p:nvPr/>
        </p:nvSpPr>
        <p:spPr>
          <a:xfrm>
            <a:off x="4187880" y="3941640"/>
            <a:ext cx="13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搏撠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7"/>
          <p:cNvSpPr/>
          <p:nvPr/>
        </p:nvSpPr>
        <p:spPr>
          <a:xfrm>
            <a:off x="1226160" y="48276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悍勇  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8"/>
          <p:cNvSpPr/>
          <p:nvPr/>
        </p:nvSpPr>
        <p:spPr>
          <a:xfrm>
            <a:off x="4187880" y="3027240"/>
            <a:ext cx="13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趣利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9"/>
          <p:cNvSpPr/>
          <p:nvPr/>
        </p:nvSpPr>
        <p:spPr>
          <a:xfrm>
            <a:off x="1226160" y="56944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道狭  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0"/>
          <p:cNvSpPr/>
          <p:nvPr/>
        </p:nvSpPr>
        <p:spPr>
          <a:xfrm>
            <a:off x="6935400" y="485604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斫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1"/>
          <p:cNvSpPr/>
          <p:nvPr/>
        </p:nvSpPr>
        <p:spPr>
          <a:xfrm>
            <a:off x="3809880" y="5715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弩  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22"/>
          <p:cNvSpPr/>
          <p:nvPr/>
        </p:nvSpPr>
        <p:spPr>
          <a:xfrm>
            <a:off x="2023200" y="205740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q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23"/>
          <p:cNvSpPr/>
          <p:nvPr/>
        </p:nvSpPr>
        <p:spPr>
          <a:xfrm>
            <a:off x="7353720" y="2133720"/>
            <a:ext cx="4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s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4"/>
          <p:cNvSpPr/>
          <p:nvPr/>
        </p:nvSpPr>
        <p:spPr>
          <a:xfrm>
            <a:off x="2041560" y="389412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q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5"/>
          <p:cNvSpPr/>
          <p:nvPr/>
        </p:nvSpPr>
        <p:spPr>
          <a:xfrm>
            <a:off x="2063880" y="480852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26"/>
          <p:cNvSpPr/>
          <p:nvPr/>
        </p:nvSpPr>
        <p:spPr>
          <a:xfrm>
            <a:off x="7169760" y="480060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27"/>
          <p:cNvSpPr/>
          <p:nvPr/>
        </p:nvSpPr>
        <p:spPr>
          <a:xfrm>
            <a:off x="2118600" y="29797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sh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28"/>
          <p:cNvSpPr/>
          <p:nvPr/>
        </p:nvSpPr>
        <p:spPr>
          <a:xfrm>
            <a:off x="4840200" y="480060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y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9"/>
          <p:cNvSpPr/>
          <p:nvPr/>
        </p:nvSpPr>
        <p:spPr>
          <a:xfrm>
            <a:off x="7355160" y="297180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z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0"/>
          <p:cNvSpPr/>
          <p:nvPr/>
        </p:nvSpPr>
        <p:spPr>
          <a:xfrm>
            <a:off x="4899240" y="213372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z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1"/>
          <p:cNvSpPr/>
          <p:nvPr/>
        </p:nvSpPr>
        <p:spPr>
          <a:xfrm>
            <a:off x="2216160" y="56466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xi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2"/>
          <p:cNvSpPr/>
          <p:nvPr/>
        </p:nvSpPr>
        <p:spPr>
          <a:xfrm>
            <a:off x="4825080" y="5638680"/>
            <a:ext cx="6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n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33"/>
          <p:cNvSpPr/>
          <p:nvPr/>
        </p:nvSpPr>
        <p:spPr>
          <a:xfrm>
            <a:off x="7262640" y="563868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jǐ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4"/>
          <p:cNvSpPr/>
          <p:nvPr/>
        </p:nvSpPr>
        <p:spPr>
          <a:xfrm>
            <a:off x="7151400" y="388620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g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35"/>
          <p:cNvSpPr/>
          <p:nvPr/>
        </p:nvSpPr>
        <p:spPr>
          <a:xfrm>
            <a:off x="4829400" y="297180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q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36"/>
          <p:cNvSpPr/>
          <p:nvPr/>
        </p:nvSpPr>
        <p:spPr>
          <a:xfrm>
            <a:off x="4949640" y="3886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宋体"/>
              </a:rPr>
              <a:t>j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37"/>
          <p:cNvSpPr/>
          <p:nvPr/>
        </p:nvSpPr>
        <p:spPr>
          <a:xfrm>
            <a:off x="1371600" y="25909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38"/>
          <p:cNvSpPr/>
          <p:nvPr/>
        </p:nvSpPr>
        <p:spPr>
          <a:xfrm>
            <a:off x="990720" y="35053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AutoShape 39"/>
          <p:cNvSpPr/>
          <p:nvPr/>
        </p:nvSpPr>
        <p:spPr>
          <a:xfrm>
            <a:off x="4419720" y="26668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40"/>
          <p:cNvSpPr/>
          <p:nvPr/>
        </p:nvSpPr>
        <p:spPr>
          <a:xfrm>
            <a:off x="6934320" y="2666880"/>
            <a:ext cx="7596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41"/>
          <p:cNvSpPr/>
          <p:nvPr/>
        </p:nvSpPr>
        <p:spPr>
          <a:xfrm>
            <a:off x="4038480" y="35053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42"/>
          <p:cNvSpPr/>
          <p:nvPr/>
        </p:nvSpPr>
        <p:spPr>
          <a:xfrm>
            <a:off x="6934320" y="35053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43"/>
          <p:cNvSpPr/>
          <p:nvPr/>
        </p:nvSpPr>
        <p:spPr>
          <a:xfrm>
            <a:off x="1371600" y="44197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44"/>
          <p:cNvSpPr/>
          <p:nvPr/>
        </p:nvSpPr>
        <p:spPr>
          <a:xfrm>
            <a:off x="4419720" y="44197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45"/>
          <p:cNvSpPr/>
          <p:nvPr/>
        </p:nvSpPr>
        <p:spPr>
          <a:xfrm>
            <a:off x="6858000" y="44197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46"/>
          <p:cNvSpPr/>
          <p:nvPr/>
        </p:nvSpPr>
        <p:spPr>
          <a:xfrm>
            <a:off x="137160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47"/>
          <p:cNvSpPr/>
          <p:nvPr/>
        </p:nvSpPr>
        <p:spPr>
          <a:xfrm>
            <a:off x="403848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48"/>
          <p:cNvSpPr/>
          <p:nvPr/>
        </p:nvSpPr>
        <p:spPr>
          <a:xfrm>
            <a:off x="6858000" y="5334120"/>
            <a:ext cx="7632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49"/>
          <p:cNvSpPr/>
          <p:nvPr/>
        </p:nvSpPr>
        <p:spPr>
          <a:xfrm>
            <a:off x="4038480" y="6172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50"/>
          <p:cNvSpPr/>
          <p:nvPr/>
        </p:nvSpPr>
        <p:spPr>
          <a:xfrm>
            <a:off x="6858000" y="6172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51"/>
          <p:cNvSpPr/>
          <p:nvPr/>
        </p:nvSpPr>
        <p:spPr>
          <a:xfrm>
            <a:off x="1371600" y="617220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9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4"/>
          <p:cNvSpPr/>
          <p:nvPr/>
        </p:nvSpPr>
        <p:spPr>
          <a:xfrm>
            <a:off x="457200" y="3326400"/>
            <a:ext cx="83818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司马迁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约前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45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或前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35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?)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，字子长，西汉夏阳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今陕西韩城南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人。我国古代杰出的史学家、文学家和思想家。其祖先做过周朝史官，父亲司马谈为汉朝太史令，司马迁从小受到良好的知识熏陶。青壮年时期曾漫游各地，足迹几乎遍及全国，考察了祖国的名山大川、各地的风土人情，寻访了名胜古迹，采集了轶闻传说，广泛接触了社会生活及不同阶层的人物，开拓了眼界，搜集并积累了丰富的史料。司马谈死后，他继承父亲官职，做了太史令，博览皇家图书、档案及各种史料，为精心编写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史记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准备了条件。汉武帝太初元年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前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04)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，正式开始编写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史记</a:t>
            </a:r>
            <a:r>
              <a:rPr b="1" lang="en-US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5"/>
          <p:cNvSpPr/>
          <p:nvPr/>
        </p:nvSpPr>
        <p:spPr>
          <a:xfrm>
            <a:off x="4104360" y="380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近作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7"/>
          <p:cNvSpPr/>
          <p:nvPr/>
        </p:nvSpPr>
        <p:spPr>
          <a:xfrm>
            <a:off x="533520" y="1752480"/>
            <a:ext cx="8229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正当他专心著书的时候，天汉二年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9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汉将李陵败降匈奴，君臣震惊，司马迁因替李陵辩护，触怒了汉武帝，获罪下狱，遭受宫刑。蒙受了奇耻大辱的司马迁痛不欲生，但为了完成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史记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部著作，他忍辱苟活，以刑后余生全力写作，终于在公元前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完成了这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究天人之际，通古今之变，成一家之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不朽巨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cashreg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plus(out)" transition="out">
                                      <p:cBhvr additive="repl">
                                        <p:cTn id="3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而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为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能不及孙膑       认为（动词） 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虏魏太子申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归           而，表修饰关系 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孙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此名显天下         因为（介词） 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于是乃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田忌为将         把（介词） 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君之下驷与彼上驷     用（介词） 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庞涓恐其贤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己           比（介词） 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于是忌进孙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威王       向（介词） 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轻兵锐卒必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外         在（介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 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自以为能不及孙膑       可是（转折连词） 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则以法刑断其两足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黥之   并且（并列连词） 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去韩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归                 承接连词 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窃载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齐     动词  去，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齐将田忌善而客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之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代词 孙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遂成竖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名   助词 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5"/>
          <p:cNvSpPr/>
          <p:nvPr/>
        </p:nvSpPr>
        <p:spPr>
          <a:xfrm>
            <a:off x="685800" y="3009240"/>
            <a:ext cx="72388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孙膑，战国时兵家，齐国阿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山东阳谷东北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，孙武的后代。膑，古代剔去人膝盖骨的一种酷刑。孙膑被庞涓施以此刑，后世就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他的名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3647160" y="533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文题阐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2" name="camera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2971800" y="441900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减灶杀涓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6"/>
          <p:cNvSpPr/>
          <p:nvPr/>
        </p:nvSpPr>
        <p:spPr>
          <a:xfrm>
            <a:off x="1063080" y="3206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孙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0"/>
          <p:cNvSpPr/>
          <p:nvPr/>
        </p:nvSpPr>
        <p:spPr>
          <a:xfrm>
            <a:off x="3256920" y="2209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帮田忌赛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1"/>
          <p:cNvSpPr/>
          <p:nvPr/>
        </p:nvSpPr>
        <p:spPr>
          <a:xfrm>
            <a:off x="3256920" y="3200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围魏救赵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3"/>
          <p:cNvSpPr/>
          <p:nvPr/>
        </p:nvSpPr>
        <p:spPr>
          <a:xfrm>
            <a:off x="2286000" y="2286000"/>
            <a:ext cx="380880" cy="2514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15" descr="孙膑"/>
          <p:cNvPicPr/>
          <p:nvPr/>
        </p:nvPicPr>
        <p:blipFill>
          <a:blip r:embed="rId1"/>
          <a:stretch/>
        </p:blipFill>
        <p:spPr>
          <a:xfrm>
            <a:off x="152280" y="152280"/>
            <a:ext cx="1717920" cy="205740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16"/>
          <p:cNvSpPr/>
          <p:nvPr/>
        </p:nvSpPr>
        <p:spPr>
          <a:xfrm>
            <a:off x="3570840" y="533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17" descr="1"/>
          <p:cNvPicPr/>
          <p:nvPr/>
        </p:nvPicPr>
        <p:blipFill>
          <a:blip r:embed="rId2"/>
          <a:stretch/>
        </p:blipFill>
        <p:spPr>
          <a:xfrm>
            <a:off x="5486400" y="4343400"/>
            <a:ext cx="3352680" cy="23590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1. </a:t>
            </a:r>
            <a:r>
              <a:rPr b="0" lang="zh-CN" sz="3600" spc="-1" strike="noStrike">
                <a:solidFill>
                  <a:srgbClr val="007572"/>
                </a:solidFill>
                <a:latin typeface="Arial"/>
              </a:rPr>
              <a:t>本文用哪些事例来表现孙膑的才能？这体现了司马迁人物传记在选材上的什么特点？ 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田忌赛马、围魏救赵、马陵之战。 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②在掌握丰富素材的基础上，选取与人物性格密切相关的材料，既体现人物的主题风貌，又表现其性格的丰富性。具有生活化的特征，不避小事俗事。材料的安排详略得当。 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7-17T02:03:40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