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5.gif" ContentType="image/gif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DF2-3D57-4057-A4F6-9C2BDE6D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242-6621-460A-B17E-7075C1A8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512-B677-4518-A94F-430B8498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779-30A5-4E81-A259-32557049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DBD7-AE77-430A-8A84-068ECADF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D9B5-27DD-4A9D-8760-934DC7FA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B117-82B0-43C3-B351-6A78059A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DADA-A033-4A50-AFC3-35E1047F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90C6-873E-4024-95C1-71C29CC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3646-086B-401C-9E4E-7C136B7C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3331-B044-41A6-B8D1-EF770C3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D00-AED8-49B9-83AC-ACD622B5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026F-945D-4B6D-9EB8-754E0EF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34FA-E50C-46DE-80C0-F69D441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46C7-E4CD-4130-BD91-8FDB454A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3A03-FA83-4E4D-9858-5A992170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4358-7DB0-4700-93E2-E3581A73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F10-1BD3-45CC-9F4E-3BC08327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2E6-9ED6-4C9A-A295-D3FC0325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39D-6E9C-4C81-B761-965CD01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61C-7F5B-4E85-B2C9-10D7890C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047-805B-4C21-B181-02AA65B8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F2D-3656-4A7C-8FD2-1784ECA6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A27-3E9E-4885-BE25-7F683C46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22FD-F3A2-4BF2-91E5-6CADCFB7CBF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0AFE-A7BA-4D60-9948-4324D0D3E8B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baike.baidu.com/view/10644.htm" TargetMode="External"/><Relationship Id="rId4" Type="http://schemas.openxmlformats.org/officeDocument/2006/relationships/hyperlink" Target="http://baike.baidu.com/view/25782.htm" TargetMode="External"/><Relationship Id="rId5" Type="http://schemas.openxmlformats.org/officeDocument/2006/relationships/hyperlink" Target="http://baike.baidu.com/view/11114.htm" TargetMode="External"/><Relationship Id="rId6" Type="http://schemas.openxmlformats.org/officeDocument/2006/relationships/hyperlink" Target="http://baike.baidu.com/view/16674.htm" TargetMode="External"/><Relationship Id="rId7" Type="http://schemas.openxmlformats.org/officeDocument/2006/relationships/hyperlink" Target="http://baike.baidu.com/view/73645.htm" TargetMode="External"/><Relationship Id="rId8" Type="http://schemas.openxmlformats.org/officeDocument/2006/relationships/hyperlink" Target="http://baike.baidu.com/view/34817.htm" TargetMode="External"/><Relationship Id="rId9" Type="http://schemas.openxmlformats.org/officeDocument/2006/relationships/hyperlink" Target="http://baike.baidu.com/view/51207.htm" TargetMode="External"/><Relationship Id="rId10" Type="http://schemas.openxmlformats.org/officeDocument/2006/relationships/hyperlink" Target="http://baike.baidu.com/view/17592.htm" TargetMode="External"/><Relationship Id="rId11" Type="http://schemas.openxmlformats.org/officeDocument/2006/relationships/hyperlink" Target="http://baike.baidu.com/view/109145.htm" TargetMode="External"/><Relationship Id="rId12" Type="http://schemas.openxmlformats.org/officeDocument/2006/relationships/hyperlink" Target="http://baike.baidu.com/view/553902.htm" TargetMode="Externa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baike.baidu.com/view/40898.htm" TargetMode="External"/><Relationship Id="rId4" Type="http://schemas.openxmlformats.org/officeDocument/2006/relationships/hyperlink" Target="http://baike.baidu.com/view/3688.htm" TargetMode="External"/><Relationship Id="rId5" Type="http://schemas.openxmlformats.org/officeDocument/2006/relationships/hyperlink" Target="http://baike.baidu.com/view/15837.htm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1280" y="5850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23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111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舞火龙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　　舞火龙，是香港中秋节最富传统特色的习俗。从每年农历八月十四晚起，铜锣湾大坑地区就一连三晚举行盛大的舞火龙活动。这火龙长达</a:t>
            </a: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70</a:t>
            </a: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多米，用珍珠草扎成</a:t>
            </a: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32</a:t>
            </a: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节的龙身，插满了长寿香。盛会之夜，这个区的大街小巷，一条条蜿蜒起伏的火龙在灯光与龙鼓音乐下欢腾起舞，很是热闹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　　香港中秋舞火龙的起源还有过一段传说：很早以前，大坑区在一次风灾袭击后，出现了一条蟒蛇，四处作恶，村民们四出搜捕，终于把它击毙。不料次日蟒蛇不翼而飞。数天后，大坑便发生瘟疫。这时，村中父老忽获菩萨托梦，说是只要在中秋佳节舞动火龙，便可将瘟疫驱除。事有巧合，此举竟然奏效。从此，舞火龙就流传至今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华文新魏"/>
                <a:ea typeface="华文新魏"/>
              </a:rPr>
              <a:t>　　不管这传说有多少迷信成份，但中国是龙的故土，在香港大坑中秋节舞火龙已有一百多年的历史，这是值得珍视的。如今大坑区的舞火龙活动规模颇大，除总教练、教练、总指挥及指挥外，安全组等等。轮番舞龙者达三万多人。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651640" y="4221000"/>
            <a:ext cx="3057480" cy="229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651640" y="2349360"/>
            <a:ext cx="3047760" cy="1725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651640" y="404640"/>
            <a:ext cx="30956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7730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华文行楷"/>
              </a:rPr>
              <a:t>好吃的月饼。。。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824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c"/>
                </a:solidFill>
                <a:latin typeface="华文新魏"/>
                <a:ea typeface="华文新魏"/>
              </a:rPr>
              <a:t>　　中秋节美食首推月饼，其起源说法多种。一说元代末年，江苏泰州的反元起义领袖张士诚（或说是朱元璋的谋士刘伯温）利用中秋民众互赠圆饼之际，在饼中夹带“八月十五夜杀鞑子”的字条，大家见了饼中字条，一传十，十传百，如约于这天夜里一起手刃无恶不作的“鞑子”（元兵），过后家家吃饼庆祝起义胜利，并正式称中秋节的圆饼为月饼。在后来很长历史时期，甚至在上世纪末，许多月饼上还贴有一方小纸片！只可惜，近年所产月饼已不见小纸片踪影，月饼所含代代相传的“文化密码”荡然无存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3589200"/>
            <a:ext cx="4356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c"/>
                </a:solidFill>
                <a:latin typeface="华文新魏"/>
                <a:ea typeface="华文新魏"/>
              </a:rPr>
              <a:t>另有一说为，明洪武初年，大将徐达攻下元朝残余势力盘踞的元大都北京，捷报传到首都南京，正在下棋的明太祖朱元璋欣喜若狂，即传谕中秋节普天同庆，并将当初反元大起义时传递信息的月饼赏赐臣民。月饼从此成为中秋节“法定”的食品，非食不可了。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</a:rPr>
              <a:t>馋了吧。。。。。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48360" y="270828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42920" y="1268280"/>
            <a:ext cx="3024360" cy="217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16000" y="3429000"/>
            <a:ext cx="3657600" cy="2925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92720" y="333360"/>
            <a:ext cx="2716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19539600">
            <a:off x="1476000" y="177768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64000" cy="2852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 rot="2215800">
            <a:off x="5292360" y="765000"/>
            <a:ext cx="3600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168720" cy="165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09880" cy="4191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84720" y="3213000"/>
            <a:ext cx="38098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一起游戏吧。。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游戏规则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华文新魏"/>
              </a:rPr>
              <a:t>一、知识问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必答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4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5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6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7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  <a:ea typeface="黑体"/>
              </a:rPr>
              <a:t>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76280"/>
            <a:ext cx="4535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抢答喽。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  <a:ea typeface="黑体"/>
              </a:rPr>
              <a:t>1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  <a:ea typeface="黑体"/>
              </a:rPr>
              <a:t>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  <a:ea typeface="黑体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  <a:ea typeface="黑体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  <a:ea typeface="黑体"/>
              </a:rPr>
              <a:t>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  <a:ea typeface="黑体"/>
              </a:rPr>
              <a:t>6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  <a:ea typeface="黑体"/>
              </a:rPr>
              <a:t>7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indefinite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5" dur="indefinite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6" dur="indefinite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华文行楷"/>
              </a:rPr>
              <a:t>                                   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华文行楷"/>
              </a:rPr>
              <a:t>二、和月亮一起</a:t>
            </a:r>
            <a:br>
              <a:rPr sz="3600"/>
            </a:b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华文行楷"/>
              </a:rPr>
              <a:t>                                                   朗诵诗歌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40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一起欣赏啦。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357720"/>
            <a:ext cx="626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《十五夜望月》 （唐）王建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　     　   中庭地白树栖鸦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冷露无声湿桂花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　　         今夜月明人尽望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不知秋思落谁家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　　　　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0"/>
            <a:ext cx="41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《中秋月》</a:t>
            </a: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 （宋）苏轼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　暮云收尽溢清寒， 银汉无声转玉盘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　此生此夜不长好， 明月明年何处看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429264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《中秋》（宋）戴石屏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把酒冰壶接胜游，今年喜不负中秋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故人心似中秋月，肯为狂夫照白头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260280"/>
            <a:ext cx="50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405"/>
                </a:solidFill>
                <a:latin typeface="Arial"/>
              </a:rPr>
              <a:t>《古朗月行》 </a:t>
            </a: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唐</a:t>
            </a: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) </a:t>
            </a: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李白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小时不识月，呼作白玉盘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又疑瑶台镜，飞在青云端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仙人垂两足，桂树何团团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白兔捣药成，问言与谁餐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蟾蜍蚀圆影，大明夜已残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羿昔落九乌，天人清且安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阴精此沦惑，去去不足观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00405"/>
                </a:solidFill>
                <a:latin typeface="Arial"/>
              </a:rPr>
              <a:t>　忧来其如何，凄怆摧心肝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276640"/>
            <a:ext cx="33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《望月怀远》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（唐）张九龄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海上生明月，天涯共此时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情人怨遥夜，竟夕起相思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灭烛怜光满，披衣觉露滋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　　不堪盈手赠，还寝梦佳期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66"/>
                </a:solidFill>
                <a:latin typeface="Arial"/>
                <a:ea typeface="华文行楷"/>
              </a:rPr>
              <a:t>我们是  一家人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三、唱歌啦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835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月亮代表我的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看月亮爬上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十五的月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花好月圆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月半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月亮之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c"/>
                </a:solidFill>
                <a:latin typeface="Arial"/>
              </a:rPr>
              <a:t>白月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492280"/>
            <a:ext cx="4680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月亮走我也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彩云追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但愿人长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你看你看月亮的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上弦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Arial"/>
              </a:rPr>
              <a:t>满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54064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隶书"/>
              </a:rPr>
              <a:t>祝贺冠军</a:t>
            </a:r>
            <a:br>
              <a:rPr sz="8000"/>
            </a:br>
            <a:r>
              <a:rPr b="0" lang="zh-CN" sz="80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仿宋_GB2312"/>
              </a:rPr>
              <a:t>发月饼啦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740720" y="567072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4811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66"/>
                </a:solidFill>
                <a:latin typeface="Arial"/>
                <a:ea typeface="华文行楷"/>
              </a:rPr>
              <a:t>中秋节的来历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 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 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每年农历八月十五日，是我国传统的中秋佳节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中秋节有悠久的历史，和其它传统节日一样，也是慢慢发展形成的，古代帝王有春天祭日，秋天祭月的礼制，早在《周礼》一书中，已有“中秋”一词的记载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这时是一年秋季的中期，所以被称为中秋。这也是我国仅次于春节的第二大传统节日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    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中国的农历里，一年分为四季，每季又分为孟、仲、季三个部分，因 而中秋也称仲秋。八月十五的月亮比其它几个月的满月更圆，更明亮，所以又叫做月夕、秋节、仲秋节、八月节、八月会、追月节、玩月节、拜月节、女儿节或团圆节，是流行于全国众多民族中的传统文化节日。此夜，人们仰望天空如玉如盘的朗朗明月，自然会期盼家人团聚。远在他乡的游子，也借此寄托自己对故乡和亲人的思念之情。所以，中秋也称“团圆节”。</a:t>
            </a:r>
            <a:r>
              <a:rPr b="0" lang="zh-CN" sz="1800" spc="-1" strike="noStrike">
                <a:solidFill>
                  <a:srgbClr val="007572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华文行楷"/>
              </a:rPr>
              <a:t>对着明月，讲故事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6800" y="1980720"/>
            <a:ext cx="8377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66"/>
                </a:solidFill>
                <a:latin typeface="Arial"/>
                <a:ea typeface="楷体_GB2312"/>
              </a:rPr>
              <a:t>嫦娥奔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无论有多少版本，一点是共通的：嫦娥是射日英雄后羿之妻，王母感后羿射日之功，赠之不死仙药。而嫦娥因故吃了仙药，无法逗留地面，飞天奔月而去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有的版本中仙药是一粒，被嫦娥得之。而更多版本是两粒：人服一粒长生，服二粒成仙。后羿拿回家给嫦娥保管，准备夫妻分食，然而却被意外打破了这个计划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意外是什么？无数版本的意外让嫦娥的形象在千百年来飘忽不定。有传说是嫦娥因不知详情而全服下；有人说嫦娥是好奇偷食；也人说嫦娥是故意盗之；一种悲伤的说法是后羿冷落嫦娥，嫦娥伤心而去；还有的传说是，后羿的部下蓬蒙趁后羿率众徒外出狩猎时手持宝剑闯入后院，威逼嫦娥交出宝物，嫦娥危急中将宝物吞下……无论如何，这个意外，造就了千古传说中一位最美丽浪漫、也最缥缈不定的月宫佳人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服下仙药的嫦娥身子渐渐飘离地面，而广邈清冷的天空中，该去哪里呢？抬头望见皎洁的月光，嫦娥终于决定向那轮圆月冉冉飞去。</a:t>
            </a: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765000"/>
            <a:ext cx="8281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00405"/>
                </a:solidFill>
                <a:latin typeface="楷体_GB2312"/>
                <a:ea typeface="楷体_GB2312"/>
              </a:rPr>
              <a:t>吴刚伐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行楷"/>
                <a:ea typeface="华文行楷"/>
              </a:rPr>
              <a:t>　</a:t>
            </a:r>
            <a:r>
              <a:rPr b="0" lang="zh-CN" sz="2400" spc="-1" strike="noStrike">
                <a:solidFill>
                  <a:srgbClr val="100405"/>
                </a:solidFill>
                <a:latin typeface="华文行楷"/>
                <a:ea typeface="华文行楷"/>
              </a:rPr>
              <a:t>　</a:t>
            </a: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抬头仰望明月，可见当中有些黑影，这便是传说的吴刚在伐桂。吴刚砍桂的神话据说是在唐代演绎而成，在民间流传中也有不同版本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　　传说吴刚是天庭中的一位粗鲁的天将，被嫦娥的美丽深深吸引。也不顾对方的拒绝，一次又一次地跑到月宫纠缠。嫦娥不堪其扰，于是指向月中桂树说，它枝条太长了，今夜你若能将它砍断，便答应你的追求。吴刚心花怒放，心想这算什么难题，抡起斧头就砍。可每次拔出斧头，桂树的树身便恢复如初。于是他一斧又一斧地砍，桂树总是不断。一至砍到今天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　　也有传说中吴刚是位凡人：一位西河人姓吴名刚，本为樵夫，醉心于仙道，但始终不肯专心学习，因此天帝震怒，把他居留在月宫，令他在月宫伐株五百丈的桂树，并说：“如果你砍倒桂树，就可获仙术。”但吴刚每砍一斧，斧起而树创伤就马上愈合，日复一日，吴刚伐桂的愿望仍未达成，因此吴刚在月宫常年伐桂，始终砍不倒这棵树，而他也不断地砍下去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554480"/>
            <a:ext cx="45396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5589360"/>
            <a:ext cx="73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华文行楷"/>
              </a:rPr>
              <a:t>中秋习俗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34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中秋祭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　在我国是一种十分古老的习俗。据史书记载，早在周朝，古代帝王就有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3"/>
              </a:rPr>
              <a:t>春分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祭日、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4"/>
              </a:rPr>
              <a:t>夏至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祭地、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5"/>
              </a:rPr>
              <a:t>秋分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祭月、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6"/>
              </a:rPr>
              <a:t>冬至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祭天的习俗。其祭祀的场所称为日坛、地坛、月坛、天坛。分设在东南西北四个方向。北京的月坛就是明清皇帝祭月的地方。《</a:t>
            </a: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7"/>
              </a:rPr>
              <a:t>礼记</a:t>
            </a:r>
            <a:r>
              <a:rPr b="0" lang="zh-CN" sz="1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记载：“天子春朝日，秋夕月。朝日之朝，夕月之夕。”这里的夕月之夕，指的正是夜晚祭祀月亮。这种风俗不仅为宫廷及上层贵族所奉行，随着社会的发展，也逐渐影响到民间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文人赏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赏月的风俗来源于祭月，严肃的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8"/>
              </a:rPr>
              <a:t>祭祀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变成了轻松的欢娱。民间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9"/>
              </a:rPr>
              <a:t>中秋赏月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活动约始魏晋时期，但未成习。到了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10"/>
              </a:rPr>
              <a:t>唐代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中秋赏月、玩月颇为盛行，许多诗人的名篇中都有咏月的诗句。待到宋时，形成了以赏月活动为中心的中秋民俗节日，正式定为中秋节。与唐人不同，宋人赏月更多的是感物伤怀，常以阴晴圆缺，喻人情事态，即使中秋之夜，明月的清光也掩饰不住宋人的伤感。但对宋人来说，中秋还有另外一种形态，即中秋是世俗欢愉的节日：“中秋节前，诸店皆卖新酒，贵家结饰台榭，民家争占酒楼玩月，笙歌远闻千里，嬉戏连坐至晓”（《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11"/>
              </a:rPr>
              <a:t>东京梦华录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）。</a:t>
            </a:r>
            <a:r>
              <a:rPr b="0" lang="zh-CN" sz="20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12"/>
              </a:rPr>
              <a:t>宋代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中秋夜是不眠之夜，夜市通宵营业，玩月游人，达旦不绝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32000" y="4210560"/>
            <a:ext cx="95724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1612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  <a:ea typeface="楷体_GB2312"/>
              </a:rPr>
              <a:t>民间拜月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相传古代齐国丑女无盐，幼年时曾虔诚拜月，长大后，以超群品德入宫，但未被宠幸。某年八月十五赏月，天子在月光下见到她，觉得她美丽出众，后立她为皇后，中秋拜月由此而来。月中嫦娥，以美貌著称，故少女拜月，愿“貌似嫦娥，面如皓月”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明清之后，因时代的关系，社会生活中的现实功利因素突出，岁时节日中世俗的情趣俞益浓厚，以“赏月”为中心的抒情性与神话性的文人传统减弱，功利性的祭拜、祈求与世俗的情感、愿望构成普通民众中秋节俗的主要形态。因此，“民间拜月”成为人们渴望团聚、康乐和幸福；以月寄情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66"/>
                </a:solidFill>
                <a:latin typeface="华文新魏"/>
                <a:ea typeface="华文新魏"/>
              </a:rPr>
              <a:t>　　在古代有“秋暮夕月”的习俗。夕月，即祭拜月神。设大香案，摆上月饼、西瓜、苹果、红枣、李子、葡萄等祭品，其中月饼和西瓜是绝对不能少的。西瓜还要切成莲花状。在月下，将月亮神像放在月亮的那个方向，红烛高燃，全家人依次拜祭月亮，然后由当家主妇切开团圆月饼。切的人预先算好全家共有多少人，在家的，在外地的，都要算在一起，不能切多也不能切少，大小要一样。</a:t>
            </a:r>
            <a:r>
              <a:rPr b="0" lang="zh-CN" sz="1800" spc="-1" strike="noStrike">
                <a:solidFill>
                  <a:srgbClr val="ffff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691920"/>
            <a:ext cx="4267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  <a:ea typeface="楷体_GB2312"/>
              </a:rPr>
              <a:t>兔儿爷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Arial"/>
              </a:rPr>
              <a:t>　　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兔儿爷的起源约在明末。明人纪坤（约一六三六年前后在世）的《花王阁剩稿》：“京中秋节多以泥抟兔形，衣冠踞坐如人状，儿女祀而拜之。”到了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3"/>
              </a:rPr>
              <a:t>清代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4"/>
              </a:rPr>
              <a:t>兔儿爷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功能已由祭月转变为儿童的中秋节玩具。制作也日趋精致，有扮成武将头戴盔甲、身披戢袍的、也有背插纸旗或纸伞、或坐或立的。坐则有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5"/>
              </a:rPr>
              <a:t>麒麟</a:t>
            </a: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虎豹等等。也有扮成兔首人身之商贩，或是剃头师父、或是缝鞋、卖馄饨、茶汤的，不一而足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　　“每届中秋，市人之巧者，用黄土抟成蟾兔之像以出售，谓之兔儿爷。”旧时北京东四牌楼一带，常有兔儿爷摊子，专售中秋祭月用的兔儿爷。此外，南纸店，香烛也有出售的。 这兔儿爷，经过民间艺人的大胆创造，已经人格化了。它是兔首人身，手持玉杵。后来有人仿照戏曲人物，把兔儿爷雕造成金盔金甲的武士，有的骑着狮、象等猛兽，有的骑着孔雀，仙鹤等飞禽。特别是兔儿爷骑虎，虽属怪事，但却是民间艺人的大胆创造。还有一种肘关节和下颔能活动的兔儿爷，俗称“刮打刮打嘴”，更讨人喜欢。它虽为拜月的供品，但实在是孩子们的绝妙玩具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 rot="21304200">
            <a:off x="5333760" y="260280"/>
            <a:ext cx="3809880" cy="2919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 rot="495000">
            <a:off x="4500360" y="436572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 rot="19991400">
            <a:off x="6912000" y="494172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67280" y="642600"/>
            <a:ext cx="11746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692280"/>
            <a:ext cx="42670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00405"/>
                </a:solidFill>
                <a:latin typeface="Arial"/>
                <a:ea typeface="楷体_GB2312"/>
              </a:rPr>
              <a:t>玩花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　　中秋节，有许多的游戏活动，首先是玩花灯。中秋是我国三大灯节之一，过节要玩灯。当然，中秋没有像元宵节那样的大型灯会，玩灯主要只是在家庭、儿童之间进行的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花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0405"/>
                </a:solidFill>
                <a:latin typeface="华文新魏"/>
                <a:ea typeface="华文新魏"/>
              </a:rPr>
              <a:t>早在北宋《武林旧事》中，记载中秋夜节俗，就有‘将“一点红”灯放入江中漂流玩耍的活动。中秋玩花灯，多集中在南方。如前述的佛山秋色会上，就有各种各式的彩灯：芝麻灯、蛋壳灯、刨花灯、稻草灯、鱼鳞灯、谷壳灯、瓜籽灯及鸟兽花树灯等，令人赞叹。</a:t>
            </a:r>
            <a:r>
              <a:rPr b="0" lang="zh-CN" sz="1800" spc="-1" strike="noStrike">
                <a:solidFill>
                  <a:srgbClr val="10040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 rot="1634400">
            <a:off x="5003280" y="692280"/>
            <a:ext cx="3343320" cy="214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 rot="20442000">
            <a:off x="7235640" y="407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 rot="646800">
            <a:off x="4642920" y="3716280"/>
            <a:ext cx="201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0:59:19Z</dcterms:created>
  <dc:creator>微软用户</dc:creator>
  <dc:description/>
  <dc:language>en-US</dc:language>
  <cp:lastModifiedBy>Administrators</cp:lastModifiedBy>
  <dcterms:modified xsi:type="dcterms:W3CDTF">2011-09-09T06:36:57Z</dcterms:modified>
  <cp:revision>4</cp:revision>
  <dc:subject/>
  <dc:title>M </dc:title>
</cp:coreProperties>
</file>