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490-5ABF-4A4B-A7CF-B08BC863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F765-0514-49AD-8FD8-03855FA3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5ADC-9217-47FC-B265-6D0BF323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FC83-A547-447A-AF4B-8F1F4B805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2A64-9A61-48AE-882E-1C41ABCF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65F9-30FD-4EBB-AD1D-6D994D89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87AF-95D8-4E42-80FB-D6ACF242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B601-56BD-41C2-923F-C12F8D13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9504-F9C1-4A77-931B-45D815D3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1606-EB00-488E-941B-AAFF533A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5B56-10F0-4D52-BC69-73F76F69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C50B-5DC0-4246-BA54-F608F4D9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E15D-AD3E-4F77-BD04-2016B53C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19F9-E725-4CAA-9123-36260C16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871D-8200-43A9-92B1-1B31F12B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33FA-386B-4459-89AA-B5F4C2B5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B415-CE91-4EE3-BC05-3FDDB6C4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EA3-CF02-4495-9586-98C6DA5C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DD7-D89A-43BC-B82E-B41658A1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965B-C7A2-4021-B4DE-D68EFE6D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9191-FD7F-4FB3-B1F2-41C69EEB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65A7-916B-4344-B0DB-B4587279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5D80-83CE-4EAE-A4FF-748565B5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1DA1-5AE3-41BC-A898-E70176F9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C9A9-2E99-495D-8034-73653625CD1F}" type="slidenum">
              <a:rPr b="0" lang="zh-TW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C355-1B28-45E8-ADFE-FC2DF349D806}" type="slidenum">
              <a:rPr b="0" lang="zh-TW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2a3d7a"/>
                </a:solidFill>
                <a:latin typeface="Times New Roman"/>
              </a:rPr>
              <a:t>中  元   節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1468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3" name="title" descr="Title"/>
          <p:cNvPicPr/>
          <p:nvPr/>
        </p:nvPicPr>
        <p:blipFill>
          <a:blip r:embed="rId1"/>
          <a:stretch/>
        </p:blipFill>
        <p:spPr>
          <a:xfrm>
            <a:off x="762120" y="533520"/>
            <a:ext cx="2114280" cy="2171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目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連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向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來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佛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救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方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得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拯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救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母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親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脫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離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地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投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胎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向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王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城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為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狗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他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母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親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才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得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以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升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天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新細明體"/>
              </a:rPr>
              <a:t>三、中元節的習俗</a:t>
            </a:r>
            <a:r>
              <a:rPr b="0" lang="zh-TW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3048120" cy="4191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38080" y="2362320"/>
            <a:ext cx="5029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市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井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賣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冥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器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靴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鞋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金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犀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假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帶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五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綵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衣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服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… …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及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印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賣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」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又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將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竹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竿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砍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成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三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腳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高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約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三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五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尺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上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面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織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成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燈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窩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之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狀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稱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為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盂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蘭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盆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上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面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掛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上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衣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服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冥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錢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祭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拜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後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再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加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以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焚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燒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這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種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器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物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是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為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了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中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元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節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祭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祖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之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用</a:t>
            </a:r>
            <a:r>
              <a:rPr b="1" lang="zh-TW" sz="24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4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3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3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3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3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1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animClr clrSpc="rgb">
                                      <p:cBhvr>
                                        <p:cTn id="3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3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3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薦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   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宋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人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以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素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食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祭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祖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例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用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新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米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新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醬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米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飯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瓜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果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等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   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擺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祭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品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子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上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要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舖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楝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葉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腳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要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繫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上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麻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穀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窠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兒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   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這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是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因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中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元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節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正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是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收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穫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季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節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祭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麻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穀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」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有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告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祖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先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秋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成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之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意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也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稱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薦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新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」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2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animClr clrSpc="rgb">
                                      <p:cBhvr>
                                        <p:cTn id="353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354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56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57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animClr clrSpc="rgb">
                                      <p:cBhvr>
                                        <p:cTn id="362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363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6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66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animClr clrSpc="rgb">
                                      <p:cBhvr>
                                        <p:cTn id="371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372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74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75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祭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祖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祭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祖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供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雞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冠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花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稱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為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洗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手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花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」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家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中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若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有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新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亡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者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也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於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中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元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節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前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往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墳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地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祭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掃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放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法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清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朝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在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西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湖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中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元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節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有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放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法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船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習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俗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法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船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以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錦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紙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紮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糊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成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有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長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至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七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八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尺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者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船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上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用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紙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紮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出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鬼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王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判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官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兵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士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尚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唸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經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之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形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在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誦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經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超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度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儀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式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入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水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中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焚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化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燒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紙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船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用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意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在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慈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航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普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渡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」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3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7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1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5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9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放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水 燈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中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元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燃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放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種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燈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具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主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旨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均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在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照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幽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冥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之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苦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」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尤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其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是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寺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廟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所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放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水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燈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在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黑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黝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黝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水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面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上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盞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盞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向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下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游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去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有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明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星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萬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點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象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徵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佛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法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無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邊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蓮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燈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萬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盞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並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兼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具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超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渡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孤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之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意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新細明體"/>
              </a:rPr>
              <a:t>四、台灣的中元節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清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朝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初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年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中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元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習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俗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祭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祖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先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要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以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楮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作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五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色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綺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繡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之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狀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焚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之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云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為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泉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下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作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衣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裳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」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舉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辦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蘭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盆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會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延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請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名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尚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主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持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黃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昏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登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壇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說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法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並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向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壇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下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拋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灑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食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物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羹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飯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稱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為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普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施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」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a50021"/>
                </a:solidFill>
                <a:latin typeface="新細明體"/>
              </a:rPr>
              <a:t>搶</a:t>
            </a:r>
            <a:r>
              <a:rPr b="0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zh-TW" sz="4400" spc="-1" strike="noStrike">
                <a:solidFill>
                  <a:srgbClr val="a50021"/>
                </a:solidFill>
                <a:latin typeface="新細明體"/>
              </a:rPr>
              <a:t>孤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在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普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度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廣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場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上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搭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起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高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丈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餘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台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子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上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面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放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滿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了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式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樣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供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普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度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畢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主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辦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人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聲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令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下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所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有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人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便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蜂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湧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上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奪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祭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七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月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普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度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時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鬼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魂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群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集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為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了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怕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他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們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連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忘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返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便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有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人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發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明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了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孤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這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個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辦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法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據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說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鬼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魂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看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到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群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比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自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己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猛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人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奪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祭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時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會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被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嚇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得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遺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開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民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國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八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年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宜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蘭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頭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城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在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停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辦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了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四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年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以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再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度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舉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辦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孤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活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動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拜</a:t>
            </a:r>
            <a:r>
              <a:rPr b="1" lang="zh-TW" sz="44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好</a:t>
            </a:r>
            <a:r>
              <a:rPr b="1" lang="zh-TW" sz="44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兄</a:t>
            </a:r>
            <a:r>
              <a:rPr b="1" lang="zh-TW" sz="4400" spc="-1" strike="noStrike">
                <a:solidFill>
                  <a:srgbClr val="a50021"/>
                </a:solidFill>
                <a:latin typeface="Arial Unicode MS"/>
                <a:ea typeface="Arial Unicode MS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弟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台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灣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俗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稱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孤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魂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野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鬼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為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「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好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兄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弟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」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中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元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節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時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普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度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孤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魂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就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稱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為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「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拜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好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兄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弟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」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普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度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型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式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還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分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為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公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普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及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私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普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兩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種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0" lang="zh-TW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私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普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以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街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莊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等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居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住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單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位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為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主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普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度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從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七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月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初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到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三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十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大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家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共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商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議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甲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村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是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哪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天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乙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村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是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哪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天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按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照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規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定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日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子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輪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流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舉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0" lang="zh-TW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88760" y="1346040"/>
            <a:ext cx="10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2a3d7a"/>
                </a:solidFill>
                <a:latin typeface="Times New Roman"/>
              </a:rPr>
              <a:t>大綱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2438280"/>
            <a:ext cx="7162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TW" sz="4400" spc="-1" strike="noStrike">
                <a:solidFill>
                  <a:srgbClr val="2a3d7a"/>
                </a:solidFill>
                <a:latin typeface="Times New Roman"/>
              </a:rPr>
              <a:t>一、起源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2a3d7a"/>
                </a:solidFill>
                <a:latin typeface="Times New Roman"/>
              </a:rPr>
              <a:t>       </a:t>
            </a:r>
            <a:r>
              <a:rPr b="1" lang="zh-TW" sz="4400" spc="-1" strike="noStrike">
                <a:solidFill>
                  <a:srgbClr val="2a3d7a"/>
                </a:solidFill>
                <a:latin typeface="Times New Roman"/>
              </a:rPr>
              <a:t>二、中元節的傳說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2a3d7a"/>
                </a:solidFill>
                <a:latin typeface="Times New Roman"/>
              </a:rPr>
              <a:t>       </a:t>
            </a:r>
            <a:r>
              <a:rPr b="1" lang="zh-TW" sz="4400" spc="-1" strike="noStrike">
                <a:solidFill>
                  <a:srgbClr val="2a3d7a"/>
                </a:solidFill>
                <a:latin typeface="Times New Roman"/>
              </a:rPr>
              <a:t>三、中元節的習俗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2a3d7a"/>
                </a:solidFill>
                <a:latin typeface="Times New Roman"/>
              </a:rPr>
              <a:t>       </a:t>
            </a:r>
            <a:r>
              <a:rPr b="1" lang="zh-TW" sz="4400" spc="-1" strike="noStrike">
                <a:solidFill>
                  <a:srgbClr val="2a3d7a"/>
                </a:solidFill>
                <a:latin typeface="Times New Roman"/>
              </a:rPr>
              <a:t>四、台灣的中元節</a:t>
            </a:r>
            <a:r>
              <a:rPr b="1" lang="zh-TW" sz="4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    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鹿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港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----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「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普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度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謠</a:t>
            </a:r>
            <a:r>
              <a:rPr b="0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lang="zh-TW" sz="4400" spc="-1" strike="noStrike">
                <a:solidFill>
                  <a:srgbClr val="a50021"/>
                </a:solidFill>
                <a:latin typeface="新細明體"/>
              </a:rPr>
              <a:t>」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初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放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水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燈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初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普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王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宮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初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三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米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市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街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初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四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文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武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廟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初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五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城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隍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宮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初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六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塗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城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初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七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七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娘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生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初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八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新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宮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邊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初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九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興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化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媽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祖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宮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口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初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港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底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菜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園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龍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山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寺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三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衙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門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四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飫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鬼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埕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五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舊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宮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六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東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石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七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郭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厝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八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營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盤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地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九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杉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街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廿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寮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仔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甘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車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路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廿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船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仔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頭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廿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三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街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尾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廿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四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宮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廿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五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許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厝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埔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廿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六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牛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墟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頭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廿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七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安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平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鎮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廿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八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濠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仔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寮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廿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九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通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港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普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卅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日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龜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粿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店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初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米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粉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寮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初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乞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食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吃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無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聊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普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度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普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度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天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下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午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紛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紛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在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門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口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擺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上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豐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盛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飯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菜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俗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稱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拜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門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口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」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每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盤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菜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上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都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插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支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香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細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心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點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人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會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準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備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香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煙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檳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榔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胭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脂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白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粉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等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祭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拜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畢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焚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燒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紙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錢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撒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供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據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說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如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果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供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太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少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或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是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作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菜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飯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太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壞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就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會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遭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到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好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弟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報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復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或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讓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人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生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病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或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是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所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養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禽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畜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暴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斃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等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等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所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以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莫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不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竭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盡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所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能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準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備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豐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盛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飯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菜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5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公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普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又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稱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廟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普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」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般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都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在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七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月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十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五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舉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俗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語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叫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拜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七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月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半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」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以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村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莊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寺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廟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為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中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心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主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祭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人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為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當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地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豪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或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寺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廟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主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事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者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在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廟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前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樹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燈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篙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」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以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便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招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所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燈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篙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就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是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根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高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幾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丈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木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竿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或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竹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竿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在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端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吊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起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燈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籠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入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夜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點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亮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animClr clrSpc="rgb">
                                      <p:cBhvr>
                                        <p:cTn id="4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  <p:set>
                                      <p:cBhvr>
                                        <p:cTn id="4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6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公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普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費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用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由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廟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方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負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責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祭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典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當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事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人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爐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主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」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派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人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按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戶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募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捐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俗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稱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捐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緣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金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」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捐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錢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人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家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就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在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門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口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吊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起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盞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燈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籠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上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書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慶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讚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中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元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」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2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放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水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燈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水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燈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分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為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水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燈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頭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水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燈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排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兩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種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溺 斃 的 鬼 ， 則 利 用 「 放 水 燈 」 來 通 知 。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水 燈 由 各 大 姓 提 供 ， 上 面 註 明 其 姓 氏 。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相 傳 水 燈 流 得 愈 快 愈 遠 ， 表 示 該 字 姓 人 家 當 年 的 運 氣 愈 好 。 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跳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鍾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馗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普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度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結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束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寺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廟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得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請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道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士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法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師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或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戲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班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中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人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來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跳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鍾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馗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」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藉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著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鍾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馗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法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刀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來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趕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走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滯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留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當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地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孤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野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鬼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跳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鍾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馗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般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民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眾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怕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被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煞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氣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沖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到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都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不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敢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在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現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場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逼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留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跳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鍾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馗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廟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普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就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算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圓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滿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達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成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神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豬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、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神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羊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比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賽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義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民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廟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普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度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特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色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之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就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是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自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清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朝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以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來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每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年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都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舉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辦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神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豬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、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神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羊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比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賽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前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五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名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神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豬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重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量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定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都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超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出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千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台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斤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兩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神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羊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選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拔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則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是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以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角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長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短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來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比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賽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5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新細明體"/>
              </a:rPr>
              <a:t>一、起源</a:t>
            </a:r>
            <a:r>
              <a:rPr b="0" lang="zh-TW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農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曆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七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月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十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五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是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我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國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民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間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的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一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個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重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要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節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日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。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佛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教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徒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稱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之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為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盂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蘭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盆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節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道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教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徒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則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稱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為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中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元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節</a:t>
            </a:r>
            <a:r>
              <a:rPr b="1" lang="zh-TW" sz="28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天 子 象 徵 性 的 以 新 榖 祭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    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祀 祖 廟 ， 表 達 對 祖 先 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    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敬 意 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民 間 都  保 持 著 薦 新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    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習 俗 ，  集 中 在 農 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     </a:t>
            </a:r>
            <a:r>
              <a:rPr b="1" lang="zh-TW" sz="2800" spc="-1" strike="noStrike">
                <a:solidFill>
                  <a:srgbClr val="2a3d7a"/>
                </a:solidFill>
                <a:latin typeface="新細明體"/>
              </a:rPr>
              <a:t>七 月 十 五 舉 行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 。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0" y="3657600"/>
            <a:ext cx="1905120" cy="2857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盂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蘭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盆</a:t>
            </a:r>
            <a:r>
              <a:rPr b="1" lang="zh-TW" sz="44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zh-TW" sz="4400" spc="-1" strike="noStrike">
                <a:solidFill>
                  <a:srgbClr val="a50021"/>
                </a:solidFill>
                <a:latin typeface="新細明體"/>
              </a:rPr>
              <a:t>節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「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盂 蘭 盆 節 」 一 詞 ， 來 自 佛 經 中 的 目 蓮 救 母 故 事</a:t>
            </a:r>
            <a:r>
              <a:rPr b="1" lang="zh-TW" sz="32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原 意 為 「 救 倒 懸 」 ， 也 就 是 解 救 在 地 獄 裡 受 苦 的 鬼 魂 。 </a:t>
            </a:r>
            <a:r>
              <a:rPr b="1" lang="zh-TW" sz="32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4191120"/>
            <a:ext cx="6477120" cy="2133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中 元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節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是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地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官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赦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罪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之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日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因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此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道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士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都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在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這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一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天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誦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經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作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法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事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以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三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牲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五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果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普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度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十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方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孤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魂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野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鬼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盂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蘭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盆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會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及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中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元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節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最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終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目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都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在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於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普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度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眾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生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形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成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了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目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前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這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個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以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孝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順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、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博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愛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為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宗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旨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節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日</a:t>
            </a:r>
            <a:r>
              <a:rPr b="1" lang="zh-TW" sz="3200" spc="-1" strike="noStrike">
                <a:solidFill>
                  <a:srgbClr val="2a3d7a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2a3d7a"/>
                </a:solidFill>
                <a:latin typeface="新細明體"/>
              </a:rPr>
              <a:t>。</a:t>
            </a:r>
            <a:r>
              <a:rPr b="0" lang="zh-TW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6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0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新細明體"/>
              </a:rPr>
              <a:t>二、中元節的傳說</a:t>
            </a:r>
            <a:r>
              <a:rPr b="0" lang="zh-TW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a50021"/>
                </a:solidFill>
                <a:latin typeface="新細明體"/>
              </a:rPr>
              <a:t>目 連 救 母 的故事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目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連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俗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名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字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叫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羅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卜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寡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母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青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提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夫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人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生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性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吝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嗇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又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好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殺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生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但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是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羅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卜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非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常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良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平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日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佈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施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敬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重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三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有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天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他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要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出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門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經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商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將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家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中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錢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財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分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為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三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分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分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自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己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帶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走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分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供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養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母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親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分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留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在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家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中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布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施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貧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乏</a:t>
            </a:r>
            <a:r>
              <a:rPr b="1" lang="zh-TW" sz="28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6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不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料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自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羅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卜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離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家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後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青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提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夫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人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日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日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宰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雞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殺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鵝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遇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僧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眾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上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門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便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命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家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僮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棒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打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出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去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甚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至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放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狗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追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咬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乞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丐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由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於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她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惡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死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被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罰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墜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入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阿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鼻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地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日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夜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受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苦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新細明體"/>
              </a:rPr>
              <a:t>。</a:t>
            </a:r>
            <a:r>
              <a:rPr b="0" lang="zh-TW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3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羅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卜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在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母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親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去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世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十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分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悲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痛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心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想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唯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有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出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途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方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能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報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答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母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親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深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恩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便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拜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如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來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世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尊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為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師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法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號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大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目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連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數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年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之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修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得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神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通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第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身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超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羅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漢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目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連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想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知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道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父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母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死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托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生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何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處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卻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發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覺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母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親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身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墮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阿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鼻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地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他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為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了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解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救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母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親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便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親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自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前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往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地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獄</a:t>
            </a:r>
            <a:r>
              <a:rPr b="1" lang="zh-TW" sz="28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2800" spc="-1" strike="noStrike">
                <a:solidFill>
                  <a:srgbClr val="1f4081"/>
                </a:solidFill>
                <a:latin typeface="新細明體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9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3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地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獄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景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象</a:t>
            </a:r>
            <a:r>
              <a:rPr b="1" lang="zh-TW" sz="3200" spc="-1" strike="noStrike">
                <a:solidFill>
                  <a:srgbClr val="1f4081"/>
                </a:solidFill>
                <a:latin typeface="Times New Roman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：其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中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受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罪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之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人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一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日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萬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生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萬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死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或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刀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山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劍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樹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或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鐵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犁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耕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舌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或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汁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銅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灌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口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或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吞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熱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鐵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火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丸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或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抱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銅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柱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身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體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燋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然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爛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壞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牛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頭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每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日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凌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遲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獄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卒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終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朝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來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拷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鑊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湯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煎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煮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，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痛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苦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難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當</a:t>
            </a:r>
            <a:r>
              <a:rPr b="1" lang="zh-TW" sz="3200" spc="-1" strike="noStrike">
                <a:solidFill>
                  <a:srgbClr val="1f4081"/>
                </a:solidFill>
                <a:latin typeface="Arial Unicode MS"/>
                <a:ea typeface="Arial Unicode MS"/>
              </a:rPr>
              <a:t> </a:t>
            </a:r>
            <a:r>
              <a:rPr b="1" lang="zh-TW" sz="3200" spc="-1" strike="noStrike">
                <a:solidFill>
                  <a:srgbClr val="1f4081"/>
                </a:solidFill>
                <a:latin typeface="新細明體"/>
              </a:rPr>
              <a:t>。</a:t>
            </a:r>
            <a:r>
              <a:rPr b="0" lang="zh-TW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3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9T12:26:32Z</dcterms:created>
  <dc:creator>user</dc:creator>
  <dc:description/>
  <dc:language>en-US</dc:language>
  <cp:lastModifiedBy>DGS</cp:lastModifiedBy>
  <dcterms:modified xsi:type="dcterms:W3CDTF">2007-03-15T13:48:31Z</dcterms:modified>
  <cp:revision>17</cp:revision>
  <dc:subject/>
  <dc:title>中  元   節</dc:title>
</cp:coreProperties>
</file>