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8" descr=""/>
          <p:cNvPicPr/>
          <p:nvPr/>
        </p:nvPicPr>
        <p:blipFill>
          <a:blip r:embed="rId1"/>
          <a:srcRect l="34865" t="40806" r="34080" b="17879"/>
          <a:stretch/>
        </p:blipFill>
        <p:spPr>
          <a:xfrm>
            <a:off x="4313160" y="2922480"/>
            <a:ext cx="3787920" cy="3525840"/>
          </a:xfrm>
          <a:prstGeom prst="rect">
            <a:avLst/>
          </a:prstGeom>
          <a:ln w="0">
            <a:noFill/>
          </a:ln>
        </p:spPr>
      </p:pic>
      <p:pic>
        <p:nvPicPr>
          <p:cNvPr id="4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6" descr=""/>
          <p:cNvPicPr/>
          <p:nvPr/>
        </p:nvPicPr>
        <p:blipFill>
          <a:blip r:embed="rId3"/>
          <a:srcRect l="17658" t="33551" r="68105" b="24054"/>
          <a:stretch/>
        </p:blipFill>
        <p:spPr>
          <a:xfrm>
            <a:off x="1119240" y="2536920"/>
            <a:ext cx="1741320" cy="3628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4"/>
          <a:srcRect l="17490" t="60429" r="47141" b="13208"/>
          <a:stretch/>
        </p:blipFill>
        <p:spPr>
          <a:xfrm>
            <a:off x="874800" y="4406760"/>
            <a:ext cx="4673520" cy="24386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5"/>
          <a:srcRect l="39694" t="69371" r="40339" b="8159"/>
          <a:stretch/>
        </p:blipFill>
        <p:spPr>
          <a:xfrm>
            <a:off x="4761000" y="4964040"/>
            <a:ext cx="2394000" cy="1886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6"/>
          <a:srcRect l="13261" t="75203" r="74267" b="14174"/>
          <a:stretch/>
        </p:blipFill>
        <p:spPr>
          <a:xfrm>
            <a:off x="874800" y="5775480"/>
            <a:ext cx="1582560" cy="9428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2" descr=""/>
          <p:cNvPicPr/>
          <p:nvPr/>
        </p:nvPicPr>
        <p:blipFill>
          <a:blip r:embed="rId7"/>
          <a:srcRect l="28250" t="81904" r="59277" b="7473"/>
          <a:stretch/>
        </p:blipFill>
        <p:spPr>
          <a:xfrm>
            <a:off x="3481560" y="6037200"/>
            <a:ext cx="1582560" cy="9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"/>
          <p:cNvPicPr/>
          <p:nvPr/>
        </p:nvPicPr>
        <p:blipFill>
          <a:blip r:embed="rId8"/>
          <a:srcRect l="28250" t="81904" r="59277" b="7473"/>
          <a:stretch/>
        </p:blipFill>
        <p:spPr>
          <a:xfrm>
            <a:off x="-171360" y="5405400"/>
            <a:ext cx="1579320" cy="9428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5" descr=""/>
          <p:cNvPicPr/>
          <p:nvPr/>
        </p:nvPicPr>
        <p:blipFill>
          <a:blip r:embed="rId9"/>
          <a:srcRect l="9551" t="26152" r="74963" b="45495"/>
          <a:stretch/>
        </p:blipFill>
        <p:spPr>
          <a:xfrm>
            <a:off x="0" y="1484280"/>
            <a:ext cx="217476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6" descr=""/>
          <p:cNvPicPr/>
          <p:nvPr/>
        </p:nvPicPr>
        <p:blipFill>
          <a:blip r:embed="rId10"/>
          <a:srcRect l="9551" t="26152" r="74963" b="45495"/>
          <a:stretch/>
        </p:blipFill>
        <p:spPr>
          <a:xfrm flipH="1">
            <a:off x="10501200" y="3562200"/>
            <a:ext cx="217512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"/>
          <p:cNvPicPr/>
          <p:nvPr/>
        </p:nvPicPr>
        <p:blipFill>
          <a:blip r:embed="rId11"/>
          <a:stretch/>
        </p:blipFill>
        <p:spPr>
          <a:xfrm rot="394800">
            <a:off x="8542080" y="825480"/>
            <a:ext cx="384948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"/>
          <p:cNvPicPr/>
          <p:nvPr/>
        </p:nvPicPr>
        <p:blipFill>
          <a:blip r:embed="rId12"/>
          <a:srcRect l="52751" t="45986" r="9980" b="9388"/>
          <a:stretch/>
        </p:blipFill>
        <p:spPr>
          <a:xfrm>
            <a:off x="6878520" y="3160800"/>
            <a:ext cx="4702320" cy="3940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"/>
          <p:cNvPicPr/>
          <p:nvPr/>
        </p:nvPicPr>
        <p:blipFill>
          <a:blip r:embed="rId13"/>
          <a:stretch/>
        </p:blipFill>
        <p:spPr>
          <a:xfrm flipH="1">
            <a:off x="7178760" y="0"/>
            <a:ext cx="5045040" cy="25369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1486080"/>
            <a:ext cx="12677760" cy="4863960"/>
            <a:chOff x="0" y="1486080"/>
            <a:chExt cx="12677760" cy="4863960"/>
          </a:xfrm>
        </p:grpSpPr>
        <p:pic>
          <p:nvPicPr>
            <p:cNvPr id="53" name="图片 22" descr=""/>
            <p:cNvPicPr/>
            <p:nvPr/>
          </p:nvPicPr>
          <p:blipFill>
            <a:blip r:embed="rId14"/>
            <a:srcRect l="9551" t="26152" r="74963" b="45495"/>
            <a:stretch/>
          </p:blipFill>
          <p:spPr>
            <a:xfrm>
              <a:off x="0" y="1486080"/>
              <a:ext cx="2175120" cy="27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图片 23" descr=""/>
            <p:cNvPicPr/>
            <p:nvPr/>
          </p:nvPicPr>
          <p:blipFill>
            <a:blip r:embed="rId15"/>
            <a:srcRect l="9551" t="26152" r="74963" b="45495"/>
            <a:stretch/>
          </p:blipFill>
          <p:spPr>
            <a:xfrm flipH="1">
              <a:off x="10502640" y="3563640"/>
              <a:ext cx="2175120" cy="278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3584520" y="2660760"/>
            <a:ext cx="5068800" cy="498240"/>
            <a:chOff x="3584520" y="2660760"/>
            <a:chExt cx="5068800" cy="498240"/>
          </a:xfrm>
        </p:grpSpPr>
        <p:sp>
          <p:nvSpPr>
            <p:cNvPr id="56" name="上凸带形 17"/>
            <p:cNvSpPr/>
            <p:nvPr/>
          </p:nvSpPr>
          <p:spPr>
            <a:xfrm>
              <a:off x="3584520" y="2660760"/>
              <a:ext cx="5068800" cy="498240"/>
            </a:xfrm>
            <a:custGeom>
              <a:avLst/>
              <a:gdLst>
                <a:gd name="textAreaLeft" fmla="*/ 633600 w 5068800"/>
                <a:gd name="textAreaRight" fmla="*/ 4435200 w 5068800"/>
                <a:gd name="textAreaTop" fmla="*/ 0 h 498240"/>
                <a:gd name="textAreaBottom" fmla="*/ 40464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535"/>
                  </a:moveTo>
                  <a:lnTo>
                    <a:pt x="5400" y="20584"/>
                  </a:lnTo>
                  <a:cubicBezTo>
                    <a:pt x="5400" y="21092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833"/>
                  </a:lnTo>
                  <a:lnTo>
                    <a:pt x="0" y="4065"/>
                  </a:lnTo>
                  <a:lnTo>
                    <a:pt x="2700" y="4065"/>
                  </a:lnTo>
                  <a:lnTo>
                    <a:pt x="2700" y="1016"/>
                  </a:lnTo>
                  <a:cubicBezTo>
                    <a:pt x="2700" y="508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08"/>
                    <a:pt x="18900" y="1016"/>
                  </a:cubicBezTo>
                  <a:lnTo>
                    <a:pt x="18900" y="4065"/>
                  </a:lnTo>
                  <a:lnTo>
                    <a:pt x="21600" y="4065"/>
                  </a:lnTo>
                  <a:lnTo>
                    <a:pt x="18850" y="12833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92"/>
                    <a:pt x="16200" y="20584"/>
                  </a:cubicBezTo>
                  <a:lnTo>
                    <a:pt x="16200" y="17535"/>
                  </a:lnTo>
                  <a:close/>
                </a:path>
                <a:path fill="darkenLess" w="21600" h="21600">
                  <a:moveTo>
                    <a:pt x="5400" y="17535"/>
                  </a:moveTo>
                  <a:lnTo>
                    <a:pt x="5400" y="20584"/>
                  </a:lnTo>
                  <a:cubicBezTo>
                    <a:pt x="5400" y="20076"/>
                    <a:pt x="4980" y="19568"/>
                    <a:pt x="4560" y="19568"/>
                  </a:cubicBezTo>
                  <a:lnTo>
                    <a:pt x="3540" y="19568"/>
                  </a:lnTo>
                  <a:cubicBezTo>
                    <a:pt x="3120" y="19568"/>
                    <a:pt x="2700" y="19059"/>
                    <a:pt x="2700" y="18551"/>
                  </a:cubicBezTo>
                  <a:cubicBezTo>
                    <a:pt x="2700" y="18043"/>
                    <a:pt x="3120" y="17535"/>
                    <a:pt x="3540" y="17535"/>
                  </a:cubicBezTo>
                  <a:close/>
                </a:path>
                <a:path fill="darkenLess" w="21600" h="21600">
                  <a:moveTo>
                    <a:pt x="16200" y="17535"/>
                  </a:moveTo>
                  <a:lnTo>
                    <a:pt x="16200" y="20584"/>
                  </a:lnTo>
                  <a:cubicBezTo>
                    <a:pt x="16200" y="20076"/>
                    <a:pt x="16620" y="19568"/>
                    <a:pt x="17040" y="19568"/>
                  </a:cubicBezTo>
                  <a:lnTo>
                    <a:pt x="18060" y="19568"/>
                  </a:lnTo>
                  <a:cubicBezTo>
                    <a:pt x="18480" y="19568"/>
                    <a:pt x="18900" y="19059"/>
                    <a:pt x="18900" y="18551"/>
                  </a:cubicBezTo>
                  <a:cubicBezTo>
                    <a:pt x="18900" y="18043"/>
                    <a:pt x="18480" y="17535"/>
                    <a:pt x="18060" y="17535"/>
                  </a:cubicBezTo>
                  <a:close/>
                </a:path>
                <a:path fill="darkenLess" w="21600" h="21600">
                  <a:moveTo>
                    <a:pt x="2700" y="18551"/>
                  </a:moveTo>
                  <a:lnTo>
                    <a:pt x="2700" y="4065"/>
                  </a:lnTo>
                </a:path>
                <a:path fill="darkenLess" w="21600" h="21600">
                  <a:moveTo>
                    <a:pt x="18900" y="18551"/>
                  </a:moveTo>
                  <a:lnTo>
                    <a:pt x="18900" y="406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18"/>
            <p:cNvSpPr/>
            <p:nvPr/>
          </p:nvSpPr>
          <p:spPr>
            <a:xfrm>
              <a:off x="5606640" y="2685960"/>
              <a:ext cx="10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朋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26" descr=""/>
          <p:cNvPicPr/>
          <p:nvPr/>
        </p:nvPicPr>
        <p:blipFill>
          <a:blip r:embed="rId16"/>
          <a:stretch/>
        </p:blipFill>
        <p:spPr>
          <a:xfrm>
            <a:off x="4991040" y="349200"/>
            <a:ext cx="218916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7" descr=""/>
          <p:cNvPicPr/>
          <p:nvPr/>
        </p:nvPicPr>
        <p:blipFill>
          <a:blip r:embed="rId17"/>
          <a:stretch/>
        </p:blipFill>
        <p:spPr>
          <a:xfrm>
            <a:off x="4297320" y="1135080"/>
            <a:ext cx="354168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9" descr=""/>
          <p:cNvPicPr/>
          <p:nvPr/>
        </p:nvPicPr>
        <p:blipFill>
          <a:blip r:embed="rId18"/>
          <a:stretch/>
        </p:blipFill>
        <p:spPr>
          <a:xfrm>
            <a:off x="4292640" y="1143000"/>
            <a:ext cx="35416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8" descr=""/>
          <p:cNvPicPr/>
          <p:nvPr/>
        </p:nvPicPr>
        <p:blipFill>
          <a:blip r:embed="rId19"/>
          <a:stretch/>
        </p:blipFill>
        <p:spPr>
          <a:xfrm>
            <a:off x="4651200" y="2022480"/>
            <a:ext cx="2760840" cy="75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5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上凸带形 9"/>
          <p:cNvSpPr/>
          <p:nvPr/>
        </p:nvSpPr>
        <p:spPr>
          <a:xfrm>
            <a:off x="4240080" y="282600"/>
            <a:ext cx="3768840" cy="500040"/>
          </a:xfrm>
          <a:custGeom>
            <a:avLst/>
            <a:gdLst>
              <a:gd name="textAreaLeft" fmla="*/ 645120 w 3768840"/>
              <a:gd name="textAreaRight" fmla="*/ 3123720 w 3768840"/>
              <a:gd name="textAreaTop" fmla="*/ 0 h 500040"/>
              <a:gd name="textAreaBottom" fmla="*/ 406080 h 500040"/>
            </a:gdLst>
            <a:ahLst/>
            <a:rect l="textAreaLeft" t="textAreaTop" r="textAreaRight" b="textAreaBottom"/>
            <a:pathLst>
              <a:path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1092"/>
                  <a:pt x="5978" y="21600"/>
                  <a:pt x="5558" y="21600"/>
                </a:cubicBezTo>
                <a:lnTo>
                  <a:pt x="0" y="21600"/>
                </a:lnTo>
                <a:lnTo>
                  <a:pt x="2750" y="12833"/>
                </a:lnTo>
                <a:lnTo>
                  <a:pt x="0" y="4065"/>
                </a:lnTo>
                <a:lnTo>
                  <a:pt x="3698" y="4065"/>
                </a:lnTo>
                <a:lnTo>
                  <a:pt x="3698" y="1016"/>
                </a:lnTo>
                <a:cubicBezTo>
                  <a:pt x="3698" y="508"/>
                  <a:pt x="4118" y="0"/>
                  <a:pt x="4538" y="0"/>
                </a:cubicBezTo>
                <a:lnTo>
                  <a:pt x="17062" y="0"/>
                </a:lnTo>
                <a:cubicBezTo>
                  <a:pt x="17482" y="0"/>
                  <a:pt x="17902" y="508"/>
                  <a:pt x="17902" y="1016"/>
                </a:cubicBezTo>
                <a:lnTo>
                  <a:pt x="17902" y="4065"/>
                </a:lnTo>
                <a:lnTo>
                  <a:pt x="21600" y="4065"/>
                </a:lnTo>
                <a:lnTo>
                  <a:pt x="18850" y="12833"/>
                </a:lnTo>
                <a:lnTo>
                  <a:pt x="21600" y="21600"/>
                </a:lnTo>
                <a:lnTo>
                  <a:pt x="16042" y="21600"/>
                </a:lnTo>
                <a:cubicBezTo>
                  <a:pt x="15622" y="21600"/>
                  <a:pt x="15202" y="21092"/>
                  <a:pt x="15202" y="20584"/>
                </a:cubicBezTo>
                <a:lnTo>
                  <a:pt x="15202" y="17535"/>
                </a:lnTo>
                <a:close/>
              </a:path>
              <a:path fill="darkenLess"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0076"/>
                  <a:pt x="5978" y="19568"/>
                  <a:pt x="5558" y="19568"/>
                </a:cubicBezTo>
                <a:lnTo>
                  <a:pt x="4538" y="19568"/>
                </a:lnTo>
                <a:cubicBezTo>
                  <a:pt x="4118" y="19568"/>
                  <a:pt x="3698" y="19059"/>
                  <a:pt x="3698" y="18551"/>
                </a:cubicBezTo>
                <a:cubicBezTo>
                  <a:pt x="3698" y="18043"/>
                  <a:pt x="4118" y="17535"/>
                  <a:pt x="4538" y="17535"/>
                </a:cubicBezTo>
                <a:close/>
              </a:path>
              <a:path fill="darkenLess" w="21600" h="21600">
                <a:moveTo>
                  <a:pt x="15202" y="17535"/>
                </a:moveTo>
                <a:lnTo>
                  <a:pt x="15202" y="20584"/>
                </a:lnTo>
                <a:cubicBezTo>
                  <a:pt x="15202" y="20076"/>
                  <a:pt x="15622" y="19568"/>
                  <a:pt x="16042" y="19568"/>
                </a:cubicBezTo>
                <a:lnTo>
                  <a:pt x="17062" y="19568"/>
                </a:lnTo>
                <a:cubicBezTo>
                  <a:pt x="17482" y="19568"/>
                  <a:pt x="17902" y="19059"/>
                  <a:pt x="17902" y="18551"/>
                </a:cubicBezTo>
                <a:cubicBezTo>
                  <a:pt x="17902" y="18043"/>
                  <a:pt x="17482" y="17535"/>
                  <a:pt x="17062" y="17535"/>
                </a:cubicBezTo>
                <a:close/>
              </a:path>
              <a:path fill="darkenLess" w="21600" h="21600">
                <a:moveTo>
                  <a:pt x="3698" y="18551"/>
                </a:moveTo>
                <a:lnTo>
                  <a:pt x="3698" y="4065"/>
                </a:lnTo>
              </a:path>
              <a:path fill="darkenLess" w="21600" h="21600">
                <a:moveTo>
                  <a:pt x="17902" y="18551"/>
                </a:moveTo>
                <a:lnTo>
                  <a:pt x="17902" y="406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5599800" y="31896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"/>
          <p:cNvPicPr/>
          <p:nvPr/>
        </p:nvPicPr>
        <p:blipFill>
          <a:blip r:embed="rId2"/>
          <a:stretch/>
        </p:blipFill>
        <p:spPr>
          <a:xfrm flipH="1">
            <a:off x="717876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"/>
          <p:cNvPicPr/>
          <p:nvPr/>
        </p:nvPicPr>
        <p:blipFill>
          <a:blip r:embed="rId3"/>
          <a:srcRect l="17658" t="33551" r="68105" b="24054"/>
          <a:stretch/>
        </p:blipFill>
        <p:spPr>
          <a:xfrm>
            <a:off x="146160" y="2754360"/>
            <a:ext cx="1743120" cy="3628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"/>
          <p:cNvPicPr/>
          <p:nvPr/>
        </p:nvPicPr>
        <p:blipFill>
          <a:blip r:embed="rId4"/>
          <a:srcRect l="17658" t="33551" r="68105" b="24054"/>
          <a:stretch/>
        </p:blipFill>
        <p:spPr>
          <a:xfrm>
            <a:off x="10598040" y="2921040"/>
            <a:ext cx="1743120" cy="36291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7" descr=""/>
          <p:cNvPicPr/>
          <p:nvPr/>
        </p:nvPicPr>
        <p:blipFill>
          <a:blip r:embed="rId5"/>
          <a:srcRect l="39694" t="69371" r="40339" b="8159"/>
          <a:stretch/>
        </p:blipFill>
        <p:spPr>
          <a:xfrm>
            <a:off x="127080" y="5210280"/>
            <a:ext cx="2395440" cy="18874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8" descr=""/>
          <p:cNvPicPr/>
          <p:nvPr/>
        </p:nvPicPr>
        <p:blipFill>
          <a:blip r:embed="rId6"/>
          <a:srcRect l="13261" t="75203" r="74267" b="14174"/>
          <a:stretch/>
        </p:blipFill>
        <p:spPr>
          <a:xfrm>
            <a:off x="10677600" y="5915160"/>
            <a:ext cx="1582560" cy="9428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/>
          <p:cNvPicPr/>
          <p:nvPr/>
        </p:nvPicPr>
        <p:blipFill>
          <a:blip r:embed="rId7"/>
          <a:stretch/>
        </p:blipFill>
        <p:spPr>
          <a:xfrm>
            <a:off x="5173560" y="636480"/>
            <a:ext cx="18716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" descr=""/>
          <p:cNvPicPr/>
          <p:nvPr/>
        </p:nvPicPr>
        <p:blipFill>
          <a:blip r:embed="rId8"/>
          <a:stretch/>
        </p:blipFill>
        <p:spPr>
          <a:xfrm rot="21347400">
            <a:off x="1836720" y="2150640"/>
            <a:ext cx="5859360" cy="3922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2" name="图片 15" descr=""/>
          <p:cNvPicPr/>
          <p:nvPr/>
        </p:nvPicPr>
        <p:blipFill>
          <a:blip r:embed="rId9"/>
          <a:stretch/>
        </p:blipFill>
        <p:spPr>
          <a:xfrm rot="1707600">
            <a:off x="7499520" y="2463480"/>
            <a:ext cx="2784240" cy="3890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上凸带形 9"/>
          <p:cNvSpPr/>
          <p:nvPr/>
        </p:nvSpPr>
        <p:spPr>
          <a:xfrm>
            <a:off x="4240080" y="282600"/>
            <a:ext cx="3768840" cy="500040"/>
          </a:xfrm>
          <a:custGeom>
            <a:avLst/>
            <a:gdLst>
              <a:gd name="textAreaLeft" fmla="*/ 645120 w 3768840"/>
              <a:gd name="textAreaRight" fmla="*/ 3123720 w 3768840"/>
              <a:gd name="textAreaTop" fmla="*/ 0 h 500040"/>
              <a:gd name="textAreaBottom" fmla="*/ 406080 h 500040"/>
            </a:gdLst>
            <a:ahLst/>
            <a:rect l="textAreaLeft" t="textAreaTop" r="textAreaRight" b="textAreaBottom"/>
            <a:pathLst>
              <a:path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1092"/>
                  <a:pt x="5978" y="21600"/>
                  <a:pt x="5558" y="21600"/>
                </a:cubicBezTo>
                <a:lnTo>
                  <a:pt x="0" y="21600"/>
                </a:lnTo>
                <a:lnTo>
                  <a:pt x="2750" y="12833"/>
                </a:lnTo>
                <a:lnTo>
                  <a:pt x="0" y="4065"/>
                </a:lnTo>
                <a:lnTo>
                  <a:pt x="3698" y="4065"/>
                </a:lnTo>
                <a:lnTo>
                  <a:pt x="3698" y="1016"/>
                </a:lnTo>
                <a:cubicBezTo>
                  <a:pt x="3698" y="508"/>
                  <a:pt x="4118" y="0"/>
                  <a:pt x="4538" y="0"/>
                </a:cubicBezTo>
                <a:lnTo>
                  <a:pt x="17062" y="0"/>
                </a:lnTo>
                <a:cubicBezTo>
                  <a:pt x="17482" y="0"/>
                  <a:pt x="17902" y="508"/>
                  <a:pt x="17902" y="1016"/>
                </a:cubicBezTo>
                <a:lnTo>
                  <a:pt x="17902" y="4065"/>
                </a:lnTo>
                <a:lnTo>
                  <a:pt x="21600" y="4065"/>
                </a:lnTo>
                <a:lnTo>
                  <a:pt x="18850" y="12833"/>
                </a:lnTo>
                <a:lnTo>
                  <a:pt x="21600" y="21600"/>
                </a:lnTo>
                <a:lnTo>
                  <a:pt x="16042" y="21600"/>
                </a:lnTo>
                <a:cubicBezTo>
                  <a:pt x="15622" y="21600"/>
                  <a:pt x="15202" y="21092"/>
                  <a:pt x="15202" y="20584"/>
                </a:cubicBezTo>
                <a:lnTo>
                  <a:pt x="15202" y="17535"/>
                </a:lnTo>
                <a:close/>
              </a:path>
              <a:path fill="darkenLess" w="21600" h="21600">
                <a:moveTo>
                  <a:pt x="6398" y="17535"/>
                </a:moveTo>
                <a:lnTo>
                  <a:pt x="6398" y="20584"/>
                </a:lnTo>
                <a:cubicBezTo>
                  <a:pt x="6398" y="20076"/>
                  <a:pt x="5978" y="19568"/>
                  <a:pt x="5558" y="19568"/>
                </a:cubicBezTo>
                <a:lnTo>
                  <a:pt x="4538" y="19568"/>
                </a:lnTo>
                <a:cubicBezTo>
                  <a:pt x="4118" y="19568"/>
                  <a:pt x="3698" y="19059"/>
                  <a:pt x="3698" y="18551"/>
                </a:cubicBezTo>
                <a:cubicBezTo>
                  <a:pt x="3698" y="18043"/>
                  <a:pt x="4118" y="17535"/>
                  <a:pt x="4538" y="17535"/>
                </a:cubicBezTo>
                <a:close/>
              </a:path>
              <a:path fill="darkenLess" w="21600" h="21600">
                <a:moveTo>
                  <a:pt x="15202" y="17535"/>
                </a:moveTo>
                <a:lnTo>
                  <a:pt x="15202" y="20584"/>
                </a:lnTo>
                <a:cubicBezTo>
                  <a:pt x="15202" y="20076"/>
                  <a:pt x="15622" y="19568"/>
                  <a:pt x="16042" y="19568"/>
                </a:cubicBezTo>
                <a:lnTo>
                  <a:pt x="17062" y="19568"/>
                </a:lnTo>
                <a:cubicBezTo>
                  <a:pt x="17482" y="19568"/>
                  <a:pt x="17902" y="19059"/>
                  <a:pt x="17902" y="18551"/>
                </a:cubicBezTo>
                <a:cubicBezTo>
                  <a:pt x="17902" y="18043"/>
                  <a:pt x="17482" y="17535"/>
                  <a:pt x="17062" y="17535"/>
                </a:cubicBezTo>
                <a:close/>
              </a:path>
              <a:path fill="darkenLess" w="21600" h="21600">
                <a:moveTo>
                  <a:pt x="3698" y="18551"/>
                </a:moveTo>
                <a:lnTo>
                  <a:pt x="3698" y="4065"/>
                </a:lnTo>
              </a:path>
              <a:path fill="darkenLess" w="21600" h="21600">
                <a:moveTo>
                  <a:pt x="17902" y="18551"/>
                </a:moveTo>
                <a:lnTo>
                  <a:pt x="17902" y="406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"/>
          <p:cNvSpPr/>
          <p:nvPr/>
        </p:nvSpPr>
        <p:spPr>
          <a:xfrm>
            <a:off x="5599800" y="31896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"/>
          <p:cNvPicPr/>
          <p:nvPr/>
        </p:nvPicPr>
        <p:blipFill>
          <a:blip r:embed="rId2"/>
          <a:stretch/>
        </p:blipFill>
        <p:spPr>
          <a:xfrm flipH="1">
            <a:off x="7178760" y="0"/>
            <a:ext cx="5045040" cy="2536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"/>
          <p:cNvPicPr/>
          <p:nvPr/>
        </p:nvPicPr>
        <p:blipFill>
          <a:blip r:embed="rId3"/>
          <a:srcRect l="17658" t="33551" r="68105" b="24054"/>
          <a:stretch/>
        </p:blipFill>
        <p:spPr>
          <a:xfrm>
            <a:off x="146160" y="2754360"/>
            <a:ext cx="1743120" cy="362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4"/>
          <a:srcRect l="17658" t="33551" r="68105" b="24054"/>
          <a:stretch/>
        </p:blipFill>
        <p:spPr>
          <a:xfrm>
            <a:off x="10598040" y="2921040"/>
            <a:ext cx="1743120" cy="3629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5"/>
          <a:srcRect l="39694" t="69371" r="40339" b="8159"/>
          <a:stretch/>
        </p:blipFill>
        <p:spPr>
          <a:xfrm>
            <a:off x="127080" y="5210280"/>
            <a:ext cx="2395440" cy="18874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"/>
          <p:cNvPicPr/>
          <p:nvPr/>
        </p:nvPicPr>
        <p:blipFill>
          <a:blip r:embed="rId6"/>
          <a:srcRect l="13261" t="75203" r="74267" b="14174"/>
          <a:stretch/>
        </p:blipFill>
        <p:spPr>
          <a:xfrm>
            <a:off x="10677600" y="5915160"/>
            <a:ext cx="1582560" cy="9428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"/>
          <p:cNvPicPr/>
          <p:nvPr/>
        </p:nvPicPr>
        <p:blipFill>
          <a:blip r:embed="rId7"/>
          <a:stretch/>
        </p:blipFill>
        <p:spPr>
          <a:xfrm>
            <a:off x="5173560" y="636480"/>
            <a:ext cx="1871640" cy="6462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5" descr=""/>
          <p:cNvPicPr/>
          <p:nvPr/>
        </p:nvPicPr>
        <p:blipFill>
          <a:blip r:embed="rId8"/>
          <a:stretch/>
        </p:blipFill>
        <p:spPr>
          <a:xfrm rot="20905200">
            <a:off x="2443320" y="2480760"/>
            <a:ext cx="2784240" cy="3891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3" name="文本框 1"/>
          <p:cNvSpPr/>
          <p:nvPr/>
        </p:nvSpPr>
        <p:spPr>
          <a:xfrm>
            <a:off x="5429160" y="371016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有时候你很捣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"/>
          <p:cNvSpPr/>
          <p:nvPr/>
        </p:nvSpPr>
        <p:spPr>
          <a:xfrm>
            <a:off x="6740640" y="3948120"/>
            <a:ext cx="38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经常欺负</a:t>
            </a:r>
            <a:r>
              <a:rPr b="0" lang="zh-CN" sz="4800" spc="-1" strike="noStrike">
                <a:solidFill>
                  <a:srgbClr val="ff709d"/>
                </a:solidFill>
                <a:latin typeface="微软雅黑"/>
                <a:ea typeface="微软雅黑"/>
              </a:rPr>
              <a:t>女同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0"/>
          <p:cNvSpPr/>
          <p:nvPr/>
        </p:nvSpPr>
        <p:spPr>
          <a:xfrm>
            <a:off x="0" y="-19080"/>
            <a:ext cx="12192120" cy="6877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707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2600" y="-19080"/>
            <a:ext cx="12204720" cy="6877080"/>
            <a:chOff x="-12600" y="-19080"/>
            <a:chExt cx="12204720" cy="6877080"/>
          </a:xfrm>
        </p:grpSpPr>
        <p:sp>
          <p:nvSpPr>
            <p:cNvPr id="87" name="矩形 7"/>
            <p:cNvSpPr/>
            <p:nvPr/>
          </p:nvSpPr>
          <p:spPr>
            <a:xfrm flipH="1">
              <a:off x="1800" y="-19080"/>
              <a:ext cx="12190320" cy="6877080"/>
            </a:xfrm>
            <a:prstGeom prst="rect">
              <a:avLst/>
            </a:prstGeom>
            <a:solidFill>
              <a:srgbClr val="07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8" descr=""/>
            <p:cNvPicPr/>
            <p:nvPr/>
          </p:nvPicPr>
          <p:blipFill>
            <a:blip r:embed="rId1"/>
            <a:srcRect l="0" t="0" r="5669" b="8404"/>
            <a:stretch/>
          </p:blipFill>
          <p:spPr>
            <a:xfrm flipH="1">
              <a:off x="-12600" y="606600"/>
              <a:ext cx="7727040" cy="56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9"/>
            <p:cNvSpPr/>
            <p:nvPr/>
          </p:nvSpPr>
          <p:spPr>
            <a:xfrm flipH="1">
              <a:off x="5763240" y="-19080"/>
              <a:ext cx="6428880" cy="687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7"/>
          <p:cNvSpPr/>
          <p:nvPr/>
        </p:nvSpPr>
        <p:spPr>
          <a:xfrm>
            <a:off x="6658560" y="2195640"/>
            <a:ext cx="17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9793080" y="43020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-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儿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2" descr=""/>
          <p:cNvPicPr/>
          <p:nvPr/>
        </p:nvPicPr>
        <p:blipFill>
          <a:blip r:embed="rId2"/>
          <a:stretch/>
        </p:blipFill>
        <p:spPr>
          <a:xfrm>
            <a:off x="8315280" y="1922400"/>
            <a:ext cx="1932120" cy="12859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"/>
          <p:cNvPicPr/>
          <p:nvPr/>
        </p:nvPicPr>
        <p:blipFill>
          <a:blip r:embed="rId3"/>
          <a:stretch/>
        </p:blipFill>
        <p:spPr>
          <a:xfrm>
            <a:off x="6410160" y="2496960"/>
            <a:ext cx="5737320" cy="2352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"/>
          <p:cNvPicPr/>
          <p:nvPr/>
        </p:nvPicPr>
        <p:blipFill>
          <a:blip r:embed="rId4"/>
          <a:stretch/>
        </p:blipFill>
        <p:spPr>
          <a:xfrm>
            <a:off x="6410160" y="2487600"/>
            <a:ext cx="573732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5:04:00Z</dcterms:created>
  <dc:creator>1</dc:creator>
  <dc:description>1</dc:description>
  <cp:keywords>1</cp:keywords>
  <dc:language>en-US</dc:language>
  <cp:lastModifiedBy>adminh</cp:lastModifiedBy>
  <dcterms:modified xsi:type="dcterms:W3CDTF">2015-05-27T02:36:15Z</dcterms:modified>
  <cp:revision>11</cp:revision>
  <dc:subject/>
  <dc:title>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fileid">
    <vt:lpwstr>565842</vt:lpwstr>
  </property>
  <property fmtid="{D5CDD505-2E9C-101B-9397-08002B2CF9AE}" pid="4" name="name">
    <vt:lpwstr>A000520150525A16KOFW.ppt</vt:lpwstr>
  </property>
</Properties>
</file>