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9.jpeg" ContentType="image/jpe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802-44D0-4341-BFA6-60725AF6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97C-3BB3-4A4A-88C4-B9D180AB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5B6-9413-4553-83F1-5ED0484B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2FF-FECA-4E0E-9266-6FD30829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6CF-6759-4648-8686-8290E0BE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6FF-7C50-4C35-A555-3E9FE7F5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EE0-C95D-40DB-AB86-AB11002D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0D8-C7B5-4BF4-9F99-03B519D4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7D3-D3E8-4D6E-938A-92488B57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AF5-C896-48C5-B970-99D13CD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949-5E10-42E3-9DF6-C89B94D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9A5-2C81-4D76-B408-B1945743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142A-878F-4CD8-AA01-555B32FEB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hyperlink" Target="http://zhyz.gdzh.gov.cn/resource/picture/gifdh/dwl/fdl/z.htm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zhyz.gdzh.gov.cn/resource/picture/gifdh/dwl/fdl/z.htm" TargetMode="External"/><Relationship Id="rId12" Type="http://schemas.openxmlformats.org/officeDocument/2006/relationships/image" Target="../media/image16.gif"/><Relationship Id="rId13" Type="http://schemas.openxmlformats.org/officeDocument/2006/relationships/hyperlink" Target="http://zhyz.gdzh.gov.cn/resource/picture/gifdh/dwl/fdl/z.htm" TargetMode="External"/><Relationship Id="rId14" Type="http://schemas.openxmlformats.org/officeDocument/2006/relationships/image" Target="../media/image16.gif"/><Relationship Id="rId15" Type="http://schemas.openxmlformats.org/officeDocument/2006/relationships/hyperlink" Target="http://zhyz.gdzh.gov.cn/resource/picture/gifdh/dwl/fdl/z.htm" TargetMode="External"/><Relationship Id="rId16" Type="http://schemas.openxmlformats.org/officeDocument/2006/relationships/image" Target="../media/image16.gi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82,39,&#24187;&#28783;&#29255; 39" TargetMode="External"/><Relationship Id="rId3" Type="http://schemas.openxmlformats.org/officeDocument/2006/relationships/hyperlink" Target="382,39,&#24187;&#28783;&#29255; 39" TargetMode="External"/><Relationship Id="rId4" Type="http://schemas.openxmlformats.org/officeDocument/2006/relationships/hyperlink" Target="382,39,&#24187;&#28783;&#29255; 39" TargetMode="External"/><Relationship Id="rId5" Type="http://schemas.openxmlformats.org/officeDocument/2006/relationships/hyperlink" Target="383,40,&#24187;&#28783;&#29255; 40" TargetMode="External"/><Relationship Id="rId6" Type="http://schemas.openxmlformats.org/officeDocument/2006/relationships/hyperlink" Target="383,40,&#24187;&#28783;&#29255; 40" TargetMode="External"/><Relationship Id="rId7" Type="http://schemas.openxmlformats.org/officeDocument/2006/relationships/hyperlink" Target="383,40,&#24187;&#28783;&#29255; 40" TargetMode="External"/><Relationship Id="rId8" Type="http://schemas.openxmlformats.org/officeDocument/2006/relationships/hyperlink" Target="385,42,&#24187;&#28783;&#29255; 42" TargetMode="External"/><Relationship Id="rId9" Type="http://schemas.openxmlformats.org/officeDocument/2006/relationships/hyperlink" Target="385,42,&#24187;&#28783;&#29255; 42" TargetMode="External"/><Relationship Id="rId10" Type="http://schemas.openxmlformats.org/officeDocument/2006/relationships/hyperlink" Target="385,42,&#24187;&#28783;&#29255; 42" TargetMode="External"/><Relationship Id="rId11" Type="http://schemas.openxmlformats.org/officeDocument/2006/relationships/hyperlink" Target="386,43,&#24187;&#28783;&#29255; 43" TargetMode="External"/><Relationship Id="rId12" Type="http://schemas.openxmlformats.org/officeDocument/2006/relationships/hyperlink" Target="386,43,&#24187;&#28783;&#29255; 43" TargetMode="External"/><Relationship Id="rId13" Type="http://schemas.openxmlformats.org/officeDocument/2006/relationships/hyperlink" Target="386,43,&#24187;&#28783;&#29255; 43" TargetMode="External"/><Relationship Id="rId14" Type="http://schemas.openxmlformats.org/officeDocument/2006/relationships/hyperlink" Target="387,44,&#24187;&#28783;&#29255; 44" TargetMode="External"/><Relationship Id="rId15" Type="http://schemas.openxmlformats.org/officeDocument/2006/relationships/hyperlink" Target="387,44,&#24187;&#28783;&#29255; 44" TargetMode="External"/><Relationship Id="rId16" Type="http://schemas.openxmlformats.org/officeDocument/2006/relationships/hyperlink" Target="387,44,&#24187;&#28783;&#29255; 44" TargetMode="External"/><Relationship Id="rId17" Type="http://schemas.openxmlformats.org/officeDocument/2006/relationships/hyperlink" Target="388,45,&#24187;&#28783;&#29255; 45" TargetMode="External"/><Relationship Id="rId18" Type="http://schemas.openxmlformats.org/officeDocument/2006/relationships/hyperlink" Target="388,45,&#24187;&#28783;&#29255; 45" TargetMode="External"/><Relationship Id="rId19" Type="http://schemas.openxmlformats.org/officeDocument/2006/relationships/hyperlink" Target="388,45,&#24187;&#28783;&#29255; 45" TargetMode="External"/><Relationship Id="rId20" Type="http://schemas.openxmlformats.org/officeDocument/2006/relationships/hyperlink" Target="389,46,&#24187;&#28783;&#29255; 46" TargetMode="External"/><Relationship Id="rId2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3edu.net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aaaxk.com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740720" y="2637000"/>
            <a:ext cx="14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740720" y="0"/>
            <a:ext cx="1403280" cy="2698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812000" y="692280"/>
            <a:ext cx="461880" cy="506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317080" y="6165720"/>
            <a:ext cx="425160" cy="358920"/>
          </a:xfrm>
          <a:custGeom>
            <a:avLst/>
            <a:gdLst>
              <a:gd name="textAreaLeft" fmla="*/ 22320 w 425160"/>
              <a:gd name="textAreaRight" fmla="*/ 402840 w 425160"/>
              <a:gd name="textAreaTop" fmla="*/ 22320 h 358920"/>
              <a:gd name="textAreaBottom" fmla="*/ 336600 h 358920"/>
            </a:gdLst>
            <a:ahLst/>
            <a:rect l="textAreaLeft" t="textAreaTop" r="textAreaRight" b="textAreaBottom"/>
            <a:pathLst>
              <a:path w="25582" h="21600">
                <a:moveTo>
                  <a:pt x="0" y="0"/>
                </a:moveTo>
                <a:lnTo>
                  <a:pt x="25582" y="0"/>
                </a:lnTo>
                <a:lnTo>
                  <a:pt x="25582" y="21600"/>
                </a:lnTo>
                <a:lnTo>
                  <a:pt x="0" y="21600"/>
                </a:lnTo>
                <a:close/>
              </a:path>
              <a:path fill="lightenLess" w="25582" h="21600">
                <a:moveTo>
                  <a:pt x="0" y="0"/>
                </a:moveTo>
                <a:lnTo>
                  <a:pt x="25582" y="0"/>
                </a:lnTo>
                <a:lnTo>
                  <a:pt x="24232" y="1350"/>
                </a:lnTo>
                <a:lnTo>
                  <a:pt x="1350" y="1350"/>
                </a:lnTo>
                <a:close/>
              </a:path>
              <a:path fill="darken" w="25582" h="21600">
                <a:moveTo>
                  <a:pt x="25582" y="0"/>
                </a:moveTo>
                <a:lnTo>
                  <a:pt x="25582" y="21600"/>
                </a:lnTo>
                <a:lnTo>
                  <a:pt x="24232" y="20250"/>
                </a:lnTo>
                <a:lnTo>
                  <a:pt x="24232" y="1350"/>
                </a:lnTo>
                <a:close/>
              </a:path>
              <a:path fill="darkenLess" w="25582" h="21600">
                <a:moveTo>
                  <a:pt x="2558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232" y="20250"/>
                </a:lnTo>
                <a:close/>
              </a:path>
              <a:path fill="lighten" w="2558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582" h="21600">
                <a:moveTo>
                  <a:pt x="5747" y="10800"/>
                </a:moveTo>
                <a:lnTo>
                  <a:pt x="19835" y="3756"/>
                </a:lnTo>
                <a:lnTo>
                  <a:pt x="19835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 rot="5400000">
            <a:off x="354600" y="589320"/>
            <a:ext cx="1179360" cy="66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花图</a:t>
            </a:r>
            <a:endParaRPr b="0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76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773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1916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916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高低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0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400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结果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虚实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500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3716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3716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色味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8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星星眨呀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581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暗写风与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4581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明暗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6019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544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方位描绘春花的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20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2360" y="20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3068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38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479736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515772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5240" y="-284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春风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69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209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3526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泥土的气息、草味、花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419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鸟鸣、流水、短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2209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触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352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嗅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4419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54864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运用各种感觉描绘春风柔、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5105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196040" y="0"/>
            <a:ext cx="194796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24720" y="6093000"/>
            <a:ext cx="504720" cy="404640"/>
          </a:xfrm>
          <a:custGeom>
            <a:avLst/>
            <a:gdLst>
              <a:gd name="textAreaLeft" fmla="*/ 25200 w 504720"/>
              <a:gd name="textAreaRight" fmla="*/ 479520 w 50472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88" y="1350"/>
                </a:lnTo>
                <a:lnTo>
                  <a:pt x="1350" y="135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88" y="20250"/>
                </a:lnTo>
                <a:lnTo>
                  <a:pt x="25588" y="135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588" y="2025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38" h="21600">
                <a:moveTo>
                  <a:pt x="6425" y="10800"/>
                </a:moveTo>
                <a:lnTo>
                  <a:pt x="20513" y="3756"/>
                </a:lnTo>
                <a:lnTo>
                  <a:pt x="20513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>
            <a:lum bright="-16000"/>
          </a:blip>
          <a:stretch/>
        </p:blipFill>
        <p:spPr>
          <a:xfrm>
            <a:off x="0" y="0"/>
            <a:ext cx="9144000" cy="8423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 rot="5400000">
            <a:off x="620280" y="97164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雨图</a:t>
            </a:r>
            <a:endParaRPr b="0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404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4290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429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464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419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3623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2346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绵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5638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5257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200 w 611280"/>
              <a:gd name="textAreaRight" fmla="*/ 586080 w 61128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71" y="1350"/>
                </a:lnTo>
                <a:lnTo>
                  <a:pt x="1350" y="135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71" y="20250"/>
                </a:lnTo>
                <a:lnTo>
                  <a:pt x="31271" y="135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271" y="2025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621" h="21600">
                <a:moveTo>
                  <a:pt x="9267" y="10800"/>
                </a:moveTo>
                <a:lnTo>
                  <a:pt x="23354" y="3756"/>
                </a:lnTo>
                <a:lnTo>
                  <a:pt x="23354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604360" y="6165720"/>
            <a:ext cx="539640" cy="358920"/>
          </a:xfrm>
          <a:custGeom>
            <a:avLst/>
            <a:gdLst>
              <a:gd name="textAreaLeft" fmla="*/ 22320 w 539640"/>
              <a:gd name="textAreaRight" fmla="*/ 517320 w 539640"/>
              <a:gd name="textAreaTop" fmla="*/ 22320 h 358920"/>
              <a:gd name="textAreaBottom" fmla="*/ 336600 h 358920"/>
            </a:gdLst>
            <a:ahLst/>
            <a:rect l="textAreaLeft" t="textAreaTop" r="textAreaRight" b="textAreaBottom"/>
            <a:pathLst>
              <a:path w="32465" h="21600">
                <a:moveTo>
                  <a:pt x="0" y="0"/>
                </a:moveTo>
                <a:lnTo>
                  <a:pt x="32465" y="0"/>
                </a:lnTo>
                <a:lnTo>
                  <a:pt x="32465" y="21600"/>
                </a:lnTo>
                <a:lnTo>
                  <a:pt x="0" y="21600"/>
                </a:lnTo>
                <a:close/>
              </a:path>
              <a:path fill="lightenLess" w="32465" h="21600">
                <a:moveTo>
                  <a:pt x="0" y="0"/>
                </a:moveTo>
                <a:lnTo>
                  <a:pt x="32465" y="0"/>
                </a:lnTo>
                <a:lnTo>
                  <a:pt x="31115" y="1350"/>
                </a:lnTo>
                <a:lnTo>
                  <a:pt x="1350" y="1350"/>
                </a:lnTo>
                <a:close/>
              </a:path>
              <a:path fill="darken" w="32465" h="21600">
                <a:moveTo>
                  <a:pt x="32465" y="0"/>
                </a:moveTo>
                <a:lnTo>
                  <a:pt x="32465" y="21600"/>
                </a:lnTo>
                <a:lnTo>
                  <a:pt x="31115" y="20250"/>
                </a:lnTo>
                <a:lnTo>
                  <a:pt x="31115" y="1350"/>
                </a:lnTo>
                <a:close/>
              </a:path>
              <a:path fill="darkenLess" w="32465" h="21600">
                <a:moveTo>
                  <a:pt x="3246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115" y="20250"/>
                </a:lnTo>
                <a:close/>
              </a:path>
              <a:path fill="lighten" w="3246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65" h="21600">
                <a:moveTo>
                  <a:pt x="9189" y="10800"/>
                </a:moveTo>
                <a:lnTo>
                  <a:pt x="23276" y="3756"/>
                </a:lnTo>
                <a:lnTo>
                  <a:pt x="2327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569440" cy="597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17236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849760" y="14839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天像刚落地的娃娃，从头到脚都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0360" y="2133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新的，它生长着。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6680" y="537372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春天像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88440" y="2786760"/>
            <a:ext cx="53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春天像小姑娘，花枝招展的，笑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1600" y="2924280"/>
            <a:ext cx="109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走着。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12840" y="4012200"/>
            <a:ext cx="51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春天像健壮的青年，有铁一般的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91080" y="47239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膊和腰脚，领着我们上前去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197000"/>
            <a:ext cx="4818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朱自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8195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(1898-1948),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字佩弦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号秋实，浙江绍兴人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是我国现代最优秀的散文家之一，也是著名的诗人、学者、语文学家。主要作品有散文《背影》、《荷塘月色》《绿》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413000"/>
            <a:ext cx="561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下面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应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薄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晕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捉迷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宛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草丛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习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0" y="6210360"/>
            <a:ext cx="576360" cy="647640"/>
          </a:xfrm>
          <a:custGeom>
            <a:avLst/>
            <a:gdLst>
              <a:gd name="textAreaLeft" fmla="*/ 36000 w 576360"/>
              <a:gd name="textAreaRight" fmla="*/ 540360 w 576360"/>
              <a:gd name="textAreaTop" fmla="*/ 36000 h 647640"/>
              <a:gd name="textAreaBottom" fmla="*/ 6116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50" y="22920"/>
                </a:lnTo>
                <a:lnTo>
                  <a:pt x="20250" y="135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350" y="22920"/>
                </a:lnTo>
                <a:lnTo>
                  <a:pt x="20250" y="2292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350" y="1350"/>
                </a:lnTo>
                <a:lnTo>
                  <a:pt x="1350" y="22920"/>
                </a:lnTo>
                <a:close/>
              </a:path>
              <a:path fill="darken" w="21600" h="24270">
                <a:moveTo>
                  <a:pt x="3756" y="12135"/>
                </a:moveTo>
                <a:lnTo>
                  <a:pt x="17844" y="5091"/>
                </a:lnTo>
                <a:lnTo>
                  <a:pt x="17844" y="1917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27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27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78136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278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0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39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522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50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3683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3640" y="765000"/>
            <a:ext cx="304812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286000"/>
            <a:ext cx="60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音正确 ，声音洪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29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把握好感情基调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4437000"/>
            <a:ext cx="76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出抑扬顿挫、轻重缓急的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3660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清文章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19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盼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5240" y="1117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（总领全文，开启下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65520" y="188604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（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2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）总绘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18080" y="2419200"/>
            <a:ext cx="279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（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3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/>
              </a:rPr>
              <a:t>）春草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18080" y="2952720"/>
            <a:ext cx="272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/>
              </a:rPr>
              <a:t>（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"/>
              </a:rPr>
              <a:t>4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"/>
              </a:rPr>
              <a:t>）春花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50028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1"/>
              </a:rPr>
              <a:t>（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2"/>
              </a:rPr>
              <a:t>5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3"/>
              </a:rPr>
              <a:t>）春风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8080" y="4019400"/>
            <a:ext cx="265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4"/>
              </a:rPr>
              <a:t>（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5"/>
              </a:rPr>
              <a:t>6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6"/>
              </a:rPr>
              <a:t>）春雨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18080" y="4552920"/>
            <a:ext cx="28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7"/>
              </a:rPr>
              <a:t>（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8"/>
              </a:rPr>
              <a:t>7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9"/>
              </a:rPr>
              <a:t>）迎春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42280" y="53020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42280" y="57592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美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99440" y="621648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力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06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二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绘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8456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96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5661000"/>
            <a:ext cx="23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三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0"/>
              </a:rPr>
              <a:t>颂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90512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52578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398680" y="2421000"/>
            <a:ext cx="432756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www.3edu.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4005360"/>
            <a:ext cx="8458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完全免费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,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无需注册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,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天天更新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050920" y="404640"/>
            <a:ext cx="4915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468000" cy="4143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0" t="0" r="-4326" b="-34"/>
          <a:stretch/>
        </p:blipFill>
        <p:spPr>
          <a:xfrm>
            <a:off x="0" y="0"/>
            <a:ext cx="9863280" cy="19890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432000" cy="432000"/>
          </a:xfrm>
          <a:custGeom>
            <a:avLst/>
            <a:gdLst>
              <a:gd name="textAreaLeft" fmla="*/ 27000 w 432000"/>
              <a:gd name="textAreaRight" fmla="*/ 405000 w 43200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468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324000" y="-228600"/>
            <a:ext cx="979200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59400" y="289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春草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57336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、躺、滚、踢、跑、捉——人（喜悦、高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2205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嫩、绿、满、软——草（生机勃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916360" y="4581360"/>
            <a:ext cx="3743280" cy="1722240"/>
            <a:chOff x="2916360" y="4581360"/>
            <a:chExt cx="3743280" cy="1722240"/>
          </a:xfrm>
        </p:grpSpPr>
        <p:sp>
          <p:nvSpPr>
            <p:cNvPr id="94" name=""/>
            <p:cNvSpPr/>
            <p:nvPr/>
          </p:nvSpPr>
          <p:spPr>
            <a:xfrm>
              <a:off x="4500720" y="4581360"/>
              <a:ext cx="790560" cy="1079640"/>
            </a:xfrm>
            <a:prstGeom prst="downArrow">
              <a:avLst>
                <a:gd name="adj1" fmla="val 50000"/>
                <a:gd name="adj2" fmla="val 3414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6360" y="5661000"/>
              <a:ext cx="37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人与自然的和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8101080" y="6535800"/>
            <a:ext cx="466560" cy="322200"/>
          </a:xfrm>
          <a:custGeom>
            <a:avLst/>
            <a:gdLst>
              <a:gd name="textAreaLeft" fmla="*/ 20160 w 466560"/>
              <a:gd name="textAreaRight" fmla="*/ 446760 w 466560"/>
              <a:gd name="textAreaTop" fmla="*/ 20160 h 322200"/>
              <a:gd name="textAreaBottom" fmla="*/ 302400 h 322200"/>
            </a:gdLst>
            <a:ahLst/>
            <a:rect l="textAreaLeft" t="textAreaTop" r="textAreaRight" b="textAreaBottom"/>
            <a:pathLst>
              <a:path w="31267" h="21600">
                <a:moveTo>
                  <a:pt x="0" y="0"/>
                </a:moveTo>
                <a:lnTo>
                  <a:pt x="31267" y="0"/>
                </a:lnTo>
                <a:lnTo>
                  <a:pt x="31267" y="21600"/>
                </a:lnTo>
                <a:lnTo>
                  <a:pt x="0" y="21600"/>
                </a:lnTo>
                <a:close/>
              </a:path>
              <a:path fill="lightenLess" w="31267" h="21600">
                <a:moveTo>
                  <a:pt x="0" y="0"/>
                </a:moveTo>
                <a:lnTo>
                  <a:pt x="31267" y="0"/>
                </a:lnTo>
                <a:lnTo>
                  <a:pt x="29917" y="1350"/>
                </a:lnTo>
                <a:lnTo>
                  <a:pt x="1350" y="1350"/>
                </a:lnTo>
                <a:close/>
              </a:path>
              <a:path fill="darken" w="31267" h="21600">
                <a:moveTo>
                  <a:pt x="31267" y="0"/>
                </a:moveTo>
                <a:lnTo>
                  <a:pt x="31267" y="21600"/>
                </a:lnTo>
                <a:lnTo>
                  <a:pt x="29917" y="20250"/>
                </a:lnTo>
                <a:lnTo>
                  <a:pt x="29917" y="1350"/>
                </a:lnTo>
                <a:close/>
              </a:path>
              <a:path fill="darkenLess" w="31267" h="21600">
                <a:moveTo>
                  <a:pt x="3126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917" y="20250"/>
                </a:lnTo>
                <a:close/>
              </a:path>
              <a:path fill="lighten" w="3126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67" h="21600">
                <a:moveTo>
                  <a:pt x="8590" y="10800"/>
                </a:moveTo>
                <a:lnTo>
                  <a:pt x="22677" y="3756"/>
                </a:lnTo>
                <a:lnTo>
                  <a:pt x="22677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2763720" cy="115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24440" y="2637000"/>
            <a:ext cx="4847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www.aaaxk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4221000"/>
            <a:ext cx="8458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三星学科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,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教师助手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,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学生帮手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,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家长朋友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微软系统</dc:creator>
  <dc:description>3edu教育网【www.3edu.net】</dc:description>
  <cp:keywords>3edu教育网【www.3edu.net】教学课件、教学试题、教案学案、教学素材</cp:keywords>
  <dc:language>en-US</dc:language>
  <cp:lastModifiedBy>3edu</cp:lastModifiedBy>
  <dcterms:modified xsi:type="dcterms:W3CDTF">2015-09-08T07:00:56Z</dcterms:modified>
  <cp:revision>8</cp:revision>
  <dc:subject>3edu教育网【www.3edu.net】教师助手，学生帮手，家长朋友，三星数学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