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3.gif" ContentType="image/gif"/>
  <Override PartName="/ppt/media/image16.jpeg" ContentType="image/jpeg"/>
  <Override PartName="/ppt/media/image17.gif" ContentType="image/gif"/>
  <Override PartName="/ppt/media/image2.jpeg" ContentType="image/jpeg"/>
  <Override PartName="/ppt/media/image14.gif" ContentType="image/gif"/>
  <Override PartName="/ppt/media/image18.png" ContentType="image/png"/>
  <Override PartName="/ppt/media/image15.gif" ContentType="image/gif"/>
  <Override PartName="/ppt/media/image4.png" ContentType="image/pn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1.jpeg" ContentType="image/jpe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B7A-8BBD-46FE-B89C-A251AFC3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6DE7-6564-4539-90E7-B10B5921B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阅读训练，养成读书动笔好习惯。教师巡视，让批得好的同学发言，教师小结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CCB7-BAC8-481F-8EC6-53033F84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E0C7-AEA7-4493-B562-5E795E4F0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听看朗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0854-2A1F-431D-82A3-7FBC6800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3104-85FB-4E69-BD91-96C6E5B2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业布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F9B-19FF-4FDB-8701-A44331E3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A38-C5EC-4E2B-A9BC-8F631290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7D0-60B8-415F-B88A-63C75EA0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294-5AD3-4221-8BC1-68ACA5DB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5EB-52EC-489C-81CD-44396A96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7E9-F99F-4208-8FE0-1E780C4A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1D3-8AB7-4EAA-BDFF-562A4954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5F7-DA4E-40BA-A10F-A0F90A68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C0E-268C-4AA7-BC3A-5E34F549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844-B607-4BBD-AA1C-43A0F5EC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7E5-5FA8-437C-B03E-458BFBE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CDF-E427-4746-914B-4DF83AD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7862-7BFE-424D-80D0-08EA30B1A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747880" cy="372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朱自清塑像1"/>
          <p:cNvPicPr/>
          <p:nvPr/>
        </p:nvPicPr>
        <p:blipFill>
          <a:blip r:embed="rId2"/>
          <a:stretch/>
        </p:blipFill>
        <p:spPr>
          <a:xfrm>
            <a:off x="3348000" y="685800"/>
            <a:ext cx="2752920" cy="3967200"/>
          </a:xfrm>
          <a:prstGeom prst="rect">
            <a:avLst/>
          </a:prstGeom>
          <a:ln w="0">
            <a:noFill/>
          </a:ln>
        </p:spPr>
      </p:pic>
      <p:pic>
        <p:nvPicPr>
          <p:cNvPr id="50" name="矩形 2" descr=""/>
          <p:cNvPicPr/>
          <p:nvPr/>
        </p:nvPicPr>
        <p:blipFill>
          <a:blip r:embed="rId3"/>
          <a:stretch/>
        </p:blipFill>
        <p:spPr>
          <a:xfrm>
            <a:off x="-324000" y="262080"/>
            <a:ext cx="3749760" cy="5790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3564000" y="5580000"/>
            <a:ext cx="51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华文行楷"/>
                <a:ea typeface="华文行楷"/>
              </a:rPr>
              <a:t>青海省黄南州中学  任俊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阅读训练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609480" y="1828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5f1a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阅读课文：用下列符号进行圈点批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80880" y="251460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划分文章部分、层次分别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双竖线、单竖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能理解的词语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认为用得好的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方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关键语句（或写得好的语句）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波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有疑问的地方，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括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问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2"/>
          <p:cNvSpPr/>
          <p:nvPr/>
        </p:nvSpPr>
        <p:spPr>
          <a:xfrm>
            <a:off x="2773440" y="33336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概括各部分大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982800" y="1211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第一部分（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段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982800" y="285264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第二部分（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  <a:ea typeface="黑体"/>
              </a:rPr>
              <a:t>—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段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020600" y="4483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第三部分（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段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79600" y="17305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点题，思念父亲，最不能忘记的是他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背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79600" y="33717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忆往事，追述在车站与父亲离别情景，表现父爱子的真挚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79600" y="5003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，在泪光中再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背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抒发深切的怀念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62280" y="177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惦记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683160" y="2768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悲凉气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440" y="3355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铺垫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0044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刻画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700440" y="459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惜别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706920" y="55148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现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90760" y="1752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490760" y="3718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忆往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490760" y="5451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91908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23"/>
          <p:cNvGrpSpPr/>
          <p:nvPr/>
        </p:nvGrpSpPr>
        <p:grpSpPr>
          <a:xfrm>
            <a:off x="457200" y="1752480"/>
            <a:ext cx="1090440" cy="3810240"/>
            <a:chOff x="457200" y="1752480"/>
            <a:chExt cx="1090440" cy="3810240"/>
          </a:xfrm>
        </p:grpSpPr>
        <p:sp>
          <p:nvSpPr>
            <p:cNvPr id="146" name="AutoShape 24"/>
            <p:cNvSpPr/>
            <p:nvPr/>
          </p:nvSpPr>
          <p:spPr>
            <a:xfrm>
              <a:off x="457200" y="1752480"/>
              <a:ext cx="1090440" cy="3810240"/>
            </a:xfrm>
            <a:prstGeom prst="upDownArrow">
              <a:avLst>
                <a:gd name="adj1" fmla="val 50000"/>
                <a:gd name="adj2" fmla="val 69561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e6d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WordArt 25"/>
            <p:cNvSpPr txBox="1"/>
            <p:nvPr/>
          </p:nvSpPr>
          <p:spPr>
            <a:xfrm rot="5400000">
              <a:off x="-255600" y="3376440"/>
              <a:ext cx="2413080" cy="5364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黑体"/>
                </a:rPr>
                <a:t>父子情深</a:t>
              </a:r>
              <a:endParaRPr b="1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148" name="AutoShape 27"/>
          <p:cNvSpPr/>
          <p:nvPr/>
        </p:nvSpPr>
        <p:spPr>
          <a:xfrm>
            <a:off x="3281400" y="2941560"/>
            <a:ext cx="365040" cy="1989360"/>
          </a:xfrm>
          <a:custGeom>
            <a:avLst/>
            <a:gdLst>
              <a:gd name="textAreaLeft" fmla="*/ 233280 w 365040"/>
              <a:gd name="textAreaRight" fmla="*/ 365400 w 365040"/>
              <a:gd name="textAreaTop" fmla="*/ 55080 h 1989360"/>
              <a:gd name="textAreaBottom" fmla="*/ 1934280 h 198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8"/>
                  <a:pt x="10800" y="1916"/>
                </a:cubicBezTo>
                <a:lnTo>
                  <a:pt x="10800" y="8884"/>
                </a:lnTo>
                <a:cubicBezTo>
                  <a:pt x="10800" y="9842"/>
                  <a:pt x="5400" y="10800"/>
                  <a:pt x="0" y="10800"/>
                </a:cubicBezTo>
                <a:cubicBezTo>
                  <a:pt x="5400" y="10800"/>
                  <a:pt x="10800" y="11758"/>
                  <a:pt x="10800" y="12716"/>
                </a:cubicBezTo>
                <a:lnTo>
                  <a:pt x="10800" y="19684"/>
                </a:lnTo>
                <a:cubicBezTo>
                  <a:pt x="10800" y="206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5742000" y="1739880"/>
            <a:ext cx="27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思念父亲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5742000" y="2790720"/>
            <a:ext cx="3046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别时家境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5778360" y="3419640"/>
            <a:ext cx="304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细心关照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5767560" y="463248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5775480" y="3998880"/>
            <a:ext cx="258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父子分手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5775480" y="5502240"/>
            <a:ext cx="27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别后怀念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7975440" y="45608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8" descr="026"/>
          <p:cNvPicPr/>
          <p:nvPr/>
        </p:nvPicPr>
        <p:blipFill>
          <a:blip r:embed="rId1"/>
          <a:stretch/>
        </p:blipFill>
        <p:spPr>
          <a:xfrm>
            <a:off x="5119560" y="2965320"/>
            <a:ext cx="631800" cy="12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9" descr="026"/>
          <p:cNvPicPr/>
          <p:nvPr/>
        </p:nvPicPr>
        <p:blipFill>
          <a:blip r:embed="rId2"/>
          <a:stretch/>
        </p:blipFill>
        <p:spPr>
          <a:xfrm>
            <a:off x="5110200" y="3581280"/>
            <a:ext cx="631800" cy="12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0" descr="026"/>
          <p:cNvPicPr/>
          <p:nvPr/>
        </p:nvPicPr>
        <p:blipFill>
          <a:blip r:embed="rId3"/>
          <a:stretch/>
        </p:blipFill>
        <p:spPr>
          <a:xfrm>
            <a:off x="5110200" y="4097160"/>
            <a:ext cx="631800" cy="12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1" descr="026"/>
          <p:cNvPicPr/>
          <p:nvPr/>
        </p:nvPicPr>
        <p:blipFill>
          <a:blip r:embed="rId4"/>
          <a:stretch/>
        </p:blipFill>
        <p:spPr>
          <a:xfrm>
            <a:off x="5110200" y="4788000"/>
            <a:ext cx="631800" cy="125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2" descr="026"/>
          <p:cNvPicPr/>
          <p:nvPr/>
        </p:nvPicPr>
        <p:blipFill>
          <a:blip r:embed="rId5"/>
          <a:stretch/>
        </p:blipFill>
        <p:spPr>
          <a:xfrm>
            <a:off x="5110200" y="5668920"/>
            <a:ext cx="631800" cy="12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3" descr="026"/>
          <p:cNvPicPr/>
          <p:nvPr/>
        </p:nvPicPr>
        <p:blipFill>
          <a:blip r:embed="rId6"/>
          <a:stretch/>
        </p:blipFill>
        <p:spPr>
          <a:xfrm>
            <a:off x="5110200" y="1949400"/>
            <a:ext cx="631800" cy="12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4" descr="026"/>
          <p:cNvPicPr/>
          <p:nvPr/>
        </p:nvPicPr>
        <p:blipFill>
          <a:blip r:embed="rId7"/>
          <a:stretch/>
        </p:blipFill>
        <p:spPr>
          <a:xfrm>
            <a:off x="3044880" y="1967040"/>
            <a:ext cx="617400" cy="12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5" descr="026"/>
          <p:cNvPicPr/>
          <p:nvPr/>
        </p:nvPicPr>
        <p:blipFill>
          <a:blip r:embed="rId8"/>
          <a:stretch/>
        </p:blipFill>
        <p:spPr>
          <a:xfrm>
            <a:off x="3029040" y="5710320"/>
            <a:ext cx="617400" cy="12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6" descr="023"/>
          <p:cNvPicPr/>
          <p:nvPr/>
        </p:nvPicPr>
        <p:blipFill>
          <a:blip r:embed="rId9"/>
          <a:stretch/>
        </p:blipFill>
        <p:spPr>
          <a:xfrm>
            <a:off x="2154240" y="2503440"/>
            <a:ext cx="27468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7" descr="023"/>
          <p:cNvPicPr/>
          <p:nvPr/>
        </p:nvPicPr>
        <p:blipFill>
          <a:blip r:embed="rId10"/>
          <a:stretch/>
        </p:blipFill>
        <p:spPr>
          <a:xfrm>
            <a:off x="2262240" y="4357800"/>
            <a:ext cx="274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320" y="331920"/>
            <a:ext cx="799452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黑体"/>
              </a:rPr>
              <a:t>背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600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 思念父亲 点出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-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回忆往事 描绘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 思念父亲 怀念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165080" y="2674800"/>
            <a:ext cx="1399320" cy="1368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黑体"/>
              </a:rPr>
              <a:t>线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6953400" y="2095560"/>
            <a:ext cx="79200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6953400" y="33591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 flipV="1">
            <a:off x="6953400" y="3673080"/>
            <a:ext cx="8078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517680" y="2021040"/>
            <a:ext cx="502920" cy="2733480"/>
          </a:xfrm>
          <a:custGeom>
            <a:avLst/>
            <a:gdLst>
              <a:gd name="textAreaLeft" fmla="*/ 321480 w 502920"/>
              <a:gd name="textAreaRight" fmla="*/ 503280 w 502920"/>
              <a:gd name="textAreaTop" fmla="*/ 75600 h 2733480"/>
              <a:gd name="textAreaBottom" fmla="*/ 2657880 h 27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7"/>
                  <a:pt x="10800" y="1913"/>
                </a:cubicBezTo>
                <a:lnTo>
                  <a:pt x="10800" y="8887"/>
                </a:lnTo>
                <a:cubicBezTo>
                  <a:pt x="10800" y="9844"/>
                  <a:pt x="5400" y="10800"/>
                  <a:pt x="0" y="10800"/>
                </a:cubicBezTo>
                <a:cubicBezTo>
                  <a:pt x="5400" y="10800"/>
                  <a:pt x="10800" y="11757"/>
                  <a:pt x="10800" y="12713"/>
                </a:cubicBezTo>
                <a:lnTo>
                  <a:pt x="10800" y="19687"/>
                </a:lnTo>
                <a:cubicBezTo>
                  <a:pt x="10800" y="2064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637236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6372360" y="37274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7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8" descr="线条6"/>
          <p:cNvPicPr/>
          <p:nvPr/>
        </p:nvPicPr>
        <p:blipFill>
          <a:blip r:embed="rId1"/>
          <a:stretch/>
        </p:blipFill>
        <p:spPr>
          <a:xfrm flipH="1" rot="10800000">
            <a:off x="324000" y="980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9"/>
          <p:cNvSpPr/>
          <p:nvPr/>
        </p:nvSpPr>
        <p:spPr>
          <a:xfrm>
            <a:off x="395280" y="134136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几个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5335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696080" y="2514600"/>
            <a:ext cx="106704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2"/>
          <p:cNvSpPr/>
          <p:nvPr/>
        </p:nvSpPr>
        <p:spPr>
          <a:xfrm>
            <a:off x="30481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3"/>
          <p:cNvSpPr/>
          <p:nvPr/>
        </p:nvSpPr>
        <p:spPr>
          <a:xfrm>
            <a:off x="548640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9" descr="箭头1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箭头1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2" descr="箭头1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09480" y="1379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本文写的主要事件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09480" y="4621320"/>
            <a:ext cx="8153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哪一次“背影”写得最具体、最感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743040" y="5315040"/>
            <a:ext cx="25146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第二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25320" y="2611440"/>
            <a:ext cx="813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1459080" y="1963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a0000"/>
                </a:solidFill>
                <a:latin typeface="黑体"/>
              </a:rPr>
              <a:t>父子浦口送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744480" y="3397320"/>
            <a:ext cx="8142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: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父亲买橘子爬月台的时候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b: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父亲送子时，下车往回走，混入人群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矩形 3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77310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468360" y="476280"/>
            <a:ext cx="757872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课文写了“我”几次流泪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609480" y="19162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9480" y="333684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609480" y="486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246480" y="2044800"/>
            <a:ext cx="4997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246480" y="33973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，父子离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3246480" y="48466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549360"/>
            <a:ext cx="3089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三次流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1189"/>
                </a:solidFill>
                <a:latin typeface="隶书"/>
                <a:ea typeface="隶书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1189"/>
                </a:solidFill>
                <a:latin typeface="隶书"/>
                <a:ea typeface="隶书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1189"/>
                </a:solidFill>
                <a:latin typeface="隶书"/>
                <a:ea typeface="隶书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62480" y="764640"/>
            <a:ext cx="550224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四个背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惦记背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（思念父亲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刻画背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（望父买橘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惜别背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（父子分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再现背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（别后怀念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1422360" y="4494240"/>
            <a:ext cx="762120" cy="904680"/>
          </a:xfrm>
          <a:prstGeom prst="downArrow">
            <a:avLst>
              <a:gd name="adj1" fmla="val 50000"/>
              <a:gd name="adj2" fmla="val 29676"/>
            </a:avLst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574640" y="5638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子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6373800" y="4570560"/>
            <a:ext cx="762120" cy="828360"/>
          </a:xfrm>
          <a:prstGeom prst="downArrow">
            <a:avLst>
              <a:gd name="adj1" fmla="val 50000"/>
              <a:gd name="adj2" fmla="val 27173"/>
            </a:avLst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WordArt 9"/>
          <p:cNvSpPr txBox="1"/>
          <p:nvPr/>
        </p:nvSpPr>
        <p:spPr>
          <a:xfrm>
            <a:off x="6553080" y="5638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2916360" y="5805360"/>
            <a:ext cx="3014640" cy="293760"/>
          </a:xfrm>
          <a:prstGeom prst="leftRightArrow">
            <a:avLst>
              <a:gd name="adj1" fmla="val 50000"/>
              <a:gd name="adj2" fmla="val 204295"/>
            </a:avLst>
          </a:prstGeom>
          <a:solidFill>
            <a:srgbClr val="ccccff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11"/>
          <p:cNvSpPr txBox="1"/>
          <p:nvPr/>
        </p:nvSpPr>
        <p:spPr>
          <a:xfrm>
            <a:off x="3348000" y="4581360"/>
            <a:ext cx="23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ff00"/>
                    </a:gs>
                    <a:gs pos="100000">
                      <a:srgbClr val="ff00ff"/>
                    </a:gs>
                  </a:gsLst>
                  <a:lin ang="0"/>
                </a:gradFill>
                <a:latin typeface="宋体"/>
              </a:rPr>
              <a:t>父子情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ff00"/>
                  </a:gs>
                  <a:gs pos="100000">
                    <a:srgbClr val="ff00ff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716040" y="2136600"/>
            <a:ext cx="771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33520" y="167652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要紧，他们去不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买几个橘子去，你就在此地，不要走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走了，到那边来信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6760" y="304920"/>
            <a:ext cx="861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父亲送儿子上车，前后只说了四句话，请把这四句话找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04920" y="4267080"/>
            <a:ext cx="8534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　　这四句话都很简短，意思也很平常。这样简短平常的话是否缺乏感情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403200" y="52545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不是，朴素的言语中往往含有深挚的爱；平淡的话语里往往有不平静的心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508040"/>
            <a:ext cx="86868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不要紧，他们去不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04920" y="313704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我买几个橘子去。你就在此地，不要走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04920" y="371628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父亲已经把儿子送上车，已经关照得无微不至，儿子也劝父亲可以走了，而父亲还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觉得没有尽够心意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看见站上有卖橘子的，便要去给儿子买橘子。过铁道不容易，自己受点累，能让儿子受用，他是心甘情愿的。他还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生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儿子跟着出来，忘了行李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父亲的关怀真是无微不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附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170480" y="476280"/>
            <a:ext cx="1521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背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篇娓娓道来的文字，何以在文坛不朽？正在于它是一记情感的重锤，重重地敲击在人的心灵共鸣点上。父子亲情，深厚如山。但在这里，背影的一瞬化作了永恒，一个背影力敌万语千言的倾诉。背影，恰似一道情感的闪电，照彻千千万万颗赤子之心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6778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我走了，到那边来信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99684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194004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28600" y="2708280"/>
            <a:ext cx="868680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走了几步就回头，可见心里还是惦记着儿子，依依不舍。又想到儿子所带的行李，叫儿子小心，什么都为儿子着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琥珀简体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写作，要善于用朴素的语言写出深挚的感情；选材，也要善于选择那些平常而又饱含深情的素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矩形 1"/>
          <p:cNvSpPr/>
          <p:nvPr/>
        </p:nvSpPr>
        <p:spPr>
          <a:xfrm>
            <a:off x="3821040" y="31989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8694r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189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写作过程中，朱自清除了写父亲买橘子看到的背影这件事情外，还写了为儿子做了哪些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738360" y="2004840"/>
            <a:ext cx="548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照看行李      讲定价钱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送我上车      拣定座位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叮嘱儿子　　　嘱托茶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557280" y="5226120"/>
            <a:ext cx="802944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写作启示：叙事要详略得当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651640" y="2276640"/>
            <a:ext cx="2808000" cy="1944360"/>
          </a:xfrm>
          <a:prstGeom prst="leftArrowCallout">
            <a:avLst>
              <a:gd name="adj1" fmla="val 25002"/>
              <a:gd name="adj2" fmla="val 25000"/>
              <a:gd name="adj3" fmla="val 22044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笔带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非常简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3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31" name="Group 4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232" name="Rectangle 5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6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7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235" name="Rectangle 8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9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10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Text Box 17"/>
          <p:cNvSpPr/>
          <p:nvPr/>
        </p:nvSpPr>
        <p:spPr>
          <a:xfrm>
            <a:off x="1403280" y="549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朱自清父亲读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背影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0920" y="1628640"/>
            <a:ext cx="87487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928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年，我家已搬至扬州东关街仁丰里一所简陋的屋子。秋日的一天，我接到了开明书店寄赠的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背影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散文集，我手捧书本，不敢怠慢，一口气奔上二楼父亲卧室，让他老人家先睹为快。父亲已行动不便，挪到窗前，依靠在小椅上，戴上了老花眼镜，一字一句诵读着儿子的文章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背影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，只见他的手不住地颤抖，昏黄的眼珠，好像猛然放射出光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2"/>
          <p:cNvSpPr/>
          <p:nvPr/>
        </p:nvSpPr>
        <p:spPr>
          <a:xfrm>
            <a:off x="291960" y="260280"/>
            <a:ext cx="4199040" cy="1297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国学者朱自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4854600" y="2133720"/>
            <a:ext cx="974880" cy="3456000"/>
          </a:xfrm>
          <a:custGeom>
            <a:avLst/>
            <a:gdLst>
              <a:gd name="textAreaLeft" fmla="*/ 47520 w 974880"/>
              <a:gd name="textAreaRight" fmla="*/ 927360 w 974880"/>
              <a:gd name="textAreaTop" fmla="*/ 47520 h 3456000"/>
              <a:gd name="textAreaBottom" fmla="*/ 3408480 h 3456000"/>
            </a:gdLst>
            <a:ahLst/>
            <a:rect l="textAreaLeft" t="textAreaTop" r="textAreaRight" b="textAreaBottom"/>
            <a:pathLst>
              <a:path w="21600" h="76553">
                <a:moveTo>
                  <a:pt x="3600" y="0"/>
                </a:moveTo>
                <a:arcTo wR="3600" hR="3600" stAng="16200000" swAng="-5400000"/>
                <a:lnTo>
                  <a:pt x="0" y="72953"/>
                </a:lnTo>
                <a:arcTo wR="3600" hR="3600" stAng="10800000" swAng="-5400000"/>
                <a:lnTo>
                  <a:pt x="18000" y="76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3351240" y="2060640"/>
            <a:ext cx="1143000" cy="35290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529080"/>
              <a:gd name="textAreaBottom" fmla="*/ 3473280 h 3529080"/>
            </a:gdLst>
            <a:ahLst/>
            <a:rect l="textAreaLeft" t="textAreaTop" r="textAreaRight" b="textAreaBottom"/>
            <a:pathLst>
              <a:path w="21600" h="66677">
                <a:moveTo>
                  <a:pt x="3600" y="0"/>
                </a:moveTo>
                <a:arcTo wR="3600" hR="3600" stAng="16200000" swAng="-5400000"/>
                <a:lnTo>
                  <a:pt x="0" y="63077"/>
                </a:lnTo>
                <a:arcTo wR="3600" hR="3600" stAng="10800000" swAng="-5400000"/>
                <a:lnTo>
                  <a:pt x="18000" y="66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朱自清像1"/>
          <p:cNvPicPr/>
          <p:nvPr/>
        </p:nvPicPr>
        <p:blipFill>
          <a:blip r:embed="rId1"/>
          <a:stretch/>
        </p:blipFill>
        <p:spPr>
          <a:xfrm>
            <a:off x="684360" y="1989000"/>
            <a:ext cx="2592360" cy="360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58" name="Picture 7" descr="朱自清塑像1"/>
          <p:cNvPicPr/>
          <p:nvPr/>
        </p:nvPicPr>
        <p:blipFill>
          <a:blip r:embed="rId2"/>
          <a:stretch/>
        </p:blipFill>
        <p:spPr>
          <a:xfrm>
            <a:off x="5961240" y="2060640"/>
            <a:ext cx="2517480" cy="3529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59" name="AutoShape 10"/>
          <p:cNvSpPr/>
          <p:nvPr/>
        </p:nvSpPr>
        <p:spPr>
          <a:xfrm flipH="1" flipV="1" rot="10800000">
            <a:off x="5061600" y="621360"/>
            <a:ext cx="3384360" cy="1150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品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横卷形 1" descr=""/>
          <p:cNvPicPr/>
          <p:nvPr/>
        </p:nvPicPr>
        <p:blipFill>
          <a:blip r:embed="rId3"/>
          <a:stretch/>
        </p:blipFill>
        <p:spPr>
          <a:xfrm>
            <a:off x="2657520" y="5711760"/>
            <a:ext cx="386568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24000" y="333360"/>
            <a:ext cx="85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　　朱自清，原名自华，字佩弦，号秋实，原籍浙江绍兴。因三代人定居扬州，自己又毕业于当时设在扬州的江苏第八中学高中，且在扬州做过教师，故自称“扬州人”。他是现代著名的作家和学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50920" y="2205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朱自清的散文主要是叙事性和抒情性的小品文。其作品的题材可分为三个系列：一是以写社会生活抨击黑暗现实为主要内容的一组散文，代表作品有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生命价格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--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七毛钱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二是以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背影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儿女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悼亡妇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为代表的一组散文，主要描写个人和家庭生活，表现父子、夫妻、朋友间的人伦之情，具有浓厚的人情味。第三，以写自然景物为主的一组借景抒情的小品，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绿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春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桨声灯影里的秦淮河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荷塘月色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等，是其代表佳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返回次2"/>
          <p:cNvPicPr/>
          <p:nvPr/>
        </p:nvPicPr>
        <p:blipFill>
          <a:blip r:embed="rId1"/>
          <a:stretch/>
        </p:blipFill>
        <p:spPr>
          <a:xfrm>
            <a:off x="7885080" y="623736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067280" y="620640"/>
            <a:ext cx="475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朱自清故居在今扬州城安乐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，大门朝东。进门北向，有小院一区，内有客房两间，乃朱自清的住处。此宅二道门内，有上堂屋三间，下堂屋三间和两侧厢房，系朱自清的父母及姐妹们的住所。而今房屋保护良好，环境雅静，已列为扬州市级文物保护单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故居"/>
          <p:cNvPicPr/>
          <p:nvPr/>
        </p:nvPicPr>
        <p:blipFill>
          <a:blip r:embed="rId1"/>
          <a:stretch/>
        </p:blipFill>
        <p:spPr>
          <a:xfrm>
            <a:off x="611280" y="620640"/>
            <a:ext cx="3313080" cy="410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朱自清故居字"/>
          <p:cNvPicPr/>
          <p:nvPr/>
        </p:nvPicPr>
        <p:blipFill>
          <a:blip r:embed="rId2"/>
          <a:stretch/>
        </p:blipFill>
        <p:spPr>
          <a:xfrm>
            <a:off x="5580000" y="3789360"/>
            <a:ext cx="2911680" cy="1131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4941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如今，朱自清故居内陈列着朱自清曾经使用过的部分家具、朱自清著作及一些实物照片，正屋内还有朱自清塑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朱自清故居正式对外开放，江泽民同志亲笔提写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自清故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挂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返回次2"/>
          <p:cNvPicPr/>
          <p:nvPr/>
        </p:nvPicPr>
        <p:blipFill>
          <a:blip r:embed="rId3"/>
          <a:stretch/>
        </p:blipFill>
        <p:spPr>
          <a:xfrm>
            <a:off x="7956720" y="6237360"/>
            <a:ext cx="102852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附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附1"/>
          <p:cNvPicPr/>
          <p:nvPr/>
        </p:nvPicPr>
        <p:blipFill>
          <a:blip r:embed="rId2"/>
          <a:stretch/>
        </p:blipFill>
        <p:spPr>
          <a:xfrm>
            <a:off x="3419640" y="1989000"/>
            <a:ext cx="1944360" cy="2594160"/>
          </a:xfrm>
          <a:prstGeom prst="rect">
            <a:avLst/>
          </a:prstGeom>
          <a:ln w="0">
            <a:noFill/>
          </a:ln>
        </p:spPr>
      </p:pic>
      <p:sp>
        <p:nvSpPr>
          <p:cNvPr id="71" name="Oval 4"/>
          <p:cNvSpPr/>
          <p:nvPr/>
        </p:nvSpPr>
        <p:spPr>
          <a:xfrm>
            <a:off x="395280" y="11970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　　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5"/>
          <p:cNvSpPr/>
          <p:nvPr/>
        </p:nvSpPr>
        <p:spPr>
          <a:xfrm>
            <a:off x="5867280" y="285264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荷  塘  月  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6"/>
          <p:cNvSpPr/>
          <p:nvPr/>
        </p:nvSpPr>
        <p:spPr>
          <a:xfrm>
            <a:off x="324000" y="306864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7"/>
          <p:cNvSpPr/>
          <p:nvPr/>
        </p:nvSpPr>
        <p:spPr>
          <a:xfrm>
            <a:off x="395280" y="4724280"/>
            <a:ext cx="331164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浆声灯影里的秦淮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8"/>
          <p:cNvSpPr/>
          <p:nvPr/>
        </p:nvSpPr>
        <p:spPr>
          <a:xfrm>
            <a:off x="5724360" y="12682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5651640" y="47242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儿　　女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" descr="返回次2"/>
          <p:cNvPicPr/>
          <p:nvPr/>
        </p:nvPicPr>
        <p:blipFill>
          <a:blip r:embed="rId3"/>
          <a:stretch/>
        </p:blipFill>
        <p:spPr>
          <a:xfrm>
            <a:off x="7848720" y="6172200"/>
            <a:ext cx="102852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6"/>
          <p:cNvSpPr/>
          <p:nvPr/>
        </p:nvSpPr>
        <p:spPr>
          <a:xfrm>
            <a:off x="348696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朱自清散文名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971640" y="4762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预习测评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468360" y="170028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给加点的字注音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1" name="Picture 10" descr="线条1"/>
          <p:cNvPicPr/>
          <p:nvPr/>
        </p:nvPicPr>
        <p:blipFill>
          <a:blip r:embed="rId1"/>
          <a:stretch/>
        </p:blipFill>
        <p:spPr>
          <a:xfrm>
            <a:off x="179280" y="1268280"/>
            <a:ext cx="8458200" cy="1476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6"/>
          <p:cNvGrpSpPr/>
          <p:nvPr/>
        </p:nvGrpSpPr>
        <p:grpSpPr>
          <a:xfrm>
            <a:off x="250920" y="2349360"/>
            <a:ext cx="8642160" cy="2379960"/>
            <a:chOff x="250920" y="2349360"/>
            <a:chExt cx="8642160" cy="2379960"/>
          </a:xfrm>
        </p:grpSpPr>
        <p:sp>
          <p:nvSpPr>
            <p:cNvPr id="83" name="Text Box 21"/>
            <p:cNvSpPr/>
            <p:nvPr/>
          </p:nvSpPr>
          <p:spPr>
            <a:xfrm>
              <a:off x="1317600" y="24559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3375000" y="24559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ā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4586400" y="24256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hóuch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4"/>
            <p:cNvSpPr/>
            <p:nvPr/>
          </p:nvSpPr>
          <p:spPr>
            <a:xfrm>
              <a:off x="6956280" y="2349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5"/>
            <p:cNvSpPr/>
            <p:nvPr/>
          </p:nvSpPr>
          <p:spPr>
            <a:xfrm>
              <a:off x="250920" y="40258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pánshā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6"/>
            <p:cNvSpPr/>
            <p:nvPr/>
          </p:nvSpPr>
          <p:spPr>
            <a:xfrm>
              <a:off x="2841480" y="402588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tu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7"/>
            <p:cNvSpPr/>
            <p:nvPr/>
          </p:nvSpPr>
          <p:spPr>
            <a:xfrm>
              <a:off x="4822920" y="401004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8"/>
            <p:cNvSpPr/>
            <p:nvPr/>
          </p:nvSpPr>
          <p:spPr>
            <a:xfrm>
              <a:off x="7597800" y="394956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í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7"/>
          <p:cNvGrpSpPr/>
          <p:nvPr/>
        </p:nvGrpSpPr>
        <p:grpSpPr>
          <a:xfrm>
            <a:off x="611280" y="2997360"/>
            <a:ext cx="7929000" cy="2549520"/>
            <a:chOff x="611280" y="2997360"/>
            <a:chExt cx="7929000" cy="2549520"/>
          </a:xfrm>
        </p:grpSpPr>
        <p:grpSp>
          <p:nvGrpSpPr>
            <p:cNvPr id="92" name="Group 29"/>
            <p:cNvGrpSpPr/>
            <p:nvPr/>
          </p:nvGrpSpPr>
          <p:grpSpPr>
            <a:xfrm>
              <a:off x="611280" y="2997360"/>
              <a:ext cx="7929000" cy="2395800"/>
              <a:chOff x="611280" y="2997360"/>
              <a:chExt cx="7929000" cy="2395800"/>
            </a:xfrm>
          </p:grpSpPr>
          <p:sp>
            <p:nvSpPr>
              <p:cNvPr id="93" name="Text Box 13"/>
              <p:cNvSpPr/>
              <p:nvPr/>
            </p:nvSpPr>
            <p:spPr>
              <a:xfrm>
                <a:off x="611280" y="3013200"/>
                <a:ext cx="151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交  卸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14"/>
              <p:cNvSpPr/>
              <p:nvPr/>
            </p:nvSpPr>
            <p:spPr>
              <a:xfrm>
                <a:off x="2876760" y="2997360"/>
                <a:ext cx="151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奔  丧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Text Box 15"/>
              <p:cNvSpPr/>
              <p:nvPr/>
            </p:nvSpPr>
            <p:spPr>
              <a:xfrm>
                <a:off x="4839840" y="2997360"/>
                <a:ext cx="15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踌  躇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16"/>
              <p:cNvSpPr/>
              <p:nvPr/>
            </p:nvSpPr>
            <p:spPr>
              <a:xfrm>
                <a:off x="6954480" y="2997360"/>
                <a:ext cx="15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迂  腐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7"/>
              <p:cNvSpPr/>
              <p:nvPr/>
            </p:nvSpPr>
            <p:spPr>
              <a:xfrm>
                <a:off x="611280" y="4689720"/>
                <a:ext cx="1812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蹒  跚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8"/>
              <p:cNvSpPr/>
              <p:nvPr/>
            </p:nvSpPr>
            <p:spPr>
              <a:xfrm>
                <a:off x="6954480" y="4689720"/>
                <a:ext cx="151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晶  莹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19"/>
              <p:cNvSpPr/>
              <p:nvPr/>
            </p:nvSpPr>
            <p:spPr>
              <a:xfrm>
                <a:off x="2876760" y="4689720"/>
                <a:ext cx="15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颓  唐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0"/>
              <p:cNvSpPr/>
              <p:nvPr/>
            </p:nvSpPr>
            <p:spPr>
              <a:xfrm>
                <a:off x="4839840" y="4673880"/>
                <a:ext cx="15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琐  屑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1" name="Picture 31" descr="标记点1"/>
            <p:cNvPicPr/>
            <p:nvPr/>
          </p:nvPicPr>
          <p:blipFill>
            <a:blip r:embed="rId2"/>
            <a:stretch/>
          </p:blipFill>
          <p:spPr>
            <a:xfrm>
              <a:off x="1576800" y="3699000"/>
              <a:ext cx="3178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32" descr="标记点1"/>
            <p:cNvPicPr/>
            <p:nvPr/>
          </p:nvPicPr>
          <p:blipFill>
            <a:blip r:embed="rId3"/>
            <a:stretch/>
          </p:blipFill>
          <p:spPr>
            <a:xfrm>
              <a:off x="3858120" y="3699000"/>
              <a:ext cx="3178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33" descr="标记点1"/>
            <p:cNvPicPr/>
            <p:nvPr/>
          </p:nvPicPr>
          <p:blipFill>
            <a:blip r:embed="rId4"/>
            <a:stretch/>
          </p:blipFill>
          <p:spPr>
            <a:xfrm>
              <a:off x="5050800" y="3699000"/>
              <a:ext cx="3178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4" descr="标记点1"/>
            <p:cNvPicPr/>
            <p:nvPr/>
          </p:nvPicPr>
          <p:blipFill>
            <a:blip r:embed="rId5"/>
            <a:stretch/>
          </p:blipFill>
          <p:spPr>
            <a:xfrm>
              <a:off x="5821920" y="3699000"/>
              <a:ext cx="3178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5" descr="标记点1"/>
            <p:cNvPicPr/>
            <p:nvPr/>
          </p:nvPicPr>
          <p:blipFill>
            <a:blip r:embed="rId6"/>
            <a:stretch/>
          </p:blipFill>
          <p:spPr>
            <a:xfrm>
              <a:off x="7165440" y="3699000"/>
              <a:ext cx="31752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6" descr="标记点1"/>
            <p:cNvPicPr/>
            <p:nvPr/>
          </p:nvPicPr>
          <p:blipFill>
            <a:blip r:embed="rId7"/>
            <a:stretch/>
          </p:blipFill>
          <p:spPr>
            <a:xfrm>
              <a:off x="793008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7" descr="标记点1"/>
            <p:cNvPicPr/>
            <p:nvPr/>
          </p:nvPicPr>
          <p:blipFill>
            <a:blip r:embed="rId8"/>
            <a:stretch/>
          </p:blipFill>
          <p:spPr>
            <a:xfrm>
              <a:off x="505080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8" descr="标记点1"/>
            <p:cNvPicPr/>
            <p:nvPr/>
          </p:nvPicPr>
          <p:blipFill>
            <a:blip r:embed="rId9"/>
            <a:stretch/>
          </p:blipFill>
          <p:spPr>
            <a:xfrm>
              <a:off x="302760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9" descr="标记点1"/>
            <p:cNvPicPr/>
            <p:nvPr/>
          </p:nvPicPr>
          <p:blipFill>
            <a:blip r:embed="rId10"/>
            <a:stretch/>
          </p:blipFill>
          <p:spPr>
            <a:xfrm>
              <a:off x="151740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0" descr="标记点1"/>
            <p:cNvPicPr/>
            <p:nvPr/>
          </p:nvPicPr>
          <p:blipFill>
            <a:blip r:embed="rId11"/>
            <a:stretch/>
          </p:blipFill>
          <p:spPr>
            <a:xfrm>
              <a:off x="83772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2952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积累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差使：旧社会在机关里做事叫“当差”，这里指职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狼藉：乱七八糟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簌簌：纷纷落下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典质：把（财产、衣物）典当、抵押出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惨淡：凄惨暗淡，不景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勾留：短时间停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蹒跚：因为腿脚不灵便，走路缓慢摇摆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颓唐：衰颓败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踌躇：犹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情郁于中：感情积聚在心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触目伤怀：看到（家庭败落的情况）心里感到悲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23623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篇文章以什么为线索？ 主要写谁？  反映的主题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899720" y="38088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整体感知   理清文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4648320" y="1295280"/>
            <a:ext cx="1828800" cy="914400"/>
            <a:chOff x="4648320" y="1295280"/>
            <a:chExt cx="1828800" cy="914400"/>
          </a:xfrm>
        </p:grpSpPr>
        <p:sp>
          <p:nvSpPr>
            <p:cNvPr id="116" name="AutoShape 5"/>
            <p:cNvSpPr/>
            <p:nvPr/>
          </p:nvSpPr>
          <p:spPr>
            <a:xfrm>
              <a:off x="4648320" y="1295280"/>
              <a:ext cx="1828800" cy="9144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953240" y="137160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背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5773680" y="3749760"/>
            <a:ext cx="2819160" cy="1066680"/>
            <a:chOff x="5773680" y="3749760"/>
            <a:chExt cx="2819160" cy="1066680"/>
          </a:xfrm>
        </p:grpSpPr>
        <p:sp>
          <p:nvSpPr>
            <p:cNvPr id="119" name="AutoShape 8"/>
            <p:cNvSpPr/>
            <p:nvPr/>
          </p:nvSpPr>
          <p:spPr>
            <a:xfrm>
              <a:off x="5773680" y="3749760"/>
              <a:ext cx="2819160" cy="1066680"/>
            </a:xfrm>
            <a:prstGeom prst="wedgeRoundRectCallout">
              <a:avLst>
                <a:gd name="adj1" fmla="val 10680"/>
                <a:gd name="adj2" fmla="val -120046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5959440" y="3932280"/>
              <a:ext cx="24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我的父亲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1562040" y="4405320"/>
            <a:ext cx="2971800" cy="1295280"/>
            <a:chOff x="1562040" y="4405320"/>
            <a:chExt cx="2971800" cy="1295280"/>
          </a:xfrm>
        </p:grpSpPr>
        <p:sp>
          <p:nvSpPr>
            <p:cNvPr id="122" name="AutoShape 11"/>
            <p:cNvSpPr/>
            <p:nvPr/>
          </p:nvSpPr>
          <p:spPr>
            <a:xfrm>
              <a:off x="1562040" y="4405320"/>
              <a:ext cx="2971800" cy="1295280"/>
            </a:xfrm>
            <a:prstGeom prst="cloudCallout">
              <a:avLst>
                <a:gd name="adj1" fmla="val -21296"/>
                <a:gd name="adj2" fmla="val -1181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2266920" y="47019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父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13:23:16Z</dcterms:created>
  <dc:creator>任俊文</dc:creator>
  <dc:description/>
  <dc:language>en-US</dc:language>
  <cp:lastModifiedBy>郜军</cp:lastModifiedBy>
  <dcterms:modified xsi:type="dcterms:W3CDTF">2013-06-25T01:40:29Z</dcterms:modified>
  <cp:revision>44</cp:revision>
  <dc:subject/>
  <dc:title>《背影》课件</dc:title>
</cp:coreProperties>
</file>