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58A-BD41-4D72-932C-0BA00DFE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0C7-45C4-4C47-AD27-915F532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5FF0A-7F58-4EBD-8836-90B2E6DC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7896-D088-4076-B132-C6B15CC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FFD7D-DFF9-4978-8AE9-C4216E3A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FD332-A679-42AB-BEEA-7C165AC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24F31-B119-4052-9CCE-87AB198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B63C8-237E-4E3D-9D38-E7B235D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3F0D1-D444-4FD6-B588-44C9433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B8DFA-3508-43CE-8DED-1D8516AB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430B4-0CDC-46D6-A6AB-EEF1F2C4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29358-DE52-4F88-A34D-02F1B3C4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5F4-F83F-43BE-98FD-DF775D45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81DB4-E1B6-40D7-B413-A839274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B6F17-30B3-48E8-BE44-65EFE1CA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2B75-9F4D-4798-A3A2-08FF7524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C4FBE-870F-4091-99BE-B9D8345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AB20D-7F19-47AD-AF43-7D6B854B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7EFE9-B90F-441D-9458-D6D35C4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DF1C-8057-4F43-8E10-17A12A54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B2A92-F22D-42A9-92FC-AB93107A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3021-1605-4C3C-BA1E-226DAE5A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97F21-31BE-4908-ABD7-8BE34344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577-D5C9-433A-8F5E-2FED949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29532-7EBC-4FD4-B6CC-8EC1E6E7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CC74C-C20A-4E5B-96B9-15F16054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4A462-81C7-4C84-9D02-97FB015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7FD6E-9610-4B62-94C0-3006044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4C65B-9C2C-4C2D-AA94-41D3970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3CC2-F10B-4ED9-A7D2-47790D8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5ED99-1003-4B16-A680-291E8248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F1F9B-48CA-475C-B0D4-1A8EEE3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2A5D0-10CA-40B2-B9AF-E1888AB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953AF-C546-4BEC-8DF9-EE25DA3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D543-21D6-46A7-9E4F-13EE3C9F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9E987-807C-479D-8A57-CA303D2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0D8E6-D31A-43B9-9927-064B4D51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700D3-D0CE-4902-9673-943B77D8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AE646-916F-4E43-BF65-3A55A115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C3F6C-60BF-4DB9-A4E4-61599D8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0F197-8363-483E-B766-54BE6FF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13317-533F-4207-910D-21AA135B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67379-BE68-4A66-98F5-561B38F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51721-E25D-427F-A5EC-29C44C7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96456-14F4-4CCE-9372-CC454B3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A6F-A72B-42BF-9534-1657AD1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5AADE-213D-42EC-919F-CFE319B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158F9-0364-4081-B229-3943BCE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F597B-4068-4C4A-B2D4-26748D92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59FFE-82D6-4540-8B16-2AF177FB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1481E-D827-4468-A4DE-9D7624D5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056D1-D5CA-4228-8921-85E756D4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8C210-CB2C-4A87-8365-AA1B713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AC2C0-6E1B-41A5-8F8A-8FFD472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CC5FD-87C7-402C-B5F9-058C1C60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2F232-5413-4CAA-8FA7-1A69E435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962-6149-4508-BCD2-40B400BA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C7D2E-04B7-4E9E-BF55-945AA73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ED93B-B41D-4EE3-A909-A5215E2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B1D8B-4B4A-4D5C-AD10-111E01A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E6321-7E48-4252-8CC6-94A6232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09CCA-9A82-4D32-86E1-E016372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9B2BA-5C2B-405A-82BE-468E2F16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00088-539F-431A-9691-811B5AFC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454-9854-4448-AF2F-22E7F0E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5805-AD50-477F-ABA6-C23A7D5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39DB-D1B9-4507-B49E-515F8A4C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4726-FDD8-4611-A288-ABAF640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2CC-3D71-408D-BB87-0E3533CC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2D69-8FAC-4A73-9651-C174CB0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6B6-7D6F-47A6-9FF6-D67A1C2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E4B4-5337-484C-8981-86F57F8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068-6F26-4052-8C49-6423027A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44C1-C064-4869-BA13-0439F2A0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FD7E-0659-4854-8E0E-9F1A923D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8484-4C5A-413D-96EA-BC12B646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4FBE-22C2-4634-9B16-76B7993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EE8A-3506-4800-B430-5163A25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3D60-BD82-4C4C-8BCE-69458046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793-141B-4638-85CA-BAC30830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068E-616A-49CB-B4A6-45B4827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D69E-C6D3-401E-A964-A9BC401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7DF6-3766-4C37-905F-5EF8899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0CA7-D83A-472E-A3B5-B6068505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4C3D-7D93-4328-9F19-4F694CF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C1A8-D7E4-41C5-8999-F673FCF5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50E5-B06F-482B-8082-D7C56725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3F6D-3705-43CD-87E4-EA0BA878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0A60-CF88-4629-9FF4-D752F0A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EECD-41AD-4A6D-98E3-B96C767D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D55-2637-420A-8E59-16D902D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BC54-4E42-4A74-826D-102888E9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7AFC-1278-4B31-B0E5-40A5C92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37A4-97C6-4D3E-B3B6-F8C57170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391C-2D0F-4CF1-8E64-1B8C64D4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5DDF-8C6E-4FCE-9F14-F80FB8F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8B1D-9BDA-46B4-98A4-77E4064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B5E0-36DE-419D-9697-AEAB7CC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50B4-4745-4440-BF77-6ACCDF81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C5559-B5D2-46B2-9244-41301DA0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D997-7377-48E9-8031-E3BB59E3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B5F-3BFE-4561-BD29-63E7FB5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FE4E-83A5-40F4-9A4F-6A301E2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AAEB-C9FA-4484-B34A-137BAA9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03F3-4E05-4FA3-9719-583B4B50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0A33-0D5E-4FE4-87D3-872CCDF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6C5A-E610-4C50-B3EA-C98ECA7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224B-657C-4EDE-B2DB-C0D11F5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A536-2082-46A7-912C-F44957A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DE836-65FE-48DA-93B2-9950C47A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775A-8BD9-4854-B568-09CC8D23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5070B-4CFB-4BF1-B1E4-44894596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298-A5C9-4699-81D1-C6BF9D36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F5E8-FB49-4862-8AE4-FAE465CA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1D74-7229-41BA-A2BA-E7C837BA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50AE5-577E-48D5-B891-84D21FDC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182A-DF9F-4ACF-A348-DE699FBE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7B7A5-4B2B-4C2F-BCA0-330EE1B2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A1F8-D96E-488C-AAF4-255B7BB9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59E9-656F-48CF-BDE5-F2CD11A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DA6D-9D76-4364-BC00-EC3626A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D67B-D88D-427B-B9B5-5CD9203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7968-5ED9-46F0-820B-2053272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0A9-12FD-46C1-8119-6ABC0C8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B07D9-BF6E-4923-B691-0634C91A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D0C11-7C72-4BC5-8138-AF8023DE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7E58-8513-48AD-9F46-54261A75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7166E-D607-42C8-A988-146F3A22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DCF1-BB9D-4C01-868C-923519AB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8097-2922-4CF0-94DD-80D2B0B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F5DB1-2F5C-40A9-B9E3-3308C909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EC4CB-B707-49AE-8243-3AF97FB5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305B-57A1-4820-8DE5-19F1F78A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EE3D-6A14-42E9-8C96-E2B62C3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041-92FE-4C19-A21D-480EBE88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18DE1-5D5B-4CAD-B9D4-89145EB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2499-5D53-4627-B3EE-7ECC8B7A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0D02-1D7A-4D77-9D98-39E87ADC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5DF9F-844B-4793-9A47-1E03B22D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1F66-CB6C-4D80-93B7-268B435F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62AF-AE92-4B2B-8EDD-9AD49975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BA04-FF9C-4008-A4A5-BC6EBEA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FFA67-A600-4439-8DD2-5BA4261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E2CF-4671-4BB9-A2BE-08D7E56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8E921-74B0-42FF-9BCE-C3AC39D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409-9DA1-47EB-AD5C-A711D86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3903-E467-4C03-B80B-3F58B62E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7F681-5238-48BC-B336-C1D95F7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4E650-9EE4-4182-A972-66954BE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A33A-C80A-4A77-857F-99C1E8A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5130D-F3B1-44A5-AAAD-317AD3BF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EB2B-7BB7-4874-BED8-E60B3F14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F37DC-E7CA-4300-AA51-8A446CBF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577E3-979E-4DBF-98E6-40637CAB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D9B08-B333-474A-9E9D-1307DB42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90A34-251A-4C89-95A9-4FD5D5E9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DAE-8D32-4BE6-91B0-710BEEA23E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ECC-9B68-430E-B702-92EDC95AA2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4A2D-E6A6-4A18-BEEF-B32C714A95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4941-A2D5-4228-B27D-5A11CA1C71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5D59-B1C1-4A47-B92C-E96268F973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446-5D7D-4194-93E0-568DDEC66A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5F2C-A8AE-48F7-AEB8-FEE9F0B040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BE4-3219-48F4-BBF5-76025172EF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A4F3-1889-45AC-A912-1819C56C80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A626-12E2-4778-8677-45B0D341C0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8E9F-606D-40C4-A514-260157F26A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ECE-9337-4C61-94AB-40E590D404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E85-D32D-4D01-B627-10E41A0C76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18920" y="5366880"/>
            <a:ext cx="60721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清新绿色自然风光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背景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618920" y="6135840"/>
            <a:ext cx="60721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4"/>
          <p:cNvSpPr/>
          <p:nvPr/>
        </p:nvSpPr>
        <p:spPr>
          <a:xfrm>
            <a:off x="1908000" y="587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2:10:39Z</dcterms:created>
  <dc:creator>Unique</dc:creator>
  <dc:description/>
  <dc:language>en-US</dc:language>
  <cp:lastModifiedBy>User</cp:lastModifiedBy>
  <dcterms:modified xsi:type="dcterms:W3CDTF">2015-06-26T07:40:13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