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F789C-74D9-4C06-89F4-F3E861B40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6C500-68E4-49CF-BCDA-453939567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EC7D5-09F9-44C4-A6A4-0601CEB75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44947-5DC2-411B-8C90-FDDB0046A4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A3F2A-5D32-41C3-9F3D-E8509B8C0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5BEB5-1B4B-41FA-9074-1FA2018ED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69B2B-87FE-46A0-9ED2-66E7328A8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140261-2337-4C3E-AEAD-83B859893C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B404D1-2467-4ED5-A688-7989246577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1035CA-04D0-4CAD-8E52-4D6094D783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2B89B-FB21-4003-891B-89EB81E7FB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B8985-3C38-4CA0-B41A-5068BBCFF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1169D2-B1D1-4807-8351-5E3E6B9B8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EC024-7695-47F2-91C2-5A2ECFE1D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BA617-DEA0-4B31-9001-42F07AC611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C5FC3-206B-4D31-8087-B228E7F21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80F66-DC34-4F35-AC5D-594D670E2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74DF6-13A8-4B08-966D-211709987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FC5BE3-C189-4791-94FE-A77FAC4D38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4F119C-ABD8-4E91-9D90-C8BA4E92DB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02B84C-4D8B-4C8E-AB0C-6484EC9AA6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1EB48C-CCAB-4CE6-9714-A770767A83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852E2A-3DE5-4ADE-899A-5390942B3A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A3A78B-A3E9-4B51-A7F4-985C2F4995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7628C9-F2ED-4437-A89F-4F5F0A0961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497D01-A108-4DBD-A398-63DAFBFE29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3779E5-57C8-4E01-AD33-35F4FCDAFD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2F0E14-112C-4615-BB83-C703E891B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F55E7C-D7E1-4D81-9A1E-43C92E2555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F566D2-A296-4C52-B6D1-903644F69F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E6F2C-B539-4A78-8A32-2A7BFD486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A96FC9-37FE-42C3-89CE-6E5F5D9133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169F24-6841-48BC-93C1-C5844E7E71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16FD38-029C-420E-9F32-F28926C30A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538B00-BCA8-41BC-95DE-DA133F9D18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D7028E-8BF1-41FD-B4F1-45C1DF59B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4A417F-2A47-4834-B367-F1FD7DB34C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BD3FDA-00C8-4293-B0AC-01DB9C6699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96CA7C-84E9-4F9D-9B3A-01573FD4C1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63FE88-F629-4F35-A1CB-CFCFF07571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52B894-A6E1-46B5-8525-B5F7B80EE0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14135-14F3-4F5B-9ADD-FB45E29A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B9DDE4-038C-4508-BA27-B0EB762CF5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74DA0B-E3EE-464F-B50D-C56124D05C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C9C1AB-27DF-4888-8B92-484D0876FB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B45573-7E80-49D5-90C0-7AF37A1CD4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F2E78A-CB91-4454-ACEA-F43C475F4A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3216-C61C-4553-8426-2AACFB58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5C72B-B560-4449-A43F-E75BEC29F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B3EA-8B1B-4B50-93F7-A87B52DE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0843A-F369-43DE-B394-E36B60EEF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A92B-126F-46EA-981E-8D6A92BC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60E1-8DA9-48CF-92FB-4C01B7F09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DCB9-D55A-4D92-A9C1-91EA1247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29CEE-84D1-4891-80F2-8A9C4D92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6904C-8D5C-45BA-8065-548E75DCB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0410-9BF3-4F01-B7D2-9A44A1D02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CD9F0-8DB2-4004-A3EC-22EB7CD03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9F396-CB9B-422E-8F57-763C226CD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714D7-5A1B-4BB6-B972-EC51492B1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82E9B-BC5A-495F-9551-BB8651AC2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B75B9-7344-446F-80FF-48CBB69B4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36C0E-FB22-4536-8847-046744F87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FD18-865F-42C1-9467-0BD3988A2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2262C-B510-41EB-8D08-3D93D2180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19736-A100-4A0D-9EB2-30AF8BA7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61992-D74C-47F0-A3F4-79691D764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11AFF-EA7D-4CA0-9694-55E8811E8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4E0DA-04CA-444C-8966-3F42218CB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197A95-4C9C-4813-941A-75BDAD403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53772-DE6E-41C5-A5E2-E3584F750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98E90-1823-4922-A36B-65B85CABA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D2013-C13E-4DFB-A96C-3D1D92735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7F84F-D4B0-4C58-BE24-62DAC5C3E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EF20B-C321-41C8-958E-9F4542127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B74C5-F63A-4B66-94B5-1610C3865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A1C06-B05C-4E5D-BFD8-8871E9EE8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85E9E-0547-40DD-9B0F-4DD286C63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3E84C-F058-4824-87D5-C587F9F0F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CDC69-6719-4C38-8C73-483F21209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73CB19-57CD-46AA-AF61-D5D212B651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9D46C6-F62B-498E-A696-3088DECE30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7B3C1-F3CE-4BB5-A504-7162DC60D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B0F73-8D86-4077-936E-9B786ADA0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1C0C6-E3DD-43A2-95C3-5AB7BE5CE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586D8-F379-403F-8864-D194934AC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9591F-7E7D-4E32-BAB2-321D8CC7B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87B0C-FB7B-4328-97A1-A396B1581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C205E-DE00-4A4A-B03C-740AEC2F6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06245-DBE1-464A-8834-830E2A642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87E58-AED9-4419-ACBA-5A4F186EA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C933D5-2D2F-44AC-9AFF-7B28A9A9A2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F2F226-4E90-42D3-B9FF-1B163225A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99CFF1-9C40-413E-BDC7-1E7A25F3A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9291A-281D-459D-A038-A3DB4390F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FC0B8-89B5-4791-B642-7D6A9CBE2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5CCED-37C5-422D-84DB-D2DA944B1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CA01D-DB0E-4C55-99FF-C0E237EAD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DD5CE-5FF7-4CF2-9819-DDC8EE504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03946-577B-4F5E-97C2-4F51098E3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53B11-B58E-444B-B586-FD442DF2A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13102-4922-4191-819D-7E71F34FD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69385-039C-40ED-99B8-B372C9939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4D8D69-A2BF-4742-9E44-D07718CA5A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2DECC-AD15-4FFD-8049-059B227F71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6E9593-C0A4-499D-B7F8-6F553AE04A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6C6CA-8349-4BE7-945F-A482277C41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EFB41-2596-4CE9-8AE2-EF25E0DF6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F3AF4-06A1-4913-9A30-AF9B210C9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CF752-608D-46AC-86B6-20B5A3873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429CE-C076-4295-995E-5514FA52A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E0DEC-848E-46D5-9FA6-1247D98E0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5E237-49B6-453F-AEB3-3709CA166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3206A-E053-4B58-84A7-0F512883E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1D10C-BFED-48BF-915B-68BF6C7B3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707777-23D6-4106-96C3-A80FB41B37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B7167F-5D25-40AB-8CFC-BA5FBE959A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AA1E6-BF38-4B37-BEC9-43DD3B0359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AF6C2-8B8F-463F-AD63-42AA3FBF4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7B097D-8F81-4409-8593-92823D3AAF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E2448-5E3B-4056-B7E2-C59770B06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506C5-C763-432B-AF2A-3FD7C725C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A1098-4925-4A81-BB7B-77DBF5202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13832-D10D-4532-99BB-93722EFE9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93CC7-3FB0-4B0D-9AD2-5F9B723E8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18A6D-D356-4AAC-8254-DD09AA1FA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7EF943-2D2F-42F2-82E9-3C96F9B9E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32E465-2C58-4215-BA90-D0A66B3ABD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0FE993-B501-47B4-B7CB-CBE27FB857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286741-9099-4779-898B-C422F97786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B5EDC7-99F3-4D5E-A37B-00DBB5C13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B2F36-4E4C-4E82-B6EE-2CFA7E648C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0"/>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29" descr="g fdg rtio ui "/>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9AE6-A3AE-4A56-801B-BED4FF960BBA}"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91C9-4021-426E-85E1-3901994433C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5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2317-C9B8-4A0D-A6D5-188272A2E72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EFBA-78D5-4DF3-91CE-4CBCFE8C5A73}"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9496-883E-4A0F-BACD-496E59DA93E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BF77-085F-41B8-84D8-110D22A1C8F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C1BB-9FC0-469B-A45E-923DCFF01B5E}"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70D9-4F25-442D-AE34-AD3B9EA5197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B8B9-821A-4CE4-9FFB-845656E5FC7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043D-4BE9-4CAD-B36D-A127A2E55CA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7C5D-8731-4B59-A507-B314EEE075C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矩形 8"/>
          <p:cNvSpPr/>
          <p:nvPr/>
        </p:nvSpPr>
        <p:spPr>
          <a:xfrm>
            <a:off x="0" y="4076640"/>
            <a:ext cx="83520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
        <p:nvSpPr>
          <p:cNvPr id="490" name="Rectangle 11"/>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24" descr="GFD GY YR lkuk"/>
          <p:cNvPicPr/>
          <p:nvPr/>
        </p:nvPicPr>
        <p:blipFill>
          <a:blip r:embed="rId1"/>
          <a:stretch/>
        </p:blipFill>
        <p:spPr>
          <a:xfrm>
            <a:off x="0" y="0"/>
            <a:ext cx="9144000" cy="6858000"/>
          </a:xfrm>
          <a:prstGeom prst="rect">
            <a:avLst/>
          </a:prstGeom>
          <a:ln w="0">
            <a:noFill/>
          </a:ln>
        </p:spPr>
      </p:pic>
      <p:sp>
        <p:nvSpPr>
          <p:cNvPr id="492" name="Text Box 6"/>
          <p:cNvSpPr/>
          <p:nvPr/>
        </p:nvSpPr>
        <p:spPr>
          <a:xfrm>
            <a:off x="2710080" y="2746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汉真广标"/>
                <a:ea typeface="汉真广标"/>
              </a:rPr>
              <a:t>菜椒蔬菜幻灯片模板</a:t>
            </a:r>
            <a:endParaRPr b="0" lang="en-US" sz="4400" spc="-1" strike="noStrike">
              <a:solidFill>
                <a:srgbClr val="000000"/>
              </a:solidFill>
              <a:latin typeface="Arial"/>
            </a:endParaRPr>
          </a:p>
        </p:txBody>
      </p:sp>
      <p:sp>
        <p:nvSpPr>
          <p:cNvPr id="493" name="矩形 6"/>
          <p:cNvSpPr/>
          <p:nvPr/>
        </p:nvSpPr>
        <p:spPr>
          <a:xfrm>
            <a:off x="2476440" y="6237360"/>
            <a:ext cx="30960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Text Box 7"/>
          <p:cNvSpPr/>
          <p:nvPr/>
        </p:nvSpPr>
        <p:spPr>
          <a:xfrm>
            <a:off x="45324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495" name="Text Box 8"/>
          <p:cNvSpPr/>
          <p:nvPr/>
        </p:nvSpPr>
        <p:spPr>
          <a:xfrm>
            <a:off x="1042920" y="98100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2"/>
          <p:cNvSpPr/>
          <p:nvPr/>
        </p:nvSpPr>
        <p:spPr>
          <a:xfrm>
            <a:off x="49932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497" name="Text Box 3"/>
          <p:cNvSpPr/>
          <p:nvPr/>
        </p:nvSpPr>
        <p:spPr>
          <a:xfrm>
            <a:off x="1042920" y="98100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5:23:24Z</dcterms:created>
  <dc:creator>www.powerpointstyles.com</dc:creator>
  <dc:description>Image credit to FreeDigitalPhotos.net </dc:description>
  <dc:language>en-US</dc:language>
  <cp:lastModifiedBy>lenovo</cp:lastModifiedBy>
  <dcterms:modified xsi:type="dcterms:W3CDTF">2015-07-22T06:51:49Z</dcterms:modified>
  <cp:revision>38</cp:revision>
  <dc:subject/>
  <dc:title>Fresh Green Pepp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