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945-892F-480C-99B3-B21FECD5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B3FA-56C9-4BAD-A3B5-5D749456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BA2-91F0-4DBC-A665-77329920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714-AD31-4B04-AE58-5A039E90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52E-F820-49EF-9D30-E4855FC8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1C11-52FC-4FA7-B916-15C2103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5E2-3CE1-4770-973C-663E4CD0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CB4-4D2D-4ABA-A06C-69B5CCD7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CCC-14B8-4701-91D7-A0AD2F3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6FE-F900-4F23-9372-FBBA3360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F57-B5F6-4DD1-8A68-680ACE7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43B-7D7E-41B1-80BB-7E679B6D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73C-27CC-4750-A743-B4E7AB72F5D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9AB0-E6A2-4F0E-A42A-9A9050EE24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五边形 7"/>
          <p:cNvSpPr/>
          <p:nvPr/>
        </p:nvSpPr>
        <p:spPr>
          <a:xfrm>
            <a:off x="0" y="0"/>
            <a:ext cx="8153280" cy="685800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58" y="0"/>
                </a:lnTo>
                <a:lnTo>
                  <a:pt x="21600" y="10800"/>
                </a:lnTo>
                <a:lnTo>
                  <a:pt x="138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8"/>
          <p:cNvSpPr/>
          <p:nvPr/>
        </p:nvSpPr>
        <p:spPr>
          <a:xfrm>
            <a:off x="5078520" y="-12600"/>
            <a:ext cx="7132680" cy="6864120"/>
          </a:xfrm>
          <a:prstGeom prst="pie">
            <a:avLst/>
          </a:prstGeom>
          <a:solidFill>
            <a:srgbClr val="7f7f7f"/>
          </a:solidFill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4038480" y="633240"/>
            <a:ext cx="3670560" cy="554220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黑体"/>
                <a:ea typeface="黑体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4038480" y="63324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3"/>
          <p:cNvSpPr/>
          <p:nvPr/>
        </p:nvSpPr>
        <p:spPr>
          <a:xfrm>
            <a:off x="4038480" y="495000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4"/>
          <p:cNvGrpSpPr/>
          <p:nvPr/>
        </p:nvGrpSpPr>
        <p:grpSpPr>
          <a:xfrm>
            <a:off x="5952240" y="5443200"/>
            <a:ext cx="1594800" cy="337680"/>
            <a:chOff x="5952240" y="5443200"/>
            <a:chExt cx="1594800" cy="337680"/>
          </a:xfrm>
        </p:grpSpPr>
        <p:sp>
          <p:nvSpPr>
            <p:cNvPr id="47" name="椭圆 15"/>
            <p:cNvSpPr/>
            <p:nvPr/>
          </p:nvSpPr>
          <p:spPr>
            <a:xfrm rot="4414800">
              <a:off x="5984280" y="547524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16"/>
            <p:cNvSpPr/>
            <p:nvPr/>
          </p:nvSpPr>
          <p:spPr>
            <a:xfrm rot="4414800">
              <a:off x="6405480" y="5475240"/>
              <a:ext cx="266760" cy="266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17"/>
            <p:cNvSpPr/>
            <p:nvPr/>
          </p:nvSpPr>
          <p:spPr>
            <a:xfrm rot="4414800">
              <a:off x="7247880" y="5481720"/>
              <a:ext cx="266760" cy="2667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18"/>
            <p:cNvSpPr/>
            <p:nvPr/>
          </p:nvSpPr>
          <p:spPr>
            <a:xfrm rot="4414800">
              <a:off x="6826680" y="548172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19"/>
          <p:cNvSpPr/>
          <p:nvPr/>
        </p:nvSpPr>
        <p:spPr>
          <a:xfrm>
            <a:off x="4195800" y="5010120"/>
            <a:ext cx="23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5"/>
          <p:cNvSpPr/>
          <p:nvPr/>
        </p:nvSpPr>
        <p:spPr>
          <a:xfrm>
            <a:off x="669960" y="2805120"/>
            <a:ext cx="258768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7"/>
          <p:cNvSpPr/>
          <p:nvPr/>
        </p:nvSpPr>
        <p:spPr>
          <a:xfrm>
            <a:off x="3571920" y="301464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8"/>
          <p:cNvSpPr/>
          <p:nvPr/>
        </p:nvSpPr>
        <p:spPr>
          <a:xfrm>
            <a:off x="3728880" y="4129200"/>
            <a:ext cx="7743960" cy="1440"/>
          </a:xfrm>
          <a:prstGeom prst="pie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14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57" name="椭圆 10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"/>
          <p:cNvSpPr/>
          <p:nvPr/>
        </p:nvSpPr>
        <p:spPr>
          <a:xfrm>
            <a:off x="768240" y="2793960"/>
            <a:ext cx="258624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3643200" y="260676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5"/>
          <p:cNvSpPr/>
          <p:nvPr/>
        </p:nvSpPr>
        <p:spPr>
          <a:xfrm>
            <a:off x="3728880" y="4129200"/>
            <a:ext cx="6586560" cy="56880"/>
          </a:xfrm>
          <a:prstGeom prst="pie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组合 11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66" name="椭圆 12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3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4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5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1828800" y="3492360"/>
            <a:ext cx="9001080" cy="64260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828800" y="838080"/>
            <a:ext cx="871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75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1828800" y="3492360"/>
            <a:ext cx="9001080" cy="119124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658880" y="83808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84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2479680" y="514440"/>
            <a:ext cx="742932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  <a:ea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5"/>
          <p:cNvGrpSpPr/>
          <p:nvPr/>
        </p:nvGrpSpPr>
        <p:grpSpPr>
          <a:xfrm>
            <a:off x="4998600" y="2012040"/>
            <a:ext cx="2390760" cy="506520"/>
            <a:chOff x="4998600" y="2012040"/>
            <a:chExt cx="2390760" cy="506520"/>
          </a:xfrm>
        </p:grpSpPr>
        <p:sp>
          <p:nvSpPr>
            <p:cNvPr id="91" name="椭圆 6"/>
            <p:cNvSpPr/>
            <p:nvPr/>
          </p:nvSpPr>
          <p:spPr>
            <a:xfrm rot="15214800">
              <a:off x="6940440" y="207000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7"/>
            <p:cNvSpPr/>
            <p:nvPr/>
          </p:nvSpPr>
          <p:spPr>
            <a:xfrm rot="15214800">
              <a:off x="6309000" y="207000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8"/>
            <p:cNvSpPr/>
            <p:nvPr/>
          </p:nvSpPr>
          <p:spPr>
            <a:xfrm rot="15214800">
              <a:off x="5046480" y="206064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9"/>
            <p:cNvSpPr/>
            <p:nvPr/>
          </p:nvSpPr>
          <p:spPr>
            <a:xfrm rot="15214800">
              <a:off x="5677560" y="206064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Administrator</dc:creator>
  <dc:description/>
  <dc:language>en-US</dc:language>
  <cp:lastModifiedBy>Administrator</cp:lastModifiedBy>
  <dcterms:modified xsi:type="dcterms:W3CDTF">2015-07-16T01:30:51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