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734-2689-416D-AB57-4DD8F689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BD6-9F49-44D9-A7A2-90C39F3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348D-9112-4690-AD46-B5F952AC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32CC-CD50-466F-A21E-3F1BF9E2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7BA-B20C-44ED-9AFF-F75560B9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B8F-56C2-4592-8108-30AA99F8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D86-C7D6-486D-93B7-BE0207E1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5DE-CF86-4F84-9B6F-2FDF9AB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CD2-409B-4D0F-BA02-8E61283D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3A0-170C-4999-895A-09CD9D14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B27-0A23-4BF3-83FB-AD5349BE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142-1473-4DE7-ACA3-F87BAF9B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0B41-F580-4308-A58D-B59A8BDFBD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928800" y="407196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499080"/>
            <a:ext cx="400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00080" y="457200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十字形 10"/>
          <p:cNvSpPr/>
          <p:nvPr/>
        </p:nvSpPr>
        <p:spPr>
          <a:xfrm>
            <a:off x="716040" y="1928880"/>
            <a:ext cx="2427120" cy="3295440"/>
          </a:xfrm>
          <a:prstGeom prst="plus">
            <a:avLst>
              <a:gd name="adj" fmla="val 9602"/>
            </a:avLst>
          </a:pr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十字形 11"/>
          <p:cNvSpPr/>
          <p:nvPr/>
        </p:nvSpPr>
        <p:spPr>
          <a:xfrm>
            <a:off x="3430440" y="1928880"/>
            <a:ext cx="2427480" cy="3295440"/>
          </a:xfrm>
          <a:prstGeom prst="plus">
            <a:avLst>
              <a:gd name="adj" fmla="val 9602"/>
            </a:avLst>
          </a:pr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十字形 12"/>
          <p:cNvSpPr/>
          <p:nvPr/>
        </p:nvSpPr>
        <p:spPr>
          <a:xfrm>
            <a:off x="6145200" y="1928880"/>
            <a:ext cx="2427480" cy="3295440"/>
          </a:xfrm>
          <a:prstGeom prst="plus">
            <a:avLst>
              <a:gd name="adj" fmla="val 9602"/>
            </a:avLst>
          </a:pr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855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1425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上弧形箭头 9"/>
          <p:cNvSpPr/>
          <p:nvPr/>
        </p:nvSpPr>
        <p:spPr>
          <a:xfrm>
            <a:off x="3357720" y="2071800"/>
            <a:ext cx="928440" cy="500040"/>
          </a:xfrm>
          <a:custGeom>
            <a:avLst/>
            <a:gdLst>
              <a:gd name="textAreaLeft" fmla="*/ 175680 w 928440"/>
              <a:gd name="textAreaRight" fmla="*/ 728280 w 9284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79" hR="21600" stAng="10800000" swAng="5400000"/>
                <a:lnTo>
                  <a:pt x="12850" y="0"/>
                </a:lnTo>
                <a:arcTo wR="8179" hR="21600" stAng="-5400000" swAng="3342545"/>
                <a:lnTo>
                  <a:pt x="21340" y="16200"/>
                </a:lnTo>
                <a:lnTo>
                  <a:pt x="18693" y="21600"/>
                </a:lnTo>
                <a:lnTo>
                  <a:pt x="15525" y="16200"/>
                </a:lnTo>
                <a:lnTo>
                  <a:pt x="16097" y="16200"/>
                </a:lnTo>
                <a:arcTo wR="8179" hR="21600" stAng="-2057455" swAng="-2956321"/>
                <a:lnTo>
                  <a:pt x="10514" y="899"/>
                </a:lnTo>
                <a:arcTo wR="8179" hR="21600" stAng="-5786224" swAng="-5013776"/>
                <a:close/>
              </a:path>
              <a:path fill="darkenLess" w="21600" h="21600">
                <a:moveTo>
                  <a:pt x="0" y="21600"/>
                </a:moveTo>
                <a:arcTo wR="8179" hR="21600" stAng="10800000" swAng="5400000"/>
                <a:lnTo>
                  <a:pt x="8179" y="0"/>
                </a:lnTo>
                <a:arcTo wR="8179" hR="21600" stAng="-5400000" swAng="386224"/>
                <a:lnTo>
                  <a:pt x="10514" y="899"/>
                </a:lnTo>
                <a:arcTo wR="8179" hR="21600" stAng="-5786224" swAng="-5013776"/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上弧形箭头 10"/>
          <p:cNvSpPr/>
          <p:nvPr/>
        </p:nvSpPr>
        <p:spPr>
          <a:xfrm>
            <a:off x="3429000" y="3000240"/>
            <a:ext cx="928800" cy="500040"/>
          </a:xfrm>
          <a:custGeom>
            <a:avLst/>
            <a:gdLst>
              <a:gd name="textAreaLeft" fmla="*/ 175680 w 928800"/>
              <a:gd name="textAreaRight" fmla="*/ 728640 w 928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79" hR="21600" stAng="10800000" swAng="5400000"/>
                <a:lnTo>
                  <a:pt x="12850" y="0"/>
                </a:lnTo>
                <a:arcTo wR="8179" hR="21600" stAng="-5400000" swAng="3342545"/>
                <a:lnTo>
                  <a:pt x="21340" y="16200"/>
                </a:lnTo>
                <a:lnTo>
                  <a:pt x="18693" y="21600"/>
                </a:lnTo>
                <a:lnTo>
                  <a:pt x="15525" y="16200"/>
                </a:lnTo>
                <a:lnTo>
                  <a:pt x="16097" y="16200"/>
                </a:lnTo>
                <a:arcTo wR="8179" hR="21600" stAng="-2057455" swAng="-2956321"/>
                <a:lnTo>
                  <a:pt x="10514" y="899"/>
                </a:lnTo>
                <a:arcTo wR="8179" hR="21600" stAng="-5786224" swAng="-5013776"/>
                <a:close/>
              </a:path>
              <a:path fill="darkenLess" w="21600" h="21600">
                <a:moveTo>
                  <a:pt x="0" y="21600"/>
                </a:moveTo>
                <a:arcTo wR="8179" hR="21600" stAng="10800000" swAng="5400000"/>
                <a:lnTo>
                  <a:pt x="8179" y="0"/>
                </a:lnTo>
                <a:arcTo wR="8179" hR="21600" stAng="-5400000" swAng="386224"/>
                <a:lnTo>
                  <a:pt x="10514" y="899"/>
                </a:lnTo>
                <a:arcTo wR="8179" hR="21600" stAng="-5786224" swAng="-5013776"/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上弧形箭头 11"/>
          <p:cNvSpPr/>
          <p:nvPr/>
        </p:nvSpPr>
        <p:spPr>
          <a:xfrm>
            <a:off x="3500280" y="3929040"/>
            <a:ext cx="928800" cy="500040"/>
          </a:xfrm>
          <a:custGeom>
            <a:avLst/>
            <a:gdLst>
              <a:gd name="textAreaLeft" fmla="*/ 175680 w 928800"/>
              <a:gd name="textAreaRight" fmla="*/ 728640 w 928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79" hR="21600" stAng="10800000" swAng="5400000"/>
                <a:lnTo>
                  <a:pt x="12850" y="0"/>
                </a:lnTo>
                <a:arcTo wR="8179" hR="21600" stAng="-5400000" swAng="3342545"/>
                <a:lnTo>
                  <a:pt x="21340" y="16200"/>
                </a:lnTo>
                <a:lnTo>
                  <a:pt x="18693" y="21600"/>
                </a:lnTo>
                <a:lnTo>
                  <a:pt x="15525" y="16200"/>
                </a:lnTo>
                <a:lnTo>
                  <a:pt x="16097" y="16200"/>
                </a:lnTo>
                <a:arcTo wR="8179" hR="21600" stAng="-2057455" swAng="-2956321"/>
                <a:lnTo>
                  <a:pt x="10514" y="899"/>
                </a:lnTo>
                <a:arcTo wR="8179" hR="21600" stAng="-5786224" swAng="-5013776"/>
                <a:close/>
              </a:path>
              <a:path fill="darkenLess" w="21600" h="21600">
                <a:moveTo>
                  <a:pt x="0" y="21600"/>
                </a:moveTo>
                <a:arcTo wR="8179" hR="21600" stAng="10800000" swAng="5400000"/>
                <a:lnTo>
                  <a:pt x="8179" y="0"/>
                </a:lnTo>
                <a:arcTo wR="8179" hR="21600" stAng="-5400000" swAng="386224"/>
                <a:lnTo>
                  <a:pt x="10514" y="899"/>
                </a:lnTo>
                <a:arcTo wR="8179" hR="21600" stAng="-5786224" swAng="-5013776"/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78368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856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783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折角形 12"/>
          <p:cNvSpPr/>
          <p:nvPr/>
        </p:nvSpPr>
        <p:spPr>
          <a:xfrm>
            <a:off x="2714760" y="1428840"/>
            <a:ext cx="2143080" cy="1857240"/>
          </a:xfrm>
          <a:prstGeom prst="foldedCorner">
            <a:avLst>
              <a:gd name="adj" fmla="val 50000"/>
            </a:avLst>
          </a:prstGeom>
          <a:solidFill>
            <a:srgbClr val="4f3e98"/>
          </a:solidFill>
          <a:ln w="25560">
            <a:solidFill>
              <a:srgbClr val="4f3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折角形 13"/>
          <p:cNvSpPr/>
          <p:nvPr/>
        </p:nvSpPr>
        <p:spPr>
          <a:xfrm flipV="1">
            <a:off x="2714760" y="3357000"/>
            <a:ext cx="2143080" cy="1857240"/>
          </a:xfrm>
          <a:prstGeom prst="foldedCorner">
            <a:avLst>
              <a:gd name="adj" fmla="val 50000"/>
            </a:avLst>
          </a:prstGeom>
          <a:solidFill>
            <a:srgbClr val="be8ed8"/>
          </a:solidFill>
          <a:ln w="25560">
            <a:solidFill>
              <a:srgbClr val="be8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折角形 14"/>
          <p:cNvSpPr/>
          <p:nvPr/>
        </p:nvSpPr>
        <p:spPr>
          <a:xfrm flipH="1" flipV="1">
            <a:off x="4928400" y="3357000"/>
            <a:ext cx="2143080" cy="1857240"/>
          </a:xfrm>
          <a:prstGeom prst="foldedCorner">
            <a:avLst>
              <a:gd name="adj" fmla="val 50000"/>
            </a:avLst>
          </a:prstGeom>
          <a:solidFill>
            <a:srgbClr val="4f3e98"/>
          </a:solidFill>
          <a:ln w="25560">
            <a:solidFill>
              <a:srgbClr val="4f3e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折角形 15"/>
          <p:cNvSpPr/>
          <p:nvPr/>
        </p:nvSpPr>
        <p:spPr>
          <a:xfrm flipH="1">
            <a:off x="4928400" y="1428840"/>
            <a:ext cx="2143080" cy="1857240"/>
          </a:xfrm>
          <a:prstGeom prst="foldedCorner">
            <a:avLst>
              <a:gd name="adj" fmla="val 50000"/>
            </a:avLst>
          </a:prstGeom>
          <a:solidFill>
            <a:srgbClr val="be8ed8"/>
          </a:solidFill>
          <a:ln w="25560">
            <a:solidFill>
              <a:srgbClr val="be8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5426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569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140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13"/>
          <p:cNvSpPr/>
          <p:nvPr/>
        </p:nvSpPr>
        <p:spPr>
          <a:xfrm>
            <a:off x="785880" y="2357280"/>
            <a:ext cx="2408040" cy="1089360"/>
          </a:xfrm>
          <a:custGeom>
            <a:avLst/>
            <a:gdLst>
              <a:gd name="textAreaLeft" fmla="*/ 802440 w 2408040"/>
              <a:gd name="textAreaRight" fmla="*/ 1605600 w 2408040"/>
              <a:gd name="textAreaTop" fmla="*/ 362880 h 1089360"/>
              <a:gd name="textAreaBottom" fmla="*/ 1089720 h 1089360"/>
            </a:gdLst>
            <a:ahLst/>
            <a:rect l="textAreaLeft" t="textAreaTop" r="textAreaRight" b="textAreaBottom"/>
            <a:pathLst>
              <a:path w="2408237" h="1089025">
                <a:moveTo>
                  <a:pt x="0" y="1089025"/>
                </a:moveTo>
                <a:lnTo>
                  <a:pt x="1203656" y="0"/>
                </a:lnTo>
                <a:lnTo>
                  <a:pt x="1204581" y="0"/>
                </a:lnTo>
                <a:lnTo>
                  <a:pt x="2408237" y="1089025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梯形 14"/>
          <p:cNvSpPr/>
          <p:nvPr/>
        </p:nvSpPr>
        <p:spPr>
          <a:xfrm flipV="1">
            <a:off x="785880" y="3553560"/>
            <a:ext cx="2408040" cy="1089000"/>
          </a:xfrm>
          <a:custGeom>
            <a:avLst/>
            <a:gdLst>
              <a:gd name="textAreaLeft" fmla="*/ 802440 w 2408040"/>
              <a:gd name="textAreaRight" fmla="*/ 1605600 w 2408040"/>
              <a:gd name="textAreaTop" fmla="*/ 362520 h 1089000"/>
              <a:gd name="textAreaBottom" fmla="*/ 1089000 h 1089000"/>
            </a:gdLst>
            <a:ahLst/>
            <a:rect l="textAreaLeft" t="textAreaTop" r="textAreaRight" b="textAreaBottom"/>
            <a:pathLst>
              <a:path w="2408237" h="1089025">
                <a:moveTo>
                  <a:pt x="0" y="1089025"/>
                </a:moveTo>
                <a:lnTo>
                  <a:pt x="1203656" y="0"/>
                </a:lnTo>
                <a:lnTo>
                  <a:pt x="1204581" y="0"/>
                </a:lnTo>
                <a:lnTo>
                  <a:pt x="2408237" y="1089025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梯形 15"/>
          <p:cNvSpPr/>
          <p:nvPr/>
        </p:nvSpPr>
        <p:spPr>
          <a:xfrm>
            <a:off x="6051600" y="2357280"/>
            <a:ext cx="2406600" cy="1089360"/>
          </a:xfrm>
          <a:custGeom>
            <a:avLst/>
            <a:gdLst>
              <a:gd name="textAreaLeft" fmla="*/ 802080 w 2406600"/>
              <a:gd name="textAreaRight" fmla="*/ 1604520 w 2406600"/>
              <a:gd name="textAreaTop" fmla="*/ 362880 h 1089360"/>
              <a:gd name="textAreaBottom" fmla="*/ 1089720 h 1089360"/>
            </a:gdLst>
            <a:ahLst/>
            <a:rect l="textAreaLeft" t="textAreaTop" r="textAreaRight" b="textAreaBottom"/>
            <a:pathLst>
              <a:path w="2406650" h="1089025">
                <a:moveTo>
                  <a:pt x="0" y="1089025"/>
                </a:moveTo>
                <a:lnTo>
                  <a:pt x="1203325" y="0"/>
                </a:lnTo>
                <a:lnTo>
                  <a:pt x="1203325" y="0"/>
                </a:lnTo>
                <a:lnTo>
                  <a:pt x="2406650" y="1089025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梯形 16"/>
          <p:cNvSpPr/>
          <p:nvPr/>
        </p:nvSpPr>
        <p:spPr>
          <a:xfrm flipV="1">
            <a:off x="6051600" y="3553560"/>
            <a:ext cx="2406600" cy="1089000"/>
          </a:xfrm>
          <a:custGeom>
            <a:avLst/>
            <a:gdLst>
              <a:gd name="textAreaLeft" fmla="*/ 802080 w 2406600"/>
              <a:gd name="textAreaRight" fmla="*/ 1604520 w 2406600"/>
              <a:gd name="textAreaTop" fmla="*/ 362520 h 1089000"/>
              <a:gd name="textAreaBottom" fmla="*/ 1089000 h 1089000"/>
            </a:gdLst>
            <a:ahLst/>
            <a:rect l="textAreaLeft" t="textAreaTop" r="textAreaRight" b="textAreaBottom"/>
            <a:pathLst>
              <a:path w="2406650" h="1089025">
                <a:moveTo>
                  <a:pt x="0" y="1089025"/>
                </a:moveTo>
                <a:lnTo>
                  <a:pt x="1203325" y="0"/>
                </a:lnTo>
                <a:lnTo>
                  <a:pt x="1203325" y="0"/>
                </a:lnTo>
                <a:lnTo>
                  <a:pt x="2406650" y="1089025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梯形 17"/>
          <p:cNvSpPr/>
          <p:nvPr/>
        </p:nvSpPr>
        <p:spPr>
          <a:xfrm flipV="1">
            <a:off x="3408480" y="3553560"/>
            <a:ext cx="2406600" cy="1089000"/>
          </a:xfrm>
          <a:custGeom>
            <a:avLst/>
            <a:gdLst>
              <a:gd name="textAreaLeft" fmla="*/ 802080 w 2406600"/>
              <a:gd name="textAreaRight" fmla="*/ 1604520 w 2406600"/>
              <a:gd name="textAreaTop" fmla="*/ 362520 h 1089000"/>
              <a:gd name="textAreaBottom" fmla="*/ 1089000 h 1089000"/>
            </a:gdLst>
            <a:ahLst/>
            <a:rect l="textAreaLeft" t="textAreaTop" r="textAreaRight" b="textAreaBottom"/>
            <a:pathLst>
              <a:path w="2406650" h="1089025">
                <a:moveTo>
                  <a:pt x="0" y="1089025"/>
                </a:moveTo>
                <a:lnTo>
                  <a:pt x="1203325" y="0"/>
                </a:lnTo>
                <a:lnTo>
                  <a:pt x="1203325" y="0"/>
                </a:lnTo>
                <a:lnTo>
                  <a:pt x="2406650" y="1089025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梯形 18"/>
          <p:cNvSpPr/>
          <p:nvPr/>
        </p:nvSpPr>
        <p:spPr>
          <a:xfrm>
            <a:off x="3408480" y="2357280"/>
            <a:ext cx="2406600" cy="1089360"/>
          </a:xfrm>
          <a:custGeom>
            <a:avLst/>
            <a:gdLst>
              <a:gd name="textAreaLeft" fmla="*/ 802080 w 2406600"/>
              <a:gd name="textAreaRight" fmla="*/ 1604520 w 2406600"/>
              <a:gd name="textAreaTop" fmla="*/ 362880 h 1089360"/>
              <a:gd name="textAreaBottom" fmla="*/ 1089720 h 1089360"/>
            </a:gdLst>
            <a:ahLst/>
            <a:rect l="textAreaLeft" t="textAreaTop" r="textAreaRight" b="textAreaBottom"/>
            <a:pathLst>
              <a:path w="2406650" h="1089025">
                <a:moveTo>
                  <a:pt x="0" y="1089025"/>
                </a:moveTo>
                <a:lnTo>
                  <a:pt x="1203325" y="0"/>
                </a:lnTo>
                <a:lnTo>
                  <a:pt x="1203325" y="0"/>
                </a:lnTo>
                <a:lnTo>
                  <a:pt x="2406650" y="1089025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712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1425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角上箭头 13"/>
          <p:cNvSpPr/>
          <p:nvPr/>
        </p:nvSpPr>
        <p:spPr>
          <a:xfrm>
            <a:off x="2533680" y="2571840"/>
            <a:ext cx="2967120" cy="1949400"/>
          </a:xfrm>
          <a:custGeom>
            <a:avLst/>
            <a:gdLst>
              <a:gd name="textAreaLeft" fmla="*/ 0 w 2967120"/>
              <a:gd name="textAreaRight" fmla="*/ 2727360 w 2967120"/>
              <a:gd name="textAreaTop" fmla="*/ 1454400 h 1949400"/>
              <a:gd name="textAreaBottom" fmla="*/ 1949760 h 1949400"/>
            </a:gdLst>
            <a:ahLst/>
            <a:rect l="textAreaLeft" t="textAreaTop" r="textAreaRight" b="textAreaBottom"/>
            <a:pathLst>
              <a:path w="2967038" h="1949450">
                <a:moveTo>
                  <a:pt x="0" y="1454368"/>
                </a:moveTo>
                <a:lnTo>
                  <a:pt x="2232134" y="1454368"/>
                </a:lnTo>
                <a:lnTo>
                  <a:pt x="2232134" y="0"/>
                </a:lnTo>
                <a:lnTo>
                  <a:pt x="1992313" y="0"/>
                </a:lnTo>
                <a:lnTo>
                  <a:pt x="2479676" y="0"/>
                </a:lnTo>
                <a:lnTo>
                  <a:pt x="2967038" y="0"/>
                </a:lnTo>
                <a:lnTo>
                  <a:pt x="2727217" y="0"/>
                </a:lnTo>
                <a:lnTo>
                  <a:pt x="2727217" y="1949450"/>
                </a:lnTo>
                <a:lnTo>
                  <a:pt x="0" y="1949450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角上箭头 14"/>
          <p:cNvSpPr/>
          <p:nvPr/>
        </p:nvSpPr>
        <p:spPr>
          <a:xfrm flipH="1" flipV="1">
            <a:off x="3890880" y="1999440"/>
            <a:ext cx="2967120" cy="1949400"/>
          </a:xfrm>
          <a:custGeom>
            <a:avLst/>
            <a:gdLst>
              <a:gd name="textAreaLeft" fmla="*/ 0 w 2967120"/>
              <a:gd name="textAreaRight" fmla="*/ 2727360 w 2967120"/>
              <a:gd name="textAreaTop" fmla="*/ 1454040 h 1949400"/>
              <a:gd name="textAreaBottom" fmla="*/ 1949400 h 1949400"/>
            </a:gdLst>
            <a:ahLst/>
            <a:rect l="textAreaLeft" t="textAreaTop" r="textAreaRight" b="textAreaBottom"/>
            <a:pathLst>
              <a:path w="2967037" h="1949450">
                <a:moveTo>
                  <a:pt x="0" y="1454368"/>
                </a:moveTo>
                <a:lnTo>
                  <a:pt x="2232133" y="1454368"/>
                </a:lnTo>
                <a:lnTo>
                  <a:pt x="2232133" y="0"/>
                </a:lnTo>
                <a:lnTo>
                  <a:pt x="1992312" y="0"/>
                </a:lnTo>
                <a:lnTo>
                  <a:pt x="2479675" y="0"/>
                </a:lnTo>
                <a:lnTo>
                  <a:pt x="2967037" y="0"/>
                </a:lnTo>
                <a:lnTo>
                  <a:pt x="2727216" y="0"/>
                </a:lnTo>
                <a:lnTo>
                  <a:pt x="2727216" y="1949450"/>
                </a:lnTo>
                <a:lnTo>
                  <a:pt x="0" y="1949450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56408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2854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斜纹 10"/>
          <p:cNvSpPr/>
          <p:nvPr/>
        </p:nvSpPr>
        <p:spPr>
          <a:xfrm>
            <a:off x="4738680" y="3309840"/>
            <a:ext cx="2190600" cy="2190960"/>
          </a:xfrm>
          <a:custGeom>
            <a:avLst/>
            <a:gdLst>
              <a:gd name="textAreaLeft" fmla="*/ 0 w 2190600"/>
              <a:gd name="textAreaRight" fmla="*/ 1399320 w 2190600"/>
              <a:gd name="textAreaTop" fmla="*/ 0 h 2190960"/>
              <a:gd name="textAreaBottom" fmla="*/ 1399320 h 2190960"/>
            </a:gdLst>
            <a:ahLst/>
            <a:rect l="textAreaLeft" t="textAreaTop" r="textAreaRight" b="textAreaBottom"/>
            <a:pathLst>
              <a:path w="2190750" h="2190750">
                <a:moveTo>
                  <a:pt x="0" y="607692"/>
                </a:moveTo>
                <a:lnTo>
                  <a:pt x="607692" y="0"/>
                </a:lnTo>
                <a:lnTo>
                  <a:pt x="2190750" y="0"/>
                </a:lnTo>
                <a:lnTo>
                  <a:pt x="0" y="2190750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1"/>
          <p:cNvSpPr/>
          <p:nvPr/>
        </p:nvSpPr>
        <p:spPr>
          <a:xfrm flipH="1">
            <a:off x="2451960" y="3309840"/>
            <a:ext cx="2190600" cy="2190960"/>
          </a:xfrm>
          <a:custGeom>
            <a:avLst/>
            <a:gdLst>
              <a:gd name="textAreaLeft" fmla="*/ 0 w 2190600"/>
              <a:gd name="textAreaRight" fmla="*/ 1399320 w 2190600"/>
              <a:gd name="textAreaTop" fmla="*/ 0 h 2190960"/>
              <a:gd name="textAreaBottom" fmla="*/ 1399320 h 2190960"/>
            </a:gdLst>
            <a:ahLst/>
            <a:rect l="textAreaLeft" t="textAreaTop" r="textAreaRight" b="textAreaBottom"/>
            <a:pathLst>
              <a:path w="2190750" h="2190750">
                <a:moveTo>
                  <a:pt x="0" y="607692"/>
                </a:moveTo>
                <a:lnTo>
                  <a:pt x="607692" y="0"/>
                </a:lnTo>
                <a:lnTo>
                  <a:pt x="2190750" y="0"/>
                </a:lnTo>
                <a:lnTo>
                  <a:pt x="0" y="2190750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斜纹 12"/>
          <p:cNvSpPr/>
          <p:nvPr/>
        </p:nvSpPr>
        <p:spPr>
          <a:xfrm flipH="1" flipV="1">
            <a:off x="2451960" y="1000080"/>
            <a:ext cx="2190600" cy="2190960"/>
          </a:xfrm>
          <a:custGeom>
            <a:avLst/>
            <a:gdLst>
              <a:gd name="textAreaLeft" fmla="*/ 0 w 2190600"/>
              <a:gd name="textAreaRight" fmla="*/ 1399320 w 2190600"/>
              <a:gd name="textAreaTop" fmla="*/ 360 h 2190960"/>
              <a:gd name="textAreaBottom" fmla="*/ 1399680 h 2190960"/>
            </a:gdLst>
            <a:ahLst/>
            <a:rect l="textAreaLeft" t="textAreaTop" r="textAreaRight" b="textAreaBottom"/>
            <a:pathLst>
              <a:path w="2190750" h="2190750">
                <a:moveTo>
                  <a:pt x="0" y="607692"/>
                </a:moveTo>
                <a:lnTo>
                  <a:pt x="607692" y="0"/>
                </a:lnTo>
                <a:lnTo>
                  <a:pt x="2190750" y="0"/>
                </a:lnTo>
                <a:lnTo>
                  <a:pt x="0" y="2190750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斜纹 13"/>
          <p:cNvSpPr/>
          <p:nvPr/>
        </p:nvSpPr>
        <p:spPr>
          <a:xfrm flipV="1">
            <a:off x="4738680" y="999720"/>
            <a:ext cx="2190600" cy="2190960"/>
          </a:xfrm>
          <a:custGeom>
            <a:avLst/>
            <a:gdLst>
              <a:gd name="textAreaLeft" fmla="*/ 0 w 2190600"/>
              <a:gd name="textAreaRight" fmla="*/ 1399320 w 2190600"/>
              <a:gd name="textAreaTop" fmla="*/ 360 h 2190960"/>
              <a:gd name="textAreaBottom" fmla="*/ 1399680 h 2190960"/>
            </a:gdLst>
            <a:ahLst/>
            <a:rect l="textAreaLeft" t="textAreaTop" r="textAreaRight" b="textAreaBottom"/>
            <a:pathLst>
              <a:path w="2190750" h="2190750">
                <a:moveTo>
                  <a:pt x="0" y="607692"/>
                </a:moveTo>
                <a:lnTo>
                  <a:pt x="607692" y="0"/>
                </a:lnTo>
                <a:lnTo>
                  <a:pt x="2190750" y="0"/>
                </a:lnTo>
                <a:lnTo>
                  <a:pt x="0" y="2190750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783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5426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5497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加号 16"/>
          <p:cNvSpPr/>
          <p:nvPr/>
        </p:nvSpPr>
        <p:spPr>
          <a:xfrm>
            <a:off x="1714680" y="428760"/>
            <a:ext cx="5951520" cy="5951520"/>
          </a:xfrm>
          <a:custGeom>
            <a:avLst/>
            <a:gdLst>
              <a:gd name="textAreaLeft" fmla="*/ 788760 w 5951520"/>
              <a:gd name="textAreaRight" fmla="*/ 5162760 w 5951520"/>
              <a:gd name="textAreaTop" fmla="*/ 1677600 h 5951520"/>
              <a:gd name="textAreaBottom" fmla="*/ 4273920 h 5951520"/>
            </a:gdLst>
            <a:ahLst/>
            <a:rect l="textAreaLeft" t="textAreaTop" r="textAreaRight" b="textAreaBottom"/>
            <a:pathLst>
              <a:path w="5951538" h="5951538">
                <a:moveTo>
                  <a:pt x="788876" y="1677530"/>
                </a:moveTo>
                <a:lnTo>
                  <a:pt x="1677530" y="1677530"/>
                </a:lnTo>
                <a:lnTo>
                  <a:pt x="1677530" y="788876"/>
                </a:lnTo>
                <a:lnTo>
                  <a:pt x="4274008" y="788876"/>
                </a:lnTo>
                <a:lnTo>
                  <a:pt x="4274008" y="1677530"/>
                </a:lnTo>
                <a:lnTo>
                  <a:pt x="5162662" y="1677530"/>
                </a:lnTo>
                <a:lnTo>
                  <a:pt x="5162662" y="4274008"/>
                </a:lnTo>
                <a:lnTo>
                  <a:pt x="4274008" y="4274008"/>
                </a:lnTo>
                <a:lnTo>
                  <a:pt x="4274008" y="5162662"/>
                </a:lnTo>
                <a:lnTo>
                  <a:pt x="1677530" y="5162662"/>
                </a:lnTo>
                <a:lnTo>
                  <a:pt x="1677530" y="4274008"/>
                </a:lnTo>
                <a:lnTo>
                  <a:pt x="788876" y="4274008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2854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5426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4"/>
          <p:cNvSpPr/>
          <p:nvPr/>
        </p:nvSpPr>
        <p:spPr>
          <a:xfrm>
            <a:off x="542664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5"/>
          <p:cNvSpPr/>
          <p:nvPr/>
        </p:nvSpPr>
        <p:spPr>
          <a:xfrm>
            <a:off x="2997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加号 15"/>
          <p:cNvSpPr/>
          <p:nvPr/>
        </p:nvSpPr>
        <p:spPr>
          <a:xfrm>
            <a:off x="1714680" y="428760"/>
            <a:ext cx="5951520" cy="5951520"/>
          </a:xfrm>
          <a:custGeom>
            <a:avLst/>
            <a:gdLst>
              <a:gd name="textAreaLeft" fmla="*/ 788760 w 5951520"/>
              <a:gd name="textAreaRight" fmla="*/ 5162760 w 5951520"/>
              <a:gd name="textAreaTop" fmla="*/ 2880720 h 5951520"/>
              <a:gd name="textAreaBottom" fmla="*/ 3070800 h 5951520"/>
            </a:gdLst>
            <a:ahLst/>
            <a:rect l="textAreaLeft" t="textAreaTop" r="textAreaRight" b="textAreaBottom"/>
            <a:pathLst>
              <a:path w="5951538" h="5951538">
                <a:moveTo>
                  <a:pt x="788876" y="2880723"/>
                </a:moveTo>
                <a:lnTo>
                  <a:pt x="2880723" y="2880723"/>
                </a:lnTo>
                <a:lnTo>
                  <a:pt x="2880723" y="788876"/>
                </a:lnTo>
                <a:lnTo>
                  <a:pt x="3070815" y="788876"/>
                </a:lnTo>
                <a:lnTo>
                  <a:pt x="3070815" y="2880723"/>
                </a:lnTo>
                <a:lnTo>
                  <a:pt x="5162662" y="2880723"/>
                </a:lnTo>
                <a:lnTo>
                  <a:pt x="5162662" y="3070815"/>
                </a:lnTo>
                <a:lnTo>
                  <a:pt x="3070815" y="3070815"/>
                </a:lnTo>
                <a:lnTo>
                  <a:pt x="3070815" y="5162662"/>
                </a:lnTo>
                <a:lnTo>
                  <a:pt x="2880723" y="5162662"/>
                </a:lnTo>
                <a:lnTo>
                  <a:pt x="2880723" y="3070815"/>
                </a:lnTo>
                <a:lnTo>
                  <a:pt x="788876" y="3070815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圆角右箭头 14"/>
          <p:cNvSpPr/>
          <p:nvPr/>
        </p:nvSpPr>
        <p:spPr>
          <a:xfrm>
            <a:off x="2570040" y="1143000"/>
            <a:ext cx="2143080" cy="2287440"/>
          </a:xfrm>
          <a:custGeom>
            <a:avLst/>
            <a:gdLst/>
            <a:ahLst/>
            <a:rect l="l" t="t" r="r" b="b"/>
            <a:pathLst>
              <a:path w="2143125" h="2287588">
                <a:moveTo>
                  <a:pt x="0" y="2287588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8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右箭头 15"/>
          <p:cNvSpPr/>
          <p:nvPr/>
        </p:nvSpPr>
        <p:spPr>
          <a:xfrm rot="5400000">
            <a:off x="4785120" y="1070280"/>
            <a:ext cx="2143080" cy="2287800"/>
          </a:xfrm>
          <a:custGeom>
            <a:avLst/>
            <a:gdLst/>
            <a:ahLst/>
            <a:rect l="l" t="t" r="r" b="b"/>
            <a:pathLst>
              <a:path w="2143125" h="2287587">
                <a:moveTo>
                  <a:pt x="0" y="2287587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7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右箭头 16"/>
          <p:cNvSpPr/>
          <p:nvPr/>
        </p:nvSpPr>
        <p:spPr>
          <a:xfrm rot="10800000">
            <a:off x="4784400" y="3357720"/>
            <a:ext cx="2143080" cy="2287440"/>
          </a:xfrm>
          <a:custGeom>
            <a:avLst/>
            <a:gdLst/>
            <a:ahLst/>
            <a:rect l="l" t="t" r="r" b="b"/>
            <a:pathLst>
              <a:path w="2143125" h="2287587">
                <a:moveTo>
                  <a:pt x="0" y="2287587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7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右箭头 17"/>
          <p:cNvSpPr/>
          <p:nvPr/>
        </p:nvSpPr>
        <p:spPr>
          <a:xfrm rot="16200000">
            <a:off x="2570760" y="3428280"/>
            <a:ext cx="2143440" cy="2287440"/>
          </a:xfrm>
          <a:custGeom>
            <a:avLst/>
            <a:gdLst/>
            <a:ahLst/>
            <a:rect l="l" t="t" r="r" b="b"/>
            <a:pathLst>
              <a:path w="2143125" h="2287588">
                <a:moveTo>
                  <a:pt x="0" y="2287588"/>
                </a:moveTo>
                <a:lnTo>
                  <a:pt x="0" y="215695"/>
                </a:lnTo>
                <a:lnTo>
                  <a:pt x="0" y="215695"/>
                </a:lnTo>
                <a:arcTo wR="119479" hR="119479" stAng="10800000" swAng="5400000"/>
                <a:lnTo>
                  <a:pt x="1495065" y="96216"/>
                </a:lnTo>
                <a:lnTo>
                  <a:pt x="1495065" y="0"/>
                </a:lnTo>
                <a:lnTo>
                  <a:pt x="2143125" y="378540"/>
                </a:lnTo>
                <a:lnTo>
                  <a:pt x="1495065" y="757080"/>
                </a:lnTo>
                <a:lnTo>
                  <a:pt x="1495065" y="660865"/>
                </a:lnTo>
                <a:lnTo>
                  <a:pt x="564649" y="660865"/>
                </a:lnTo>
                <a:lnTo>
                  <a:pt x="564649" y="2287588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31406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5855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278352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5500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 形 11"/>
          <p:cNvSpPr/>
          <p:nvPr/>
        </p:nvSpPr>
        <p:spPr>
          <a:xfrm>
            <a:off x="1071720" y="1500120"/>
            <a:ext cx="3404880" cy="2576520"/>
          </a:xfrm>
          <a:custGeom>
            <a:avLst/>
            <a:gdLst>
              <a:gd name="textAreaLeft" fmla="*/ 0 w 3404880"/>
              <a:gd name="textAreaRight" fmla="*/ 3405240 w 3404880"/>
              <a:gd name="textAreaTop" fmla="*/ 1288440 h 2576520"/>
              <a:gd name="textAreaBottom" fmla="*/ 2576880 h 2576520"/>
            </a:gdLst>
            <a:ahLst/>
            <a:rect l="textAreaLeft" t="textAreaTop" r="textAreaRight" b="textAreaBottom"/>
            <a:pathLst>
              <a:path w="3405187" h="2576512">
                <a:moveTo>
                  <a:pt x="0" y="0"/>
                </a:moveTo>
                <a:lnTo>
                  <a:pt x="2887626" y="0"/>
                </a:lnTo>
                <a:lnTo>
                  <a:pt x="2887626" y="1288256"/>
                </a:lnTo>
                <a:lnTo>
                  <a:pt x="3405187" y="1288256"/>
                </a:lnTo>
                <a:lnTo>
                  <a:pt x="3405187" y="2576512"/>
                </a:lnTo>
                <a:lnTo>
                  <a:pt x="0" y="2576512"/>
                </a:lnTo>
                <a:close/>
              </a:path>
            </a:pathLst>
          </a:custGeom>
          <a:solidFill>
            <a:srgbClr val="be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 形 12"/>
          <p:cNvSpPr/>
          <p:nvPr/>
        </p:nvSpPr>
        <p:spPr>
          <a:xfrm flipH="1" flipV="1">
            <a:off x="4523760" y="2785320"/>
            <a:ext cx="3405240" cy="2576520"/>
          </a:xfrm>
          <a:custGeom>
            <a:avLst/>
            <a:gdLst>
              <a:gd name="textAreaLeft" fmla="*/ -360 w 3405240"/>
              <a:gd name="textAreaRight" fmla="*/ 3405240 w 3405240"/>
              <a:gd name="textAreaTop" fmla="*/ 1288440 h 2576520"/>
              <a:gd name="textAreaBottom" fmla="*/ 2576880 h 2576520"/>
            </a:gdLst>
            <a:ahLst/>
            <a:rect l="textAreaLeft" t="textAreaTop" r="textAreaRight" b="textAreaBottom"/>
            <a:pathLst>
              <a:path w="3405188" h="2576512">
                <a:moveTo>
                  <a:pt x="0" y="0"/>
                </a:moveTo>
                <a:lnTo>
                  <a:pt x="2887626" y="0"/>
                </a:lnTo>
                <a:lnTo>
                  <a:pt x="2887626" y="1288256"/>
                </a:lnTo>
                <a:lnTo>
                  <a:pt x="3405188" y="1288256"/>
                </a:lnTo>
                <a:lnTo>
                  <a:pt x="3405188" y="2576512"/>
                </a:lnTo>
                <a:lnTo>
                  <a:pt x="0" y="2576512"/>
                </a:lnTo>
                <a:close/>
              </a:path>
            </a:pathLst>
          </a:custGeom>
          <a:solidFill>
            <a:srgbClr val="4f3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1405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"/>
          <p:cNvSpPr/>
          <p:nvPr/>
        </p:nvSpPr>
        <p:spPr>
          <a:xfrm>
            <a:off x="57837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8:47:35Z</dcterms:modified>
  <cp:revision>289</cp:revision>
  <dc:subject/>
  <dc:title>幻灯片 1</dc:title>
</cp:coreProperties>
</file>