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8832462801211"/>
          <c:y val="0.0197909185220653"/>
          <c:w val="0.959970153184392"/>
          <c:h val="0.97965046684223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1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2"/>
            <c:invertIfNegative val="0"/>
            <c:spPr>
              <a:gradFill>
                <a:gsLst>
                  <a:gs pos="0">
                    <a:srgbClr val="ffd320"/>
                  </a:gs>
                  <a:gs pos="100000">
                    <a:srgbClr val="ffffcc"/>
                  </a:gs>
                </a:gsLst>
                <a:lin ang="5400000"/>
              </a:gradFill>
              <a:ln w="36000">
                <a:solidFill>
                  <a:srgbClr val="ffd320"/>
                </a:solidFill>
                <a:round/>
              </a:ln>
            </c:spPr>
          </c:dPt>
          <c:dPt>
            <c:idx val="3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4"/>
            <c:invertIfNegative val="0"/>
            <c:spPr>
              <a:gradFill>
                <a:gsLst>
                  <a:gs pos="0">
                    <a:srgbClr val="ff950e"/>
                  </a:gs>
                  <a:gs pos="100000">
                    <a:srgbClr val="ffd320"/>
                  </a:gs>
                </a:gsLst>
                <a:lin ang="5400000"/>
              </a:gradFill>
              <a:ln w="36000">
                <a:solidFill>
                  <a:srgbClr val="ff950e"/>
                </a:solidFill>
                <a:round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93366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397d96"/>
              </a:solidFill>
              <a:ln w="18000">
                <a:noFill/>
              </a:ln>
            </c:spPr>
          </c:dPt>
          <c:dPt>
            <c:idx val="1"/>
            <c:invertIfNegative val="0"/>
            <c:spPr>
              <a:solidFill>
                <a:srgbClr val="397d96"/>
              </a:solidFill>
              <a:ln w="18000">
                <a:noFill/>
              </a:ln>
            </c:spPr>
          </c:dPt>
          <c:dPt>
            <c:idx val="2"/>
            <c:invertIfNegative val="0"/>
            <c:spPr>
              <a:solidFill>
                <a:srgbClr val="397d96"/>
              </a:solidFill>
              <a:ln w="18000">
                <a:noFill/>
              </a:ln>
            </c:spPr>
          </c:dPt>
          <c:dPt>
            <c:idx val="3"/>
            <c:invertIfNegative val="0"/>
            <c:spPr>
              <a:solidFill>
                <a:srgbClr val="397d96"/>
              </a:solidFill>
              <a:ln w="18000">
                <a:noFill/>
              </a:ln>
            </c:spPr>
          </c:dPt>
          <c:dPt>
            <c:idx val="4"/>
            <c:invertIfNegative val="0"/>
            <c:spPr>
              <a:solidFill>
                <a:srgbClr val="735b8a"/>
              </a:solidFill>
              <a:ln w="18000">
                <a:noFill/>
              </a:ln>
            </c:spPr>
          </c:dPt>
          <c:dPt>
            <c:idx val="5"/>
            <c:invertIfNegative val="0"/>
            <c:spPr>
              <a:solidFill>
                <a:srgbClr val="397d96"/>
              </a:solidFill>
              <a:ln w="18000">
                <a:noFill/>
              </a:ln>
            </c:spPr>
          </c:dPt>
          <c:dPt>
            <c:idx val="6"/>
            <c:invertIfNegative val="0"/>
            <c:spPr>
              <a:solidFill>
                <a:srgbClr val="397d96"/>
              </a:solidFill>
              <a:ln w="18000">
                <a:noFill/>
              </a:ln>
            </c:spPr>
          </c:dPt>
          <c:dPt>
            <c:idx val="7"/>
            <c:invertIfNegative val="0"/>
            <c:spPr>
              <a:solidFill>
                <a:srgbClr val="397d96"/>
              </a:solidFill>
              <a:ln w="18000">
                <a:noFill/>
              </a:ln>
            </c:spPr>
          </c:dPt>
          <c:dPt>
            <c:idx val="8"/>
            <c:invertIfNegative val="0"/>
            <c:spPr>
              <a:solidFill>
                <a:srgbClr val="735b8a"/>
              </a:solidFill>
              <a:ln w="1800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7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8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11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4</c:v>
                </c:pt>
                <c:pt idx="3">
                  <c:v>5</c:v>
                </c:pt>
                <c:pt idx="4">
                  <c:v>6</c:v>
                </c:pt>
                <c:pt idx="5">
                  <c:v>7</c:v>
                </c:pt>
                <c:pt idx="6">
                  <c:v>8</c:v>
                </c:pt>
                <c:pt idx="7">
                  <c:v>9</c:v>
                </c:pt>
                <c:pt idx="8">
                  <c:v>10</c:v>
                </c:pt>
              </c:numCache>
            </c:numRef>
          </c:val>
        </c:ser>
        <c:gapWidth val="100"/>
        <c:overlap val="0"/>
        <c:axId val="66630269"/>
        <c:axId val="24103552"/>
      </c:barChart>
      <c:catAx>
        <c:axId val="66630269"/>
        <c:scaling>
          <c:orientation val="minMax"/>
        </c:scaling>
        <c:delete val="0"/>
        <c:axPos val="b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36000">
            <a:solidFill>
              <a:srgbClr val="735b8a"/>
            </a:solidFill>
            <a:round/>
          </a:ln>
        </c:spPr>
        <c:txPr>
          <a:bodyPr/>
          <a:lstStyle/>
          <a:p>
            <a:pPr>
              <a:defRPr b="1" sz="2200" spc="-1" strike="noStrike">
                <a:solidFill>
                  <a:srgbClr val="000000"/>
                </a:solidFill>
                <a:latin typeface="Times New Roman"/>
                <a:ea typeface="宋体"/>
              </a:defRPr>
            </a:pPr>
          </a:p>
        </c:txPr>
        <c:crossAx val="24103552"/>
        <c:crossesAt val="0"/>
        <c:auto val="1"/>
        <c:lblAlgn val="ctr"/>
        <c:lblOffset val="100"/>
        <c:noMultiLvlLbl val="0"/>
      </c:catAx>
      <c:valAx>
        <c:axId val="24103552"/>
        <c:scaling>
          <c:orientation val="minMax"/>
          <c:max val="10"/>
          <c:min val="1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36000">
            <a:solidFill>
              <a:srgbClr val="735b8a"/>
            </a:solidFill>
            <a:round/>
          </a:ln>
        </c:spPr>
        <c:txPr>
          <a:bodyPr/>
          <a:lstStyle/>
          <a:p>
            <a:pPr>
              <a:defRPr b="1" sz="22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66630269"/>
        <c:crosses val="min"/>
        <c:crossBetween val="between"/>
        <c:majorUnit val="1"/>
        <c:minorUnit val="1"/>
      </c:valAx>
      <c:spPr>
        <a:gradFill>
          <a:gsLst>
            <a:gs pos="0">
              <a:srgbClr val="737371">
                <a:alpha val="20000"/>
              </a:srgbClr>
            </a:gs>
            <a:gs pos="100000">
              <a:srgbClr val="d3d3d4">
                <a:alpha val="20000"/>
              </a:srgbClr>
            </a:gs>
          </a:gsLst>
          <a:lin ang="0"/>
        </a:gradFill>
        <a:ln w="0">
          <a:solidFill>
            <a:srgbClr val="000000"/>
          </a:solidFill>
        </a:ln>
      </c:spPr>
    </c:plotArea>
    <c:plotVisOnly val="0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6825396825397"/>
          <c:y val="0.0374458874458875"/>
          <c:w val="0.871666666666667"/>
          <c:h val="0.920634920634921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列 2</c:v>
                </c:pt>
              </c:strCache>
            </c:strRef>
          </c:tx>
          <c:spPr>
            <a:solidFill>
              <a:srgbClr val="735b8a"/>
            </a:solidFill>
            <a:ln w="54000">
              <a:solidFill>
                <a:srgbClr val="735b8a"/>
              </a:solidFill>
              <a:round/>
            </a:ln>
          </c:spPr>
          <c:dPt>
            <c:idx val="1"/>
          </c:dPt>
          <c:dPt>
            <c:idx val="2"/>
          </c:dPt>
          <c:dPt>
            <c:idx val="3"/>
          </c:dPt>
          <c:dPt>
            <c:idx val="4"/>
          </c:dPt>
          <c:dPt>
            <c:idx val="5"/>
          </c:dPt>
          <c:dPt>
            <c:idx val="6"/>
          </c:dPt>
          <c:dPt>
            <c:idx val="7"/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7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8"/>
                <c:pt idx="0">
                  <c:v>14</c:v>
                </c:pt>
                <c:pt idx="1">
                  <c:v>12</c:v>
                </c:pt>
                <c:pt idx="2">
                  <c:v>10</c:v>
                </c:pt>
                <c:pt idx="3">
                  <c:v>8</c:v>
                </c:pt>
                <c:pt idx="4">
                  <c:v>6</c:v>
                </c:pt>
                <c:pt idx="5">
                  <c:v>4</c:v>
                </c:pt>
                <c:pt idx="6">
                  <c:v>2</c:v>
                </c:pt>
                <c:pt idx="7">
                  <c:v>0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8"/>
                <c:pt idx="0">
                  <c:v>14</c:v>
                </c:pt>
                <c:pt idx="1">
                  <c:v>12</c:v>
                </c:pt>
                <c:pt idx="2">
                  <c:v>10</c:v>
                </c:pt>
                <c:pt idx="3">
                  <c:v>8</c:v>
                </c:pt>
                <c:pt idx="4">
                  <c:v>6</c:v>
                </c:pt>
                <c:pt idx="5">
                  <c:v>4</c:v>
                </c:pt>
                <c:pt idx="6">
                  <c:v>2</c:v>
                </c:pt>
                <c:pt idx="7">
                  <c:v>0</c:v>
                </c:pt>
              </c:numCache>
            </c:numRef>
          </c:yVal>
          <c:smooth val="0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列 3</c:v>
                </c:pt>
              </c:strCache>
            </c:strRef>
          </c:tx>
          <c:spPr>
            <a:solidFill>
              <a:srgbClr val="397d96"/>
            </a:solidFill>
            <a:ln w="54000">
              <a:solidFill>
                <a:srgbClr val="397d96"/>
              </a:solidFill>
              <a:round/>
            </a:ln>
          </c:spPr>
          <c:dPt>
            <c:idx val="1"/>
          </c:dPt>
          <c:dPt>
            <c:idx val="2"/>
          </c:dPt>
          <c:dPt>
            <c:idx val="3"/>
          </c:dPt>
          <c:dPt>
            <c:idx val="4"/>
          </c:dPt>
          <c:dPt>
            <c:idx val="5"/>
          </c:dPt>
          <c:dPt>
            <c:idx val="6"/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8"/>
                <c:pt idx="0">
                  <c:v>14</c:v>
                </c:pt>
                <c:pt idx="1">
                  <c:v>12</c:v>
                </c:pt>
                <c:pt idx="2">
                  <c:v>10</c:v>
                </c:pt>
                <c:pt idx="3">
                  <c:v>8</c:v>
                </c:pt>
                <c:pt idx="4">
                  <c:v>6</c:v>
                </c:pt>
                <c:pt idx="5">
                  <c:v>4</c:v>
                </c:pt>
                <c:pt idx="6">
                  <c:v>2</c:v>
                </c:pt>
                <c:pt idx="7">
                  <c:v>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8"/>
                <c:pt idx="0">
                  <c:v>7</c:v>
                </c:pt>
                <c:pt idx="1">
                  <c:v>6</c:v>
                </c:pt>
                <c:pt idx="2">
                  <c:v>5</c:v>
                </c:pt>
                <c:pt idx="3">
                  <c:v>4</c:v>
                </c:pt>
                <c:pt idx="4">
                  <c:v>3</c:v>
                </c:pt>
                <c:pt idx="5">
                  <c:v>2</c:v>
                </c:pt>
                <c:pt idx="6">
                  <c:v>1</c:v>
                </c:pt>
                <c:pt idx="7">
                  <c:v>0</c:v>
                </c:pt>
              </c:numCache>
            </c:numRef>
          </c:yVal>
          <c:smooth val="0"/>
        </c:ser>
        <c:axId val="95551963"/>
        <c:axId val="36933651"/>
      </c:scatterChart>
      <c:valAx>
        <c:axId val="95551963"/>
        <c:scaling>
          <c:orientation val="minMax"/>
          <c:max val="12"/>
          <c:min val="0"/>
        </c:scaling>
        <c:delete val="0"/>
        <c:axPos val="b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1" sz="22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36933651"/>
        <c:crossesAt val="0"/>
        <c:crossBetween val="midCat"/>
        <c:majorUnit val="2"/>
        <c:minorUnit val="1"/>
      </c:valAx>
      <c:valAx>
        <c:axId val="36933651"/>
        <c:scaling>
          <c:orientation val="minMax"/>
          <c:max val="12"/>
          <c:min val="0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1" sz="22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95551963"/>
        <c:crossesAt val="2"/>
        <c:crossBetween val="midCat"/>
        <c:majorUnit val="2"/>
        <c:minorUnit val="1"/>
      </c:valAx>
      <c:spPr>
        <a:noFill/>
        <a:ln w="36000">
          <a:noFill/>
        </a:ln>
      </c:spPr>
    </c:plotArea>
    <c:plotVisOnly val="0"/>
    <c:dispBlanksAs val="span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7CB-B879-4656-9EC8-EEFAE057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F92-E52E-4473-AF2C-12CB03AE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DF0-92C9-4896-9F05-62FB6816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220-ECC8-4458-81DB-78D3C526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705-274F-4F60-87F6-BB2008A5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1F9-FFB3-4E90-8798-DC2BA34F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4F9-2619-4E75-A3B1-D644469F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41D-7975-4976-9C98-C3EB4737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508-5673-47ED-846A-6187E103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E47-1182-4179-9B53-47EBCC2D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365-9A5B-4F67-A223-268C0AA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53F-45CC-4638-BCAF-362B2C4E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fld id="{C5F6D30C-4860-4C8B-97AE-4845CA0DE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725560" y="5446440"/>
            <a:ext cx="5986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西西软件园 </a:t>
            </a:r>
            <a:r>
              <a:rPr b="0" i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cr173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31640" y="4159800"/>
            <a:ext cx="90712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i="1" lang="zh-CN" sz="6600" spc="-1" strike="noStrike">
                <a:solidFill>
                  <a:srgbClr val="ffffff"/>
                </a:solidFill>
                <a:latin typeface="华文琥珀"/>
                <a:ea typeface="华文琥珀"/>
              </a:rPr>
              <a:t>紫色时尚</a:t>
            </a:r>
            <a:r>
              <a:rPr b="0" i="1" lang="en-US" sz="6600" spc="-1" strike="noStrike">
                <a:solidFill>
                  <a:srgbClr val="ffffff"/>
                </a:solidFill>
                <a:latin typeface="华文琥珀"/>
                <a:ea typeface="华文琥珀"/>
              </a:rPr>
              <a:t>PPT</a:t>
            </a:r>
            <a:r>
              <a:rPr b="0" i="1" lang="zh-CN" sz="6600" spc="-1" strike="noStrike">
                <a:solidFill>
                  <a:srgbClr val="ffffff"/>
                </a:solidFill>
                <a:latin typeface="华文琥珀"/>
                <a:ea typeface="华文琥珀"/>
              </a:rPr>
              <a:t>模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1"/>
          <p:cNvSpPr/>
          <p:nvPr/>
        </p:nvSpPr>
        <p:spPr>
          <a:xfrm>
            <a:off x="4338720" y="3719520"/>
            <a:ext cx="1569960" cy="1569960"/>
          </a:xfrm>
          <a:prstGeom prst="ellipse">
            <a:avLst/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"/>
          <p:cNvSpPr/>
          <p:nvPr/>
        </p:nvSpPr>
        <p:spPr>
          <a:xfrm>
            <a:off x="4568760" y="2212920"/>
            <a:ext cx="1136880" cy="1136880"/>
          </a:xfrm>
          <a:prstGeom prst="ellipse">
            <a:avLst/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"/>
          <p:cNvSpPr/>
          <p:nvPr/>
        </p:nvSpPr>
        <p:spPr>
          <a:xfrm>
            <a:off x="6283440" y="5013360"/>
            <a:ext cx="1136520" cy="1136520"/>
          </a:xfrm>
          <a:prstGeom prst="ellipse">
            <a:avLst/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2747880" y="5013360"/>
            <a:ext cx="1136880" cy="1136520"/>
          </a:xfrm>
          <a:prstGeom prst="ellipse">
            <a:avLst/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5"/>
          <p:cNvCxnSpPr>
            <a:stCxn id="125" idx="0"/>
            <a:endCxn id="123" idx="3"/>
          </p:cNvCxnSpPr>
          <p:nvPr/>
        </p:nvCxnSpPr>
        <p:spPr>
          <a:xfrm flipV="1">
            <a:off x="3316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6"/>
          <p:cNvCxnSpPr>
            <a:stCxn id="123" idx="5"/>
            <a:endCxn id="124" idx="0"/>
          </p:cNvCxnSpPr>
          <p:nvPr/>
        </p:nvCxnSpPr>
        <p:spPr>
          <a:xfrm>
            <a:off x="5536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7"/>
          <p:cNvCxnSpPr/>
          <p:nvPr/>
        </p:nvCxnSpPr>
        <p:spPr>
          <a:xfrm flipH="1">
            <a:off x="3870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AutoShape 8"/>
          <p:cNvSpPr/>
          <p:nvPr/>
        </p:nvSpPr>
        <p:spPr>
          <a:xfrm>
            <a:off x="2359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9"/>
          <p:cNvSpPr/>
          <p:nvPr/>
        </p:nvSpPr>
        <p:spPr>
          <a:xfrm>
            <a:off x="2335320" y="2278080"/>
            <a:ext cx="2620800" cy="163440"/>
          </a:xfrm>
          <a:custGeom>
            <a:avLst/>
            <a:gdLst>
              <a:gd name="textAreaLeft" fmla="*/ 0 w 2620800"/>
              <a:gd name="textAreaRight" fmla="*/ 2621160 w 26208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7282" h="453">
                <a:moveTo>
                  <a:pt x="7281" y="452"/>
                </a:moveTo>
                <a:lnTo>
                  <a:pt x="6735" y="1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7567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587520" y="49896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609480" y="5761080"/>
            <a:ext cx="24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3"/>
          <p:cNvSpPr/>
          <p:nvPr/>
        </p:nvSpPr>
        <p:spPr>
          <a:xfrm>
            <a:off x="6997680" y="4989600"/>
            <a:ext cx="2492280" cy="23796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1"/>
          <p:cNvSpPr/>
          <p:nvPr/>
        </p:nvSpPr>
        <p:spPr>
          <a:xfrm>
            <a:off x="1306440" y="3979800"/>
            <a:ext cx="2113200" cy="932040"/>
          </a:xfrm>
          <a:prstGeom prst="roundRect">
            <a:avLst>
              <a:gd name="adj" fmla="val 11741"/>
            </a:avLst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系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3817800" y="4873680"/>
            <a:ext cx="2129040" cy="96984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6540480" y="2549520"/>
            <a:ext cx="2079720" cy="958680"/>
          </a:xfrm>
          <a:prstGeom prst="roundRect">
            <a:avLst>
              <a:gd name="adj" fmla="val 8153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4"/>
          <p:cNvCxnSpPr>
            <a:stCxn id="136" idx="3"/>
            <a:endCxn id="140" idx="1"/>
          </p:cNvCxnSpPr>
          <p:nvPr/>
        </p:nvCxnSpPr>
        <p:spPr>
          <a:xfrm flipV="1">
            <a:off x="3419640" y="3630240"/>
            <a:ext cx="39888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5"/>
          <p:cNvCxnSpPr>
            <a:stCxn id="136" idx="3"/>
            <a:endCxn id="137" idx="1"/>
          </p:cNvCxnSpPr>
          <p:nvPr/>
        </p:nvCxnSpPr>
        <p:spPr>
          <a:xfrm>
            <a:off x="3419640" y="4444920"/>
            <a:ext cx="3988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AutoShape 6"/>
          <p:cNvSpPr/>
          <p:nvPr/>
        </p:nvSpPr>
        <p:spPr>
          <a:xfrm>
            <a:off x="6540480" y="3736800"/>
            <a:ext cx="2079720" cy="959040"/>
          </a:xfrm>
          <a:prstGeom prst="roundRect">
            <a:avLst>
              <a:gd name="adj" fmla="val 8153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540480" y="4870440"/>
            <a:ext cx="2079720" cy="977760"/>
          </a:xfrm>
          <a:prstGeom prst="roundRect">
            <a:avLst>
              <a:gd name="adj" fmla="val 8153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AutoShape 8"/>
          <p:cNvCxnSpPr>
            <a:stCxn id="137" idx="3"/>
            <a:endCxn id="143" idx="1"/>
          </p:cNvCxnSpPr>
          <p:nvPr/>
        </p:nvCxnSpPr>
        <p:spPr>
          <a:xfrm flipV="1">
            <a:off x="5946480" y="5357520"/>
            <a:ext cx="594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9"/>
          <p:cNvCxnSpPr>
            <a:stCxn id="140" idx="3"/>
            <a:endCxn id="142" idx="1"/>
          </p:cNvCxnSpPr>
          <p:nvPr/>
        </p:nvCxnSpPr>
        <p:spPr>
          <a:xfrm>
            <a:off x="5946480" y="3630240"/>
            <a:ext cx="59436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" name="AutoShape 10"/>
          <p:cNvSpPr/>
          <p:nvPr/>
        </p:nvSpPr>
        <p:spPr>
          <a:xfrm>
            <a:off x="3817800" y="3146400"/>
            <a:ext cx="2129040" cy="96984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11"/>
          <p:cNvCxnSpPr>
            <a:stCxn id="138" idx="1"/>
            <a:endCxn id="140" idx="3"/>
          </p:cNvCxnSpPr>
          <p:nvPr/>
        </p:nvCxnSpPr>
        <p:spPr>
          <a:xfrm flipH="1">
            <a:off x="5946120" y="3028680"/>
            <a:ext cx="594360" cy="60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Text Box 12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1"/>
          <p:cNvSpPr/>
          <p:nvPr/>
        </p:nvSpPr>
        <p:spPr>
          <a:xfrm>
            <a:off x="1882800" y="2454120"/>
            <a:ext cx="2112840" cy="932040"/>
          </a:xfrm>
          <a:prstGeom prst="roundRect">
            <a:avLst>
              <a:gd name="adj" fmla="val 11741"/>
            </a:avLst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2401920" y="3773520"/>
            <a:ext cx="2079720" cy="958680"/>
          </a:xfrm>
          <a:prstGeom prst="roundRect">
            <a:avLst>
              <a:gd name="adj" fmla="val 8153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2436840" y="5032440"/>
            <a:ext cx="2079720" cy="958680"/>
          </a:xfrm>
          <a:prstGeom prst="roundRect">
            <a:avLst>
              <a:gd name="adj" fmla="val 8153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5726160" y="2454120"/>
            <a:ext cx="2128680" cy="959040"/>
          </a:xfrm>
          <a:prstGeom prst="roundRect">
            <a:avLst>
              <a:gd name="adj" fmla="val 11741"/>
            </a:avLst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6289560" y="3773520"/>
            <a:ext cx="2079720" cy="958680"/>
          </a:xfrm>
          <a:prstGeom prst="roundRect">
            <a:avLst>
              <a:gd name="adj" fmla="val 8153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6289560" y="5032440"/>
            <a:ext cx="2079720" cy="958680"/>
          </a:xfrm>
          <a:prstGeom prst="roundRect">
            <a:avLst>
              <a:gd name="adj" fmla="val 8153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7"/>
          <p:cNvCxnSpPr>
            <a:stCxn id="148" idx="1"/>
            <a:endCxn id="149" idx="1"/>
          </p:cNvCxnSpPr>
          <p:nvPr/>
        </p:nvCxnSpPr>
        <p:spPr>
          <a:xfrm>
            <a:off x="1882800" y="2919240"/>
            <a:ext cx="519840" cy="13327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" name="AutoShape 8"/>
          <p:cNvCxnSpPr>
            <a:stCxn id="148" idx="1"/>
            <a:endCxn id="150" idx="1"/>
          </p:cNvCxnSpPr>
          <p:nvPr/>
        </p:nvCxnSpPr>
        <p:spPr>
          <a:xfrm>
            <a:off x="1882440" y="2919240"/>
            <a:ext cx="554760" cy="2593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AutoShape 9"/>
          <p:cNvCxnSpPr>
            <a:stCxn id="151" idx="1"/>
            <a:endCxn id="151" idx="1"/>
          </p:cNvCxnSpPr>
          <p:nvPr/>
        </p:nvCxnSpPr>
        <p:spPr>
          <a:xfrm>
            <a:off x="5726160" y="2933280"/>
            <a:ext cx="2160" cy="25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0"/>
          <p:cNvCxnSpPr/>
          <p:nvPr/>
        </p:nvCxnSpPr>
        <p:spPr>
          <a:xfrm>
            <a:off x="5725800" y="2933280"/>
            <a:ext cx="564120" cy="132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11"/>
          <p:cNvCxnSpPr/>
          <p:nvPr/>
        </p:nvCxnSpPr>
        <p:spPr>
          <a:xfrm>
            <a:off x="5725800" y="2933640"/>
            <a:ext cx="564120" cy="2580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Text Box 12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1"/>
          <p:cNvSpPr/>
          <p:nvPr/>
        </p:nvSpPr>
        <p:spPr>
          <a:xfrm>
            <a:off x="4011480" y="2236680"/>
            <a:ext cx="2113200" cy="932040"/>
          </a:xfrm>
          <a:prstGeom prst="roundRect">
            <a:avLst>
              <a:gd name="adj" fmla="val 11741"/>
            </a:avLst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总经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306520" y="3570120"/>
            <a:ext cx="2129040" cy="95904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助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6613560" y="5105520"/>
            <a:ext cx="2079720" cy="958680"/>
          </a:xfrm>
          <a:prstGeom prst="roundRect">
            <a:avLst>
              <a:gd name="adj" fmla="val 16704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经理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021200" y="5105520"/>
            <a:ext cx="2079720" cy="958680"/>
          </a:xfrm>
          <a:prstGeom prst="roundRect">
            <a:avLst>
              <a:gd name="adj" fmla="val 16704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经理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393920" y="5105520"/>
            <a:ext cx="2079360" cy="958680"/>
          </a:xfrm>
          <a:prstGeom prst="roundRect">
            <a:avLst>
              <a:gd name="adj" fmla="val 16704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经理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6"/>
          <p:cNvCxnSpPr>
            <a:stCxn id="161" idx="3"/>
            <a:endCxn id="160" idx="2"/>
          </p:cNvCxnSpPr>
          <p:nvPr/>
        </p:nvCxnSpPr>
        <p:spPr>
          <a:xfrm flipV="1">
            <a:off x="4435200" y="3168000"/>
            <a:ext cx="633960" cy="88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AutoShape 7"/>
          <p:cNvCxnSpPr>
            <a:stCxn id="160" idx="2"/>
            <a:endCxn id="164" idx="0"/>
          </p:cNvCxnSpPr>
          <p:nvPr/>
        </p:nvCxnSpPr>
        <p:spPr>
          <a:xfrm flipV="1" rot="10800000">
            <a:off x="2432880" y="3168360"/>
            <a:ext cx="2635920" cy="193752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0" idx="2"/>
            <a:endCxn id="162" idx="0"/>
          </p:cNvCxnSpPr>
          <p:nvPr/>
        </p:nvCxnSpPr>
        <p:spPr>
          <a:xfrm>
            <a:off x="5067000" y="3168720"/>
            <a:ext cx="2586600" cy="193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AutoShape 9"/>
          <p:cNvCxnSpPr>
            <a:stCxn id="160" idx="2"/>
            <a:endCxn id="163" idx="0"/>
          </p:cNvCxnSpPr>
          <p:nvPr/>
        </p:nvCxnSpPr>
        <p:spPr>
          <a:xfrm flipV="1" rot="10800000">
            <a:off x="5060160" y="3168360"/>
            <a:ext cx="7200" cy="1937520"/>
          </a:xfrm>
          <a:prstGeom prst="bentConnector3">
            <a:avLst>
              <a:gd name="adj1" fmla="val 4736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9" name="Text Box 10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1"/>
          <p:cNvSpPr/>
          <p:nvPr/>
        </p:nvSpPr>
        <p:spPr>
          <a:xfrm>
            <a:off x="1444680" y="2503440"/>
            <a:ext cx="7169040" cy="1019160"/>
          </a:xfrm>
          <a:prstGeom prst="roundRect">
            <a:avLst>
              <a:gd name="adj" fmla="val 11741"/>
            </a:avLst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系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6408720" y="3648240"/>
            <a:ext cx="2205000" cy="104616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1425600" y="3648240"/>
            <a:ext cx="4746600" cy="104760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409760" y="4838760"/>
            <a:ext cx="2270160" cy="1046160"/>
          </a:xfrm>
          <a:prstGeom prst="roundRect">
            <a:avLst>
              <a:gd name="adj" fmla="val 11741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889440" y="4838760"/>
            <a:ext cx="2279520" cy="1046160"/>
          </a:xfrm>
          <a:prstGeom prst="roundRect">
            <a:avLst>
              <a:gd name="adj" fmla="val 11741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6408720" y="4838760"/>
            <a:ext cx="2216160" cy="1046160"/>
          </a:xfrm>
          <a:prstGeom prst="roundRect">
            <a:avLst>
              <a:gd name="adj" fmla="val 11741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1"/>
          <p:cNvSpPr/>
          <p:nvPr/>
        </p:nvSpPr>
        <p:spPr>
          <a:xfrm>
            <a:off x="3781440" y="3821040"/>
            <a:ext cx="987480" cy="987480"/>
          </a:xfrm>
          <a:prstGeom prst="ellipse">
            <a:avLst/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"/>
          <p:cNvSpPr/>
          <p:nvPr/>
        </p:nvSpPr>
        <p:spPr>
          <a:xfrm>
            <a:off x="2382840" y="5189400"/>
            <a:ext cx="987480" cy="987480"/>
          </a:xfrm>
          <a:prstGeom prst="ellipse">
            <a:avLst/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982800" y="3821040"/>
            <a:ext cx="987120" cy="987480"/>
          </a:xfrm>
          <a:prstGeom prst="ellipse">
            <a:avLst/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2382840" y="2460600"/>
            <a:ext cx="987480" cy="987480"/>
          </a:xfrm>
          <a:prstGeom prst="ellipse">
            <a:avLst/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2382840" y="3821040"/>
            <a:ext cx="987480" cy="987480"/>
          </a:xfrm>
          <a:prstGeom prst="ellipse">
            <a:avLst/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6"/>
          <p:cNvCxnSpPr>
            <a:stCxn id="181" idx="6"/>
            <a:endCxn id="177" idx="2"/>
          </p:cNvCxnSpPr>
          <p:nvPr/>
        </p:nvCxnSpPr>
        <p:spPr>
          <a:xfrm>
            <a:off x="3370320" y="4314960"/>
            <a:ext cx="41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AutoShape 7"/>
          <p:cNvCxnSpPr>
            <a:stCxn id="181" idx="2"/>
            <a:endCxn id="179" idx="6"/>
          </p:cNvCxnSpPr>
          <p:nvPr/>
        </p:nvCxnSpPr>
        <p:spPr>
          <a:xfrm flipH="1">
            <a:off x="1969200" y="4314960"/>
            <a:ext cx="412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AutoShape 8"/>
          <p:cNvCxnSpPr>
            <a:stCxn id="181" idx="4"/>
            <a:endCxn id="178" idx="0"/>
          </p:cNvCxnSpPr>
          <p:nvPr/>
        </p:nvCxnSpPr>
        <p:spPr>
          <a:xfrm>
            <a:off x="2876040" y="480852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AutoShape 9"/>
          <p:cNvCxnSpPr>
            <a:stCxn id="180" idx="4"/>
            <a:endCxn id="181" idx="0"/>
          </p:cNvCxnSpPr>
          <p:nvPr/>
        </p:nvCxnSpPr>
        <p:spPr>
          <a:xfrm flipV="1" rot="10800000">
            <a:off x="2875680" y="3447720"/>
            <a:ext cx="2520" cy="373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6" name="Oval 10"/>
          <p:cNvSpPr/>
          <p:nvPr/>
        </p:nvSpPr>
        <p:spPr>
          <a:xfrm>
            <a:off x="8107200" y="3821040"/>
            <a:ext cx="987480" cy="987480"/>
          </a:xfrm>
          <a:prstGeom prst="ellipse">
            <a:avLst/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6738840" y="5189400"/>
            <a:ext cx="987480" cy="987480"/>
          </a:xfrm>
          <a:prstGeom prst="ellipse">
            <a:avLst/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5308560" y="3821040"/>
            <a:ext cx="987480" cy="987480"/>
          </a:xfrm>
          <a:prstGeom prst="ellipse">
            <a:avLst/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6738840" y="2452680"/>
            <a:ext cx="987480" cy="987480"/>
          </a:xfrm>
          <a:prstGeom prst="ellipse">
            <a:avLst/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6738840" y="3821040"/>
            <a:ext cx="987480" cy="987480"/>
          </a:xfrm>
          <a:prstGeom prst="ellipse">
            <a:avLst/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15"/>
          <p:cNvCxnSpPr>
            <a:stCxn id="190" idx="0"/>
            <a:endCxn id="189" idx="4"/>
          </p:cNvCxnSpPr>
          <p:nvPr/>
        </p:nvCxnSpPr>
        <p:spPr>
          <a:xfrm flipV="1">
            <a:off x="7232760" y="343980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16"/>
          <p:cNvCxnSpPr>
            <a:stCxn id="190" idx="6"/>
            <a:endCxn id="186" idx="2"/>
          </p:cNvCxnSpPr>
          <p:nvPr/>
        </p:nvCxnSpPr>
        <p:spPr>
          <a:xfrm>
            <a:off x="7726320" y="431496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17"/>
          <p:cNvCxnSpPr>
            <a:stCxn id="190" idx="4"/>
            <a:endCxn id="187" idx="0"/>
          </p:cNvCxnSpPr>
          <p:nvPr/>
        </p:nvCxnSpPr>
        <p:spPr>
          <a:xfrm>
            <a:off x="7232760" y="480852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AutoShape 18"/>
          <p:cNvCxnSpPr>
            <a:stCxn id="190" idx="2"/>
            <a:endCxn id="188" idx="6"/>
          </p:cNvCxnSpPr>
          <p:nvPr/>
        </p:nvCxnSpPr>
        <p:spPr>
          <a:xfrm flipH="1">
            <a:off x="6295680" y="4314960"/>
            <a:ext cx="442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Text Box 19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1"/>
          <p:cNvSpPr/>
          <p:nvPr/>
        </p:nvSpPr>
        <p:spPr>
          <a:xfrm>
            <a:off x="1177920" y="3610080"/>
            <a:ext cx="1685880" cy="1685880"/>
          </a:xfrm>
          <a:prstGeom prst="ellipse">
            <a:avLst/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827520" y="3873600"/>
            <a:ext cx="1168200" cy="1168200"/>
          </a:xfrm>
          <a:prstGeom prst="ellipse">
            <a:avLst/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"/>
          <p:cNvSpPr/>
          <p:nvPr/>
        </p:nvSpPr>
        <p:spPr>
          <a:xfrm>
            <a:off x="3575160" y="5405400"/>
            <a:ext cx="1168200" cy="1168560"/>
          </a:xfrm>
          <a:prstGeom prst="ellipse">
            <a:avLst/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3575160" y="2309760"/>
            <a:ext cx="1168200" cy="1168560"/>
          </a:xfrm>
          <a:prstGeom prst="ellipse">
            <a:avLst/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5180040" y="230976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-18000" bIns="-18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6"/>
          <p:cNvCxnSpPr>
            <a:stCxn id="196" idx="7"/>
            <a:endCxn id="199" idx="2"/>
          </p:cNvCxnSpPr>
          <p:nvPr/>
        </p:nvCxnSpPr>
        <p:spPr>
          <a:xfrm flipV="1">
            <a:off x="2616120" y="2892240"/>
            <a:ext cx="95976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7"/>
          <p:cNvCxnSpPr>
            <a:stCxn id="196" idx="5"/>
            <a:endCxn id="198" idx="2"/>
          </p:cNvCxnSpPr>
          <p:nvPr/>
        </p:nvCxnSpPr>
        <p:spPr>
          <a:xfrm>
            <a:off x="2616120" y="5046840"/>
            <a:ext cx="959760" cy="9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AutoShape 8"/>
          <p:cNvSpPr/>
          <p:nvPr/>
        </p:nvSpPr>
        <p:spPr>
          <a:xfrm>
            <a:off x="5180040" y="387360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-18000" bIns="-18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180040" y="540540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-18000" bIns="-18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10"/>
          <p:cNvCxnSpPr>
            <a:stCxn id="196" idx="6"/>
            <a:endCxn id="197" idx="2"/>
          </p:cNvCxnSpPr>
          <p:nvPr/>
        </p:nvCxnSpPr>
        <p:spPr>
          <a:xfrm>
            <a:off x="2863440" y="4451400"/>
            <a:ext cx="964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Text Box 11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1"/>
          <p:cNvSpPr/>
          <p:nvPr/>
        </p:nvSpPr>
        <p:spPr>
          <a:xfrm>
            <a:off x="2457360" y="21906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233360" y="287496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1233360" y="42782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681360" y="29098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457360" y="35942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2457360" y="499896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679920" y="429732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noFill/>
          <a:ln w="9360">
            <a:solidFill>
              <a:srgbClr val="397d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6245280" y="384660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AutoShape 9"/>
          <p:cNvCxnSpPr>
            <a:stCxn id="213" idx="1"/>
            <a:endCxn id="214" idx="2"/>
          </p:cNvCxnSpPr>
          <p:nvPr/>
        </p:nvCxnSpPr>
        <p:spPr>
          <a:xfrm>
            <a:off x="4427280" y="4948200"/>
            <a:ext cx="18198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Text Box 10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7353360" y="44928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"/>
          <p:cNvSpPr/>
          <p:nvPr/>
        </p:nvSpPr>
        <p:spPr>
          <a:xfrm>
            <a:off x="3882960" y="4030560"/>
            <a:ext cx="2400480" cy="2401920"/>
          </a:xfrm>
          <a:prstGeom prst="ellipse">
            <a:avLst/>
          </a:prstGeom>
          <a:solidFill>
            <a:srgbClr val="735b8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4856040" y="2556000"/>
            <a:ext cx="2401920" cy="2401920"/>
          </a:xfrm>
          <a:prstGeom prst="ellipse">
            <a:avLst/>
          </a:prstGeom>
          <a:solidFill>
            <a:srgbClr val="1b012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4"/>
          <p:cNvSpPr/>
          <p:nvPr/>
        </p:nvSpPr>
        <p:spPr>
          <a:xfrm>
            <a:off x="5738760" y="4541760"/>
            <a:ext cx="3618000" cy="733680"/>
          </a:xfrm>
          <a:custGeom>
            <a:avLst/>
            <a:gdLst>
              <a:gd name="textAreaLeft" fmla="*/ 0 w 3618000"/>
              <a:gd name="textAreaRight" fmla="*/ 3618360 w 3618000"/>
              <a:gd name="textAreaTop" fmla="*/ 0 h 733680"/>
              <a:gd name="textAreaBottom" fmla="*/ 734040 h 733680"/>
            </a:gdLst>
            <a:ahLst/>
            <a:rect l="textAreaLeft" t="textAreaTop" r="textAreaRight" b="textAreaBottom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901800" y="243036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865080" y="471636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"/>
          <p:cNvSpPr/>
          <p:nvPr/>
        </p:nvSpPr>
        <p:spPr>
          <a:xfrm>
            <a:off x="2968560" y="2556000"/>
            <a:ext cx="2401920" cy="2401920"/>
          </a:xfrm>
          <a:prstGeom prst="ellipse">
            <a:avLst/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871560" y="466416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"/>
          <p:cNvSpPr/>
          <p:nvPr/>
        </p:nvSpPr>
        <p:spPr>
          <a:xfrm>
            <a:off x="905040" y="2374920"/>
            <a:ext cx="4174920" cy="1166760"/>
          </a:xfrm>
          <a:custGeom>
            <a:avLst/>
            <a:gdLst>
              <a:gd name="textAreaLeft" fmla="*/ 0 w 4174920"/>
              <a:gd name="textAreaRight" fmla="*/ 4175280 w 4174920"/>
              <a:gd name="textAreaTop" fmla="*/ 0 h 1166760"/>
              <a:gd name="textAreaBottom" fmla="*/ 1166760 h 1166760"/>
            </a:gdLst>
            <a:ahLst/>
            <a:rect l="textAreaLeft" t="textAreaTop" r="textAreaRight" b="textAreaBottom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4270320" y="2147760"/>
            <a:ext cx="4683240" cy="1111320"/>
          </a:xfrm>
          <a:prstGeom prst="pie">
            <a:avLst/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 flipV="1">
            <a:off x="1066680" y="5338080"/>
            <a:ext cx="4683240" cy="111132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1320"/>
              <a:gd name="textAreaBottom" fmla="*/ 94356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4935600" y="3359160"/>
            <a:ext cx="3370320" cy="1079640"/>
          </a:xfrm>
          <a:prstGeom prst="pie">
            <a:avLst/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 flipV="1">
            <a:off x="1731960" y="4172760"/>
            <a:ext cx="3370320" cy="107964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640"/>
              <a:gd name="textAreaBottom" fmla="*/ 894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693880" y="4516560"/>
            <a:ext cx="147348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 flipV="1">
            <a:off x="5564160" y="4524480"/>
            <a:ext cx="2129040" cy="1928880"/>
          </a:xfrm>
          <a:prstGeom prst="triangle">
            <a:avLst>
              <a:gd name="adj" fmla="val 50023"/>
            </a:avLst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2360520" y="2184480"/>
            <a:ext cx="2129040" cy="1928880"/>
          </a:xfrm>
          <a:prstGeom prst="triangle">
            <a:avLst>
              <a:gd name="adj" fmla="val 50023"/>
            </a:avLst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695680" y="5697360"/>
            <a:ext cx="147312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925960" y="4875120"/>
            <a:ext cx="147348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724120" y="3457440"/>
            <a:ext cx="136836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2360520" y="231444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2360520" y="364968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263600" y="364968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1263600" y="499572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Object 1"/>
          <p:cNvGraphicFramePr/>
          <p:nvPr/>
        </p:nvGraphicFramePr>
        <p:xfrm>
          <a:off x="600120" y="2270160"/>
          <a:ext cx="8201160" cy="4510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39" name="Text Box 2"/>
          <p:cNvSpPr/>
          <p:nvPr/>
        </p:nvSpPr>
        <p:spPr>
          <a:xfrm>
            <a:off x="5922000" y="1825560"/>
            <a:ext cx="13543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请在此添加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 rot="16140000">
            <a:off x="8439120" y="3875040"/>
            <a:ext cx="13543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请在此添加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AutoShape 4"/>
          <p:cNvCxnSpPr>
            <a:endCxn id="240" idx="0"/>
          </p:cNvCxnSpPr>
          <p:nvPr/>
        </p:nvCxnSpPr>
        <p:spPr>
          <a:xfrm flipV="1">
            <a:off x="8629200" y="4080960"/>
            <a:ext cx="283320" cy="116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42" name="AutoShape 5"/>
          <p:cNvCxnSpPr>
            <a:endCxn id="239" idx="1"/>
          </p:cNvCxnSpPr>
          <p:nvPr/>
        </p:nvCxnSpPr>
        <p:spPr>
          <a:xfrm flipV="1">
            <a:off x="5024160" y="2030040"/>
            <a:ext cx="5400" cy="2248560"/>
          </a:xfrm>
          <a:prstGeom prst="straightConnector1">
            <a:avLst/>
          </a:prstGeom>
          <a:ln w="43200">
            <a:solidFill>
              <a:srgbClr val="735b8a"/>
            </a:solidFill>
            <a:miter/>
            <a:tailEnd len="med" type="triangle" w="med"/>
          </a:ln>
        </p:spPr>
      </p:cxnSp>
      <p:sp>
        <p:nvSpPr>
          <p:cNvPr id="243" name="Text Box 6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325440" y="2490840"/>
            <a:ext cx="5635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299880" y="3227400"/>
            <a:ext cx="5083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99880" y="4038480"/>
            <a:ext cx="5067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297000" y="4844880"/>
            <a:ext cx="539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623880" y="2835360"/>
            <a:ext cx="549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611280" y="3587760"/>
            <a:ext cx="4957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639720" y="4386240"/>
            <a:ext cx="463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608040" y="5195880"/>
            <a:ext cx="4333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0"/>
          <p:cNvGrpSpPr/>
          <p:nvPr/>
        </p:nvGrpSpPr>
        <p:grpSpPr>
          <a:xfrm>
            <a:off x="7812000" y="1823040"/>
            <a:ext cx="2046960" cy="2448720"/>
            <a:chOff x="7812000" y="1823040"/>
            <a:chExt cx="2046960" cy="2448720"/>
          </a:xfrm>
        </p:grpSpPr>
        <p:sp>
          <p:nvSpPr>
            <p:cNvPr id="253" name="Line 10"/>
            <p:cNvSpPr/>
            <p:nvPr/>
          </p:nvSpPr>
          <p:spPr>
            <a:xfrm flipH="1" flipV="1">
              <a:off x="7812000" y="1904400"/>
              <a:ext cx="1777680" cy="2367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1"/>
            <p:cNvSpPr/>
            <p:nvPr/>
          </p:nvSpPr>
          <p:spPr>
            <a:xfrm rot="3660000">
              <a:off x="7797600" y="2856600"/>
              <a:ext cx="2570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  <a:tab algn="l" pos="6892920"/>
                  <a:tab algn="l" pos="7157880"/>
                  <a:tab algn="l" pos="7423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请在此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3"/>
          <p:cNvGrpSpPr/>
          <p:nvPr/>
        </p:nvGrpSpPr>
        <p:grpSpPr>
          <a:xfrm>
            <a:off x="5765400" y="1313280"/>
            <a:ext cx="2001240" cy="2925000"/>
            <a:chOff x="5765400" y="1313280"/>
            <a:chExt cx="2001240" cy="2925000"/>
          </a:xfrm>
        </p:grpSpPr>
        <p:sp>
          <p:nvSpPr>
            <p:cNvPr id="256" name="Text Box 13"/>
            <p:cNvSpPr/>
            <p:nvPr/>
          </p:nvSpPr>
          <p:spPr>
            <a:xfrm rot="18240000">
              <a:off x="5581800" y="2320200"/>
              <a:ext cx="2615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  <a:tab algn="l" pos="6892920"/>
                  <a:tab algn="l" pos="7157880"/>
                  <a:tab algn="l" pos="7423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请在此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4"/>
            <p:cNvSpPr/>
            <p:nvPr/>
          </p:nvSpPr>
          <p:spPr>
            <a:xfrm flipH="1">
              <a:off x="5765400" y="1960560"/>
              <a:ext cx="1906200" cy="2277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6"/>
          <p:cNvGrpSpPr/>
          <p:nvPr/>
        </p:nvGrpSpPr>
        <p:grpSpPr>
          <a:xfrm>
            <a:off x="5092560" y="4087800"/>
            <a:ext cx="4613400" cy="2892240"/>
            <a:chOff x="5092560" y="4087800"/>
            <a:chExt cx="4613400" cy="2892240"/>
          </a:xfrm>
        </p:grpSpPr>
        <p:sp>
          <p:nvSpPr>
            <p:cNvPr id="259" name="Freeform 16"/>
            <p:cNvSpPr/>
            <p:nvPr/>
          </p:nvSpPr>
          <p:spPr>
            <a:xfrm>
              <a:off x="5092560" y="4644720"/>
              <a:ext cx="4613400" cy="2335320"/>
            </a:xfrm>
            <a:custGeom>
              <a:avLst/>
              <a:gdLst>
                <a:gd name="textAreaLeft" fmla="*/ 0 w 4613400"/>
                <a:gd name="textAreaRight" fmla="*/ 4613760 w 4613400"/>
                <a:gd name="textAreaTop" fmla="*/ 0 h 2335320"/>
                <a:gd name="textAreaBottom" fmla="*/ 2335680 h 2335320"/>
              </a:gdLst>
              <a:ahLst/>
              <a:rect l="textAreaLeft" t="textAreaTop" r="textAreaRight" b="textAreaBottom"/>
              <a:pathLst>
                <a:path w="12822" h="6490">
                  <a:moveTo>
                    <a:pt x="6041" y="0"/>
                  </a:moveTo>
                  <a:lnTo>
                    <a:pt x="12821" y="2552"/>
                  </a:lnTo>
                  <a:lnTo>
                    <a:pt x="8237" y="6489"/>
                  </a:lnTo>
                  <a:lnTo>
                    <a:pt x="0" y="2546"/>
                  </a:lnTo>
                  <a:lnTo>
                    <a:pt x="6041" y="0"/>
                  </a:lnTo>
                </a:path>
              </a:pathLst>
            </a:custGeom>
            <a:solidFill>
              <a:srgbClr val="397d96">
                <a:alpha val="80000"/>
              </a:srgbClr>
            </a:solidFill>
            <a:ln w="9360">
              <a:solidFill>
                <a:srgbClr val="62ab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7926120" y="4662000"/>
              <a:ext cx="1763640" cy="231480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4904" h="6434">
                  <a:moveTo>
                    <a:pt x="0" y="2581"/>
                  </a:moveTo>
                  <a:lnTo>
                    <a:pt x="3403" y="0"/>
                  </a:lnTo>
                  <a:lnTo>
                    <a:pt x="4903" y="2503"/>
                  </a:lnTo>
                  <a:lnTo>
                    <a:pt x="312" y="6433"/>
                  </a:lnTo>
                  <a:lnTo>
                    <a:pt x="0" y="2581"/>
                  </a:lnTo>
                </a:path>
              </a:pathLst>
            </a:custGeom>
            <a:solidFill>
              <a:srgbClr val="397d96">
                <a:alpha val="80000"/>
              </a:srgbClr>
            </a:solidFill>
            <a:ln w="9360">
              <a:solidFill>
                <a:srgbClr val="62ab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5109840" y="4087800"/>
              <a:ext cx="2244600" cy="1456200"/>
            </a:xfrm>
            <a:custGeom>
              <a:avLst/>
              <a:gdLst>
                <a:gd name="textAreaLeft" fmla="*/ 0 w 2244600"/>
                <a:gd name="textAreaRight" fmla="*/ 2244960 w 2244600"/>
                <a:gd name="textAreaTop" fmla="*/ 0 h 1456200"/>
                <a:gd name="textAreaBottom" fmla="*/ 1456560 h 1456200"/>
              </a:gdLst>
              <a:ahLst/>
              <a:rect l="textAreaLeft" t="textAreaTop" r="textAreaRight" b="textAreaBottom"/>
              <a:pathLst>
                <a:path w="6241" h="4046">
                  <a:moveTo>
                    <a:pt x="1647" y="1549"/>
                  </a:moveTo>
                  <a:lnTo>
                    <a:pt x="6240" y="0"/>
                  </a:lnTo>
                  <a:lnTo>
                    <a:pt x="6041" y="1549"/>
                  </a:lnTo>
                  <a:lnTo>
                    <a:pt x="0" y="4045"/>
                  </a:lnTo>
                  <a:lnTo>
                    <a:pt x="1647" y="1549"/>
                  </a:lnTo>
                </a:path>
              </a:pathLst>
            </a:custGeom>
            <a:solidFill>
              <a:srgbClr val="397d96">
                <a:alpha val="80000"/>
              </a:srgbClr>
            </a:solidFill>
            <a:ln w="9360">
              <a:solidFill>
                <a:srgbClr val="62ab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5720400" y="4105080"/>
              <a:ext cx="3430080" cy="1472040"/>
            </a:xfrm>
            <a:custGeom>
              <a:avLst/>
              <a:gdLst>
                <a:gd name="textAreaLeft" fmla="*/ 0 w 3430080"/>
                <a:gd name="textAreaRight" fmla="*/ 3430440 w 3430080"/>
                <a:gd name="textAreaTop" fmla="*/ 0 h 1472040"/>
                <a:gd name="textAreaBottom" fmla="*/ 1472400 h 1472040"/>
              </a:gdLst>
              <a:ahLst/>
              <a:rect l="textAreaLeft" t="textAreaTop" r="textAreaRight" b="textAreaBottom"/>
              <a:pathLst>
                <a:path w="9536" h="4091">
                  <a:moveTo>
                    <a:pt x="4493" y="0"/>
                  </a:moveTo>
                  <a:lnTo>
                    <a:pt x="9535" y="1598"/>
                  </a:lnTo>
                  <a:lnTo>
                    <a:pt x="6132" y="4090"/>
                  </a:lnTo>
                  <a:lnTo>
                    <a:pt x="0" y="1499"/>
                  </a:lnTo>
                  <a:lnTo>
                    <a:pt x="4493" y="0"/>
                  </a:lnTo>
                </a:path>
              </a:pathLst>
            </a:custGeom>
            <a:solidFill>
              <a:srgbClr val="397d96">
                <a:alpha val="80000"/>
              </a:srgbClr>
            </a:solidFill>
            <a:ln w="9360">
              <a:solidFill>
                <a:srgbClr val="62ab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5092560" y="4644720"/>
              <a:ext cx="2960280" cy="2332080"/>
            </a:xfrm>
            <a:custGeom>
              <a:avLst/>
              <a:gdLst>
                <a:gd name="textAreaLeft" fmla="*/ 0 w 2960280"/>
                <a:gd name="textAreaRight" fmla="*/ 2960640 w 2960280"/>
                <a:gd name="textAreaTop" fmla="*/ 0 h 2332080"/>
                <a:gd name="textAreaBottom" fmla="*/ 2332440 h 2332080"/>
              </a:gdLst>
              <a:ahLst/>
              <a:rect l="textAreaLeft" t="textAreaTop" r="textAreaRight" b="textAreaBottom"/>
              <a:pathLst>
                <a:path w="8230" h="6483">
                  <a:moveTo>
                    <a:pt x="1697" y="0"/>
                  </a:moveTo>
                  <a:lnTo>
                    <a:pt x="7840" y="2591"/>
                  </a:lnTo>
                  <a:lnTo>
                    <a:pt x="8229" y="6482"/>
                  </a:lnTo>
                  <a:lnTo>
                    <a:pt x="0" y="2546"/>
                  </a:lnTo>
                  <a:lnTo>
                    <a:pt x="1697" y="0"/>
                  </a:lnTo>
                </a:path>
              </a:pathLst>
            </a:custGeom>
            <a:solidFill>
              <a:srgbClr val="397d96">
                <a:alpha val="80000"/>
              </a:srgbClr>
            </a:solidFill>
            <a:ln w="9360">
              <a:solidFill>
                <a:srgbClr val="62ab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2"/>
          <p:cNvGrpSpPr/>
          <p:nvPr/>
        </p:nvGrpSpPr>
        <p:grpSpPr>
          <a:xfrm>
            <a:off x="5815080" y="3386160"/>
            <a:ext cx="3215880" cy="1887120"/>
            <a:chOff x="5815080" y="3386160"/>
            <a:chExt cx="3215880" cy="1887120"/>
          </a:xfrm>
        </p:grpSpPr>
        <p:sp>
          <p:nvSpPr>
            <p:cNvPr id="265" name="Freeform 22"/>
            <p:cNvSpPr/>
            <p:nvPr/>
          </p:nvSpPr>
          <p:spPr>
            <a:xfrm>
              <a:off x="5827320" y="3916800"/>
              <a:ext cx="3201840" cy="1348560"/>
            </a:xfrm>
            <a:custGeom>
              <a:avLst/>
              <a:gdLst>
                <a:gd name="textAreaLeft" fmla="*/ 0 w 3201840"/>
                <a:gd name="textAreaRight" fmla="*/ 3202200 w 3201840"/>
                <a:gd name="textAreaTop" fmla="*/ 0 h 1348560"/>
                <a:gd name="textAreaBottom" fmla="*/ 1348920 h 1348560"/>
              </a:gdLst>
              <a:ahLst/>
              <a:rect l="textAreaLeft" t="textAreaTop" r="textAreaRight" b="textAreaBottom"/>
              <a:pathLst>
                <a:path w="8901" h="3753">
                  <a:moveTo>
                    <a:pt x="4041" y="0"/>
                  </a:moveTo>
                  <a:lnTo>
                    <a:pt x="8900" y="1539"/>
                  </a:lnTo>
                  <a:lnTo>
                    <a:pt x="5725" y="3752"/>
                  </a:lnTo>
                  <a:lnTo>
                    <a:pt x="0" y="1443"/>
                  </a:lnTo>
                  <a:lnTo>
                    <a:pt x="4041" y="0"/>
                  </a:lnTo>
                </a:path>
              </a:pathLst>
            </a:custGeom>
            <a:solidFill>
              <a:srgbClr val="397d96">
                <a:alpha val="80000"/>
              </a:srgbClr>
            </a:solidFill>
            <a:ln w="9360">
              <a:solidFill>
                <a:srgbClr val="62ab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6356160" y="3386160"/>
              <a:ext cx="2274840" cy="741600"/>
            </a:xfrm>
            <a:custGeom>
              <a:avLst/>
              <a:gdLst>
                <a:gd name="textAreaLeft" fmla="*/ 0 w 2274840"/>
                <a:gd name="textAreaRight" fmla="*/ 2275200 w 227484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6322" h="2065">
                  <a:moveTo>
                    <a:pt x="2602" y="0"/>
                  </a:moveTo>
                  <a:lnTo>
                    <a:pt x="6321" y="1000"/>
                  </a:lnTo>
                  <a:lnTo>
                    <a:pt x="4019" y="2064"/>
                  </a:lnTo>
                  <a:lnTo>
                    <a:pt x="0" y="798"/>
                  </a:lnTo>
                  <a:lnTo>
                    <a:pt x="2602" y="0"/>
                  </a:lnTo>
                </a:path>
              </a:pathLst>
            </a:custGeom>
            <a:solidFill>
              <a:srgbClr val="397d96">
                <a:alpha val="80000"/>
              </a:srgbClr>
            </a:solidFill>
            <a:ln w="9360">
              <a:solidFill>
                <a:srgbClr val="62ab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5815080" y="3669480"/>
              <a:ext cx="2078280" cy="1603800"/>
            </a:xfrm>
            <a:custGeom>
              <a:avLst/>
              <a:gdLst>
                <a:gd name="textAreaLeft" fmla="*/ 0 w 2078280"/>
                <a:gd name="textAreaRight" fmla="*/ 2078640 w 2078280"/>
                <a:gd name="textAreaTop" fmla="*/ 0 h 1603800"/>
                <a:gd name="textAreaBottom" fmla="*/ 1604160 h 1603800"/>
              </a:gdLst>
              <a:ahLst/>
              <a:rect l="textAreaLeft" t="textAreaTop" r="textAreaRight" b="textAreaBottom"/>
              <a:pathLst>
                <a:path w="5776" h="4462">
                  <a:moveTo>
                    <a:pt x="1509" y="0"/>
                  </a:moveTo>
                  <a:lnTo>
                    <a:pt x="5531" y="1260"/>
                  </a:lnTo>
                  <a:lnTo>
                    <a:pt x="5775" y="4461"/>
                  </a:lnTo>
                  <a:lnTo>
                    <a:pt x="0" y="2138"/>
                  </a:lnTo>
                  <a:lnTo>
                    <a:pt x="1509" y="0"/>
                  </a:lnTo>
                </a:path>
              </a:pathLst>
            </a:custGeom>
            <a:solidFill>
              <a:srgbClr val="397d96">
                <a:alpha val="80000"/>
              </a:srgbClr>
            </a:solidFill>
            <a:ln w="9360">
              <a:solidFill>
                <a:srgbClr val="62ab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7802640" y="3745800"/>
              <a:ext cx="1228320" cy="152100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1521000"/>
                <a:gd name="textAreaBottom" fmla="*/ 1521360 h 1521000"/>
              </a:gdLst>
              <a:ahLst/>
              <a:rect l="textAreaLeft" t="textAreaTop" r="textAreaRight" b="textAreaBottom"/>
              <a:pathLst>
                <a:path w="3414" h="4233">
                  <a:moveTo>
                    <a:pt x="0" y="1064"/>
                  </a:moveTo>
                  <a:lnTo>
                    <a:pt x="2302" y="0"/>
                  </a:lnTo>
                  <a:lnTo>
                    <a:pt x="3413" y="2006"/>
                  </a:lnTo>
                  <a:lnTo>
                    <a:pt x="235" y="4232"/>
                  </a:lnTo>
                  <a:lnTo>
                    <a:pt x="0" y="1064"/>
                  </a:lnTo>
                </a:path>
              </a:pathLst>
            </a:custGeom>
            <a:solidFill>
              <a:srgbClr val="397d96">
                <a:alpha val="80000"/>
              </a:srgbClr>
            </a:solidFill>
            <a:ln w="9360">
              <a:solidFill>
                <a:srgbClr val="62ab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27"/>
          <p:cNvGrpSpPr/>
          <p:nvPr/>
        </p:nvGrpSpPr>
        <p:grpSpPr>
          <a:xfrm>
            <a:off x="6458040" y="2668680"/>
            <a:ext cx="2047680" cy="1186920"/>
            <a:chOff x="6458040" y="2668680"/>
            <a:chExt cx="2047680" cy="1186920"/>
          </a:xfrm>
        </p:grpSpPr>
        <p:sp>
          <p:nvSpPr>
            <p:cNvPr id="270" name="Freeform 27"/>
            <p:cNvSpPr/>
            <p:nvPr/>
          </p:nvSpPr>
          <p:spPr>
            <a:xfrm>
              <a:off x="7364880" y="2677680"/>
              <a:ext cx="1134000" cy="846360"/>
            </a:xfrm>
            <a:custGeom>
              <a:avLst/>
              <a:gdLst>
                <a:gd name="textAreaLeft" fmla="*/ 0 w 1134000"/>
                <a:gd name="textAreaRight" fmla="*/ 1134360 w 113400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3154" h="2354">
                  <a:moveTo>
                    <a:pt x="154" y="0"/>
                  </a:moveTo>
                  <a:lnTo>
                    <a:pt x="2135" y="261"/>
                  </a:lnTo>
                  <a:lnTo>
                    <a:pt x="3153" y="2353"/>
                  </a:lnTo>
                  <a:lnTo>
                    <a:pt x="0" y="1538"/>
                  </a:lnTo>
                  <a:lnTo>
                    <a:pt x="154" y="0"/>
                  </a:lnTo>
                </a:path>
              </a:pathLst>
            </a:custGeom>
            <a:solidFill>
              <a:srgbClr val="735b8a">
                <a:alpha val="80000"/>
              </a:srgbClr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6458040" y="3224880"/>
              <a:ext cx="2047680" cy="627480"/>
            </a:xfrm>
            <a:custGeom>
              <a:avLst/>
              <a:gdLst>
                <a:gd name="textAreaLeft" fmla="*/ 0 w 2047680"/>
                <a:gd name="textAreaRight" fmla="*/ 2048040 w 2047680"/>
                <a:gd name="textAreaTop" fmla="*/ 0 h 627480"/>
                <a:gd name="textAreaBottom" fmla="*/ 627840 h 627480"/>
              </a:gdLst>
              <a:ahLst/>
              <a:rect l="textAreaLeft" t="textAreaTop" r="textAreaRight" b="textAreaBottom"/>
              <a:pathLst>
                <a:path w="5691" h="1748">
                  <a:moveTo>
                    <a:pt x="2496" y="0"/>
                  </a:moveTo>
                  <a:lnTo>
                    <a:pt x="5690" y="801"/>
                  </a:lnTo>
                  <a:lnTo>
                    <a:pt x="3644" y="1747"/>
                  </a:lnTo>
                  <a:lnTo>
                    <a:pt x="0" y="748"/>
                  </a:lnTo>
                  <a:lnTo>
                    <a:pt x="2496" y="0"/>
                  </a:lnTo>
                </a:path>
              </a:pathLst>
            </a:custGeom>
            <a:solidFill>
              <a:srgbClr val="735b8a">
                <a:alpha val="80000"/>
              </a:srgbClr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7689960" y="2771640"/>
              <a:ext cx="815400" cy="108396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1083960"/>
                <a:gd name="textAreaBottom" fmla="*/ 1084320 h 1083960"/>
              </a:gdLst>
              <a:ahLst/>
              <a:rect l="textAreaLeft" t="textAreaTop" r="textAreaRight" b="textAreaBottom"/>
              <a:pathLst>
                <a:path w="2266" h="3015">
                  <a:moveTo>
                    <a:pt x="0" y="282"/>
                  </a:moveTo>
                  <a:lnTo>
                    <a:pt x="1193" y="0"/>
                  </a:lnTo>
                  <a:lnTo>
                    <a:pt x="2265" y="2059"/>
                  </a:lnTo>
                  <a:lnTo>
                    <a:pt x="239" y="3014"/>
                  </a:lnTo>
                  <a:lnTo>
                    <a:pt x="0" y="282"/>
                  </a:lnTo>
                </a:path>
              </a:pathLst>
            </a:custGeom>
            <a:solidFill>
              <a:srgbClr val="735b8a">
                <a:alpha val="80000"/>
              </a:srgbClr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6458040" y="2677680"/>
              <a:ext cx="968760" cy="82440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824400"/>
                <a:gd name="textAreaBottom" fmla="*/ 824760 h 824400"/>
              </a:gdLst>
              <a:ahLst/>
              <a:rect l="textAreaLeft" t="textAreaTop" r="textAreaRight" b="textAreaBottom"/>
              <a:pathLst>
                <a:path w="2693" h="2292">
                  <a:moveTo>
                    <a:pt x="1400" y="223"/>
                  </a:moveTo>
                  <a:lnTo>
                    <a:pt x="2692" y="0"/>
                  </a:lnTo>
                  <a:lnTo>
                    <a:pt x="2564" y="1525"/>
                  </a:lnTo>
                  <a:lnTo>
                    <a:pt x="0" y="2291"/>
                  </a:lnTo>
                  <a:lnTo>
                    <a:pt x="1400" y="223"/>
                  </a:lnTo>
                </a:path>
              </a:pathLst>
            </a:custGeom>
            <a:solidFill>
              <a:srgbClr val="735b8a">
                <a:alpha val="80000"/>
              </a:srgbClr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6465600" y="2763720"/>
              <a:ext cx="1311480" cy="1091880"/>
            </a:xfrm>
            <a:custGeom>
              <a:avLst/>
              <a:gdLst>
                <a:gd name="textAreaLeft" fmla="*/ 0 w 1311480"/>
                <a:gd name="textAreaRight" fmla="*/ 1311840 w 1311480"/>
                <a:gd name="textAreaTop" fmla="*/ 0 h 1091880"/>
                <a:gd name="textAreaBottom" fmla="*/ 1092240 h 1091880"/>
              </a:gdLst>
              <a:ahLst/>
              <a:rect l="textAreaLeft" t="textAreaTop" r="textAreaRight" b="textAreaBottom"/>
              <a:pathLst>
                <a:path w="3645" h="3037">
                  <a:moveTo>
                    <a:pt x="1388" y="0"/>
                  </a:moveTo>
                  <a:lnTo>
                    <a:pt x="3383" y="304"/>
                  </a:lnTo>
                  <a:lnTo>
                    <a:pt x="3644" y="3036"/>
                  </a:lnTo>
                  <a:lnTo>
                    <a:pt x="0" y="2040"/>
                  </a:lnTo>
                  <a:lnTo>
                    <a:pt x="1388" y="0"/>
                  </a:lnTo>
                </a:path>
              </a:pathLst>
            </a:custGeom>
            <a:solidFill>
              <a:srgbClr val="735b8a">
                <a:alpha val="80000"/>
              </a:srgbClr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6955920" y="2668680"/>
              <a:ext cx="1167120" cy="204480"/>
            </a:xfrm>
            <a:custGeom>
              <a:avLst/>
              <a:gdLst>
                <a:gd name="textAreaLeft" fmla="*/ 0 w 1167120"/>
                <a:gd name="textAreaRight" fmla="*/ 1167480 w 11671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3247" h="571">
                  <a:moveTo>
                    <a:pt x="1395" y="0"/>
                  </a:moveTo>
                  <a:lnTo>
                    <a:pt x="3246" y="275"/>
                  </a:lnTo>
                  <a:lnTo>
                    <a:pt x="2042" y="570"/>
                  </a:lnTo>
                  <a:lnTo>
                    <a:pt x="0" y="240"/>
                  </a:lnTo>
                  <a:lnTo>
                    <a:pt x="1395" y="0"/>
                  </a:lnTo>
                </a:path>
              </a:pathLst>
            </a:custGeom>
            <a:solidFill>
              <a:srgbClr val="735b8a">
                <a:alpha val="80000"/>
              </a:srgbClr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4"/>
          <p:cNvGrpSpPr/>
          <p:nvPr/>
        </p:nvGrpSpPr>
        <p:grpSpPr>
          <a:xfrm>
            <a:off x="7059600" y="1870200"/>
            <a:ext cx="974880" cy="817560"/>
            <a:chOff x="7059600" y="1870200"/>
            <a:chExt cx="974880" cy="817560"/>
          </a:xfrm>
        </p:grpSpPr>
        <p:sp>
          <p:nvSpPr>
            <p:cNvPr id="277" name="Freeform 34"/>
            <p:cNvSpPr/>
            <p:nvPr/>
          </p:nvSpPr>
          <p:spPr>
            <a:xfrm>
              <a:off x="7059600" y="2514960"/>
              <a:ext cx="974880" cy="17064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2711" h="478">
                  <a:moveTo>
                    <a:pt x="1257" y="0"/>
                  </a:moveTo>
                  <a:lnTo>
                    <a:pt x="2710" y="239"/>
                  </a:lnTo>
                  <a:lnTo>
                    <a:pt x="1691" y="477"/>
                  </a:lnTo>
                  <a:lnTo>
                    <a:pt x="0" y="195"/>
                  </a:lnTo>
                  <a:lnTo>
                    <a:pt x="1257" y="0"/>
                  </a:lnTo>
                </a:path>
              </a:pathLst>
            </a:custGeom>
            <a:solidFill>
              <a:srgbClr val="397d96">
                <a:alpha val="80000"/>
              </a:srgbClr>
            </a:solidFill>
            <a:ln w="9360">
              <a:solidFill>
                <a:srgbClr val="62ab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7059600" y="1870200"/>
              <a:ext cx="608400" cy="817560"/>
            </a:xfrm>
            <a:custGeom>
              <a:avLst/>
              <a:gdLst>
                <a:gd name="textAreaLeft" fmla="*/ 0 w 608400"/>
                <a:gd name="textAreaRight" fmla="*/ 608760 w 6084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1692" h="2278">
                  <a:moveTo>
                    <a:pt x="1449" y="0"/>
                  </a:moveTo>
                  <a:lnTo>
                    <a:pt x="1691" y="2277"/>
                  </a:lnTo>
                  <a:lnTo>
                    <a:pt x="0" y="1973"/>
                  </a:lnTo>
                  <a:lnTo>
                    <a:pt x="1449" y="0"/>
                  </a:lnTo>
                </a:path>
              </a:pathLst>
            </a:custGeom>
            <a:solidFill>
              <a:srgbClr val="397d96">
                <a:alpha val="80000"/>
              </a:srgbClr>
            </a:solidFill>
            <a:ln w="9360">
              <a:solidFill>
                <a:srgbClr val="62ab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7579080" y="1870200"/>
              <a:ext cx="453600" cy="81756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1262" h="2278">
                  <a:moveTo>
                    <a:pt x="0" y="0"/>
                  </a:moveTo>
                  <a:lnTo>
                    <a:pt x="1261" y="2017"/>
                  </a:lnTo>
                  <a:lnTo>
                    <a:pt x="242" y="2277"/>
                  </a:lnTo>
                  <a:lnTo>
                    <a:pt x="0" y="0"/>
                  </a:lnTo>
                </a:path>
              </a:pathLst>
            </a:custGeom>
            <a:solidFill>
              <a:srgbClr val="397d96">
                <a:alpha val="80000"/>
              </a:srgbClr>
            </a:solidFill>
            <a:ln w="9360">
              <a:solidFill>
                <a:srgbClr val="62ab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7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1093680" y="2778120"/>
            <a:ext cx="7918560" cy="735120"/>
            <a:chOff x="1093680" y="2778120"/>
            <a:chExt cx="7918560" cy="735120"/>
          </a:xfrm>
        </p:grpSpPr>
        <p:sp>
          <p:nvSpPr>
            <p:cNvPr id="282" name="AutoShape 2"/>
            <p:cNvSpPr/>
            <p:nvPr/>
          </p:nvSpPr>
          <p:spPr>
            <a:xfrm>
              <a:off x="1093680" y="2778120"/>
              <a:ext cx="7918560" cy="735120"/>
            </a:xfrm>
            <a:prstGeom prst="rightArrow">
              <a:avLst>
                <a:gd name="adj1" fmla="val 51269"/>
                <a:gd name="adj2" fmla="val 87072"/>
              </a:avLst>
            </a:prstGeom>
            <a:solidFill>
              <a:srgbClr val="735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1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423200"/>
                  <a:tab algn="l" pos="7688160"/>
                  <a:tab algn="l" pos="7953480"/>
                  <a:tab algn="l" pos="8218440"/>
                  <a:tab algn="l" pos="8483760"/>
                  <a:tab algn="l" pos="8748720"/>
                  <a:tab algn="l" pos="9013680"/>
                  <a:tab algn="l" pos="9279000"/>
                  <a:tab algn="l" pos="9543960"/>
                  <a:tab algn="l" pos="9809280"/>
                  <a:tab algn="l" pos="10074240"/>
                  <a:tab algn="l" pos="10339560"/>
                  <a:tab algn="l" pos="10604520"/>
                  <a:tab algn="l" pos="108694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   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9               2010              2011             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3"/>
            <p:cNvSpPr/>
            <p:nvPr/>
          </p:nvSpPr>
          <p:spPr>
            <a:xfrm>
              <a:off x="1568160" y="2953800"/>
              <a:ext cx="916920" cy="386280"/>
            </a:xfrm>
            <a:prstGeom prst="rect">
              <a:avLst/>
            </a:prstGeom>
            <a:solidFill>
              <a:srgbClr val="1b01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4"/>
          <p:cNvSpPr/>
          <p:nvPr/>
        </p:nvSpPr>
        <p:spPr>
          <a:xfrm>
            <a:off x="136044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276372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5608800" y="3429000"/>
            <a:ext cx="1285560" cy="2308320"/>
          </a:xfrm>
          <a:custGeom>
            <a:avLst/>
            <a:gdLst>
              <a:gd name="textAreaLeft" fmla="*/ 43920 w 1285560"/>
              <a:gd name="textAreaRight" fmla="*/ 1241640 w 128556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80">
                <a:moveTo>
                  <a:pt x="2536" y="0"/>
                </a:moveTo>
                <a:arcTo wR="2536" hR="2536" stAng="16200000" swAng="-5400000"/>
                <a:lnTo>
                  <a:pt x="0" y="36244"/>
                </a:lnTo>
                <a:arcTo wR="2536" hR="2536" stAng="10800000" swAng="-5400000"/>
                <a:lnTo>
                  <a:pt x="19064" y="387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1033560" y="2487600"/>
            <a:ext cx="371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8"/>
          <p:cNvSpPr/>
          <p:nvPr/>
        </p:nvSpPr>
        <p:spPr>
          <a:xfrm>
            <a:off x="420372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9"/>
          <p:cNvSpPr/>
          <p:nvPr/>
        </p:nvSpPr>
        <p:spPr>
          <a:xfrm>
            <a:off x="701208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>
            <a:off x="5672160" y="3952800"/>
            <a:ext cx="1511280" cy="1513080"/>
          </a:xfrm>
          <a:prstGeom prst="cube">
            <a:avLst>
              <a:gd name="adj" fmla="val 25000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"/>
          <p:cNvSpPr/>
          <p:nvPr/>
        </p:nvSpPr>
        <p:spPr>
          <a:xfrm>
            <a:off x="5668920" y="2657520"/>
            <a:ext cx="1511280" cy="1512720"/>
          </a:xfrm>
          <a:prstGeom prst="cube">
            <a:avLst>
              <a:gd name="adj" fmla="val 25000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6927840" y="3963960"/>
            <a:ext cx="1511280" cy="1513080"/>
          </a:xfrm>
          <a:prstGeom prst="cube">
            <a:avLst>
              <a:gd name="adj" fmla="val 25000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6927840" y="2657520"/>
            <a:ext cx="1511280" cy="1512720"/>
          </a:xfrm>
          <a:prstGeom prst="cube">
            <a:avLst>
              <a:gd name="adj" fmla="val 25000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5178600" y="4432320"/>
            <a:ext cx="1518840" cy="1528560"/>
            <a:chOff x="5178600" y="4432320"/>
            <a:chExt cx="1518840" cy="1528560"/>
          </a:xfrm>
        </p:grpSpPr>
        <p:sp>
          <p:nvSpPr>
            <p:cNvPr id="296" name="Freeform 6"/>
            <p:cNvSpPr/>
            <p:nvPr/>
          </p:nvSpPr>
          <p:spPr>
            <a:xfrm>
              <a:off x="5190840" y="5576400"/>
              <a:ext cx="1506600" cy="384480"/>
            </a:xfrm>
            <a:custGeom>
              <a:avLst/>
              <a:gdLst>
                <a:gd name="textAreaLeft" fmla="*/ 0 w 1506600"/>
                <a:gd name="textAreaRight" fmla="*/ 1506960 w 150660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397d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7"/>
            <p:cNvSpPr/>
            <p:nvPr/>
          </p:nvSpPr>
          <p:spPr>
            <a:xfrm>
              <a:off x="5178600" y="4432320"/>
              <a:ext cx="1508040" cy="1509840"/>
            </a:xfrm>
            <a:prstGeom prst="cube">
              <a:avLst>
                <a:gd name="adj" fmla="val 25000"/>
              </a:avLst>
            </a:prstGeom>
            <a:solidFill>
              <a:srgbClr val="397d9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9"/>
          <p:cNvGrpSpPr/>
          <p:nvPr/>
        </p:nvGrpSpPr>
        <p:grpSpPr>
          <a:xfrm>
            <a:off x="6438960" y="4432320"/>
            <a:ext cx="1518840" cy="1528560"/>
            <a:chOff x="6438960" y="4432320"/>
            <a:chExt cx="1518840" cy="1528560"/>
          </a:xfrm>
        </p:grpSpPr>
        <p:sp>
          <p:nvSpPr>
            <p:cNvPr id="299" name="Freeform 9"/>
            <p:cNvSpPr/>
            <p:nvPr/>
          </p:nvSpPr>
          <p:spPr>
            <a:xfrm>
              <a:off x="6449760" y="5575680"/>
              <a:ext cx="1508040" cy="38520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735b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0"/>
            <p:cNvSpPr/>
            <p:nvPr/>
          </p:nvSpPr>
          <p:spPr>
            <a:xfrm>
              <a:off x="6438960" y="4432320"/>
              <a:ext cx="1509480" cy="1511280"/>
            </a:xfrm>
            <a:prstGeom prst="cube">
              <a:avLst>
                <a:gd name="adj" fmla="val 25000"/>
              </a:avLst>
            </a:prstGeom>
            <a:solidFill>
              <a:srgbClr val="735b8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AutoShape 11"/>
          <p:cNvSpPr/>
          <p:nvPr/>
        </p:nvSpPr>
        <p:spPr>
          <a:xfrm>
            <a:off x="1967040" y="3952800"/>
            <a:ext cx="1511280" cy="1513080"/>
          </a:xfrm>
          <a:prstGeom prst="cube">
            <a:avLst>
              <a:gd name="adj" fmla="val 25000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1960560" y="2657520"/>
            <a:ext cx="1511280" cy="1512720"/>
          </a:xfrm>
          <a:prstGeom prst="cube">
            <a:avLst>
              <a:gd name="adj" fmla="val 25000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3219480" y="3963960"/>
            <a:ext cx="1511280" cy="1513080"/>
          </a:xfrm>
          <a:prstGeom prst="cube">
            <a:avLst>
              <a:gd name="adj" fmla="val 25000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3219480" y="2657520"/>
            <a:ext cx="1511280" cy="1512720"/>
          </a:xfrm>
          <a:prstGeom prst="cube">
            <a:avLst>
              <a:gd name="adj" fmla="val 25000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5"/>
          <p:cNvSpPr/>
          <p:nvPr/>
        </p:nvSpPr>
        <p:spPr>
          <a:xfrm>
            <a:off x="5172120" y="3135240"/>
            <a:ext cx="1511280" cy="1513080"/>
          </a:xfrm>
          <a:prstGeom prst="cube">
            <a:avLst>
              <a:gd name="adj" fmla="val 25000"/>
            </a:avLst>
          </a:prstGeom>
          <a:solidFill>
            <a:srgbClr val="1b012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6443640" y="3141720"/>
            <a:ext cx="1511280" cy="1512720"/>
          </a:xfrm>
          <a:prstGeom prst="cube">
            <a:avLst>
              <a:gd name="adj" fmla="val 25000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8"/>
          <p:cNvGrpSpPr/>
          <p:nvPr/>
        </p:nvGrpSpPr>
        <p:grpSpPr>
          <a:xfrm>
            <a:off x="1469880" y="4432320"/>
            <a:ext cx="1519200" cy="1528560"/>
            <a:chOff x="1469880" y="4432320"/>
            <a:chExt cx="1519200" cy="1528560"/>
          </a:xfrm>
        </p:grpSpPr>
        <p:sp>
          <p:nvSpPr>
            <p:cNvPr id="308" name="Freeform 18"/>
            <p:cNvSpPr/>
            <p:nvPr/>
          </p:nvSpPr>
          <p:spPr>
            <a:xfrm>
              <a:off x="1480680" y="5576400"/>
              <a:ext cx="1508400" cy="384480"/>
            </a:xfrm>
            <a:custGeom>
              <a:avLst/>
              <a:gdLst>
                <a:gd name="textAreaLeft" fmla="*/ 0 w 1508400"/>
                <a:gd name="textAreaRight" fmla="*/ 1508760 w 150840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397d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9"/>
            <p:cNvSpPr/>
            <p:nvPr/>
          </p:nvSpPr>
          <p:spPr>
            <a:xfrm>
              <a:off x="1469880" y="4432320"/>
              <a:ext cx="1509840" cy="1509840"/>
            </a:xfrm>
            <a:prstGeom prst="cube">
              <a:avLst>
                <a:gd name="adj" fmla="val 25000"/>
              </a:avLst>
            </a:prstGeom>
            <a:solidFill>
              <a:srgbClr val="397d9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21"/>
          <p:cNvGrpSpPr/>
          <p:nvPr/>
        </p:nvGrpSpPr>
        <p:grpSpPr>
          <a:xfrm>
            <a:off x="2730600" y="4432320"/>
            <a:ext cx="1518840" cy="1528560"/>
            <a:chOff x="2730600" y="4432320"/>
            <a:chExt cx="1518840" cy="1528560"/>
          </a:xfrm>
        </p:grpSpPr>
        <p:sp>
          <p:nvSpPr>
            <p:cNvPr id="311" name="Freeform 21"/>
            <p:cNvSpPr/>
            <p:nvPr/>
          </p:nvSpPr>
          <p:spPr>
            <a:xfrm>
              <a:off x="2742840" y="5576400"/>
              <a:ext cx="1506600" cy="384480"/>
            </a:xfrm>
            <a:custGeom>
              <a:avLst/>
              <a:gdLst>
                <a:gd name="textAreaLeft" fmla="*/ 0 w 1506600"/>
                <a:gd name="textAreaRight" fmla="*/ 1506960 w 150660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397d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22"/>
            <p:cNvSpPr/>
            <p:nvPr/>
          </p:nvSpPr>
          <p:spPr>
            <a:xfrm>
              <a:off x="2730600" y="4432320"/>
              <a:ext cx="1508040" cy="1509840"/>
            </a:xfrm>
            <a:prstGeom prst="cube">
              <a:avLst>
                <a:gd name="adj" fmla="val 25000"/>
              </a:avLst>
            </a:prstGeom>
            <a:solidFill>
              <a:srgbClr val="397d9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64960"/>
                  <a:tab algn="l" pos="530280"/>
                  <a:tab algn="l" pos="795240"/>
                  <a:tab algn="l" pos="1060560"/>
                  <a:tab algn="l" pos="13255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AutoShape 23"/>
          <p:cNvSpPr/>
          <p:nvPr/>
        </p:nvSpPr>
        <p:spPr>
          <a:xfrm>
            <a:off x="1465200" y="3135240"/>
            <a:ext cx="1511280" cy="1513080"/>
          </a:xfrm>
          <a:prstGeom prst="cube">
            <a:avLst>
              <a:gd name="adj" fmla="val 25000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4"/>
          <p:cNvSpPr/>
          <p:nvPr/>
        </p:nvSpPr>
        <p:spPr>
          <a:xfrm>
            <a:off x="2735280" y="3141720"/>
            <a:ext cx="1511280" cy="1512720"/>
          </a:xfrm>
          <a:prstGeom prst="cube">
            <a:avLst>
              <a:gd name="adj" fmla="val 25000"/>
            </a:avLst>
          </a:prstGeom>
          <a:solidFill>
            <a:srgbClr val="735b8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2"/>
          <p:cNvSpPr/>
          <p:nvPr/>
        </p:nvSpPr>
        <p:spPr>
          <a:xfrm>
            <a:off x="1879560" y="3233880"/>
            <a:ext cx="230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"/>
          <p:cNvSpPr/>
          <p:nvPr/>
        </p:nvSpPr>
        <p:spPr>
          <a:xfrm>
            <a:off x="5079960" y="2330280"/>
            <a:ext cx="3387600" cy="180828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劣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请在此添加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"/>
          <p:cNvSpPr/>
          <p:nvPr/>
        </p:nvSpPr>
        <p:spPr>
          <a:xfrm>
            <a:off x="1563840" y="4267080"/>
            <a:ext cx="3387600" cy="180828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机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请在此添加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1563840" y="2330280"/>
            <a:ext cx="3387600" cy="180828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请在此添加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5079960" y="4278240"/>
            <a:ext cx="3387600" cy="180828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挑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请在此添加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"/>
          <p:cNvSpPr/>
          <p:nvPr/>
        </p:nvSpPr>
        <p:spPr>
          <a:xfrm>
            <a:off x="4014720" y="3187800"/>
            <a:ext cx="2011320" cy="2011320"/>
          </a:xfrm>
          <a:prstGeom prst="ellipse">
            <a:avLst/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SW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1"/>
          <p:cNvGraphicFramePr/>
          <p:nvPr/>
        </p:nvGraphicFramePr>
        <p:xfrm>
          <a:off x="755640" y="1913040"/>
          <a:ext cx="9070920" cy="4989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24" name="Text Box 2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87080" y="4490640"/>
            <a:ext cx="907092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华文琥珀"/>
                <a:ea typeface="华文琥珀"/>
              </a:rPr>
              <a:t>谢谢 </a:t>
            </a:r>
            <a:r>
              <a:rPr b="0" i="1" lang="en-US" sz="8000" spc="-1" strike="noStrike">
                <a:solidFill>
                  <a:srgbClr val="ffffff"/>
                </a:solidFill>
                <a:latin typeface="华文琥珀"/>
                <a:ea typeface="华文琥珀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1973160" y="2106720"/>
            <a:ext cx="2862360" cy="1325520"/>
          </a:xfrm>
          <a:prstGeom prst="roundRect">
            <a:avLst>
              <a:gd name="adj" fmla="val 11741"/>
            </a:avLst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5089680" y="2104920"/>
            <a:ext cx="2862000" cy="1325520"/>
          </a:xfrm>
          <a:prstGeom prst="roundRect">
            <a:avLst>
              <a:gd name="adj" fmla="val 11741"/>
            </a:avLst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1973160" y="3686040"/>
            <a:ext cx="2860920" cy="132408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5091120" y="3686040"/>
            <a:ext cx="2860560" cy="132408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3594240" y="5345280"/>
            <a:ext cx="2862000" cy="1325520"/>
          </a:xfrm>
          <a:prstGeom prst="roundRect">
            <a:avLst>
              <a:gd name="adj" fmla="val 11741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标题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1339920" y="4294080"/>
            <a:ext cx="7326360" cy="714600"/>
          </a:xfrm>
          <a:prstGeom prst="roundRect">
            <a:avLst>
              <a:gd name="adj" fmla="val 11741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标题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395360" y="3187800"/>
            <a:ext cx="7257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小标题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小标题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395360" y="5240160"/>
            <a:ext cx="7257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小标题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小标题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917640" y="4281480"/>
            <a:ext cx="1628640" cy="1603080"/>
            <a:chOff x="917640" y="4281480"/>
            <a:chExt cx="1628640" cy="1603080"/>
          </a:xfrm>
        </p:grpSpPr>
        <p:sp>
          <p:nvSpPr>
            <p:cNvPr id="62" name="AutoShape 2"/>
            <p:cNvSpPr/>
            <p:nvPr/>
          </p:nvSpPr>
          <p:spPr>
            <a:xfrm>
              <a:off x="929880" y="4316040"/>
              <a:ext cx="1611360" cy="1568520"/>
            </a:xfrm>
            <a:prstGeom prst="roundRect">
              <a:avLst>
                <a:gd name="adj" fmla="val 8153"/>
              </a:avLst>
            </a:prstGeom>
            <a:solidFill>
              <a:srgbClr val="735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5000" bIns="45000" anchor="ctr">
              <a:noAutofit/>
            </a:bodyPr>
            <a:p>
              <a:pPr>
                <a:lnSpc>
                  <a:spcPct val="95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723960"/>
                  <a:tab algn="l" pos="14479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宋体"/>
                </a:rPr>
                <a:t>请在此添加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3"/>
            <p:cNvSpPr/>
            <p:nvPr/>
          </p:nvSpPr>
          <p:spPr>
            <a:xfrm>
              <a:off x="917640" y="4281480"/>
              <a:ext cx="1628640" cy="324720"/>
            </a:xfrm>
            <a:prstGeom prst="roundRect">
              <a:avLst>
                <a:gd name="adj" fmla="val 16667"/>
              </a:avLst>
            </a:prstGeom>
            <a:solidFill>
              <a:srgbClr val="1b01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产品 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5"/>
          <p:cNvGrpSpPr/>
          <p:nvPr/>
        </p:nvGrpSpPr>
        <p:grpSpPr>
          <a:xfrm>
            <a:off x="3025800" y="4281480"/>
            <a:ext cx="1628640" cy="1603440"/>
            <a:chOff x="3025800" y="4281480"/>
            <a:chExt cx="1628640" cy="1603440"/>
          </a:xfrm>
        </p:grpSpPr>
        <p:sp>
          <p:nvSpPr>
            <p:cNvPr id="65" name="AutoShape 5"/>
            <p:cNvSpPr/>
            <p:nvPr/>
          </p:nvSpPr>
          <p:spPr>
            <a:xfrm>
              <a:off x="3036600" y="4311720"/>
              <a:ext cx="1612800" cy="1573200"/>
            </a:xfrm>
            <a:prstGeom prst="roundRect">
              <a:avLst>
                <a:gd name="adj" fmla="val 8153"/>
              </a:avLst>
            </a:prstGeom>
            <a:solidFill>
              <a:srgbClr val="735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5000" bIns="45000" anchor="ctr">
              <a:noAutofit/>
            </a:bodyPr>
            <a:p>
              <a:pPr>
                <a:lnSpc>
                  <a:spcPct val="95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723960"/>
                  <a:tab algn="l" pos="14479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宋体"/>
                </a:rPr>
                <a:t>请在此添加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6"/>
            <p:cNvSpPr/>
            <p:nvPr/>
          </p:nvSpPr>
          <p:spPr>
            <a:xfrm>
              <a:off x="3025800" y="4281480"/>
              <a:ext cx="1628640" cy="318960"/>
            </a:xfrm>
            <a:prstGeom prst="roundRect">
              <a:avLst>
                <a:gd name="adj" fmla="val 16667"/>
              </a:avLst>
            </a:prstGeom>
            <a:solidFill>
              <a:srgbClr val="1b01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产品 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5099040" y="4281480"/>
            <a:ext cx="1628640" cy="1603080"/>
            <a:chOff x="5099040" y="4281480"/>
            <a:chExt cx="1628640" cy="1603080"/>
          </a:xfrm>
        </p:grpSpPr>
        <p:sp>
          <p:nvSpPr>
            <p:cNvPr id="68" name="AutoShape 8"/>
            <p:cNvSpPr/>
            <p:nvPr/>
          </p:nvSpPr>
          <p:spPr>
            <a:xfrm>
              <a:off x="5109840" y="4319280"/>
              <a:ext cx="1617480" cy="1565280"/>
            </a:xfrm>
            <a:prstGeom prst="roundRect">
              <a:avLst>
                <a:gd name="adj" fmla="val 8153"/>
              </a:avLst>
            </a:prstGeom>
            <a:solidFill>
              <a:srgbClr val="735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5000" bIns="45000" anchor="ctr">
              <a:noAutofit/>
            </a:bodyPr>
            <a:p>
              <a:pPr>
                <a:lnSpc>
                  <a:spcPct val="95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723960"/>
                  <a:tab algn="l" pos="14479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宋体"/>
                </a:rPr>
                <a:t>请在此添加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9"/>
            <p:cNvSpPr/>
            <p:nvPr/>
          </p:nvSpPr>
          <p:spPr>
            <a:xfrm>
              <a:off x="5099040" y="4281480"/>
              <a:ext cx="1628640" cy="329760"/>
            </a:xfrm>
            <a:prstGeom prst="roundRect">
              <a:avLst>
                <a:gd name="adj" fmla="val 16667"/>
              </a:avLst>
            </a:prstGeom>
            <a:solidFill>
              <a:srgbClr val="1b01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590840"/>
                  <a:tab algn="l" pos="1855800"/>
                  <a:tab algn="l" pos="212076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产品 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10"/>
          <p:cNvSpPr/>
          <p:nvPr/>
        </p:nvSpPr>
        <p:spPr>
          <a:xfrm>
            <a:off x="917640" y="2290680"/>
            <a:ext cx="1600200" cy="1514520"/>
          </a:xfrm>
          <a:prstGeom prst="roundRect">
            <a:avLst>
              <a:gd name="adj" fmla="val 8153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 flipV="1">
            <a:off x="2611440" y="2866320"/>
            <a:ext cx="324000" cy="361800"/>
          </a:xfrm>
          <a:prstGeom prst="rightArrow">
            <a:avLst>
              <a:gd name="adj1" fmla="val 32148"/>
              <a:gd name="adj2" fmla="val 38569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 flipV="1" rot="5400000">
            <a:off x="7978680" y="3200400"/>
            <a:ext cx="324000" cy="362160"/>
          </a:xfrm>
          <a:prstGeom prst="rightArrow">
            <a:avLst>
              <a:gd name="adj1" fmla="val 34806"/>
              <a:gd name="adj2" fmla="val 49588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194600" y="2301840"/>
            <a:ext cx="1896840" cy="836640"/>
          </a:xfrm>
          <a:prstGeom prst="roundRect">
            <a:avLst>
              <a:gd name="adj" fmla="val 11741"/>
            </a:avLst>
          </a:pr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5388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7186680" y="3654360"/>
            <a:ext cx="1909800" cy="86040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7209000" y="4997520"/>
            <a:ext cx="1866600" cy="860400"/>
          </a:xfrm>
          <a:prstGeom prst="roundRect">
            <a:avLst>
              <a:gd name="adj" fmla="val 8153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6"/>
          <p:cNvSpPr/>
          <p:nvPr/>
        </p:nvSpPr>
        <p:spPr>
          <a:xfrm flipV="1" rot="5400000">
            <a:off x="7977960" y="4579200"/>
            <a:ext cx="325440" cy="362160"/>
          </a:xfrm>
          <a:prstGeom prst="rightArrow">
            <a:avLst>
              <a:gd name="adj1" fmla="val 34806"/>
              <a:gd name="adj2" fmla="val 49588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7"/>
          <p:cNvSpPr/>
          <p:nvPr/>
        </p:nvSpPr>
        <p:spPr>
          <a:xfrm flipV="1">
            <a:off x="4718160" y="2866320"/>
            <a:ext cx="323640" cy="361800"/>
          </a:xfrm>
          <a:prstGeom prst="rightArrow">
            <a:avLst>
              <a:gd name="adj1" fmla="val 32148"/>
              <a:gd name="adj2" fmla="val 38569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8"/>
          <p:cNvSpPr/>
          <p:nvPr/>
        </p:nvSpPr>
        <p:spPr>
          <a:xfrm>
            <a:off x="3041640" y="2290680"/>
            <a:ext cx="1600200" cy="1514520"/>
          </a:xfrm>
          <a:prstGeom prst="roundRect">
            <a:avLst>
              <a:gd name="adj" fmla="val 8153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9"/>
          <p:cNvSpPr/>
          <p:nvPr/>
        </p:nvSpPr>
        <p:spPr>
          <a:xfrm>
            <a:off x="5129280" y="2290680"/>
            <a:ext cx="1600200" cy="1514520"/>
          </a:xfrm>
          <a:prstGeom prst="roundRect">
            <a:avLst>
              <a:gd name="adj" fmla="val 8153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2766960" y="2284560"/>
            <a:ext cx="5846760" cy="110016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2766960" y="3544920"/>
            <a:ext cx="5846760" cy="110016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2766960" y="4805280"/>
            <a:ext cx="5846760" cy="1100160"/>
          </a:xfrm>
          <a:prstGeom prst="roundRect">
            <a:avLst>
              <a:gd name="adj" fmla="val 11741"/>
            </a:avLst>
          </a:pr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 rot="5400000">
            <a:off x="1290240" y="2406600"/>
            <a:ext cx="1449360" cy="120492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 rot="5400000">
            <a:off x="1290240" y="3666960"/>
            <a:ext cx="1449360" cy="120492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 rot="5400000">
            <a:off x="1290240" y="4927320"/>
            <a:ext cx="1449360" cy="120492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409760" y="2833560"/>
            <a:ext cx="114300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35388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409760" y="4094280"/>
            <a:ext cx="114300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35388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409760" y="5354640"/>
            <a:ext cx="114300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353880"/>
                <a:tab algn="l" pos="72396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产品 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1"/>
          <p:cNvSpPr/>
          <p:nvPr/>
        </p:nvSpPr>
        <p:spPr>
          <a:xfrm>
            <a:off x="1112760" y="2076480"/>
            <a:ext cx="5605560" cy="4560840"/>
          </a:xfrm>
          <a:prstGeom prst="triangle">
            <a:avLst>
              <a:gd name="adj" fmla="val 50000"/>
            </a:avLst>
          </a:pr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3844800" y="237492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3844800" y="374328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844800" y="511164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397d9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  <a:tab algn="l" pos="7157880"/>
                <a:tab algn="l" pos="7423200"/>
                <a:tab algn="l" pos="7688160"/>
                <a:tab algn="l" pos="795348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宋体"/>
              </a:rPr>
              <a:t>请在此添加文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1"/>
          <p:cNvSpPr/>
          <p:nvPr/>
        </p:nvSpPr>
        <p:spPr>
          <a:xfrm>
            <a:off x="1724040" y="2333520"/>
            <a:ext cx="1979640" cy="107964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b0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4994280" y="2333520"/>
            <a:ext cx="1979640" cy="107964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6621480" y="2333520"/>
            <a:ext cx="1979640" cy="107964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35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目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724040" y="3521160"/>
            <a:ext cx="1476360" cy="2519280"/>
          </a:xfrm>
          <a:custGeom>
            <a:avLst/>
            <a:gdLst>
              <a:gd name="textAreaLeft" fmla="*/ 50760 w 1476360"/>
              <a:gd name="textAreaRight" fmla="*/ 1425600 w 1476360"/>
              <a:gd name="textAreaTop" fmla="*/ 50760 h 2519280"/>
              <a:gd name="textAreaBottom" fmla="*/ 2468520 h 2519280"/>
            </a:gdLst>
            <a:ahLst/>
            <a:rect l="textAreaLeft" t="textAreaTop" r="textAreaRight" b="textAreaBottom"/>
            <a:pathLst>
              <a:path w="21600" h="36855">
                <a:moveTo>
                  <a:pt x="2536" y="0"/>
                </a:moveTo>
                <a:arcTo wR="2536" hR="2536" stAng="16200000" swAng="-5400000"/>
                <a:lnTo>
                  <a:pt x="0" y="34319"/>
                </a:lnTo>
                <a:arcTo wR="2536" hR="2536" stAng="10800000" swAng="-5400000"/>
                <a:lnTo>
                  <a:pt x="19064" y="36855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添加此步骤的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3360600" y="2333520"/>
            <a:ext cx="1979640" cy="107964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360600" y="3521160"/>
            <a:ext cx="1476360" cy="2519280"/>
          </a:xfrm>
          <a:custGeom>
            <a:avLst/>
            <a:gdLst>
              <a:gd name="textAreaLeft" fmla="*/ 50760 w 1476360"/>
              <a:gd name="textAreaRight" fmla="*/ 1425600 w 1476360"/>
              <a:gd name="textAreaTop" fmla="*/ 50760 h 2519280"/>
              <a:gd name="textAreaBottom" fmla="*/ 2468520 h 2519280"/>
            </a:gdLst>
            <a:ahLst/>
            <a:rect l="textAreaLeft" t="textAreaTop" r="textAreaRight" b="textAreaBottom"/>
            <a:pathLst>
              <a:path w="21600" h="36855">
                <a:moveTo>
                  <a:pt x="2536" y="0"/>
                </a:moveTo>
                <a:arcTo wR="2536" hR="2536" stAng="16200000" swAng="-5400000"/>
                <a:lnTo>
                  <a:pt x="0" y="34319"/>
                </a:lnTo>
                <a:arcTo wR="2536" hR="2536" stAng="10800000" swAng="-5400000"/>
                <a:lnTo>
                  <a:pt x="19064" y="36855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添加此步骤的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4994280" y="3521160"/>
            <a:ext cx="1476360" cy="2519280"/>
          </a:xfrm>
          <a:custGeom>
            <a:avLst/>
            <a:gdLst>
              <a:gd name="textAreaLeft" fmla="*/ 50760 w 1476360"/>
              <a:gd name="textAreaRight" fmla="*/ 1425600 w 1476360"/>
              <a:gd name="textAreaTop" fmla="*/ 50760 h 2519280"/>
              <a:gd name="textAreaBottom" fmla="*/ 2468520 h 2519280"/>
            </a:gdLst>
            <a:ahLst/>
            <a:rect l="textAreaLeft" t="textAreaTop" r="textAreaRight" b="textAreaBottom"/>
            <a:pathLst>
              <a:path w="21600" h="36855">
                <a:moveTo>
                  <a:pt x="2536" y="0"/>
                </a:moveTo>
                <a:arcTo wR="2536" hR="2536" stAng="16200000" swAng="-5400000"/>
                <a:lnTo>
                  <a:pt x="0" y="34319"/>
                </a:lnTo>
                <a:arcTo wR="2536" hR="2536" stAng="10800000" swAng="-5400000"/>
                <a:lnTo>
                  <a:pt x="19064" y="36855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添加此步骤的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6621480" y="3521160"/>
            <a:ext cx="1476360" cy="2519280"/>
          </a:xfrm>
          <a:custGeom>
            <a:avLst/>
            <a:gdLst>
              <a:gd name="textAreaLeft" fmla="*/ 50760 w 1476360"/>
              <a:gd name="textAreaRight" fmla="*/ 1425600 w 1476360"/>
              <a:gd name="textAreaTop" fmla="*/ 50760 h 2519280"/>
              <a:gd name="textAreaBottom" fmla="*/ 2468520 h 2519280"/>
            </a:gdLst>
            <a:ahLst/>
            <a:rect l="textAreaLeft" t="textAreaTop" r="textAreaRight" b="textAreaBottom"/>
            <a:pathLst>
              <a:path w="21600" h="36855">
                <a:moveTo>
                  <a:pt x="2536" y="0"/>
                </a:moveTo>
                <a:arcTo wR="2536" hR="2536" stAng="16200000" swAng="-5400000"/>
                <a:lnTo>
                  <a:pt x="0" y="34319"/>
                </a:lnTo>
                <a:arcTo wR="2536" hR="2536" stAng="10800000" swAng="-5400000"/>
                <a:lnTo>
                  <a:pt x="19064" y="36855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397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请添加此步骤的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1176480" y="3827520"/>
            <a:ext cx="2363760" cy="2123640"/>
            <a:chOff x="1176480" y="3827520"/>
            <a:chExt cx="2363760" cy="2123640"/>
          </a:xfrm>
        </p:grpSpPr>
        <p:sp>
          <p:nvSpPr>
            <p:cNvPr id="106" name="AutoShape 2"/>
            <p:cNvSpPr/>
            <p:nvPr/>
          </p:nvSpPr>
          <p:spPr>
            <a:xfrm>
              <a:off x="1179360" y="3838320"/>
              <a:ext cx="2347920" cy="2112840"/>
            </a:xfrm>
            <a:prstGeom prst="roundRect">
              <a:avLst>
                <a:gd name="adj" fmla="val 8153"/>
              </a:avLst>
            </a:prstGeom>
            <a:solidFill>
              <a:srgbClr val="397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  <a:tab algn="l" pos="6892920"/>
                  <a:tab algn="l" pos="7157880"/>
                  <a:tab algn="l" pos="74232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宋体"/>
                </a:rPr>
                <a:t>请在此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3"/>
            <p:cNvSpPr/>
            <p:nvPr/>
          </p:nvSpPr>
          <p:spPr>
            <a:xfrm>
              <a:off x="1176480" y="3827520"/>
              <a:ext cx="2363760" cy="323280"/>
            </a:xfrm>
            <a:prstGeom prst="roundRect">
              <a:avLst>
                <a:gd name="adj" fmla="val 16667"/>
              </a:avLst>
            </a:prstGeom>
            <a:solidFill>
              <a:srgbClr val="1b01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  <a:tab algn="l" pos="6892920"/>
                  <a:tab algn="l" pos="7157880"/>
                  <a:tab algn="l" pos="74232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部门 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6630840" y="3809880"/>
            <a:ext cx="2361960" cy="2134800"/>
            <a:chOff x="6630840" y="3809880"/>
            <a:chExt cx="2361960" cy="2134800"/>
          </a:xfrm>
        </p:grpSpPr>
        <p:sp>
          <p:nvSpPr>
            <p:cNvPr id="109" name="AutoShape 5"/>
            <p:cNvSpPr/>
            <p:nvPr/>
          </p:nvSpPr>
          <p:spPr>
            <a:xfrm>
              <a:off x="6630840" y="3825360"/>
              <a:ext cx="2347920" cy="2119320"/>
            </a:xfrm>
            <a:prstGeom prst="roundRect">
              <a:avLst>
                <a:gd name="adj" fmla="val 8153"/>
              </a:avLst>
            </a:prstGeom>
            <a:solidFill>
              <a:srgbClr val="397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  <a:tab algn="l" pos="6892920"/>
                  <a:tab algn="l" pos="7157880"/>
                  <a:tab algn="l" pos="74232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宋体"/>
                </a:rPr>
                <a:t>请在此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6631920" y="3809880"/>
              <a:ext cx="2360880" cy="342720"/>
            </a:xfrm>
            <a:prstGeom prst="roundRect">
              <a:avLst>
                <a:gd name="adj" fmla="val 16667"/>
              </a:avLst>
            </a:prstGeom>
            <a:solidFill>
              <a:srgbClr val="1b01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  <a:tab algn="l" pos="6892920"/>
                  <a:tab algn="l" pos="7157880"/>
                  <a:tab algn="l" pos="74232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部门 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3916440" y="3821040"/>
            <a:ext cx="2349360" cy="2130120"/>
            <a:chOff x="3916440" y="3821040"/>
            <a:chExt cx="2349360" cy="2130120"/>
          </a:xfrm>
        </p:grpSpPr>
        <p:sp>
          <p:nvSpPr>
            <p:cNvPr id="112" name="AutoShape 8"/>
            <p:cNvSpPr/>
            <p:nvPr/>
          </p:nvSpPr>
          <p:spPr>
            <a:xfrm>
              <a:off x="3920760" y="3831840"/>
              <a:ext cx="2342880" cy="2119320"/>
            </a:xfrm>
            <a:prstGeom prst="roundRect">
              <a:avLst>
                <a:gd name="adj" fmla="val 8153"/>
              </a:avLst>
            </a:prstGeom>
            <a:solidFill>
              <a:srgbClr val="397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  <a:tab algn="l" pos="6892920"/>
                  <a:tab algn="l" pos="7157880"/>
                  <a:tab algn="l" pos="74232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宋体"/>
                </a:rPr>
                <a:t>请在此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3916440" y="3821040"/>
              <a:ext cx="2349360" cy="329400"/>
            </a:xfrm>
            <a:prstGeom prst="roundRect">
              <a:avLst>
                <a:gd name="adj" fmla="val 16667"/>
              </a:avLst>
            </a:prstGeom>
            <a:solidFill>
              <a:srgbClr val="1b01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  <a:tab algn="l" pos="6892920"/>
                  <a:tab algn="l" pos="7157880"/>
                  <a:tab algn="l" pos="74232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部门 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3916440" y="2265480"/>
            <a:ext cx="2341440" cy="1049400"/>
            <a:chOff x="3916440" y="2265480"/>
            <a:chExt cx="2341440" cy="1049400"/>
          </a:xfrm>
        </p:grpSpPr>
        <p:sp>
          <p:nvSpPr>
            <p:cNvPr id="115" name="AutoShape 11"/>
            <p:cNvSpPr/>
            <p:nvPr/>
          </p:nvSpPr>
          <p:spPr>
            <a:xfrm>
              <a:off x="3919320" y="2344320"/>
              <a:ext cx="2336400" cy="968400"/>
            </a:xfrm>
            <a:prstGeom prst="roundRect">
              <a:avLst>
                <a:gd name="adj" fmla="val 8153"/>
              </a:avLst>
            </a:prstGeom>
            <a:solidFill>
              <a:srgbClr val="397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  <a:tab algn="l" pos="6892920"/>
                  <a:tab algn="l" pos="7157880"/>
                  <a:tab algn="l" pos="74232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  <a:tab algn="l" pos="6892920"/>
                  <a:tab algn="l" pos="7157880"/>
                  <a:tab algn="l" pos="74232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宋体"/>
                </a:rPr>
                <a:t>请在此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AutoShape 12"/>
            <p:cNvCxnSpPr>
              <a:stCxn id="115" idx="2"/>
              <a:endCxn id="115" idx="2"/>
            </p:cNvCxnSpPr>
            <p:nvPr/>
          </p:nvCxnSpPr>
          <p:spPr>
            <a:xfrm>
              <a:off x="5088240" y="3313080"/>
              <a:ext cx="1800" cy="216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117" name="AutoShape 13"/>
            <p:cNvSpPr/>
            <p:nvPr/>
          </p:nvSpPr>
          <p:spPr>
            <a:xfrm>
              <a:off x="3916440" y="2265480"/>
              <a:ext cx="2341440" cy="344880"/>
            </a:xfrm>
            <a:prstGeom prst="roundRect">
              <a:avLst>
                <a:gd name="adj" fmla="val 16667"/>
              </a:avLst>
            </a:prstGeom>
            <a:solidFill>
              <a:srgbClr val="1b01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386080"/>
                  <a:tab algn="l" pos="2651040"/>
                  <a:tab algn="l" pos="2916360"/>
                  <a:tab algn="l" pos="3181320"/>
                  <a:tab algn="l" pos="3446640"/>
                  <a:tab algn="l" pos="3711600"/>
                  <a:tab algn="l" pos="3976560"/>
                  <a:tab algn="l" pos="4241880"/>
                  <a:tab algn="l" pos="4506840"/>
                  <a:tab algn="l" pos="4772160"/>
                  <a:tab algn="l" pos="5037120"/>
                  <a:tab algn="l" pos="5302080"/>
                  <a:tab algn="l" pos="5567400"/>
                  <a:tab algn="l" pos="5832360"/>
                  <a:tab algn="l" pos="6097680"/>
                  <a:tab algn="l" pos="6362640"/>
                  <a:tab algn="l" pos="6627960"/>
                  <a:tab algn="l" pos="6892920"/>
                  <a:tab algn="l" pos="7157880"/>
                  <a:tab algn="l" pos="74232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执行董事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8" name="AutoShape 14"/>
          <p:cNvCxnSpPr/>
          <p:nvPr/>
        </p:nvCxnSpPr>
        <p:spPr>
          <a:xfrm>
            <a:off x="5089680" y="3315960"/>
            <a:ext cx="3600" cy="506880"/>
          </a:xfrm>
          <a:prstGeom prst="bentConnector3">
            <a:avLst>
              <a:gd name="adj1" fmla="val 444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AutoShape 15"/>
          <p:cNvCxnSpPr/>
          <p:nvPr/>
        </p:nvCxnSpPr>
        <p:spPr>
          <a:xfrm>
            <a:off x="5089320" y="3316320"/>
            <a:ext cx="2726280" cy="496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AutoShape 16"/>
          <p:cNvCxnSpPr/>
          <p:nvPr/>
        </p:nvCxnSpPr>
        <p:spPr>
          <a:xfrm flipV="1" rot="10800000">
            <a:off x="2358360" y="3315960"/>
            <a:ext cx="2731320" cy="51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Text Box 17"/>
          <p:cNvSpPr/>
          <p:nvPr/>
        </p:nvSpPr>
        <p:spPr>
          <a:xfrm>
            <a:off x="893880" y="144360"/>
            <a:ext cx="84373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1" lang="en-US" sz="3600" spc="-1" strike="noStrike">
                <a:solidFill>
                  <a:srgbClr val="1b012e"/>
                </a:solidFill>
                <a:latin typeface="宋体"/>
              </a:rPr>
              <a:t>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18440"/>
                <a:tab algn="l" pos="8483760"/>
                <a:tab algn="l" pos="8748720"/>
                <a:tab algn="l" pos="9013680"/>
                <a:tab algn="l" pos="9279000"/>
                <a:tab algn="l" pos="9543960"/>
                <a:tab algn="l" pos="9809280"/>
                <a:tab algn="l" pos="10074240"/>
                <a:tab algn="l" pos="10339560"/>
                <a:tab algn="l" pos="10604520"/>
                <a:tab algn="l" pos="10869480"/>
              </a:tabLst>
            </a:pPr>
            <a:r>
              <a:rPr b="0" lang="en-US" sz="2400" spc="-1" strike="noStrike">
                <a:solidFill>
                  <a:srgbClr val="397d96"/>
                </a:solidFill>
                <a:latin typeface="宋体"/>
              </a:rPr>
              <a:t>请插入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1:38:15Z</dcterms:created>
  <dc:creator>Administrator</dc:creator>
  <dc:description/>
  <dc:language>en-US</dc:language>
  <cp:lastModifiedBy>Administrator</cp:lastModifiedBy>
  <dcterms:modified xsi:type="dcterms:W3CDTF">2015-07-13T07:03:45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838</vt:lpwstr>
  </property>
</Properties>
</file>