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242-99DB-49B2-B810-7817BA3B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291-B38C-4CFC-B7C1-BAA01826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2F1-6F8C-4AD8-AB7B-C495A4F0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3DB0-D5E8-408B-A91C-AD4E66CF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208A-E5A2-404D-A1C2-BD8B2BFE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F5D9-37C3-4112-BE42-B629F12B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77A-18F7-4776-97B1-62A88B0F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B297-3026-47D6-BAAD-12850544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1E5-FDB8-4B0F-9004-4AF3CD94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C1CA-F30F-49E1-95FF-F1C54D97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A9A-190B-4934-946B-FF373702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3A1-1FA9-4F42-9BA5-89419CE4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FD22-B271-4B34-B43E-BFD6E34FB9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86080" y="1241280"/>
            <a:ext cx="52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57720" y="17906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>
            <a:off x="3429000" y="1812960"/>
            <a:ext cx="2500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4"/>
          <p:cNvSpPr/>
          <p:nvPr/>
        </p:nvSpPr>
        <p:spPr>
          <a:xfrm>
            <a:off x="3786120" y="1955880"/>
            <a:ext cx="2571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1406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2120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4265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712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2836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1783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4283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5997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57121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2568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568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2120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6408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4978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5569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19260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6355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1568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6283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6-30T08:29:41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