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0AF-C4BA-479A-82E1-2A090862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411-F690-4975-91F0-FDCC0ABC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62E-B724-46DD-85BF-366D3D7C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AC6-FD98-4790-B661-B24819B5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35F-91B8-40C8-B362-4388D55D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F63-C373-43F4-8F9F-B7DF2FD3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6FC-B70F-412D-9B9A-107D187E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35B-0942-4845-B901-D45260A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724-3989-4FCF-8D25-648ED0F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6A2-483A-4BFB-8AE8-2C84E2EE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E3B-62B3-4734-885F-48B748C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5DB-B29C-4BC6-BA62-EE01357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3193-202C-4A49-91DF-0B8CE3B70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19280" y="117360"/>
            <a:ext cx="55436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招聘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干事（从中选出一名副部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2720" y="2476440"/>
            <a:ext cx="4537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挂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去自习室，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加一些大的比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谈一次恋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刻想着如何提高自己做好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3718080"/>
            <a:ext cx="4105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6121440" cy="5018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24360" y="262080"/>
            <a:ext cx="5040360" cy="32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加入资助部真真是极好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90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虽然小，但小小的身体里能爆发出惊人的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虽然实力不强，但我们依然在大大的希望里小小的努力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1806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477360"/>
            <a:ext cx="9182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文艺部的才艺，但我们有像组织部的后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外联部的人脉，但我们有像宣传部的多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宣传部的多彩 ，但我们有像学习部的高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秘书部的文采，但我们有像生活部的简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组织部的后台，但我们有像文艺部的才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学习部的高分，但我们有像外联部的人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生活部的简约，但我们有像秘书部的文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332000" y="1270080"/>
            <a:ext cx="6696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我是资助部，我为自己代言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-25560"/>
            <a:ext cx="9074160" cy="687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资助部现人员构成：部长  芦竹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副部长  吴金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部的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部是我们外国语学院于去年九月份在“团学组织”第一次例会上决策通过的具有外国语学院“团学组织”特色的部门。属于团委下的分管学生资助工作的部门。但是由于我们工作内容的复杂性和性质的特殊性，我们的工作又独立于其他部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体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年全院贫困生的评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励志奖学金的评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源地贷款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辅助导员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4T18:12:19Z</dcterms:created>
  <dc:creator>Windows 用户</dc:creator>
  <dc:description/>
  <dc:language>en-US</dc:language>
  <cp:lastModifiedBy>123456</cp:lastModifiedBy>
  <dcterms:modified xsi:type="dcterms:W3CDTF">2013-09-08T08:12:3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