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DF5-A800-4634-B861-C872230F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8008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881520"/>
            <a:ext cx="8008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D33-6134-4FEB-9FE7-1829790C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B71-3A73-4689-A172-5FA7335A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4200" y="120636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2120" y="120636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88152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4200" y="388152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2120" y="388152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053-7477-47E4-B4E5-83A1137A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62C4-CD12-4E78-B1A6-0E6F1B7C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206360"/>
            <a:ext cx="80089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a9b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88DF-6193-4ED3-B3D4-7992EE0C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8008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10CC-8797-461C-B612-5E43D43A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9DC9-6128-4196-B821-2F9F250E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111D-1175-435F-9F2D-A630EDDD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66280" y="188640"/>
            <a:ext cx="80089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a9b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1BA-F316-4618-8126-77E3BC9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DF1E-10DC-4906-B848-9F99FEC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206360"/>
            <a:ext cx="80089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a9b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191-D536-40EF-9BD5-F897A8B0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0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7FF-4582-4827-9908-C77C97D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881520"/>
            <a:ext cx="8008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D469-14A4-4DD6-9F04-0BCA62AB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8008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881520"/>
            <a:ext cx="8008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ABEE-E67E-4847-9B95-F0933CB8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0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39F9-6AE3-4FF6-9EDF-98FB8D10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4200" y="120636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2120" y="120636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88152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4200" y="388152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2120" y="3881520"/>
            <a:ext cx="25786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3B6C-673E-49C6-B61A-600EBC99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8008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4F6-321F-46EC-9CAC-5E9CDE4C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922-F6FD-44F3-8A1C-65F61BDB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AC3-8A66-4699-9301-11A32D6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6280" y="188640"/>
            <a:ext cx="80089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a9b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C8B-11B2-4A50-A849-EA135913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969-ACB3-4DCB-81B7-87CC5E1D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88152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07A-867F-47B3-B41D-8776BCC6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206360"/>
            <a:ext cx="39081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881520"/>
            <a:ext cx="8008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E0E-2199-439B-923D-C2E359D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" descr=""/>
          <p:cNvPicPr/>
          <p:nvPr/>
        </p:nvPicPr>
        <p:blipFill>
          <a:blip r:embed="rId2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-25560"/>
            <a:ext cx="91566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2" name="图片 11" descr=""/>
          <p:cNvPicPr/>
          <p:nvPr/>
        </p:nvPicPr>
        <p:blipFill>
          <a:blip r:embed="rId3"/>
          <a:srcRect l="6328" t="13670" r="30940" b="15353"/>
          <a:stretch/>
        </p:blipFill>
        <p:spPr>
          <a:xfrm>
            <a:off x="47520" y="5614920"/>
            <a:ext cx="1038240" cy="1243080"/>
          </a:xfrm>
          <a:prstGeom prst="rect">
            <a:avLst/>
          </a:prstGeom>
          <a:ln w="0">
            <a:noFill/>
          </a:ln>
        </p:spPr>
      </p:pic>
      <p:sp>
        <p:nvSpPr>
          <p:cNvPr id="3" name="矩形 6"/>
          <p:cNvSpPr/>
          <p:nvPr/>
        </p:nvSpPr>
        <p:spPr>
          <a:xfrm>
            <a:off x="0" y="6356520"/>
            <a:ext cx="9156600" cy="501480"/>
          </a:xfrm>
          <a:prstGeom prst="rect">
            <a:avLst/>
          </a:prstGeom>
          <a:solidFill>
            <a:srgbClr val="d0294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66280" y="1206360"/>
            <a:ext cx="8008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d02942"/>
              </a:buClr>
              <a:buSzPct val="8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02942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5f5f5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02942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02942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02942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02942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02942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02942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28200" y="6396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029040" y="63961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457680" y="6396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E6D-83CD-4ABB-9E84-BBF09A8CF710}" type="slidenum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9c1f31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0" descr=""/>
          <p:cNvPicPr/>
          <p:nvPr/>
        </p:nvPicPr>
        <p:blipFill>
          <a:blip r:embed="rId2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"/>
          <p:cNvPicPr/>
          <p:nvPr/>
        </p:nvPicPr>
        <p:blipFill>
          <a:blip r:embed="rId3"/>
          <a:srcRect l="6332" t="13667" r="30932" b="15346"/>
          <a:stretch/>
        </p:blipFill>
        <p:spPr>
          <a:xfrm>
            <a:off x="0" y="2146320"/>
            <a:ext cx="3400560" cy="4073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65AE-0F6D-4CCF-90FB-C595521DFC88}" type="slidenum">
              <a:rPr b="0" lang="zh-CN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274560" y="1677960"/>
            <a:ext cx="56451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9c1f31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a9b2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ea9b26"/>
              </a:solidFill>
              <a:latin typeface="Times New Roman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7f7f7f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4560" y="1677960"/>
            <a:ext cx="56451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86080" y="2973240"/>
            <a:ext cx="56325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a9b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6280" y="188640"/>
            <a:ext cx="80089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9c1f3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06360"/>
            <a:ext cx="8008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0294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7T08:59:40Z</dcterms:modified>
  <cp:revision>113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1766</vt:lpwstr>
  </property>
  <property fmtid="{D5CDD505-2E9C-101B-9397-08002B2CF9AE}" pid="3" name="name">
    <vt:lpwstr>A000120150209A01PWBG.ppt</vt:lpwstr>
  </property>
</Properties>
</file>