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8999538" cy="57594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6D22-6323-47C5-AFCD-8FE47E5D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0360" y="333036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8429-B25F-44BB-9E36-6CF99FB05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0152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9752-27C4-4ED1-9F05-723B28B69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924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28480" y="134424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36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924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28480" y="3330360"/>
            <a:ext cx="260820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593E-B95A-4F45-B940-FD977CF0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A30F-02C1-41B9-8B07-901BED843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2CA8-D2D7-4062-8713-30D623873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4B2C-A33C-4F61-A529-871E4F507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CA535-797E-4B53-99A5-C1590E44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360" y="230040"/>
            <a:ext cx="8101080" cy="44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4C11C-E80D-48FC-A255-A32A4ECC2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FF0C-A563-4CD0-9937-F5345D94B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01520" y="333036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4E12-8E51-496E-9019-0EDBA01C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036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1520" y="1344240"/>
            <a:ext cx="395316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0360" y="3330360"/>
            <a:ext cx="8101080" cy="181332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/>
          </a:bodyPr>
          <a:p>
            <a:pPr indent="0">
              <a:spcBef>
                <a:spcPts val="751"/>
              </a:spcBef>
              <a:buNone/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045A-2394-4D53-BB40-F7FACFED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0360" y="230040"/>
            <a:ext cx="8101080" cy="96048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0360" y="1344240"/>
            <a:ext cx="8101080" cy="38019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t">
            <a:normAutofit fontScale="98000"/>
          </a:bodyPr>
          <a:p>
            <a:pPr marL="309600" indent="-30960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71760" indent="-25812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1032840" indent="-20520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446480" indent="-20520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4" marL="1860480" indent="-20664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5" marL="1860480" indent="-20664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6" marL="1860480" indent="-206640"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0720" y="5339880"/>
            <a:ext cx="2100240" cy="306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zh-CN" sz="11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fld id="{B7F53815-AD5B-469D-95EE-C2834473E8BD}" type="datetime">
              <a:rPr b="0" lang="zh-CN" sz="1100" spc="-1" strike="noStrike">
                <a:solidFill>
                  <a:srgbClr val="898989"/>
                </a:solidFill>
                <a:latin typeface="Calibri"/>
                <a:ea typeface="MS PGothic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74760" y="5339880"/>
            <a:ext cx="2850840" cy="306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p>
            <a:pPr indent="0"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1560" y="5339880"/>
            <a:ext cx="2100240" cy="306360"/>
          </a:xfrm>
          <a:prstGeom prst="rect">
            <a:avLst/>
          </a:prstGeom>
          <a:noFill/>
          <a:ln w="0">
            <a:noFill/>
          </a:ln>
        </p:spPr>
        <p:txBody>
          <a:bodyPr lIns="84240" rIns="84240" tIns="42120" bIns="4212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  <a:defRPr b="0" lang="zh-CN" sz="11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fld id="{571E2A19-070C-48B9-8169-8277A63A9449}" type="slidenum">
              <a:rPr b="0" lang="zh-CN" sz="11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2418"/>
          <p:cNvPicPr/>
          <p:nvPr/>
        </p:nvPicPr>
        <p:blipFill>
          <a:blip r:embed="rId2"/>
          <a:stretch/>
        </p:blipFill>
        <p:spPr>
          <a:xfrm>
            <a:off x="0" y="0"/>
            <a:ext cx="8966160" cy="5738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6"/>
          <p:cNvSpPr/>
          <p:nvPr/>
        </p:nvSpPr>
        <p:spPr>
          <a:xfrm>
            <a:off x="0" y="2160720"/>
            <a:ext cx="9001080" cy="1150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众泰上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店头活动策划方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接连接符 3"/>
          <p:cNvSpPr/>
          <p:nvPr/>
        </p:nvSpPr>
        <p:spPr>
          <a:xfrm>
            <a:off x="755640" y="2952720"/>
            <a:ext cx="7143840" cy="3240"/>
          </a:xfrm>
          <a:prstGeom prst="line">
            <a:avLst/>
          </a:prstGeom>
          <a:ln w="38160">
            <a:solidFill>
              <a:srgbClr val="fe3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468360" y="1152360"/>
            <a:ext cx="66214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圆角矩形 2"/>
          <p:cNvSpPr/>
          <p:nvPr/>
        </p:nvSpPr>
        <p:spPr>
          <a:xfrm>
            <a:off x="466560" y="93672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展厅布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3"/>
          <p:cNvSpPr/>
          <p:nvPr/>
        </p:nvSpPr>
        <p:spPr>
          <a:xfrm>
            <a:off x="898560" y="1512720"/>
            <a:ext cx="7162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优惠车辆静态展示摆放（方便客户看车为主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客户洽谈区域摆放（温馨的环境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、丰盛的冷餐供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C:\Documents and Settings\Administrator.F4B28C07AA624B9\Application Data\Tencent\Users\381807694\QQ\WinTemp\RichOle\~$WWD7X@E(2XCEQ64))XYDS.jpg"/>
          <p:cNvPicPr/>
          <p:nvPr/>
        </p:nvPicPr>
        <p:blipFill>
          <a:blip r:embed="rId1"/>
          <a:stretch/>
        </p:blipFill>
        <p:spPr>
          <a:xfrm>
            <a:off x="590400" y="3191040"/>
            <a:ext cx="3765600" cy="2400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Administrator.F4B28C07AA624B9\Application Data\Tencent\Users\381807694\QQ\WinTemp\RichOle\_[`U]V]26T[STM3[JI7V0$X.jpg"/>
          <p:cNvPicPr/>
          <p:nvPr/>
        </p:nvPicPr>
        <p:blipFill>
          <a:blip r:embed="rId2"/>
          <a:stretch/>
        </p:blipFill>
        <p:spPr>
          <a:xfrm>
            <a:off x="4356000" y="3168720"/>
            <a:ext cx="2264040" cy="2448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C:\Documents and Settings\Administrator.F4B28C07AA624B9\Application Data\Tencent\Users\381807694\QQ\WinTemp\RichOle\{WKM(3WC1(L92NTJ9R}_6I3.jpg"/>
          <p:cNvPicPr/>
          <p:nvPr/>
        </p:nvPicPr>
        <p:blipFill>
          <a:blip r:embed="rId3"/>
          <a:stretch/>
        </p:blipFill>
        <p:spPr>
          <a:xfrm>
            <a:off x="6508800" y="3168720"/>
            <a:ext cx="2222280" cy="24670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直接连接符 2"/>
          <p:cNvSpPr/>
          <p:nvPr/>
        </p:nvSpPr>
        <p:spPr>
          <a:xfrm>
            <a:off x="676440" y="2664000"/>
            <a:ext cx="7143480" cy="1440"/>
          </a:xfrm>
          <a:prstGeom prst="line">
            <a:avLst/>
          </a:prstGeom>
          <a:ln w="38160">
            <a:solidFill>
              <a:srgbClr val="fe3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圆角矩形 2"/>
          <p:cNvSpPr/>
          <p:nvPr/>
        </p:nvSpPr>
        <p:spPr>
          <a:xfrm>
            <a:off x="898560" y="64764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开场节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42920" y="1944720"/>
            <a:ext cx="317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03200" indent="4017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众泰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员工献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1547640" y="2665440"/>
            <a:ext cx="5115240" cy="3068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圆角矩形 2"/>
          <p:cNvSpPr/>
          <p:nvPr/>
        </p:nvSpPr>
        <p:spPr>
          <a:xfrm>
            <a:off x="250920" y="865080"/>
            <a:ext cx="2560680" cy="847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订车仪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Documents and Settings\Administrator.F4B28C07AA624B9\Application Data\Tencent\Users\381807694\QQ\WinTemp\RichOle\LS18YZM5(07`%RMBLS5C}$F.jpg"/>
          <p:cNvPicPr/>
          <p:nvPr/>
        </p:nvPicPr>
        <p:blipFill>
          <a:blip r:embed="rId1"/>
          <a:stretch/>
        </p:blipFill>
        <p:spPr>
          <a:xfrm>
            <a:off x="2627280" y="2736720"/>
            <a:ext cx="3971880" cy="2881440"/>
          </a:xfrm>
          <a:prstGeom prst="rect">
            <a:avLst/>
          </a:prstGeom>
          <a:ln w="0">
            <a:noFill/>
          </a:ln>
        </p:spPr>
      </p:pic>
      <p:sp>
        <p:nvSpPr>
          <p:cNvPr id="83" name="TextBox 3"/>
          <p:cNvSpPr/>
          <p:nvPr/>
        </p:nvSpPr>
        <p:spPr>
          <a:xfrm>
            <a:off x="855720" y="21178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订车客户拍照、摄影留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持人引导办法订车礼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圆角矩形 2"/>
          <p:cNvSpPr/>
          <p:nvPr/>
        </p:nvSpPr>
        <p:spPr>
          <a:xfrm>
            <a:off x="539640" y="100800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红娘礼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682560" y="1728720"/>
            <a:ext cx="7945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期间老客户介绍新客户成功购车，新老客户均获得大礼一份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1835280" y="2448000"/>
            <a:ext cx="4819680" cy="33685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29"/>
          <p:cNvSpPr/>
          <p:nvPr/>
        </p:nvSpPr>
        <p:spPr>
          <a:xfrm>
            <a:off x="8292960" y="2521080"/>
            <a:ext cx="324000" cy="1918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2"/>
          <p:cNvSpPr/>
          <p:nvPr/>
        </p:nvSpPr>
        <p:spPr>
          <a:xfrm>
            <a:off x="7999920" y="2276640"/>
            <a:ext cx="482760" cy="241200"/>
          </a:xfrm>
          <a:prstGeom prst="rect">
            <a:avLst/>
          </a:prstGeom>
          <a:noFill/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3440" rIns="73440" tIns="36720" bIns="367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交车仪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"/>
          <p:cNvSpPr/>
          <p:nvPr/>
        </p:nvSpPr>
        <p:spPr>
          <a:xfrm>
            <a:off x="611280" y="287280"/>
            <a:ext cx="2098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流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2560" y="792000"/>
          <a:ext cx="7365960" cy="4788000"/>
        </p:xfrm>
        <a:graphic>
          <a:graphicData uri="http://schemas.openxmlformats.org/drawingml/2006/table">
            <a:tbl>
              <a:tblPr/>
              <a:tblGrid>
                <a:gridCol w="1246320"/>
                <a:gridCol w="831600"/>
                <a:gridCol w="2652840"/>
                <a:gridCol w="2635200"/>
              </a:tblGrid>
              <a:tr h="6145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时长（分钟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项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内容简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538dd5"/>
                    </a:solidFill>
                  </a:tcPr>
                </a:tc>
              </a:tr>
              <a:tr h="341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物料安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地毯、条幅、桌椅摆放、冷餐摆放及音响调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: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责任确认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参与工作人员签到，再次明确分工及注意事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45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 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签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前台接待和销售助理负责客户签到，填写客户个人信息，并登记邀约朋友人数，由销售顾问引领顾客就坐，销售部根据登记情况，分配销售顾问接待，餐饮服务人员上饮料和茶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: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开始，主持人介绍活动流程，渲染现场气氛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流程简介，秒杀流程说明：首先介绍活动亮点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活动内设丰盛的冷餐、邀约客户颁奖；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、简述顾客到店至成交后的活动安排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8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: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开场节目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S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员工歌曲演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(</a:t>
                      </a: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舞蹈配合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8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: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总经理优惠车型价格公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屏幕显示优惠车型价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秒杀购车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然后限时秒杀开始，各车型逐一进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: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现场洽谈环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销售顾问与邀约参会的客户进行洽谈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订车仪式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现场有签单的，音乐配合进行一个订车仪式，主持人现场采访、录像、合影留念，并颁发订车礼品，最后温馨提示顾客若是打车来店订车客户，我店会安排车辆送离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60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: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统计环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统计所有订单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360"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: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活动结束，活动现场清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" rIns="6120" tIns="61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所有工作人员进行活动清场，撤掉相关物料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" marR="61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标题 1"/>
          <p:cNvSpPr/>
          <p:nvPr/>
        </p:nvSpPr>
        <p:spPr>
          <a:xfrm>
            <a:off x="216000" y="0"/>
            <a:ext cx="14284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>
              <a:lnSpc>
                <a:spcPct val="12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圆角矩形 2"/>
          <p:cNvSpPr/>
          <p:nvPr/>
        </p:nvSpPr>
        <p:spPr>
          <a:xfrm>
            <a:off x="539640" y="64764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后期工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64080" y="1859040"/>
            <a:ext cx="34725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Arial"/>
              </a:rPr>
              <a:t>针对活动当晚，有意向未成交的客户，在后期进行及时追踪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形式：电话或者短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再次邀约到店做一对一的专属咨询服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后续店内及车型最新活动保持及时沟通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0" y="2174760"/>
            <a:ext cx="9001080" cy="12099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4800" spc="-1" strike="noStrike">
                <a:solidFill>
                  <a:srgbClr val="262626"/>
                </a:solidFill>
                <a:latin typeface="Arial Black"/>
                <a:ea typeface="微软雅黑"/>
              </a:rPr>
              <a:t>THA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标题 1"/>
          <p:cNvSpPr/>
          <p:nvPr/>
        </p:nvSpPr>
        <p:spPr>
          <a:xfrm>
            <a:off x="324000" y="839880"/>
            <a:ext cx="168912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640" rIns="80640" tIns="40320" bIns="40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03280" y="1944720"/>
            <a:ext cx="619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超越五一  暑期再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      ——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众泰汽车首届厂商领导签购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2"/>
          <p:cNvSpPr/>
          <p:nvPr/>
        </p:nvSpPr>
        <p:spPr>
          <a:xfrm>
            <a:off x="106200" y="64764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概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1114560" y="1584360"/>
            <a:ext cx="677232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主题：超越五一  暑期再惠——众泰汽车厂商领导签购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时间：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7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-7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15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形式：店头促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目的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、提升品牌知名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、通过暑假促销，吸引客户进店，增加集客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三、促进销售，提高成交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Picture4"/>
          <p:cNvPicPr/>
          <p:nvPr/>
        </p:nvPicPr>
        <p:blipFill>
          <a:blip r:embed="rId1"/>
          <a:stretch/>
        </p:blipFill>
        <p:spPr>
          <a:xfrm>
            <a:off x="800280" y="1833480"/>
            <a:ext cx="907920" cy="6732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24"/>
          <p:cNvSpPr/>
          <p:nvPr/>
        </p:nvSpPr>
        <p:spPr>
          <a:xfrm>
            <a:off x="900000" y="2160720"/>
            <a:ext cx="6338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800" spc="-1" strike="noStrike">
                <a:solidFill>
                  <a:srgbClr val="ff33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00ff"/>
                </a:solidFill>
                <a:latin typeface="微软雅黑"/>
                <a:ea typeface="微软雅黑"/>
              </a:rPr>
              <a:t>提高客户忠诚度，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201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  <a:ea typeface="宋体"/>
              </a:rPr>
              <a:t>3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年学校暑假假期即将到来，面对低迷的汽车消费市场，各商家纷纷开展以促销为主题的活动来增加展厅集客和促成交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为回馈遵义地区广大众泰客户，特别推出政策优惠车型，限时、限量、限价销售，刺激客户的购买欲望，达到增加展厅集客和促成交的目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5"/>
          <p:cNvSpPr/>
          <p:nvPr/>
        </p:nvSpPr>
        <p:spPr>
          <a:xfrm>
            <a:off x="754200" y="4757760"/>
            <a:ext cx="4252680" cy="57132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685800" y="4784760"/>
            <a:ext cx="4321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2"/>
          <p:cNvSpPr/>
          <p:nvPr/>
        </p:nvSpPr>
        <p:spPr>
          <a:xfrm>
            <a:off x="322200" y="64764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景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活动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圆角矩形 2"/>
          <p:cNvSpPr/>
          <p:nvPr/>
        </p:nvSpPr>
        <p:spPr>
          <a:xfrm>
            <a:off x="250920" y="792000"/>
            <a:ext cx="209844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59280" y="1736640"/>
            <a:ext cx="46825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03200" indent="40176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针对优惠车型制定震撼的价格政策，吸引客户来店，刺激购买欲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40176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针对来店客户制定相应的奖励政策，促进成交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401760">
              <a:lnSpc>
                <a:spcPct val="2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店头及展厅物料布置，营造促销氛围，形成视觉冲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03200" indent="401760">
              <a:lnSpc>
                <a:spcPct val="2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圆角矩形 2"/>
          <p:cNvSpPr/>
          <p:nvPr/>
        </p:nvSpPr>
        <p:spPr>
          <a:xfrm>
            <a:off x="539640" y="86364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亮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855720" y="2211480"/>
            <a:ext cx="77724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亮点</a:t>
            </a:r>
            <a:r>
              <a:rPr b="1" lang="en-US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1</a:t>
            </a:r>
            <a:r>
              <a:rPr b="1" lang="zh-CN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：活动针对性强、目的性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针对重点保有客户集中开展，有的放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58ed5"/>
              </a:buClr>
              <a:buFont typeface="Wingdings" charset="2"/>
              <a:buChar char="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亮点</a:t>
            </a:r>
            <a:r>
              <a:rPr b="1" lang="en-US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2</a:t>
            </a:r>
            <a:r>
              <a:rPr b="1" lang="zh-CN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：现场秒杀，加快下定速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通过营造现场强烈的抢购感，及制定钜惠的秒杀价格，促进成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"/>
              <a:tabLst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1600" spc="-1" strike="noStrike">
                <a:solidFill>
                  <a:srgbClr val="1f497d"/>
                </a:solidFill>
                <a:latin typeface="华文楷体"/>
                <a:ea typeface="华文楷体"/>
              </a:rPr>
              <a:t>秒杀说明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</a:t>
            </a:r>
            <a:r>
              <a:rPr b="0" lang="zh-CN" sz="1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由总经理在活动当晚揭幕秒杀价格，然后在规定的时间内，分车型，逐一进行；由销售顾问给顾客提供一对一的服务，详谈意向车型，秒杀优惠活动具有时效性，过时则恢复正常的成交价格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圆角矩形 2"/>
          <p:cNvSpPr/>
          <p:nvPr/>
        </p:nvSpPr>
        <p:spPr>
          <a:xfrm>
            <a:off x="395280" y="792000"/>
            <a:ext cx="2098800" cy="505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855720" y="2211480"/>
            <a:ext cx="75373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ff33cc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ff33cc"/>
                </a:solidFill>
                <a:latin typeface="华文楷体"/>
                <a:ea typeface="华文楷体"/>
              </a:rPr>
              <a:t>、乐享超低价回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遵义宇晟众泰强势促销，全系车型超低价钜惠，最高优惠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0.5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万元，再送千元装饰大礼包，并有机会现场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0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元秒杀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00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元装饰礼，数量有限，限时抢购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ff0000"/>
                </a:solidFill>
                <a:latin typeface="华文楷体"/>
                <a:ea typeface="华文楷体"/>
              </a:rPr>
              <a:t>、乐享红娘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        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活动期间老客户介绍新客户成功购车，新老客户均获得大礼一份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3127320" y="620640"/>
            <a:ext cx="1349280" cy="360"/>
            <a:chOff x="3127320" y="620640"/>
            <a:chExt cx="1349280" cy="360"/>
          </a:xfrm>
        </p:grpSpPr>
        <p:sp>
          <p:nvSpPr>
            <p:cNvPr id="59" name="Line 78"/>
            <p:cNvSpPr/>
            <p:nvPr/>
          </p:nvSpPr>
          <p:spPr>
            <a:xfrm>
              <a:off x="3127320" y="620640"/>
              <a:ext cx="1349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-42120" bIns="-4212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3127320" y="620640"/>
              <a:ext cx="1349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84240" rIns="84240" tIns="-41760" bIns="-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04960"/>
                  <a:tab algn="l" pos="1609560"/>
                  <a:tab algn="l" pos="2414520"/>
                  <a:tab algn="l" pos="3219480"/>
                  <a:tab algn="l" pos="4024440"/>
                  <a:tab algn="l" pos="4829040"/>
                  <a:tab algn="l" pos="5634000"/>
                  <a:tab algn="l" pos="6438960"/>
                  <a:tab algn="l" pos="7243920"/>
                  <a:tab algn="l" pos="8048520"/>
                  <a:tab algn="l" pos="8853480"/>
                  <a:tab algn="l" pos="9658440"/>
                  <a:tab algn="l" pos="104630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圆角矩形 2"/>
          <p:cNvSpPr/>
          <p:nvPr/>
        </p:nvSpPr>
        <p:spPr>
          <a:xfrm>
            <a:off x="466560" y="863640"/>
            <a:ext cx="209880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活动执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855720" y="1512720"/>
            <a:ext cx="7772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活动邀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电话邀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告知重点意向客户该活动优惠信息，邀约参加（提前</a:t>
            </a: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天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短信邀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告知重点意向客户该活动优惠信息，邀约参加（提前</a:t>
            </a: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天）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展厅客户邀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告知展厅看车客户该活动优惠信息，邀约参加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4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、活动当天（</a:t>
            </a:r>
            <a:r>
              <a:rPr b="0" lang="en-US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201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年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7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月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15</a:t>
            </a:r>
            <a:r>
              <a:rPr b="0" lang="zh-CN" sz="1600" spc="-1" strike="noStrike">
                <a:solidFill>
                  <a:srgbClr val="0000ff"/>
                </a:solidFill>
                <a:latin typeface="华文楷体"/>
                <a:ea typeface="华文楷体"/>
              </a:rPr>
              <a:t>日）友情提示意向客户活动举办时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圆角矩形 2"/>
          <p:cNvSpPr/>
          <p:nvPr/>
        </p:nvSpPr>
        <p:spPr>
          <a:xfrm>
            <a:off x="250920" y="863640"/>
            <a:ext cx="2098440" cy="504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3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展厅室外布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2521080"/>
            <a:ext cx="374472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344840" y="271296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1584360"/>
            <a:ext cx="4189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344840" y="271296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87280" y="1871640"/>
            <a:ext cx="5835960" cy="3745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11280" y="1440000"/>
            <a:ext cx="323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展厅室外物料布置，营造活动气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89F5D-E51B-4830-8002-B9B0AE114580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2:01:05Z</dcterms:created>
  <dc:creator>Administrator</dc:creator>
  <dc:description/>
  <dc:language>en-US</dc:language>
  <cp:lastModifiedBy>杨光</cp:lastModifiedBy>
  <dcterms:modified xsi:type="dcterms:W3CDTF">2013-06-25T08:12:08Z</dcterms:modified>
  <cp:revision>18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