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7DB9-2798-4F0D-AC7A-FAB64FEF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24B6-D6D2-4F2C-A58B-9AA3452F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9DB9-F27F-4AFE-80AB-A6DAFDB0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D140-F98D-41FF-A423-F57F4F81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4EDF-2D49-4EEB-874C-AB76B0F7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1B3B-A62E-4BDF-BC0C-B18B9602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60DC-5215-46F4-9D34-4C5C4522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E0F8-2FD8-47A0-BFCE-20C420FE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6EB1-558C-4EFB-AE10-25137310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48CF-921B-4985-BB63-96378347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D001-3257-43F0-AA20-81AE0553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7D70-8312-4946-A991-CB06B3C7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21DD-6BEE-4A28-9A3A-A72DAF89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7714-274E-46B6-AE46-4EC8EC70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CB24-E4D3-4AC0-A14E-72CC7C58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13C5-F59F-48BC-9BE8-00C50BA6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0D5C-E480-4406-94BB-48425545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1108-25CE-424F-8AAC-B0CFF58F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855-0761-42CA-A5A5-DA84E43C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4AE1-B408-4E37-986A-79F3421B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948B-3DFD-44E2-A52C-DF0CAB28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545-FEC3-414A-ADE1-D6A145D8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AF4D-494F-4CC6-83D7-619405F0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A7C8-B6DA-4478-B62B-52EF88FE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C315-1EEC-4E8A-B56B-22F71E8EBC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3109-5A47-4DBA-B5D6-9D4AB52C07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1800" y="2232000"/>
            <a:ext cx="7340400" cy="1146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ecff"/>
                </a:solidFill>
                <a:latin typeface="Arial"/>
              </a:rPr>
              <a:t>做最好的你自己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y Ques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成绩到底有多么重要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为什么今天不讲讲怎么准备考试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Verdana"/>
              </a:rPr>
              <a:t>成绩很重要，但不是大学里最重要的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Verdana"/>
              </a:rPr>
              <a:t>大学里最重要的，是学会生活，适应社会，把握自己的人生，发现自己的人生意义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Verdana"/>
              </a:rPr>
              <a:t>成绩也不要差，否则被企业和学校怀疑为没有学习能力。成绩好是好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611280" y="2852640"/>
            <a:ext cx="468144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内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628640"/>
            <a:ext cx="8540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三十年后我是什么样子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为什么我这么迷惘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们前面的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思，故我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做最好的你自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分享感想、文章和书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爱心接力活动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我们前面的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267920"/>
            <a:ext cx="85406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保研（本系、中科院等单位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考研（换个自己喜欢的专业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出国（在本专业方向深造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就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          </a:t>
            </a: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正如我们要吃饭，我们也要就业。而且对大部分人来说，工作的时间占据了人醒着时的一半左右，难道你希望这一半的时间都郁闷吗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          </a:t>
            </a: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我们也许有挑食的自由，可是我们有挑选工作的自由么？我是否已经强大到可以挑工作了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找工作→就业→职业→事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6084720" y="1627200"/>
            <a:ext cx="792360" cy="1873080"/>
          </a:xfrm>
          <a:custGeom>
            <a:avLst/>
            <a:gdLst>
              <a:gd name="textAreaLeft" fmla="*/ 0 w 792360"/>
              <a:gd name="textAreaRight" fmla="*/ 286200 w 79236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948360" y="220176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就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1619280" y="3500280"/>
            <a:ext cx="439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y Ques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不是听说，出国第一，保研第二，考研第三，工作第四么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Verdana"/>
              </a:rPr>
              <a:t>没有高低之分，只有个人发展方向的区别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611280" y="3429000"/>
            <a:ext cx="468144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内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628640"/>
            <a:ext cx="8540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三十年后我是什么样子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为什么我这么迷惘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们前面的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思，故我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做最好的你自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分享感想、文章和书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爱心接力活动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我思，故我在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大学里能做什么？（以终为始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简历（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ume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教育背景（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ducation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研究经历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实习经历（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perience/Internship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领导能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社会工作（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adership/Social Work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课外活动（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racurricular Activities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荣誉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奖励（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nors/Awards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计算机和外语技能（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uter/English Skills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爱好特长等其它个人信息（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rsonal Info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Verdana"/>
              </a:rPr>
              <a:t>                    </a:t>
            </a:r>
            <a:r>
              <a:rPr b="0" lang="zh-CN" sz="2400" spc="-1" strike="noStrike">
                <a:solidFill>
                  <a:srgbClr val="ccecff"/>
                </a:solidFill>
                <a:latin typeface="Verdana"/>
              </a:rPr>
              <a:t>一个都不能少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我思，故我在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育背景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ducation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认真学习本专业知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辅修，双学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交换学生（新加坡、香港、欧美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其它形式的学习（斯坦福北大分校等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          </a:t>
            </a: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多元化的教育以及由此带来的多元知识结构，会使你更能适应社会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我思，故我在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研究经历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实习经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大三尝试进入实验室学习，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利用大二、大三的寒暑假实习（不是家教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不要把寒暑假完全用来休息了，这是接触社会、锻炼自己的好机会，尤其是漫长的暑假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Verdana"/>
              </a:rPr>
              <a:t>          </a:t>
            </a: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也许通过寒暑假的实习接触社会，你会发现自己喜欢的行业</a:t>
            </a:r>
            <a:r>
              <a:rPr b="0" lang="en-US" sz="2800" spc="-1" strike="noStrike">
                <a:solidFill>
                  <a:srgbClr val="ccecff"/>
                </a:solidFill>
                <a:latin typeface="Verdana"/>
              </a:rPr>
              <a:t>/</a:t>
            </a: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职业。也许你喜欢研究，那就好好学习，好好深造；也许你喜欢企业运营，那么就先在社会上好好锻炼自己吧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我思，故我在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领导能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社会工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加入学生会或者社团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尝试一下竞选的感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承担责任，尝试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领导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的滋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向他人学习，锻炼自己的沟通和协作能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          </a:t>
            </a: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即使是研发人员，也是要合作的，不会与人合作，几乎不能胜任任何工作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我思，故我在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课外活动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racurricular Activities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志愿者（运动会、志愿者协会、各类大型活动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竞赛（卡拉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k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m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、创业大赛、挑战杯、演讲十佳、北大之锋、企业在校园举办的大赛等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主持人、校广播站、校电视台、校园记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暑期社会实践（到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基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去看看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国际交流（拓宽视野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www.oir.pku.edu.cn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爱心接力（也许将来你就在台上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                 </a:t>
            </a: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原来生活可以更美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某空调广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内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628640"/>
            <a:ext cx="8540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三十年后我是什么样子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为什么我这么迷惘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们前面的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思，故我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做最好的你自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分享感想、文章和书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爱心接力活动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我思，故我在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荣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奖励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nors/Awards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学习成绩优秀的奖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参加竞赛获得奖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参加各种社会工作或者活动获得奖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       </a:t>
            </a: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总得有点什么证明一下自己吧</a:t>
            </a:r>
            <a:r>
              <a:rPr b="0" lang="zh-CN" sz="2800" spc="-1" strike="noStrike">
                <a:solidFill>
                  <a:srgbClr val="ccec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我思，故我在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计算机和外语技能（两个重要的武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计算机（使用）专家，舍你其谁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外语：英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连话都不会说，怎么和别人交流、合作？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     </a:t>
            </a: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用武器把我们武装到牙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6227640" y="4292640"/>
            <a:ext cx="2448000" cy="2266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我思，故我在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爱好特长等其它个人信息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sonal Info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好好想想，总会有自己的兴趣爱好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看书、运动是爱好，木工、针线活也是爱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特长是专注的结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                    </a:t>
            </a: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不走寻常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周杰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y Ques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都忙不过来，哪有那么多时间参加上面那么多活动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1.</a:t>
            </a:r>
            <a:r>
              <a:rPr b="0" lang="zh-CN" sz="3200" spc="-1" strike="noStrike">
                <a:solidFill>
                  <a:srgbClr val="ccecff"/>
                </a:solidFill>
                <a:latin typeface="Verdana"/>
              </a:rPr>
              <a:t>时间都是挤出来的，试想如果生病住院两天，你这学期会不及格么？（你没那么忙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2.</a:t>
            </a:r>
            <a:r>
              <a:rPr b="0" lang="zh-CN" sz="3200" spc="-1" strike="noStrike">
                <a:solidFill>
                  <a:srgbClr val="ccecff"/>
                </a:solidFill>
                <a:latin typeface="Verdana"/>
              </a:rPr>
              <a:t>有选择的参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我思，故我在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——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个习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能做的这么多，我如何选择？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以终为始（习惯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要事第一（习惯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根据自己的目标和兴趣，有重点的选择参与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积极地规划大学生活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为什么我不像中学那样是明星了？我有挫折感，我真的没用么？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操之在我（习惯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选择积极而非消极的态度看待事物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      </a:t>
            </a: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对自己负责，凡事用心，尽力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有勇气改变可以改变的事情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有度量接受不可改变的事情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有智慧分辩以上两者的不同。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我思，故我在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——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个习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6156360" y="6165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李开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我思，故我在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——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个习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个人已经做得不错了，如何才能更好？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双赢思维（习惯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知彼解己（习惯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统合综效（习惯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4105440" y="5648400"/>
            <a:ext cx="1409400" cy="660240"/>
          </a:xfrm>
          <a:prstGeom prst="sun">
            <a:avLst>
              <a:gd name="adj" fmla="val 25000"/>
            </a:avLst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Object 8" descr=""/>
          <p:cNvPicPr/>
          <p:nvPr/>
        </p:nvPicPr>
        <p:blipFill>
          <a:blip r:embed="rId1"/>
          <a:stretch/>
        </p:blipFill>
        <p:spPr>
          <a:xfrm>
            <a:off x="3902040" y="2905200"/>
            <a:ext cx="2049480" cy="3276360"/>
          </a:xfrm>
          <a:prstGeom prst="rect">
            <a:avLst/>
          </a:prstGeom>
          <a:ln w="0">
            <a:noFill/>
          </a:ln>
        </p:spPr>
      </p:pic>
      <p:sp>
        <p:nvSpPr>
          <p:cNvPr id="224" name="Line 9"/>
          <p:cNvSpPr/>
          <p:nvPr/>
        </p:nvSpPr>
        <p:spPr>
          <a:xfrm flipH="1">
            <a:off x="5324040" y="6080040"/>
            <a:ext cx="1559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5019480" y="5165640"/>
            <a:ext cx="1912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5705640" y="348948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7499520" y="576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文鼎特粗黑简"/>
              </a:rPr>
              <a:t>双赢思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7490160" y="4875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文鼎特粗黑简"/>
              </a:rPr>
              <a:t>知彼解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7480800" y="3171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文鼎特粗黑简"/>
              </a:rPr>
              <a:t>统合综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我思，故我在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——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个习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们要平衡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不断更新（习惯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注意适当运动和饮食营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学习新知识，自我教育，写日记，多思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逐步确立正确的人生观、价值观、生命的意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历练待人处事之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新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四有新人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ccecff"/>
                </a:solidFill>
                <a:latin typeface="Verdana"/>
              </a:rPr>
              <a:t>：有身体、有知识、有精神、有朋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ls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y Ques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个习惯这些观点我都赞同，甚至有些习惯早就知道了。好是好，可是用不上啊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Verdana"/>
              </a:rPr>
              <a:t>好好看书</a:t>
            </a: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《</a:t>
            </a:r>
            <a:r>
              <a:rPr b="0" lang="zh-CN" sz="3200" spc="-1" strike="noStrike">
                <a:solidFill>
                  <a:srgbClr val="ccecff"/>
                </a:solidFill>
                <a:latin typeface="Verdana"/>
              </a:rPr>
              <a:t>高效能人士的七个习惯</a:t>
            </a: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》</a:t>
            </a:r>
            <a:r>
              <a:rPr b="0" lang="zh-CN" sz="3200" spc="-1" strike="noStrike">
                <a:solidFill>
                  <a:srgbClr val="ccecff"/>
                </a:solidFill>
                <a:latin typeface="Verdana"/>
              </a:rPr>
              <a:t>，你会发现其实你对很多习惯的理解，并不深刻。理解不深，自然无法运用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Verdana"/>
              </a:rPr>
              <a:t>认真学习和理解</a:t>
            </a:r>
            <a:r>
              <a:rPr b="0" lang="en-US" sz="3200" spc="-1" strike="noStrike">
                <a:solidFill>
                  <a:srgbClr val="ccecff"/>
                </a:solidFill>
                <a:latin typeface="Verdana"/>
              </a:rPr>
              <a:t>7</a:t>
            </a:r>
            <a:r>
              <a:rPr b="0" lang="zh-CN" sz="3200" spc="-1" strike="noStrike">
                <a:solidFill>
                  <a:srgbClr val="ccecff"/>
                </a:solidFill>
                <a:latin typeface="Verdana"/>
              </a:rPr>
              <a:t>个习惯，并用在实际生活中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611280" y="4005360"/>
            <a:ext cx="4681440" cy="576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内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680" y="1628640"/>
            <a:ext cx="8540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三十年后我是什么样子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为什么我这么迷惘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们前面的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思，故我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做最好的你自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分享感想、文章和书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爱心接力活动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611280" y="1628640"/>
            <a:ext cx="468144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内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28640"/>
            <a:ext cx="8540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三十年后我是什么样子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为什么我这么迷惘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们前面的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思，故我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做最好的你自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分享感想、文章和书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爱心接力活动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做最好的你自己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人要成为他真正的自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马克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注解：每个人的幸福和理想是不一样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认真快乐地走自己的路，让别人去说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根据诗人但丁名言改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注解：走自己的路虽然很酷，但不是你放任自己的理由，看看前面的修饰副词先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做最好的你自己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你可以跟别人比，但你更要和自己比，每天都要比昨天进步一点点，做自己生活的主宰，不要陷入了别人的有意无意为你设下的陷阱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s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过去不等于今天，更不等于未来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成功学大师安东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罗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注解：过去的情况不是你现在逃避的借口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9"/>
          <p:cNvSpPr/>
          <p:nvPr/>
        </p:nvSpPr>
        <p:spPr>
          <a:xfrm>
            <a:off x="611280" y="4581360"/>
            <a:ext cx="468144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内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628640"/>
            <a:ext cx="8540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三十年后我是什么样子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为什么我这么迷惘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们前面的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思，故我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做最好的你自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分享感想、文章和书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爱心接力活动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分享感想、文章和书籍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的一些感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重要的不是多大的面子，而是快乐的日子。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多点反思，多点自信，多点认真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少点盲目，少点自卑，少点遗憾。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做最好的你自己，任何时候都不晚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分享感想、文章和书籍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补充一句，不管有多忙，一定要尽量挤出时间来读书，读自己感兴趣或者相关知识有待补充的书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推荐一些文章和书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吐血推荐（一定要看哦）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李开复写给中国学生的信（共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封）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[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美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]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史蒂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柯维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高效能人士的七个习惯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，中国青年出版社，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元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徐小平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图穷对话录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，光明日报出版社，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3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元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许轶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剪裁人生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，机械工业出版社，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9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元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2195640" y="0"/>
            <a:ext cx="48672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4537080" y="189000"/>
            <a:ext cx="4572000" cy="6553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2"/>
          <a:stretch/>
        </p:blipFill>
        <p:spPr>
          <a:xfrm>
            <a:off x="36360" y="216000"/>
            <a:ext cx="4418280" cy="6526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分享感想、文章和书籍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推荐一些文章和书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选择性推荐（选择性看哦）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想出国的同学看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徐小平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美国留学天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美国签证哲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》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其它新东方出版的留学咨询书籍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想就业的同学看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北京纽哈斯国际教育咨询有限公司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求职胜经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》 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，机械工业出版社，上下册共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49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时间比较富裕的同学可以再看看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徐小平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骑驴找马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（修订版为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邮箱里的灯光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）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这本是对徐小平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图穷对话录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的补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</a:rPr>
              <a:t>看过徐小平的书后，一般会信心增强，更加努力奋斗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9"/>
          <p:cNvSpPr/>
          <p:nvPr/>
        </p:nvSpPr>
        <p:spPr>
          <a:xfrm>
            <a:off x="611280" y="5157720"/>
            <a:ext cx="4681440" cy="57636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内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628640"/>
            <a:ext cx="8540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三十年后我是什么样子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为什么我这么迷惘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们前面的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思，故我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做最好的你自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分享感想、文章和书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爱心接力活动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爱心接力活动介绍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个习惯的学习与探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生辅导员项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十年后我是什么样子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有希望成为什么？（时势造英雄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胡锦涛、俞敏洪、李彦宏、王选、陈章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肉店老板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?!?!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606680" cy="2232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6516720" y="2276640"/>
            <a:ext cx="1450800" cy="2232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3564000" y="2276640"/>
            <a:ext cx="2160360" cy="210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内容回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628640"/>
            <a:ext cx="88423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三十年后我是什么样子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有希望成为什么，想成为什么，能够、如何成为什么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为什么我这么迷惘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们前面的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思，故我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做最好的你自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分享感想、文章和书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李开复写给中国学生的信、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高效能人士的七个习惯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图穷对话录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剪裁人生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补充几点建议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五一期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好好读一下前面着重推荐的文章和书，为自己的大学生活拟定一个计划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天完成）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留一天时间，别的什么都不做，好好想想自己的计划是否符合自己的兴趣，是否符合自己的特长，是否有实现的可能，并制定一步步可以执行的具体实现计划。并和自己的好友讨论该计划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在大学里剩下的时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任何时刻都不要停止思考，思考是你的生命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不断的锻炼，逐步的进步，逐渐找到自己人生的方向，并不断修改、完善和实现自己的计划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谢谢大家！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祝大家都能成为最好的你自己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2843280" y="2160720"/>
            <a:ext cx="2924280" cy="2923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十年后我是什么样子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想成为什么？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have a dream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××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家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××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长、老板、明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老师、医生、律师、工程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快乐的小职员、流浪者、无所事事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Verdana"/>
              </a:rPr>
              <a:t>每个人都有自己的舞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郭富城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6" descr="J0301252"/>
          <p:cNvPicPr/>
          <p:nvPr/>
        </p:nvPicPr>
        <p:blipFill>
          <a:blip r:embed="rId1"/>
          <a:stretch/>
        </p:blipFill>
        <p:spPr>
          <a:xfrm>
            <a:off x="7020000" y="222408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十年后我是什么样子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能够成为什么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我的能力、经历和条件能让我成为想做的人吗？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如何成为什么？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我是否在努力为自己创造条件（而不是等待天上掉馅饼），向自己的理想前进？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zh-CN" sz="3600" spc="-1" strike="noStrike">
                <a:solidFill>
                  <a:srgbClr val="ccecff"/>
                </a:solidFill>
                <a:latin typeface="Verdana"/>
              </a:rPr>
              <a:t>有条件要上，没有条件创造条件也要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王进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y Ques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现在考虑几十年后的事，是不是太早了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Verdana"/>
              </a:rPr>
              <a:t>千里之行，始于足下。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ccecff"/>
                </a:solidFill>
                <a:latin typeface="Verdana"/>
              </a:rPr>
              <a:t>太对了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Verdana"/>
              </a:rPr>
              <a:t>机会只降临在那些有所准备的人身上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Verdana"/>
              </a:rPr>
              <a:t>不要指望天上掉馅饼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611280" y="2276640"/>
            <a:ext cx="4681440" cy="57600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内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28640"/>
            <a:ext cx="8540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三十年后我是什么样子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为什么我这么迷惘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们前面的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我思，故我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做最好的你自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分享感想、文章和书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爱心接力活动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为什么我这么迷惘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觉得迷茫的请举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客观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大环境、教育制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家庭影响、朋友、身边的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主观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个人缺乏主动的思考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懒得去想，就这么过呗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大家都这样，也没什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12" descr=""/>
          <p:cNvPicPr/>
          <p:nvPr/>
        </p:nvPicPr>
        <p:blipFill>
          <a:blip r:embed="rId1"/>
          <a:stretch/>
        </p:blipFill>
        <p:spPr>
          <a:xfrm>
            <a:off x="5599080" y="1787400"/>
            <a:ext cx="3510000" cy="3802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2:38:07Z</dcterms:created>
  <dc:creator>lee</dc:creator>
  <dc:description/>
  <dc:language>en-US</dc:language>
  <cp:lastModifiedBy>Administrator</cp:lastModifiedBy>
  <dcterms:modified xsi:type="dcterms:W3CDTF">2015-09-17T07:34:25Z</dcterms:modified>
  <cp:revision>142</cp:revision>
  <dc:subject/>
  <dc:title>做最好的你自己</dc:title>
</cp:coreProperties>
</file>