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331c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C8E4-CE20-4D85-A9E5-78426439641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51A-20B9-4E1D-8B80-0F7860FBF0EF}" type="slidenum">
              <a:rPr b="0" lang="zh-CN" sz="1200" spc="-1" strike="noStrike">
                <a:solidFill>
                  <a:srgbClr val="434547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434547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模板来自于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http://docer.mysoeasy.com</a:t>
            </a:r>
            <a:endParaRPr b="0" lang="en-US" sz="1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DFCB-E39A-4A20-8E26-77C309B951F4}" type="slidenum">
              <a:rPr b="0" lang="zh-CN" sz="1200" spc="-1" strike="noStrike">
                <a:solidFill>
                  <a:srgbClr val="434547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4345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354-1ED8-41AB-91C6-FBD071A3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160" y="360792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4FE-27BC-4AD9-AB54-EF3F823A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69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D8E-B308-435F-8BCA-5975EB53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664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412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916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664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412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3F6-A599-47F1-AC66-F8091DF5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6A27-A8D0-4A18-96A5-8F4EEB1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74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42AC-9996-47E6-98AE-7F495DF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C6FC-44D5-4ECD-9BC9-3D9B64B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14FA-B746-4685-97AE-D685050F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ABC-0D86-4D10-966D-8498124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9440" y="175680"/>
            <a:ext cx="6249960" cy="26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748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1D19-10EA-456E-8F05-2AF165FE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4773-4D35-42B9-85CF-D28FA45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74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7BF9-1632-42C6-AF33-F629588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69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8C0E-AB55-4238-8F76-82F7CE6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52A3-8E0C-489E-94C1-1518D03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160" y="360792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A0C8-DAF9-415A-9F04-20286FF1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69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1E2-0844-4BB7-90D5-67BF7DE4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664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74120" y="104940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6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7664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74120" y="3607920"/>
            <a:ext cx="2568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29E2-3E6D-4415-A8D4-2AC1613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931-CDF1-45D1-A5C4-13774FDF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342-D540-4F32-886D-98587017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C25-337C-4BA5-AE8A-3185567C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9440" y="175680"/>
            <a:ext cx="6249960" cy="26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748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AE4-211D-467B-A9F7-5FB52F82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961-F9B2-4C8A-981F-87CBD72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6960" y="360792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8BD-1029-4FB1-B6A7-0E8826E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6960" y="1049400"/>
            <a:ext cx="3892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9160" y="3607920"/>
            <a:ext cx="79772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CA8-AC9A-49A4-9D76-8540D18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7"/>
          <p:cNvSpPr/>
          <p:nvPr/>
        </p:nvSpPr>
        <p:spPr>
          <a:xfrm>
            <a:off x="0" y="657360"/>
            <a:ext cx="9144000" cy="0"/>
          </a:xfrm>
          <a:prstGeom prst="line">
            <a:avLst/>
          </a:prstGeom>
          <a:ln w="6480">
            <a:solidFill>
              <a:srgbClr val="d9d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" name="矩形 8"/>
          <p:cNvSpPr/>
          <p:nvPr/>
        </p:nvSpPr>
        <p:spPr>
          <a:xfrm>
            <a:off x="0" y="863640"/>
            <a:ext cx="9144000" cy="5637240"/>
          </a:xfrm>
          <a:prstGeom prst="rect">
            <a:avLst/>
          </a:prstGeom>
          <a:solidFill>
            <a:srgbClr val="f2f2f2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燕尾形 10"/>
          <p:cNvSpPr/>
          <p:nvPr/>
        </p:nvSpPr>
        <p:spPr>
          <a:xfrm>
            <a:off x="8478720" y="6640560"/>
            <a:ext cx="108000" cy="108000"/>
          </a:xfrm>
          <a:custGeom>
            <a:avLst/>
            <a:gdLst>
              <a:gd name="textAreaLeft" fmla="*/ 0 w 108000"/>
              <a:gd name="textAreaRight" fmla="*/ 10836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77" y="0"/>
                </a:lnTo>
                <a:lnTo>
                  <a:pt x="21600" y="10800"/>
                </a:lnTo>
                <a:lnTo>
                  <a:pt x="7477" y="21600"/>
                </a:lnTo>
                <a:lnTo>
                  <a:pt x="0" y="21600"/>
                </a:lnTo>
                <a:lnTo>
                  <a:pt x="14123" y="10800"/>
                </a:lnTo>
                <a:close/>
              </a:path>
            </a:pathLst>
          </a:custGeom>
          <a:solidFill>
            <a:srgbClr val="b2b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燕尾形 11"/>
          <p:cNvSpPr/>
          <p:nvPr/>
        </p:nvSpPr>
        <p:spPr>
          <a:xfrm flipH="1">
            <a:off x="7858080" y="6640560"/>
            <a:ext cx="108000" cy="108000"/>
          </a:xfrm>
          <a:custGeom>
            <a:avLst/>
            <a:gdLst>
              <a:gd name="textAreaLeft" fmla="*/ 360 w 108000"/>
              <a:gd name="textAreaRight" fmla="*/ 108720 w 108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77" y="0"/>
                </a:lnTo>
                <a:lnTo>
                  <a:pt x="21600" y="10800"/>
                </a:lnTo>
                <a:lnTo>
                  <a:pt x="7477" y="21600"/>
                </a:lnTo>
                <a:lnTo>
                  <a:pt x="0" y="21600"/>
                </a:lnTo>
                <a:lnTo>
                  <a:pt x="14123" y="10800"/>
                </a:lnTo>
                <a:close/>
              </a:path>
            </a:pathLst>
          </a:custGeom>
          <a:solidFill>
            <a:srgbClr val="b2b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直接连接符 13"/>
          <p:cNvSpPr/>
          <p:nvPr/>
        </p:nvSpPr>
        <p:spPr>
          <a:xfrm>
            <a:off x="304920" y="0"/>
            <a:ext cx="0" cy="80172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331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69640" algn="just">
              <a:lnSpc>
                <a:spcPct val="120000"/>
              </a:lnSpc>
              <a:spcBef>
                <a:spcPts val="1199"/>
              </a:spcBef>
              <a:buClr>
                <a:srgbClr val="4f6d7a"/>
              </a:buClr>
              <a:buSzPct val="60000"/>
              <a:buFont typeface="Arial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1" marL="357120" indent="-269640" algn="just">
              <a:lnSpc>
                <a:spcPct val="120000"/>
              </a:lnSpc>
              <a:spcBef>
                <a:spcPts val="1199"/>
              </a:spcBef>
              <a:buClr>
                <a:srgbClr val="8f6c00"/>
              </a:buClr>
              <a:buSzPct val="7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4" marL="2057400" indent="-228600" algn="just">
              <a:lnSpc>
                <a:spcPct val="12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5" marL="2057400" indent="-228600" algn="just">
              <a:lnSpc>
                <a:spcPct val="12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  <a:p>
            <a:pPr lvl="6" marL="2057400" indent="-228600" algn="just">
              <a:lnSpc>
                <a:spcPct val="12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9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90280" y="6261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c8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90400" y="6261120"/>
            <a:ext cx="308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c8f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019720" y="6504120"/>
            <a:ext cx="40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57A-84FC-4D41-B4BB-6CA16270C79F}" type="slidenum">
              <a:rPr b="0" lang="zh-CN" sz="1400" spc="-1" strike="noStrike">
                <a:solidFill>
                  <a:srgbClr val="8c8f9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2" descr=""/>
          <p:cNvPicPr/>
          <p:nvPr/>
        </p:nvPicPr>
        <p:blipFill>
          <a:blip r:embed="rId2"/>
          <a:stretch/>
        </p:blipFill>
        <p:spPr>
          <a:xfrm>
            <a:off x="0" y="1122480"/>
            <a:ext cx="9144000" cy="35049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4" descr=""/>
          <p:cNvPicPr/>
          <p:nvPr/>
        </p:nvPicPr>
        <p:blipFill>
          <a:blip r:embed="rId3"/>
          <a:srcRect l="4346" t="0" r="0" b="0"/>
          <a:stretch/>
        </p:blipFill>
        <p:spPr>
          <a:xfrm>
            <a:off x="0" y="1571760"/>
            <a:ext cx="6767640" cy="528624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5"/>
          <p:cNvSpPr/>
          <p:nvPr/>
        </p:nvSpPr>
        <p:spPr>
          <a:xfrm>
            <a:off x="8247240" y="0"/>
            <a:ext cx="0" cy="450216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2560" y="301320"/>
            <a:ext cx="803520" cy="60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331c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c8f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c8f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c8f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23E-1C21-469E-A0C7-2F4B924C05B3}" type="slidenum">
              <a:rPr b="0" lang="zh-CN" sz="1400" spc="-1" strike="noStrike">
                <a:solidFill>
                  <a:srgbClr val="8c8f9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7480" indent="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2878a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  <a:p>
            <a:pPr lvl="1" marL="87480" indent="0"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17171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717171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54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547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908400" y="1434960"/>
            <a:ext cx="520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7480"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2878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7432560" y="301320"/>
            <a:ext cx="803520" cy="60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42331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9440" y="175680"/>
            <a:ext cx="62499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2331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9160" y="1049400"/>
            <a:ext cx="7977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f9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6-17T03:25:28Z</dcterms:modified>
  <cp:revision>110</cp:revision>
  <dc:subject/>
  <dc:title>fdsa</dc:title>
</cp:coreProperties>
</file>