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9.jpeg" ContentType="image/jpeg"/>
  <Override PartName="/ppt/media/image16.gif" ContentType="image/gif"/>
  <Override PartName="/ppt/media/image15.gif" ContentType="image/gif"/>
  <Override PartName="/ppt/media/image3.jpeg" ContentType="image/jpeg"/>
  <Override PartName="/ppt/media/image14.gif" ContentType="image/gif"/>
  <Override PartName="/ppt/media/image1.jpeg" ContentType="image/jpeg"/>
  <Override PartName="/ppt/media/image10.png" ContentType="image/png"/>
  <Override PartName="/ppt/media/image2.jpeg" ContentType="image/jpeg"/>
  <Override PartName="/ppt/media/image4.jpeg" ContentType="image/jpeg"/>
  <Override PartName="/ppt/media/image13.gif" ContentType="image/gif"/>
  <Override PartName="/ppt/media/image6.gif" ContentType="image/gif"/>
  <Override PartName="/ppt/media/image5.jpeg" ContentType="image/jpeg"/>
  <Override PartName="/ppt/media/image7.gif" ContentType="image/gi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5CA-D996-4CDC-92F2-7F0CBA33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E34E-FA54-478D-8551-F995AA96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8FE2-24B2-499B-B180-6895D05F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684-8EC9-4255-9A69-2638FC83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C25-2898-430F-BD4E-E8D5E769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824-B35D-4C4E-BBD7-DC166528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2B4-A008-4F5A-B538-70951021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268-22A4-4988-AF71-6F58CA90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BCC-46DC-4970-B64A-3FF5D5D8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8CE7-B9AA-4268-958D-671F681A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D29-7726-41BC-B127-3FE98A21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EA5-1621-4F81-AE17-71F18027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6C0D-99C8-49A6-BF8B-F3788DC88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news.163.com/10/0617/18/69DBNSTK000146BC.html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baike.baidu.com/view/17491.htm" TargetMode="External"/><Relationship Id="rId3" Type="http://schemas.openxmlformats.org/officeDocument/2006/relationships/hyperlink" Target="http://baike.baidu.com/view/328330.htm" TargetMode="External"/><Relationship Id="rId4" Type="http://schemas.openxmlformats.org/officeDocument/2006/relationships/hyperlink" Target="http://baike.baidu.com/view/61891.htm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720" y="4941720"/>
            <a:ext cx="4859280" cy="64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二（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5280" y="1773360"/>
            <a:ext cx="583236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尊师重教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227640" cy="70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毛泽东向教师敬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507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5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，毛泽东同志来到阔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故乡韶山，他特意邀请自己在私塾读书时的教师毛禹珠一起用饭，席间热情为老师敬酒。毛禹珠不胜荣幸感慨地说：“主席敬酒，岂敢岂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毛主席却笑盈盈地回答：“敬老尊贤应该应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724360" y="1628640"/>
            <a:ext cx="3419640" cy="37450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周恩来不忘师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华文隶书"/>
                <a:ea typeface="华文隶书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5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，南开大学老校长张伯岑突患脑血栓逝世，周总理参加了治丧委员会并送了花圈，挽联上写着：“张伯岑老师千古，学生周恩来敬挽。”张伯岑病故后，周恩来一直惦记着张家的生活，自然灾害时期，周恩来把自己的购物证给张伯岑夫人，还派人给张夫人送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元，并嘱咐交际处对张夫人及其子女的生活要倍加关照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101920" y="155736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435640" y="1628640"/>
            <a:ext cx="3384360" cy="41259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鲁迅尊敬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6227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鲁迅对启蒙老师寿镜吾一直很尊敬。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到南京读书，每当放假回绍兴时，总要抽空看望寿先生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0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0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在东渡日本留学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间，他经常写信向寿老师汇报自己在异国的学习情况。一次，他奉母命从日本回绍兴办婚事，仅在家中停留了四天，但他仍在百忙中抽时间专程探望了年逾花甲的寿先生。鲁迅在日本还拜章太炎先生为师学文字学。章太炎先生逝世后，他连续撰文两篇纪念</a:t>
            </a:r>
            <a:r>
              <a:rPr b="0" lang="zh-CN" sz="2400" spc="-1" strike="noStrike">
                <a:solidFill>
                  <a:srgbClr val="0000cc"/>
                </a:solidFill>
                <a:latin typeface="隶书"/>
                <a:ea typeface="隶书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300720" y="1989000"/>
            <a:ext cx="2843280" cy="3529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907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江泽民在百忙中看望老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536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江泽民同志尽管工作很忙，但一直惦记着曾教育过自己的老师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9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上午，江泽民同志乘车到当年的母校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海交通大学去看望老师，紧紧握住严竣教授的手说：“严老师您好！”并询问了教师们的身体状况、工作和生活情况。学校的钟教授住院期间，他多次到医院看望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9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当江泽民同志得知老师沈教授去世的消息，心情十分悲痛，当即请沈教授的妹妹转达他对老师亲属的亲切慰问。江泽民同志访美时，在百忙中，带着珍贵礼物，亲自登门去看望拜见他的老师顾教授及师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00880" y="1268280"/>
            <a:ext cx="3543120" cy="4762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00"/>
                </a:solidFill>
                <a:latin typeface="Arial"/>
                <a:ea typeface="黑体"/>
              </a:rPr>
              <a:t>尊师重教亘古不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知识为人类开辟了认识世界、通往宇宙之路，而教师则带领我们打开了知识的大门。教师的工作没有轰轰烈烈的场面，只是在一方小小的讲台上默默无闻地耕耘、浇灌，平凡而艰辛，却蕴含着伟大，创造着神奇。人的成长成才离不开教师。一个没有教师、没有知识的社会，不过是一片贫瘠的荒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40360" y="5035680"/>
            <a:ext cx="121896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067280" y="2781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014.gif (5950 bytes)"/>
          <p:cNvPicPr/>
          <p:nvPr/>
        </p:nvPicPr>
        <p:blipFill>
          <a:blip r:embed="rId4"/>
          <a:stretch/>
        </p:blipFill>
        <p:spPr>
          <a:xfrm>
            <a:off x="468360" y="2908440"/>
            <a:ext cx="57636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013.gif (6388 bytes)"/>
          <p:cNvPicPr/>
          <p:nvPr/>
        </p:nvPicPr>
        <p:blipFill>
          <a:blip r:embed="rId5"/>
          <a:stretch/>
        </p:blipFill>
        <p:spPr>
          <a:xfrm>
            <a:off x="395280" y="5035680"/>
            <a:ext cx="719280" cy="144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87280" y="2943360"/>
            <a:ext cx="3097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见到老师不打招呼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5216400"/>
            <a:ext cx="2519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给老师起绰号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2943360"/>
            <a:ext cx="3456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配合值日教师检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4784760"/>
            <a:ext cx="34574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正确面对生活老师的管理和批评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189000"/>
            <a:ext cx="5688000" cy="764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尊师重教  重在行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907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尊敬老师，要对老师有礼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628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你有过这些不尊敬老师的行为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00" y="26028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尊重老师要听从老师的教诲，与老师配合，把成绩提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060640"/>
            <a:ext cx="8839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老师对学生的要求并不高，最大的要求是在培养学生健全人格的前提下，不断提高学生的学习成绩，让大家能考上一间理想的大学，为以后的发展奠定坚实的基础。当老师对我们严要求时，我们应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67280" y="4221000"/>
            <a:ext cx="1009440" cy="1441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40360" y="198900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014.gif (5950 bytes)"/>
          <p:cNvPicPr/>
          <p:nvPr/>
        </p:nvPicPr>
        <p:blipFill>
          <a:blip r:embed="rId4"/>
          <a:stretch/>
        </p:blipFill>
        <p:spPr>
          <a:xfrm>
            <a:off x="468360" y="2133720"/>
            <a:ext cx="576360" cy="1439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013.gif (6388 bytes)"/>
          <p:cNvPicPr/>
          <p:nvPr/>
        </p:nvPicPr>
        <p:blipFill>
          <a:blip r:embed="rId5"/>
          <a:stretch/>
        </p:blipFill>
        <p:spPr>
          <a:xfrm>
            <a:off x="324000" y="4437000"/>
            <a:ext cx="718920" cy="1441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16000" y="2133720"/>
            <a:ext cx="309708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交或不按时交作业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4365720"/>
            <a:ext cx="273528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抄袭作业或考试作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4437000"/>
            <a:ext cx="392436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上课不认真听课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2276640"/>
            <a:ext cx="3457440" cy="642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早晚读不大声读书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76320"/>
            <a:ext cx="87631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尊重老师最重要的是尊重老师的劳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981000"/>
            <a:ext cx="899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有过这些不尊重老师劳动的行为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42560" y="3068280"/>
            <a:ext cx="78850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从个人而言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教会学生做人；教会学生知识和技能；使学生健康成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ff"/>
                </a:solidFill>
                <a:latin typeface="Arial"/>
                <a:ea typeface="华文行楷"/>
              </a:rPr>
              <a:t>从社会而言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传递人类文明；为国家培养建设人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1159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教师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1557360"/>
            <a:ext cx="61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三寸粉笔，三尺讲台系国运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颗丹心，一生秉烛铸灵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360" y="936720"/>
            <a:ext cx="34192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师称谓的由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6624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仿宋_GB2312"/>
                <a:ea typeface="黑体"/>
              </a:rPr>
              <a:t>老师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黑体"/>
              </a:rPr>
              <a:t>：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原是宋元时代对地方小学教师的称谓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金代文学家元好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示侄孙伯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云：“伯安入小学，颖悟非凡貌。属句有夙性，说字惊老师。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后专指学生对教师的尊称，一直沿用至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8506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教师节的由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尊师重教是中国的优良传统，早在公元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纪的西周时期，就提出“弟子事师，敬同于父”。教师节，就旨在肯定教师为教育事业所做的贡献。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985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年，第六届全国人大常委会第九次会议同意了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国务院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关于建立教师节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议案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会议决定将每年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定为教师节。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985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，是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中国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第一个教师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112536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６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６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教师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１９３１年５月，教育家、南京中央大学教授爽秋、程其保等发起，拟定每年６月６日为教师节。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８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２７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教师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１９３９年，国民党政府教育部决定以中国教育家孔子的诞辰８月２７日为教师节。 　　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５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１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教师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１９５１年，中华人民共和国教育部、中华全国总工会共同商定，将教师节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五一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际劳动节合并一起。 　　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９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１０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"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教师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１９８５年１月２１日，六届全国人大第九次会议正式通过国务院关于建立教师节的议案，并决定９月１０日为我国的教师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700360" y="18900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9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国教师节的演变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700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33"/>
                </a:solidFill>
                <a:latin typeface="黑体"/>
                <a:ea typeface="黑体"/>
              </a:rPr>
              <a:t>美国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每年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日定为教师节。这是中美建交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前的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97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年由美国两院法定通过的。 </a:t>
            </a:r>
            <a:br>
              <a:rPr sz="3000"/>
            </a:br>
            <a:r>
              <a:rPr b="1" lang="zh-CN" sz="3000" spc="-1" strike="noStrike">
                <a:solidFill>
                  <a:srgbClr val="ff0033"/>
                </a:solidFill>
                <a:latin typeface="黑体"/>
                <a:ea typeface="黑体"/>
              </a:rPr>
              <a:t>德国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每年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日定为教师节。各地开展尊师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敬师活动。 </a:t>
            </a:r>
            <a:br>
              <a:rPr sz="3000"/>
            </a:br>
            <a:r>
              <a:rPr b="1" lang="zh-CN" sz="3000" spc="-1" strike="noStrike">
                <a:solidFill>
                  <a:srgbClr val="ff0033"/>
                </a:solidFill>
                <a:latin typeface="黑体"/>
                <a:ea typeface="黑体"/>
              </a:rPr>
              <a:t>印度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每年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日定为教师节，而每年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的印度儿童节同时定为印度儿童教育工作者的节日。</a:t>
            </a:r>
            <a:br>
              <a:rPr sz="3000"/>
            </a:br>
            <a:r>
              <a:rPr b="1" lang="zh-CN" sz="3000" spc="-1" strike="noStrike">
                <a:solidFill>
                  <a:srgbClr val="ff0033"/>
                </a:solidFill>
                <a:latin typeface="黑体"/>
                <a:ea typeface="黑体"/>
              </a:rPr>
              <a:t>朝鲜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为纪念金日成主席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977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日发表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会主义教育提纲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将这天定为教师节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03280" y="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175e"/>
                    </a:gs>
                    <a:gs pos="50000">
                      <a:srgbClr val="ff33cc"/>
                    </a:gs>
                    <a:gs pos="100000">
                      <a:srgbClr val="75175e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国外的教师节 你了解多少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175e"/>
                  </a:gs>
                  <a:gs pos="50000">
                    <a:srgbClr val="ff33cc"/>
                  </a:gs>
                  <a:gs pos="100000">
                    <a:srgbClr val="75175e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cut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5472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黑体"/>
              </a:rPr>
              <a:t>为什么要尊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尊师重教，是中华民族传统美德的重要规范。其本质是尊重知识、尊重教育、尊重人才。对青少年进行尊师重教教育，这是人类生存、发展和社会文明进步的需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87280" y="4292640"/>
            <a:ext cx="67694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分享名人尊师的故事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p:transition>
    <p:zoom dir="in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1125360"/>
            <a:ext cx="66265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孔子的学生子贡，聪颖好学。一次一鲁国大夫在人前贬低孔子抬高子贡，子贡非常气愤。他当即以房子为喻，说老师的围墙高十数丈，屋内富丽堂皇，不是一般人看得到的；而自己不过只有肩高的围墙，一眼就可望尽。他还把老师孔子比作太阳和月亮，说他光彩照人不是常人所能超越的。孔子死后，子贡悲痛万分，在孔子墓旁结庐而居，一直守墓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629928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649116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5373720"/>
            <a:ext cx="4248360" cy="792000"/>
          </a:xfrm>
          <a:prstGeom prst="wedgeEllipseCallout">
            <a:avLst>
              <a:gd name="adj1" fmla="val -61958"/>
              <a:gd name="adj2" fmla="val 35171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看来，重道必先尊师实在是千古不变的真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116000" y="5734080"/>
            <a:ext cx="1584360" cy="11239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-360" y="981000"/>
            <a:ext cx="62276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颢、程颐兄弟俩都是宋代极有学问的人。进士杨时，为了丰富自己的学问，毅然放弃了高官厚禄，跑到河南颍昌拜程颢为师，虚心求教后来程颢死，他自己也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岁，但仍然立志求学，刻苦钻研，又跑到洛阳去拜程颢的弟弟程颐为师。一天他便和他的朋友游酢一块儿到程家去拜见程颐，正遇上程老先生闭目养神，坐着假睡。这时候，外面开始下雪。这两人求师心切，便恭恭敬敬侍立一旁，不言不动，如此等了大半天，程颐才慢慢睁开眼睛，见杨时、游酢站在面前，吃了一惊，说道：“啊，啊！你们两位还在这儿没走？” 这时候，门外的雪已经积了一尺多厚了，而杨时和游酢并没有一丝疲倦和不耐烦的神情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300360" y="1125360"/>
            <a:ext cx="3249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443640" y="1197000"/>
            <a:ext cx="2700360" cy="5661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4427640" cy="765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程门立雪  绝对经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5T19:46:54Z</dcterms:created>
  <dc:creator>未知用户</dc:creator>
  <dc:description/>
  <dc:language>en-US</dc:language>
  <cp:lastModifiedBy>DFJY</cp:lastModifiedBy>
  <dcterms:modified xsi:type="dcterms:W3CDTF">2013-09-11T02:51:59Z</dcterms:modified>
  <cp:revision>21</cp:revision>
  <dc:subject/>
  <dc:title>幻灯片 1</dc:title>
</cp:coreProperties>
</file>