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6.png" ContentType="image/png"/>
  <Override PartName="/ppt/media/image4.png" ContentType="image/png"/>
  <Override PartName="/ppt/media/chimes.wav" ContentType="audio/x-wav"/>
  <Override PartName="/ppt/media/image9.gif" ContentType="image/gif"/>
  <Override PartName="/ppt/media/image16.jpeg" ContentType="image/jpeg"/>
  <Override PartName="/ppt/media/image19.jpeg" ContentType="image/jpeg"/>
  <Override PartName="/ppt/media/S000000167.WAV" ContentType="audio/x-wav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click.wav" ContentType="audio/x-wav"/>
  <Override PartName="/ppt/media/image8.gif" ContentType="image/gif"/>
  <Override PartName="/ppt/media/image27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5.png" ContentType="image/png"/>
  <Override PartName="/ppt/media/image13.png" ContentType="image/png"/>
  <Override PartName="/ppt/media/DING.WAV" ContentType="audio/x-wav"/>
  <Override PartName="/ppt/media/image24.gif" ContentType="image/gif"/>
  <Override PartName="/ppt/media/image17.png" ContentType="image/png"/>
  <Override PartName="/ppt/media/image15.wmf" ContentType="image/x-wmf"/>
  <Override PartName="/ppt/media/image14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gif" ContentType="image/gif"/>
  <Override PartName="/ppt/media/image22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00C-599A-4738-9EE5-45D16870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D1A-D3F1-4C2B-878B-D9F46E7D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424-CC88-4DAC-9CFC-6EFB66E9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3EC-E901-45E1-890E-5385DF75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62F-14BF-4741-AF3F-86AA3504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4299-0BB1-4D8F-A6E4-456FF81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ECF-268A-416E-87F4-FCE40B8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AAD-89DD-400E-9DC6-ADC29153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962F-F92C-4415-9F9E-BE697C1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46A-DB26-4662-8C9A-A6D7125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B3E6-CBF9-4ABD-A07F-BEB99B41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17E-43AD-4840-A5D0-8B1B93A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49B7-409E-419A-91ED-235AF36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D0FF-4697-4D34-A29A-71752A2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865-EB57-49DF-89EB-BE0A9E52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0299-38F3-498B-9721-4FC1642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BE7C-E891-4792-AAE1-02F09810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1D99-0DD8-4AB9-91AA-5AE2F510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483A-DF02-4BF6-A074-8F6984D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C95A-E8F2-4463-953E-FFD5D82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36DF-BD53-45AA-89CF-51FBABF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8CFB-B9DA-42F2-B7D3-F17CC93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76D-204D-4CE6-A2C8-F660FA7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97E9-5BAA-4DAB-80F0-89A05089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2727-999E-4D8B-A706-65050EC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045C-C74D-4EF0-96AB-8C00810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D790-DC35-47C8-AC43-9E878BF2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9012-D043-454D-9AD6-D732AB53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F2FD-CA3D-429D-B746-F8C3BE7B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1E09-8CC3-4285-88EA-847114F2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E69-CD47-40A2-879F-E3426ECB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093-3AD2-4078-8C8A-98A46B7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A48-90D8-464E-8966-5828D9D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1A0-70EF-462A-8735-CDB6AAC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6D0-072B-4DF4-8A26-4816F58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114-2349-4319-8AF7-C471500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DF44-74C3-4EFB-9065-606338CAD2F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E0AD-B94F-4217-9116-DDF2511D4B3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865-4036-40BC-9F32-CB8287BB46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8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3.gif"/><Relationship Id="rId12" Type="http://schemas.openxmlformats.org/officeDocument/2006/relationships/image" Target="../media/image24.gif"/><Relationship Id="rId13" Type="http://schemas.openxmlformats.org/officeDocument/2006/relationships/image" Target="../media/image24.gif"/><Relationship Id="rId14" Type="http://schemas.openxmlformats.org/officeDocument/2006/relationships/image" Target="../media/image9.gif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bggw.com/Soft/ShowClass.asp?ClassID=574&amp;page=4" TargetMode="External"/><Relationship Id="rId3" Type="http://schemas.openxmlformats.org/officeDocument/2006/relationships/image" Target="../media/image26.png"/><Relationship Id="rId4" Type="http://schemas.openxmlformats.org/officeDocument/2006/relationships/hyperlink" Target="http://www.zbggw.com/Soft/ShowClass.asp?ClassID=574&amp;page=4" TargetMode="External"/><Relationship Id="rId5" Type="http://schemas.openxmlformats.org/officeDocument/2006/relationships/image" Target="../media/image26.png"/><Relationship Id="rId6" Type="http://schemas.openxmlformats.org/officeDocument/2006/relationships/hyperlink" Target="http://www.zbggw.com/Soft/ShowClass.asp?ClassID=574&amp;page=4" TargetMode="External"/><Relationship Id="rId7" Type="http://schemas.openxmlformats.org/officeDocument/2006/relationships/image" Target="../media/image26.png"/><Relationship Id="rId8" Type="http://schemas.openxmlformats.org/officeDocument/2006/relationships/hyperlink" Target="http://www.zbggw.com/Soft/ShowClass.asp?ClassID=574&amp;page=4" TargetMode="External"/><Relationship Id="rId9" Type="http://schemas.openxmlformats.org/officeDocument/2006/relationships/image" Target="../media/image26.png"/><Relationship Id="rId10" Type="http://schemas.openxmlformats.org/officeDocument/2006/relationships/hyperlink" Target="http://www.zbggw.com/Soft/ShowClass.asp?ClassID=574&amp;page=4" TargetMode="External"/><Relationship Id="rId11" Type="http://schemas.openxmlformats.org/officeDocument/2006/relationships/image" Target="../media/image26.png"/><Relationship Id="rId12" Type="http://schemas.openxmlformats.org/officeDocument/2006/relationships/hyperlink" Target="http://www.zbggw.com/Soft/ShowClass.asp?ClassID=574&amp;page=4" TargetMode="External"/><Relationship Id="rId13" Type="http://schemas.openxmlformats.org/officeDocument/2006/relationships/image" Target="../media/image26.png"/><Relationship Id="rId14" Type="http://schemas.openxmlformats.org/officeDocument/2006/relationships/hyperlink" Target="http://www.zbggw.com/Soft/ShowClass.asp?ClassID=574&amp;page=4" TargetMode="External"/><Relationship Id="rId15" Type="http://schemas.openxmlformats.org/officeDocument/2006/relationships/image" Target="../media/image26.png"/><Relationship Id="rId16" Type="http://schemas.openxmlformats.org/officeDocument/2006/relationships/hyperlink" Target="http://www.zbggw.com/Soft/ShowClass.asp?ClassID=574&amp;page=4" TargetMode="External"/><Relationship Id="rId17" Type="http://schemas.openxmlformats.org/officeDocument/2006/relationships/image" Target="../media/image26.png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1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audio" Target="../media/DING.WAV"/><Relationship Id="rId7" Type="http://schemas.openxmlformats.org/officeDocument/2006/relationships/audio" Target="../media/S000000167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-533520" y="1828800"/>
            <a:ext cx="7086600" cy="3710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1905120" y="2971800"/>
            <a:ext cx="4114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坐井观天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2895480"/>
            <a:ext cx="1752480" cy="167652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1240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7010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676520" y="4419720"/>
            <a:ext cx="1598400" cy="1752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2743200" y="3809880"/>
            <a:ext cx="6400800" cy="27432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1187280" cy="16765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2771640" y="3284640"/>
            <a:ext cx="2057400" cy="1711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2286000" y="5257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-457200" y="4724280"/>
            <a:ext cx="1758960" cy="19051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8"/>
          <a:stretch/>
        </p:blipFill>
        <p:spPr>
          <a:xfrm>
            <a:off x="14479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91440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3733920" y="5257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1"/>
          <a:stretch/>
        </p:blipFill>
        <p:spPr>
          <a:xfrm>
            <a:off x="7543800" y="3962520"/>
            <a:ext cx="863640" cy="1828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2"/>
          <a:stretch/>
        </p:blipFill>
        <p:spPr>
          <a:xfrm>
            <a:off x="2987640" y="4952880"/>
            <a:ext cx="1758960" cy="1905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6927840" y="4952880"/>
            <a:ext cx="1758960" cy="19051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1828800" y="12952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059280" y="0"/>
            <a:ext cx="6626160" cy="4797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哇，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天空真是这么大！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外面的世界这么精彩！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谢谢你小鸟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396720" y="-387360"/>
            <a:ext cx="5184720" cy="3036960"/>
          </a:xfrm>
          <a:custGeom>
            <a:avLst/>
            <a:gdLst>
              <a:gd name="textAreaLeft" fmla="*/ 1183680 w 5184720"/>
              <a:gd name="textAreaRight" fmla="*/ 4001040 w 5184720"/>
              <a:gd name="textAreaTop" fmla="*/ 693360 h 3036960"/>
              <a:gd name="textAreaBottom" fmla="*/ 2343600 h 303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不用谢！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我们还是好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朋友呢！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-295200" y="-219240"/>
            <a:ext cx="9744120" cy="7305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85800" y="5638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476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交流：学了这则寓言故事后，你懂得了一个什么道理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0" y="256536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看问题，认识事物，不要像青蛙那样自以为是，要像小鸟那样飞得高看得远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ì                  yán                x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际     沿     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边无际   井沿      不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187280" y="0"/>
            <a:ext cx="6705360" cy="6324120"/>
            <a:chOff x="1187280" y="0"/>
            <a:chExt cx="6705360" cy="6324120"/>
          </a:xfrm>
        </p:grpSpPr>
        <p:sp>
          <p:nvSpPr>
            <p:cNvPr id="483" name=""/>
            <p:cNvSpPr/>
            <p:nvPr/>
          </p:nvSpPr>
          <p:spPr>
            <a:xfrm>
              <a:off x="2046600" y="5240520"/>
              <a:ext cx="4998960" cy="1083600"/>
            </a:xfrm>
            <a:custGeom>
              <a:avLst/>
              <a:gdLst/>
              <a:ahLst/>
              <a:rect l="l" t="t" r="r" b="b"/>
              <a:pathLst>
                <a:path w="2809" h="952">
                  <a:moveTo>
                    <a:pt x="1403" y="952"/>
                  </a:moveTo>
                  <a:lnTo>
                    <a:pt x="1686" y="940"/>
                  </a:lnTo>
                  <a:lnTo>
                    <a:pt x="1950" y="914"/>
                  </a:lnTo>
                  <a:lnTo>
                    <a:pt x="2189" y="868"/>
                  </a:lnTo>
                  <a:lnTo>
                    <a:pt x="2398" y="810"/>
                  </a:lnTo>
                  <a:lnTo>
                    <a:pt x="2569" y="738"/>
                  </a:lnTo>
                  <a:lnTo>
                    <a:pt x="2698" y="659"/>
                  </a:lnTo>
                  <a:lnTo>
                    <a:pt x="2780" y="569"/>
                  </a:lnTo>
                  <a:lnTo>
                    <a:pt x="2809" y="474"/>
                  </a:lnTo>
                  <a:lnTo>
                    <a:pt x="2780" y="377"/>
                  </a:lnTo>
                  <a:lnTo>
                    <a:pt x="2698" y="289"/>
                  </a:lnTo>
                  <a:lnTo>
                    <a:pt x="2569" y="208"/>
                  </a:lnTo>
                  <a:lnTo>
                    <a:pt x="2398" y="139"/>
                  </a:lnTo>
                  <a:lnTo>
                    <a:pt x="2189" y="79"/>
                  </a:lnTo>
                  <a:lnTo>
                    <a:pt x="1950" y="37"/>
                  </a:lnTo>
                  <a:lnTo>
                    <a:pt x="1686" y="8"/>
                  </a:lnTo>
                  <a:lnTo>
                    <a:pt x="1403" y="0"/>
                  </a:lnTo>
                  <a:lnTo>
                    <a:pt x="1119" y="8"/>
                  </a:lnTo>
                  <a:lnTo>
                    <a:pt x="856" y="37"/>
                  </a:lnTo>
                  <a:lnTo>
                    <a:pt x="618" y="79"/>
                  </a:lnTo>
                  <a:lnTo>
                    <a:pt x="410" y="139"/>
                  </a:lnTo>
                  <a:lnTo>
                    <a:pt x="239" y="208"/>
                  </a:lnTo>
                  <a:lnTo>
                    <a:pt x="110" y="289"/>
                  </a:lnTo>
                  <a:lnTo>
                    <a:pt x="28" y="377"/>
                  </a:lnTo>
                  <a:lnTo>
                    <a:pt x="0" y="474"/>
                  </a:lnTo>
                  <a:lnTo>
                    <a:pt x="28" y="569"/>
                  </a:lnTo>
                  <a:lnTo>
                    <a:pt x="110" y="659"/>
                  </a:lnTo>
                  <a:lnTo>
                    <a:pt x="239" y="738"/>
                  </a:lnTo>
                  <a:lnTo>
                    <a:pt x="410" y="810"/>
                  </a:lnTo>
                  <a:lnTo>
                    <a:pt x="618" y="868"/>
                  </a:lnTo>
                  <a:lnTo>
                    <a:pt x="856" y="914"/>
                  </a:lnTo>
                  <a:lnTo>
                    <a:pt x="1119" y="940"/>
                  </a:lnTo>
                  <a:lnTo>
                    <a:pt x="1403" y="952"/>
                  </a:lnTo>
                  <a:close/>
                </a:path>
              </a:pathLst>
            </a:custGeom>
            <a:solidFill>
              <a:srgbClr val="80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87280" y="0"/>
              <a:ext cx="6705360" cy="5882040"/>
            </a:xfrm>
            <a:custGeom>
              <a:avLst/>
              <a:gdLst/>
              <a:ahLst/>
              <a:rect l="l" t="t" r="r" b="b"/>
              <a:pathLst>
                <a:path w="3768" h="5169">
                  <a:moveTo>
                    <a:pt x="3683" y="2038"/>
                  </a:moveTo>
                  <a:lnTo>
                    <a:pt x="3670" y="2041"/>
                  </a:lnTo>
                  <a:lnTo>
                    <a:pt x="3658" y="2045"/>
                  </a:lnTo>
                  <a:lnTo>
                    <a:pt x="3646" y="2048"/>
                  </a:lnTo>
                  <a:lnTo>
                    <a:pt x="3639" y="2055"/>
                  </a:lnTo>
                  <a:lnTo>
                    <a:pt x="3654" y="2085"/>
                  </a:lnTo>
                  <a:lnTo>
                    <a:pt x="3670" y="2115"/>
                  </a:lnTo>
                  <a:lnTo>
                    <a:pt x="3684" y="2146"/>
                  </a:lnTo>
                  <a:lnTo>
                    <a:pt x="3698" y="2180"/>
                  </a:lnTo>
                  <a:lnTo>
                    <a:pt x="3706" y="2213"/>
                  </a:lnTo>
                  <a:lnTo>
                    <a:pt x="3711" y="2248"/>
                  </a:lnTo>
                  <a:lnTo>
                    <a:pt x="3710" y="2283"/>
                  </a:lnTo>
                  <a:lnTo>
                    <a:pt x="3705" y="2322"/>
                  </a:lnTo>
                  <a:lnTo>
                    <a:pt x="3691" y="2357"/>
                  </a:lnTo>
                  <a:lnTo>
                    <a:pt x="3673" y="2391"/>
                  </a:lnTo>
                  <a:lnTo>
                    <a:pt x="3650" y="2421"/>
                  </a:lnTo>
                  <a:lnTo>
                    <a:pt x="3626" y="2449"/>
                  </a:lnTo>
                  <a:lnTo>
                    <a:pt x="3597" y="2473"/>
                  </a:lnTo>
                  <a:lnTo>
                    <a:pt x="3568" y="2494"/>
                  </a:lnTo>
                  <a:lnTo>
                    <a:pt x="3536" y="2513"/>
                  </a:lnTo>
                  <a:lnTo>
                    <a:pt x="3506" y="2527"/>
                  </a:lnTo>
                  <a:lnTo>
                    <a:pt x="3509" y="2541"/>
                  </a:lnTo>
                  <a:lnTo>
                    <a:pt x="3514" y="2558"/>
                  </a:lnTo>
                  <a:lnTo>
                    <a:pt x="3519" y="2572"/>
                  </a:lnTo>
                  <a:lnTo>
                    <a:pt x="3525" y="2589"/>
                  </a:lnTo>
                  <a:lnTo>
                    <a:pt x="3529" y="2605"/>
                  </a:lnTo>
                  <a:lnTo>
                    <a:pt x="3533" y="2620"/>
                  </a:lnTo>
                  <a:lnTo>
                    <a:pt x="3533" y="2637"/>
                  </a:lnTo>
                  <a:lnTo>
                    <a:pt x="3530" y="2657"/>
                  </a:lnTo>
                  <a:lnTo>
                    <a:pt x="3519" y="2683"/>
                  </a:lnTo>
                  <a:lnTo>
                    <a:pt x="3505" y="2708"/>
                  </a:lnTo>
                  <a:lnTo>
                    <a:pt x="3490" y="2731"/>
                  </a:lnTo>
                  <a:lnTo>
                    <a:pt x="3472" y="2754"/>
                  </a:lnTo>
                  <a:lnTo>
                    <a:pt x="3450" y="2771"/>
                  </a:lnTo>
                  <a:lnTo>
                    <a:pt x="3428" y="2786"/>
                  </a:lnTo>
                  <a:lnTo>
                    <a:pt x="3403" y="2796"/>
                  </a:lnTo>
                  <a:lnTo>
                    <a:pt x="3379" y="2802"/>
                  </a:lnTo>
                  <a:lnTo>
                    <a:pt x="3359" y="2806"/>
                  </a:lnTo>
                  <a:lnTo>
                    <a:pt x="3340" y="2809"/>
                  </a:lnTo>
                  <a:lnTo>
                    <a:pt x="3320" y="2807"/>
                  </a:lnTo>
                  <a:lnTo>
                    <a:pt x="3301" y="2807"/>
                  </a:lnTo>
                  <a:lnTo>
                    <a:pt x="3282" y="2805"/>
                  </a:lnTo>
                  <a:lnTo>
                    <a:pt x="3263" y="2805"/>
                  </a:lnTo>
                  <a:lnTo>
                    <a:pt x="3244" y="2805"/>
                  </a:lnTo>
                  <a:lnTo>
                    <a:pt x="3226" y="2806"/>
                  </a:lnTo>
                  <a:lnTo>
                    <a:pt x="3221" y="2819"/>
                  </a:lnTo>
                  <a:lnTo>
                    <a:pt x="3225" y="2834"/>
                  </a:lnTo>
                  <a:lnTo>
                    <a:pt x="3226" y="2843"/>
                  </a:lnTo>
                  <a:lnTo>
                    <a:pt x="3229" y="2851"/>
                  </a:lnTo>
                  <a:lnTo>
                    <a:pt x="3231" y="2860"/>
                  </a:lnTo>
                  <a:lnTo>
                    <a:pt x="3233" y="2870"/>
                  </a:lnTo>
                  <a:lnTo>
                    <a:pt x="3225" y="2894"/>
                  </a:lnTo>
                  <a:lnTo>
                    <a:pt x="3220" y="2924"/>
                  </a:lnTo>
                  <a:lnTo>
                    <a:pt x="3212" y="2952"/>
                  </a:lnTo>
                  <a:lnTo>
                    <a:pt x="3205" y="2980"/>
                  </a:lnTo>
                  <a:lnTo>
                    <a:pt x="3192" y="3004"/>
                  </a:lnTo>
                  <a:lnTo>
                    <a:pt x="3177" y="3024"/>
                  </a:lnTo>
                  <a:lnTo>
                    <a:pt x="3157" y="3040"/>
                  </a:lnTo>
                  <a:lnTo>
                    <a:pt x="3130" y="3048"/>
                  </a:lnTo>
                  <a:lnTo>
                    <a:pt x="3112" y="3057"/>
                  </a:lnTo>
                  <a:lnTo>
                    <a:pt x="3096" y="3065"/>
                  </a:lnTo>
                  <a:lnTo>
                    <a:pt x="3077" y="3069"/>
                  </a:lnTo>
                  <a:lnTo>
                    <a:pt x="3058" y="3072"/>
                  </a:lnTo>
                  <a:lnTo>
                    <a:pt x="3039" y="3071"/>
                  </a:lnTo>
                  <a:lnTo>
                    <a:pt x="3020" y="3071"/>
                  </a:lnTo>
                  <a:lnTo>
                    <a:pt x="3001" y="3069"/>
                  </a:lnTo>
                  <a:lnTo>
                    <a:pt x="2983" y="3068"/>
                  </a:lnTo>
                  <a:lnTo>
                    <a:pt x="2967" y="3058"/>
                  </a:lnTo>
                  <a:lnTo>
                    <a:pt x="2951" y="3045"/>
                  </a:lnTo>
                  <a:lnTo>
                    <a:pt x="2934" y="3028"/>
                  </a:lnTo>
                  <a:lnTo>
                    <a:pt x="2919" y="3014"/>
                  </a:lnTo>
                  <a:lnTo>
                    <a:pt x="2902" y="3003"/>
                  </a:lnTo>
                  <a:lnTo>
                    <a:pt x="2886" y="2999"/>
                  </a:lnTo>
                  <a:lnTo>
                    <a:pt x="2870" y="3003"/>
                  </a:lnTo>
                  <a:lnTo>
                    <a:pt x="2854" y="3021"/>
                  </a:lnTo>
                  <a:lnTo>
                    <a:pt x="2846" y="3021"/>
                  </a:lnTo>
                  <a:lnTo>
                    <a:pt x="2837" y="3021"/>
                  </a:lnTo>
                  <a:lnTo>
                    <a:pt x="2827" y="3020"/>
                  </a:lnTo>
                  <a:lnTo>
                    <a:pt x="2818" y="3020"/>
                  </a:lnTo>
                  <a:lnTo>
                    <a:pt x="2806" y="3017"/>
                  </a:lnTo>
                  <a:lnTo>
                    <a:pt x="2796" y="3016"/>
                  </a:lnTo>
                  <a:lnTo>
                    <a:pt x="2786" y="3011"/>
                  </a:lnTo>
                  <a:lnTo>
                    <a:pt x="2778" y="3007"/>
                  </a:lnTo>
                  <a:lnTo>
                    <a:pt x="2761" y="2989"/>
                  </a:lnTo>
                  <a:lnTo>
                    <a:pt x="2746" y="2969"/>
                  </a:lnTo>
                  <a:lnTo>
                    <a:pt x="2733" y="2946"/>
                  </a:lnTo>
                  <a:lnTo>
                    <a:pt x="2723" y="2924"/>
                  </a:lnTo>
                  <a:lnTo>
                    <a:pt x="2713" y="2898"/>
                  </a:lnTo>
                  <a:lnTo>
                    <a:pt x="2705" y="2874"/>
                  </a:lnTo>
                  <a:lnTo>
                    <a:pt x="2699" y="2849"/>
                  </a:lnTo>
                  <a:lnTo>
                    <a:pt x="2695" y="2823"/>
                  </a:lnTo>
                  <a:lnTo>
                    <a:pt x="2677" y="2829"/>
                  </a:lnTo>
                  <a:lnTo>
                    <a:pt x="2661" y="2837"/>
                  </a:lnTo>
                  <a:lnTo>
                    <a:pt x="2643" y="2844"/>
                  </a:lnTo>
                  <a:lnTo>
                    <a:pt x="2628" y="2853"/>
                  </a:lnTo>
                  <a:lnTo>
                    <a:pt x="2610" y="2858"/>
                  </a:lnTo>
                  <a:lnTo>
                    <a:pt x="2592" y="2863"/>
                  </a:lnTo>
                  <a:lnTo>
                    <a:pt x="2575" y="2863"/>
                  </a:lnTo>
                  <a:lnTo>
                    <a:pt x="2557" y="2860"/>
                  </a:lnTo>
                  <a:lnTo>
                    <a:pt x="2546" y="2851"/>
                  </a:lnTo>
                  <a:lnTo>
                    <a:pt x="2534" y="2844"/>
                  </a:lnTo>
                  <a:lnTo>
                    <a:pt x="2524" y="2836"/>
                  </a:lnTo>
                  <a:lnTo>
                    <a:pt x="2515" y="2829"/>
                  </a:lnTo>
                  <a:lnTo>
                    <a:pt x="2505" y="2819"/>
                  </a:lnTo>
                  <a:lnTo>
                    <a:pt x="2496" y="2810"/>
                  </a:lnTo>
                  <a:lnTo>
                    <a:pt x="2486" y="2800"/>
                  </a:lnTo>
                  <a:lnTo>
                    <a:pt x="2479" y="2789"/>
                  </a:lnTo>
                  <a:lnTo>
                    <a:pt x="2470" y="2789"/>
                  </a:lnTo>
                  <a:lnTo>
                    <a:pt x="2428" y="2860"/>
                  </a:lnTo>
                  <a:lnTo>
                    <a:pt x="2389" y="2932"/>
                  </a:lnTo>
                  <a:lnTo>
                    <a:pt x="2351" y="3006"/>
                  </a:lnTo>
                  <a:lnTo>
                    <a:pt x="2317" y="3082"/>
                  </a:lnTo>
                  <a:lnTo>
                    <a:pt x="2285" y="3157"/>
                  </a:lnTo>
                  <a:lnTo>
                    <a:pt x="2258" y="3237"/>
                  </a:lnTo>
                  <a:lnTo>
                    <a:pt x="2237" y="3317"/>
                  </a:lnTo>
                  <a:lnTo>
                    <a:pt x="2223" y="3404"/>
                  </a:lnTo>
                  <a:lnTo>
                    <a:pt x="2195" y="3552"/>
                  </a:lnTo>
                  <a:lnTo>
                    <a:pt x="2179" y="3707"/>
                  </a:lnTo>
                  <a:lnTo>
                    <a:pt x="2170" y="3860"/>
                  </a:lnTo>
                  <a:lnTo>
                    <a:pt x="2172" y="4016"/>
                  </a:lnTo>
                  <a:lnTo>
                    <a:pt x="2183" y="4169"/>
                  </a:lnTo>
                  <a:lnTo>
                    <a:pt x="2203" y="4320"/>
                  </a:lnTo>
                  <a:lnTo>
                    <a:pt x="2231" y="4468"/>
                  </a:lnTo>
                  <a:lnTo>
                    <a:pt x="2269" y="4612"/>
                  </a:lnTo>
                  <a:lnTo>
                    <a:pt x="2274" y="4637"/>
                  </a:lnTo>
                  <a:lnTo>
                    <a:pt x="2280" y="4663"/>
                  </a:lnTo>
                  <a:lnTo>
                    <a:pt x="2285" y="4688"/>
                  </a:lnTo>
                  <a:lnTo>
                    <a:pt x="2293" y="4714"/>
                  </a:lnTo>
                  <a:lnTo>
                    <a:pt x="2299" y="4738"/>
                  </a:lnTo>
                  <a:lnTo>
                    <a:pt x="2309" y="4762"/>
                  </a:lnTo>
                  <a:lnTo>
                    <a:pt x="2320" y="4785"/>
                  </a:lnTo>
                  <a:lnTo>
                    <a:pt x="2337" y="4807"/>
                  </a:lnTo>
                  <a:lnTo>
                    <a:pt x="2343" y="4795"/>
                  </a:lnTo>
                  <a:lnTo>
                    <a:pt x="2351" y="4786"/>
                  </a:lnTo>
                  <a:lnTo>
                    <a:pt x="2360" y="4778"/>
                  </a:lnTo>
                  <a:lnTo>
                    <a:pt x="2369" y="4772"/>
                  </a:lnTo>
                  <a:lnTo>
                    <a:pt x="2377" y="4765"/>
                  </a:lnTo>
                  <a:lnTo>
                    <a:pt x="2388" y="4761"/>
                  </a:lnTo>
                  <a:lnTo>
                    <a:pt x="2396" y="4755"/>
                  </a:lnTo>
                  <a:lnTo>
                    <a:pt x="2406" y="4749"/>
                  </a:lnTo>
                  <a:lnTo>
                    <a:pt x="2417" y="4764"/>
                  </a:lnTo>
                  <a:lnTo>
                    <a:pt x="2425" y="4779"/>
                  </a:lnTo>
                  <a:lnTo>
                    <a:pt x="2433" y="4795"/>
                  </a:lnTo>
                  <a:lnTo>
                    <a:pt x="2441" y="4812"/>
                  </a:lnTo>
                  <a:lnTo>
                    <a:pt x="2446" y="4827"/>
                  </a:lnTo>
                  <a:lnTo>
                    <a:pt x="2453" y="4843"/>
                  </a:lnTo>
                  <a:lnTo>
                    <a:pt x="2458" y="4858"/>
                  </a:lnTo>
                  <a:lnTo>
                    <a:pt x="2466" y="4874"/>
                  </a:lnTo>
                  <a:lnTo>
                    <a:pt x="2479" y="4870"/>
                  </a:lnTo>
                  <a:lnTo>
                    <a:pt x="2490" y="4863"/>
                  </a:lnTo>
                  <a:lnTo>
                    <a:pt x="2500" y="4851"/>
                  </a:lnTo>
                  <a:lnTo>
                    <a:pt x="2511" y="4840"/>
                  </a:lnTo>
                  <a:lnTo>
                    <a:pt x="2520" y="4827"/>
                  </a:lnTo>
                  <a:lnTo>
                    <a:pt x="2530" y="4816"/>
                  </a:lnTo>
                  <a:lnTo>
                    <a:pt x="2541" y="4805"/>
                  </a:lnTo>
                  <a:lnTo>
                    <a:pt x="2553" y="4798"/>
                  </a:lnTo>
                  <a:lnTo>
                    <a:pt x="2568" y="4781"/>
                  </a:lnTo>
                  <a:lnTo>
                    <a:pt x="2581" y="4793"/>
                  </a:lnTo>
                  <a:lnTo>
                    <a:pt x="2595" y="4807"/>
                  </a:lnTo>
                  <a:lnTo>
                    <a:pt x="2606" y="4823"/>
                  </a:lnTo>
                  <a:lnTo>
                    <a:pt x="2619" y="4840"/>
                  </a:lnTo>
                  <a:lnTo>
                    <a:pt x="2630" y="4856"/>
                  </a:lnTo>
                  <a:lnTo>
                    <a:pt x="2642" y="4873"/>
                  </a:lnTo>
                  <a:lnTo>
                    <a:pt x="2653" y="4887"/>
                  </a:lnTo>
                  <a:lnTo>
                    <a:pt x="2667" y="4901"/>
                  </a:lnTo>
                  <a:lnTo>
                    <a:pt x="2675" y="4884"/>
                  </a:lnTo>
                  <a:lnTo>
                    <a:pt x="2684" y="4868"/>
                  </a:lnTo>
                  <a:lnTo>
                    <a:pt x="2691" y="4851"/>
                  </a:lnTo>
                  <a:lnTo>
                    <a:pt x="2699" y="4834"/>
                  </a:lnTo>
                  <a:lnTo>
                    <a:pt x="2706" y="4817"/>
                  </a:lnTo>
                  <a:lnTo>
                    <a:pt x="2718" y="4805"/>
                  </a:lnTo>
                  <a:lnTo>
                    <a:pt x="2730" y="4793"/>
                  </a:lnTo>
                  <a:lnTo>
                    <a:pt x="2749" y="4788"/>
                  </a:lnTo>
                  <a:lnTo>
                    <a:pt x="2765" y="4809"/>
                  </a:lnTo>
                  <a:lnTo>
                    <a:pt x="2781" y="4830"/>
                  </a:lnTo>
                  <a:lnTo>
                    <a:pt x="2794" y="4853"/>
                  </a:lnTo>
                  <a:lnTo>
                    <a:pt x="2808" y="4877"/>
                  </a:lnTo>
                  <a:lnTo>
                    <a:pt x="2819" y="4900"/>
                  </a:lnTo>
                  <a:lnTo>
                    <a:pt x="2832" y="4924"/>
                  </a:lnTo>
                  <a:lnTo>
                    <a:pt x="2843" y="4948"/>
                  </a:lnTo>
                  <a:lnTo>
                    <a:pt x="2857" y="4972"/>
                  </a:lnTo>
                  <a:lnTo>
                    <a:pt x="2878" y="4958"/>
                  </a:lnTo>
                  <a:lnTo>
                    <a:pt x="2899" y="4941"/>
                  </a:lnTo>
                  <a:lnTo>
                    <a:pt x="2918" y="4922"/>
                  </a:lnTo>
                  <a:lnTo>
                    <a:pt x="2937" y="4902"/>
                  </a:lnTo>
                  <a:lnTo>
                    <a:pt x="2954" y="4881"/>
                  </a:lnTo>
                  <a:lnTo>
                    <a:pt x="2975" y="4861"/>
                  </a:lnTo>
                  <a:lnTo>
                    <a:pt x="2994" y="4840"/>
                  </a:lnTo>
                  <a:lnTo>
                    <a:pt x="3016" y="4824"/>
                  </a:lnTo>
                  <a:lnTo>
                    <a:pt x="3026" y="4829"/>
                  </a:lnTo>
                  <a:lnTo>
                    <a:pt x="3035" y="4837"/>
                  </a:lnTo>
                  <a:lnTo>
                    <a:pt x="3040" y="4847"/>
                  </a:lnTo>
                  <a:lnTo>
                    <a:pt x="3047" y="4860"/>
                  </a:lnTo>
                  <a:lnTo>
                    <a:pt x="3050" y="4873"/>
                  </a:lnTo>
                  <a:lnTo>
                    <a:pt x="3056" y="4885"/>
                  </a:lnTo>
                  <a:lnTo>
                    <a:pt x="3062" y="4897"/>
                  </a:lnTo>
                  <a:lnTo>
                    <a:pt x="3071" y="4908"/>
                  </a:lnTo>
                  <a:lnTo>
                    <a:pt x="3091" y="5084"/>
                  </a:lnTo>
                  <a:lnTo>
                    <a:pt x="3087" y="5094"/>
                  </a:lnTo>
                  <a:lnTo>
                    <a:pt x="3087" y="5106"/>
                  </a:lnTo>
                  <a:lnTo>
                    <a:pt x="3086" y="5118"/>
                  </a:lnTo>
                  <a:lnTo>
                    <a:pt x="3087" y="5129"/>
                  </a:lnTo>
                  <a:lnTo>
                    <a:pt x="3085" y="5139"/>
                  </a:lnTo>
                  <a:lnTo>
                    <a:pt x="3082" y="5150"/>
                  </a:lnTo>
                  <a:lnTo>
                    <a:pt x="3078" y="5159"/>
                  </a:lnTo>
                  <a:lnTo>
                    <a:pt x="3071" y="5167"/>
                  </a:lnTo>
                  <a:lnTo>
                    <a:pt x="3064" y="5167"/>
                  </a:lnTo>
                  <a:lnTo>
                    <a:pt x="3058" y="5169"/>
                  </a:lnTo>
                  <a:lnTo>
                    <a:pt x="3050" y="5167"/>
                  </a:lnTo>
                  <a:lnTo>
                    <a:pt x="3045" y="5167"/>
                  </a:lnTo>
                  <a:lnTo>
                    <a:pt x="3034" y="5160"/>
                  </a:lnTo>
                  <a:lnTo>
                    <a:pt x="3028" y="5150"/>
                  </a:lnTo>
                  <a:lnTo>
                    <a:pt x="3032" y="5120"/>
                  </a:lnTo>
                  <a:lnTo>
                    <a:pt x="3035" y="5091"/>
                  </a:lnTo>
                  <a:lnTo>
                    <a:pt x="3034" y="5061"/>
                  </a:lnTo>
                  <a:lnTo>
                    <a:pt x="3033" y="5033"/>
                  </a:lnTo>
                  <a:lnTo>
                    <a:pt x="3026" y="5003"/>
                  </a:lnTo>
                  <a:lnTo>
                    <a:pt x="3020" y="4976"/>
                  </a:lnTo>
                  <a:lnTo>
                    <a:pt x="3010" y="4951"/>
                  </a:lnTo>
                  <a:lnTo>
                    <a:pt x="2999" y="4928"/>
                  </a:lnTo>
                  <a:lnTo>
                    <a:pt x="2992" y="4922"/>
                  </a:lnTo>
                  <a:lnTo>
                    <a:pt x="2975" y="4941"/>
                  </a:lnTo>
                  <a:lnTo>
                    <a:pt x="2957" y="4959"/>
                  </a:lnTo>
                  <a:lnTo>
                    <a:pt x="2939" y="4977"/>
                  </a:lnTo>
                  <a:lnTo>
                    <a:pt x="2924" y="4996"/>
                  </a:lnTo>
                  <a:lnTo>
                    <a:pt x="2908" y="5014"/>
                  </a:lnTo>
                  <a:lnTo>
                    <a:pt x="2892" y="5034"/>
                  </a:lnTo>
                  <a:lnTo>
                    <a:pt x="2877" y="5055"/>
                  </a:lnTo>
                  <a:lnTo>
                    <a:pt x="2866" y="5079"/>
                  </a:lnTo>
                  <a:lnTo>
                    <a:pt x="2858" y="5079"/>
                  </a:lnTo>
                  <a:lnTo>
                    <a:pt x="2852" y="5082"/>
                  </a:lnTo>
                  <a:lnTo>
                    <a:pt x="2843" y="5084"/>
                  </a:lnTo>
                  <a:lnTo>
                    <a:pt x="2835" y="5084"/>
                  </a:lnTo>
                  <a:lnTo>
                    <a:pt x="2829" y="5075"/>
                  </a:lnTo>
                  <a:lnTo>
                    <a:pt x="2825" y="5068"/>
                  </a:lnTo>
                  <a:lnTo>
                    <a:pt x="2823" y="5060"/>
                  </a:lnTo>
                  <a:lnTo>
                    <a:pt x="2823" y="5052"/>
                  </a:lnTo>
                  <a:lnTo>
                    <a:pt x="2821" y="5043"/>
                  </a:lnTo>
                  <a:lnTo>
                    <a:pt x="2820" y="5034"/>
                  </a:lnTo>
                  <a:lnTo>
                    <a:pt x="2818" y="5026"/>
                  </a:lnTo>
                  <a:lnTo>
                    <a:pt x="2815" y="5019"/>
                  </a:lnTo>
                  <a:lnTo>
                    <a:pt x="2808" y="5002"/>
                  </a:lnTo>
                  <a:lnTo>
                    <a:pt x="2800" y="4986"/>
                  </a:lnTo>
                  <a:lnTo>
                    <a:pt x="2791" y="4970"/>
                  </a:lnTo>
                  <a:lnTo>
                    <a:pt x="2782" y="4956"/>
                  </a:lnTo>
                  <a:lnTo>
                    <a:pt x="2772" y="4941"/>
                  </a:lnTo>
                  <a:lnTo>
                    <a:pt x="2762" y="4926"/>
                  </a:lnTo>
                  <a:lnTo>
                    <a:pt x="2751" y="4912"/>
                  </a:lnTo>
                  <a:lnTo>
                    <a:pt x="2739" y="4898"/>
                  </a:lnTo>
                  <a:lnTo>
                    <a:pt x="2732" y="4909"/>
                  </a:lnTo>
                  <a:lnTo>
                    <a:pt x="2727" y="4922"/>
                  </a:lnTo>
                  <a:lnTo>
                    <a:pt x="2722" y="4936"/>
                  </a:lnTo>
                  <a:lnTo>
                    <a:pt x="2718" y="4952"/>
                  </a:lnTo>
                  <a:lnTo>
                    <a:pt x="2713" y="4965"/>
                  </a:lnTo>
                  <a:lnTo>
                    <a:pt x="2706" y="4977"/>
                  </a:lnTo>
                  <a:lnTo>
                    <a:pt x="2699" y="4989"/>
                  </a:lnTo>
                  <a:lnTo>
                    <a:pt x="2689" y="4999"/>
                  </a:lnTo>
                  <a:lnTo>
                    <a:pt x="2668" y="4990"/>
                  </a:lnTo>
                  <a:lnTo>
                    <a:pt x="2651" y="4977"/>
                  </a:lnTo>
                  <a:lnTo>
                    <a:pt x="2635" y="4963"/>
                  </a:lnTo>
                  <a:lnTo>
                    <a:pt x="2622" y="4948"/>
                  </a:lnTo>
                  <a:lnTo>
                    <a:pt x="2606" y="4931"/>
                  </a:lnTo>
                  <a:lnTo>
                    <a:pt x="2591" y="4914"/>
                  </a:lnTo>
                  <a:lnTo>
                    <a:pt x="2575" y="4897"/>
                  </a:lnTo>
                  <a:lnTo>
                    <a:pt x="2560" y="4881"/>
                  </a:lnTo>
                  <a:lnTo>
                    <a:pt x="2553" y="4881"/>
                  </a:lnTo>
                  <a:lnTo>
                    <a:pt x="2538" y="4892"/>
                  </a:lnTo>
                  <a:lnTo>
                    <a:pt x="2527" y="4909"/>
                  </a:lnTo>
                  <a:lnTo>
                    <a:pt x="2517" y="4928"/>
                  </a:lnTo>
                  <a:lnTo>
                    <a:pt x="2508" y="4946"/>
                  </a:lnTo>
                  <a:lnTo>
                    <a:pt x="2496" y="4962"/>
                  </a:lnTo>
                  <a:lnTo>
                    <a:pt x="2486" y="4973"/>
                  </a:lnTo>
                  <a:lnTo>
                    <a:pt x="2471" y="4976"/>
                  </a:lnTo>
                  <a:lnTo>
                    <a:pt x="2455" y="4972"/>
                  </a:lnTo>
                  <a:lnTo>
                    <a:pt x="2441" y="4958"/>
                  </a:lnTo>
                  <a:lnTo>
                    <a:pt x="2429" y="4943"/>
                  </a:lnTo>
                  <a:lnTo>
                    <a:pt x="2418" y="4929"/>
                  </a:lnTo>
                  <a:lnTo>
                    <a:pt x="2409" y="4915"/>
                  </a:lnTo>
                  <a:lnTo>
                    <a:pt x="2400" y="4898"/>
                  </a:lnTo>
                  <a:lnTo>
                    <a:pt x="2393" y="4883"/>
                  </a:lnTo>
                  <a:lnTo>
                    <a:pt x="2385" y="4867"/>
                  </a:lnTo>
                  <a:lnTo>
                    <a:pt x="2379" y="4851"/>
                  </a:lnTo>
                  <a:lnTo>
                    <a:pt x="2355" y="4875"/>
                  </a:lnTo>
                  <a:lnTo>
                    <a:pt x="2334" y="4904"/>
                  </a:lnTo>
                  <a:lnTo>
                    <a:pt x="2318" y="4934"/>
                  </a:lnTo>
                  <a:lnTo>
                    <a:pt x="2304" y="4966"/>
                  </a:lnTo>
                  <a:lnTo>
                    <a:pt x="2291" y="4999"/>
                  </a:lnTo>
                  <a:lnTo>
                    <a:pt x="2282" y="5034"/>
                  </a:lnTo>
                  <a:lnTo>
                    <a:pt x="2272" y="5068"/>
                  </a:lnTo>
                  <a:lnTo>
                    <a:pt x="2265" y="5103"/>
                  </a:lnTo>
                  <a:lnTo>
                    <a:pt x="2257" y="5108"/>
                  </a:lnTo>
                  <a:lnTo>
                    <a:pt x="2251" y="5111"/>
                  </a:lnTo>
                  <a:lnTo>
                    <a:pt x="2242" y="5111"/>
                  </a:lnTo>
                  <a:lnTo>
                    <a:pt x="2234" y="5111"/>
                  </a:lnTo>
                  <a:lnTo>
                    <a:pt x="2218" y="5096"/>
                  </a:lnTo>
                  <a:lnTo>
                    <a:pt x="2203" y="5081"/>
                  </a:lnTo>
                  <a:lnTo>
                    <a:pt x="2189" y="5064"/>
                  </a:lnTo>
                  <a:lnTo>
                    <a:pt x="2176" y="5048"/>
                  </a:lnTo>
                  <a:lnTo>
                    <a:pt x="2164" y="5030"/>
                  </a:lnTo>
                  <a:lnTo>
                    <a:pt x="2151" y="5011"/>
                  </a:lnTo>
                  <a:lnTo>
                    <a:pt x="2138" y="4994"/>
                  </a:lnTo>
                  <a:lnTo>
                    <a:pt x="2127" y="4979"/>
                  </a:lnTo>
                  <a:lnTo>
                    <a:pt x="2113" y="4989"/>
                  </a:lnTo>
                  <a:lnTo>
                    <a:pt x="2103" y="5003"/>
                  </a:lnTo>
                  <a:lnTo>
                    <a:pt x="2095" y="5020"/>
                  </a:lnTo>
                  <a:lnTo>
                    <a:pt x="2089" y="5038"/>
                  </a:lnTo>
                  <a:lnTo>
                    <a:pt x="2080" y="5054"/>
                  </a:lnTo>
                  <a:lnTo>
                    <a:pt x="2071" y="5065"/>
                  </a:lnTo>
                  <a:lnTo>
                    <a:pt x="2056" y="5071"/>
                  </a:lnTo>
                  <a:lnTo>
                    <a:pt x="2037" y="5069"/>
                  </a:lnTo>
                  <a:lnTo>
                    <a:pt x="2024" y="5055"/>
                  </a:lnTo>
                  <a:lnTo>
                    <a:pt x="2016" y="5043"/>
                  </a:lnTo>
                  <a:lnTo>
                    <a:pt x="2005" y="5028"/>
                  </a:lnTo>
                  <a:lnTo>
                    <a:pt x="1998" y="5014"/>
                  </a:lnTo>
                  <a:lnTo>
                    <a:pt x="1989" y="4999"/>
                  </a:lnTo>
                  <a:lnTo>
                    <a:pt x="1981" y="4985"/>
                  </a:lnTo>
                  <a:lnTo>
                    <a:pt x="1973" y="4970"/>
                  </a:lnTo>
                  <a:lnTo>
                    <a:pt x="1965" y="4959"/>
                  </a:lnTo>
                  <a:lnTo>
                    <a:pt x="1957" y="4970"/>
                  </a:lnTo>
                  <a:lnTo>
                    <a:pt x="1950" y="4983"/>
                  </a:lnTo>
                  <a:lnTo>
                    <a:pt x="1942" y="4997"/>
                  </a:lnTo>
                  <a:lnTo>
                    <a:pt x="1935" y="5011"/>
                  </a:lnTo>
                  <a:lnTo>
                    <a:pt x="1926" y="5024"/>
                  </a:lnTo>
                  <a:lnTo>
                    <a:pt x="1917" y="5037"/>
                  </a:lnTo>
                  <a:lnTo>
                    <a:pt x="1907" y="5050"/>
                  </a:lnTo>
                  <a:lnTo>
                    <a:pt x="1898" y="5062"/>
                  </a:lnTo>
                  <a:lnTo>
                    <a:pt x="1883" y="5061"/>
                  </a:lnTo>
                  <a:lnTo>
                    <a:pt x="1873" y="5055"/>
                  </a:lnTo>
                  <a:lnTo>
                    <a:pt x="1865" y="5047"/>
                  </a:lnTo>
                  <a:lnTo>
                    <a:pt x="1859" y="5037"/>
                  </a:lnTo>
                  <a:lnTo>
                    <a:pt x="1852" y="5024"/>
                  </a:lnTo>
                  <a:lnTo>
                    <a:pt x="1846" y="5011"/>
                  </a:lnTo>
                  <a:lnTo>
                    <a:pt x="1838" y="4999"/>
                  </a:lnTo>
                  <a:lnTo>
                    <a:pt x="1830" y="4992"/>
                  </a:lnTo>
                  <a:lnTo>
                    <a:pt x="1751" y="4942"/>
                  </a:lnTo>
                  <a:lnTo>
                    <a:pt x="1746" y="4946"/>
                  </a:lnTo>
                  <a:lnTo>
                    <a:pt x="1743" y="4953"/>
                  </a:lnTo>
                  <a:lnTo>
                    <a:pt x="1741" y="4962"/>
                  </a:lnTo>
                  <a:lnTo>
                    <a:pt x="1741" y="4970"/>
                  </a:lnTo>
                  <a:lnTo>
                    <a:pt x="1740" y="4979"/>
                  </a:lnTo>
                  <a:lnTo>
                    <a:pt x="1738" y="4989"/>
                  </a:lnTo>
                  <a:lnTo>
                    <a:pt x="1737" y="4997"/>
                  </a:lnTo>
                  <a:lnTo>
                    <a:pt x="1736" y="5006"/>
                  </a:lnTo>
                  <a:lnTo>
                    <a:pt x="1728" y="5021"/>
                  </a:lnTo>
                  <a:lnTo>
                    <a:pt x="1722" y="5037"/>
                  </a:lnTo>
                  <a:lnTo>
                    <a:pt x="1713" y="5052"/>
                  </a:lnTo>
                  <a:lnTo>
                    <a:pt x="1706" y="5068"/>
                  </a:lnTo>
                  <a:lnTo>
                    <a:pt x="1695" y="5082"/>
                  </a:lnTo>
                  <a:lnTo>
                    <a:pt x="1685" y="5096"/>
                  </a:lnTo>
                  <a:lnTo>
                    <a:pt x="1674" y="5109"/>
                  </a:lnTo>
                  <a:lnTo>
                    <a:pt x="1664" y="5123"/>
                  </a:lnTo>
                  <a:lnTo>
                    <a:pt x="1646" y="5116"/>
                  </a:lnTo>
                  <a:lnTo>
                    <a:pt x="1633" y="5101"/>
                  </a:lnTo>
                  <a:lnTo>
                    <a:pt x="1622" y="5085"/>
                  </a:lnTo>
                  <a:lnTo>
                    <a:pt x="1612" y="5069"/>
                  </a:lnTo>
                  <a:lnTo>
                    <a:pt x="1602" y="5055"/>
                  </a:lnTo>
                  <a:lnTo>
                    <a:pt x="1592" y="5040"/>
                  </a:lnTo>
                  <a:lnTo>
                    <a:pt x="1582" y="5026"/>
                  </a:lnTo>
                  <a:lnTo>
                    <a:pt x="1571" y="5010"/>
                  </a:lnTo>
                  <a:lnTo>
                    <a:pt x="1561" y="4996"/>
                  </a:lnTo>
                  <a:lnTo>
                    <a:pt x="1549" y="5009"/>
                  </a:lnTo>
                  <a:lnTo>
                    <a:pt x="1537" y="5024"/>
                  </a:lnTo>
                  <a:lnTo>
                    <a:pt x="1526" y="5041"/>
                  </a:lnTo>
                  <a:lnTo>
                    <a:pt x="1517" y="5058"/>
                  </a:lnTo>
                  <a:lnTo>
                    <a:pt x="1507" y="5075"/>
                  </a:lnTo>
                  <a:lnTo>
                    <a:pt x="1499" y="5094"/>
                  </a:lnTo>
                  <a:lnTo>
                    <a:pt x="1492" y="5112"/>
                  </a:lnTo>
                  <a:lnTo>
                    <a:pt x="1484" y="5130"/>
                  </a:lnTo>
                  <a:lnTo>
                    <a:pt x="1468" y="5135"/>
                  </a:lnTo>
                  <a:lnTo>
                    <a:pt x="1455" y="5133"/>
                  </a:lnTo>
                  <a:lnTo>
                    <a:pt x="1444" y="5126"/>
                  </a:lnTo>
                  <a:lnTo>
                    <a:pt x="1436" y="5115"/>
                  </a:lnTo>
                  <a:lnTo>
                    <a:pt x="1428" y="5101"/>
                  </a:lnTo>
                  <a:lnTo>
                    <a:pt x="1421" y="5088"/>
                  </a:lnTo>
                  <a:lnTo>
                    <a:pt x="1413" y="5075"/>
                  </a:lnTo>
                  <a:lnTo>
                    <a:pt x="1406" y="5067"/>
                  </a:lnTo>
                  <a:lnTo>
                    <a:pt x="1399" y="5058"/>
                  </a:lnTo>
                  <a:lnTo>
                    <a:pt x="1396" y="5051"/>
                  </a:lnTo>
                  <a:lnTo>
                    <a:pt x="1392" y="5041"/>
                  </a:lnTo>
                  <a:lnTo>
                    <a:pt x="1390" y="5033"/>
                  </a:lnTo>
                  <a:lnTo>
                    <a:pt x="1387" y="5024"/>
                  </a:lnTo>
                  <a:lnTo>
                    <a:pt x="1383" y="5017"/>
                  </a:lnTo>
                  <a:lnTo>
                    <a:pt x="1377" y="5011"/>
                  </a:lnTo>
                  <a:lnTo>
                    <a:pt x="1369" y="5009"/>
                  </a:lnTo>
                  <a:lnTo>
                    <a:pt x="1361" y="5020"/>
                  </a:lnTo>
                  <a:lnTo>
                    <a:pt x="1359" y="5034"/>
                  </a:lnTo>
                  <a:lnTo>
                    <a:pt x="1356" y="5040"/>
                  </a:lnTo>
                  <a:lnTo>
                    <a:pt x="1354" y="5045"/>
                  </a:lnTo>
                  <a:lnTo>
                    <a:pt x="1349" y="5048"/>
                  </a:lnTo>
                  <a:lnTo>
                    <a:pt x="1342" y="5052"/>
                  </a:lnTo>
                  <a:lnTo>
                    <a:pt x="1326" y="5048"/>
                  </a:lnTo>
                  <a:lnTo>
                    <a:pt x="1315" y="5041"/>
                  </a:lnTo>
                  <a:lnTo>
                    <a:pt x="1303" y="5031"/>
                  </a:lnTo>
                  <a:lnTo>
                    <a:pt x="1294" y="5020"/>
                  </a:lnTo>
                  <a:lnTo>
                    <a:pt x="1284" y="5006"/>
                  </a:lnTo>
                  <a:lnTo>
                    <a:pt x="1277" y="4993"/>
                  </a:lnTo>
                  <a:lnTo>
                    <a:pt x="1268" y="4980"/>
                  </a:lnTo>
                  <a:lnTo>
                    <a:pt x="1259" y="4969"/>
                  </a:lnTo>
                  <a:lnTo>
                    <a:pt x="1255" y="4960"/>
                  </a:lnTo>
                  <a:lnTo>
                    <a:pt x="1253" y="4953"/>
                  </a:lnTo>
                  <a:lnTo>
                    <a:pt x="1249" y="4946"/>
                  </a:lnTo>
                  <a:lnTo>
                    <a:pt x="1248" y="4939"/>
                  </a:lnTo>
                  <a:lnTo>
                    <a:pt x="1242" y="4924"/>
                  </a:lnTo>
                  <a:lnTo>
                    <a:pt x="1235" y="4911"/>
                  </a:lnTo>
                  <a:lnTo>
                    <a:pt x="1222" y="4932"/>
                  </a:lnTo>
                  <a:lnTo>
                    <a:pt x="1211" y="4955"/>
                  </a:lnTo>
                  <a:lnTo>
                    <a:pt x="1201" y="4976"/>
                  </a:lnTo>
                  <a:lnTo>
                    <a:pt x="1192" y="5000"/>
                  </a:lnTo>
                  <a:lnTo>
                    <a:pt x="1180" y="5020"/>
                  </a:lnTo>
                  <a:lnTo>
                    <a:pt x="1170" y="5041"/>
                  </a:lnTo>
                  <a:lnTo>
                    <a:pt x="1158" y="5061"/>
                  </a:lnTo>
                  <a:lnTo>
                    <a:pt x="1144" y="5079"/>
                  </a:lnTo>
                  <a:lnTo>
                    <a:pt x="1122" y="5065"/>
                  </a:lnTo>
                  <a:lnTo>
                    <a:pt x="1103" y="5050"/>
                  </a:lnTo>
                  <a:lnTo>
                    <a:pt x="1084" y="5031"/>
                  </a:lnTo>
                  <a:lnTo>
                    <a:pt x="1067" y="5014"/>
                  </a:lnTo>
                  <a:lnTo>
                    <a:pt x="1049" y="4994"/>
                  </a:lnTo>
                  <a:lnTo>
                    <a:pt x="1031" y="4977"/>
                  </a:lnTo>
                  <a:lnTo>
                    <a:pt x="1012" y="4962"/>
                  </a:lnTo>
                  <a:lnTo>
                    <a:pt x="994" y="4952"/>
                  </a:lnTo>
                  <a:lnTo>
                    <a:pt x="993" y="4960"/>
                  </a:lnTo>
                  <a:lnTo>
                    <a:pt x="992" y="4973"/>
                  </a:lnTo>
                  <a:lnTo>
                    <a:pt x="992" y="4986"/>
                  </a:lnTo>
                  <a:lnTo>
                    <a:pt x="997" y="4999"/>
                  </a:lnTo>
                  <a:lnTo>
                    <a:pt x="998" y="5013"/>
                  </a:lnTo>
                  <a:lnTo>
                    <a:pt x="1000" y="5030"/>
                  </a:lnTo>
                  <a:lnTo>
                    <a:pt x="1000" y="5044"/>
                  </a:lnTo>
                  <a:lnTo>
                    <a:pt x="1000" y="5061"/>
                  </a:lnTo>
                  <a:lnTo>
                    <a:pt x="998" y="5075"/>
                  </a:lnTo>
                  <a:lnTo>
                    <a:pt x="997" y="5091"/>
                  </a:lnTo>
                  <a:lnTo>
                    <a:pt x="996" y="5106"/>
                  </a:lnTo>
                  <a:lnTo>
                    <a:pt x="994" y="5123"/>
                  </a:lnTo>
                  <a:lnTo>
                    <a:pt x="987" y="5126"/>
                  </a:lnTo>
                  <a:lnTo>
                    <a:pt x="979" y="5132"/>
                  </a:lnTo>
                  <a:lnTo>
                    <a:pt x="973" y="5133"/>
                  </a:lnTo>
                  <a:lnTo>
                    <a:pt x="967" y="5130"/>
                  </a:lnTo>
                  <a:lnTo>
                    <a:pt x="951" y="5106"/>
                  </a:lnTo>
                  <a:lnTo>
                    <a:pt x="951" y="5072"/>
                  </a:lnTo>
                  <a:lnTo>
                    <a:pt x="951" y="5040"/>
                  </a:lnTo>
                  <a:lnTo>
                    <a:pt x="950" y="5006"/>
                  </a:lnTo>
                  <a:lnTo>
                    <a:pt x="948" y="4973"/>
                  </a:lnTo>
                  <a:lnTo>
                    <a:pt x="943" y="4939"/>
                  </a:lnTo>
                  <a:lnTo>
                    <a:pt x="938" y="4908"/>
                  </a:lnTo>
                  <a:lnTo>
                    <a:pt x="930" y="4877"/>
                  </a:lnTo>
                  <a:lnTo>
                    <a:pt x="922" y="4847"/>
                  </a:lnTo>
                  <a:lnTo>
                    <a:pt x="925" y="4840"/>
                  </a:lnTo>
                  <a:lnTo>
                    <a:pt x="931" y="4830"/>
                  </a:lnTo>
                  <a:lnTo>
                    <a:pt x="957" y="4841"/>
                  </a:lnTo>
                  <a:lnTo>
                    <a:pt x="983" y="4858"/>
                  </a:lnTo>
                  <a:lnTo>
                    <a:pt x="1007" y="4875"/>
                  </a:lnTo>
                  <a:lnTo>
                    <a:pt x="1032" y="4897"/>
                  </a:lnTo>
                  <a:lnTo>
                    <a:pt x="1055" y="4918"/>
                  </a:lnTo>
                  <a:lnTo>
                    <a:pt x="1078" y="4942"/>
                  </a:lnTo>
                  <a:lnTo>
                    <a:pt x="1101" y="4968"/>
                  </a:lnTo>
                  <a:lnTo>
                    <a:pt x="1124" y="4996"/>
                  </a:lnTo>
                  <a:lnTo>
                    <a:pt x="1127" y="4985"/>
                  </a:lnTo>
                  <a:lnTo>
                    <a:pt x="1129" y="4976"/>
                  </a:lnTo>
                  <a:lnTo>
                    <a:pt x="1137" y="4946"/>
                  </a:lnTo>
                  <a:lnTo>
                    <a:pt x="1149" y="4917"/>
                  </a:lnTo>
                  <a:lnTo>
                    <a:pt x="1158" y="4887"/>
                  </a:lnTo>
                  <a:lnTo>
                    <a:pt x="1169" y="4858"/>
                  </a:lnTo>
                  <a:lnTo>
                    <a:pt x="1178" y="4829"/>
                  </a:lnTo>
                  <a:lnTo>
                    <a:pt x="1188" y="4799"/>
                  </a:lnTo>
                  <a:lnTo>
                    <a:pt x="1197" y="4769"/>
                  </a:lnTo>
                  <a:lnTo>
                    <a:pt x="1207" y="4739"/>
                  </a:lnTo>
                  <a:lnTo>
                    <a:pt x="1213" y="4739"/>
                  </a:lnTo>
                  <a:lnTo>
                    <a:pt x="1221" y="4744"/>
                  </a:lnTo>
                  <a:lnTo>
                    <a:pt x="1227" y="4749"/>
                  </a:lnTo>
                  <a:lnTo>
                    <a:pt x="1235" y="4758"/>
                  </a:lnTo>
                  <a:lnTo>
                    <a:pt x="1240" y="4766"/>
                  </a:lnTo>
                  <a:lnTo>
                    <a:pt x="1246" y="4775"/>
                  </a:lnTo>
                  <a:lnTo>
                    <a:pt x="1250" y="4783"/>
                  </a:lnTo>
                  <a:lnTo>
                    <a:pt x="1255" y="4793"/>
                  </a:lnTo>
                  <a:lnTo>
                    <a:pt x="1264" y="4810"/>
                  </a:lnTo>
                  <a:lnTo>
                    <a:pt x="1273" y="4830"/>
                  </a:lnTo>
                  <a:lnTo>
                    <a:pt x="1279" y="4849"/>
                  </a:lnTo>
                  <a:lnTo>
                    <a:pt x="1287" y="4868"/>
                  </a:lnTo>
                  <a:lnTo>
                    <a:pt x="1292" y="4887"/>
                  </a:lnTo>
                  <a:lnTo>
                    <a:pt x="1299" y="4907"/>
                  </a:lnTo>
                  <a:lnTo>
                    <a:pt x="1307" y="4925"/>
                  </a:lnTo>
                  <a:lnTo>
                    <a:pt x="1316" y="4945"/>
                  </a:lnTo>
                  <a:lnTo>
                    <a:pt x="1321" y="4931"/>
                  </a:lnTo>
                  <a:lnTo>
                    <a:pt x="1327" y="4918"/>
                  </a:lnTo>
                  <a:lnTo>
                    <a:pt x="1334" y="4905"/>
                  </a:lnTo>
                  <a:lnTo>
                    <a:pt x="1341" y="4894"/>
                  </a:lnTo>
                  <a:lnTo>
                    <a:pt x="1349" y="4881"/>
                  </a:lnTo>
                  <a:lnTo>
                    <a:pt x="1358" y="4873"/>
                  </a:lnTo>
                  <a:lnTo>
                    <a:pt x="1368" y="4863"/>
                  </a:lnTo>
                  <a:lnTo>
                    <a:pt x="1379" y="4857"/>
                  </a:lnTo>
                  <a:lnTo>
                    <a:pt x="1380" y="4866"/>
                  </a:lnTo>
                  <a:lnTo>
                    <a:pt x="1384" y="4874"/>
                  </a:lnTo>
                  <a:lnTo>
                    <a:pt x="1388" y="4883"/>
                  </a:lnTo>
                  <a:lnTo>
                    <a:pt x="1392" y="4891"/>
                  </a:lnTo>
                  <a:lnTo>
                    <a:pt x="1396" y="4898"/>
                  </a:lnTo>
                  <a:lnTo>
                    <a:pt x="1402" y="4907"/>
                  </a:lnTo>
                  <a:lnTo>
                    <a:pt x="1406" y="4914"/>
                  </a:lnTo>
                  <a:lnTo>
                    <a:pt x="1412" y="4922"/>
                  </a:lnTo>
                  <a:lnTo>
                    <a:pt x="1464" y="4815"/>
                  </a:lnTo>
                  <a:lnTo>
                    <a:pt x="1516" y="4708"/>
                  </a:lnTo>
                  <a:lnTo>
                    <a:pt x="1563" y="4599"/>
                  </a:lnTo>
                  <a:lnTo>
                    <a:pt x="1606" y="4489"/>
                  </a:lnTo>
                  <a:lnTo>
                    <a:pt x="1640" y="4374"/>
                  </a:lnTo>
                  <a:lnTo>
                    <a:pt x="1668" y="4255"/>
                  </a:lnTo>
                  <a:lnTo>
                    <a:pt x="1685" y="4130"/>
                  </a:lnTo>
                  <a:lnTo>
                    <a:pt x="1692" y="4003"/>
                  </a:lnTo>
                  <a:lnTo>
                    <a:pt x="1693" y="3929"/>
                  </a:lnTo>
                  <a:lnTo>
                    <a:pt x="1692" y="3856"/>
                  </a:lnTo>
                  <a:lnTo>
                    <a:pt x="1687" y="3783"/>
                  </a:lnTo>
                  <a:lnTo>
                    <a:pt x="1680" y="3711"/>
                  </a:lnTo>
                  <a:lnTo>
                    <a:pt x="1669" y="3639"/>
                  </a:lnTo>
                  <a:lnTo>
                    <a:pt x="1659" y="3568"/>
                  </a:lnTo>
                  <a:lnTo>
                    <a:pt x="1646" y="3496"/>
                  </a:lnTo>
                  <a:lnTo>
                    <a:pt x="1633" y="3425"/>
                  </a:lnTo>
                  <a:lnTo>
                    <a:pt x="1612" y="3366"/>
                  </a:lnTo>
                  <a:lnTo>
                    <a:pt x="1595" y="3306"/>
                  </a:lnTo>
                  <a:lnTo>
                    <a:pt x="1576" y="3245"/>
                  </a:lnTo>
                  <a:lnTo>
                    <a:pt x="1558" y="3187"/>
                  </a:lnTo>
                  <a:lnTo>
                    <a:pt x="1532" y="3129"/>
                  </a:lnTo>
                  <a:lnTo>
                    <a:pt x="1502" y="3078"/>
                  </a:lnTo>
                  <a:lnTo>
                    <a:pt x="1463" y="3031"/>
                  </a:lnTo>
                  <a:lnTo>
                    <a:pt x="1415" y="2994"/>
                  </a:lnTo>
                  <a:lnTo>
                    <a:pt x="1411" y="3026"/>
                  </a:lnTo>
                  <a:lnTo>
                    <a:pt x="1403" y="3058"/>
                  </a:lnTo>
                  <a:lnTo>
                    <a:pt x="1392" y="3089"/>
                  </a:lnTo>
                  <a:lnTo>
                    <a:pt x="1377" y="3119"/>
                  </a:lnTo>
                  <a:lnTo>
                    <a:pt x="1356" y="3145"/>
                  </a:lnTo>
                  <a:lnTo>
                    <a:pt x="1334" y="3169"/>
                  </a:lnTo>
                  <a:lnTo>
                    <a:pt x="1308" y="3187"/>
                  </a:lnTo>
                  <a:lnTo>
                    <a:pt x="1283" y="3203"/>
                  </a:lnTo>
                  <a:lnTo>
                    <a:pt x="1256" y="3210"/>
                  </a:lnTo>
                  <a:lnTo>
                    <a:pt x="1231" y="3207"/>
                  </a:lnTo>
                  <a:lnTo>
                    <a:pt x="1206" y="3196"/>
                  </a:lnTo>
                  <a:lnTo>
                    <a:pt x="1180" y="3184"/>
                  </a:lnTo>
                  <a:lnTo>
                    <a:pt x="1156" y="3174"/>
                  </a:lnTo>
                  <a:lnTo>
                    <a:pt x="1135" y="3174"/>
                  </a:lnTo>
                  <a:lnTo>
                    <a:pt x="1117" y="3186"/>
                  </a:lnTo>
                  <a:lnTo>
                    <a:pt x="1105" y="3220"/>
                  </a:lnTo>
                  <a:lnTo>
                    <a:pt x="1081" y="3238"/>
                  </a:lnTo>
                  <a:lnTo>
                    <a:pt x="1058" y="3258"/>
                  </a:lnTo>
                  <a:lnTo>
                    <a:pt x="1032" y="3275"/>
                  </a:lnTo>
                  <a:lnTo>
                    <a:pt x="1008" y="3289"/>
                  </a:lnTo>
                  <a:lnTo>
                    <a:pt x="981" y="3298"/>
                  </a:lnTo>
                  <a:lnTo>
                    <a:pt x="954" y="3303"/>
                  </a:lnTo>
                  <a:lnTo>
                    <a:pt x="927" y="3302"/>
                  </a:lnTo>
                  <a:lnTo>
                    <a:pt x="901" y="3293"/>
                  </a:lnTo>
                  <a:lnTo>
                    <a:pt x="884" y="3285"/>
                  </a:lnTo>
                  <a:lnTo>
                    <a:pt x="870" y="3278"/>
                  </a:lnTo>
                  <a:lnTo>
                    <a:pt x="858" y="3266"/>
                  </a:lnTo>
                  <a:lnTo>
                    <a:pt x="849" y="3255"/>
                  </a:lnTo>
                  <a:lnTo>
                    <a:pt x="839" y="3241"/>
                  </a:lnTo>
                  <a:lnTo>
                    <a:pt x="831" y="3227"/>
                  </a:lnTo>
                  <a:lnTo>
                    <a:pt x="824" y="3213"/>
                  </a:lnTo>
                  <a:lnTo>
                    <a:pt x="816" y="3200"/>
                  </a:lnTo>
                  <a:lnTo>
                    <a:pt x="777" y="3222"/>
                  </a:lnTo>
                  <a:lnTo>
                    <a:pt x="736" y="3247"/>
                  </a:lnTo>
                  <a:lnTo>
                    <a:pt x="693" y="3266"/>
                  </a:lnTo>
                  <a:lnTo>
                    <a:pt x="652" y="3282"/>
                  </a:lnTo>
                  <a:lnTo>
                    <a:pt x="607" y="3289"/>
                  </a:lnTo>
                  <a:lnTo>
                    <a:pt x="564" y="3289"/>
                  </a:lnTo>
                  <a:lnTo>
                    <a:pt x="523" y="3276"/>
                  </a:lnTo>
                  <a:lnTo>
                    <a:pt x="483" y="3254"/>
                  </a:lnTo>
                  <a:lnTo>
                    <a:pt x="464" y="3231"/>
                  </a:lnTo>
                  <a:lnTo>
                    <a:pt x="450" y="3210"/>
                  </a:lnTo>
                  <a:lnTo>
                    <a:pt x="435" y="3184"/>
                  </a:lnTo>
                  <a:lnTo>
                    <a:pt x="425" y="3160"/>
                  </a:lnTo>
                  <a:lnTo>
                    <a:pt x="415" y="3133"/>
                  </a:lnTo>
                  <a:lnTo>
                    <a:pt x="409" y="3106"/>
                  </a:lnTo>
                  <a:lnTo>
                    <a:pt x="405" y="3077"/>
                  </a:lnTo>
                  <a:lnTo>
                    <a:pt x="405" y="3048"/>
                  </a:lnTo>
                  <a:lnTo>
                    <a:pt x="395" y="3038"/>
                  </a:lnTo>
                  <a:lnTo>
                    <a:pt x="385" y="3031"/>
                  </a:lnTo>
                  <a:lnTo>
                    <a:pt x="375" y="3024"/>
                  </a:lnTo>
                  <a:lnTo>
                    <a:pt x="364" y="3020"/>
                  </a:lnTo>
                  <a:lnTo>
                    <a:pt x="353" y="3013"/>
                  </a:lnTo>
                  <a:lnTo>
                    <a:pt x="343" y="3009"/>
                  </a:lnTo>
                  <a:lnTo>
                    <a:pt x="333" y="3003"/>
                  </a:lnTo>
                  <a:lnTo>
                    <a:pt x="324" y="2997"/>
                  </a:lnTo>
                  <a:lnTo>
                    <a:pt x="304" y="3010"/>
                  </a:lnTo>
                  <a:lnTo>
                    <a:pt x="283" y="3023"/>
                  </a:lnTo>
                  <a:lnTo>
                    <a:pt x="261" y="3033"/>
                  </a:lnTo>
                  <a:lnTo>
                    <a:pt x="239" y="3041"/>
                  </a:lnTo>
                  <a:lnTo>
                    <a:pt x="215" y="3045"/>
                  </a:lnTo>
                  <a:lnTo>
                    <a:pt x="192" y="3045"/>
                  </a:lnTo>
                  <a:lnTo>
                    <a:pt x="168" y="3040"/>
                  </a:lnTo>
                  <a:lnTo>
                    <a:pt x="147" y="3031"/>
                  </a:lnTo>
                  <a:lnTo>
                    <a:pt x="121" y="3017"/>
                  </a:lnTo>
                  <a:lnTo>
                    <a:pt x="102" y="3000"/>
                  </a:lnTo>
                  <a:lnTo>
                    <a:pt x="87" y="2979"/>
                  </a:lnTo>
                  <a:lnTo>
                    <a:pt x="76" y="2956"/>
                  </a:lnTo>
                  <a:lnTo>
                    <a:pt x="67" y="2929"/>
                  </a:lnTo>
                  <a:lnTo>
                    <a:pt x="62" y="2904"/>
                  </a:lnTo>
                  <a:lnTo>
                    <a:pt x="59" y="2877"/>
                  </a:lnTo>
                  <a:lnTo>
                    <a:pt x="59" y="2850"/>
                  </a:lnTo>
                  <a:lnTo>
                    <a:pt x="59" y="2826"/>
                  </a:lnTo>
                  <a:lnTo>
                    <a:pt x="63" y="2805"/>
                  </a:lnTo>
                  <a:lnTo>
                    <a:pt x="68" y="2783"/>
                  </a:lnTo>
                  <a:lnTo>
                    <a:pt x="77" y="2765"/>
                  </a:lnTo>
                  <a:lnTo>
                    <a:pt x="86" y="2747"/>
                  </a:lnTo>
                  <a:lnTo>
                    <a:pt x="99" y="2730"/>
                  </a:lnTo>
                  <a:lnTo>
                    <a:pt x="113" y="2713"/>
                  </a:lnTo>
                  <a:lnTo>
                    <a:pt x="129" y="2698"/>
                  </a:lnTo>
                  <a:lnTo>
                    <a:pt x="124" y="2690"/>
                  </a:lnTo>
                  <a:lnTo>
                    <a:pt x="119" y="2683"/>
                  </a:lnTo>
                  <a:lnTo>
                    <a:pt x="113" y="2674"/>
                  </a:lnTo>
                  <a:lnTo>
                    <a:pt x="106" y="2669"/>
                  </a:lnTo>
                  <a:lnTo>
                    <a:pt x="99" y="2662"/>
                  </a:lnTo>
                  <a:lnTo>
                    <a:pt x="91" y="2656"/>
                  </a:lnTo>
                  <a:lnTo>
                    <a:pt x="84" y="2650"/>
                  </a:lnTo>
                  <a:lnTo>
                    <a:pt x="77" y="2645"/>
                  </a:lnTo>
                  <a:lnTo>
                    <a:pt x="65" y="2623"/>
                  </a:lnTo>
                  <a:lnTo>
                    <a:pt x="53" y="2603"/>
                  </a:lnTo>
                  <a:lnTo>
                    <a:pt x="40" y="2582"/>
                  </a:lnTo>
                  <a:lnTo>
                    <a:pt x="30" y="2561"/>
                  </a:lnTo>
                  <a:lnTo>
                    <a:pt x="19" y="2538"/>
                  </a:lnTo>
                  <a:lnTo>
                    <a:pt x="11" y="2517"/>
                  </a:lnTo>
                  <a:lnTo>
                    <a:pt x="5" y="2493"/>
                  </a:lnTo>
                  <a:lnTo>
                    <a:pt x="3" y="2469"/>
                  </a:lnTo>
                  <a:lnTo>
                    <a:pt x="0" y="2436"/>
                  </a:lnTo>
                  <a:lnTo>
                    <a:pt x="1" y="2407"/>
                  </a:lnTo>
                  <a:lnTo>
                    <a:pt x="4" y="2375"/>
                  </a:lnTo>
                  <a:lnTo>
                    <a:pt x="11" y="2346"/>
                  </a:lnTo>
                  <a:lnTo>
                    <a:pt x="20" y="2316"/>
                  </a:lnTo>
                  <a:lnTo>
                    <a:pt x="35" y="2290"/>
                  </a:lnTo>
                  <a:lnTo>
                    <a:pt x="52" y="2266"/>
                  </a:lnTo>
                  <a:lnTo>
                    <a:pt x="75" y="2247"/>
                  </a:lnTo>
                  <a:lnTo>
                    <a:pt x="85" y="2238"/>
                  </a:lnTo>
                  <a:lnTo>
                    <a:pt x="96" y="2234"/>
                  </a:lnTo>
                  <a:lnTo>
                    <a:pt x="108" y="2230"/>
                  </a:lnTo>
                  <a:lnTo>
                    <a:pt x="121" y="2225"/>
                  </a:lnTo>
                  <a:lnTo>
                    <a:pt x="133" y="2221"/>
                  </a:lnTo>
                  <a:lnTo>
                    <a:pt x="146" y="2217"/>
                  </a:lnTo>
                  <a:lnTo>
                    <a:pt x="156" y="2211"/>
                  </a:lnTo>
                  <a:lnTo>
                    <a:pt x="167" y="2204"/>
                  </a:lnTo>
                  <a:lnTo>
                    <a:pt x="159" y="2176"/>
                  </a:lnTo>
                  <a:lnTo>
                    <a:pt x="153" y="2147"/>
                  </a:lnTo>
                  <a:lnTo>
                    <a:pt x="148" y="2115"/>
                  </a:lnTo>
                  <a:lnTo>
                    <a:pt x="147" y="2082"/>
                  </a:lnTo>
                  <a:lnTo>
                    <a:pt x="148" y="2048"/>
                  </a:lnTo>
                  <a:lnTo>
                    <a:pt x="153" y="2017"/>
                  </a:lnTo>
                  <a:lnTo>
                    <a:pt x="162" y="1989"/>
                  </a:lnTo>
                  <a:lnTo>
                    <a:pt x="177" y="1965"/>
                  </a:lnTo>
                  <a:lnTo>
                    <a:pt x="192" y="1952"/>
                  </a:lnTo>
                  <a:lnTo>
                    <a:pt x="209" y="1939"/>
                  </a:lnTo>
                  <a:lnTo>
                    <a:pt x="225" y="1926"/>
                  </a:lnTo>
                  <a:lnTo>
                    <a:pt x="243" y="1917"/>
                  </a:lnTo>
                  <a:lnTo>
                    <a:pt x="259" y="1905"/>
                  </a:lnTo>
                  <a:lnTo>
                    <a:pt x="278" y="1898"/>
                  </a:lnTo>
                  <a:lnTo>
                    <a:pt x="296" y="1894"/>
                  </a:lnTo>
                  <a:lnTo>
                    <a:pt x="318" y="1894"/>
                  </a:lnTo>
                  <a:lnTo>
                    <a:pt x="328" y="1866"/>
                  </a:lnTo>
                  <a:lnTo>
                    <a:pt x="343" y="1839"/>
                  </a:lnTo>
                  <a:lnTo>
                    <a:pt x="361" y="1813"/>
                  </a:lnTo>
                  <a:lnTo>
                    <a:pt x="381" y="1790"/>
                  </a:lnTo>
                  <a:lnTo>
                    <a:pt x="402" y="1769"/>
                  </a:lnTo>
                  <a:lnTo>
                    <a:pt x="425" y="1752"/>
                  </a:lnTo>
                  <a:lnTo>
                    <a:pt x="450" y="1739"/>
                  </a:lnTo>
                  <a:lnTo>
                    <a:pt x="477" y="1732"/>
                  </a:lnTo>
                  <a:lnTo>
                    <a:pt x="510" y="1725"/>
                  </a:lnTo>
                  <a:lnTo>
                    <a:pt x="509" y="1714"/>
                  </a:lnTo>
                  <a:lnTo>
                    <a:pt x="509" y="1703"/>
                  </a:lnTo>
                  <a:lnTo>
                    <a:pt x="507" y="1691"/>
                  </a:lnTo>
                  <a:lnTo>
                    <a:pt x="506" y="1681"/>
                  </a:lnTo>
                  <a:lnTo>
                    <a:pt x="505" y="1670"/>
                  </a:lnTo>
                  <a:lnTo>
                    <a:pt x="505" y="1659"/>
                  </a:lnTo>
                  <a:lnTo>
                    <a:pt x="505" y="1646"/>
                  </a:lnTo>
                  <a:lnTo>
                    <a:pt x="510" y="1635"/>
                  </a:lnTo>
                  <a:lnTo>
                    <a:pt x="517" y="1616"/>
                  </a:lnTo>
                  <a:lnTo>
                    <a:pt x="525" y="1599"/>
                  </a:lnTo>
                  <a:lnTo>
                    <a:pt x="534" y="1581"/>
                  </a:lnTo>
                  <a:lnTo>
                    <a:pt x="545" y="1564"/>
                  </a:lnTo>
                  <a:lnTo>
                    <a:pt x="557" y="1545"/>
                  </a:lnTo>
                  <a:lnTo>
                    <a:pt x="569" y="1531"/>
                  </a:lnTo>
                  <a:lnTo>
                    <a:pt x="583" y="1518"/>
                  </a:lnTo>
                  <a:lnTo>
                    <a:pt x="600" y="1510"/>
                  </a:lnTo>
                  <a:lnTo>
                    <a:pt x="601" y="1500"/>
                  </a:lnTo>
                  <a:lnTo>
                    <a:pt x="610" y="1499"/>
                  </a:lnTo>
                  <a:lnTo>
                    <a:pt x="617" y="1496"/>
                  </a:lnTo>
                  <a:lnTo>
                    <a:pt x="621" y="1487"/>
                  </a:lnTo>
                  <a:lnTo>
                    <a:pt x="593" y="1472"/>
                  </a:lnTo>
                  <a:lnTo>
                    <a:pt x="568" y="1453"/>
                  </a:lnTo>
                  <a:lnTo>
                    <a:pt x="545" y="1431"/>
                  </a:lnTo>
                  <a:lnTo>
                    <a:pt x="528" y="1407"/>
                  </a:lnTo>
                  <a:lnTo>
                    <a:pt x="510" y="1378"/>
                  </a:lnTo>
                  <a:lnTo>
                    <a:pt x="496" y="1350"/>
                  </a:lnTo>
                  <a:lnTo>
                    <a:pt x="485" y="1319"/>
                  </a:lnTo>
                  <a:lnTo>
                    <a:pt x="477" y="1289"/>
                  </a:lnTo>
                  <a:lnTo>
                    <a:pt x="474" y="1239"/>
                  </a:lnTo>
                  <a:lnTo>
                    <a:pt x="481" y="1193"/>
                  </a:lnTo>
                  <a:lnTo>
                    <a:pt x="491" y="1146"/>
                  </a:lnTo>
                  <a:lnTo>
                    <a:pt x="510" y="1105"/>
                  </a:lnTo>
                  <a:lnTo>
                    <a:pt x="533" y="1064"/>
                  </a:lnTo>
                  <a:lnTo>
                    <a:pt x="561" y="1028"/>
                  </a:lnTo>
                  <a:lnTo>
                    <a:pt x="592" y="994"/>
                  </a:lnTo>
                  <a:lnTo>
                    <a:pt x="630" y="969"/>
                  </a:lnTo>
                  <a:lnTo>
                    <a:pt x="649" y="956"/>
                  </a:lnTo>
                  <a:lnTo>
                    <a:pt x="671" y="952"/>
                  </a:lnTo>
                  <a:lnTo>
                    <a:pt x="691" y="952"/>
                  </a:lnTo>
                  <a:lnTo>
                    <a:pt x="712" y="958"/>
                  </a:lnTo>
                  <a:lnTo>
                    <a:pt x="731" y="965"/>
                  </a:lnTo>
                  <a:lnTo>
                    <a:pt x="752" y="973"/>
                  </a:lnTo>
                  <a:lnTo>
                    <a:pt x="772" y="980"/>
                  </a:lnTo>
                  <a:lnTo>
                    <a:pt x="792" y="989"/>
                  </a:lnTo>
                  <a:lnTo>
                    <a:pt x="795" y="980"/>
                  </a:lnTo>
                  <a:lnTo>
                    <a:pt x="797" y="973"/>
                  </a:lnTo>
                  <a:lnTo>
                    <a:pt x="800" y="965"/>
                  </a:lnTo>
                  <a:lnTo>
                    <a:pt x="802" y="958"/>
                  </a:lnTo>
                  <a:lnTo>
                    <a:pt x="803" y="942"/>
                  </a:lnTo>
                  <a:lnTo>
                    <a:pt x="805" y="932"/>
                  </a:lnTo>
                  <a:lnTo>
                    <a:pt x="811" y="907"/>
                  </a:lnTo>
                  <a:lnTo>
                    <a:pt x="822" y="884"/>
                  </a:lnTo>
                  <a:lnTo>
                    <a:pt x="835" y="861"/>
                  </a:lnTo>
                  <a:lnTo>
                    <a:pt x="852" y="841"/>
                  </a:lnTo>
                  <a:lnTo>
                    <a:pt x="868" y="822"/>
                  </a:lnTo>
                  <a:lnTo>
                    <a:pt x="887" y="806"/>
                  </a:lnTo>
                  <a:lnTo>
                    <a:pt x="908" y="792"/>
                  </a:lnTo>
                  <a:lnTo>
                    <a:pt x="931" y="783"/>
                  </a:lnTo>
                  <a:lnTo>
                    <a:pt x="943" y="779"/>
                  </a:lnTo>
                  <a:lnTo>
                    <a:pt x="954" y="781"/>
                  </a:lnTo>
                  <a:lnTo>
                    <a:pt x="964" y="783"/>
                  </a:lnTo>
                  <a:lnTo>
                    <a:pt x="974" y="788"/>
                  </a:lnTo>
                  <a:lnTo>
                    <a:pt x="983" y="790"/>
                  </a:lnTo>
                  <a:lnTo>
                    <a:pt x="994" y="795"/>
                  </a:lnTo>
                  <a:lnTo>
                    <a:pt x="1003" y="795"/>
                  </a:lnTo>
                  <a:lnTo>
                    <a:pt x="1015" y="793"/>
                  </a:lnTo>
                  <a:lnTo>
                    <a:pt x="1008" y="738"/>
                  </a:lnTo>
                  <a:lnTo>
                    <a:pt x="1008" y="683"/>
                  </a:lnTo>
                  <a:lnTo>
                    <a:pt x="1013" y="628"/>
                  </a:lnTo>
                  <a:lnTo>
                    <a:pt x="1025" y="574"/>
                  </a:lnTo>
                  <a:lnTo>
                    <a:pt x="1040" y="521"/>
                  </a:lnTo>
                  <a:lnTo>
                    <a:pt x="1063" y="473"/>
                  </a:lnTo>
                  <a:lnTo>
                    <a:pt x="1089" y="428"/>
                  </a:lnTo>
                  <a:lnTo>
                    <a:pt x="1124" y="390"/>
                  </a:lnTo>
                  <a:lnTo>
                    <a:pt x="1137" y="370"/>
                  </a:lnTo>
                  <a:lnTo>
                    <a:pt x="1155" y="353"/>
                  </a:lnTo>
                  <a:lnTo>
                    <a:pt x="1174" y="334"/>
                  </a:lnTo>
                  <a:lnTo>
                    <a:pt x="1194" y="320"/>
                  </a:lnTo>
                  <a:lnTo>
                    <a:pt x="1213" y="303"/>
                  </a:lnTo>
                  <a:lnTo>
                    <a:pt x="1235" y="292"/>
                  </a:lnTo>
                  <a:lnTo>
                    <a:pt x="1255" y="279"/>
                  </a:lnTo>
                  <a:lnTo>
                    <a:pt x="1277" y="272"/>
                  </a:lnTo>
                  <a:lnTo>
                    <a:pt x="1287" y="268"/>
                  </a:lnTo>
                  <a:lnTo>
                    <a:pt x="1298" y="264"/>
                  </a:lnTo>
                  <a:lnTo>
                    <a:pt x="1310" y="261"/>
                  </a:lnTo>
                  <a:lnTo>
                    <a:pt x="1321" y="259"/>
                  </a:lnTo>
                  <a:lnTo>
                    <a:pt x="1332" y="255"/>
                  </a:lnTo>
                  <a:lnTo>
                    <a:pt x="1344" y="254"/>
                  </a:lnTo>
                  <a:lnTo>
                    <a:pt x="1355" y="252"/>
                  </a:lnTo>
                  <a:lnTo>
                    <a:pt x="1366" y="252"/>
                  </a:lnTo>
                  <a:lnTo>
                    <a:pt x="1387" y="256"/>
                  </a:lnTo>
                  <a:lnTo>
                    <a:pt x="1408" y="264"/>
                  </a:lnTo>
                  <a:lnTo>
                    <a:pt x="1428" y="271"/>
                  </a:lnTo>
                  <a:lnTo>
                    <a:pt x="1450" y="279"/>
                  </a:lnTo>
                  <a:lnTo>
                    <a:pt x="1470" y="288"/>
                  </a:lnTo>
                  <a:lnTo>
                    <a:pt x="1490" y="299"/>
                  </a:lnTo>
                  <a:lnTo>
                    <a:pt x="1509" y="310"/>
                  </a:lnTo>
                  <a:lnTo>
                    <a:pt x="1528" y="326"/>
                  </a:lnTo>
                  <a:lnTo>
                    <a:pt x="1546" y="300"/>
                  </a:lnTo>
                  <a:lnTo>
                    <a:pt x="1568" y="281"/>
                  </a:lnTo>
                  <a:lnTo>
                    <a:pt x="1590" y="264"/>
                  </a:lnTo>
                  <a:lnTo>
                    <a:pt x="1617" y="252"/>
                  </a:lnTo>
                  <a:lnTo>
                    <a:pt x="1644" y="245"/>
                  </a:lnTo>
                  <a:lnTo>
                    <a:pt x="1671" y="242"/>
                  </a:lnTo>
                  <a:lnTo>
                    <a:pt x="1700" y="244"/>
                  </a:lnTo>
                  <a:lnTo>
                    <a:pt x="1730" y="252"/>
                  </a:lnTo>
                  <a:lnTo>
                    <a:pt x="1737" y="252"/>
                  </a:lnTo>
                  <a:lnTo>
                    <a:pt x="1745" y="258"/>
                  </a:lnTo>
                  <a:lnTo>
                    <a:pt x="1752" y="264"/>
                  </a:lnTo>
                  <a:lnTo>
                    <a:pt x="1760" y="271"/>
                  </a:lnTo>
                  <a:lnTo>
                    <a:pt x="1766" y="275"/>
                  </a:lnTo>
                  <a:lnTo>
                    <a:pt x="1773" y="278"/>
                  </a:lnTo>
                  <a:lnTo>
                    <a:pt x="1780" y="276"/>
                  </a:lnTo>
                  <a:lnTo>
                    <a:pt x="1788" y="272"/>
                  </a:lnTo>
                  <a:lnTo>
                    <a:pt x="1794" y="261"/>
                  </a:lnTo>
                  <a:lnTo>
                    <a:pt x="1805" y="255"/>
                  </a:lnTo>
                  <a:lnTo>
                    <a:pt x="1817" y="254"/>
                  </a:lnTo>
                  <a:lnTo>
                    <a:pt x="1830" y="252"/>
                  </a:lnTo>
                  <a:lnTo>
                    <a:pt x="1840" y="251"/>
                  </a:lnTo>
                  <a:lnTo>
                    <a:pt x="1850" y="254"/>
                  </a:lnTo>
                  <a:lnTo>
                    <a:pt x="1859" y="258"/>
                  </a:lnTo>
                  <a:lnTo>
                    <a:pt x="1867" y="264"/>
                  </a:lnTo>
                  <a:lnTo>
                    <a:pt x="1875" y="268"/>
                  </a:lnTo>
                  <a:lnTo>
                    <a:pt x="1884" y="273"/>
                  </a:lnTo>
                  <a:lnTo>
                    <a:pt x="1893" y="278"/>
                  </a:lnTo>
                  <a:lnTo>
                    <a:pt x="1904" y="282"/>
                  </a:lnTo>
                  <a:lnTo>
                    <a:pt x="1923" y="225"/>
                  </a:lnTo>
                  <a:lnTo>
                    <a:pt x="1952" y="176"/>
                  </a:lnTo>
                  <a:lnTo>
                    <a:pt x="1989" y="132"/>
                  </a:lnTo>
                  <a:lnTo>
                    <a:pt x="2032" y="95"/>
                  </a:lnTo>
                  <a:lnTo>
                    <a:pt x="2079" y="62"/>
                  </a:lnTo>
                  <a:lnTo>
                    <a:pt x="2128" y="37"/>
                  </a:lnTo>
                  <a:lnTo>
                    <a:pt x="2179" y="16"/>
                  </a:lnTo>
                  <a:lnTo>
                    <a:pt x="2229" y="3"/>
                  </a:lnTo>
                  <a:lnTo>
                    <a:pt x="2279" y="0"/>
                  </a:lnTo>
                  <a:lnTo>
                    <a:pt x="2328" y="6"/>
                  </a:lnTo>
                  <a:lnTo>
                    <a:pt x="2376" y="18"/>
                  </a:lnTo>
                  <a:lnTo>
                    <a:pt x="2423" y="41"/>
                  </a:lnTo>
                  <a:lnTo>
                    <a:pt x="2465" y="68"/>
                  </a:lnTo>
                  <a:lnTo>
                    <a:pt x="2504" y="102"/>
                  </a:lnTo>
                  <a:lnTo>
                    <a:pt x="2539" y="140"/>
                  </a:lnTo>
                  <a:lnTo>
                    <a:pt x="2571" y="186"/>
                  </a:lnTo>
                  <a:lnTo>
                    <a:pt x="2577" y="211"/>
                  </a:lnTo>
                  <a:lnTo>
                    <a:pt x="2584" y="238"/>
                  </a:lnTo>
                  <a:lnTo>
                    <a:pt x="2589" y="265"/>
                  </a:lnTo>
                  <a:lnTo>
                    <a:pt x="2594" y="295"/>
                  </a:lnTo>
                  <a:lnTo>
                    <a:pt x="2596" y="323"/>
                  </a:lnTo>
                  <a:lnTo>
                    <a:pt x="2598" y="351"/>
                  </a:lnTo>
                  <a:lnTo>
                    <a:pt x="2596" y="381"/>
                  </a:lnTo>
                  <a:lnTo>
                    <a:pt x="2592" y="411"/>
                  </a:lnTo>
                  <a:lnTo>
                    <a:pt x="2617" y="415"/>
                  </a:lnTo>
                  <a:lnTo>
                    <a:pt x="2641" y="418"/>
                  </a:lnTo>
                  <a:lnTo>
                    <a:pt x="2663" y="421"/>
                  </a:lnTo>
                  <a:lnTo>
                    <a:pt x="2686" y="425"/>
                  </a:lnTo>
                  <a:lnTo>
                    <a:pt x="2708" y="428"/>
                  </a:lnTo>
                  <a:lnTo>
                    <a:pt x="2730" y="436"/>
                  </a:lnTo>
                  <a:lnTo>
                    <a:pt x="2752" y="448"/>
                  </a:lnTo>
                  <a:lnTo>
                    <a:pt x="2773" y="465"/>
                  </a:lnTo>
                  <a:lnTo>
                    <a:pt x="2781" y="475"/>
                  </a:lnTo>
                  <a:lnTo>
                    <a:pt x="2789" y="487"/>
                  </a:lnTo>
                  <a:lnTo>
                    <a:pt x="2795" y="500"/>
                  </a:lnTo>
                  <a:lnTo>
                    <a:pt x="2803" y="513"/>
                  </a:lnTo>
                  <a:lnTo>
                    <a:pt x="2808" y="526"/>
                  </a:lnTo>
                  <a:lnTo>
                    <a:pt x="2814" y="540"/>
                  </a:lnTo>
                  <a:lnTo>
                    <a:pt x="2820" y="554"/>
                  </a:lnTo>
                  <a:lnTo>
                    <a:pt x="2827" y="568"/>
                  </a:lnTo>
                  <a:lnTo>
                    <a:pt x="2849" y="555"/>
                  </a:lnTo>
                  <a:lnTo>
                    <a:pt x="2876" y="547"/>
                  </a:lnTo>
                  <a:lnTo>
                    <a:pt x="2902" y="543"/>
                  </a:lnTo>
                  <a:lnTo>
                    <a:pt x="2930" y="543"/>
                  </a:lnTo>
                  <a:lnTo>
                    <a:pt x="2957" y="545"/>
                  </a:lnTo>
                  <a:lnTo>
                    <a:pt x="2983" y="554"/>
                  </a:lnTo>
                  <a:lnTo>
                    <a:pt x="3007" y="564"/>
                  </a:lnTo>
                  <a:lnTo>
                    <a:pt x="3032" y="578"/>
                  </a:lnTo>
                  <a:lnTo>
                    <a:pt x="3043" y="592"/>
                  </a:lnTo>
                  <a:lnTo>
                    <a:pt x="3050" y="609"/>
                  </a:lnTo>
                  <a:lnTo>
                    <a:pt x="3057" y="626"/>
                  </a:lnTo>
                  <a:lnTo>
                    <a:pt x="3062" y="645"/>
                  </a:lnTo>
                  <a:lnTo>
                    <a:pt x="3066" y="662"/>
                  </a:lnTo>
                  <a:lnTo>
                    <a:pt x="3071" y="680"/>
                  </a:lnTo>
                  <a:lnTo>
                    <a:pt x="3077" y="696"/>
                  </a:lnTo>
                  <a:lnTo>
                    <a:pt x="3086" y="713"/>
                  </a:lnTo>
                  <a:lnTo>
                    <a:pt x="3118" y="694"/>
                  </a:lnTo>
                  <a:lnTo>
                    <a:pt x="3154" y="686"/>
                  </a:lnTo>
                  <a:lnTo>
                    <a:pt x="3191" y="680"/>
                  </a:lnTo>
                  <a:lnTo>
                    <a:pt x="3230" y="684"/>
                  </a:lnTo>
                  <a:lnTo>
                    <a:pt x="3267" y="691"/>
                  </a:lnTo>
                  <a:lnTo>
                    <a:pt x="3305" y="704"/>
                  </a:lnTo>
                  <a:lnTo>
                    <a:pt x="3338" y="721"/>
                  </a:lnTo>
                  <a:lnTo>
                    <a:pt x="3368" y="744"/>
                  </a:lnTo>
                  <a:lnTo>
                    <a:pt x="3400" y="772"/>
                  </a:lnTo>
                  <a:lnTo>
                    <a:pt x="3431" y="806"/>
                  </a:lnTo>
                  <a:lnTo>
                    <a:pt x="3459" y="841"/>
                  </a:lnTo>
                  <a:lnTo>
                    <a:pt x="3484" y="881"/>
                  </a:lnTo>
                  <a:lnTo>
                    <a:pt x="3502" y="922"/>
                  </a:lnTo>
                  <a:lnTo>
                    <a:pt x="3515" y="966"/>
                  </a:lnTo>
                  <a:lnTo>
                    <a:pt x="3517" y="1011"/>
                  </a:lnTo>
                  <a:lnTo>
                    <a:pt x="3512" y="1060"/>
                  </a:lnTo>
                  <a:lnTo>
                    <a:pt x="3506" y="1072"/>
                  </a:lnTo>
                  <a:lnTo>
                    <a:pt x="3497" y="1085"/>
                  </a:lnTo>
                  <a:lnTo>
                    <a:pt x="3486" y="1098"/>
                  </a:lnTo>
                  <a:lnTo>
                    <a:pt x="3476" y="1112"/>
                  </a:lnTo>
                  <a:lnTo>
                    <a:pt x="3465" y="1125"/>
                  </a:lnTo>
                  <a:lnTo>
                    <a:pt x="3460" y="1137"/>
                  </a:lnTo>
                  <a:lnTo>
                    <a:pt x="3462" y="1150"/>
                  </a:lnTo>
                  <a:lnTo>
                    <a:pt x="3473" y="1164"/>
                  </a:lnTo>
                  <a:lnTo>
                    <a:pt x="3479" y="1181"/>
                  </a:lnTo>
                  <a:lnTo>
                    <a:pt x="3487" y="1198"/>
                  </a:lnTo>
                  <a:lnTo>
                    <a:pt x="3495" y="1215"/>
                  </a:lnTo>
                  <a:lnTo>
                    <a:pt x="3502" y="1234"/>
                  </a:lnTo>
                  <a:lnTo>
                    <a:pt x="3507" y="1252"/>
                  </a:lnTo>
                  <a:lnTo>
                    <a:pt x="3510" y="1272"/>
                  </a:lnTo>
                  <a:lnTo>
                    <a:pt x="3510" y="1293"/>
                  </a:lnTo>
                  <a:lnTo>
                    <a:pt x="3506" y="1316"/>
                  </a:lnTo>
                  <a:lnTo>
                    <a:pt x="3527" y="1327"/>
                  </a:lnTo>
                  <a:lnTo>
                    <a:pt x="3550" y="1343"/>
                  </a:lnTo>
                  <a:lnTo>
                    <a:pt x="3571" y="1363"/>
                  </a:lnTo>
                  <a:lnTo>
                    <a:pt x="3589" y="1385"/>
                  </a:lnTo>
                  <a:lnTo>
                    <a:pt x="3603" y="1409"/>
                  </a:lnTo>
                  <a:lnTo>
                    <a:pt x="3615" y="1438"/>
                  </a:lnTo>
                  <a:lnTo>
                    <a:pt x="3621" y="1466"/>
                  </a:lnTo>
                  <a:lnTo>
                    <a:pt x="3624" y="1497"/>
                  </a:lnTo>
                  <a:lnTo>
                    <a:pt x="3624" y="1507"/>
                  </a:lnTo>
                  <a:lnTo>
                    <a:pt x="3621" y="1518"/>
                  </a:lnTo>
                  <a:lnTo>
                    <a:pt x="3617" y="1528"/>
                  </a:lnTo>
                  <a:lnTo>
                    <a:pt x="3615" y="1540"/>
                  </a:lnTo>
                  <a:lnTo>
                    <a:pt x="3611" y="1550"/>
                  </a:lnTo>
                  <a:lnTo>
                    <a:pt x="3610" y="1560"/>
                  </a:lnTo>
                  <a:lnTo>
                    <a:pt x="3610" y="1569"/>
                  </a:lnTo>
                  <a:lnTo>
                    <a:pt x="3615" y="1581"/>
                  </a:lnTo>
                  <a:lnTo>
                    <a:pt x="3617" y="1578"/>
                  </a:lnTo>
                  <a:lnTo>
                    <a:pt x="3636" y="1586"/>
                  </a:lnTo>
                  <a:lnTo>
                    <a:pt x="3655" y="1599"/>
                  </a:lnTo>
                  <a:lnTo>
                    <a:pt x="3673" y="1613"/>
                  </a:lnTo>
                  <a:lnTo>
                    <a:pt x="3691" y="1633"/>
                  </a:lnTo>
                  <a:lnTo>
                    <a:pt x="3706" y="1652"/>
                  </a:lnTo>
                  <a:lnTo>
                    <a:pt x="3721" y="1673"/>
                  </a:lnTo>
                  <a:lnTo>
                    <a:pt x="3735" y="1693"/>
                  </a:lnTo>
                  <a:lnTo>
                    <a:pt x="3749" y="1713"/>
                  </a:lnTo>
                  <a:lnTo>
                    <a:pt x="3758" y="1749"/>
                  </a:lnTo>
                  <a:lnTo>
                    <a:pt x="3764" y="1788"/>
                  </a:lnTo>
                  <a:lnTo>
                    <a:pt x="3768" y="1827"/>
                  </a:lnTo>
                  <a:lnTo>
                    <a:pt x="3768" y="1868"/>
                  </a:lnTo>
                  <a:lnTo>
                    <a:pt x="3763" y="1905"/>
                  </a:lnTo>
                  <a:lnTo>
                    <a:pt x="3753" y="1943"/>
                  </a:lnTo>
                  <a:lnTo>
                    <a:pt x="3738" y="1977"/>
                  </a:lnTo>
                  <a:lnTo>
                    <a:pt x="3716" y="2011"/>
                  </a:lnTo>
                  <a:lnTo>
                    <a:pt x="3683" y="20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240" y="68040"/>
              <a:ext cx="6498720" cy="3599280"/>
            </a:xfrm>
            <a:custGeom>
              <a:avLst/>
              <a:gdLst/>
              <a:ahLst/>
              <a:rect l="l" t="t" r="r" b="b"/>
              <a:pathLst>
                <a:path w="3652" h="3162">
                  <a:moveTo>
                    <a:pt x="3568" y="1932"/>
                  </a:moveTo>
                  <a:lnTo>
                    <a:pt x="3553" y="1934"/>
                  </a:lnTo>
                  <a:lnTo>
                    <a:pt x="3538" y="1936"/>
                  </a:lnTo>
                  <a:lnTo>
                    <a:pt x="3523" y="1934"/>
                  </a:lnTo>
                  <a:lnTo>
                    <a:pt x="3509" y="1934"/>
                  </a:lnTo>
                  <a:lnTo>
                    <a:pt x="3494" y="1932"/>
                  </a:lnTo>
                  <a:lnTo>
                    <a:pt x="3478" y="1929"/>
                  </a:lnTo>
                  <a:lnTo>
                    <a:pt x="3463" y="1926"/>
                  </a:lnTo>
                  <a:lnTo>
                    <a:pt x="3448" y="1924"/>
                  </a:lnTo>
                  <a:lnTo>
                    <a:pt x="3442" y="1927"/>
                  </a:lnTo>
                  <a:lnTo>
                    <a:pt x="3438" y="1936"/>
                  </a:lnTo>
                  <a:lnTo>
                    <a:pt x="3437" y="1943"/>
                  </a:lnTo>
                  <a:lnTo>
                    <a:pt x="3437" y="1951"/>
                  </a:lnTo>
                  <a:lnTo>
                    <a:pt x="3453" y="1974"/>
                  </a:lnTo>
                  <a:lnTo>
                    <a:pt x="3475" y="1994"/>
                  </a:lnTo>
                  <a:lnTo>
                    <a:pt x="3497" y="2011"/>
                  </a:lnTo>
                  <a:lnTo>
                    <a:pt x="3520" y="2028"/>
                  </a:lnTo>
                  <a:lnTo>
                    <a:pt x="3540" y="2043"/>
                  </a:lnTo>
                  <a:lnTo>
                    <a:pt x="3559" y="2063"/>
                  </a:lnTo>
                  <a:lnTo>
                    <a:pt x="3575" y="2086"/>
                  </a:lnTo>
                  <a:lnTo>
                    <a:pt x="3586" y="2117"/>
                  </a:lnTo>
                  <a:lnTo>
                    <a:pt x="3595" y="2138"/>
                  </a:lnTo>
                  <a:lnTo>
                    <a:pt x="3600" y="2164"/>
                  </a:lnTo>
                  <a:lnTo>
                    <a:pt x="3600" y="2189"/>
                  </a:lnTo>
                  <a:lnTo>
                    <a:pt x="3599" y="2216"/>
                  </a:lnTo>
                  <a:lnTo>
                    <a:pt x="3593" y="2242"/>
                  </a:lnTo>
                  <a:lnTo>
                    <a:pt x="3586" y="2267"/>
                  </a:lnTo>
                  <a:lnTo>
                    <a:pt x="3576" y="2291"/>
                  </a:lnTo>
                  <a:lnTo>
                    <a:pt x="3566" y="2315"/>
                  </a:lnTo>
                  <a:lnTo>
                    <a:pt x="3543" y="2342"/>
                  </a:lnTo>
                  <a:lnTo>
                    <a:pt x="3518" y="2366"/>
                  </a:lnTo>
                  <a:lnTo>
                    <a:pt x="3491" y="2385"/>
                  </a:lnTo>
                  <a:lnTo>
                    <a:pt x="3463" y="2400"/>
                  </a:lnTo>
                  <a:lnTo>
                    <a:pt x="3433" y="2409"/>
                  </a:lnTo>
                  <a:lnTo>
                    <a:pt x="3402" y="2413"/>
                  </a:lnTo>
                  <a:lnTo>
                    <a:pt x="3372" y="2412"/>
                  </a:lnTo>
                  <a:lnTo>
                    <a:pt x="3343" y="2406"/>
                  </a:lnTo>
                  <a:lnTo>
                    <a:pt x="3323" y="2399"/>
                  </a:lnTo>
                  <a:lnTo>
                    <a:pt x="3308" y="2388"/>
                  </a:lnTo>
                  <a:lnTo>
                    <a:pt x="3294" y="2372"/>
                  </a:lnTo>
                  <a:lnTo>
                    <a:pt x="3282" y="2357"/>
                  </a:lnTo>
                  <a:lnTo>
                    <a:pt x="3271" y="2338"/>
                  </a:lnTo>
                  <a:lnTo>
                    <a:pt x="3259" y="2320"/>
                  </a:lnTo>
                  <a:lnTo>
                    <a:pt x="3247" y="2303"/>
                  </a:lnTo>
                  <a:lnTo>
                    <a:pt x="3234" y="2289"/>
                  </a:lnTo>
                  <a:lnTo>
                    <a:pt x="3224" y="2286"/>
                  </a:lnTo>
                  <a:lnTo>
                    <a:pt x="3219" y="2293"/>
                  </a:lnTo>
                  <a:lnTo>
                    <a:pt x="3215" y="2300"/>
                  </a:lnTo>
                  <a:lnTo>
                    <a:pt x="3214" y="2308"/>
                  </a:lnTo>
                  <a:lnTo>
                    <a:pt x="3218" y="2332"/>
                  </a:lnTo>
                  <a:lnTo>
                    <a:pt x="3227" y="2357"/>
                  </a:lnTo>
                  <a:lnTo>
                    <a:pt x="3238" y="2381"/>
                  </a:lnTo>
                  <a:lnTo>
                    <a:pt x="3252" y="2405"/>
                  </a:lnTo>
                  <a:lnTo>
                    <a:pt x="3267" y="2424"/>
                  </a:lnTo>
                  <a:lnTo>
                    <a:pt x="3286" y="2441"/>
                  </a:lnTo>
                  <a:lnTo>
                    <a:pt x="3305" y="2456"/>
                  </a:lnTo>
                  <a:lnTo>
                    <a:pt x="3328" y="2467"/>
                  </a:lnTo>
                  <a:lnTo>
                    <a:pt x="3391" y="2480"/>
                  </a:lnTo>
                  <a:lnTo>
                    <a:pt x="3392" y="2495"/>
                  </a:lnTo>
                  <a:lnTo>
                    <a:pt x="3394" y="2512"/>
                  </a:lnTo>
                  <a:lnTo>
                    <a:pt x="3394" y="2529"/>
                  </a:lnTo>
                  <a:lnTo>
                    <a:pt x="3392" y="2546"/>
                  </a:lnTo>
                  <a:lnTo>
                    <a:pt x="3387" y="2562"/>
                  </a:lnTo>
                  <a:lnTo>
                    <a:pt x="3383" y="2579"/>
                  </a:lnTo>
                  <a:lnTo>
                    <a:pt x="3376" y="2594"/>
                  </a:lnTo>
                  <a:lnTo>
                    <a:pt x="3370" y="2611"/>
                  </a:lnTo>
                  <a:lnTo>
                    <a:pt x="3335" y="2638"/>
                  </a:lnTo>
                  <a:lnTo>
                    <a:pt x="3301" y="2658"/>
                  </a:lnTo>
                  <a:lnTo>
                    <a:pt x="3263" y="2668"/>
                  </a:lnTo>
                  <a:lnTo>
                    <a:pt x="3225" y="2671"/>
                  </a:lnTo>
                  <a:lnTo>
                    <a:pt x="3186" y="2665"/>
                  </a:lnTo>
                  <a:lnTo>
                    <a:pt x="3148" y="2655"/>
                  </a:lnTo>
                  <a:lnTo>
                    <a:pt x="3110" y="2641"/>
                  </a:lnTo>
                  <a:lnTo>
                    <a:pt x="3076" y="2624"/>
                  </a:lnTo>
                  <a:lnTo>
                    <a:pt x="3065" y="2633"/>
                  </a:lnTo>
                  <a:lnTo>
                    <a:pt x="3062" y="2644"/>
                  </a:lnTo>
                  <a:lnTo>
                    <a:pt x="3063" y="2657"/>
                  </a:lnTo>
                  <a:lnTo>
                    <a:pt x="3070" y="2670"/>
                  </a:lnTo>
                  <a:lnTo>
                    <a:pt x="3076" y="2681"/>
                  </a:lnTo>
                  <a:lnTo>
                    <a:pt x="3084" y="2694"/>
                  </a:lnTo>
                  <a:lnTo>
                    <a:pt x="3089" y="2706"/>
                  </a:lnTo>
                  <a:lnTo>
                    <a:pt x="3094" y="2719"/>
                  </a:lnTo>
                  <a:lnTo>
                    <a:pt x="3100" y="2738"/>
                  </a:lnTo>
                  <a:lnTo>
                    <a:pt x="3104" y="2757"/>
                  </a:lnTo>
                  <a:lnTo>
                    <a:pt x="3106" y="2779"/>
                  </a:lnTo>
                  <a:lnTo>
                    <a:pt x="3108" y="2801"/>
                  </a:lnTo>
                  <a:lnTo>
                    <a:pt x="3104" y="2821"/>
                  </a:lnTo>
                  <a:lnTo>
                    <a:pt x="3100" y="2842"/>
                  </a:lnTo>
                  <a:lnTo>
                    <a:pt x="3092" y="2862"/>
                  </a:lnTo>
                  <a:lnTo>
                    <a:pt x="3085" y="2881"/>
                  </a:lnTo>
                  <a:lnTo>
                    <a:pt x="3075" y="2892"/>
                  </a:lnTo>
                  <a:lnTo>
                    <a:pt x="3065" y="2905"/>
                  </a:lnTo>
                  <a:lnTo>
                    <a:pt x="3053" y="2913"/>
                  </a:lnTo>
                  <a:lnTo>
                    <a:pt x="3042" y="2923"/>
                  </a:lnTo>
                  <a:lnTo>
                    <a:pt x="3028" y="2930"/>
                  </a:lnTo>
                  <a:lnTo>
                    <a:pt x="3015" y="2936"/>
                  </a:lnTo>
                  <a:lnTo>
                    <a:pt x="3001" y="2939"/>
                  </a:lnTo>
                  <a:lnTo>
                    <a:pt x="2989" y="2940"/>
                  </a:lnTo>
                  <a:lnTo>
                    <a:pt x="2967" y="2936"/>
                  </a:lnTo>
                  <a:lnTo>
                    <a:pt x="2949" y="2929"/>
                  </a:lnTo>
                  <a:lnTo>
                    <a:pt x="2930" y="2920"/>
                  </a:lnTo>
                  <a:lnTo>
                    <a:pt x="2915" y="2910"/>
                  </a:lnTo>
                  <a:lnTo>
                    <a:pt x="2899" y="2896"/>
                  </a:lnTo>
                  <a:lnTo>
                    <a:pt x="2884" y="2882"/>
                  </a:lnTo>
                  <a:lnTo>
                    <a:pt x="2868" y="2865"/>
                  </a:lnTo>
                  <a:lnTo>
                    <a:pt x="2856" y="2849"/>
                  </a:lnTo>
                  <a:lnTo>
                    <a:pt x="2848" y="2840"/>
                  </a:lnTo>
                  <a:lnTo>
                    <a:pt x="2841" y="2834"/>
                  </a:lnTo>
                  <a:lnTo>
                    <a:pt x="2832" y="2831"/>
                  </a:lnTo>
                  <a:lnTo>
                    <a:pt x="2823" y="2837"/>
                  </a:lnTo>
                  <a:lnTo>
                    <a:pt x="2815" y="2847"/>
                  </a:lnTo>
                  <a:lnTo>
                    <a:pt x="2808" y="2858"/>
                  </a:lnTo>
                  <a:lnTo>
                    <a:pt x="2799" y="2868"/>
                  </a:lnTo>
                  <a:lnTo>
                    <a:pt x="2790" y="2874"/>
                  </a:lnTo>
                  <a:lnTo>
                    <a:pt x="2780" y="2874"/>
                  </a:lnTo>
                  <a:lnTo>
                    <a:pt x="2772" y="2872"/>
                  </a:lnTo>
                  <a:lnTo>
                    <a:pt x="2766" y="2866"/>
                  </a:lnTo>
                  <a:lnTo>
                    <a:pt x="2761" y="2861"/>
                  </a:lnTo>
                  <a:lnTo>
                    <a:pt x="2756" y="2852"/>
                  </a:lnTo>
                  <a:lnTo>
                    <a:pt x="2751" y="2844"/>
                  </a:lnTo>
                  <a:lnTo>
                    <a:pt x="2746" y="2835"/>
                  </a:lnTo>
                  <a:lnTo>
                    <a:pt x="2742" y="2830"/>
                  </a:lnTo>
                  <a:lnTo>
                    <a:pt x="2731" y="2803"/>
                  </a:lnTo>
                  <a:lnTo>
                    <a:pt x="2722" y="2777"/>
                  </a:lnTo>
                  <a:lnTo>
                    <a:pt x="2713" y="2750"/>
                  </a:lnTo>
                  <a:lnTo>
                    <a:pt x="2705" y="2725"/>
                  </a:lnTo>
                  <a:lnTo>
                    <a:pt x="2698" y="2696"/>
                  </a:lnTo>
                  <a:lnTo>
                    <a:pt x="2690" y="2670"/>
                  </a:lnTo>
                  <a:lnTo>
                    <a:pt x="2683" y="2643"/>
                  </a:lnTo>
                  <a:lnTo>
                    <a:pt x="2676" y="2617"/>
                  </a:lnTo>
                  <a:lnTo>
                    <a:pt x="2658" y="2623"/>
                  </a:lnTo>
                  <a:lnTo>
                    <a:pt x="2643" y="2634"/>
                  </a:lnTo>
                  <a:lnTo>
                    <a:pt x="2631" y="2645"/>
                  </a:lnTo>
                  <a:lnTo>
                    <a:pt x="2619" y="2660"/>
                  </a:lnTo>
                  <a:lnTo>
                    <a:pt x="2607" y="2674"/>
                  </a:lnTo>
                  <a:lnTo>
                    <a:pt x="2594" y="2688"/>
                  </a:lnTo>
                  <a:lnTo>
                    <a:pt x="2581" y="2699"/>
                  </a:lnTo>
                  <a:lnTo>
                    <a:pt x="2567" y="2712"/>
                  </a:lnTo>
                  <a:lnTo>
                    <a:pt x="2553" y="2715"/>
                  </a:lnTo>
                  <a:lnTo>
                    <a:pt x="2540" y="2719"/>
                  </a:lnTo>
                  <a:lnTo>
                    <a:pt x="2526" y="2721"/>
                  </a:lnTo>
                  <a:lnTo>
                    <a:pt x="2514" y="2722"/>
                  </a:lnTo>
                  <a:lnTo>
                    <a:pt x="2500" y="2719"/>
                  </a:lnTo>
                  <a:lnTo>
                    <a:pt x="2488" y="2715"/>
                  </a:lnTo>
                  <a:lnTo>
                    <a:pt x="2476" y="2708"/>
                  </a:lnTo>
                  <a:lnTo>
                    <a:pt x="2465" y="2698"/>
                  </a:lnTo>
                  <a:lnTo>
                    <a:pt x="2459" y="2689"/>
                  </a:lnTo>
                  <a:lnTo>
                    <a:pt x="2459" y="2681"/>
                  </a:lnTo>
                  <a:lnTo>
                    <a:pt x="2460" y="2672"/>
                  </a:lnTo>
                  <a:lnTo>
                    <a:pt x="2466" y="2665"/>
                  </a:lnTo>
                  <a:lnTo>
                    <a:pt x="2472" y="2657"/>
                  </a:lnTo>
                  <a:lnTo>
                    <a:pt x="2479" y="2651"/>
                  </a:lnTo>
                  <a:lnTo>
                    <a:pt x="2485" y="2644"/>
                  </a:lnTo>
                  <a:lnTo>
                    <a:pt x="2493" y="2638"/>
                  </a:lnTo>
                  <a:lnTo>
                    <a:pt x="2503" y="2630"/>
                  </a:lnTo>
                  <a:lnTo>
                    <a:pt x="2512" y="2623"/>
                  </a:lnTo>
                  <a:lnTo>
                    <a:pt x="2519" y="2613"/>
                  </a:lnTo>
                  <a:lnTo>
                    <a:pt x="2528" y="2604"/>
                  </a:lnTo>
                  <a:lnTo>
                    <a:pt x="2534" y="2594"/>
                  </a:lnTo>
                  <a:lnTo>
                    <a:pt x="2542" y="2586"/>
                  </a:lnTo>
                  <a:lnTo>
                    <a:pt x="2551" y="2577"/>
                  </a:lnTo>
                  <a:lnTo>
                    <a:pt x="2561" y="2570"/>
                  </a:lnTo>
                  <a:lnTo>
                    <a:pt x="2567" y="2565"/>
                  </a:lnTo>
                  <a:lnTo>
                    <a:pt x="2575" y="2560"/>
                  </a:lnTo>
                  <a:lnTo>
                    <a:pt x="2581" y="2553"/>
                  </a:lnTo>
                  <a:lnTo>
                    <a:pt x="2589" y="2543"/>
                  </a:lnTo>
                  <a:lnTo>
                    <a:pt x="2632" y="2501"/>
                  </a:lnTo>
                  <a:lnTo>
                    <a:pt x="2677" y="2460"/>
                  </a:lnTo>
                  <a:lnTo>
                    <a:pt x="2724" y="2420"/>
                  </a:lnTo>
                  <a:lnTo>
                    <a:pt x="2775" y="2385"/>
                  </a:lnTo>
                  <a:lnTo>
                    <a:pt x="2825" y="2349"/>
                  </a:lnTo>
                  <a:lnTo>
                    <a:pt x="2879" y="2320"/>
                  </a:lnTo>
                  <a:lnTo>
                    <a:pt x="2932" y="2294"/>
                  </a:lnTo>
                  <a:lnTo>
                    <a:pt x="2989" y="2274"/>
                  </a:lnTo>
                  <a:lnTo>
                    <a:pt x="2992" y="2293"/>
                  </a:lnTo>
                  <a:lnTo>
                    <a:pt x="3001" y="2311"/>
                  </a:lnTo>
                  <a:lnTo>
                    <a:pt x="3011" y="2328"/>
                  </a:lnTo>
                  <a:lnTo>
                    <a:pt x="3024" y="2347"/>
                  </a:lnTo>
                  <a:lnTo>
                    <a:pt x="3038" y="2359"/>
                  </a:lnTo>
                  <a:lnTo>
                    <a:pt x="3053" y="2372"/>
                  </a:lnTo>
                  <a:lnTo>
                    <a:pt x="3071" y="2381"/>
                  </a:lnTo>
                  <a:lnTo>
                    <a:pt x="3090" y="2386"/>
                  </a:lnTo>
                  <a:lnTo>
                    <a:pt x="3095" y="2383"/>
                  </a:lnTo>
                  <a:lnTo>
                    <a:pt x="3103" y="2383"/>
                  </a:lnTo>
                  <a:lnTo>
                    <a:pt x="3110" y="2382"/>
                  </a:lnTo>
                  <a:lnTo>
                    <a:pt x="3118" y="2381"/>
                  </a:lnTo>
                  <a:lnTo>
                    <a:pt x="3124" y="2376"/>
                  </a:lnTo>
                  <a:lnTo>
                    <a:pt x="3130" y="2372"/>
                  </a:lnTo>
                  <a:lnTo>
                    <a:pt x="3134" y="2364"/>
                  </a:lnTo>
                  <a:lnTo>
                    <a:pt x="3138" y="2355"/>
                  </a:lnTo>
                  <a:lnTo>
                    <a:pt x="3135" y="2341"/>
                  </a:lnTo>
                  <a:lnTo>
                    <a:pt x="3130" y="2328"/>
                  </a:lnTo>
                  <a:lnTo>
                    <a:pt x="3123" y="2318"/>
                  </a:lnTo>
                  <a:lnTo>
                    <a:pt x="3111" y="2311"/>
                  </a:lnTo>
                  <a:lnTo>
                    <a:pt x="3101" y="2314"/>
                  </a:lnTo>
                  <a:lnTo>
                    <a:pt x="3092" y="2315"/>
                  </a:lnTo>
                  <a:lnTo>
                    <a:pt x="3085" y="2311"/>
                  </a:lnTo>
                  <a:lnTo>
                    <a:pt x="3077" y="2308"/>
                  </a:lnTo>
                  <a:lnTo>
                    <a:pt x="3070" y="2300"/>
                  </a:lnTo>
                  <a:lnTo>
                    <a:pt x="3063" y="2293"/>
                  </a:lnTo>
                  <a:lnTo>
                    <a:pt x="3057" y="2286"/>
                  </a:lnTo>
                  <a:lnTo>
                    <a:pt x="3054" y="2279"/>
                  </a:lnTo>
                  <a:lnTo>
                    <a:pt x="3049" y="2262"/>
                  </a:lnTo>
                  <a:lnTo>
                    <a:pt x="3048" y="2245"/>
                  </a:lnTo>
                  <a:lnTo>
                    <a:pt x="3048" y="2228"/>
                  </a:lnTo>
                  <a:lnTo>
                    <a:pt x="3053" y="2212"/>
                  </a:lnTo>
                  <a:lnTo>
                    <a:pt x="3057" y="2195"/>
                  </a:lnTo>
                  <a:lnTo>
                    <a:pt x="3065" y="2179"/>
                  </a:lnTo>
                  <a:lnTo>
                    <a:pt x="3070" y="2164"/>
                  </a:lnTo>
                  <a:lnTo>
                    <a:pt x="3076" y="2150"/>
                  </a:lnTo>
                  <a:lnTo>
                    <a:pt x="3082" y="2137"/>
                  </a:lnTo>
                  <a:lnTo>
                    <a:pt x="3091" y="2126"/>
                  </a:lnTo>
                  <a:lnTo>
                    <a:pt x="3099" y="2114"/>
                  </a:lnTo>
                  <a:lnTo>
                    <a:pt x="3108" y="2103"/>
                  </a:lnTo>
                  <a:lnTo>
                    <a:pt x="3115" y="2090"/>
                  </a:lnTo>
                  <a:lnTo>
                    <a:pt x="3123" y="2077"/>
                  </a:lnTo>
                  <a:lnTo>
                    <a:pt x="3128" y="2063"/>
                  </a:lnTo>
                  <a:lnTo>
                    <a:pt x="3133" y="2049"/>
                  </a:lnTo>
                  <a:lnTo>
                    <a:pt x="3118" y="2036"/>
                  </a:lnTo>
                  <a:lnTo>
                    <a:pt x="3101" y="2029"/>
                  </a:lnTo>
                  <a:lnTo>
                    <a:pt x="3084" y="2025"/>
                  </a:lnTo>
                  <a:lnTo>
                    <a:pt x="3066" y="2022"/>
                  </a:lnTo>
                  <a:lnTo>
                    <a:pt x="3047" y="2017"/>
                  </a:lnTo>
                  <a:lnTo>
                    <a:pt x="3029" y="2012"/>
                  </a:lnTo>
                  <a:lnTo>
                    <a:pt x="3014" y="2002"/>
                  </a:lnTo>
                  <a:lnTo>
                    <a:pt x="3004" y="1988"/>
                  </a:lnTo>
                  <a:lnTo>
                    <a:pt x="3006" y="1968"/>
                  </a:lnTo>
                  <a:lnTo>
                    <a:pt x="3014" y="1950"/>
                  </a:lnTo>
                  <a:lnTo>
                    <a:pt x="3020" y="1932"/>
                  </a:lnTo>
                  <a:lnTo>
                    <a:pt x="3032" y="1915"/>
                  </a:lnTo>
                  <a:lnTo>
                    <a:pt x="3042" y="1898"/>
                  </a:lnTo>
                  <a:lnTo>
                    <a:pt x="3056" y="1883"/>
                  </a:lnTo>
                  <a:lnTo>
                    <a:pt x="3070" y="1869"/>
                  </a:lnTo>
                  <a:lnTo>
                    <a:pt x="3087" y="1861"/>
                  </a:lnTo>
                  <a:lnTo>
                    <a:pt x="3091" y="1852"/>
                  </a:lnTo>
                  <a:lnTo>
                    <a:pt x="3095" y="1844"/>
                  </a:lnTo>
                  <a:lnTo>
                    <a:pt x="3095" y="1834"/>
                  </a:lnTo>
                  <a:lnTo>
                    <a:pt x="3094" y="1827"/>
                  </a:lnTo>
                  <a:lnTo>
                    <a:pt x="3086" y="1821"/>
                  </a:lnTo>
                  <a:lnTo>
                    <a:pt x="3079" y="1817"/>
                  </a:lnTo>
                  <a:lnTo>
                    <a:pt x="3071" y="1814"/>
                  </a:lnTo>
                  <a:lnTo>
                    <a:pt x="3063" y="1813"/>
                  </a:lnTo>
                  <a:lnTo>
                    <a:pt x="3054" y="1810"/>
                  </a:lnTo>
                  <a:lnTo>
                    <a:pt x="3046" y="1810"/>
                  </a:lnTo>
                  <a:lnTo>
                    <a:pt x="3038" y="1810"/>
                  </a:lnTo>
                  <a:lnTo>
                    <a:pt x="3030" y="1814"/>
                  </a:lnTo>
                  <a:lnTo>
                    <a:pt x="3010" y="1828"/>
                  </a:lnTo>
                  <a:lnTo>
                    <a:pt x="2992" y="1845"/>
                  </a:lnTo>
                  <a:lnTo>
                    <a:pt x="2974" y="1864"/>
                  </a:lnTo>
                  <a:lnTo>
                    <a:pt x="2960" y="1885"/>
                  </a:lnTo>
                  <a:lnTo>
                    <a:pt x="2947" y="1906"/>
                  </a:lnTo>
                  <a:lnTo>
                    <a:pt x="2938" y="1930"/>
                  </a:lnTo>
                  <a:lnTo>
                    <a:pt x="2932" y="1956"/>
                  </a:lnTo>
                  <a:lnTo>
                    <a:pt x="2932" y="1985"/>
                  </a:lnTo>
                  <a:lnTo>
                    <a:pt x="2880" y="1995"/>
                  </a:lnTo>
                  <a:lnTo>
                    <a:pt x="2832" y="2009"/>
                  </a:lnTo>
                  <a:lnTo>
                    <a:pt x="2782" y="2025"/>
                  </a:lnTo>
                  <a:lnTo>
                    <a:pt x="2736" y="2043"/>
                  </a:lnTo>
                  <a:lnTo>
                    <a:pt x="2688" y="2062"/>
                  </a:lnTo>
                  <a:lnTo>
                    <a:pt x="2641" y="2083"/>
                  </a:lnTo>
                  <a:lnTo>
                    <a:pt x="2595" y="2104"/>
                  </a:lnTo>
                  <a:lnTo>
                    <a:pt x="2550" y="2127"/>
                  </a:lnTo>
                  <a:lnTo>
                    <a:pt x="2577" y="2076"/>
                  </a:lnTo>
                  <a:lnTo>
                    <a:pt x="2608" y="2028"/>
                  </a:lnTo>
                  <a:lnTo>
                    <a:pt x="2641" y="1978"/>
                  </a:lnTo>
                  <a:lnTo>
                    <a:pt x="2675" y="1932"/>
                  </a:lnTo>
                  <a:lnTo>
                    <a:pt x="2709" y="1883"/>
                  </a:lnTo>
                  <a:lnTo>
                    <a:pt x="2747" y="1838"/>
                  </a:lnTo>
                  <a:lnTo>
                    <a:pt x="2784" y="1793"/>
                  </a:lnTo>
                  <a:lnTo>
                    <a:pt x="2823" y="1750"/>
                  </a:lnTo>
                  <a:lnTo>
                    <a:pt x="2829" y="1733"/>
                  </a:lnTo>
                  <a:lnTo>
                    <a:pt x="2839" y="1718"/>
                  </a:lnTo>
                  <a:lnTo>
                    <a:pt x="2851" y="1702"/>
                  </a:lnTo>
                  <a:lnTo>
                    <a:pt x="2863" y="1688"/>
                  </a:lnTo>
                  <a:lnTo>
                    <a:pt x="2875" y="1674"/>
                  </a:lnTo>
                  <a:lnTo>
                    <a:pt x="2887" y="1661"/>
                  </a:lnTo>
                  <a:lnTo>
                    <a:pt x="2900" y="1648"/>
                  </a:lnTo>
                  <a:lnTo>
                    <a:pt x="2913" y="1636"/>
                  </a:lnTo>
                  <a:lnTo>
                    <a:pt x="2924" y="1651"/>
                  </a:lnTo>
                  <a:lnTo>
                    <a:pt x="2939" y="1667"/>
                  </a:lnTo>
                  <a:lnTo>
                    <a:pt x="2955" y="1678"/>
                  </a:lnTo>
                  <a:lnTo>
                    <a:pt x="2972" y="1691"/>
                  </a:lnTo>
                  <a:lnTo>
                    <a:pt x="2989" y="1698"/>
                  </a:lnTo>
                  <a:lnTo>
                    <a:pt x="3008" y="1704"/>
                  </a:lnTo>
                  <a:lnTo>
                    <a:pt x="3027" y="1704"/>
                  </a:lnTo>
                  <a:lnTo>
                    <a:pt x="3048" y="1702"/>
                  </a:lnTo>
                  <a:lnTo>
                    <a:pt x="3056" y="1696"/>
                  </a:lnTo>
                  <a:lnTo>
                    <a:pt x="3065" y="1694"/>
                  </a:lnTo>
                  <a:lnTo>
                    <a:pt x="3075" y="1691"/>
                  </a:lnTo>
                  <a:lnTo>
                    <a:pt x="3085" y="1689"/>
                  </a:lnTo>
                  <a:lnTo>
                    <a:pt x="3092" y="1684"/>
                  </a:lnTo>
                  <a:lnTo>
                    <a:pt x="3100" y="1679"/>
                  </a:lnTo>
                  <a:lnTo>
                    <a:pt x="3105" y="1671"/>
                  </a:lnTo>
                  <a:lnTo>
                    <a:pt x="3109" y="1660"/>
                  </a:lnTo>
                  <a:lnTo>
                    <a:pt x="3108" y="1651"/>
                  </a:lnTo>
                  <a:lnTo>
                    <a:pt x="3106" y="1645"/>
                  </a:lnTo>
                  <a:lnTo>
                    <a:pt x="3103" y="1640"/>
                  </a:lnTo>
                  <a:lnTo>
                    <a:pt x="3100" y="1636"/>
                  </a:lnTo>
                  <a:lnTo>
                    <a:pt x="3091" y="1627"/>
                  </a:lnTo>
                  <a:lnTo>
                    <a:pt x="3085" y="1619"/>
                  </a:lnTo>
                  <a:lnTo>
                    <a:pt x="3071" y="1623"/>
                  </a:lnTo>
                  <a:lnTo>
                    <a:pt x="3058" y="1627"/>
                  </a:lnTo>
                  <a:lnTo>
                    <a:pt x="3046" y="1630"/>
                  </a:lnTo>
                  <a:lnTo>
                    <a:pt x="3033" y="1631"/>
                  </a:lnTo>
                  <a:lnTo>
                    <a:pt x="3020" y="1628"/>
                  </a:lnTo>
                  <a:lnTo>
                    <a:pt x="3008" y="1626"/>
                  </a:lnTo>
                  <a:lnTo>
                    <a:pt x="2996" y="1619"/>
                  </a:lnTo>
                  <a:lnTo>
                    <a:pt x="2985" y="1611"/>
                  </a:lnTo>
                  <a:lnTo>
                    <a:pt x="2977" y="1592"/>
                  </a:lnTo>
                  <a:lnTo>
                    <a:pt x="2974" y="1573"/>
                  </a:lnTo>
                  <a:lnTo>
                    <a:pt x="2970" y="1555"/>
                  </a:lnTo>
                  <a:lnTo>
                    <a:pt x="2970" y="1536"/>
                  </a:lnTo>
                  <a:lnTo>
                    <a:pt x="2968" y="1517"/>
                  </a:lnTo>
                  <a:lnTo>
                    <a:pt x="2970" y="1498"/>
                  </a:lnTo>
                  <a:lnTo>
                    <a:pt x="2971" y="1478"/>
                  </a:lnTo>
                  <a:lnTo>
                    <a:pt x="2974" y="1460"/>
                  </a:lnTo>
                  <a:lnTo>
                    <a:pt x="2963" y="1449"/>
                  </a:lnTo>
                  <a:lnTo>
                    <a:pt x="2953" y="1446"/>
                  </a:lnTo>
                  <a:lnTo>
                    <a:pt x="2942" y="1446"/>
                  </a:lnTo>
                  <a:lnTo>
                    <a:pt x="2932" y="1450"/>
                  </a:lnTo>
                  <a:lnTo>
                    <a:pt x="2920" y="1454"/>
                  </a:lnTo>
                  <a:lnTo>
                    <a:pt x="2909" y="1461"/>
                  </a:lnTo>
                  <a:lnTo>
                    <a:pt x="2898" y="1464"/>
                  </a:lnTo>
                  <a:lnTo>
                    <a:pt x="2886" y="1467"/>
                  </a:lnTo>
                  <a:lnTo>
                    <a:pt x="2844" y="1467"/>
                  </a:lnTo>
                  <a:lnTo>
                    <a:pt x="2842" y="1447"/>
                  </a:lnTo>
                  <a:lnTo>
                    <a:pt x="2847" y="1427"/>
                  </a:lnTo>
                  <a:lnTo>
                    <a:pt x="2856" y="1406"/>
                  </a:lnTo>
                  <a:lnTo>
                    <a:pt x="2866" y="1388"/>
                  </a:lnTo>
                  <a:lnTo>
                    <a:pt x="2871" y="1369"/>
                  </a:lnTo>
                  <a:lnTo>
                    <a:pt x="2871" y="1355"/>
                  </a:lnTo>
                  <a:lnTo>
                    <a:pt x="2860" y="1344"/>
                  </a:lnTo>
                  <a:lnTo>
                    <a:pt x="2838" y="1340"/>
                  </a:lnTo>
                  <a:lnTo>
                    <a:pt x="2822" y="1355"/>
                  </a:lnTo>
                  <a:lnTo>
                    <a:pt x="2808" y="1375"/>
                  </a:lnTo>
                  <a:lnTo>
                    <a:pt x="2796" y="1395"/>
                  </a:lnTo>
                  <a:lnTo>
                    <a:pt x="2790" y="1417"/>
                  </a:lnTo>
                  <a:lnTo>
                    <a:pt x="2785" y="1439"/>
                  </a:lnTo>
                  <a:lnTo>
                    <a:pt x="2782" y="1463"/>
                  </a:lnTo>
                  <a:lnTo>
                    <a:pt x="2782" y="1485"/>
                  </a:lnTo>
                  <a:lnTo>
                    <a:pt x="2788" y="1511"/>
                  </a:lnTo>
                  <a:lnTo>
                    <a:pt x="2772" y="1518"/>
                  </a:lnTo>
                  <a:lnTo>
                    <a:pt x="2758" y="1529"/>
                  </a:lnTo>
                  <a:lnTo>
                    <a:pt x="2743" y="1539"/>
                  </a:lnTo>
                  <a:lnTo>
                    <a:pt x="2729" y="1551"/>
                  </a:lnTo>
                  <a:lnTo>
                    <a:pt x="2713" y="1559"/>
                  </a:lnTo>
                  <a:lnTo>
                    <a:pt x="2698" y="1566"/>
                  </a:lnTo>
                  <a:lnTo>
                    <a:pt x="2681" y="1568"/>
                  </a:lnTo>
                  <a:lnTo>
                    <a:pt x="2664" y="1565"/>
                  </a:lnTo>
                  <a:lnTo>
                    <a:pt x="2653" y="1553"/>
                  </a:lnTo>
                  <a:lnTo>
                    <a:pt x="2648" y="1542"/>
                  </a:lnTo>
                  <a:lnTo>
                    <a:pt x="2645" y="1529"/>
                  </a:lnTo>
                  <a:lnTo>
                    <a:pt x="2645" y="1517"/>
                  </a:lnTo>
                  <a:lnTo>
                    <a:pt x="2643" y="1504"/>
                  </a:lnTo>
                  <a:lnTo>
                    <a:pt x="2645" y="1491"/>
                  </a:lnTo>
                  <a:lnTo>
                    <a:pt x="2645" y="1480"/>
                  </a:lnTo>
                  <a:lnTo>
                    <a:pt x="2646" y="1471"/>
                  </a:lnTo>
                  <a:lnTo>
                    <a:pt x="2662" y="1457"/>
                  </a:lnTo>
                  <a:lnTo>
                    <a:pt x="2677" y="1441"/>
                  </a:lnTo>
                  <a:lnTo>
                    <a:pt x="2690" y="1423"/>
                  </a:lnTo>
                  <a:lnTo>
                    <a:pt x="2701" y="1406"/>
                  </a:lnTo>
                  <a:lnTo>
                    <a:pt x="2708" y="1385"/>
                  </a:lnTo>
                  <a:lnTo>
                    <a:pt x="2713" y="1364"/>
                  </a:lnTo>
                  <a:lnTo>
                    <a:pt x="2715" y="1341"/>
                  </a:lnTo>
                  <a:lnTo>
                    <a:pt x="2715" y="1320"/>
                  </a:lnTo>
                  <a:lnTo>
                    <a:pt x="2707" y="1308"/>
                  </a:lnTo>
                  <a:lnTo>
                    <a:pt x="2698" y="1303"/>
                  </a:lnTo>
                  <a:lnTo>
                    <a:pt x="2688" y="1298"/>
                  </a:lnTo>
                  <a:lnTo>
                    <a:pt x="2679" y="1298"/>
                  </a:lnTo>
                  <a:lnTo>
                    <a:pt x="2670" y="1307"/>
                  </a:lnTo>
                  <a:lnTo>
                    <a:pt x="2665" y="1320"/>
                  </a:lnTo>
                  <a:lnTo>
                    <a:pt x="2661" y="1331"/>
                  </a:lnTo>
                  <a:lnTo>
                    <a:pt x="2660" y="1345"/>
                  </a:lnTo>
                  <a:lnTo>
                    <a:pt x="2657" y="1358"/>
                  </a:lnTo>
                  <a:lnTo>
                    <a:pt x="2653" y="1371"/>
                  </a:lnTo>
                  <a:lnTo>
                    <a:pt x="2648" y="1382"/>
                  </a:lnTo>
                  <a:lnTo>
                    <a:pt x="2639" y="1393"/>
                  </a:lnTo>
                  <a:lnTo>
                    <a:pt x="2631" y="1399"/>
                  </a:lnTo>
                  <a:lnTo>
                    <a:pt x="2622" y="1406"/>
                  </a:lnTo>
                  <a:lnTo>
                    <a:pt x="2613" y="1410"/>
                  </a:lnTo>
                  <a:lnTo>
                    <a:pt x="2604" y="1415"/>
                  </a:lnTo>
                  <a:lnTo>
                    <a:pt x="2594" y="1416"/>
                  </a:lnTo>
                  <a:lnTo>
                    <a:pt x="2584" y="1417"/>
                  </a:lnTo>
                  <a:lnTo>
                    <a:pt x="2574" y="1417"/>
                  </a:lnTo>
                  <a:lnTo>
                    <a:pt x="2565" y="1417"/>
                  </a:lnTo>
                  <a:lnTo>
                    <a:pt x="2551" y="1409"/>
                  </a:lnTo>
                  <a:lnTo>
                    <a:pt x="2542" y="1400"/>
                  </a:lnTo>
                  <a:lnTo>
                    <a:pt x="2533" y="1389"/>
                  </a:lnTo>
                  <a:lnTo>
                    <a:pt x="2527" y="1378"/>
                  </a:lnTo>
                  <a:lnTo>
                    <a:pt x="2519" y="1365"/>
                  </a:lnTo>
                  <a:lnTo>
                    <a:pt x="2513" y="1354"/>
                  </a:lnTo>
                  <a:lnTo>
                    <a:pt x="2504" y="1344"/>
                  </a:lnTo>
                  <a:lnTo>
                    <a:pt x="2495" y="1340"/>
                  </a:lnTo>
                  <a:lnTo>
                    <a:pt x="2490" y="1348"/>
                  </a:lnTo>
                  <a:lnTo>
                    <a:pt x="2489" y="1361"/>
                  </a:lnTo>
                  <a:lnTo>
                    <a:pt x="2489" y="1372"/>
                  </a:lnTo>
                  <a:lnTo>
                    <a:pt x="2489" y="1386"/>
                  </a:lnTo>
                  <a:lnTo>
                    <a:pt x="2488" y="1399"/>
                  </a:lnTo>
                  <a:lnTo>
                    <a:pt x="2488" y="1413"/>
                  </a:lnTo>
                  <a:lnTo>
                    <a:pt x="2486" y="1424"/>
                  </a:lnTo>
                  <a:lnTo>
                    <a:pt x="2484" y="1437"/>
                  </a:lnTo>
                  <a:lnTo>
                    <a:pt x="2476" y="1447"/>
                  </a:lnTo>
                  <a:lnTo>
                    <a:pt x="2470" y="1460"/>
                  </a:lnTo>
                  <a:lnTo>
                    <a:pt x="2464" y="1471"/>
                  </a:lnTo>
                  <a:lnTo>
                    <a:pt x="2457" y="1484"/>
                  </a:lnTo>
                  <a:lnTo>
                    <a:pt x="2450" y="1494"/>
                  </a:lnTo>
                  <a:lnTo>
                    <a:pt x="2442" y="1504"/>
                  </a:lnTo>
                  <a:lnTo>
                    <a:pt x="2432" y="1511"/>
                  </a:lnTo>
                  <a:lnTo>
                    <a:pt x="2421" y="1518"/>
                  </a:lnTo>
                  <a:lnTo>
                    <a:pt x="2399" y="1517"/>
                  </a:lnTo>
                  <a:lnTo>
                    <a:pt x="2383" y="1507"/>
                  </a:lnTo>
                  <a:lnTo>
                    <a:pt x="2367" y="1490"/>
                  </a:lnTo>
                  <a:lnTo>
                    <a:pt x="2356" y="1474"/>
                  </a:lnTo>
                  <a:lnTo>
                    <a:pt x="2342" y="1460"/>
                  </a:lnTo>
                  <a:lnTo>
                    <a:pt x="2330" y="1454"/>
                  </a:lnTo>
                  <a:lnTo>
                    <a:pt x="2317" y="1460"/>
                  </a:lnTo>
                  <a:lnTo>
                    <a:pt x="2303" y="1484"/>
                  </a:lnTo>
                  <a:lnTo>
                    <a:pt x="2302" y="1495"/>
                  </a:lnTo>
                  <a:lnTo>
                    <a:pt x="2304" y="1508"/>
                  </a:lnTo>
                  <a:lnTo>
                    <a:pt x="2307" y="1521"/>
                  </a:lnTo>
                  <a:lnTo>
                    <a:pt x="2312" y="1534"/>
                  </a:lnTo>
                  <a:lnTo>
                    <a:pt x="2317" y="1545"/>
                  </a:lnTo>
                  <a:lnTo>
                    <a:pt x="2324" y="1556"/>
                  </a:lnTo>
                  <a:lnTo>
                    <a:pt x="2332" y="1568"/>
                  </a:lnTo>
                  <a:lnTo>
                    <a:pt x="2342" y="1579"/>
                  </a:lnTo>
                  <a:lnTo>
                    <a:pt x="2351" y="1587"/>
                  </a:lnTo>
                  <a:lnTo>
                    <a:pt x="2361" y="1593"/>
                  </a:lnTo>
                  <a:lnTo>
                    <a:pt x="2370" y="1597"/>
                  </a:lnTo>
                  <a:lnTo>
                    <a:pt x="2380" y="1600"/>
                  </a:lnTo>
                  <a:lnTo>
                    <a:pt x="2390" y="1600"/>
                  </a:lnTo>
                  <a:lnTo>
                    <a:pt x="2402" y="1600"/>
                  </a:lnTo>
                  <a:lnTo>
                    <a:pt x="2413" y="1599"/>
                  </a:lnTo>
                  <a:lnTo>
                    <a:pt x="2427" y="1599"/>
                  </a:lnTo>
                  <a:lnTo>
                    <a:pt x="2445" y="1627"/>
                  </a:lnTo>
                  <a:lnTo>
                    <a:pt x="2459" y="1660"/>
                  </a:lnTo>
                  <a:lnTo>
                    <a:pt x="2467" y="1692"/>
                  </a:lnTo>
                  <a:lnTo>
                    <a:pt x="2472" y="1729"/>
                  </a:lnTo>
                  <a:lnTo>
                    <a:pt x="2472" y="1766"/>
                  </a:lnTo>
                  <a:lnTo>
                    <a:pt x="2472" y="1803"/>
                  </a:lnTo>
                  <a:lnTo>
                    <a:pt x="2469" y="1840"/>
                  </a:lnTo>
                  <a:lnTo>
                    <a:pt x="2465" y="1878"/>
                  </a:lnTo>
                  <a:lnTo>
                    <a:pt x="2453" y="1900"/>
                  </a:lnTo>
                  <a:lnTo>
                    <a:pt x="2442" y="1923"/>
                  </a:lnTo>
                  <a:lnTo>
                    <a:pt x="2428" y="1944"/>
                  </a:lnTo>
                  <a:lnTo>
                    <a:pt x="2416" y="1967"/>
                  </a:lnTo>
                  <a:lnTo>
                    <a:pt x="2400" y="1988"/>
                  </a:lnTo>
                  <a:lnTo>
                    <a:pt x="2386" y="2009"/>
                  </a:lnTo>
                  <a:lnTo>
                    <a:pt x="2371" y="2031"/>
                  </a:lnTo>
                  <a:lnTo>
                    <a:pt x="2360" y="2052"/>
                  </a:lnTo>
                  <a:lnTo>
                    <a:pt x="2305" y="2131"/>
                  </a:lnTo>
                  <a:lnTo>
                    <a:pt x="2255" y="2212"/>
                  </a:lnTo>
                  <a:lnTo>
                    <a:pt x="2204" y="2293"/>
                  </a:lnTo>
                  <a:lnTo>
                    <a:pt x="2156" y="2374"/>
                  </a:lnTo>
                  <a:lnTo>
                    <a:pt x="2108" y="2454"/>
                  </a:lnTo>
                  <a:lnTo>
                    <a:pt x="2063" y="2538"/>
                  </a:lnTo>
                  <a:lnTo>
                    <a:pt x="2017" y="2620"/>
                  </a:lnTo>
                  <a:lnTo>
                    <a:pt x="1973" y="2705"/>
                  </a:lnTo>
                  <a:lnTo>
                    <a:pt x="1963" y="2718"/>
                  </a:lnTo>
                  <a:lnTo>
                    <a:pt x="1954" y="2730"/>
                  </a:lnTo>
                  <a:lnTo>
                    <a:pt x="1942" y="2742"/>
                  </a:lnTo>
                  <a:lnTo>
                    <a:pt x="1932" y="2755"/>
                  </a:lnTo>
                  <a:lnTo>
                    <a:pt x="1920" y="2764"/>
                  </a:lnTo>
                  <a:lnTo>
                    <a:pt x="1908" y="2776"/>
                  </a:lnTo>
                  <a:lnTo>
                    <a:pt x="1896" y="2786"/>
                  </a:lnTo>
                  <a:lnTo>
                    <a:pt x="1883" y="2796"/>
                  </a:lnTo>
                  <a:lnTo>
                    <a:pt x="1849" y="2793"/>
                  </a:lnTo>
                  <a:lnTo>
                    <a:pt x="1818" y="2781"/>
                  </a:lnTo>
                  <a:lnTo>
                    <a:pt x="1791" y="2762"/>
                  </a:lnTo>
                  <a:lnTo>
                    <a:pt x="1766" y="2739"/>
                  </a:lnTo>
                  <a:lnTo>
                    <a:pt x="1744" y="2711"/>
                  </a:lnTo>
                  <a:lnTo>
                    <a:pt x="1722" y="2682"/>
                  </a:lnTo>
                  <a:lnTo>
                    <a:pt x="1702" y="2653"/>
                  </a:lnTo>
                  <a:lnTo>
                    <a:pt x="1682" y="2624"/>
                  </a:lnTo>
                  <a:lnTo>
                    <a:pt x="1650" y="2573"/>
                  </a:lnTo>
                  <a:lnTo>
                    <a:pt x="1621" y="2522"/>
                  </a:lnTo>
                  <a:lnTo>
                    <a:pt x="1593" y="2470"/>
                  </a:lnTo>
                  <a:lnTo>
                    <a:pt x="1568" y="2419"/>
                  </a:lnTo>
                  <a:lnTo>
                    <a:pt x="1544" y="2365"/>
                  </a:lnTo>
                  <a:lnTo>
                    <a:pt x="1524" y="2311"/>
                  </a:lnTo>
                  <a:lnTo>
                    <a:pt x="1507" y="2256"/>
                  </a:lnTo>
                  <a:lnTo>
                    <a:pt x="1494" y="2201"/>
                  </a:lnTo>
                  <a:lnTo>
                    <a:pt x="1481" y="2134"/>
                  </a:lnTo>
                  <a:lnTo>
                    <a:pt x="1475" y="2069"/>
                  </a:lnTo>
                  <a:lnTo>
                    <a:pt x="1474" y="2005"/>
                  </a:lnTo>
                  <a:lnTo>
                    <a:pt x="1479" y="1941"/>
                  </a:lnTo>
                  <a:lnTo>
                    <a:pt x="1486" y="1878"/>
                  </a:lnTo>
                  <a:lnTo>
                    <a:pt x="1497" y="1814"/>
                  </a:lnTo>
                  <a:lnTo>
                    <a:pt x="1510" y="1752"/>
                  </a:lnTo>
                  <a:lnTo>
                    <a:pt x="1525" y="1689"/>
                  </a:lnTo>
                  <a:lnTo>
                    <a:pt x="1536" y="1689"/>
                  </a:lnTo>
                  <a:lnTo>
                    <a:pt x="1548" y="1691"/>
                  </a:lnTo>
                  <a:lnTo>
                    <a:pt x="1560" y="1688"/>
                  </a:lnTo>
                  <a:lnTo>
                    <a:pt x="1573" y="1687"/>
                  </a:lnTo>
                  <a:lnTo>
                    <a:pt x="1584" y="1682"/>
                  </a:lnTo>
                  <a:lnTo>
                    <a:pt x="1597" y="1679"/>
                  </a:lnTo>
                  <a:lnTo>
                    <a:pt x="1608" y="1675"/>
                  </a:lnTo>
                  <a:lnTo>
                    <a:pt x="1621" y="1675"/>
                  </a:lnTo>
                  <a:lnTo>
                    <a:pt x="1627" y="1667"/>
                  </a:lnTo>
                  <a:lnTo>
                    <a:pt x="1635" y="1661"/>
                  </a:lnTo>
                  <a:lnTo>
                    <a:pt x="1642" y="1654"/>
                  </a:lnTo>
                  <a:lnTo>
                    <a:pt x="1653" y="1648"/>
                  </a:lnTo>
                  <a:lnTo>
                    <a:pt x="1659" y="1640"/>
                  </a:lnTo>
                  <a:lnTo>
                    <a:pt x="1667" y="1631"/>
                  </a:lnTo>
                  <a:lnTo>
                    <a:pt x="1670" y="1621"/>
                  </a:lnTo>
                  <a:lnTo>
                    <a:pt x="1672" y="1611"/>
                  </a:lnTo>
                  <a:lnTo>
                    <a:pt x="1665" y="1604"/>
                  </a:lnTo>
                  <a:lnTo>
                    <a:pt x="1660" y="1597"/>
                  </a:lnTo>
                  <a:lnTo>
                    <a:pt x="1654" y="1592"/>
                  </a:lnTo>
                  <a:lnTo>
                    <a:pt x="1648" y="1589"/>
                  </a:lnTo>
                  <a:lnTo>
                    <a:pt x="1634" y="1585"/>
                  </a:lnTo>
                  <a:lnTo>
                    <a:pt x="1621" y="1592"/>
                  </a:lnTo>
                  <a:lnTo>
                    <a:pt x="1610" y="1600"/>
                  </a:lnTo>
                  <a:lnTo>
                    <a:pt x="1598" y="1609"/>
                  </a:lnTo>
                  <a:lnTo>
                    <a:pt x="1586" y="1613"/>
                  </a:lnTo>
                  <a:lnTo>
                    <a:pt x="1573" y="1619"/>
                  </a:lnTo>
                  <a:lnTo>
                    <a:pt x="1559" y="1621"/>
                  </a:lnTo>
                  <a:lnTo>
                    <a:pt x="1548" y="1624"/>
                  </a:lnTo>
                  <a:lnTo>
                    <a:pt x="1534" y="1624"/>
                  </a:lnTo>
                  <a:lnTo>
                    <a:pt x="1522" y="1626"/>
                  </a:lnTo>
                  <a:lnTo>
                    <a:pt x="1505" y="1613"/>
                  </a:lnTo>
                  <a:lnTo>
                    <a:pt x="1491" y="1600"/>
                  </a:lnTo>
                  <a:lnTo>
                    <a:pt x="1478" y="1585"/>
                  </a:lnTo>
                  <a:lnTo>
                    <a:pt x="1468" y="1570"/>
                  </a:lnTo>
                  <a:lnTo>
                    <a:pt x="1456" y="1555"/>
                  </a:lnTo>
                  <a:lnTo>
                    <a:pt x="1445" y="1539"/>
                  </a:lnTo>
                  <a:lnTo>
                    <a:pt x="1434" y="1522"/>
                  </a:lnTo>
                  <a:lnTo>
                    <a:pt x="1422" y="1508"/>
                  </a:lnTo>
                  <a:lnTo>
                    <a:pt x="1416" y="1514"/>
                  </a:lnTo>
                  <a:lnTo>
                    <a:pt x="1413" y="1521"/>
                  </a:lnTo>
                  <a:lnTo>
                    <a:pt x="1412" y="1528"/>
                  </a:lnTo>
                  <a:lnTo>
                    <a:pt x="1412" y="1536"/>
                  </a:lnTo>
                  <a:lnTo>
                    <a:pt x="1412" y="1543"/>
                  </a:lnTo>
                  <a:lnTo>
                    <a:pt x="1413" y="1552"/>
                  </a:lnTo>
                  <a:lnTo>
                    <a:pt x="1412" y="1559"/>
                  </a:lnTo>
                  <a:lnTo>
                    <a:pt x="1411" y="1568"/>
                  </a:lnTo>
                  <a:lnTo>
                    <a:pt x="1405" y="1579"/>
                  </a:lnTo>
                  <a:lnTo>
                    <a:pt x="1400" y="1592"/>
                  </a:lnTo>
                  <a:lnTo>
                    <a:pt x="1392" y="1604"/>
                  </a:lnTo>
                  <a:lnTo>
                    <a:pt x="1386" y="1617"/>
                  </a:lnTo>
                  <a:lnTo>
                    <a:pt x="1377" y="1628"/>
                  </a:lnTo>
                  <a:lnTo>
                    <a:pt x="1368" y="1640"/>
                  </a:lnTo>
                  <a:lnTo>
                    <a:pt x="1357" y="1650"/>
                  </a:lnTo>
                  <a:lnTo>
                    <a:pt x="1345" y="1660"/>
                  </a:lnTo>
                  <a:lnTo>
                    <a:pt x="1324" y="1654"/>
                  </a:lnTo>
                  <a:lnTo>
                    <a:pt x="1307" y="1644"/>
                  </a:lnTo>
                  <a:lnTo>
                    <a:pt x="1293" y="1630"/>
                  </a:lnTo>
                  <a:lnTo>
                    <a:pt x="1282" y="1614"/>
                  </a:lnTo>
                  <a:lnTo>
                    <a:pt x="1271" y="1596"/>
                  </a:lnTo>
                  <a:lnTo>
                    <a:pt x="1259" y="1579"/>
                  </a:lnTo>
                  <a:lnTo>
                    <a:pt x="1246" y="1560"/>
                  </a:lnTo>
                  <a:lnTo>
                    <a:pt x="1234" y="1548"/>
                  </a:lnTo>
                  <a:lnTo>
                    <a:pt x="1222" y="1568"/>
                  </a:lnTo>
                  <a:lnTo>
                    <a:pt x="1212" y="1589"/>
                  </a:lnTo>
                  <a:lnTo>
                    <a:pt x="1201" y="1609"/>
                  </a:lnTo>
                  <a:lnTo>
                    <a:pt x="1191" y="1630"/>
                  </a:lnTo>
                  <a:lnTo>
                    <a:pt x="1178" y="1648"/>
                  </a:lnTo>
                  <a:lnTo>
                    <a:pt x="1164" y="1667"/>
                  </a:lnTo>
                  <a:lnTo>
                    <a:pt x="1149" y="1682"/>
                  </a:lnTo>
                  <a:lnTo>
                    <a:pt x="1131" y="1699"/>
                  </a:lnTo>
                  <a:lnTo>
                    <a:pt x="1122" y="1701"/>
                  </a:lnTo>
                  <a:lnTo>
                    <a:pt x="1115" y="1702"/>
                  </a:lnTo>
                  <a:lnTo>
                    <a:pt x="1107" y="1702"/>
                  </a:lnTo>
                  <a:lnTo>
                    <a:pt x="1101" y="1702"/>
                  </a:lnTo>
                  <a:lnTo>
                    <a:pt x="1093" y="1701"/>
                  </a:lnTo>
                  <a:lnTo>
                    <a:pt x="1086" y="1701"/>
                  </a:lnTo>
                  <a:lnTo>
                    <a:pt x="1078" y="1699"/>
                  </a:lnTo>
                  <a:lnTo>
                    <a:pt x="1071" y="1699"/>
                  </a:lnTo>
                  <a:lnTo>
                    <a:pt x="1059" y="1691"/>
                  </a:lnTo>
                  <a:lnTo>
                    <a:pt x="1053" y="1681"/>
                  </a:lnTo>
                  <a:lnTo>
                    <a:pt x="1048" y="1668"/>
                  </a:lnTo>
                  <a:lnTo>
                    <a:pt x="1044" y="1655"/>
                  </a:lnTo>
                  <a:lnTo>
                    <a:pt x="1044" y="1643"/>
                  </a:lnTo>
                  <a:lnTo>
                    <a:pt x="1048" y="1633"/>
                  </a:lnTo>
                  <a:lnTo>
                    <a:pt x="1052" y="1623"/>
                  </a:lnTo>
                  <a:lnTo>
                    <a:pt x="1057" y="1614"/>
                  </a:lnTo>
                  <a:lnTo>
                    <a:pt x="1059" y="1604"/>
                  </a:lnTo>
                  <a:lnTo>
                    <a:pt x="1063" y="1596"/>
                  </a:lnTo>
                  <a:lnTo>
                    <a:pt x="1064" y="1585"/>
                  </a:lnTo>
                  <a:lnTo>
                    <a:pt x="1066" y="1575"/>
                  </a:lnTo>
                  <a:lnTo>
                    <a:pt x="1054" y="1568"/>
                  </a:lnTo>
                  <a:lnTo>
                    <a:pt x="1044" y="1562"/>
                  </a:lnTo>
                  <a:lnTo>
                    <a:pt x="1033" y="1559"/>
                  </a:lnTo>
                  <a:lnTo>
                    <a:pt x="1023" y="1562"/>
                  </a:lnTo>
                  <a:lnTo>
                    <a:pt x="1015" y="1579"/>
                  </a:lnTo>
                  <a:lnTo>
                    <a:pt x="1005" y="1599"/>
                  </a:lnTo>
                  <a:lnTo>
                    <a:pt x="995" y="1620"/>
                  </a:lnTo>
                  <a:lnTo>
                    <a:pt x="986" y="1641"/>
                  </a:lnTo>
                  <a:lnTo>
                    <a:pt x="979" y="1661"/>
                  </a:lnTo>
                  <a:lnTo>
                    <a:pt x="978" y="1682"/>
                  </a:lnTo>
                  <a:lnTo>
                    <a:pt x="983" y="1704"/>
                  </a:lnTo>
                  <a:lnTo>
                    <a:pt x="996" y="1726"/>
                  </a:lnTo>
                  <a:lnTo>
                    <a:pt x="1009" y="1739"/>
                  </a:lnTo>
                  <a:lnTo>
                    <a:pt x="1023" y="1752"/>
                  </a:lnTo>
                  <a:lnTo>
                    <a:pt x="1038" y="1763"/>
                  </a:lnTo>
                  <a:lnTo>
                    <a:pt x="1053" y="1773"/>
                  </a:lnTo>
                  <a:lnTo>
                    <a:pt x="1068" y="1780"/>
                  </a:lnTo>
                  <a:lnTo>
                    <a:pt x="1083" y="1786"/>
                  </a:lnTo>
                  <a:lnTo>
                    <a:pt x="1100" y="1789"/>
                  </a:lnTo>
                  <a:lnTo>
                    <a:pt x="1119" y="1790"/>
                  </a:lnTo>
                  <a:lnTo>
                    <a:pt x="1129" y="1859"/>
                  </a:lnTo>
                  <a:lnTo>
                    <a:pt x="1144" y="1929"/>
                  </a:lnTo>
                  <a:lnTo>
                    <a:pt x="1160" y="1997"/>
                  </a:lnTo>
                  <a:lnTo>
                    <a:pt x="1179" y="2065"/>
                  </a:lnTo>
                  <a:lnTo>
                    <a:pt x="1196" y="2131"/>
                  </a:lnTo>
                  <a:lnTo>
                    <a:pt x="1211" y="2199"/>
                  </a:lnTo>
                  <a:lnTo>
                    <a:pt x="1222" y="2269"/>
                  </a:lnTo>
                  <a:lnTo>
                    <a:pt x="1230" y="2342"/>
                  </a:lnTo>
                  <a:lnTo>
                    <a:pt x="1227" y="2347"/>
                  </a:lnTo>
                  <a:lnTo>
                    <a:pt x="1225" y="2354"/>
                  </a:lnTo>
                  <a:lnTo>
                    <a:pt x="1220" y="2359"/>
                  </a:lnTo>
                  <a:lnTo>
                    <a:pt x="1215" y="2365"/>
                  </a:lnTo>
                  <a:lnTo>
                    <a:pt x="1174" y="2355"/>
                  </a:lnTo>
                  <a:lnTo>
                    <a:pt x="1139" y="2340"/>
                  </a:lnTo>
                  <a:lnTo>
                    <a:pt x="1105" y="2318"/>
                  </a:lnTo>
                  <a:lnTo>
                    <a:pt x="1074" y="2294"/>
                  </a:lnTo>
                  <a:lnTo>
                    <a:pt x="1044" y="2264"/>
                  </a:lnTo>
                  <a:lnTo>
                    <a:pt x="1016" y="2233"/>
                  </a:lnTo>
                  <a:lnTo>
                    <a:pt x="990" y="2201"/>
                  </a:lnTo>
                  <a:lnTo>
                    <a:pt x="966" y="2171"/>
                  </a:lnTo>
                  <a:lnTo>
                    <a:pt x="971" y="2154"/>
                  </a:lnTo>
                  <a:lnTo>
                    <a:pt x="977" y="2141"/>
                  </a:lnTo>
                  <a:lnTo>
                    <a:pt x="983" y="2128"/>
                  </a:lnTo>
                  <a:lnTo>
                    <a:pt x="990" y="2116"/>
                  </a:lnTo>
                  <a:lnTo>
                    <a:pt x="993" y="2102"/>
                  </a:lnTo>
                  <a:lnTo>
                    <a:pt x="996" y="2087"/>
                  </a:lnTo>
                  <a:lnTo>
                    <a:pt x="995" y="2072"/>
                  </a:lnTo>
                  <a:lnTo>
                    <a:pt x="990" y="2056"/>
                  </a:lnTo>
                  <a:lnTo>
                    <a:pt x="982" y="2053"/>
                  </a:lnTo>
                  <a:lnTo>
                    <a:pt x="977" y="2049"/>
                  </a:lnTo>
                  <a:lnTo>
                    <a:pt x="971" y="2043"/>
                  </a:lnTo>
                  <a:lnTo>
                    <a:pt x="966" y="2038"/>
                  </a:lnTo>
                  <a:lnTo>
                    <a:pt x="959" y="2031"/>
                  </a:lnTo>
                  <a:lnTo>
                    <a:pt x="953" y="2029"/>
                  </a:lnTo>
                  <a:lnTo>
                    <a:pt x="947" y="2032"/>
                  </a:lnTo>
                  <a:lnTo>
                    <a:pt x="942" y="2042"/>
                  </a:lnTo>
                  <a:lnTo>
                    <a:pt x="939" y="2051"/>
                  </a:lnTo>
                  <a:lnTo>
                    <a:pt x="936" y="2059"/>
                  </a:lnTo>
                  <a:lnTo>
                    <a:pt x="933" y="2068"/>
                  </a:lnTo>
                  <a:lnTo>
                    <a:pt x="929" y="2076"/>
                  </a:lnTo>
                  <a:lnTo>
                    <a:pt x="923" y="2082"/>
                  </a:lnTo>
                  <a:lnTo>
                    <a:pt x="916" y="2089"/>
                  </a:lnTo>
                  <a:lnTo>
                    <a:pt x="909" y="2094"/>
                  </a:lnTo>
                  <a:lnTo>
                    <a:pt x="902" y="2100"/>
                  </a:lnTo>
                  <a:lnTo>
                    <a:pt x="892" y="2103"/>
                  </a:lnTo>
                  <a:lnTo>
                    <a:pt x="883" y="2106"/>
                  </a:lnTo>
                  <a:lnTo>
                    <a:pt x="876" y="2107"/>
                  </a:lnTo>
                  <a:lnTo>
                    <a:pt x="868" y="2109"/>
                  </a:lnTo>
                  <a:lnTo>
                    <a:pt x="859" y="2107"/>
                  </a:lnTo>
                  <a:lnTo>
                    <a:pt x="850" y="2106"/>
                  </a:lnTo>
                  <a:lnTo>
                    <a:pt x="842" y="2104"/>
                  </a:lnTo>
                  <a:lnTo>
                    <a:pt x="834" y="2103"/>
                  </a:lnTo>
                  <a:lnTo>
                    <a:pt x="823" y="2096"/>
                  </a:lnTo>
                  <a:lnTo>
                    <a:pt x="815" y="2089"/>
                  </a:lnTo>
                  <a:lnTo>
                    <a:pt x="807" y="2077"/>
                  </a:lnTo>
                  <a:lnTo>
                    <a:pt x="801" y="2069"/>
                  </a:lnTo>
                  <a:lnTo>
                    <a:pt x="792" y="2060"/>
                  </a:lnTo>
                  <a:lnTo>
                    <a:pt x="785" y="2056"/>
                  </a:lnTo>
                  <a:lnTo>
                    <a:pt x="775" y="2058"/>
                  </a:lnTo>
                  <a:lnTo>
                    <a:pt x="764" y="2069"/>
                  </a:lnTo>
                  <a:lnTo>
                    <a:pt x="766" y="2089"/>
                  </a:lnTo>
                  <a:lnTo>
                    <a:pt x="768" y="2109"/>
                  </a:lnTo>
                  <a:lnTo>
                    <a:pt x="769" y="2127"/>
                  </a:lnTo>
                  <a:lnTo>
                    <a:pt x="771" y="2147"/>
                  </a:lnTo>
                  <a:lnTo>
                    <a:pt x="768" y="2164"/>
                  </a:lnTo>
                  <a:lnTo>
                    <a:pt x="763" y="2182"/>
                  </a:lnTo>
                  <a:lnTo>
                    <a:pt x="754" y="2198"/>
                  </a:lnTo>
                  <a:lnTo>
                    <a:pt x="740" y="2213"/>
                  </a:lnTo>
                  <a:lnTo>
                    <a:pt x="719" y="2215"/>
                  </a:lnTo>
                  <a:lnTo>
                    <a:pt x="700" y="2212"/>
                  </a:lnTo>
                  <a:lnTo>
                    <a:pt x="681" y="2205"/>
                  </a:lnTo>
                  <a:lnTo>
                    <a:pt x="664" y="2195"/>
                  </a:lnTo>
                  <a:lnTo>
                    <a:pt x="647" y="2182"/>
                  </a:lnTo>
                  <a:lnTo>
                    <a:pt x="630" y="2170"/>
                  </a:lnTo>
                  <a:lnTo>
                    <a:pt x="615" y="2155"/>
                  </a:lnTo>
                  <a:lnTo>
                    <a:pt x="600" y="2144"/>
                  </a:lnTo>
                  <a:lnTo>
                    <a:pt x="590" y="2148"/>
                  </a:lnTo>
                  <a:lnTo>
                    <a:pt x="585" y="2158"/>
                  </a:lnTo>
                  <a:lnTo>
                    <a:pt x="582" y="2170"/>
                  </a:lnTo>
                  <a:lnTo>
                    <a:pt x="582" y="2182"/>
                  </a:lnTo>
                  <a:lnTo>
                    <a:pt x="582" y="2195"/>
                  </a:lnTo>
                  <a:lnTo>
                    <a:pt x="582" y="2208"/>
                  </a:lnTo>
                  <a:lnTo>
                    <a:pt x="580" y="2221"/>
                  </a:lnTo>
                  <a:lnTo>
                    <a:pt x="576" y="2235"/>
                  </a:lnTo>
                  <a:lnTo>
                    <a:pt x="571" y="2263"/>
                  </a:lnTo>
                  <a:lnTo>
                    <a:pt x="566" y="2293"/>
                  </a:lnTo>
                  <a:lnTo>
                    <a:pt x="557" y="2321"/>
                  </a:lnTo>
                  <a:lnTo>
                    <a:pt x="547" y="2351"/>
                  </a:lnTo>
                  <a:lnTo>
                    <a:pt x="532" y="2375"/>
                  </a:lnTo>
                  <a:lnTo>
                    <a:pt x="515" y="2399"/>
                  </a:lnTo>
                  <a:lnTo>
                    <a:pt x="494" y="2417"/>
                  </a:lnTo>
                  <a:lnTo>
                    <a:pt x="470" y="2433"/>
                  </a:lnTo>
                  <a:lnTo>
                    <a:pt x="459" y="2432"/>
                  </a:lnTo>
                  <a:lnTo>
                    <a:pt x="452" y="2437"/>
                  </a:lnTo>
                  <a:lnTo>
                    <a:pt x="444" y="2444"/>
                  </a:lnTo>
                  <a:lnTo>
                    <a:pt x="441" y="2453"/>
                  </a:lnTo>
                  <a:lnTo>
                    <a:pt x="435" y="2467"/>
                  </a:lnTo>
                  <a:lnTo>
                    <a:pt x="438" y="2483"/>
                  </a:lnTo>
                  <a:lnTo>
                    <a:pt x="447" y="2495"/>
                  </a:lnTo>
                  <a:lnTo>
                    <a:pt x="458" y="2507"/>
                  </a:lnTo>
                  <a:lnTo>
                    <a:pt x="475" y="2508"/>
                  </a:lnTo>
                  <a:lnTo>
                    <a:pt x="491" y="2505"/>
                  </a:lnTo>
                  <a:lnTo>
                    <a:pt x="506" y="2498"/>
                  </a:lnTo>
                  <a:lnTo>
                    <a:pt x="523" y="2490"/>
                  </a:lnTo>
                  <a:lnTo>
                    <a:pt x="537" y="2477"/>
                  </a:lnTo>
                  <a:lnTo>
                    <a:pt x="551" y="2466"/>
                  </a:lnTo>
                  <a:lnTo>
                    <a:pt x="566" y="2453"/>
                  </a:lnTo>
                  <a:lnTo>
                    <a:pt x="581" y="2443"/>
                  </a:lnTo>
                  <a:lnTo>
                    <a:pt x="624" y="2386"/>
                  </a:lnTo>
                  <a:lnTo>
                    <a:pt x="694" y="2408"/>
                  </a:lnTo>
                  <a:lnTo>
                    <a:pt x="761" y="2437"/>
                  </a:lnTo>
                  <a:lnTo>
                    <a:pt x="825" y="2473"/>
                  </a:lnTo>
                  <a:lnTo>
                    <a:pt x="887" y="2514"/>
                  </a:lnTo>
                  <a:lnTo>
                    <a:pt x="947" y="2558"/>
                  </a:lnTo>
                  <a:lnTo>
                    <a:pt x="1006" y="2606"/>
                  </a:lnTo>
                  <a:lnTo>
                    <a:pt x="1064" y="2653"/>
                  </a:lnTo>
                  <a:lnTo>
                    <a:pt x="1125" y="2702"/>
                  </a:lnTo>
                  <a:lnTo>
                    <a:pt x="1135" y="2713"/>
                  </a:lnTo>
                  <a:lnTo>
                    <a:pt x="1147" y="2725"/>
                  </a:lnTo>
                  <a:lnTo>
                    <a:pt x="1157" y="2735"/>
                  </a:lnTo>
                  <a:lnTo>
                    <a:pt x="1168" y="2746"/>
                  </a:lnTo>
                  <a:lnTo>
                    <a:pt x="1178" y="2755"/>
                  </a:lnTo>
                  <a:lnTo>
                    <a:pt x="1190" y="2764"/>
                  </a:lnTo>
                  <a:lnTo>
                    <a:pt x="1201" y="2774"/>
                  </a:lnTo>
                  <a:lnTo>
                    <a:pt x="1212" y="2786"/>
                  </a:lnTo>
                  <a:lnTo>
                    <a:pt x="1300" y="2874"/>
                  </a:lnTo>
                  <a:lnTo>
                    <a:pt x="1297" y="2889"/>
                  </a:lnTo>
                  <a:lnTo>
                    <a:pt x="1297" y="2910"/>
                  </a:lnTo>
                  <a:lnTo>
                    <a:pt x="1298" y="2930"/>
                  </a:lnTo>
                  <a:lnTo>
                    <a:pt x="1300" y="2953"/>
                  </a:lnTo>
                  <a:lnTo>
                    <a:pt x="1297" y="2973"/>
                  </a:lnTo>
                  <a:lnTo>
                    <a:pt x="1293" y="2994"/>
                  </a:lnTo>
                  <a:lnTo>
                    <a:pt x="1284" y="3011"/>
                  </a:lnTo>
                  <a:lnTo>
                    <a:pt x="1273" y="3028"/>
                  </a:lnTo>
                  <a:lnTo>
                    <a:pt x="1259" y="3041"/>
                  </a:lnTo>
                  <a:lnTo>
                    <a:pt x="1245" y="3052"/>
                  </a:lnTo>
                  <a:lnTo>
                    <a:pt x="1230" y="3060"/>
                  </a:lnTo>
                  <a:lnTo>
                    <a:pt x="1215" y="3068"/>
                  </a:lnTo>
                  <a:lnTo>
                    <a:pt x="1197" y="3070"/>
                  </a:lnTo>
                  <a:lnTo>
                    <a:pt x="1181" y="3072"/>
                  </a:lnTo>
                  <a:lnTo>
                    <a:pt x="1163" y="3072"/>
                  </a:lnTo>
                  <a:lnTo>
                    <a:pt x="1147" y="3069"/>
                  </a:lnTo>
                  <a:lnTo>
                    <a:pt x="1130" y="3060"/>
                  </a:lnTo>
                  <a:lnTo>
                    <a:pt x="1115" y="3053"/>
                  </a:lnTo>
                  <a:lnTo>
                    <a:pt x="1100" y="3045"/>
                  </a:lnTo>
                  <a:lnTo>
                    <a:pt x="1085" y="3038"/>
                  </a:lnTo>
                  <a:lnTo>
                    <a:pt x="1069" y="3026"/>
                  </a:lnTo>
                  <a:lnTo>
                    <a:pt x="1055" y="3017"/>
                  </a:lnTo>
                  <a:lnTo>
                    <a:pt x="1040" y="3005"/>
                  </a:lnTo>
                  <a:lnTo>
                    <a:pt x="1026" y="2994"/>
                  </a:lnTo>
                  <a:lnTo>
                    <a:pt x="1016" y="2997"/>
                  </a:lnTo>
                  <a:lnTo>
                    <a:pt x="1011" y="3002"/>
                  </a:lnTo>
                  <a:lnTo>
                    <a:pt x="1009" y="3011"/>
                  </a:lnTo>
                  <a:lnTo>
                    <a:pt x="1009" y="3021"/>
                  </a:lnTo>
                  <a:lnTo>
                    <a:pt x="1009" y="3031"/>
                  </a:lnTo>
                  <a:lnTo>
                    <a:pt x="1009" y="3042"/>
                  </a:lnTo>
                  <a:lnTo>
                    <a:pt x="1007" y="3053"/>
                  </a:lnTo>
                  <a:lnTo>
                    <a:pt x="1005" y="3065"/>
                  </a:lnTo>
                  <a:lnTo>
                    <a:pt x="993" y="3080"/>
                  </a:lnTo>
                  <a:lnTo>
                    <a:pt x="983" y="3099"/>
                  </a:lnTo>
                  <a:lnTo>
                    <a:pt x="971" y="3116"/>
                  </a:lnTo>
                  <a:lnTo>
                    <a:pt x="957" y="3133"/>
                  </a:lnTo>
                  <a:lnTo>
                    <a:pt x="940" y="3145"/>
                  </a:lnTo>
                  <a:lnTo>
                    <a:pt x="923" y="3157"/>
                  </a:lnTo>
                  <a:lnTo>
                    <a:pt x="904" y="3161"/>
                  </a:lnTo>
                  <a:lnTo>
                    <a:pt x="885" y="3162"/>
                  </a:lnTo>
                  <a:lnTo>
                    <a:pt x="863" y="3151"/>
                  </a:lnTo>
                  <a:lnTo>
                    <a:pt x="845" y="3138"/>
                  </a:lnTo>
                  <a:lnTo>
                    <a:pt x="829" y="3121"/>
                  </a:lnTo>
                  <a:lnTo>
                    <a:pt x="815" y="3103"/>
                  </a:lnTo>
                  <a:lnTo>
                    <a:pt x="802" y="3080"/>
                  </a:lnTo>
                  <a:lnTo>
                    <a:pt x="792" y="3059"/>
                  </a:lnTo>
                  <a:lnTo>
                    <a:pt x="785" y="3036"/>
                  </a:lnTo>
                  <a:lnTo>
                    <a:pt x="782" y="3015"/>
                  </a:lnTo>
                  <a:lnTo>
                    <a:pt x="777" y="3008"/>
                  </a:lnTo>
                  <a:lnTo>
                    <a:pt x="747" y="3032"/>
                  </a:lnTo>
                  <a:lnTo>
                    <a:pt x="718" y="3060"/>
                  </a:lnTo>
                  <a:lnTo>
                    <a:pt x="688" y="3087"/>
                  </a:lnTo>
                  <a:lnTo>
                    <a:pt x="659" y="3116"/>
                  </a:lnTo>
                  <a:lnTo>
                    <a:pt x="628" y="3136"/>
                  </a:lnTo>
                  <a:lnTo>
                    <a:pt x="594" y="3150"/>
                  </a:lnTo>
                  <a:lnTo>
                    <a:pt x="556" y="3154"/>
                  </a:lnTo>
                  <a:lnTo>
                    <a:pt x="515" y="3145"/>
                  </a:lnTo>
                  <a:lnTo>
                    <a:pt x="491" y="3136"/>
                  </a:lnTo>
                  <a:lnTo>
                    <a:pt x="471" y="3123"/>
                  </a:lnTo>
                  <a:lnTo>
                    <a:pt x="451" y="3106"/>
                  </a:lnTo>
                  <a:lnTo>
                    <a:pt x="434" y="3087"/>
                  </a:lnTo>
                  <a:lnTo>
                    <a:pt x="419" y="3065"/>
                  </a:lnTo>
                  <a:lnTo>
                    <a:pt x="409" y="3041"/>
                  </a:lnTo>
                  <a:lnTo>
                    <a:pt x="401" y="3014"/>
                  </a:lnTo>
                  <a:lnTo>
                    <a:pt x="397" y="2988"/>
                  </a:lnTo>
                  <a:lnTo>
                    <a:pt x="404" y="2980"/>
                  </a:lnTo>
                  <a:lnTo>
                    <a:pt x="415" y="2974"/>
                  </a:lnTo>
                  <a:lnTo>
                    <a:pt x="425" y="2967"/>
                  </a:lnTo>
                  <a:lnTo>
                    <a:pt x="437" y="2961"/>
                  </a:lnTo>
                  <a:lnTo>
                    <a:pt x="451" y="2947"/>
                  </a:lnTo>
                  <a:lnTo>
                    <a:pt x="467" y="2934"/>
                  </a:lnTo>
                  <a:lnTo>
                    <a:pt x="485" y="2920"/>
                  </a:lnTo>
                  <a:lnTo>
                    <a:pt x="503" y="2908"/>
                  </a:lnTo>
                  <a:lnTo>
                    <a:pt x="516" y="2892"/>
                  </a:lnTo>
                  <a:lnTo>
                    <a:pt x="529" y="2875"/>
                  </a:lnTo>
                  <a:lnTo>
                    <a:pt x="538" y="2855"/>
                  </a:lnTo>
                  <a:lnTo>
                    <a:pt x="542" y="2832"/>
                  </a:lnTo>
                  <a:lnTo>
                    <a:pt x="542" y="2820"/>
                  </a:lnTo>
                  <a:lnTo>
                    <a:pt x="539" y="2807"/>
                  </a:lnTo>
                  <a:lnTo>
                    <a:pt x="533" y="2797"/>
                  </a:lnTo>
                  <a:lnTo>
                    <a:pt x="524" y="2793"/>
                  </a:lnTo>
                  <a:lnTo>
                    <a:pt x="508" y="2789"/>
                  </a:lnTo>
                  <a:lnTo>
                    <a:pt x="495" y="2793"/>
                  </a:lnTo>
                  <a:lnTo>
                    <a:pt x="485" y="2800"/>
                  </a:lnTo>
                  <a:lnTo>
                    <a:pt x="477" y="2813"/>
                  </a:lnTo>
                  <a:lnTo>
                    <a:pt x="470" y="2825"/>
                  </a:lnTo>
                  <a:lnTo>
                    <a:pt x="463" y="2838"/>
                  </a:lnTo>
                  <a:lnTo>
                    <a:pt x="454" y="2849"/>
                  </a:lnTo>
                  <a:lnTo>
                    <a:pt x="446" y="2859"/>
                  </a:lnTo>
                  <a:lnTo>
                    <a:pt x="428" y="2871"/>
                  </a:lnTo>
                  <a:lnTo>
                    <a:pt x="410" y="2882"/>
                  </a:lnTo>
                  <a:lnTo>
                    <a:pt x="390" y="2891"/>
                  </a:lnTo>
                  <a:lnTo>
                    <a:pt x="371" y="2895"/>
                  </a:lnTo>
                  <a:lnTo>
                    <a:pt x="349" y="2895"/>
                  </a:lnTo>
                  <a:lnTo>
                    <a:pt x="330" y="2893"/>
                  </a:lnTo>
                  <a:lnTo>
                    <a:pt x="310" y="2886"/>
                  </a:lnTo>
                  <a:lnTo>
                    <a:pt x="292" y="2876"/>
                  </a:lnTo>
                  <a:lnTo>
                    <a:pt x="281" y="2869"/>
                  </a:lnTo>
                  <a:lnTo>
                    <a:pt x="273" y="2862"/>
                  </a:lnTo>
                  <a:lnTo>
                    <a:pt x="268" y="2851"/>
                  </a:lnTo>
                  <a:lnTo>
                    <a:pt x="265" y="2841"/>
                  </a:lnTo>
                  <a:lnTo>
                    <a:pt x="260" y="2828"/>
                  </a:lnTo>
                  <a:lnTo>
                    <a:pt x="256" y="2818"/>
                  </a:lnTo>
                  <a:lnTo>
                    <a:pt x="248" y="2810"/>
                  </a:lnTo>
                  <a:lnTo>
                    <a:pt x="239" y="2806"/>
                  </a:lnTo>
                  <a:lnTo>
                    <a:pt x="236" y="2817"/>
                  </a:lnTo>
                  <a:lnTo>
                    <a:pt x="234" y="2830"/>
                  </a:lnTo>
                  <a:lnTo>
                    <a:pt x="232" y="2842"/>
                  </a:lnTo>
                  <a:lnTo>
                    <a:pt x="230" y="2855"/>
                  </a:lnTo>
                  <a:lnTo>
                    <a:pt x="227" y="2866"/>
                  </a:lnTo>
                  <a:lnTo>
                    <a:pt x="224" y="2879"/>
                  </a:lnTo>
                  <a:lnTo>
                    <a:pt x="220" y="2891"/>
                  </a:lnTo>
                  <a:lnTo>
                    <a:pt x="218" y="2903"/>
                  </a:lnTo>
                  <a:lnTo>
                    <a:pt x="206" y="2908"/>
                  </a:lnTo>
                  <a:lnTo>
                    <a:pt x="196" y="2913"/>
                  </a:lnTo>
                  <a:lnTo>
                    <a:pt x="186" y="2919"/>
                  </a:lnTo>
                  <a:lnTo>
                    <a:pt x="176" y="2924"/>
                  </a:lnTo>
                  <a:lnTo>
                    <a:pt x="165" y="2927"/>
                  </a:lnTo>
                  <a:lnTo>
                    <a:pt x="153" y="2932"/>
                  </a:lnTo>
                  <a:lnTo>
                    <a:pt x="142" y="2930"/>
                  </a:lnTo>
                  <a:lnTo>
                    <a:pt x="131" y="2930"/>
                  </a:lnTo>
                  <a:lnTo>
                    <a:pt x="112" y="2917"/>
                  </a:lnTo>
                  <a:lnTo>
                    <a:pt x="96" y="2902"/>
                  </a:lnTo>
                  <a:lnTo>
                    <a:pt x="84" y="2885"/>
                  </a:lnTo>
                  <a:lnTo>
                    <a:pt x="76" y="2865"/>
                  </a:lnTo>
                  <a:lnTo>
                    <a:pt x="69" y="2842"/>
                  </a:lnTo>
                  <a:lnTo>
                    <a:pt x="63" y="2821"/>
                  </a:lnTo>
                  <a:lnTo>
                    <a:pt x="60" y="2797"/>
                  </a:lnTo>
                  <a:lnTo>
                    <a:pt x="58" y="2776"/>
                  </a:lnTo>
                  <a:lnTo>
                    <a:pt x="57" y="2753"/>
                  </a:lnTo>
                  <a:lnTo>
                    <a:pt x="63" y="2735"/>
                  </a:lnTo>
                  <a:lnTo>
                    <a:pt x="74" y="2719"/>
                  </a:lnTo>
                  <a:lnTo>
                    <a:pt x="88" y="2708"/>
                  </a:lnTo>
                  <a:lnTo>
                    <a:pt x="103" y="2695"/>
                  </a:lnTo>
                  <a:lnTo>
                    <a:pt x="119" y="2685"/>
                  </a:lnTo>
                  <a:lnTo>
                    <a:pt x="133" y="2677"/>
                  </a:lnTo>
                  <a:lnTo>
                    <a:pt x="148" y="2668"/>
                  </a:lnTo>
                  <a:lnTo>
                    <a:pt x="160" y="2667"/>
                  </a:lnTo>
                  <a:lnTo>
                    <a:pt x="167" y="2658"/>
                  </a:lnTo>
                  <a:lnTo>
                    <a:pt x="165" y="2647"/>
                  </a:lnTo>
                  <a:lnTo>
                    <a:pt x="162" y="2638"/>
                  </a:lnTo>
                  <a:lnTo>
                    <a:pt x="156" y="2631"/>
                  </a:lnTo>
                  <a:lnTo>
                    <a:pt x="149" y="2627"/>
                  </a:lnTo>
                  <a:lnTo>
                    <a:pt x="142" y="2621"/>
                  </a:lnTo>
                  <a:lnTo>
                    <a:pt x="136" y="2616"/>
                  </a:lnTo>
                  <a:lnTo>
                    <a:pt x="128" y="2610"/>
                  </a:lnTo>
                  <a:lnTo>
                    <a:pt x="124" y="2604"/>
                  </a:lnTo>
                  <a:lnTo>
                    <a:pt x="95" y="2569"/>
                  </a:lnTo>
                  <a:lnTo>
                    <a:pt x="69" y="2532"/>
                  </a:lnTo>
                  <a:lnTo>
                    <a:pt x="44" y="2494"/>
                  </a:lnTo>
                  <a:lnTo>
                    <a:pt x="26" y="2456"/>
                  </a:lnTo>
                  <a:lnTo>
                    <a:pt x="10" y="2413"/>
                  </a:lnTo>
                  <a:lnTo>
                    <a:pt x="1" y="2371"/>
                  </a:lnTo>
                  <a:lnTo>
                    <a:pt x="0" y="2325"/>
                  </a:lnTo>
                  <a:lnTo>
                    <a:pt x="8" y="2279"/>
                  </a:lnTo>
                  <a:lnTo>
                    <a:pt x="13" y="2267"/>
                  </a:lnTo>
                  <a:lnTo>
                    <a:pt x="19" y="2257"/>
                  </a:lnTo>
                  <a:lnTo>
                    <a:pt x="24" y="2246"/>
                  </a:lnTo>
                  <a:lnTo>
                    <a:pt x="32" y="2238"/>
                  </a:lnTo>
                  <a:lnTo>
                    <a:pt x="37" y="2228"/>
                  </a:lnTo>
                  <a:lnTo>
                    <a:pt x="46" y="2221"/>
                  </a:lnTo>
                  <a:lnTo>
                    <a:pt x="55" y="2215"/>
                  </a:lnTo>
                  <a:lnTo>
                    <a:pt x="67" y="2213"/>
                  </a:lnTo>
                  <a:lnTo>
                    <a:pt x="75" y="2218"/>
                  </a:lnTo>
                  <a:lnTo>
                    <a:pt x="85" y="2219"/>
                  </a:lnTo>
                  <a:lnTo>
                    <a:pt x="96" y="2219"/>
                  </a:lnTo>
                  <a:lnTo>
                    <a:pt x="108" y="2221"/>
                  </a:lnTo>
                  <a:lnTo>
                    <a:pt x="118" y="2219"/>
                  </a:lnTo>
                  <a:lnTo>
                    <a:pt x="129" y="2219"/>
                  </a:lnTo>
                  <a:lnTo>
                    <a:pt x="141" y="2222"/>
                  </a:lnTo>
                  <a:lnTo>
                    <a:pt x="152" y="2228"/>
                  </a:lnTo>
                  <a:lnTo>
                    <a:pt x="160" y="2230"/>
                  </a:lnTo>
                  <a:lnTo>
                    <a:pt x="170" y="2235"/>
                  </a:lnTo>
                  <a:lnTo>
                    <a:pt x="179" y="2238"/>
                  </a:lnTo>
                  <a:lnTo>
                    <a:pt x="189" y="2242"/>
                  </a:lnTo>
                  <a:lnTo>
                    <a:pt x="198" y="2243"/>
                  </a:lnTo>
                  <a:lnTo>
                    <a:pt x="208" y="2246"/>
                  </a:lnTo>
                  <a:lnTo>
                    <a:pt x="217" y="2247"/>
                  </a:lnTo>
                  <a:lnTo>
                    <a:pt x="227" y="2252"/>
                  </a:lnTo>
                  <a:lnTo>
                    <a:pt x="236" y="2235"/>
                  </a:lnTo>
                  <a:lnTo>
                    <a:pt x="222" y="2208"/>
                  </a:lnTo>
                  <a:lnTo>
                    <a:pt x="209" y="2182"/>
                  </a:lnTo>
                  <a:lnTo>
                    <a:pt x="194" y="2157"/>
                  </a:lnTo>
                  <a:lnTo>
                    <a:pt x="181" y="2131"/>
                  </a:lnTo>
                  <a:lnTo>
                    <a:pt x="167" y="2104"/>
                  </a:lnTo>
                  <a:lnTo>
                    <a:pt x="157" y="2079"/>
                  </a:lnTo>
                  <a:lnTo>
                    <a:pt x="149" y="2051"/>
                  </a:lnTo>
                  <a:lnTo>
                    <a:pt x="146" y="2022"/>
                  </a:lnTo>
                  <a:lnTo>
                    <a:pt x="149" y="2014"/>
                  </a:lnTo>
                  <a:lnTo>
                    <a:pt x="149" y="2005"/>
                  </a:lnTo>
                  <a:lnTo>
                    <a:pt x="148" y="1995"/>
                  </a:lnTo>
                  <a:lnTo>
                    <a:pt x="152" y="1988"/>
                  </a:lnTo>
                  <a:lnTo>
                    <a:pt x="158" y="1970"/>
                  </a:lnTo>
                  <a:lnTo>
                    <a:pt x="167" y="1956"/>
                  </a:lnTo>
                  <a:lnTo>
                    <a:pt x="177" y="1943"/>
                  </a:lnTo>
                  <a:lnTo>
                    <a:pt x="191" y="1933"/>
                  </a:lnTo>
                  <a:lnTo>
                    <a:pt x="204" y="1923"/>
                  </a:lnTo>
                  <a:lnTo>
                    <a:pt x="219" y="1916"/>
                  </a:lnTo>
                  <a:lnTo>
                    <a:pt x="234" y="1910"/>
                  </a:lnTo>
                  <a:lnTo>
                    <a:pt x="251" y="1907"/>
                  </a:lnTo>
                  <a:lnTo>
                    <a:pt x="257" y="1915"/>
                  </a:lnTo>
                  <a:lnTo>
                    <a:pt x="260" y="1926"/>
                  </a:lnTo>
                  <a:lnTo>
                    <a:pt x="261" y="1937"/>
                  </a:lnTo>
                  <a:lnTo>
                    <a:pt x="263" y="1949"/>
                  </a:lnTo>
                  <a:lnTo>
                    <a:pt x="267" y="1957"/>
                  </a:lnTo>
                  <a:lnTo>
                    <a:pt x="273" y="1966"/>
                  </a:lnTo>
                  <a:lnTo>
                    <a:pt x="281" y="1973"/>
                  </a:lnTo>
                  <a:lnTo>
                    <a:pt x="289" y="1980"/>
                  </a:lnTo>
                  <a:lnTo>
                    <a:pt x="296" y="1985"/>
                  </a:lnTo>
                  <a:lnTo>
                    <a:pt x="304" y="1991"/>
                  </a:lnTo>
                  <a:lnTo>
                    <a:pt x="313" y="1997"/>
                  </a:lnTo>
                  <a:lnTo>
                    <a:pt x="323" y="2002"/>
                  </a:lnTo>
                  <a:lnTo>
                    <a:pt x="329" y="1998"/>
                  </a:lnTo>
                  <a:lnTo>
                    <a:pt x="337" y="1994"/>
                  </a:lnTo>
                  <a:lnTo>
                    <a:pt x="343" y="1987"/>
                  </a:lnTo>
                  <a:lnTo>
                    <a:pt x="349" y="1978"/>
                  </a:lnTo>
                  <a:lnTo>
                    <a:pt x="348" y="1964"/>
                  </a:lnTo>
                  <a:lnTo>
                    <a:pt x="344" y="1956"/>
                  </a:lnTo>
                  <a:lnTo>
                    <a:pt x="335" y="1947"/>
                  </a:lnTo>
                  <a:lnTo>
                    <a:pt x="328" y="1940"/>
                  </a:lnTo>
                  <a:lnTo>
                    <a:pt x="318" y="1932"/>
                  </a:lnTo>
                  <a:lnTo>
                    <a:pt x="311" y="1924"/>
                  </a:lnTo>
                  <a:lnTo>
                    <a:pt x="306" y="1915"/>
                  </a:lnTo>
                  <a:lnTo>
                    <a:pt x="308" y="1902"/>
                  </a:lnTo>
                  <a:lnTo>
                    <a:pt x="310" y="1878"/>
                  </a:lnTo>
                  <a:lnTo>
                    <a:pt x="315" y="1854"/>
                  </a:lnTo>
                  <a:lnTo>
                    <a:pt x="322" y="1830"/>
                  </a:lnTo>
                  <a:lnTo>
                    <a:pt x="332" y="1808"/>
                  </a:lnTo>
                  <a:lnTo>
                    <a:pt x="343" y="1787"/>
                  </a:lnTo>
                  <a:lnTo>
                    <a:pt x="358" y="1770"/>
                  </a:lnTo>
                  <a:lnTo>
                    <a:pt x="376" y="1755"/>
                  </a:lnTo>
                  <a:lnTo>
                    <a:pt x="397" y="1746"/>
                  </a:lnTo>
                  <a:lnTo>
                    <a:pt x="416" y="1742"/>
                  </a:lnTo>
                  <a:lnTo>
                    <a:pt x="435" y="1743"/>
                  </a:lnTo>
                  <a:lnTo>
                    <a:pt x="454" y="1746"/>
                  </a:lnTo>
                  <a:lnTo>
                    <a:pt x="473" y="1755"/>
                  </a:lnTo>
                  <a:lnTo>
                    <a:pt x="491" y="1760"/>
                  </a:lnTo>
                  <a:lnTo>
                    <a:pt x="510" y="1767"/>
                  </a:lnTo>
                  <a:lnTo>
                    <a:pt x="529" y="1774"/>
                  </a:lnTo>
                  <a:lnTo>
                    <a:pt x="548" y="1780"/>
                  </a:lnTo>
                  <a:lnTo>
                    <a:pt x="553" y="1774"/>
                  </a:lnTo>
                  <a:lnTo>
                    <a:pt x="556" y="1766"/>
                  </a:lnTo>
                  <a:lnTo>
                    <a:pt x="554" y="1755"/>
                  </a:lnTo>
                  <a:lnTo>
                    <a:pt x="552" y="1746"/>
                  </a:lnTo>
                  <a:lnTo>
                    <a:pt x="542" y="1728"/>
                  </a:lnTo>
                  <a:lnTo>
                    <a:pt x="534" y="1711"/>
                  </a:lnTo>
                  <a:lnTo>
                    <a:pt x="527" y="1692"/>
                  </a:lnTo>
                  <a:lnTo>
                    <a:pt x="521" y="1675"/>
                  </a:lnTo>
                  <a:lnTo>
                    <a:pt x="516" y="1655"/>
                  </a:lnTo>
                  <a:lnTo>
                    <a:pt x="515" y="1636"/>
                  </a:lnTo>
                  <a:lnTo>
                    <a:pt x="514" y="1614"/>
                  </a:lnTo>
                  <a:lnTo>
                    <a:pt x="518" y="1594"/>
                  </a:lnTo>
                  <a:lnTo>
                    <a:pt x="523" y="1580"/>
                  </a:lnTo>
                  <a:lnTo>
                    <a:pt x="530" y="1568"/>
                  </a:lnTo>
                  <a:lnTo>
                    <a:pt x="538" y="1555"/>
                  </a:lnTo>
                  <a:lnTo>
                    <a:pt x="549" y="1543"/>
                  </a:lnTo>
                  <a:lnTo>
                    <a:pt x="559" y="1532"/>
                  </a:lnTo>
                  <a:lnTo>
                    <a:pt x="572" y="1524"/>
                  </a:lnTo>
                  <a:lnTo>
                    <a:pt x="585" y="1517"/>
                  </a:lnTo>
                  <a:lnTo>
                    <a:pt x="600" y="1514"/>
                  </a:lnTo>
                  <a:lnTo>
                    <a:pt x="608" y="1508"/>
                  </a:lnTo>
                  <a:lnTo>
                    <a:pt x="619" y="1507"/>
                  </a:lnTo>
                  <a:lnTo>
                    <a:pt x="630" y="1505"/>
                  </a:lnTo>
                  <a:lnTo>
                    <a:pt x="642" y="1508"/>
                  </a:lnTo>
                  <a:lnTo>
                    <a:pt x="651" y="1508"/>
                  </a:lnTo>
                  <a:lnTo>
                    <a:pt x="661" y="1508"/>
                  </a:lnTo>
                  <a:lnTo>
                    <a:pt x="670" y="1502"/>
                  </a:lnTo>
                  <a:lnTo>
                    <a:pt x="677" y="1494"/>
                  </a:lnTo>
                  <a:lnTo>
                    <a:pt x="676" y="1473"/>
                  </a:lnTo>
                  <a:lnTo>
                    <a:pt x="672" y="1456"/>
                  </a:lnTo>
                  <a:lnTo>
                    <a:pt x="663" y="1439"/>
                  </a:lnTo>
                  <a:lnTo>
                    <a:pt x="652" y="1426"/>
                  </a:lnTo>
                  <a:lnTo>
                    <a:pt x="637" y="1413"/>
                  </a:lnTo>
                  <a:lnTo>
                    <a:pt x="623" y="1402"/>
                  </a:lnTo>
                  <a:lnTo>
                    <a:pt x="608" y="1389"/>
                  </a:lnTo>
                  <a:lnTo>
                    <a:pt x="594" y="1379"/>
                  </a:lnTo>
                  <a:lnTo>
                    <a:pt x="571" y="1368"/>
                  </a:lnTo>
                  <a:lnTo>
                    <a:pt x="551" y="1355"/>
                  </a:lnTo>
                  <a:lnTo>
                    <a:pt x="532" y="1338"/>
                  </a:lnTo>
                  <a:lnTo>
                    <a:pt x="516" y="1320"/>
                  </a:lnTo>
                  <a:lnTo>
                    <a:pt x="500" y="1298"/>
                  </a:lnTo>
                  <a:lnTo>
                    <a:pt x="489" y="1276"/>
                  </a:lnTo>
                  <a:lnTo>
                    <a:pt x="480" y="1252"/>
                  </a:lnTo>
                  <a:lnTo>
                    <a:pt x="473" y="1229"/>
                  </a:lnTo>
                  <a:lnTo>
                    <a:pt x="468" y="1191"/>
                  </a:lnTo>
                  <a:lnTo>
                    <a:pt x="471" y="1158"/>
                  </a:lnTo>
                  <a:lnTo>
                    <a:pt x="480" y="1127"/>
                  </a:lnTo>
                  <a:lnTo>
                    <a:pt x="494" y="1099"/>
                  </a:lnTo>
                  <a:lnTo>
                    <a:pt x="510" y="1072"/>
                  </a:lnTo>
                  <a:lnTo>
                    <a:pt x="530" y="1046"/>
                  </a:lnTo>
                  <a:lnTo>
                    <a:pt x="551" y="1024"/>
                  </a:lnTo>
                  <a:lnTo>
                    <a:pt x="572" y="1002"/>
                  </a:lnTo>
                  <a:lnTo>
                    <a:pt x="582" y="994"/>
                  </a:lnTo>
                  <a:lnTo>
                    <a:pt x="594" y="985"/>
                  </a:lnTo>
                  <a:lnTo>
                    <a:pt x="605" y="977"/>
                  </a:lnTo>
                  <a:lnTo>
                    <a:pt x="616" y="968"/>
                  </a:lnTo>
                  <a:lnTo>
                    <a:pt x="628" y="961"/>
                  </a:lnTo>
                  <a:lnTo>
                    <a:pt x="640" y="958"/>
                  </a:lnTo>
                  <a:lnTo>
                    <a:pt x="653" y="958"/>
                  </a:lnTo>
                  <a:lnTo>
                    <a:pt x="668" y="966"/>
                  </a:lnTo>
                  <a:lnTo>
                    <a:pt x="686" y="974"/>
                  </a:lnTo>
                  <a:lnTo>
                    <a:pt x="705" y="985"/>
                  </a:lnTo>
                  <a:lnTo>
                    <a:pt x="723" y="997"/>
                  </a:lnTo>
                  <a:lnTo>
                    <a:pt x="742" y="1009"/>
                  </a:lnTo>
                  <a:lnTo>
                    <a:pt x="758" y="1021"/>
                  </a:lnTo>
                  <a:lnTo>
                    <a:pt x="776" y="1032"/>
                  </a:lnTo>
                  <a:lnTo>
                    <a:pt x="794" y="1042"/>
                  </a:lnTo>
                  <a:lnTo>
                    <a:pt x="812" y="1053"/>
                  </a:lnTo>
                  <a:lnTo>
                    <a:pt x="818" y="1039"/>
                  </a:lnTo>
                  <a:lnTo>
                    <a:pt x="820" y="1026"/>
                  </a:lnTo>
                  <a:lnTo>
                    <a:pt x="819" y="1012"/>
                  </a:lnTo>
                  <a:lnTo>
                    <a:pt x="816" y="1000"/>
                  </a:lnTo>
                  <a:lnTo>
                    <a:pt x="812" y="985"/>
                  </a:lnTo>
                  <a:lnTo>
                    <a:pt x="809" y="971"/>
                  </a:lnTo>
                  <a:lnTo>
                    <a:pt x="806" y="957"/>
                  </a:lnTo>
                  <a:lnTo>
                    <a:pt x="806" y="943"/>
                  </a:lnTo>
                  <a:lnTo>
                    <a:pt x="806" y="922"/>
                  </a:lnTo>
                  <a:lnTo>
                    <a:pt x="810" y="902"/>
                  </a:lnTo>
                  <a:lnTo>
                    <a:pt x="814" y="883"/>
                  </a:lnTo>
                  <a:lnTo>
                    <a:pt x="823" y="866"/>
                  </a:lnTo>
                  <a:lnTo>
                    <a:pt x="830" y="849"/>
                  </a:lnTo>
                  <a:lnTo>
                    <a:pt x="843" y="834"/>
                  </a:lnTo>
                  <a:lnTo>
                    <a:pt x="857" y="821"/>
                  </a:lnTo>
                  <a:lnTo>
                    <a:pt x="873" y="811"/>
                  </a:lnTo>
                  <a:lnTo>
                    <a:pt x="900" y="804"/>
                  </a:lnTo>
                  <a:lnTo>
                    <a:pt x="925" y="807"/>
                  </a:lnTo>
                  <a:lnTo>
                    <a:pt x="948" y="815"/>
                  </a:lnTo>
                  <a:lnTo>
                    <a:pt x="971" y="830"/>
                  </a:lnTo>
                  <a:lnTo>
                    <a:pt x="991" y="845"/>
                  </a:lnTo>
                  <a:lnTo>
                    <a:pt x="1014" y="861"/>
                  </a:lnTo>
                  <a:lnTo>
                    <a:pt x="1035" y="873"/>
                  </a:lnTo>
                  <a:lnTo>
                    <a:pt x="1059" y="885"/>
                  </a:lnTo>
                  <a:lnTo>
                    <a:pt x="1063" y="873"/>
                  </a:lnTo>
                  <a:lnTo>
                    <a:pt x="1064" y="864"/>
                  </a:lnTo>
                  <a:lnTo>
                    <a:pt x="1063" y="852"/>
                  </a:lnTo>
                  <a:lnTo>
                    <a:pt x="1062" y="842"/>
                  </a:lnTo>
                  <a:lnTo>
                    <a:pt x="1057" y="831"/>
                  </a:lnTo>
                  <a:lnTo>
                    <a:pt x="1053" y="820"/>
                  </a:lnTo>
                  <a:lnTo>
                    <a:pt x="1049" y="808"/>
                  </a:lnTo>
                  <a:lnTo>
                    <a:pt x="1047" y="798"/>
                  </a:lnTo>
                  <a:lnTo>
                    <a:pt x="1040" y="790"/>
                  </a:lnTo>
                  <a:lnTo>
                    <a:pt x="1036" y="783"/>
                  </a:lnTo>
                  <a:lnTo>
                    <a:pt x="1034" y="774"/>
                  </a:lnTo>
                  <a:lnTo>
                    <a:pt x="1033" y="767"/>
                  </a:lnTo>
                  <a:lnTo>
                    <a:pt x="1030" y="759"/>
                  </a:lnTo>
                  <a:lnTo>
                    <a:pt x="1028" y="750"/>
                  </a:lnTo>
                  <a:lnTo>
                    <a:pt x="1024" y="743"/>
                  </a:lnTo>
                  <a:lnTo>
                    <a:pt x="1020" y="738"/>
                  </a:lnTo>
                  <a:lnTo>
                    <a:pt x="1007" y="679"/>
                  </a:lnTo>
                  <a:lnTo>
                    <a:pt x="1007" y="624"/>
                  </a:lnTo>
                  <a:lnTo>
                    <a:pt x="1017" y="570"/>
                  </a:lnTo>
                  <a:lnTo>
                    <a:pt x="1035" y="519"/>
                  </a:lnTo>
                  <a:lnTo>
                    <a:pt x="1057" y="468"/>
                  </a:lnTo>
                  <a:lnTo>
                    <a:pt x="1085" y="420"/>
                  </a:lnTo>
                  <a:lnTo>
                    <a:pt x="1114" y="373"/>
                  </a:lnTo>
                  <a:lnTo>
                    <a:pt x="1143" y="330"/>
                  </a:lnTo>
                  <a:lnTo>
                    <a:pt x="1172" y="307"/>
                  </a:lnTo>
                  <a:lnTo>
                    <a:pt x="1206" y="290"/>
                  </a:lnTo>
                  <a:lnTo>
                    <a:pt x="1243" y="277"/>
                  </a:lnTo>
                  <a:lnTo>
                    <a:pt x="1281" y="272"/>
                  </a:lnTo>
                  <a:lnTo>
                    <a:pt x="1317" y="270"/>
                  </a:lnTo>
                  <a:lnTo>
                    <a:pt x="1355" y="276"/>
                  </a:lnTo>
                  <a:lnTo>
                    <a:pt x="1392" y="289"/>
                  </a:lnTo>
                  <a:lnTo>
                    <a:pt x="1426" y="310"/>
                  </a:lnTo>
                  <a:lnTo>
                    <a:pt x="1438" y="318"/>
                  </a:lnTo>
                  <a:lnTo>
                    <a:pt x="1449" y="327"/>
                  </a:lnTo>
                  <a:lnTo>
                    <a:pt x="1460" y="337"/>
                  </a:lnTo>
                  <a:lnTo>
                    <a:pt x="1472" y="348"/>
                  </a:lnTo>
                  <a:lnTo>
                    <a:pt x="1481" y="358"/>
                  </a:lnTo>
                  <a:lnTo>
                    <a:pt x="1491" y="371"/>
                  </a:lnTo>
                  <a:lnTo>
                    <a:pt x="1498" y="383"/>
                  </a:lnTo>
                  <a:lnTo>
                    <a:pt x="1507" y="398"/>
                  </a:lnTo>
                  <a:lnTo>
                    <a:pt x="1516" y="395"/>
                  </a:lnTo>
                  <a:lnTo>
                    <a:pt x="1521" y="390"/>
                  </a:lnTo>
                  <a:lnTo>
                    <a:pt x="1524" y="382"/>
                  </a:lnTo>
                  <a:lnTo>
                    <a:pt x="1525" y="375"/>
                  </a:lnTo>
                  <a:lnTo>
                    <a:pt x="1524" y="365"/>
                  </a:lnTo>
                  <a:lnTo>
                    <a:pt x="1524" y="355"/>
                  </a:lnTo>
                  <a:lnTo>
                    <a:pt x="1524" y="347"/>
                  </a:lnTo>
                  <a:lnTo>
                    <a:pt x="1527" y="341"/>
                  </a:lnTo>
                  <a:lnTo>
                    <a:pt x="1527" y="328"/>
                  </a:lnTo>
                  <a:lnTo>
                    <a:pt x="1531" y="317"/>
                  </a:lnTo>
                  <a:lnTo>
                    <a:pt x="1535" y="306"/>
                  </a:lnTo>
                  <a:lnTo>
                    <a:pt x="1541" y="297"/>
                  </a:lnTo>
                  <a:lnTo>
                    <a:pt x="1546" y="287"/>
                  </a:lnTo>
                  <a:lnTo>
                    <a:pt x="1554" y="279"/>
                  </a:lnTo>
                  <a:lnTo>
                    <a:pt x="1562" y="270"/>
                  </a:lnTo>
                  <a:lnTo>
                    <a:pt x="1570" y="263"/>
                  </a:lnTo>
                  <a:lnTo>
                    <a:pt x="1582" y="253"/>
                  </a:lnTo>
                  <a:lnTo>
                    <a:pt x="1596" y="249"/>
                  </a:lnTo>
                  <a:lnTo>
                    <a:pt x="1608" y="245"/>
                  </a:lnTo>
                  <a:lnTo>
                    <a:pt x="1624" y="245"/>
                  </a:lnTo>
                  <a:lnTo>
                    <a:pt x="1637" y="243"/>
                  </a:lnTo>
                  <a:lnTo>
                    <a:pt x="1653" y="247"/>
                  </a:lnTo>
                  <a:lnTo>
                    <a:pt x="1667" y="252"/>
                  </a:lnTo>
                  <a:lnTo>
                    <a:pt x="1682" y="260"/>
                  </a:lnTo>
                  <a:lnTo>
                    <a:pt x="1692" y="272"/>
                  </a:lnTo>
                  <a:lnTo>
                    <a:pt x="1701" y="286"/>
                  </a:lnTo>
                  <a:lnTo>
                    <a:pt x="1708" y="301"/>
                  </a:lnTo>
                  <a:lnTo>
                    <a:pt x="1716" y="317"/>
                  </a:lnTo>
                  <a:lnTo>
                    <a:pt x="1722" y="331"/>
                  </a:lnTo>
                  <a:lnTo>
                    <a:pt x="1730" y="345"/>
                  </a:lnTo>
                  <a:lnTo>
                    <a:pt x="1737" y="358"/>
                  </a:lnTo>
                  <a:lnTo>
                    <a:pt x="1747" y="371"/>
                  </a:lnTo>
                  <a:lnTo>
                    <a:pt x="1755" y="358"/>
                  </a:lnTo>
                  <a:lnTo>
                    <a:pt x="1761" y="342"/>
                  </a:lnTo>
                  <a:lnTo>
                    <a:pt x="1765" y="327"/>
                  </a:lnTo>
                  <a:lnTo>
                    <a:pt x="1772" y="311"/>
                  </a:lnTo>
                  <a:lnTo>
                    <a:pt x="1777" y="296"/>
                  </a:lnTo>
                  <a:lnTo>
                    <a:pt x="1785" y="284"/>
                  </a:lnTo>
                  <a:lnTo>
                    <a:pt x="1798" y="277"/>
                  </a:lnTo>
                  <a:lnTo>
                    <a:pt x="1816" y="276"/>
                  </a:lnTo>
                  <a:lnTo>
                    <a:pt x="1825" y="281"/>
                  </a:lnTo>
                  <a:lnTo>
                    <a:pt x="1832" y="290"/>
                  </a:lnTo>
                  <a:lnTo>
                    <a:pt x="1839" y="298"/>
                  </a:lnTo>
                  <a:lnTo>
                    <a:pt x="1846" y="308"/>
                  </a:lnTo>
                  <a:lnTo>
                    <a:pt x="1851" y="318"/>
                  </a:lnTo>
                  <a:lnTo>
                    <a:pt x="1859" y="328"/>
                  </a:lnTo>
                  <a:lnTo>
                    <a:pt x="1865" y="337"/>
                  </a:lnTo>
                  <a:lnTo>
                    <a:pt x="1874" y="347"/>
                  </a:lnTo>
                  <a:lnTo>
                    <a:pt x="1884" y="338"/>
                  </a:lnTo>
                  <a:lnTo>
                    <a:pt x="1892" y="328"/>
                  </a:lnTo>
                  <a:lnTo>
                    <a:pt x="1896" y="314"/>
                  </a:lnTo>
                  <a:lnTo>
                    <a:pt x="1899" y="301"/>
                  </a:lnTo>
                  <a:lnTo>
                    <a:pt x="1901" y="286"/>
                  </a:lnTo>
                  <a:lnTo>
                    <a:pt x="1903" y="272"/>
                  </a:lnTo>
                  <a:lnTo>
                    <a:pt x="1903" y="256"/>
                  </a:lnTo>
                  <a:lnTo>
                    <a:pt x="1907" y="243"/>
                  </a:lnTo>
                  <a:lnTo>
                    <a:pt x="1922" y="199"/>
                  </a:lnTo>
                  <a:lnTo>
                    <a:pt x="1945" y="160"/>
                  </a:lnTo>
                  <a:lnTo>
                    <a:pt x="1970" y="123"/>
                  </a:lnTo>
                  <a:lnTo>
                    <a:pt x="2001" y="90"/>
                  </a:lnTo>
                  <a:lnTo>
                    <a:pt x="2032" y="60"/>
                  </a:lnTo>
                  <a:lnTo>
                    <a:pt x="2069" y="38"/>
                  </a:lnTo>
                  <a:lnTo>
                    <a:pt x="2106" y="18"/>
                  </a:lnTo>
                  <a:lnTo>
                    <a:pt x="2147" y="7"/>
                  </a:lnTo>
                  <a:lnTo>
                    <a:pt x="2174" y="2"/>
                  </a:lnTo>
                  <a:lnTo>
                    <a:pt x="2200" y="0"/>
                  </a:lnTo>
                  <a:lnTo>
                    <a:pt x="2227" y="0"/>
                  </a:lnTo>
                  <a:lnTo>
                    <a:pt x="2254" y="2"/>
                  </a:lnTo>
                  <a:lnTo>
                    <a:pt x="2278" y="5"/>
                  </a:lnTo>
                  <a:lnTo>
                    <a:pt x="2303" y="14"/>
                  </a:lnTo>
                  <a:lnTo>
                    <a:pt x="2326" y="25"/>
                  </a:lnTo>
                  <a:lnTo>
                    <a:pt x="2348" y="41"/>
                  </a:lnTo>
                  <a:lnTo>
                    <a:pt x="2370" y="55"/>
                  </a:lnTo>
                  <a:lnTo>
                    <a:pt x="2394" y="72"/>
                  </a:lnTo>
                  <a:lnTo>
                    <a:pt x="2417" y="89"/>
                  </a:lnTo>
                  <a:lnTo>
                    <a:pt x="2440" y="110"/>
                  </a:lnTo>
                  <a:lnTo>
                    <a:pt x="2457" y="131"/>
                  </a:lnTo>
                  <a:lnTo>
                    <a:pt x="2472" y="158"/>
                  </a:lnTo>
                  <a:lnTo>
                    <a:pt x="2480" y="188"/>
                  </a:lnTo>
                  <a:lnTo>
                    <a:pt x="2480" y="222"/>
                  </a:lnTo>
                  <a:lnTo>
                    <a:pt x="2481" y="239"/>
                  </a:lnTo>
                  <a:lnTo>
                    <a:pt x="2483" y="259"/>
                  </a:lnTo>
                  <a:lnTo>
                    <a:pt x="2483" y="276"/>
                  </a:lnTo>
                  <a:lnTo>
                    <a:pt x="2484" y="296"/>
                  </a:lnTo>
                  <a:lnTo>
                    <a:pt x="2483" y="314"/>
                  </a:lnTo>
                  <a:lnTo>
                    <a:pt x="2480" y="332"/>
                  </a:lnTo>
                  <a:lnTo>
                    <a:pt x="2476" y="351"/>
                  </a:lnTo>
                  <a:lnTo>
                    <a:pt x="2471" y="371"/>
                  </a:lnTo>
                  <a:lnTo>
                    <a:pt x="2450" y="375"/>
                  </a:lnTo>
                  <a:lnTo>
                    <a:pt x="2432" y="385"/>
                  </a:lnTo>
                  <a:lnTo>
                    <a:pt x="2413" y="396"/>
                  </a:lnTo>
                  <a:lnTo>
                    <a:pt x="2398" y="412"/>
                  </a:lnTo>
                  <a:lnTo>
                    <a:pt x="2381" y="427"/>
                  </a:lnTo>
                  <a:lnTo>
                    <a:pt x="2367" y="446"/>
                  </a:lnTo>
                  <a:lnTo>
                    <a:pt x="2355" y="464"/>
                  </a:lnTo>
                  <a:lnTo>
                    <a:pt x="2345" y="485"/>
                  </a:lnTo>
                  <a:lnTo>
                    <a:pt x="2340" y="500"/>
                  </a:lnTo>
                  <a:lnTo>
                    <a:pt x="2342" y="515"/>
                  </a:lnTo>
                  <a:lnTo>
                    <a:pt x="2348" y="528"/>
                  </a:lnTo>
                  <a:lnTo>
                    <a:pt x="2360" y="539"/>
                  </a:lnTo>
                  <a:lnTo>
                    <a:pt x="2371" y="536"/>
                  </a:lnTo>
                  <a:lnTo>
                    <a:pt x="2381" y="532"/>
                  </a:lnTo>
                  <a:lnTo>
                    <a:pt x="2388" y="522"/>
                  </a:lnTo>
                  <a:lnTo>
                    <a:pt x="2395" y="514"/>
                  </a:lnTo>
                  <a:lnTo>
                    <a:pt x="2400" y="502"/>
                  </a:lnTo>
                  <a:lnTo>
                    <a:pt x="2405" y="491"/>
                  </a:lnTo>
                  <a:lnTo>
                    <a:pt x="2412" y="481"/>
                  </a:lnTo>
                  <a:lnTo>
                    <a:pt x="2421" y="475"/>
                  </a:lnTo>
                  <a:lnTo>
                    <a:pt x="2433" y="460"/>
                  </a:lnTo>
                  <a:lnTo>
                    <a:pt x="2450" y="449"/>
                  </a:lnTo>
                  <a:lnTo>
                    <a:pt x="2465" y="440"/>
                  </a:lnTo>
                  <a:lnTo>
                    <a:pt x="2484" y="434"/>
                  </a:lnTo>
                  <a:lnTo>
                    <a:pt x="2500" y="429"/>
                  </a:lnTo>
                  <a:lnTo>
                    <a:pt x="2519" y="427"/>
                  </a:lnTo>
                  <a:lnTo>
                    <a:pt x="2538" y="427"/>
                  </a:lnTo>
                  <a:lnTo>
                    <a:pt x="2559" y="432"/>
                  </a:lnTo>
                  <a:lnTo>
                    <a:pt x="2576" y="434"/>
                  </a:lnTo>
                  <a:lnTo>
                    <a:pt x="2596" y="440"/>
                  </a:lnTo>
                  <a:lnTo>
                    <a:pt x="2617" y="447"/>
                  </a:lnTo>
                  <a:lnTo>
                    <a:pt x="2638" y="458"/>
                  </a:lnTo>
                  <a:lnTo>
                    <a:pt x="2656" y="470"/>
                  </a:lnTo>
                  <a:lnTo>
                    <a:pt x="2672" y="485"/>
                  </a:lnTo>
                  <a:lnTo>
                    <a:pt x="2685" y="505"/>
                  </a:lnTo>
                  <a:lnTo>
                    <a:pt x="2694" y="529"/>
                  </a:lnTo>
                  <a:lnTo>
                    <a:pt x="2698" y="545"/>
                  </a:lnTo>
                  <a:lnTo>
                    <a:pt x="2698" y="562"/>
                  </a:lnTo>
                  <a:lnTo>
                    <a:pt x="2695" y="580"/>
                  </a:lnTo>
                  <a:lnTo>
                    <a:pt x="2693" y="599"/>
                  </a:lnTo>
                  <a:lnTo>
                    <a:pt x="2690" y="616"/>
                  </a:lnTo>
                  <a:lnTo>
                    <a:pt x="2691" y="633"/>
                  </a:lnTo>
                  <a:lnTo>
                    <a:pt x="2696" y="648"/>
                  </a:lnTo>
                  <a:lnTo>
                    <a:pt x="2709" y="664"/>
                  </a:lnTo>
                  <a:lnTo>
                    <a:pt x="2727" y="643"/>
                  </a:lnTo>
                  <a:lnTo>
                    <a:pt x="2747" y="623"/>
                  </a:lnTo>
                  <a:lnTo>
                    <a:pt x="2767" y="603"/>
                  </a:lnTo>
                  <a:lnTo>
                    <a:pt x="2790" y="587"/>
                  </a:lnTo>
                  <a:lnTo>
                    <a:pt x="2813" y="572"/>
                  </a:lnTo>
                  <a:lnTo>
                    <a:pt x="2838" y="563"/>
                  </a:lnTo>
                  <a:lnTo>
                    <a:pt x="2865" y="558"/>
                  </a:lnTo>
                  <a:lnTo>
                    <a:pt x="2895" y="562"/>
                  </a:lnTo>
                  <a:lnTo>
                    <a:pt x="2906" y="568"/>
                  </a:lnTo>
                  <a:lnTo>
                    <a:pt x="2918" y="576"/>
                  </a:lnTo>
                  <a:lnTo>
                    <a:pt x="2928" y="587"/>
                  </a:lnTo>
                  <a:lnTo>
                    <a:pt x="2939" y="600"/>
                  </a:lnTo>
                  <a:lnTo>
                    <a:pt x="2948" y="613"/>
                  </a:lnTo>
                  <a:lnTo>
                    <a:pt x="2957" y="628"/>
                  </a:lnTo>
                  <a:lnTo>
                    <a:pt x="2962" y="644"/>
                  </a:lnTo>
                  <a:lnTo>
                    <a:pt x="2967" y="660"/>
                  </a:lnTo>
                  <a:lnTo>
                    <a:pt x="2966" y="681"/>
                  </a:lnTo>
                  <a:lnTo>
                    <a:pt x="2966" y="702"/>
                  </a:lnTo>
                  <a:lnTo>
                    <a:pt x="2966" y="723"/>
                  </a:lnTo>
                  <a:lnTo>
                    <a:pt x="2967" y="745"/>
                  </a:lnTo>
                  <a:lnTo>
                    <a:pt x="2968" y="763"/>
                  </a:lnTo>
                  <a:lnTo>
                    <a:pt x="2972" y="783"/>
                  </a:lnTo>
                  <a:lnTo>
                    <a:pt x="2979" y="801"/>
                  </a:lnTo>
                  <a:lnTo>
                    <a:pt x="2989" y="821"/>
                  </a:lnTo>
                  <a:lnTo>
                    <a:pt x="3001" y="800"/>
                  </a:lnTo>
                  <a:lnTo>
                    <a:pt x="3017" y="779"/>
                  </a:lnTo>
                  <a:lnTo>
                    <a:pt x="3030" y="755"/>
                  </a:lnTo>
                  <a:lnTo>
                    <a:pt x="3046" y="732"/>
                  </a:lnTo>
                  <a:lnTo>
                    <a:pt x="3061" y="711"/>
                  </a:lnTo>
                  <a:lnTo>
                    <a:pt x="3081" y="695"/>
                  </a:lnTo>
                  <a:lnTo>
                    <a:pt x="3103" y="684"/>
                  </a:lnTo>
                  <a:lnTo>
                    <a:pt x="3129" y="684"/>
                  </a:lnTo>
                  <a:lnTo>
                    <a:pt x="3171" y="684"/>
                  </a:lnTo>
                  <a:lnTo>
                    <a:pt x="3210" y="694"/>
                  </a:lnTo>
                  <a:lnTo>
                    <a:pt x="3246" y="709"/>
                  </a:lnTo>
                  <a:lnTo>
                    <a:pt x="3280" y="733"/>
                  </a:lnTo>
                  <a:lnTo>
                    <a:pt x="3310" y="760"/>
                  </a:lnTo>
                  <a:lnTo>
                    <a:pt x="3339" y="793"/>
                  </a:lnTo>
                  <a:lnTo>
                    <a:pt x="3366" y="827"/>
                  </a:lnTo>
                  <a:lnTo>
                    <a:pt x="3391" y="865"/>
                  </a:lnTo>
                  <a:lnTo>
                    <a:pt x="3397" y="882"/>
                  </a:lnTo>
                  <a:lnTo>
                    <a:pt x="3402" y="902"/>
                  </a:lnTo>
                  <a:lnTo>
                    <a:pt x="3405" y="922"/>
                  </a:lnTo>
                  <a:lnTo>
                    <a:pt x="3405" y="943"/>
                  </a:lnTo>
                  <a:lnTo>
                    <a:pt x="3401" y="963"/>
                  </a:lnTo>
                  <a:lnTo>
                    <a:pt x="3397" y="983"/>
                  </a:lnTo>
                  <a:lnTo>
                    <a:pt x="3390" y="1001"/>
                  </a:lnTo>
                  <a:lnTo>
                    <a:pt x="3382" y="1019"/>
                  </a:lnTo>
                  <a:lnTo>
                    <a:pt x="3377" y="1029"/>
                  </a:lnTo>
                  <a:lnTo>
                    <a:pt x="3372" y="1035"/>
                  </a:lnTo>
                  <a:lnTo>
                    <a:pt x="3366" y="1036"/>
                  </a:lnTo>
                  <a:lnTo>
                    <a:pt x="3359" y="1038"/>
                  </a:lnTo>
                  <a:lnTo>
                    <a:pt x="3351" y="1034"/>
                  </a:lnTo>
                  <a:lnTo>
                    <a:pt x="3343" y="1031"/>
                  </a:lnTo>
                  <a:lnTo>
                    <a:pt x="3335" y="1028"/>
                  </a:lnTo>
                  <a:lnTo>
                    <a:pt x="3328" y="1026"/>
                  </a:lnTo>
                  <a:lnTo>
                    <a:pt x="3297" y="1026"/>
                  </a:lnTo>
                  <a:lnTo>
                    <a:pt x="3265" y="1025"/>
                  </a:lnTo>
                  <a:lnTo>
                    <a:pt x="3230" y="1022"/>
                  </a:lnTo>
                  <a:lnTo>
                    <a:pt x="3197" y="1024"/>
                  </a:lnTo>
                  <a:lnTo>
                    <a:pt x="3163" y="1026"/>
                  </a:lnTo>
                  <a:lnTo>
                    <a:pt x="3132" y="1036"/>
                  </a:lnTo>
                  <a:lnTo>
                    <a:pt x="3104" y="1053"/>
                  </a:lnTo>
                  <a:lnTo>
                    <a:pt x="3081" y="1080"/>
                  </a:lnTo>
                  <a:lnTo>
                    <a:pt x="3077" y="1090"/>
                  </a:lnTo>
                  <a:lnTo>
                    <a:pt x="3079" y="1100"/>
                  </a:lnTo>
                  <a:lnTo>
                    <a:pt x="3081" y="1110"/>
                  </a:lnTo>
                  <a:lnTo>
                    <a:pt x="3087" y="1121"/>
                  </a:lnTo>
                  <a:lnTo>
                    <a:pt x="3095" y="1130"/>
                  </a:lnTo>
                  <a:lnTo>
                    <a:pt x="3105" y="1133"/>
                  </a:lnTo>
                  <a:lnTo>
                    <a:pt x="3113" y="1130"/>
                  </a:lnTo>
                  <a:lnTo>
                    <a:pt x="3123" y="1123"/>
                  </a:lnTo>
                  <a:lnTo>
                    <a:pt x="3132" y="1114"/>
                  </a:lnTo>
                  <a:lnTo>
                    <a:pt x="3142" y="1106"/>
                  </a:lnTo>
                  <a:lnTo>
                    <a:pt x="3151" y="1097"/>
                  </a:lnTo>
                  <a:lnTo>
                    <a:pt x="3162" y="1094"/>
                  </a:lnTo>
                  <a:lnTo>
                    <a:pt x="3187" y="1092"/>
                  </a:lnTo>
                  <a:lnTo>
                    <a:pt x="3213" y="1089"/>
                  </a:lnTo>
                  <a:lnTo>
                    <a:pt x="3238" y="1086"/>
                  </a:lnTo>
                  <a:lnTo>
                    <a:pt x="3265" y="1087"/>
                  </a:lnTo>
                  <a:lnTo>
                    <a:pt x="3289" y="1087"/>
                  </a:lnTo>
                  <a:lnTo>
                    <a:pt x="3313" y="1092"/>
                  </a:lnTo>
                  <a:lnTo>
                    <a:pt x="3335" y="1100"/>
                  </a:lnTo>
                  <a:lnTo>
                    <a:pt x="3358" y="1114"/>
                  </a:lnTo>
                  <a:lnTo>
                    <a:pt x="3363" y="1127"/>
                  </a:lnTo>
                  <a:lnTo>
                    <a:pt x="3370" y="1143"/>
                  </a:lnTo>
                  <a:lnTo>
                    <a:pt x="3376" y="1157"/>
                  </a:lnTo>
                  <a:lnTo>
                    <a:pt x="3381" y="1172"/>
                  </a:lnTo>
                  <a:lnTo>
                    <a:pt x="3383" y="1188"/>
                  </a:lnTo>
                  <a:lnTo>
                    <a:pt x="3385" y="1204"/>
                  </a:lnTo>
                  <a:lnTo>
                    <a:pt x="3381" y="1219"/>
                  </a:lnTo>
                  <a:lnTo>
                    <a:pt x="3376" y="1235"/>
                  </a:lnTo>
                  <a:lnTo>
                    <a:pt x="3370" y="1253"/>
                  </a:lnTo>
                  <a:lnTo>
                    <a:pt x="3361" y="1272"/>
                  </a:lnTo>
                  <a:lnTo>
                    <a:pt x="3348" y="1286"/>
                  </a:lnTo>
                  <a:lnTo>
                    <a:pt x="3335" y="1301"/>
                  </a:lnTo>
                  <a:lnTo>
                    <a:pt x="3321" y="1315"/>
                  </a:lnTo>
                  <a:lnTo>
                    <a:pt x="3311" y="1331"/>
                  </a:lnTo>
                  <a:lnTo>
                    <a:pt x="3304" y="1347"/>
                  </a:lnTo>
                  <a:lnTo>
                    <a:pt x="3301" y="1366"/>
                  </a:lnTo>
                  <a:lnTo>
                    <a:pt x="3320" y="1364"/>
                  </a:lnTo>
                  <a:lnTo>
                    <a:pt x="3340" y="1357"/>
                  </a:lnTo>
                  <a:lnTo>
                    <a:pt x="3361" y="1345"/>
                  </a:lnTo>
                  <a:lnTo>
                    <a:pt x="3381" y="1335"/>
                  </a:lnTo>
                  <a:lnTo>
                    <a:pt x="3400" y="1325"/>
                  </a:lnTo>
                  <a:lnTo>
                    <a:pt x="3420" y="1323"/>
                  </a:lnTo>
                  <a:lnTo>
                    <a:pt x="3442" y="1325"/>
                  </a:lnTo>
                  <a:lnTo>
                    <a:pt x="3466" y="1340"/>
                  </a:lnTo>
                  <a:lnTo>
                    <a:pt x="3476" y="1352"/>
                  </a:lnTo>
                  <a:lnTo>
                    <a:pt x="3485" y="1366"/>
                  </a:lnTo>
                  <a:lnTo>
                    <a:pt x="3491" y="1382"/>
                  </a:lnTo>
                  <a:lnTo>
                    <a:pt x="3497" y="1399"/>
                  </a:lnTo>
                  <a:lnTo>
                    <a:pt x="3500" y="1416"/>
                  </a:lnTo>
                  <a:lnTo>
                    <a:pt x="3500" y="1433"/>
                  </a:lnTo>
                  <a:lnTo>
                    <a:pt x="3497" y="1450"/>
                  </a:lnTo>
                  <a:lnTo>
                    <a:pt x="3494" y="1467"/>
                  </a:lnTo>
                  <a:lnTo>
                    <a:pt x="3485" y="1477"/>
                  </a:lnTo>
                  <a:lnTo>
                    <a:pt x="3477" y="1490"/>
                  </a:lnTo>
                  <a:lnTo>
                    <a:pt x="3469" y="1500"/>
                  </a:lnTo>
                  <a:lnTo>
                    <a:pt x="3462" y="1512"/>
                  </a:lnTo>
                  <a:lnTo>
                    <a:pt x="3452" y="1524"/>
                  </a:lnTo>
                  <a:lnTo>
                    <a:pt x="3444" y="1536"/>
                  </a:lnTo>
                  <a:lnTo>
                    <a:pt x="3434" y="1549"/>
                  </a:lnTo>
                  <a:lnTo>
                    <a:pt x="3426" y="1562"/>
                  </a:lnTo>
                  <a:lnTo>
                    <a:pt x="3433" y="1569"/>
                  </a:lnTo>
                  <a:lnTo>
                    <a:pt x="3442" y="1579"/>
                  </a:lnTo>
                  <a:lnTo>
                    <a:pt x="3466" y="1576"/>
                  </a:lnTo>
                  <a:lnTo>
                    <a:pt x="3491" y="1577"/>
                  </a:lnTo>
                  <a:lnTo>
                    <a:pt x="3516" y="1580"/>
                  </a:lnTo>
                  <a:lnTo>
                    <a:pt x="3540" y="1587"/>
                  </a:lnTo>
                  <a:lnTo>
                    <a:pt x="3562" y="1597"/>
                  </a:lnTo>
                  <a:lnTo>
                    <a:pt x="3583" y="1611"/>
                  </a:lnTo>
                  <a:lnTo>
                    <a:pt x="3602" y="1628"/>
                  </a:lnTo>
                  <a:lnTo>
                    <a:pt x="3619" y="1653"/>
                  </a:lnTo>
                  <a:lnTo>
                    <a:pt x="3628" y="1672"/>
                  </a:lnTo>
                  <a:lnTo>
                    <a:pt x="3635" y="1694"/>
                  </a:lnTo>
                  <a:lnTo>
                    <a:pt x="3642" y="1715"/>
                  </a:lnTo>
                  <a:lnTo>
                    <a:pt x="3647" y="1739"/>
                  </a:lnTo>
                  <a:lnTo>
                    <a:pt x="3649" y="1762"/>
                  </a:lnTo>
                  <a:lnTo>
                    <a:pt x="3652" y="1786"/>
                  </a:lnTo>
                  <a:lnTo>
                    <a:pt x="3650" y="1808"/>
                  </a:lnTo>
                  <a:lnTo>
                    <a:pt x="3649" y="1834"/>
                  </a:lnTo>
                  <a:lnTo>
                    <a:pt x="3639" y="1847"/>
                  </a:lnTo>
                  <a:lnTo>
                    <a:pt x="3631" y="1862"/>
                  </a:lnTo>
                  <a:lnTo>
                    <a:pt x="3623" y="1875"/>
                  </a:lnTo>
                  <a:lnTo>
                    <a:pt x="3614" y="1891"/>
                  </a:lnTo>
                  <a:lnTo>
                    <a:pt x="3602" y="1902"/>
                  </a:lnTo>
                  <a:lnTo>
                    <a:pt x="3592" y="1915"/>
                  </a:lnTo>
                  <a:lnTo>
                    <a:pt x="3581" y="1923"/>
                  </a:lnTo>
                  <a:lnTo>
                    <a:pt x="3568" y="1932"/>
                  </a:lnTo>
                  <a:close/>
                </a:path>
              </a:pathLst>
            </a:custGeom>
            <a:solidFill>
              <a:srgbClr val="4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27840" y="1759320"/>
              <a:ext cx="4212360" cy="3965760"/>
            </a:xfrm>
            <a:custGeom>
              <a:avLst/>
              <a:gdLst/>
              <a:ahLst/>
              <a:rect l="l" t="t" r="r" b="b"/>
              <a:pathLst>
                <a:path w="2367" h="3485">
                  <a:moveTo>
                    <a:pt x="2350" y="692"/>
                  </a:moveTo>
                  <a:lnTo>
                    <a:pt x="2293" y="720"/>
                  </a:lnTo>
                  <a:lnTo>
                    <a:pt x="2237" y="748"/>
                  </a:lnTo>
                  <a:lnTo>
                    <a:pt x="2181" y="777"/>
                  </a:lnTo>
                  <a:lnTo>
                    <a:pt x="2127" y="806"/>
                  </a:lnTo>
                  <a:lnTo>
                    <a:pt x="2071" y="836"/>
                  </a:lnTo>
                  <a:lnTo>
                    <a:pt x="2018" y="870"/>
                  </a:lnTo>
                  <a:lnTo>
                    <a:pt x="1966" y="907"/>
                  </a:lnTo>
                  <a:lnTo>
                    <a:pt x="1917" y="951"/>
                  </a:lnTo>
                  <a:lnTo>
                    <a:pt x="1890" y="979"/>
                  </a:lnTo>
                  <a:lnTo>
                    <a:pt x="1865" y="1009"/>
                  </a:lnTo>
                  <a:lnTo>
                    <a:pt x="1840" y="1039"/>
                  </a:lnTo>
                  <a:lnTo>
                    <a:pt x="1817" y="1070"/>
                  </a:lnTo>
                  <a:lnTo>
                    <a:pt x="1792" y="1100"/>
                  </a:lnTo>
                  <a:lnTo>
                    <a:pt x="1769" y="1131"/>
                  </a:lnTo>
                  <a:lnTo>
                    <a:pt x="1745" y="1165"/>
                  </a:lnTo>
                  <a:lnTo>
                    <a:pt x="1725" y="1200"/>
                  </a:lnTo>
                  <a:lnTo>
                    <a:pt x="1683" y="1275"/>
                  </a:lnTo>
                  <a:lnTo>
                    <a:pt x="1646" y="1352"/>
                  </a:lnTo>
                  <a:lnTo>
                    <a:pt x="1610" y="1428"/>
                  </a:lnTo>
                  <a:lnTo>
                    <a:pt x="1578" y="1509"/>
                  </a:lnTo>
                  <a:lnTo>
                    <a:pt x="1548" y="1590"/>
                  </a:lnTo>
                  <a:lnTo>
                    <a:pt x="1521" y="1672"/>
                  </a:lnTo>
                  <a:lnTo>
                    <a:pt x="1498" y="1757"/>
                  </a:lnTo>
                  <a:lnTo>
                    <a:pt x="1480" y="1843"/>
                  </a:lnTo>
                  <a:lnTo>
                    <a:pt x="1463" y="1931"/>
                  </a:lnTo>
                  <a:lnTo>
                    <a:pt x="1449" y="2023"/>
                  </a:lnTo>
                  <a:lnTo>
                    <a:pt x="1437" y="2115"/>
                  </a:lnTo>
                  <a:lnTo>
                    <a:pt x="1430" y="2210"/>
                  </a:lnTo>
                  <a:lnTo>
                    <a:pt x="1425" y="2304"/>
                  </a:lnTo>
                  <a:lnTo>
                    <a:pt x="1424" y="2397"/>
                  </a:lnTo>
                  <a:lnTo>
                    <a:pt x="1426" y="2489"/>
                  </a:lnTo>
                  <a:lnTo>
                    <a:pt x="1432" y="2583"/>
                  </a:lnTo>
                  <a:lnTo>
                    <a:pt x="1429" y="2625"/>
                  </a:lnTo>
                  <a:lnTo>
                    <a:pt x="1429" y="2670"/>
                  </a:lnTo>
                  <a:lnTo>
                    <a:pt x="1429" y="2713"/>
                  </a:lnTo>
                  <a:lnTo>
                    <a:pt x="1432" y="2758"/>
                  </a:lnTo>
                  <a:lnTo>
                    <a:pt x="1435" y="2801"/>
                  </a:lnTo>
                  <a:lnTo>
                    <a:pt x="1443" y="2845"/>
                  </a:lnTo>
                  <a:lnTo>
                    <a:pt x="1449" y="2889"/>
                  </a:lnTo>
                  <a:lnTo>
                    <a:pt x="1460" y="2932"/>
                  </a:lnTo>
                  <a:lnTo>
                    <a:pt x="1459" y="2952"/>
                  </a:lnTo>
                  <a:lnTo>
                    <a:pt x="1461" y="2972"/>
                  </a:lnTo>
                  <a:lnTo>
                    <a:pt x="1465" y="2990"/>
                  </a:lnTo>
                  <a:lnTo>
                    <a:pt x="1470" y="3010"/>
                  </a:lnTo>
                  <a:lnTo>
                    <a:pt x="1475" y="3027"/>
                  </a:lnTo>
                  <a:lnTo>
                    <a:pt x="1482" y="3047"/>
                  </a:lnTo>
                  <a:lnTo>
                    <a:pt x="1486" y="3066"/>
                  </a:lnTo>
                  <a:lnTo>
                    <a:pt x="1489" y="3087"/>
                  </a:lnTo>
                  <a:lnTo>
                    <a:pt x="1497" y="3121"/>
                  </a:lnTo>
                  <a:lnTo>
                    <a:pt x="1506" y="3155"/>
                  </a:lnTo>
                  <a:lnTo>
                    <a:pt x="1516" y="3189"/>
                  </a:lnTo>
                  <a:lnTo>
                    <a:pt x="1527" y="3224"/>
                  </a:lnTo>
                  <a:lnTo>
                    <a:pt x="1539" y="3257"/>
                  </a:lnTo>
                  <a:lnTo>
                    <a:pt x="1550" y="3289"/>
                  </a:lnTo>
                  <a:lnTo>
                    <a:pt x="1561" y="3322"/>
                  </a:lnTo>
                  <a:lnTo>
                    <a:pt x="1574" y="3356"/>
                  </a:lnTo>
                  <a:lnTo>
                    <a:pt x="1526" y="3461"/>
                  </a:lnTo>
                  <a:lnTo>
                    <a:pt x="1512" y="3445"/>
                  </a:lnTo>
                  <a:lnTo>
                    <a:pt x="1502" y="3430"/>
                  </a:lnTo>
                  <a:lnTo>
                    <a:pt x="1492" y="3413"/>
                  </a:lnTo>
                  <a:lnTo>
                    <a:pt x="1483" y="3396"/>
                  </a:lnTo>
                  <a:lnTo>
                    <a:pt x="1473" y="3376"/>
                  </a:lnTo>
                  <a:lnTo>
                    <a:pt x="1463" y="3359"/>
                  </a:lnTo>
                  <a:lnTo>
                    <a:pt x="1450" y="3340"/>
                  </a:lnTo>
                  <a:lnTo>
                    <a:pt x="1439" y="3326"/>
                  </a:lnTo>
                  <a:lnTo>
                    <a:pt x="1427" y="3329"/>
                  </a:lnTo>
                  <a:lnTo>
                    <a:pt x="1416" y="3335"/>
                  </a:lnTo>
                  <a:lnTo>
                    <a:pt x="1405" y="3343"/>
                  </a:lnTo>
                  <a:lnTo>
                    <a:pt x="1394" y="3353"/>
                  </a:lnTo>
                  <a:lnTo>
                    <a:pt x="1383" y="3363"/>
                  </a:lnTo>
                  <a:lnTo>
                    <a:pt x="1373" y="3374"/>
                  </a:lnTo>
                  <a:lnTo>
                    <a:pt x="1363" y="3386"/>
                  </a:lnTo>
                  <a:lnTo>
                    <a:pt x="1355" y="3397"/>
                  </a:lnTo>
                  <a:lnTo>
                    <a:pt x="1350" y="3407"/>
                  </a:lnTo>
                  <a:lnTo>
                    <a:pt x="1343" y="3417"/>
                  </a:lnTo>
                  <a:lnTo>
                    <a:pt x="1335" y="3400"/>
                  </a:lnTo>
                  <a:lnTo>
                    <a:pt x="1327" y="3383"/>
                  </a:lnTo>
                  <a:lnTo>
                    <a:pt x="1317" y="3367"/>
                  </a:lnTo>
                  <a:lnTo>
                    <a:pt x="1308" y="3353"/>
                  </a:lnTo>
                  <a:lnTo>
                    <a:pt x="1297" y="3338"/>
                  </a:lnTo>
                  <a:lnTo>
                    <a:pt x="1286" y="3325"/>
                  </a:lnTo>
                  <a:lnTo>
                    <a:pt x="1272" y="3312"/>
                  </a:lnTo>
                  <a:lnTo>
                    <a:pt x="1259" y="3302"/>
                  </a:lnTo>
                  <a:lnTo>
                    <a:pt x="1249" y="3315"/>
                  </a:lnTo>
                  <a:lnTo>
                    <a:pt x="1241" y="3328"/>
                  </a:lnTo>
                  <a:lnTo>
                    <a:pt x="1232" y="3340"/>
                  </a:lnTo>
                  <a:lnTo>
                    <a:pt x="1225" y="3355"/>
                  </a:lnTo>
                  <a:lnTo>
                    <a:pt x="1217" y="3367"/>
                  </a:lnTo>
                  <a:lnTo>
                    <a:pt x="1210" y="3381"/>
                  </a:lnTo>
                  <a:lnTo>
                    <a:pt x="1202" y="3396"/>
                  </a:lnTo>
                  <a:lnTo>
                    <a:pt x="1196" y="3410"/>
                  </a:lnTo>
                  <a:lnTo>
                    <a:pt x="1173" y="3390"/>
                  </a:lnTo>
                  <a:lnTo>
                    <a:pt x="1150" y="3370"/>
                  </a:lnTo>
                  <a:lnTo>
                    <a:pt x="1129" y="3350"/>
                  </a:lnTo>
                  <a:lnTo>
                    <a:pt x="1107" y="3333"/>
                  </a:lnTo>
                  <a:lnTo>
                    <a:pt x="1084" y="3315"/>
                  </a:lnTo>
                  <a:lnTo>
                    <a:pt x="1062" y="3299"/>
                  </a:lnTo>
                  <a:lnTo>
                    <a:pt x="1038" y="3285"/>
                  </a:lnTo>
                  <a:lnTo>
                    <a:pt x="1015" y="3275"/>
                  </a:lnTo>
                  <a:lnTo>
                    <a:pt x="1007" y="3282"/>
                  </a:lnTo>
                  <a:lnTo>
                    <a:pt x="1005" y="3291"/>
                  </a:lnTo>
                  <a:lnTo>
                    <a:pt x="1005" y="3298"/>
                  </a:lnTo>
                  <a:lnTo>
                    <a:pt x="1009" y="3306"/>
                  </a:lnTo>
                  <a:lnTo>
                    <a:pt x="1002" y="3328"/>
                  </a:lnTo>
                  <a:lnTo>
                    <a:pt x="998" y="3350"/>
                  </a:lnTo>
                  <a:lnTo>
                    <a:pt x="997" y="3374"/>
                  </a:lnTo>
                  <a:lnTo>
                    <a:pt x="996" y="3400"/>
                  </a:lnTo>
                  <a:lnTo>
                    <a:pt x="992" y="3423"/>
                  </a:lnTo>
                  <a:lnTo>
                    <a:pt x="986" y="3445"/>
                  </a:lnTo>
                  <a:lnTo>
                    <a:pt x="976" y="3465"/>
                  </a:lnTo>
                  <a:lnTo>
                    <a:pt x="960" y="3485"/>
                  </a:lnTo>
                  <a:lnTo>
                    <a:pt x="949" y="3462"/>
                  </a:lnTo>
                  <a:lnTo>
                    <a:pt x="939" y="3442"/>
                  </a:lnTo>
                  <a:lnTo>
                    <a:pt x="928" y="3421"/>
                  </a:lnTo>
                  <a:lnTo>
                    <a:pt x="917" y="3403"/>
                  </a:lnTo>
                  <a:lnTo>
                    <a:pt x="906" y="3383"/>
                  </a:lnTo>
                  <a:lnTo>
                    <a:pt x="895" y="3363"/>
                  </a:lnTo>
                  <a:lnTo>
                    <a:pt x="883" y="3343"/>
                  </a:lnTo>
                  <a:lnTo>
                    <a:pt x="874" y="3323"/>
                  </a:lnTo>
                  <a:lnTo>
                    <a:pt x="867" y="3321"/>
                  </a:lnTo>
                  <a:lnTo>
                    <a:pt x="861" y="3326"/>
                  </a:lnTo>
                  <a:lnTo>
                    <a:pt x="855" y="3332"/>
                  </a:lnTo>
                  <a:lnTo>
                    <a:pt x="853" y="3339"/>
                  </a:lnTo>
                  <a:lnTo>
                    <a:pt x="850" y="3346"/>
                  </a:lnTo>
                  <a:lnTo>
                    <a:pt x="848" y="3355"/>
                  </a:lnTo>
                  <a:lnTo>
                    <a:pt x="843" y="3362"/>
                  </a:lnTo>
                  <a:lnTo>
                    <a:pt x="839" y="3369"/>
                  </a:lnTo>
                  <a:lnTo>
                    <a:pt x="829" y="3383"/>
                  </a:lnTo>
                  <a:lnTo>
                    <a:pt x="823" y="3397"/>
                  </a:lnTo>
                  <a:lnTo>
                    <a:pt x="816" y="3407"/>
                  </a:lnTo>
                  <a:lnTo>
                    <a:pt x="810" y="3418"/>
                  </a:lnTo>
                  <a:lnTo>
                    <a:pt x="804" y="3430"/>
                  </a:lnTo>
                  <a:lnTo>
                    <a:pt x="797" y="3442"/>
                  </a:lnTo>
                  <a:lnTo>
                    <a:pt x="790" y="3452"/>
                  </a:lnTo>
                  <a:lnTo>
                    <a:pt x="782" y="3462"/>
                  </a:lnTo>
                  <a:lnTo>
                    <a:pt x="774" y="3471"/>
                  </a:lnTo>
                  <a:lnTo>
                    <a:pt x="768" y="3481"/>
                  </a:lnTo>
                  <a:lnTo>
                    <a:pt x="762" y="3471"/>
                  </a:lnTo>
                  <a:lnTo>
                    <a:pt x="766" y="3464"/>
                  </a:lnTo>
                  <a:lnTo>
                    <a:pt x="769" y="3454"/>
                  </a:lnTo>
                  <a:lnTo>
                    <a:pt x="772" y="3444"/>
                  </a:lnTo>
                  <a:lnTo>
                    <a:pt x="792" y="3397"/>
                  </a:lnTo>
                  <a:lnTo>
                    <a:pt x="817" y="3352"/>
                  </a:lnTo>
                  <a:lnTo>
                    <a:pt x="843" y="3308"/>
                  </a:lnTo>
                  <a:lnTo>
                    <a:pt x="871" y="3264"/>
                  </a:lnTo>
                  <a:lnTo>
                    <a:pt x="896" y="3217"/>
                  </a:lnTo>
                  <a:lnTo>
                    <a:pt x="921" y="3172"/>
                  </a:lnTo>
                  <a:lnTo>
                    <a:pt x="941" y="3125"/>
                  </a:lnTo>
                  <a:lnTo>
                    <a:pt x="958" y="3077"/>
                  </a:lnTo>
                  <a:lnTo>
                    <a:pt x="976" y="3017"/>
                  </a:lnTo>
                  <a:lnTo>
                    <a:pt x="993" y="2958"/>
                  </a:lnTo>
                  <a:lnTo>
                    <a:pt x="1007" y="2897"/>
                  </a:lnTo>
                  <a:lnTo>
                    <a:pt x="1022" y="2838"/>
                  </a:lnTo>
                  <a:lnTo>
                    <a:pt x="1033" y="2774"/>
                  </a:lnTo>
                  <a:lnTo>
                    <a:pt x="1041" y="2711"/>
                  </a:lnTo>
                  <a:lnTo>
                    <a:pt x="1045" y="2646"/>
                  </a:lnTo>
                  <a:lnTo>
                    <a:pt x="1048" y="2583"/>
                  </a:lnTo>
                  <a:lnTo>
                    <a:pt x="1048" y="2566"/>
                  </a:lnTo>
                  <a:lnTo>
                    <a:pt x="1050" y="2550"/>
                  </a:lnTo>
                  <a:lnTo>
                    <a:pt x="1052" y="2534"/>
                  </a:lnTo>
                  <a:lnTo>
                    <a:pt x="1053" y="2519"/>
                  </a:lnTo>
                  <a:lnTo>
                    <a:pt x="1052" y="2502"/>
                  </a:lnTo>
                  <a:lnTo>
                    <a:pt x="1052" y="2485"/>
                  </a:lnTo>
                  <a:lnTo>
                    <a:pt x="1049" y="2469"/>
                  </a:lnTo>
                  <a:lnTo>
                    <a:pt x="1045" y="2455"/>
                  </a:lnTo>
                  <a:lnTo>
                    <a:pt x="1044" y="2380"/>
                  </a:lnTo>
                  <a:lnTo>
                    <a:pt x="1043" y="2306"/>
                  </a:lnTo>
                  <a:lnTo>
                    <a:pt x="1040" y="2231"/>
                  </a:lnTo>
                  <a:lnTo>
                    <a:pt x="1038" y="2158"/>
                  </a:lnTo>
                  <a:lnTo>
                    <a:pt x="1033" y="2084"/>
                  </a:lnTo>
                  <a:lnTo>
                    <a:pt x="1026" y="2012"/>
                  </a:lnTo>
                  <a:lnTo>
                    <a:pt x="1017" y="1940"/>
                  </a:lnTo>
                  <a:lnTo>
                    <a:pt x="1006" y="1870"/>
                  </a:lnTo>
                  <a:lnTo>
                    <a:pt x="986" y="1791"/>
                  </a:lnTo>
                  <a:lnTo>
                    <a:pt x="963" y="1713"/>
                  </a:lnTo>
                  <a:lnTo>
                    <a:pt x="934" y="1636"/>
                  </a:lnTo>
                  <a:lnTo>
                    <a:pt x="901" y="1564"/>
                  </a:lnTo>
                  <a:lnTo>
                    <a:pt x="861" y="1493"/>
                  </a:lnTo>
                  <a:lnTo>
                    <a:pt x="816" y="1427"/>
                  </a:lnTo>
                  <a:lnTo>
                    <a:pt x="766" y="1366"/>
                  </a:lnTo>
                  <a:lnTo>
                    <a:pt x="709" y="1311"/>
                  </a:lnTo>
                  <a:lnTo>
                    <a:pt x="625" y="1244"/>
                  </a:lnTo>
                  <a:lnTo>
                    <a:pt x="545" y="1179"/>
                  </a:lnTo>
                  <a:lnTo>
                    <a:pt x="463" y="1112"/>
                  </a:lnTo>
                  <a:lnTo>
                    <a:pt x="382" y="1051"/>
                  </a:lnTo>
                  <a:lnTo>
                    <a:pt x="297" y="992"/>
                  </a:lnTo>
                  <a:lnTo>
                    <a:pt x="213" y="938"/>
                  </a:lnTo>
                  <a:lnTo>
                    <a:pt x="124" y="891"/>
                  </a:lnTo>
                  <a:lnTo>
                    <a:pt x="33" y="853"/>
                  </a:lnTo>
                  <a:lnTo>
                    <a:pt x="27" y="846"/>
                  </a:lnTo>
                  <a:lnTo>
                    <a:pt x="22" y="842"/>
                  </a:lnTo>
                  <a:lnTo>
                    <a:pt x="14" y="839"/>
                  </a:lnTo>
                  <a:lnTo>
                    <a:pt x="8" y="836"/>
                  </a:lnTo>
                  <a:lnTo>
                    <a:pt x="1" y="830"/>
                  </a:lnTo>
                  <a:lnTo>
                    <a:pt x="0" y="825"/>
                  </a:lnTo>
                  <a:lnTo>
                    <a:pt x="0" y="816"/>
                  </a:lnTo>
                  <a:lnTo>
                    <a:pt x="5" y="806"/>
                  </a:lnTo>
                  <a:lnTo>
                    <a:pt x="24" y="806"/>
                  </a:lnTo>
                  <a:lnTo>
                    <a:pt x="46" y="812"/>
                  </a:lnTo>
                  <a:lnTo>
                    <a:pt x="65" y="816"/>
                  </a:lnTo>
                  <a:lnTo>
                    <a:pt x="86" y="822"/>
                  </a:lnTo>
                  <a:lnTo>
                    <a:pt x="105" y="823"/>
                  </a:lnTo>
                  <a:lnTo>
                    <a:pt x="125" y="822"/>
                  </a:lnTo>
                  <a:lnTo>
                    <a:pt x="143" y="813"/>
                  </a:lnTo>
                  <a:lnTo>
                    <a:pt x="162" y="796"/>
                  </a:lnTo>
                  <a:lnTo>
                    <a:pt x="170" y="788"/>
                  </a:lnTo>
                  <a:lnTo>
                    <a:pt x="179" y="779"/>
                  </a:lnTo>
                  <a:lnTo>
                    <a:pt x="187" y="771"/>
                  </a:lnTo>
                  <a:lnTo>
                    <a:pt x="198" y="762"/>
                  </a:lnTo>
                  <a:lnTo>
                    <a:pt x="204" y="751"/>
                  </a:lnTo>
                  <a:lnTo>
                    <a:pt x="211" y="740"/>
                  </a:lnTo>
                  <a:lnTo>
                    <a:pt x="217" y="727"/>
                  </a:lnTo>
                  <a:lnTo>
                    <a:pt x="219" y="716"/>
                  </a:lnTo>
                  <a:lnTo>
                    <a:pt x="258" y="716"/>
                  </a:lnTo>
                  <a:lnTo>
                    <a:pt x="286" y="757"/>
                  </a:lnTo>
                  <a:lnTo>
                    <a:pt x="318" y="799"/>
                  </a:lnTo>
                  <a:lnTo>
                    <a:pt x="352" y="840"/>
                  </a:lnTo>
                  <a:lnTo>
                    <a:pt x="390" y="879"/>
                  </a:lnTo>
                  <a:lnTo>
                    <a:pt x="427" y="911"/>
                  </a:lnTo>
                  <a:lnTo>
                    <a:pt x="468" y="939"/>
                  </a:lnTo>
                  <a:lnTo>
                    <a:pt x="510" y="961"/>
                  </a:lnTo>
                  <a:lnTo>
                    <a:pt x="556" y="978"/>
                  </a:lnTo>
                  <a:lnTo>
                    <a:pt x="567" y="978"/>
                  </a:lnTo>
                  <a:lnTo>
                    <a:pt x="578" y="978"/>
                  </a:lnTo>
                  <a:lnTo>
                    <a:pt x="588" y="975"/>
                  </a:lnTo>
                  <a:lnTo>
                    <a:pt x="599" y="972"/>
                  </a:lnTo>
                  <a:lnTo>
                    <a:pt x="607" y="966"/>
                  </a:lnTo>
                  <a:lnTo>
                    <a:pt x="616" y="959"/>
                  </a:lnTo>
                  <a:lnTo>
                    <a:pt x="623" y="949"/>
                  </a:lnTo>
                  <a:lnTo>
                    <a:pt x="630" y="941"/>
                  </a:lnTo>
                  <a:lnTo>
                    <a:pt x="640" y="914"/>
                  </a:lnTo>
                  <a:lnTo>
                    <a:pt x="645" y="887"/>
                  </a:lnTo>
                  <a:lnTo>
                    <a:pt x="647" y="860"/>
                  </a:lnTo>
                  <a:lnTo>
                    <a:pt x="644" y="833"/>
                  </a:lnTo>
                  <a:lnTo>
                    <a:pt x="638" y="804"/>
                  </a:lnTo>
                  <a:lnTo>
                    <a:pt x="632" y="777"/>
                  </a:lnTo>
                  <a:lnTo>
                    <a:pt x="626" y="748"/>
                  </a:lnTo>
                  <a:lnTo>
                    <a:pt x="624" y="723"/>
                  </a:lnTo>
                  <a:lnTo>
                    <a:pt x="615" y="666"/>
                  </a:lnTo>
                  <a:lnTo>
                    <a:pt x="604" y="611"/>
                  </a:lnTo>
                  <a:lnTo>
                    <a:pt x="590" y="556"/>
                  </a:lnTo>
                  <a:lnTo>
                    <a:pt x="577" y="503"/>
                  </a:lnTo>
                  <a:lnTo>
                    <a:pt x="562" y="449"/>
                  </a:lnTo>
                  <a:lnTo>
                    <a:pt x="551" y="396"/>
                  </a:lnTo>
                  <a:lnTo>
                    <a:pt x="539" y="340"/>
                  </a:lnTo>
                  <a:lnTo>
                    <a:pt x="532" y="285"/>
                  </a:lnTo>
                  <a:lnTo>
                    <a:pt x="540" y="277"/>
                  </a:lnTo>
                  <a:lnTo>
                    <a:pt x="551" y="270"/>
                  </a:lnTo>
                  <a:lnTo>
                    <a:pt x="559" y="261"/>
                  </a:lnTo>
                  <a:lnTo>
                    <a:pt x="570" y="253"/>
                  </a:lnTo>
                  <a:lnTo>
                    <a:pt x="578" y="243"/>
                  </a:lnTo>
                  <a:lnTo>
                    <a:pt x="587" y="233"/>
                  </a:lnTo>
                  <a:lnTo>
                    <a:pt x="596" y="224"/>
                  </a:lnTo>
                  <a:lnTo>
                    <a:pt x="606" y="217"/>
                  </a:lnTo>
                  <a:lnTo>
                    <a:pt x="616" y="223"/>
                  </a:lnTo>
                  <a:lnTo>
                    <a:pt x="628" y="230"/>
                  </a:lnTo>
                  <a:lnTo>
                    <a:pt x="639" y="234"/>
                  </a:lnTo>
                  <a:lnTo>
                    <a:pt x="652" y="240"/>
                  </a:lnTo>
                  <a:lnTo>
                    <a:pt x="664" y="241"/>
                  </a:lnTo>
                  <a:lnTo>
                    <a:pt x="678" y="244"/>
                  </a:lnTo>
                  <a:lnTo>
                    <a:pt x="691" y="244"/>
                  </a:lnTo>
                  <a:lnTo>
                    <a:pt x="706" y="244"/>
                  </a:lnTo>
                  <a:lnTo>
                    <a:pt x="720" y="236"/>
                  </a:lnTo>
                  <a:lnTo>
                    <a:pt x="734" y="228"/>
                  </a:lnTo>
                  <a:lnTo>
                    <a:pt x="747" y="219"/>
                  </a:lnTo>
                  <a:lnTo>
                    <a:pt x="761" y="209"/>
                  </a:lnTo>
                  <a:lnTo>
                    <a:pt x="771" y="196"/>
                  </a:lnTo>
                  <a:lnTo>
                    <a:pt x="782" y="183"/>
                  </a:lnTo>
                  <a:lnTo>
                    <a:pt x="792" y="168"/>
                  </a:lnTo>
                  <a:lnTo>
                    <a:pt x="802" y="153"/>
                  </a:lnTo>
                  <a:lnTo>
                    <a:pt x="815" y="163"/>
                  </a:lnTo>
                  <a:lnTo>
                    <a:pt x="829" y="177"/>
                  </a:lnTo>
                  <a:lnTo>
                    <a:pt x="809" y="240"/>
                  </a:lnTo>
                  <a:lnTo>
                    <a:pt x="795" y="306"/>
                  </a:lnTo>
                  <a:lnTo>
                    <a:pt x="786" y="374"/>
                  </a:lnTo>
                  <a:lnTo>
                    <a:pt x="781" y="445"/>
                  </a:lnTo>
                  <a:lnTo>
                    <a:pt x="778" y="513"/>
                  </a:lnTo>
                  <a:lnTo>
                    <a:pt x="778" y="584"/>
                  </a:lnTo>
                  <a:lnTo>
                    <a:pt x="778" y="655"/>
                  </a:lnTo>
                  <a:lnTo>
                    <a:pt x="778" y="726"/>
                  </a:lnTo>
                  <a:lnTo>
                    <a:pt x="782" y="770"/>
                  </a:lnTo>
                  <a:lnTo>
                    <a:pt x="793" y="813"/>
                  </a:lnTo>
                  <a:lnTo>
                    <a:pt x="809" y="856"/>
                  </a:lnTo>
                  <a:lnTo>
                    <a:pt x="828" y="898"/>
                  </a:lnTo>
                  <a:lnTo>
                    <a:pt x="848" y="938"/>
                  </a:lnTo>
                  <a:lnTo>
                    <a:pt x="869" y="978"/>
                  </a:lnTo>
                  <a:lnTo>
                    <a:pt x="890" y="1017"/>
                  </a:lnTo>
                  <a:lnTo>
                    <a:pt x="910" y="1058"/>
                  </a:lnTo>
                  <a:lnTo>
                    <a:pt x="929" y="1091"/>
                  </a:lnTo>
                  <a:lnTo>
                    <a:pt x="948" y="1125"/>
                  </a:lnTo>
                  <a:lnTo>
                    <a:pt x="967" y="1160"/>
                  </a:lnTo>
                  <a:lnTo>
                    <a:pt x="987" y="1196"/>
                  </a:lnTo>
                  <a:lnTo>
                    <a:pt x="1006" y="1230"/>
                  </a:lnTo>
                  <a:lnTo>
                    <a:pt x="1028" y="1265"/>
                  </a:lnTo>
                  <a:lnTo>
                    <a:pt x="1049" y="1298"/>
                  </a:lnTo>
                  <a:lnTo>
                    <a:pt x="1076" y="1332"/>
                  </a:lnTo>
                  <a:lnTo>
                    <a:pt x="1096" y="1343"/>
                  </a:lnTo>
                  <a:lnTo>
                    <a:pt x="1117" y="1356"/>
                  </a:lnTo>
                  <a:lnTo>
                    <a:pt x="1140" y="1367"/>
                  </a:lnTo>
                  <a:lnTo>
                    <a:pt x="1163" y="1379"/>
                  </a:lnTo>
                  <a:lnTo>
                    <a:pt x="1186" y="1384"/>
                  </a:lnTo>
                  <a:lnTo>
                    <a:pt x="1208" y="1389"/>
                  </a:lnTo>
                  <a:lnTo>
                    <a:pt x="1232" y="1387"/>
                  </a:lnTo>
                  <a:lnTo>
                    <a:pt x="1259" y="1381"/>
                  </a:lnTo>
                  <a:lnTo>
                    <a:pt x="1288" y="1359"/>
                  </a:lnTo>
                  <a:lnTo>
                    <a:pt x="1315" y="1335"/>
                  </a:lnTo>
                  <a:lnTo>
                    <a:pt x="1338" y="1305"/>
                  </a:lnTo>
                  <a:lnTo>
                    <a:pt x="1360" y="1275"/>
                  </a:lnTo>
                  <a:lnTo>
                    <a:pt x="1379" y="1241"/>
                  </a:lnTo>
                  <a:lnTo>
                    <a:pt x="1400" y="1209"/>
                  </a:lnTo>
                  <a:lnTo>
                    <a:pt x="1418" y="1176"/>
                  </a:lnTo>
                  <a:lnTo>
                    <a:pt x="1439" y="1146"/>
                  </a:lnTo>
                  <a:lnTo>
                    <a:pt x="1486" y="1057"/>
                  </a:lnTo>
                  <a:lnTo>
                    <a:pt x="1536" y="969"/>
                  </a:lnTo>
                  <a:lnTo>
                    <a:pt x="1587" y="880"/>
                  </a:lnTo>
                  <a:lnTo>
                    <a:pt x="1640" y="794"/>
                  </a:lnTo>
                  <a:lnTo>
                    <a:pt x="1693" y="706"/>
                  </a:lnTo>
                  <a:lnTo>
                    <a:pt x="1750" y="621"/>
                  </a:lnTo>
                  <a:lnTo>
                    <a:pt x="1806" y="537"/>
                  </a:lnTo>
                  <a:lnTo>
                    <a:pt x="1865" y="456"/>
                  </a:lnTo>
                  <a:lnTo>
                    <a:pt x="1876" y="410"/>
                  </a:lnTo>
                  <a:lnTo>
                    <a:pt x="1884" y="364"/>
                  </a:lnTo>
                  <a:lnTo>
                    <a:pt x="1888" y="316"/>
                  </a:lnTo>
                  <a:lnTo>
                    <a:pt x="1889" y="268"/>
                  </a:lnTo>
                  <a:lnTo>
                    <a:pt x="1884" y="219"/>
                  </a:lnTo>
                  <a:lnTo>
                    <a:pt x="1876" y="170"/>
                  </a:lnTo>
                  <a:lnTo>
                    <a:pt x="1865" y="124"/>
                  </a:lnTo>
                  <a:lnTo>
                    <a:pt x="1850" y="83"/>
                  </a:lnTo>
                  <a:lnTo>
                    <a:pt x="1854" y="70"/>
                  </a:lnTo>
                  <a:lnTo>
                    <a:pt x="1859" y="61"/>
                  </a:lnTo>
                  <a:lnTo>
                    <a:pt x="1865" y="53"/>
                  </a:lnTo>
                  <a:lnTo>
                    <a:pt x="1873" y="44"/>
                  </a:lnTo>
                  <a:lnTo>
                    <a:pt x="1878" y="34"/>
                  </a:lnTo>
                  <a:lnTo>
                    <a:pt x="1884" y="24"/>
                  </a:lnTo>
                  <a:lnTo>
                    <a:pt x="1888" y="15"/>
                  </a:lnTo>
                  <a:lnTo>
                    <a:pt x="1893" y="6"/>
                  </a:lnTo>
                  <a:lnTo>
                    <a:pt x="1912" y="0"/>
                  </a:lnTo>
                  <a:lnTo>
                    <a:pt x="1923" y="5"/>
                  </a:lnTo>
                  <a:lnTo>
                    <a:pt x="1930" y="17"/>
                  </a:lnTo>
                  <a:lnTo>
                    <a:pt x="1932" y="34"/>
                  </a:lnTo>
                  <a:lnTo>
                    <a:pt x="1932" y="54"/>
                  </a:lnTo>
                  <a:lnTo>
                    <a:pt x="1933" y="74"/>
                  </a:lnTo>
                  <a:lnTo>
                    <a:pt x="1936" y="91"/>
                  </a:lnTo>
                  <a:lnTo>
                    <a:pt x="1944" y="107"/>
                  </a:lnTo>
                  <a:lnTo>
                    <a:pt x="1947" y="118"/>
                  </a:lnTo>
                  <a:lnTo>
                    <a:pt x="1952" y="132"/>
                  </a:lnTo>
                  <a:lnTo>
                    <a:pt x="1957" y="146"/>
                  </a:lnTo>
                  <a:lnTo>
                    <a:pt x="1965" y="160"/>
                  </a:lnTo>
                  <a:lnTo>
                    <a:pt x="1973" y="172"/>
                  </a:lnTo>
                  <a:lnTo>
                    <a:pt x="1983" y="182"/>
                  </a:lnTo>
                  <a:lnTo>
                    <a:pt x="1994" y="187"/>
                  </a:lnTo>
                  <a:lnTo>
                    <a:pt x="2009" y="190"/>
                  </a:lnTo>
                  <a:lnTo>
                    <a:pt x="2032" y="194"/>
                  </a:lnTo>
                  <a:lnTo>
                    <a:pt x="2054" y="193"/>
                  </a:lnTo>
                  <a:lnTo>
                    <a:pt x="2073" y="185"/>
                  </a:lnTo>
                  <a:lnTo>
                    <a:pt x="2090" y="175"/>
                  </a:lnTo>
                  <a:lnTo>
                    <a:pt x="2107" y="159"/>
                  </a:lnTo>
                  <a:lnTo>
                    <a:pt x="2123" y="145"/>
                  </a:lnTo>
                  <a:lnTo>
                    <a:pt x="2138" y="129"/>
                  </a:lnTo>
                  <a:lnTo>
                    <a:pt x="2157" y="117"/>
                  </a:lnTo>
                  <a:lnTo>
                    <a:pt x="2190" y="73"/>
                  </a:lnTo>
                  <a:lnTo>
                    <a:pt x="2200" y="74"/>
                  </a:lnTo>
                  <a:lnTo>
                    <a:pt x="2212" y="78"/>
                  </a:lnTo>
                  <a:lnTo>
                    <a:pt x="2223" y="81"/>
                  </a:lnTo>
                  <a:lnTo>
                    <a:pt x="2235" y="87"/>
                  </a:lnTo>
                  <a:lnTo>
                    <a:pt x="2176" y="145"/>
                  </a:lnTo>
                  <a:lnTo>
                    <a:pt x="2122" y="207"/>
                  </a:lnTo>
                  <a:lnTo>
                    <a:pt x="2069" y="271"/>
                  </a:lnTo>
                  <a:lnTo>
                    <a:pt x="2021" y="338"/>
                  </a:lnTo>
                  <a:lnTo>
                    <a:pt x="1971" y="404"/>
                  </a:lnTo>
                  <a:lnTo>
                    <a:pt x="1926" y="472"/>
                  </a:lnTo>
                  <a:lnTo>
                    <a:pt x="1880" y="543"/>
                  </a:lnTo>
                  <a:lnTo>
                    <a:pt x="1839" y="615"/>
                  </a:lnTo>
                  <a:lnTo>
                    <a:pt x="1831" y="628"/>
                  </a:lnTo>
                  <a:lnTo>
                    <a:pt x="1823" y="643"/>
                  </a:lnTo>
                  <a:lnTo>
                    <a:pt x="1817" y="660"/>
                  </a:lnTo>
                  <a:lnTo>
                    <a:pt x="1812" y="677"/>
                  </a:lnTo>
                  <a:lnTo>
                    <a:pt x="1808" y="694"/>
                  </a:lnTo>
                  <a:lnTo>
                    <a:pt x="1808" y="713"/>
                  </a:lnTo>
                  <a:lnTo>
                    <a:pt x="1812" y="730"/>
                  </a:lnTo>
                  <a:lnTo>
                    <a:pt x="1821" y="750"/>
                  </a:lnTo>
                  <a:lnTo>
                    <a:pt x="1835" y="755"/>
                  </a:lnTo>
                  <a:lnTo>
                    <a:pt x="1849" y="757"/>
                  </a:lnTo>
                  <a:lnTo>
                    <a:pt x="1863" y="753"/>
                  </a:lnTo>
                  <a:lnTo>
                    <a:pt x="1876" y="747"/>
                  </a:lnTo>
                  <a:lnTo>
                    <a:pt x="1889" y="737"/>
                  </a:lnTo>
                  <a:lnTo>
                    <a:pt x="1902" y="727"/>
                  </a:lnTo>
                  <a:lnTo>
                    <a:pt x="1914" y="716"/>
                  </a:lnTo>
                  <a:lnTo>
                    <a:pt x="1928" y="706"/>
                  </a:lnTo>
                  <a:lnTo>
                    <a:pt x="1935" y="699"/>
                  </a:lnTo>
                  <a:lnTo>
                    <a:pt x="1944" y="699"/>
                  </a:lnTo>
                  <a:lnTo>
                    <a:pt x="1963" y="685"/>
                  </a:lnTo>
                  <a:lnTo>
                    <a:pt x="1985" y="672"/>
                  </a:lnTo>
                  <a:lnTo>
                    <a:pt x="2008" y="660"/>
                  </a:lnTo>
                  <a:lnTo>
                    <a:pt x="2031" y="652"/>
                  </a:lnTo>
                  <a:lnTo>
                    <a:pt x="2054" y="642"/>
                  </a:lnTo>
                  <a:lnTo>
                    <a:pt x="2078" y="634"/>
                  </a:lnTo>
                  <a:lnTo>
                    <a:pt x="2100" y="624"/>
                  </a:lnTo>
                  <a:lnTo>
                    <a:pt x="2124" y="615"/>
                  </a:lnTo>
                  <a:lnTo>
                    <a:pt x="2146" y="607"/>
                  </a:lnTo>
                  <a:lnTo>
                    <a:pt x="2169" y="600"/>
                  </a:lnTo>
                  <a:lnTo>
                    <a:pt x="2193" y="594"/>
                  </a:lnTo>
                  <a:lnTo>
                    <a:pt x="2217" y="590"/>
                  </a:lnTo>
                  <a:lnTo>
                    <a:pt x="2240" y="583"/>
                  </a:lnTo>
                  <a:lnTo>
                    <a:pt x="2264" y="577"/>
                  </a:lnTo>
                  <a:lnTo>
                    <a:pt x="2286" y="568"/>
                  </a:lnTo>
                  <a:lnTo>
                    <a:pt x="2310" y="561"/>
                  </a:lnTo>
                  <a:lnTo>
                    <a:pt x="2316" y="567"/>
                  </a:lnTo>
                  <a:lnTo>
                    <a:pt x="2323" y="575"/>
                  </a:lnTo>
                  <a:lnTo>
                    <a:pt x="2328" y="583"/>
                  </a:lnTo>
                  <a:lnTo>
                    <a:pt x="2336" y="591"/>
                  </a:lnTo>
                  <a:lnTo>
                    <a:pt x="2342" y="598"/>
                  </a:lnTo>
                  <a:lnTo>
                    <a:pt x="2350" y="607"/>
                  </a:lnTo>
                  <a:lnTo>
                    <a:pt x="2357" y="612"/>
                  </a:lnTo>
                  <a:lnTo>
                    <a:pt x="2367" y="618"/>
                  </a:lnTo>
                  <a:lnTo>
                    <a:pt x="2364" y="626"/>
                  </a:lnTo>
                  <a:lnTo>
                    <a:pt x="2362" y="635"/>
                  </a:lnTo>
                  <a:lnTo>
                    <a:pt x="2359" y="645"/>
                  </a:lnTo>
                  <a:lnTo>
                    <a:pt x="2357" y="655"/>
                  </a:lnTo>
                  <a:lnTo>
                    <a:pt x="2355" y="663"/>
                  </a:lnTo>
                  <a:lnTo>
                    <a:pt x="2353" y="673"/>
                  </a:lnTo>
                  <a:lnTo>
                    <a:pt x="2351" y="682"/>
                  </a:lnTo>
                  <a:lnTo>
                    <a:pt x="2350" y="692"/>
                  </a:lnTo>
                  <a:close/>
                </a:path>
              </a:pathLst>
            </a:custGeom>
            <a:solidFill>
              <a:srgbClr val="ca8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12920" y="566640"/>
              <a:ext cx="3138840" cy="960120"/>
            </a:xfrm>
            <a:custGeom>
              <a:avLst/>
              <a:gdLst/>
              <a:ahLst/>
              <a:rect l="l" t="t" r="r" b="b"/>
              <a:pathLst>
                <a:path w="1764" h="846">
                  <a:moveTo>
                    <a:pt x="1742" y="636"/>
                  </a:moveTo>
                  <a:lnTo>
                    <a:pt x="1733" y="636"/>
                  </a:lnTo>
                  <a:lnTo>
                    <a:pt x="1722" y="619"/>
                  </a:lnTo>
                  <a:lnTo>
                    <a:pt x="1712" y="599"/>
                  </a:lnTo>
                  <a:lnTo>
                    <a:pt x="1702" y="580"/>
                  </a:lnTo>
                  <a:lnTo>
                    <a:pt x="1693" y="561"/>
                  </a:lnTo>
                  <a:lnTo>
                    <a:pt x="1680" y="544"/>
                  </a:lnTo>
                  <a:lnTo>
                    <a:pt x="1666" y="533"/>
                  </a:lnTo>
                  <a:lnTo>
                    <a:pt x="1648" y="529"/>
                  </a:lnTo>
                  <a:lnTo>
                    <a:pt x="1628" y="533"/>
                  </a:lnTo>
                  <a:lnTo>
                    <a:pt x="1613" y="540"/>
                  </a:lnTo>
                  <a:lnTo>
                    <a:pt x="1602" y="548"/>
                  </a:lnTo>
                  <a:lnTo>
                    <a:pt x="1590" y="558"/>
                  </a:lnTo>
                  <a:lnTo>
                    <a:pt x="1581" y="571"/>
                  </a:lnTo>
                  <a:lnTo>
                    <a:pt x="1571" y="584"/>
                  </a:lnTo>
                  <a:lnTo>
                    <a:pt x="1562" y="597"/>
                  </a:lnTo>
                  <a:lnTo>
                    <a:pt x="1552" y="609"/>
                  </a:lnTo>
                  <a:lnTo>
                    <a:pt x="1543" y="623"/>
                  </a:lnTo>
                  <a:lnTo>
                    <a:pt x="1532" y="619"/>
                  </a:lnTo>
                  <a:lnTo>
                    <a:pt x="1528" y="594"/>
                  </a:lnTo>
                  <a:lnTo>
                    <a:pt x="1524" y="570"/>
                  </a:lnTo>
                  <a:lnTo>
                    <a:pt x="1519" y="544"/>
                  </a:lnTo>
                  <a:lnTo>
                    <a:pt x="1516" y="523"/>
                  </a:lnTo>
                  <a:lnTo>
                    <a:pt x="1508" y="500"/>
                  </a:lnTo>
                  <a:lnTo>
                    <a:pt x="1497" y="480"/>
                  </a:lnTo>
                  <a:lnTo>
                    <a:pt x="1481" y="463"/>
                  </a:lnTo>
                  <a:lnTo>
                    <a:pt x="1462" y="452"/>
                  </a:lnTo>
                  <a:lnTo>
                    <a:pt x="1443" y="444"/>
                  </a:lnTo>
                  <a:lnTo>
                    <a:pt x="1424" y="441"/>
                  </a:lnTo>
                  <a:lnTo>
                    <a:pt x="1405" y="441"/>
                  </a:lnTo>
                  <a:lnTo>
                    <a:pt x="1388" y="446"/>
                  </a:lnTo>
                  <a:lnTo>
                    <a:pt x="1369" y="453"/>
                  </a:lnTo>
                  <a:lnTo>
                    <a:pt x="1352" y="465"/>
                  </a:lnTo>
                  <a:lnTo>
                    <a:pt x="1335" y="476"/>
                  </a:lnTo>
                  <a:lnTo>
                    <a:pt x="1321" y="492"/>
                  </a:lnTo>
                  <a:lnTo>
                    <a:pt x="1314" y="496"/>
                  </a:lnTo>
                  <a:lnTo>
                    <a:pt x="1311" y="504"/>
                  </a:lnTo>
                  <a:lnTo>
                    <a:pt x="1307" y="512"/>
                  </a:lnTo>
                  <a:lnTo>
                    <a:pt x="1303" y="520"/>
                  </a:lnTo>
                  <a:lnTo>
                    <a:pt x="1297" y="526"/>
                  </a:lnTo>
                  <a:lnTo>
                    <a:pt x="1292" y="533"/>
                  </a:lnTo>
                  <a:lnTo>
                    <a:pt x="1284" y="536"/>
                  </a:lnTo>
                  <a:lnTo>
                    <a:pt x="1276" y="538"/>
                  </a:lnTo>
                  <a:lnTo>
                    <a:pt x="1273" y="504"/>
                  </a:lnTo>
                  <a:lnTo>
                    <a:pt x="1270" y="470"/>
                  </a:lnTo>
                  <a:lnTo>
                    <a:pt x="1265" y="436"/>
                  </a:lnTo>
                  <a:lnTo>
                    <a:pt x="1259" y="403"/>
                  </a:lnTo>
                  <a:lnTo>
                    <a:pt x="1249" y="369"/>
                  </a:lnTo>
                  <a:lnTo>
                    <a:pt x="1237" y="339"/>
                  </a:lnTo>
                  <a:lnTo>
                    <a:pt x="1221" y="309"/>
                  </a:lnTo>
                  <a:lnTo>
                    <a:pt x="1200" y="284"/>
                  </a:lnTo>
                  <a:lnTo>
                    <a:pt x="1185" y="272"/>
                  </a:lnTo>
                  <a:lnTo>
                    <a:pt x="1171" y="264"/>
                  </a:lnTo>
                  <a:lnTo>
                    <a:pt x="1155" y="257"/>
                  </a:lnTo>
                  <a:lnTo>
                    <a:pt x="1138" y="252"/>
                  </a:lnTo>
                  <a:lnTo>
                    <a:pt x="1121" y="248"/>
                  </a:lnTo>
                  <a:lnTo>
                    <a:pt x="1103" y="250"/>
                  </a:lnTo>
                  <a:lnTo>
                    <a:pt x="1085" y="251"/>
                  </a:lnTo>
                  <a:lnTo>
                    <a:pt x="1069" y="257"/>
                  </a:lnTo>
                  <a:lnTo>
                    <a:pt x="1052" y="258"/>
                  </a:lnTo>
                  <a:lnTo>
                    <a:pt x="1041" y="269"/>
                  </a:lnTo>
                  <a:lnTo>
                    <a:pt x="1030" y="282"/>
                  </a:lnTo>
                  <a:lnTo>
                    <a:pt x="1021" y="296"/>
                  </a:lnTo>
                  <a:lnTo>
                    <a:pt x="1009" y="306"/>
                  </a:lnTo>
                  <a:lnTo>
                    <a:pt x="998" y="312"/>
                  </a:lnTo>
                  <a:lnTo>
                    <a:pt x="985" y="308"/>
                  </a:lnTo>
                  <a:lnTo>
                    <a:pt x="973" y="293"/>
                  </a:lnTo>
                  <a:lnTo>
                    <a:pt x="974" y="274"/>
                  </a:lnTo>
                  <a:lnTo>
                    <a:pt x="980" y="258"/>
                  </a:lnTo>
                  <a:lnTo>
                    <a:pt x="989" y="242"/>
                  </a:lnTo>
                  <a:lnTo>
                    <a:pt x="1002" y="231"/>
                  </a:lnTo>
                  <a:lnTo>
                    <a:pt x="1015" y="218"/>
                  </a:lnTo>
                  <a:lnTo>
                    <a:pt x="1030" y="210"/>
                  </a:lnTo>
                  <a:lnTo>
                    <a:pt x="1045" y="201"/>
                  </a:lnTo>
                  <a:lnTo>
                    <a:pt x="1060" y="196"/>
                  </a:lnTo>
                  <a:lnTo>
                    <a:pt x="1068" y="194"/>
                  </a:lnTo>
                  <a:lnTo>
                    <a:pt x="1071" y="190"/>
                  </a:lnTo>
                  <a:lnTo>
                    <a:pt x="1074" y="184"/>
                  </a:lnTo>
                  <a:lnTo>
                    <a:pt x="1075" y="177"/>
                  </a:lnTo>
                  <a:lnTo>
                    <a:pt x="1074" y="169"/>
                  </a:lnTo>
                  <a:lnTo>
                    <a:pt x="1074" y="160"/>
                  </a:lnTo>
                  <a:lnTo>
                    <a:pt x="1074" y="152"/>
                  </a:lnTo>
                  <a:lnTo>
                    <a:pt x="1075" y="146"/>
                  </a:lnTo>
                  <a:lnTo>
                    <a:pt x="1066" y="129"/>
                  </a:lnTo>
                  <a:lnTo>
                    <a:pt x="1058" y="114"/>
                  </a:lnTo>
                  <a:lnTo>
                    <a:pt x="1046" y="99"/>
                  </a:lnTo>
                  <a:lnTo>
                    <a:pt x="1036" y="87"/>
                  </a:lnTo>
                  <a:lnTo>
                    <a:pt x="1023" y="74"/>
                  </a:lnTo>
                  <a:lnTo>
                    <a:pt x="1011" y="64"/>
                  </a:lnTo>
                  <a:lnTo>
                    <a:pt x="996" y="57"/>
                  </a:lnTo>
                  <a:lnTo>
                    <a:pt x="982" y="54"/>
                  </a:lnTo>
                  <a:lnTo>
                    <a:pt x="949" y="64"/>
                  </a:lnTo>
                  <a:lnTo>
                    <a:pt x="922" y="84"/>
                  </a:lnTo>
                  <a:lnTo>
                    <a:pt x="899" y="108"/>
                  </a:lnTo>
                  <a:lnTo>
                    <a:pt x="882" y="138"/>
                  </a:lnTo>
                  <a:lnTo>
                    <a:pt x="865" y="169"/>
                  </a:lnTo>
                  <a:lnTo>
                    <a:pt x="850" y="201"/>
                  </a:lnTo>
                  <a:lnTo>
                    <a:pt x="836" y="233"/>
                  </a:lnTo>
                  <a:lnTo>
                    <a:pt x="822" y="264"/>
                  </a:lnTo>
                  <a:lnTo>
                    <a:pt x="812" y="259"/>
                  </a:lnTo>
                  <a:lnTo>
                    <a:pt x="806" y="254"/>
                  </a:lnTo>
                  <a:lnTo>
                    <a:pt x="801" y="245"/>
                  </a:lnTo>
                  <a:lnTo>
                    <a:pt x="799" y="238"/>
                  </a:lnTo>
                  <a:lnTo>
                    <a:pt x="797" y="228"/>
                  </a:lnTo>
                  <a:lnTo>
                    <a:pt x="796" y="220"/>
                  </a:lnTo>
                  <a:lnTo>
                    <a:pt x="794" y="210"/>
                  </a:lnTo>
                  <a:lnTo>
                    <a:pt x="792" y="203"/>
                  </a:lnTo>
                  <a:lnTo>
                    <a:pt x="787" y="191"/>
                  </a:lnTo>
                  <a:lnTo>
                    <a:pt x="783" y="182"/>
                  </a:lnTo>
                  <a:lnTo>
                    <a:pt x="779" y="172"/>
                  </a:lnTo>
                  <a:lnTo>
                    <a:pt x="775" y="163"/>
                  </a:lnTo>
                  <a:lnTo>
                    <a:pt x="769" y="155"/>
                  </a:lnTo>
                  <a:lnTo>
                    <a:pt x="763" y="146"/>
                  </a:lnTo>
                  <a:lnTo>
                    <a:pt x="755" y="139"/>
                  </a:lnTo>
                  <a:lnTo>
                    <a:pt x="748" y="135"/>
                  </a:lnTo>
                  <a:lnTo>
                    <a:pt x="736" y="131"/>
                  </a:lnTo>
                  <a:lnTo>
                    <a:pt x="725" y="131"/>
                  </a:lnTo>
                  <a:lnTo>
                    <a:pt x="715" y="131"/>
                  </a:lnTo>
                  <a:lnTo>
                    <a:pt x="705" y="135"/>
                  </a:lnTo>
                  <a:lnTo>
                    <a:pt x="694" y="139"/>
                  </a:lnTo>
                  <a:lnTo>
                    <a:pt x="686" y="143"/>
                  </a:lnTo>
                  <a:lnTo>
                    <a:pt x="675" y="146"/>
                  </a:lnTo>
                  <a:lnTo>
                    <a:pt x="667" y="149"/>
                  </a:lnTo>
                  <a:lnTo>
                    <a:pt x="654" y="159"/>
                  </a:lnTo>
                  <a:lnTo>
                    <a:pt x="645" y="173"/>
                  </a:lnTo>
                  <a:lnTo>
                    <a:pt x="640" y="186"/>
                  </a:lnTo>
                  <a:lnTo>
                    <a:pt x="639" y="201"/>
                  </a:lnTo>
                  <a:lnTo>
                    <a:pt x="636" y="214"/>
                  </a:lnTo>
                  <a:lnTo>
                    <a:pt x="635" y="230"/>
                  </a:lnTo>
                  <a:lnTo>
                    <a:pt x="631" y="244"/>
                  </a:lnTo>
                  <a:lnTo>
                    <a:pt x="627" y="259"/>
                  </a:lnTo>
                  <a:lnTo>
                    <a:pt x="620" y="264"/>
                  </a:lnTo>
                  <a:lnTo>
                    <a:pt x="613" y="265"/>
                  </a:lnTo>
                  <a:lnTo>
                    <a:pt x="607" y="264"/>
                  </a:lnTo>
                  <a:lnTo>
                    <a:pt x="601" y="261"/>
                  </a:lnTo>
                  <a:lnTo>
                    <a:pt x="587" y="248"/>
                  </a:lnTo>
                  <a:lnTo>
                    <a:pt x="575" y="240"/>
                  </a:lnTo>
                  <a:lnTo>
                    <a:pt x="554" y="235"/>
                  </a:lnTo>
                  <a:lnTo>
                    <a:pt x="534" y="235"/>
                  </a:lnTo>
                  <a:lnTo>
                    <a:pt x="512" y="238"/>
                  </a:lnTo>
                  <a:lnTo>
                    <a:pt x="493" y="245"/>
                  </a:lnTo>
                  <a:lnTo>
                    <a:pt x="473" y="254"/>
                  </a:lnTo>
                  <a:lnTo>
                    <a:pt x="455" y="267"/>
                  </a:lnTo>
                  <a:lnTo>
                    <a:pt x="439" y="282"/>
                  </a:lnTo>
                  <a:lnTo>
                    <a:pt x="426" y="301"/>
                  </a:lnTo>
                  <a:lnTo>
                    <a:pt x="422" y="313"/>
                  </a:lnTo>
                  <a:lnTo>
                    <a:pt x="420" y="330"/>
                  </a:lnTo>
                  <a:lnTo>
                    <a:pt x="419" y="346"/>
                  </a:lnTo>
                  <a:lnTo>
                    <a:pt x="419" y="363"/>
                  </a:lnTo>
                  <a:lnTo>
                    <a:pt x="419" y="378"/>
                  </a:lnTo>
                  <a:lnTo>
                    <a:pt x="422" y="394"/>
                  </a:lnTo>
                  <a:lnTo>
                    <a:pt x="426" y="407"/>
                  </a:lnTo>
                  <a:lnTo>
                    <a:pt x="435" y="421"/>
                  </a:lnTo>
                  <a:lnTo>
                    <a:pt x="450" y="441"/>
                  </a:lnTo>
                  <a:lnTo>
                    <a:pt x="469" y="452"/>
                  </a:lnTo>
                  <a:lnTo>
                    <a:pt x="488" y="458"/>
                  </a:lnTo>
                  <a:lnTo>
                    <a:pt x="511" y="461"/>
                  </a:lnTo>
                  <a:lnTo>
                    <a:pt x="531" y="461"/>
                  </a:lnTo>
                  <a:lnTo>
                    <a:pt x="553" y="463"/>
                  </a:lnTo>
                  <a:lnTo>
                    <a:pt x="572" y="469"/>
                  </a:lnTo>
                  <a:lnTo>
                    <a:pt x="591" y="485"/>
                  </a:lnTo>
                  <a:lnTo>
                    <a:pt x="594" y="495"/>
                  </a:lnTo>
                  <a:lnTo>
                    <a:pt x="592" y="506"/>
                  </a:lnTo>
                  <a:lnTo>
                    <a:pt x="584" y="514"/>
                  </a:lnTo>
                  <a:lnTo>
                    <a:pt x="579" y="523"/>
                  </a:lnTo>
                  <a:lnTo>
                    <a:pt x="568" y="517"/>
                  </a:lnTo>
                  <a:lnTo>
                    <a:pt x="558" y="517"/>
                  </a:lnTo>
                  <a:lnTo>
                    <a:pt x="548" y="516"/>
                  </a:lnTo>
                  <a:lnTo>
                    <a:pt x="538" y="520"/>
                  </a:lnTo>
                  <a:lnTo>
                    <a:pt x="527" y="521"/>
                  </a:lnTo>
                  <a:lnTo>
                    <a:pt x="519" y="526"/>
                  </a:lnTo>
                  <a:lnTo>
                    <a:pt x="508" y="530"/>
                  </a:lnTo>
                  <a:lnTo>
                    <a:pt x="501" y="536"/>
                  </a:lnTo>
                  <a:lnTo>
                    <a:pt x="481" y="551"/>
                  </a:lnTo>
                  <a:lnTo>
                    <a:pt x="468" y="572"/>
                  </a:lnTo>
                  <a:lnTo>
                    <a:pt x="459" y="597"/>
                  </a:lnTo>
                  <a:lnTo>
                    <a:pt x="454" y="622"/>
                  </a:lnTo>
                  <a:lnTo>
                    <a:pt x="450" y="648"/>
                  </a:lnTo>
                  <a:lnTo>
                    <a:pt x="451" y="676"/>
                  </a:lnTo>
                  <a:lnTo>
                    <a:pt x="453" y="704"/>
                  </a:lnTo>
                  <a:lnTo>
                    <a:pt x="455" y="731"/>
                  </a:lnTo>
                  <a:lnTo>
                    <a:pt x="459" y="744"/>
                  </a:lnTo>
                  <a:lnTo>
                    <a:pt x="463" y="758"/>
                  </a:lnTo>
                  <a:lnTo>
                    <a:pt x="465" y="774"/>
                  </a:lnTo>
                  <a:lnTo>
                    <a:pt x="469" y="791"/>
                  </a:lnTo>
                  <a:lnTo>
                    <a:pt x="468" y="805"/>
                  </a:lnTo>
                  <a:lnTo>
                    <a:pt x="468" y="820"/>
                  </a:lnTo>
                  <a:lnTo>
                    <a:pt x="464" y="833"/>
                  </a:lnTo>
                  <a:lnTo>
                    <a:pt x="459" y="846"/>
                  </a:lnTo>
                  <a:lnTo>
                    <a:pt x="444" y="837"/>
                  </a:lnTo>
                  <a:lnTo>
                    <a:pt x="432" y="827"/>
                  </a:lnTo>
                  <a:lnTo>
                    <a:pt x="422" y="813"/>
                  </a:lnTo>
                  <a:lnTo>
                    <a:pt x="414" y="801"/>
                  </a:lnTo>
                  <a:lnTo>
                    <a:pt x="403" y="785"/>
                  </a:lnTo>
                  <a:lnTo>
                    <a:pt x="393" y="772"/>
                  </a:lnTo>
                  <a:lnTo>
                    <a:pt x="381" y="758"/>
                  </a:lnTo>
                  <a:lnTo>
                    <a:pt x="369" y="748"/>
                  </a:lnTo>
                  <a:lnTo>
                    <a:pt x="346" y="727"/>
                  </a:lnTo>
                  <a:lnTo>
                    <a:pt x="325" y="707"/>
                  </a:lnTo>
                  <a:lnTo>
                    <a:pt x="302" y="687"/>
                  </a:lnTo>
                  <a:lnTo>
                    <a:pt x="281" y="672"/>
                  </a:lnTo>
                  <a:lnTo>
                    <a:pt x="255" y="656"/>
                  </a:lnTo>
                  <a:lnTo>
                    <a:pt x="230" y="648"/>
                  </a:lnTo>
                  <a:lnTo>
                    <a:pt x="202" y="642"/>
                  </a:lnTo>
                  <a:lnTo>
                    <a:pt x="173" y="646"/>
                  </a:lnTo>
                  <a:lnTo>
                    <a:pt x="153" y="653"/>
                  </a:lnTo>
                  <a:lnTo>
                    <a:pt x="135" y="665"/>
                  </a:lnTo>
                  <a:lnTo>
                    <a:pt x="119" y="679"/>
                  </a:lnTo>
                  <a:lnTo>
                    <a:pt x="106" y="697"/>
                  </a:lnTo>
                  <a:lnTo>
                    <a:pt x="93" y="714"/>
                  </a:lnTo>
                  <a:lnTo>
                    <a:pt x="82" y="735"/>
                  </a:lnTo>
                  <a:lnTo>
                    <a:pt x="73" y="755"/>
                  </a:lnTo>
                  <a:lnTo>
                    <a:pt x="66" y="775"/>
                  </a:lnTo>
                  <a:lnTo>
                    <a:pt x="53" y="784"/>
                  </a:lnTo>
                  <a:lnTo>
                    <a:pt x="40" y="793"/>
                  </a:lnTo>
                  <a:lnTo>
                    <a:pt x="33" y="795"/>
                  </a:lnTo>
                  <a:lnTo>
                    <a:pt x="25" y="798"/>
                  </a:lnTo>
                  <a:lnTo>
                    <a:pt x="17" y="796"/>
                  </a:lnTo>
                  <a:lnTo>
                    <a:pt x="11" y="795"/>
                  </a:lnTo>
                  <a:lnTo>
                    <a:pt x="1" y="771"/>
                  </a:lnTo>
                  <a:lnTo>
                    <a:pt x="0" y="750"/>
                  </a:lnTo>
                  <a:lnTo>
                    <a:pt x="5" y="728"/>
                  </a:lnTo>
                  <a:lnTo>
                    <a:pt x="15" y="710"/>
                  </a:lnTo>
                  <a:lnTo>
                    <a:pt x="26" y="689"/>
                  </a:lnTo>
                  <a:lnTo>
                    <a:pt x="39" y="670"/>
                  </a:lnTo>
                  <a:lnTo>
                    <a:pt x="50" y="650"/>
                  </a:lnTo>
                  <a:lnTo>
                    <a:pt x="59" y="631"/>
                  </a:lnTo>
                  <a:lnTo>
                    <a:pt x="85" y="612"/>
                  </a:lnTo>
                  <a:lnTo>
                    <a:pt x="115" y="597"/>
                  </a:lnTo>
                  <a:lnTo>
                    <a:pt x="145" y="585"/>
                  </a:lnTo>
                  <a:lnTo>
                    <a:pt x="179" y="581"/>
                  </a:lnTo>
                  <a:lnTo>
                    <a:pt x="212" y="578"/>
                  </a:lnTo>
                  <a:lnTo>
                    <a:pt x="245" y="584"/>
                  </a:lnTo>
                  <a:lnTo>
                    <a:pt x="276" y="594"/>
                  </a:lnTo>
                  <a:lnTo>
                    <a:pt x="306" y="614"/>
                  </a:lnTo>
                  <a:lnTo>
                    <a:pt x="319" y="618"/>
                  </a:lnTo>
                  <a:lnTo>
                    <a:pt x="333" y="626"/>
                  </a:lnTo>
                  <a:lnTo>
                    <a:pt x="339" y="629"/>
                  </a:lnTo>
                  <a:lnTo>
                    <a:pt x="346" y="633"/>
                  </a:lnTo>
                  <a:lnTo>
                    <a:pt x="354" y="636"/>
                  </a:lnTo>
                  <a:lnTo>
                    <a:pt x="363" y="640"/>
                  </a:lnTo>
                  <a:lnTo>
                    <a:pt x="368" y="622"/>
                  </a:lnTo>
                  <a:lnTo>
                    <a:pt x="376" y="604"/>
                  </a:lnTo>
                  <a:lnTo>
                    <a:pt x="381" y="587"/>
                  </a:lnTo>
                  <a:lnTo>
                    <a:pt x="388" y="570"/>
                  </a:lnTo>
                  <a:lnTo>
                    <a:pt x="396" y="553"/>
                  </a:lnTo>
                  <a:lnTo>
                    <a:pt x="405" y="538"/>
                  </a:lnTo>
                  <a:lnTo>
                    <a:pt x="414" y="524"/>
                  </a:lnTo>
                  <a:lnTo>
                    <a:pt x="426" y="512"/>
                  </a:lnTo>
                  <a:lnTo>
                    <a:pt x="426" y="502"/>
                  </a:lnTo>
                  <a:lnTo>
                    <a:pt x="408" y="479"/>
                  </a:lnTo>
                  <a:lnTo>
                    <a:pt x="392" y="458"/>
                  </a:lnTo>
                  <a:lnTo>
                    <a:pt x="377" y="434"/>
                  </a:lnTo>
                  <a:lnTo>
                    <a:pt x="365" y="411"/>
                  </a:lnTo>
                  <a:lnTo>
                    <a:pt x="355" y="384"/>
                  </a:lnTo>
                  <a:lnTo>
                    <a:pt x="352" y="359"/>
                  </a:lnTo>
                  <a:lnTo>
                    <a:pt x="350" y="330"/>
                  </a:lnTo>
                  <a:lnTo>
                    <a:pt x="357" y="303"/>
                  </a:lnTo>
                  <a:lnTo>
                    <a:pt x="367" y="276"/>
                  </a:lnTo>
                  <a:lnTo>
                    <a:pt x="382" y="251"/>
                  </a:lnTo>
                  <a:lnTo>
                    <a:pt x="398" y="225"/>
                  </a:lnTo>
                  <a:lnTo>
                    <a:pt x="419" y="204"/>
                  </a:lnTo>
                  <a:lnTo>
                    <a:pt x="439" y="184"/>
                  </a:lnTo>
                  <a:lnTo>
                    <a:pt x="462" y="170"/>
                  </a:lnTo>
                  <a:lnTo>
                    <a:pt x="487" y="160"/>
                  </a:lnTo>
                  <a:lnTo>
                    <a:pt x="513" y="156"/>
                  </a:lnTo>
                  <a:lnTo>
                    <a:pt x="527" y="150"/>
                  </a:lnTo>
                  <a:lnTo>
                    <a:pt x="543" y="150"/>
                  </a:lnTo>
                  <a:lnTo>
                    <a:pt x="555" y="152"/>
                  </a:lnTo>
                  <a:lnTo>
                    <a:pt x="568" y="155"/>
                  </a:lnTo>
                  <a:lnTo>
                    <a:pt x="578" y="153"/>
                  </a:lnTo>
                  <a:lnTo>
                    <a:pt x="589" y="149"/>
                  </a:lnTo>
                  <a:lnTo>
                    <a:pt x="597" y="138"/>
                  </a:lnTo>
                  <a:lnTo>
                    <a:pt x="606" y="119"/>
                  </a:lnTo>
                  <a:lnTo>
                    <a:pt x="626" y="94"/>
                  </a:lnTo>
                  <a:lnTo>
                    <a:pt x="650" y="80"/>
                  </a:lnTo>
                  <a:lnTo>
                    <a:pt x="677" y="74"/>
                  </a:lnTo>
                  <a:lnTo>
                    <a:pt x="705" y="74"/>
                  </a:lnTo>
                  <a:lnTo>
                    <a:pt x="731" y="78"/>
                  </a:lnTo>
                  <a:lnTo>
                    <a:pt x="759" y="85"/>
                  </a:lnTo>
                  <a:lnTo>
                    <a:pt x="785" y="94"/>
                  </a:lnTo>
                  <a:lnTo>
                    <a:pt x="811" y="102"/>
                  </a:lnTo>
                  <a:lnTo>
                    <a:pt x="825" y="77"/>
                  </a:lnTo>
                  <a:lnTo>
                    <a:pt x="842" y="57"/>
                  </a:lnTo>
                  <a:lnTo>
                    <a:pt x="860" y="37"/>
                  </a:lnTo>
                  <a:lnTo>
                    <a:pt x="883" y="23"/>
                  </a:lnTo>
                  <a:lnTo>
                    <a:pt x="906" y="10"/>
                  </a:lnTo>
                  <a:lnTo>
                    <a:pt x="931" y="3"/>
                  </a:lnTo>
                  <a:lnTo>
                    <a:pt x="956" y="0"/>
                  </a:lnTo>
                  <a:lnTo>
                    <a:pt x="984" y="4"/>
                  </a:lnTo>
                  <a:lnTo>
                    <a:pt x="1007" y="9"/>
                  </a:lnTo>
                  <a:lnTo>
                    <a:pt x="1030" y="19"/>
                  </a:lnTo>
                  <a:lnTo>
                    <a:pt x="1049" y="31"/>
                  </a:lnTo>
                  <a:lnTo>
                    <a:pt x="1069" y="50"/>
                  </a:lnTo>
                  <a:lnTo>
                    <a:pt x="1084" y="70"/>
                  </a:lnTo>
                  <a:lnTo>
                    <a:pt x="1101" y="91"/>
                  </a:lnTo>
                  <a:lnTo>
                    <a:pt x="1114" y="112"/>
                  </a:lnTo>
                  <a:lnTo>
                    <a:pt x="1128" y="135"/>
                  </a:lnTo>
                  <a:lnTo>
                    <a:pt x="1131" y="142"/>
                  </a:lnTo>
                  <a:lnTo>
                    <a:pt x="1132" y="152"/>
                  </a:lnTo>
                  <a:lnTo>
                    <a:pt x="1132" y="160"/>
                  </a:lnTo>
                  <a:lnTo>
                    <a:pt x="1133" y="170"/>
                  </a:lnTo>
                  <a:lnTo>
                    <a:pt x="1133" y="179"/>
                  </a:lnTo>
                  <a:lnTo>
                    <a:pt x="1136" y="189"/>
                  </a:lnTo>
                  <a:lnTo>
                    <a:pt x="1140" y="196"/>
                  </a:lnTo>
                  <a:lnTo>
                    <a:pt x="1147" y="203"/>
                  </a:lnTo>
                  <a:lnTo>
                    <a:pt x="1176" y="208"/>
                  </a:lnTo>
                  <a:lnTo>
                    <a:pt x="1204" y="224"/>
                  </a:lnTo>
                  <a:lnTo>
                    <a:pt x="1228" y="244"/>
                  </a:lnTo>
                  <a:lnTo>
                    <a:pt x="1251" y="268"/>
                  </a:lnTo>
                  <a:lnTo>
                    <a:pt x="1270" y="295"/>
                  </a:lnTo>
                  <a:lnTo>
                    <a:pt x="1287" y="326"/>
                  </a:lnTo>
                  <a:lnTo>
                    <a:pt x="1300" y="356"/>
                  </a:lnTo>
                  <a:lnTo>
                    <a:pt x="1312" y="388"/>
                  </a:lnTo>
                  <a:lnTo>
                    <a:pt x="1319" y="384"/>
                  </a:lnTo>
                  <a:lnTo>
                    <a:pt x="1330" y="381"/>
                  </a:lnTo>
                  <a:lnTo>
                    <a:pt x="1338" y="378"/>
                  </a:lnTo>
                  <a:lnTo>
                    <a:pt x="1350" y="376"/>
                  </a:lnTo>
                  <a:lnTo>
                    <a:pt x="1359" y="371"/>
                  </a:lnTo>
                  <a:lnTo>
                    <a:pt x="1369" y="370"/>
                  </a:lnTo>
                  <a:lnTo>
                    <a:pt x="1379" y="370"/>
                  </a:lnTo>
                  <a:lnTo>
                    <a:pt x="1390" y="371"/>
                  </a:lnTo>
                  <a:lnTo>
                    <a:pt x="1404" y="373"/>
                  </a:lnTo>
                  <a:lnTo>
                    <a:pt x="1419" y="374"/>
                  </a:lnTo>
                  <a:lnTo>
                    <a:pt x="1435" y="374"/>
                  </a:lnTo>
                  <a:lnTo>
                    <a:pt x="1451" y="376"/>
                  </a:lnTo>
                  <a:lnTo>
                    <a:pt x="1465" y="377"/>
                  </a:lnTo>
                  <a:lnTo>
                    <a:pt x="1480" y="381"/>
                  </a:lnTo>
                  <a:lnTo>
                    <a:pt x="1494" y="387"/>
                  </a:lnTo>
                  <a:lnTo>
                    <a:pt x="1508" y="398"/>
                  </a:lnTo>
                  <a:lnTo>
                    <a:pt x="1516" y="407"/>
                  </a:lnTo>
                  <a:lnTo>
                    <a:pt x="1523" y="418"/>
                  </a:lnTo>
                  <a:lnTo>
                    <a:pt x="1529" y="429"/>
                  </a:lnTo>
                  <a:lnTo>
                    <a:pt x="1537" y="442"/>
                  </a:lnTo>
                  <a:lnTo>
                    <a:pt x="1542" y="453"/>
                  </a:lnTo>
                  <a:lnTo>
                    <a:pt x="1550" y="465"/>
                  </a:lnTo>
                  <a:lnTo>
                    <a:pt x="1556" y="475"/>
                  </a:lnTo>
                  <a:lnTo>
                    <a:pt x="1565" y="485"/>
                  </a:lnTo>
                  <a:lnTo>
                    <a:pt x="1576" y="472"/>
                  </a:lnTo>
                  <a:lnTo>
                    <a:pt x="1590" y="463"/>
                  </a:lnTo>
                  <a:lnTo>
                    <a:pt x="1605" y="456"/>
                  </a:lnTo>
                  <a:lnTo>
                    <a:pt x="1621" y="452"/>
                  </a:lnTo>
                  <a:lnTo>
                    <a:pt x="1636" y="448"/>
                  </a:lnTo>
                  <a:lnTo>
                    <a:pt x="1651" y="448"/>
                  </a:lnTo>
                  <a:lnTo>
                    <a:pt x="1666" y="451"/>
                  </a:lnTo>
                  <a:lnTo>
                    <a:pt x="1681" y="458"/>
                  </a:lnTo>
                  <a:lnTo>
                    <a:pt x="1695" y="468"/>
                  </a:lnTo>
                  <a:lnTo>
                    <a:pt x="1710" y="480"/>
                  </a:lnTo>
                  <a:lnTo>
                    <a:pt x="1723" y="493"/>
                  </a:lnTo>
                  <a:lnTo>
                    <a:pt x="1736" y="509"/>
                  </a:lnTo>
                  <a:lnTo>
                    <a:pt x="1745" y="524"/>
                  </a:lnTo>
                  <a:lnTo>
                    <a:pt x="1753" y="543"/>
                  </a:lnTo>
                  <a:lnTo>
                    <a:pt x="1758" y="561"/>
                  </a:lnTo>
                  <a:lnTo>
                    <a:pt x="1764" y="582"/>
                  </a:lnTo>
                  <a:lnTo>
                    <a:pt x="1760" y="587"/>
                  </a:lnTo>
                  <a:lnTo>
                    <a:pt x="1758" y="595"/>
                  </a:lnTo>
                  <a:lnTo>
                    <a:pt x="1757" y="604"/>
                  </a:lnTo>
                  <a:lnTo>
                    <a:pt x="1757" y="612"/>
                  </a:lnTo>
                  <a:lnTo>
                    <a:pt x="1755" y="619"/>
                  </a:lnTo>
                  <a:lnTo>
                    <a:pt x="1753" y="626"/>
                  </a:lnTo>
                  <a:lnTo>
                    <a:pt x="1748" y="632"/>
                  </a:lnTo>
                  <a:lnTo>
                    <a:pt x="1742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10560" y="2157840"/>
              <a:ext cx="1092600" cy="660240"/>
            </a:xfrm>
            <a:custGeom>
              <a:avLst/>
              <a:gdLst/>
              <a:ahLst/>
              <a:rect l="l" t="t" r="r" b="b"/>
              <a:pathLst>
                <a:path w="614" h="579">
                  <a:moveTo>
                    <a:pt x="542" y="276"/>
                  </a:moveTo>
                  <a:lnTo>
                    <a:pt x="487" y="307"/>
                  </a:lnTo>
                  <a:lnTo>
                    <a:pt x="492" y="323"/>
                  </a:lnTo>
                  <a:lnTo>
                    <a:pt x="497" y="341"/>
                  </a:lnTo>
                  <a:lnTo>
                    <a:pt x="500" y="359"/>
                  </a:lnTo>
                  <a:lnTo>
                    <a:pt x="501" y="379"/>
                  </a:lnTo>
                  <a:lnTo>
                    <a:pt x="499" y="398"/>
                  </a:lnTo>
                  <a:lnTo>
                    <a:pt x="496" y="416"/>
                  </a:lnTo>
                  <a:lnTo>
                    <a:pt x="490" y="433"/>
                  </a:lnTo>
                  <a:lnTo>
                    <a:pt x="482" y="452"/>
                  </a:lnTo>
                  <a:lnTo>
                    <a:pt x="465" y="467"/>
                  </a:lnTo>
                  <a:lnTo>
                    <a:pt x="447" y="484"/>
                  </a:lnTo>
                  <a:lnTo>
                    <a:pt x="427" y="500"/>
                  </a:lnTo>
                  <a:lnTo>
                    <a:pt x="408" y="512"/>
                  </a:lnTo>
                  <a:lnTo>
                    <a:pt x="385" y="521"/>
                  </a:lnTo>
                  <a:lnTo>
                    <a:pt x="363" y="525"/>
                  </a:lnTo>
                  <a:lnTo>
                    <a:pt x="339" y="524"/>
                  </a:lnTo>
                  <a:lnTo>
                    <a:pt x="317" y="518"/>
                  </a:lnTo>
                  <a:lnTo>
                    <a:pt x="308" y="528"/>
                  </a:lnTo>
                  <a:lnTo>
                    <a:pt x="300" y="539"/>
                  </a:lnTo>
                  <a:lnTo>
                    <a:pt x="290" y="548"/>
                  </a:lnTo>
                  <a:lnTo>
                    <a:pt x="281" y="556"/>
                  </a:lnTo>
                  <a:lnTo>
                    <a:pt x="270" y="562"/>
                  </a:lnTo>
                  <a:lnTo>
                    <a:pt x="260" y="569"/>
                  </a:lnTo>
                  <a:lnTo>
                    <a:pt x="248" y="573"/>
                  </a:lnTo>
                  <a:lnTo>
                    <a:pt x="238" y="579"/>
                  </a:lnTo>
                  <a:lnTo>
                    <a:pt x="225" y="572"/>
                  </a:lnTo>
                  <a:lnTo>
                    <a:pt x="214" y="565"/>
                  </a:lnTo>
                  <a:lnTo>
                    <a:pt x="201" y="556"/>
                  </a:lnTo>
                  <a:lnTo>
                    <a:pt x="190" y="549"/>
                  </a:lnTo>
                  <a:lnTo>
                    <a:pt x="177" y="539"/>
                  </a:lnTo>
                  <a:lnTo>
                    <a:pt x="167" y="529"/>
                  </a:lnTo>
                  <a:lnTo>
                    <a:pt x="158" y="517"/>
                  </a:lnTo>
                  <a:lnTo>
                    <a:pt x="155" y="505"/>
                  </a:lnTo>
                  <a:lnTo>
                    <a:pt x="152" y="493"/>
                  </a:lnTo>
                  <a:lnTo>
                    <a:pt x="150" y="481"/>
                  </a:lnTo>
                  <a:lnTo>
                    <a:pt x="147" y="470"/>
                  </a:lnTo>
                  <a:lnTo>
                    <a:pt x="144" y="460"/>
                  </a:lnTo>
                  <a:lnTo>
                    <a:pt x="141" y="449"/>
                  </a:lnTo>
                  <a:lnTo>
                    <a:pt x="138" y="440"/>
                  </a:lnTo>
                  <a:lnTo>
                    <a:pt x="134" y="429"/>
                  </a:lnTo>
                  <a:lnTo>
                    <a:pt x="133" y="420"/>
                  </a:lnTo>
                  <a:lnTo>
                    <a:pt x="117" y="422"/>
                  </a:lnTo>
                  <a:lnTo>
                    <a:pt x="101" y="423"/>
                  </a:lnTo>
                  <a:lnTo>
                    <a:pt x="88" y="422"/>
                  </a:lnTo>
                  <a:lnTo>
                    <a:pt x="75" y="420"/>
                  </a:lnTo>
                  <a:lnTo>
                    <a:pt x="62" y="415"/>
                  </a:lnTo>
                  <a:lnTo>
                    <a:pt x="50" y="409"/>
                  </a:lnTo>
                  <a:lnTo>
                    <a:pt x="37" y="401"/>
                  </a:lnTo>
                  <a:lnTo>
                    <a:pt x="26" y="393"/>
                  </a:lnTo>
                  <a:lnTo>
                    <a:pt x="14" y="376"/>
                  </a:lnTo>
                  <a:lnTo>
                    <a:pt x="7" y="358"/>
                  </a:lnTo>
                  <a:lnTo>
                    <a:pt x="1" y="337"/>
                  </a:lnTo>
                  <a:lnTo>
                    <a:pt x="1" y="316"/>
                  </a:lnTo>
                  <a:lnTo>
                    <a:pt x="0" y="293"/>
                  </a:lnTo>
                  <a:lnTo>
                    <a:pt x="4" y="273"/>
                  </a:lnTo>
                  <a:lnTo>
                    <a:pt x="9" y="252"/>
                  </a:lnTo>
                  <a:lnTo>
                    <a:pt x="17" y="236"/>
                  </a:lnTo>
                  <a:lnTo>
                    <a:pt x="20" y="228"/>
                  </a:lnTo>
                  <a:lnTo>
                    <a:pt x="27" y="219"/>
                  </a:lnTo>
                  <a:lnTo>
                    <a:pt x="32" y="211"/>
                  </a:lnTo>
                  <a:lnTo>
                    <a:pt x="38" y="202"/>
                  </a:lnTo>
                  <a:lnTo>
                    <a:pt x="44" y="194"/>
                  </a:lnTo>
                  <a:lnTo>
                    <a:pt x="51" y="187"/>
                  </a:lnTo>
                  <a:lnTo>
                    <a:pt x="58" y="180"/>
                  </a:lnTo>
                  <a:lnTo>
                    <a:pt x="67" y="175"/>
                  </a:lnTo>
                  <a:lnTo>
                    <a:pt x="79" y="175"/>
                  </a:lnTo>
                  <a:lnTo>
                    <a:pt x="89" y="181"/>
                  </a:lnTo>
                  <a:lnTo>
                    <a:pt x="98" y="187"/>
                  </a:lnTo>
                  <a:lnTo>
                    <a:pt x="109" y="192"/>
                  </a:lnTo>
                  <a:lnTo>
                    <a:pt x="101" y="208"/>
                  </a:lnTo>
                  <a:lnTo>
                    <a:pt x="93" y="225"/>
                  </a:lnTo>
                  <a:lnTo>
                    <a:pt x="82" y="242"/>
                  </a:lnTo>
                  <a:lnTo>
                    <a:pt x="75" y="259"/>
                  </a:lnTo>
                  <a:lnTo>
                    <a:pt x="67" y="274"/>
                  </a:lnTo>
                  <a:lnTo>
                    <a:pt x="63" y="293"/>
                  </a:lnTo>
                  <a:lnTo>
                    <a:pt x="62" y="311"/>
                  </a:lnTo>
                  <a:lnTo>
                    <a:pt x="67" y="334"/>
                  </a:lnTo>
                  <a:lnTo>
                    <a:pt x="71" y="341"/>
                  </a:lnTo>
                  <a:lnTo>
                    <a:pt x="76" y="347"/>
                  </a:lnTo>
                  <a:lnTo>
                    <a:pt x="81" y="350"/>
                  </a:lnTo>
                  <a:lnTo>
                    <a:pt x="89" y="351"/>
                  </a:lnTo>
                  <a:lnTo>
                    <a:pt x="95" y="350"/>
                  </a:lnTo>
                  <a:lnTo>
                    <a:pt x="103" y="348"/>
                  </a:lnTo>
                  <a:lnTo>
                    <a:pt x="110" y="347"/>
                  </a:lnTo>
                  <a:lnTo>
                    <a:pt x="118" y="347"/>
                  </a:lnTo>
                  <a:lnTo>
                    <a:pt x="127" y="342"/>
                  </a:lnTo>
                  <a:lnTo>
                    <a:pt x="137" y="338"/>
                  </a:lnTo>
                  <a:lnTo>
                    <a:pt x="146" y="331"/>
                  </a:lnTo>
                  <a:lnTo>
                    <a:pt x="155" y="324"/>
                  </a:lnTo>
                  <a:lnTo>
                    <a:pt x="162" y="314"/>
                  </a:lnTo>
                  <a:lnTo>
                    <a:pt x="171" y="306"/>
                  </a:lnTo>
                  <a:lnTo>
                    <a:pt x="180" y="299"/>
                  </a:lnTo>
                  <a:lnTo>
                    <a:pt x="190" y="293"/>
                  </a:lnTo>
                  <a:lnTo>
                    <a:pt x="194" y="318"/>
                  </a:lnTo>
                  <a:lnTo>
                    <a:pt x="198" y="348"/>
                  </a:lnTo>
                  <a:lnTo>
                    <a:pt x="199" y="376"/>
                  </a:lnTo>
                  <a:lnTo>
                    <a:pt x="203" y="405"/>
                  </a:lnTo>
                  <a:lnTo>
                    <a:pt x="206" y="430"/>
                  </a:lnTo>
                  <a:lnTo>
                    <a:pt x="215" y="456"/>
                  </a:lnTo>
                  <a:lnTo>
                    <a:pt x="227" y="478"/>
                  </a:lnTo>
                  <a:lnTo>
                    <a:pt x="247" y="498"/>
                  </a:lnTo>
                  <a:lnTo>
                    <a:pt x="258" y="490"/>
                  </a:lnTo>
                  <a:lnTo>
                    <a:pt x="267" y="478"/>
                  </a:lnTo>
                  <a:lnTo>
                    <a:pt x="272" y="464"/>
                  </a:lnTo>
                  <a:lnTo>
                    <a:pt x="276" y="452"/>
                  </a:lnTo>
                  <a:lnTo>
                    <a:pt x="276" y="436"/>
                  </a:lnTo>
                  <a:lnTo>
                    <a:pt x="277" y="422"/>
                  </a:lnTo>
                  <a:lnTo>
                    <a:pt x="279" y="409"/>
                  </a:lnTo>
                  <a:lnTo>
                    <a:pt x="281" y="398"/>
                  </a:lnTo>
                  <a:lnTo>
                    <a:pt x="294" y="406"/>
                  </a:lnTo>
                  <a:lnTo>
                    <a:pt x="306" y="420"/>
                  </a:lnTo>
                  <a:lnTo>
                    <a:pt x="313" y="427"/>
                  </a:lnTo>
                  <a:lnTo>
                    <a:pt x="319" y="435"/>
                  </a:lnTo>
                  <a:lnTo>
                    <a:pt x="327" y="440"/>
                  </a:lnTo>
                  <a:lnTo>
                    <a:pt x="334" y="447"/>
                  </a:lnTo>
                  <a:lnTo>
                    <a:pt x="341" y="449"/>
                  </a:lnTo>
                  <a:lnTo>
                    <a:pt x="348" y="452"/>
                  </a:lnTo>
                  <a:lnTo>
                    <a:pt x="354" y="453"/>
                  </a:lnTo>
                  <a:lnTo>
                    <a:pt x="362" y="456"/>
                  </a:lnTo>
                  <a:lnTo>
                    <a:pt x="368" y="456"/>
                  </a:lnTo>
                  <a:lnTo>
                    <a:pt x="376" y="456"/>
                  </a:lnTo>
                  <a:lnTo>
                    <a:pt x="384" y="454"/>
                  </a:lnTo>
                  <a:lnTo>
                    <a:pt x="391" y="452"/>
                  </a:lnTo>
                  <a:lnTo>
                    <a:pt x="401" y="443"/>
                  </a:lnTo>
                  <a:lnTo>
                    <a:pt x="410" y="435"/>
                  </a:lnTo>
                  <a:lnTo>
                    <a:pt x="418" y="423"/>
                  </a:lnTo>
                  <a:lnTo>
                    <a:pt x="425" y="413"/>
                  </a:lnTo>
                  <a:lnTo>
                    <a:pt x="430" y="401"/>
                  </a:lnTo>
                  <a:lnTo>
                    <a:pt x="435" y="388"/>
                  </a:lnTo>
                  <a:lnTo>
                    <a:pt x="439" y="375"/>
                  </a:lnTo>
                  <a:lnTo>
                    <a:pt x="443" y="364"/>
                  </a:lnTo>
                  <a:lnTo>
                    <a:pt x="443" y="348"/>
                  </a:lnTo>
                  <a:lnTo>
                    <a:pt x="442" y="335"/>
                  </a:lnTo>
                  <a:lnTo>
                    <a:pt x="438" y="323"/>
                  </a:lnTo>
                  <a:lnTo>
                    <a:pt x="434" y="311"/>
                  </a:lnTo>
                  <a:lnTo>
                    <a:pt x="428" y="300"/>
                  </a:lnTo>
                  <a:lnTo>
                    <a:pt x="424" y="289"/>
                  </a:lnTo>
                  <a:lnTo>
                    <a:pt x="419" y="277"/>
                  </a:lnTo>
                  <a:lnTo>
                    <a:pt x="415" y="266"/>
                  </a:lnTo>
                  <a:lnTo>
                    <a:pt x="409" y="255"/>
                  </a:lnTo>
                  <a:lnTo>
                    <a:pt x="400" y="249"/>
                  </a:lnTo>
                  <a:lnTo>
                    <a:pt x="395" y="245"/>
                  </a:lnTo>
                  <a:lnTo>
                    <a:pt x="391" y="242"/>
                  </a:lnTo>
                  <a:lnTo>
                    <a:pt x="390" y="236"/>
                  </a:lnTo>
                  <a:lnTo>
                    <a:pt x="391" y="229"/>
                  </a:lnTo>
                  <a:lnTo>
                    <a:pt x="398" y="226"/>
                  </a:lnTo>
                  <a:lnTo>
                    <a:pt x="405" y="226"/>
                  </a:lnTo>
                  <a:lnTo>
                    <a:pt x="414" y="226"/>
                  </a:lnTo>
                  <a:lnTo>
                    <a:pt x="423" y="228"/>
                  </a:lnTo>
                  <a:lnTo>
                    <a:pt x="430" y="229"/>
                  </a:lnTo>
                  <a:lnTo>
                    <a:pt x="439" y="232"/>
                  </a:lnTo>
                  <a:lnTo>
                    <a:pt x="448" y="233"/>
                  </a:lnTo>
                  <a:lnTo>
                    <a:pt x="458" y="236"/>
                  </a:lnTo>
                  <a:lnTo>
                    <a:pt x="472" y="233"/>
                  </a:lnTo>
                  <a:lnTo>
                    <a:pt x="487" y="229"/>
                  </a:lnTo>
                  <a:lnTo>
                    <a:pt x="500" y="221"/>
                  </a:lnTo>
                  <a:lnTo>
                    <a:pt x="513" y="209"/>
                  </a:lnTo>
                  <a:lnTo>
                    <a:pt x="523" y="195"/>
                  </a:lnTo>
                  <a:lnTo>
                    <a:pt x="533" y="181"/>
                  </a:lnTo>
                  <a:lnTo>
                    <a:pt x="542" y="165"/>
                  </a:lnTo>
                  <a:lnTo>
                    <a:pt x="551" y="151"/>
                  </a:lnTo>
                  <a:lnTo>
                    <a:pt x="549" y="137"/>
                  </a:lnTo>
                  <a:lnTo>
                    <a:pt x="551" y="124"/>
                  </a:lnTo>
                  <a:lnTo>
                    <a:pt x="552" y="112"/>
                  </a:lnTo>
                  <a:lnTo>
                    <a:pt x="553" y="100"/>
                  </a:lnTo>
                  <a:lnTo>
                    <a:pt x="552" y="89"/>
                  </a:lnTo>
                  <a:lnTo>
                    <a:pt x="549" y="79"/>
                  </a:lnTo>
                  <a:lnTo>
                    <a:pt x="544" y="69"/>
                  </a:lnTo>
                  <a:lnTo>
                    <a:pt x="535" y="61"/>
                  </a:lnTo>
                  <a:lnTo>
                    <a:pt x="524" y="54"/>
                  </a:lnTo>
                  <a:lnTo>
                    <a:pt x="514" y="48"/>
                  </a:lnTo>
                  <a:lnTo>
                    <a:pt x="505" y="38"/>
                  </a:lnTo>
                  <a:lnTo>
                    <a:pt x="503" y="27"/>
                  </a:lnTo>
                  <a:lnTo>
                    <a:pt x="503" y="15"/>
                  </a:lnTo>
                  <a:lnTo>
                    <a:pt x="506" y="8"/>
                  </a:lnTo>
                  <a:lnTo>
                    <a:pt x="513" y="1"/>
                  </a:lnTo>
                  <a:lnTo>
                    <a:pt x="521" y="0"/>
                  </a:lnTo>
                  <a:lnTo>
                    <a:pt x="537" y="8"/>
                  </a:lnTo>
                  <a:lnTo>
                    <a:pt x="553" y="21"/>
                  </a:lnTo>
                  <a:lnTo>
                    <a:pt x="567" y="35"/>
                  </a:lnTo>
                  <a:lnTo>
                    <a:pt x="581" y="52"/>
                  </a:lnTo>
                  <a:lnTo>
                    <a:pt x="591" y="69"/>
                  </a:lnTo>
                  <a:lnTo>
                    <a:pt x="601" y="87"/>
                  </a:lnTo>
                  <a:lnTo>
                    <a:pt x="608" y="107"/>
                  </a:lnTo>
                  <a:lnTo>
                    <a:pt x="614" y="129"/>
                  </a:lnTo>
                  <a:lnTo>
                    <a:pt x="610" y="148"/>
                  </a:lnTo>
                  <a:lnTo>
                    <a:pt x="606" y="170"/>
                  </a:lnTo>
                  <a:lnTo>
                    <a:pt x="600" y="191"/>
                  </a:lnTo>
                  <a:lnTo>
                    <a:pt x="595" y="212"/>
                  </a:lnTo>
                  <a:lnTo>
                    <a:pt x="585" y="229"/>
                  </a:lnTo>
                  <a:lnTo>
                    <a:pt x="573" y="248"/>
                  </a:lnTo>
                  <a:lnTo>
                    <a:pt x="559" y="262"/>
                  </a:lnTo>
                  <a:lnTo>
                    <a:pt x="542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27640" y="4024800"/>
              <a:ext cx="432360" cy="466560"/>
            </a:xfrm>
            <a:custGeom>
              <a:avLst/>
              <a:gdLst/>
              <a:ahLst/>
              <a:rect l="l" t="t" r="r" b="b"/>
              <a:pathLst>
                <a:path w="243" h="409">
                  <a:moveTo>
                    <a:pt x="131" y="409"/>
                  </a:moveTo>
                  <a:lnTo>
                    <a:pt x="117" y="408"/>
                  </a:lnTo>
                  <a:lnTo>
                    <a:pt x="103" y="404"/>
                  </a:lnTo>
                  <a:lnTo>
                    <a:pt x="90" y="397"/>
                  </a:lnTo>
                  <a:lnTo>
                    <a:pt x="78" y="389"/>
                  </a:lnTo>
                  <a:lnTo>
                    <a:pt x="65" y="378"/>
                  </a:lnTo>
                  <a:lnTo>
                    <a:pt x="54" y="367"/>
                  </a:lnTo>
                  <a:lnTo>
                    <a:pt x="43" y="354"/>
                  </a:lnTo>
                  <a:lnTo>
                    <a:pt x="35" y="341"/>
                  </a:lnTo>
                  <a:lnTo>
                    <a:pt x="22" y="313"/>
                  </a:lnTo>
                  <a:lnTo>
                    <a:pt x="14" y="285"/>
                  </a:lnTo>
                  <a:lnTo>
                    <a:pt x="6" y="253"/>
                  </a:lnTo>
                  <a:lnTo>
                    <a:pt x="2" y="224"/>
                  </a:lnTo>
                  <a:lnTo>
                    <a:pt x="0" y="191"/>
                  </a:lnTo>
                  <a:lnTo>
                    <a:pt x="2" y="161"/>
                  </a:lnTo>
                  <a:lnTo>
                    <a:pt x="7" y="132"/>
                  </a:lnTo>
                  <a:lnTo>
                    <a:pt x="17" y="103"/>
                  </a:lnTo>
                  <a:lnTo>
                    <a:pt x="25" y="88"/>
                  </a:lnTo>
                  <a:lnTo>
                    <a:pt x="33" y="74"/>
                  </a:lnTo>
                  <a:lnTo>
                    <a:pt x="41" y="57"/>
                  </a:lnTo>
                  <a:lnTo>
                    <a:pt x="53" y="44"/>
                  </a:lnTo>
                  <a:lnTo>
                    <a:pt x="62" y="28"/>
                  </a:lnTo>
                  <a:lnTo>
                    <a:pt x="74" y="17"/>
                  </a:lnTo>
                  <a:lnTo>
                    <a:pt x="86" y="7"/>
                  </a:lnTo>
                  <a:lnTo>
                    <a:pt x="101" y="1"/>
                  </a:lnTo>
                  <a:lnTo>
                    <a:pt x="116" y="0"/>
                  </a:lnTo>
                  <a:lnTo>
                    <a:pt x="133" y="0"/>
                  </a:lnTo>
                  <a:lnTo>
                    <a:pt x="148" y="3"/>
                  </a:lnTo>
                  <a:lnTo>
                    <a:pt x="164" y="8"/>
                  </a:lnTo>
                  <a:lnTo>
                    <a:pt x="178" y="14"/>
                  </a:lnTo>
                  <a:lnTo>
                    <a:pt x="192" y="24"/>
                  </a:lnTo>
                  <a:lnTo>
                    <a:pt x="202" y="37"/>
                  </a:lnTo>
                  <a:lnTo>
                    <a:pt x="212" y="55"/>
                  </a:lnTo>
                  <a:lnTo>
                    <a:pt x="224" y="88"/>
                  </a:lnTo>
                  <a:lnTo>
                    <a:pt x="234" y="123"/>
                  </a:lnTo>
                  <a:lnTo>
                    <a:pt x="240" y="161"/>
                  </a:lnTo>
                  <a:lnTo>
                    <a:pt x="243" y="200"/>
                  </a:lnTo>
                  <a:lnTo>
                    <a:pt x="240" y="236"/>
                  </a:lnTo>
                  <a:lnTo>
                    <a:pt x="235" y="273"/>
                  </a:lnTo>
                  <a:lnTo>
                    <a:pt x="224" y="307"/>
                  </a:lnTo>
                  <a:lnTo>
                    <a:pt x="210" y="341"/>
                  </a:lnTo>
                  <a:lnTo>
                    <a:pt x="200" y="350"/>
                  </a:lnTo>
                  <a:lnTo>
                    <a:pt x="191" y="360"/>
                  </a:lnTo>
                  <a:lnTo>
                    <a:pt x="181" y="368"/>
                  </a:lnTo>
                  <a:lnTo>
                    <a:pt x="172" y="377"/>
                  </a:lnTo>
                  <a:lnTo>
                    <a:pt x="162" y="384"/>
                  </a:lnTo>
                  <a:lnTo>
                    <a:pt x="152" y="392"/>
                  </a:lnTo>
                  <a:lnTo>
                    <a:pt x="141" y="401"/>
                  </a:lnTo>
                  <a:lnTo>
                    <a:pt x="131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92640" y="1071720"/>
              <a:ext cx="605160" cy="489600"/>
            </a:xfrm>
            <a:custGeom>
              <a:avLst/>
              <a:gdLst/>
              <a:ahLst/>
              <a:rect l="l" t="t" r="r" b="b"/>
              <a:pathLst>
                <a:path w="340" h="431">
                  <a:moveTo>
                    <a:pt x="231" y="431"/>
                  </a:moveTo>
                  <a:lnTo>
                    <a:pt x="209" y="428"/>
                  </a:lnTo>
                  <a:lnTo>
                    <a:pt x="188" y="422"/>
                  </a:lnTo>
                  <a:lnTo>
                    <a:pt x="169" y="414"/>
                  </a:lnTo>
                  <a:lnTo>
                    <a:pt x="150" y="407"/>
                  </a:lnTo>
                  <a:lnTo>
                    <a:pt x="131" y="395"/>
                  </a:lnTo>
                  <a:lnTo>
                    <a:pt x="112" y="384"/>
                  </a:lnTo>
                  <a:lnTo>
                    <a:pt x="93" y="371"/>
                  </a:lnTo>
                  <a:lnTo>
                    <a:pt x="76" y="363"/>
                  </a:lnTo>
                  <a:lnTo>
                    <a:pt x="63" y="350"/>
                  </a:lnTo>
                  <a:lnTo>
                    <a:pt x="50" y="340"/>
                  </a:lnTo>
                  <a:lnTo>
                    <a:pt x="39" y="327"/>
                  </a:lnTo>
                  <a:lnTo>
                    <a:pt x="30" y="317"/>
                  </a:lnTo>
                  <a:lnTo>
                    <a:pt x="19" y="303"/>
                  </a:lnTo>
                  <a:lnTo>
                    <a:pt x="11" y="290"/>
                  </a:lnTo>
                  <a:lnTo>
                    <a:pt x="4" y="275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4" y="227"/>
                  </a:lnTo>
                  <a:lnTo>
                    <a:pt x="11" y="212"/>
                  </a:lnTo>
                  <a:lnTo>
                    <a:pt x="23" y="203"/>
                  </a:lnTo>
                  <a:lnTo>
                    <a:pt x="33" y="191"/>
                  </a:lnTo>
                  <a:lnTo>
                    <a:pt x="45" y="183"/>
                  </a:lnTo>
                  <a:lnTo>
                    <a:pt x="57" y="173"/>
                  </a:lnTo>
                  <a:lnTo>
                    <a:pt x="69" y="164"/>
                  </a:lnTo>
                  <a:lnTo>
                    <a:pt x="77" y="161"/>
                  </a:lnTo>
                  <a:lnTo>
                    <a:pt x="87" y="160"/>
                  </a:lnTo>
                  <a:lnTo>
                    <a:pt x="96" y="156"/>
                  </a:lnTo>
                  <a:lnTo>
                    <a:pt x="105" y="152"/>
                  </a:lnTo>
                  <a:lnTo>
                    <a:pt x="96" y="132"/>
                  </a:lnTo>
                  <a:lnTo>
                    <a:pt x="87" y="113"/>
                  </a:lnTo>
                  <a:lnTo>
                    <a:pt x="74" y="96"/>
                  </a:lnTo>
                  <a:lnTo>
                    <a:pt x="63" y="79"/>
                  </a:lnTo>
                  <a:lnTo>
                    <a:pt x="48" y="62"/>
                  </a:lnTo>
                  <a:lnTo>
                    <a:pt x="34" y="48"/>
                  </a:lnTo>
                  <a:lnTo>
                    <a:pt x="20" y="33"/>
                  </a:lnTo>
                  <a:lnTo>
                    <a:pt x="6" y="20"/>
                  </a:lnTo>
                  <a:lnTo>
                    <a:pt x="10" y="6"/>
                  </a:lnTo>
                  <a:lnTo>
                    <a:pt x="21" y="0"/>
                  </a:lnTo>
                  <a:lnTo>
                    <a:pt x="40" y="6"/>
                  </a:lnTo>
                  <a:lnTo>
                    <a:pt x="60" y="17"/>
                  </a:lnTo>
                  <a:lnTo>
                    <a:pt x="78" y="31"/>
                  </a:lnTo>
                  <a:lnTo>
                    <a:pt x="95" y="50"/>
                  </a:lnTo>
                  <a:lnTo>
                    <a:pt x="109" y="68"/>
                  </a:lnTo>
                  <a:lnTo>
                    <a:pt x="124" y="89"/>
                  </a:lnTo>
                  <a:lnTo>
                    <a:pt x="138" y="110"/>
                  </a:lnTo>
                  <a:lnTo>
                    <a:pt x="150" y="132"/>
                  </a:lnTo>
                  <a:lnTo>
                    <a:pt x="162" y="122"/>
                  </a:lnTo>
                  <a:lnTo>
                    <a:pt x="177" y="116"/>
                  </a:lnTo>
                  <a:lnTo>
                    <a:pt x="192" y="110"/>
                  </a:lnTo>
                  <a:lnTo>
                    <a:pt x="209" y="110"/>
                  </a:lnTo>
                  <a:lnTo>
                    <a:pt x="224" y="109"/>
                  </a:lnTo>
                  <a:lnTo>
                    <a:pt x="240" y="110"/>
                  </a:lnTo>
                  <a:lnTo>
                    <a:pt x="254" y="112"/>
                  </a:lnTo>
                  <a:lnTo>
                    <a:pt x="268" y="115"/>
                  </a:lnTo>
                  <a:lnTo>
                    <a:pt x="283" y="122"/>
                  </a:lnTo>
                  <a:lnTo>
                    <a:pt x="297" y="133"/>
                  </a:lnTo>
                  <a:lnTo>
                    <a:pt x="308" y="146"/>
                  </a:lnTo>
                  <a:lnTo>
                    <a:pt x="319" y="163"/>
                  </a:lnTo>
                  <a:lnTo>
                    <a:pt x="325" y="178"/>
                  </a:lnTo>
                  <a:lnTo>
                    <a:pt x="331" y="197"/>
                  </a:lnTo>
                  <a:lnTo>
                    <a:pt x="335" y="214"/>
                  </a:lnTo>
                  <a:lnTo>
                    <a:pt x="340" y="232"/>
                  </a:lnTo>
                  <a:lnTo>
                    <a:pt x="338" y="262"/>
                  </a:lnTo>
                  <a:lnTo>
                    <a:pt x="330" y="292"/>
                  </a:lnTo>
                  <a:lnTo>
                    <a:pt x="317" y="317"/>
                  </a:lnTo>
                  <a:lnTo>
                    <a:pt x="302" y="343"/>
                  </a:lnTo>
                  <a:lnTo>
                    <a:pt x="283" y="364"/>
                  </a:lnTo>
                  <a:lnTo>
                    <a:pt x="265" y="387"/>
                  </a:lnTo>
                  <a:lnTo>
                    <a:pt x="246" y="408"/>
                  </a:lnTo>
                  <a:lnTo>
                    <a:pt x="231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42120" y="4113360"/>
              <a:ext cx="209520" cy="27504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52" y="241"/>
                  </a:moveTo>
                  <a:lnTo>
                    <a:pt x="38" y="241"/>
                  </a:lnTo>
                  <a:lnTo>
                    <a:pt x="28" y="236"/>
                  </a:lnTo>
                  <a:lnTo>
                    <a:pt x="18" y="228"/>
                  </a:lnTo>
                  <a:lnTo>
                    <a:pt x="13" y="217"/>
                  </a:lnTo>
                  <a:lnTo>
                    <a:pt x="4" y="191"/>
                  </a:lnTo>
                  <a:lnTo>
                    <a:pt x="0" y="166"/>
                  </a:lnTo>
                  <a:lnTo>
                    <a:pt x="0" y="140"/>
                  </a:lnTo>
                  <a:lnTo>
                    <a:pt x="5" y="116"/>
                  </a:lnTo>
                  <a:lnTo>
                    <a:pt x="12" y="90"/>
                  </a:lnTo>
                  <a:lnTo>
                    <a:pt x="19" y="66"/>
                  </a:lnTo>
                  <a:lnTo>
                    <a:pt x="27" y="42"/>
                  </a:lnTo>
                  <a:lnTo>
                    <a:pt x="34" y="21"/>
                  </a:lnTo>
                  <a:lnTo>
                    <a:pt x="39" y="13"/>
                  </a:lnTo>
                  <a:lnTo>
                    <a:pt x="47" y="7"/>
                  </a:lnTo>
                  <a:lnTo>
                    <a:pt x="55" y="3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9" y="1"/>
                  </a:lnTo>
                  <a:lnTo>
                    <a:pt x="86" y="4"/>
                  </a:lnTo>
                  <a:lnTo>
                    <a:pt x="95" y="11"/>
                  </a:lnTo>
                  <a:lnTo>
                    <a:pt x="105" y="28"/>
                  </a:lnTo>
                  <a:lnTo>
                    <a:pt x="112" y="49"/>
                  </a:lnTo>
                  <a:lnTo>
                    <a:pt x="115" y="72"/>
                  </a:lnTo>
                  <a:lnTo>
                    <a:pt x="118" y="96"/>
                  </a:lnTo>
                  <a:lnTo>
                    <a:pt x="117" y="119"/>
                  </a:lnTo>
                  <a:lnTo>
                    <a:pt x="113" y="143"/>
                  </a:lnTo>
                  <a:lnTo>
                    <a:pt x="106" y="164"/>
                  </a:lnTo>
                  <a:lnTo>
                    <a:pt x="100" y="187"/>
                  </a:lnTo>
                  <a:lnTo>
                    <a:pt x="91" y="201"/>
                  </a:lnTo>
                  <a:lnTo>
                    <a:pt x="80" y="215"/>
                  </a:lnTo>
                  <a:lnTo>
                    <a:pt x="72" y="221"/>
                  </a:lnTo>
                  <a:lnTo>
                    <a:pt x="66" y="228"/>
                  </a:lnTo>
                  <a:lnTo>
                    <a:pt x="58" y="234"/>
                  </a:lnTo>
                  <a:lnTo>
                    <a:pt x="52" y="241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85520" y="1249200"/>
              <a:ext cx="415800" cy="254880"/>
            </a:xfrm>
            <a:custGeom>
              <a:avLst/>
              <a:gdLst/>
              <a:ahLst/>
              <a:rect l="l" t="t" r="r" b="b"/>
              <a:pathLst>
                <a:path w="234" h="224">
                  <a:moveTo>
                    <a:pt x="155" y="224"/>
                  </a:moveTo>
                  <a:lnTo>
                    <a:pt x="131" y="211"/>
                  </a:lnTo>
                  <a:lnTo>
                    <a:pt x="107" y="200"/>
                  </a:lnTo>
                  <a:lnTo>
                    <a:pt x="83" y="187"/>
                  </a:lnTo>
                  <a:lnTo>
                    <a:pt x="60" y="174"/>
                  </a:lnTo>
                  <a:lnTo>
                    <a:pt x="38" y="157"/>
                  </a:lnTo>
                  <a:lnTo>
                    <a:pt x="20" y="137"/>
                  </a:lnTo>
                  <a:lnTo>
                    <a:pt x="6" y="113"/>
                  </a:lnTo>
                  <a:lnTo>
                    <a:pt x="0" y="86"/>
                  </a:lnTo>
                  <a:lnTo>
                    <a:pt x="7" y="73"/>
                  </a:lnTo>
                  <a:lnTo>
                    <a:pt x="19" y="64"/>
                  </a:lnTo>
                  <a:lnTo>
                    <a:pt x="30" y="54"/>
                  </a:lnTo>
                  <a:lnTo>
                    <a:pt x="43" y="47"/>
                  </a:lnTo>
                  <a:lnTo>
                    <a:pt x="55" y="39"/>
                  </a:lnTo>
                  <a:lnTo>
                    <a:pt x="69" y="35"/>
                  </a:lnTo>
                  <a:lnTo>
                    <a:pt x="84" y="34"/>
                  </a:lnTo>
                  <a:lnTo>
                    <a:pt x="101" y="35"/>
                  </a:lnTo>
                  <a:lnTo>
                    <a:pt x="110" y="24"/>
                  </a:lnTo>
                  <a:lnTo>
                    <a:pt x="121" y="15"/>
                  </a:lnTo>
                  <a:lnTo>
                    <a:pt x="132" y="8"/>
                  </a:lnTo>
                  <a:lnTo>
                    <a:pt x="146" y="4"/>
                  </a:lnTo>
                  <a:lnTo>
                    <a:pt x="159" y="0"/>
                  </a:lnTo>
                  <a:lnTo>
                    <a:pt x="173" y="0"/>
                  </a:lnTo>
                  <a:lnTo>
                    <a:pt x="188" y="0"/>
                  </a:lnTo>
                  <a:lnTo>
                    <a:pt x="203" y="3"/>
                  </a:lnTo>
                  <a:lnTo>
                    <a:pt x="212" y="15"/>
                  </a:lnTo>
                  <a:lnTo>
                    <a:pt x="221" y="31"/>
                  </a:lnTo>
                  <a:lnTo>
                    <a:pt x="227" y="48"/>
                  </a:lnTo>
                  <a:lnTo>
                    <a:pt x="232" y="65"/>
                  </a:lnTo>
                  <a:lnTo>
                    <a:pt x="234" y="82"/>
                  </a:lnTo>
                  <a:lnTo>
                    <a:pt x="234" y="100"/>
                  </a:lnTo>
                  <a:lnTo>
                    <a:pt x="231" y="117"/>
                  </a:lnTo>
                  <a:lnTo>
                    <a:pt x="225" y="137"/>
                  </a:lnTo>
                  <a:lnTo>
                    <a:pt x="216" y="149"/>
                  </a:lnTo>
                  <a:lnTo>
                    <a:pt x="207" y="160"/>
                  </a:lnTo>
                  <a:lnTo>
                    <a:pt x="198" y="171"/>
                  </a:lnTo>
                  <a:lnTo>
                    <a:pt x="189" y="183"/>
                  </a:lnTo>
                  <a:lnTo>
                    <a:pt x="179" y="192"/>
                  </a:lnTo>
                  <a:lnTo>
                    <a:pt x="172" y="202"/>
                  </a:lnTo>
                  <a:lnTo>
                    <a:pt x="163" y="212"/>
                  </a:lnTo>
                  <a:lnTo>
                    <a:pt x="155" y="224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4920" y="1747800"/>
              <a:ext cx="609840" cy="491760"/>
            </a:xfrm>
            <a:custGeom>
              <a:avLst/>
              <a:gdLst/>
              <a:ahLst/>
              <a:rect l="l" t="t" r="r" b="b"/>
              <a:pathLst>
                <a:path w="343" h="430">
                  <a:moveTo>
                    <a:pt x="232" y="430"/>
                  </a:moveTo>
                  <a:lnTo>
                    <a:pt x="209" y="428"/>
                  </a:lnTo>
                  <a:lnTo>
                    <a:pt x="190" y="422"/>
                  </a:lnTo>
                  <a:lnTo>
                    <a:pt x="171" y="414"/>
                  </a:lnTo>
                  <a:lnTo>
                    <a:pt x="152" y="405"/>
                  </a:lnTo>
                  <a:lnTo>
                    <a:pt x="133" y="392"/>
                  </a:lnTo>
                  <a:lnTo>
                    <a:pt x="114" y="381"/>
                  </a:lnTo>
                  <a:lnTo>
                    <a:pt x="95" y="370"/>
                  </a:lnTo>
                  <a:lnTo>
                    <a:pt x="76" y="360"/>
                  </a:lnTo>
                  <a:lnTo>
                    <a:pt x="63" y="347"/>
                  </a:lnTo>
                  <a:lnTo>
                    <a:pt x="51" y="337"/>
                  </a:lnTo>
                  <a:lnTo>
                    <a:pt x="39" y="326"/>
                  </a:lnTo>
                  <a:lnTo>
                    <a:pt x="30" y="316"/>
                  </a:lnTo>
                  <a:lnTo>
                    <a:pt x="19" y="302"/>
                  </a:lnTo>
                  <a:lnTo>
                    <a:pt x="11" y="289"/>
                  </a:lnTo>
                  <a:lnTo>
                    <a:pt x="4" y="275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4" y="227"/>
                  </a:lnTo>
                  <a:lnTo>
                    <a:pt x="11" y="212"/>
                  </a:lnTo>
                  <a:lnTo>
                    <a:pt x="23" y="204"/>
                  </a:lnTo>
                  <a:lnTo>
                    <a:pt x="34" y="193"/>
                  </a:lnTo>
                  <a:lnTo>
                    <a:pt x="47" y="184"/>
                  </a:lnTo>
                  <a:lnTo>
                    <a:pt x="59" y="174"/>
                  </a:lnTo>
                  <a:lnTo>
                    <a:pt x="72" y="166"/>
                  </a:lnTo>
                  <a:lnTo>
                    <a:pt x="81" y="161"/>
                  </a:lnTo>
                  <a:lnTo>
                    <a:pt x="90" y="160"/>
                  </a:lnTo>
                  <a:lnTo>
                    <a:pt x="99" y="156"/>
                  </a:lnTo>
                  <a:lnTo>
                    <a:pt x="109" y="151"/>
                  </a:lnTo>
                  <a:lnTo>
                    <a:pt x="99" y="130"/>
                  </a:lnTo>
                  <a:lnTo>
                    <a:pt x="89" y="113"/>
                  </a:lnTo>
                  <a:lnTo>
                    <a:pt x="76" y="95"/>
                  </a:lnTo>
                  <a:lnTo>
                    <a:pt x="65" y="79"/>
                  </a:lnTo>
                  <a:lnTo>
                    <a:pt x="51" y="62"/>
                  </a:lnTo>
                  <a:lnTo>
                    <a:pt x="37" y="48"/>
                  </a:lnTo>
                  <a:lnTo>
                    <a:pt x="23" y="34"/>
                  </a:lnTo>
                  <a:lnTo>
                    <a:pt x="10" y="21"/>
                  </a:lnTo>
                  <a:lnTo>
                    <a:pt x="8" y="13"/>
                  </a:lnTo>
                  <a:lnTo>
                    <a:pt x="10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61" y="18"/>
                  </a:lnTo>
                  <a:lnTo>
                    <a:pt x="78" y="32"/>
                  </a:lnTo>
                  <a:lnTo>
                    <a:pt x="96" y="51"/>
                  </a:lnTo>
                  <a:lnTo>
                    <a:pt x="111" y="69"/>
                  </a:lnTo>
                  <a:lnTo>
                    <a:pt x="127" y="89"/>
                  </a:lnTo>
                  <a:lnTo>
                    <a:pt x="140" y="110"/>
                  </a:lnTo>
                  <a:lnTo>
                    <a:pt x="154" y="132"/>
                  </a:lnTo>
                  <a:lnTo>
                    <a:pt x="164" y="120"/>
                  </a:lnTo>
                  <a:lnTo>
                    <a:pt x="178" y="115"/>
                  </a:lnTo>
                  <a:lnTo>
                    <a:pt x="194" y="110"/>
                  </a:lnTo>
                  <a:lnTo>
                    <a:pt x="209" y="110"/>
                  </a:lnTo>
                  <a:lnTo>
                    <a:pt x="224" y="109"/>
                  </a:lnTo>
                  <a:lnTo>
                    <a:pt x="240" y="110"/>
                  </a:lnTo>
                  <a:lnTo>
                    <a:pt x="254" y="112"/>
                  </a:lnTo>
                  <a:lnTo>
                    <a:pt x="268" y="115"/>
                  </a:lnTo>
                  <a:lnTo>
                    <a:pt x="283" y="122"/>
                  </a:lnTo>
                  <a:lnTo>
                    <a:pt x="297" y="133"/>
                  </a:lnTo>
                  <a:lnTo>
                    <a:pt x="309" y="144"/>
                  </a:lnTo>
                  <a:lnTo>
                    <a:pt x="319" y="161"/>
                  </a:lnTo>
                  <a:lnTo>
                    <a:pt x="325" y="177"/>
                  </a:lnTo>
                  <a:lnTo>
                    <a:pt x="333" y="194"/>
                  </a:lnTo>
                  <a:lnTo>
                    <a:pt x="338" y="211"/>
                  </a:lnTo>
                  <a:lnTo>
                    <a:pt x="343" y="229"/>
                  </a:lnTo>
                  <a:lnTo>
                    <a:pt x="339" y="261"/>
                  </a:lnTo>
                  <a:lnTo>
                    <a:pt x="333" y="290"/>
                  </a:lnTo>
                  <a:lnTo>
                    <a:pt x="320" y="316"/>
                  </a:lnTo>
                  <a:lnTo>
                    <a:pt x="305" y="343"/>
                  </a:lnTo>
                  <a:lnTo>
                    <a:pt x="286" y="364"/>
                  </a:lnTo>
                  <a:lnTo>
                    <a:pt x="268" y="387"/>
                  </a:lnTo>
                  <a:lnTo>
                    <a:pt x="249" y="408"/>
                  </a:lnTo>
                  <a:lnTo>
                    <a:pt x="232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71040" y="1923480"/>
              <a:ext cx="412560" cy="254880"/>
            </a:xfrm>
            <a:custGeom>
              <a:avLst/>
              <a:gdLst/>
              <a:ahLst/>
              <a:rect l="l" t="t" r="r" b="b"/>
              <a:pathLst>
                <a:path w="232" h="224">
                  <a:moveTo>
                    <a:pt x="153" y="224"/>
                  </a:moveTo>
                  <a:lnTo>
                    <a:pt x="129" y="211"/>
                  </a:lnTo>
                  <a:lnTo>
                    <a:pt x="107" y="201"/>
                  </a:lnTo>
                  <a:lnTo>
                    <a:pt x="81" y="188"/>
                  </a:lnTo>
                  <a:lnTo>
                    <a:pt x="60" y="176"/>
                  </a:lnTo>
                  <a:lnTo>
                    <a:pt x="38" y="159"/>
                  </a:lnTo>
                  <a:lnTo>
                    <a:pt x="21" y="139"/>
                  </a:lnTo>
                  <a:lnTo>
                    <a:pt x="7" y="116"/>
                  </a:lnTo>
                  <a:lnTo>
                    <a:pt x="0" y="89"/>
                  </a:lnTo>
                  <a:lnTo>
                    <a:pt x="8" y="76"/>
                  </a:lnTo>
                  <a:lnTo>
                    <a:pt x="18" y="66"/>
                  </a:lnTo>
                  <a:lnTo>
                    <a:pt x="28" y="57"/>
                  </a:lnTo>
                  <a:lnTo>
                    <a:pt x="42" y="49"/>
                  </a:lnTo>
                  <a:lnTo>
                    <a:pt x="55" y="42"/>
                  </a:lnTo>
                  <a:lnTo>
                    <a:pt x="70" y="40"/>
                  </a:lnTo>
                  <a:lnTo>
                    <a:pt x="85" y="37"/>
                  </a:lnTo>
                  <a:lnTo>
                    <a:pt x="103" y="40"/>
                  </a:lnTo>
                  <a:lnTo>
                    <a:pt x="110" y="27"/>
                  </a:lnTo>
                  <a:lnTo>
                    <a:pt x="122" y="18"/>
                  </a:lnTo>
                  <a:lnTo>
                    <a:pt x="133" y="11"/>
                  </a:lnTo>
                  <a:lnTo>
                    <a:pt x="146" y="7"/>
                  </a:lnTo>
                  <a:lnTo>
                    <a:pt x="157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2" y="3"/>
                  </a:lnTo>
                  <a:lnTo>
                    <a:pt x="210" y="17"/>
                  </a:lnTo>
                  <a:lnTo>
                    <a:pt x="219" y="34"/>
                  </a:lnTo>
                  <a:lnTo>
                    <a:pt x="226" y="51"/>
                  </a:lnTo>
                  <a:lnTo>
                    <a:pt x="231" y="68"/>
                  </a:lnTo>
                  <a:lnTo>
                    <a:pt x="232" y="85"/>
                  </a:lnTo>
                  <a:lnTo>
                    <a:pt x="232" y="102"/>
                  </a:lnTo>
                  <a:lnTo>
                    <a:pt x="229" y="119"/>
                  </a:lnTo>
                  <a:lnTo>
                    <a:pt x="223" y="137"/>
                  </a:lnTo>
                  <a:lnTo>
                    <a:pt x="214" y="149"/>
                  </a:lnTo>
                  <a:lnTo>
                    <a:pt x="205" y="160"/>
                  </a:lnTo>
                  <a:lnTo>
                    <a:pt x="197" y="171"/>
                  </a:lnTo>
                  <a:lnTo>
                    <a:pt x="189" y="184"/>
                  </a:lnTo>
                  <a:lnTo>
                    <a:pt x="179" y="194"/>
                  </a:lnTo>
                  <a:lnTo>
                    <a:pt x="171" y="204"/>
                  </a:lnTo>
                  <a:lnTo>
                    <a:pt x="161" y="214"/>
                  </a:lnTo>
                  <a:lnTo>
                    <a:pt x="153" y="224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6640" y="3132000"/>
              <a:ext cx="612000" cy="489240"/>
            </a:xfrm>
            <a:custGeom>
              <a:avLst/>
              <a:gdLst/>
              <a:ahLst/>
              <a:rect l="l" t="t" r="r" b="b"/>
              <a:pathLst>
                <a:path w="344" h="431">
                  <a:moveTo>
                    <a:pt x="233" y="431"/>
                  </a:moveTo>
                  <a:lnTo>
                    <a:pt x="210" y="428"/>
                  </a:lnTo>
                  <a:lnTo>
                    <a:pt x="190" y="424"/>
                  </a:lnTo>
                  <a:lnTo>
                    <a:pt x="171" y="415"/>
                  </a:lnTo>
                  <a:lnTo>
                    <a:pt x="152" y="407"/>
                  </a:lnTo>
                  <a:lnTo>
                    <a:pt x="133" y="395"/>
                  </a:lnTo>
                  <a:lnTo>
                    <a:pt x="114" y="384"/>
                  </a:lnTo>
                  <a:lnTo>
                    <a:pt x="95" y="373"/>
                  </a:lnTo>
                  <a:lnTo>
                    <a:pt x="76" y="363"/>
                  </a:lnTo>
                  <a:lnTo>
                    <a:pt x="63" y="350"/>
                  </a:lnTo>
                  <a:lnTo>
                    <a:pt x="50" y="340"/>
                  </a:lnTo>
                  <a:lnTo>
                    <a:pt x="39" y="329"/>
                  </a:lnTo>
                  <a:lnTo>
                    <a:pt x="30" y="319"/>
                  </a:lnTo>
                  <a:lnTo>
                    <a:pt x="19" y="305"/>
                  </a:lnTo>
                  <a:lnTo>
                    <a:pt x="11" y="292"/>
                  </a:lnTo>
                  <a:lnTo>
                    <a:pt x="5" y="278"/>
                  </a:lnTo>
                  <a:lnTo>
                    <a:pt x="1" y="262"/>
                  </a:lnTo>
                  <a:lnTo>
                    <a:pt x="0" y="242"/>
                  </a:lnTo>
                  <a:lnTo>
                    <a:pt x="4" y="227"/>
                  </a:lnTo>
                  <a:lnTo>
                    <a:pt x="11" y="213"/>
                  </a:lnTo>
                  <a:lnTo>
                    <a:pt x="23" y="203"/>
                  </a:lnTo>
                  <a:lnTo>
                    <a:pt x="34" y="191"/>
                  </a:lnTo>
                  <a:lnTo>
                    <a:pt x="48" y="183"/>
                  </a:lnTo>
                  <a:lnTo>
                    <a:pt x="60" y="174"/>
                  </a:lnTo>
                  <a:lnTo>
                    <a:pt x="73" y="167"/>
                  </a:lnTo>
                  <a:lnTo>
                    <a:pt x="81" y="163"/>
                  </a:lnTo>
                  <a:lnTo>
                    <a:pt x="90" y="162"/>
                  </a:lnTo>
                  <a:lnTo>
                    <a:pt x="97" y="159"/>
                  </a:lnTo>
                  <a:lnTo>
                    <a:pt x="106" y="155"/>
                  </a:lnTo>
                  <a:lnTo>
                    <a:pt x="97" y="133"/>
                  </a:lnTo>
                  <a:lnTo>
                    <a:pt x="88" y="115"/>
                  </a:lnTo>
                  <a:lnTo>
                    <a:pt x="76" y="97"/>
                  </a:lnTo>
                  <a:lnTo>
                    <a:pt x="64" y="81"/>
                  </a:lnTo>
                  <a:lnTo>
                    <a:pt x="50" y="64"/>
                  </a:lnTo>
                  <a:lnTo>
                    <a:pt x="36" y="50"/>
                  </a:lnTo>
                  <a:lnTo>
                    <a:pt x="23" y="36"/>
                  </a:lnTo>
                  <a:lnTo>
                    <a:pt x="10" y="2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42" y="7"/>
                  </a:lnTo>
                  <a:lnTo>
                    <a:pt x="60" y="19"/>
                  </a:lnTo>
                  <a:lnTo>
                    <a:pt x="78" y="33"/>
                  </a:lnTo>
                  <a:lnTo>
                    <a:pt x="97" y="51"/>
                  </a:lnTo>
                  <a:lnTo>
                    <a:pt x="112" y="70"/>
                  </a:lnTo>
                  <a:lnTo>
                    <a:pt x="128" y="91"/>
                  </a:lnTo>
                  <a:lnTo>
                    <a:pt x="140" y="112"/>
                  </a:lnTo>
                  <a:lnTo>
                    <a:pt x="154" y="135"/>
                  </a:lnTo>
                  <a:lnTo>
                    <a:pt x="166" y="123"/>
                  </a:lnTo>
                  <a:lnTo>
                    <a:pt x="179" y="118"/>
                  </a:lnTo>
                  <a:lnTo>
                    <a:pt x="195" y="112"/>
                  </a:lnTo>
                  <a:lnTo>
                    <a:pt x="210" y="112"/>
                  </a:lnTo>
                  <a:lnTo>
                    <a:pt x="225" y="112"/>
                  </a:lnTo>
                  <a:lnTo>
                    <a:pt x="240" y="114"/>
                  </a:lnTo>
                  <a:lnTo>
                    <a:pt x="254" y="115"/>
                  </a:lnTo>
                  <a:lnTo>
                    <a:pt x="268" y="118"/>
                  </a:lnTo>
                  <a:lnTo>
                    <a:pt x="283" y="123"/>
                  </a:lnTo>
                  <a:lnTo>
                    <a:pt x="297" y="133"/>
                  </a:lnTo>
                  <a:lnTo>
                    <a:pt x="308" y="146"/>
                  </a:lnTo>
                  <a:lnTo>
                    <a:pt x="319" y="163"/>
                  </a:lnTo>
                  <a:lnTo>
                    <a:pt x="325" y="179"/>
                  </a:lnTo>
                  <a:lnTo>
                    <a:pt x="333" y="197"/>
                  </a:lnTo>
                  <a:lnTo>
                    <a:pt x="338" y="214"/>
                  </a:lnTo>
                  <a:lnTo>
                    <a:pt x="344" y="232"/>
                  </a:lnTo>
                  <a:lnTo>
                    <a:pt x="340" y="264"/>
                  </a:lnTo>
                  <a:lnTo>
                    <a:pt x="333" y="293"/>
                  </a:lnTo>
                  <a:lnTo>
                    <a:pt x="320" y="319"/>
                  </a:lnTo>
                  <a:lnTo>
                    <a:pt x="305" y="344"/>
                  </a:lnTo>
                  <a:lnTo>
                    <a:pt x="286" y="367"/>
                  </a:lnTo>
                  <a:lnTo>
                    <a:pt x="268" y="390"/>
                  </a:lnTo>
                  <a:lnTo>
                    <a:pt x="249" y="410"/>
                  </a:lnTo>
                  <a:lnTo>
                    <a:pt x="233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34560" y="3309480"/>
              <a:ext cx="412560" cy="254880"/>
            </a:xfrm>
            <a:custGeom>
              <a:avLst/>
              <a:gdLst/>
              <a:ahLst/>
              <a:rect l="l" t="t" r="r" b="b"/>
              <a:pathLst>
                <a:path w="232" h="224">
                  <a:moveTo>
                    <a:pt x="154" y="224"/>
                  </a:moveTo>
                  <a:lnTo>
                    <a:pt x="129" y="211"/>
                  </a:lnTo>
                  <a:lnTo>
                    <a:pt x="107" y="201"/>
                  </a:lnTo>
                  <a:lnTo>
                    <a:pt x="81" y="188"/>
                  </a:lnTo>
                  <a:lnTo>
                    <a:pt x="60" y="176"/>
                  </a:lnTo>
                  <a:lnTo>
                    <a:pt x="38" y="159"/>
                  </a:lnTo>
                  <a:lnTo>
                    <a:pt x="21" y="139"/>
                  </a:lnTo>
                  <a:lnTo>
                    <a:pt x="7" y="116"/>
                  </a:lnTo>
                  <a:lnTo>
                    <a:pt x="0" y="89"/>
                  </a:lnTo>
                  <a:lnTo>
                    <a:pt x="8" y="76"/>
                  </a:lnTo>
                  <a:lnTo>
                    <a:pt x="18" y="65"/>
                  </a:lnTo>
                  <a:lnTo>
                    <a:pt x="28" y="54"/>
                  </a:lnTo>
                  <a:lnTo>
                    <a:pt x="41" y="47"/>
                  </a:lnTo>
                  <a:lnTo>
                    <a:pt x="54" y="40"/>
                  </a:lnTo>
                  <a:lnTo>
                    <a:pt x="69" y="35"/>
                  </a:lnTo>
                  <a:lnTo>
                    <a:pt x="84" y="34"/>
                  </a:lnTo>
                  <a:lnTo>
                    <a:pt x="102" y="38"/>
                  </a:lnTo>
                  <a:lnTo>
                    <a:pt x="109" y="27"/>
                  </a:lnTo>
                  <a:lnTo>
                    <a:pt x="121" y="18"/>
                  </a:lnTo>
                  <a:lnTo>
                    <a:pt x="132" y="11"/>
                  </a:lnTo>
                  <a:lnTo>
                    <a:pt x="146" y="7"/>
                  </a:lnTo>
                  <a:lnTo>
                    <a:pt x="157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2" y="1"/>
                  </a:lnTo>
                  <a:lnTo>
                    <a:pt x="209" y="16"/>
                  </a:lnTo>
                  <a:lnTo>
                    <a:pt x="218" y="33"/>
                  </a:lnTo>
                  <a:lnTo>
                    <a:pt x="224" y="50"/>
                  </a:lnTo>
                  <a:lnTo>
                    <a:pt x="231" y="67"/>
                  </a:lnTo>
                  <a:lnTo>
                    <a:pt x="232" y="84"/>
                  </a:lnTo>
                  <a:lnTo>
                    <a:pt x="232" y="101"/>
                  </a:lnTo>
                  <a:lnTo>
                    <a:pt x="228" y="118"/>
                  </a:lnTo>
                  <a:lnTo>
                    <a:pt x="222" y="136"/>
                  </a:lnTo>
                  <a:lnTo>
                    <a:pt x="213" y="147"/>
                  </a:lnTo>
                  <a:lnTo>
                    <a:pt x="205" y="159"/>
                  </a:lnTo>
                  <a:lnTo>
                    <a:pt x="197" y="170"/>
                  </a:lnTo>
                  <a:lnTo>
                    <a:pt x="189" y="181"/>
                  </a:lnTo>
                  <a:lnTo>
                    <a:pt x="179" y="191"/>
                  </a:lnTo>
                  <a:lnTo>
                    <a:pt x="171" y="203"/>
                  </a:lnTo>
                  <a:lnTo>
                    <a:pt x="161" y="212"/>
                  </a:lnTo>
                  <a:lnTo>
                    <a:pt x="154" y="224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6040" y="1775160"/>
              <a:ext cx="594000" cy="548640"/>
            </a:xfrm>
            <a:custGeom>
              <a:avLst/>
              <a:gdLst/>
              <a:ahLst/>
              <a:rect l="l" t="t" r="r" b="b"/>
              <a:pathLst>
                <a:path w="334" h="482">
                  <a:moveTo>
                    <a:pt x="157" y="482"/>
                  </a:moveTo>
                  <a:lnTo>
                    <a:pt x="176" y="473"/>
                  </a:lnTo>
                  <a:lnTo>
                    <a:pt x="195" y="460"/>
                  </a:lnTo>
                  <a:lnTo>
                    <a:pt x="211" y="446"/>
                  </a:lnTo>
                  <a:lnTo>
                    <a:pt x="228" y="432"/>
                  </a:lnTo>
                  <a:lnTo>
                    <a:pt x="242" y="415"/>
                  </a:lnTo>
                  <a:lnTo>
                    <a:pt x="257" y="398"/>
                  </a:lnTo>
                  <a:lnTo>
                    <a:pt x="272" y="381"/>
                  </a:lnTo>
                  <a:lnTo>
                    <a:pt x="288" y="367"/>
                  </a:lnTo>
                  <a:lnTo>
                    <a:pt x="296" y="350"/>
                  </a:lnTo>
                  <a:lnTo>
                    <a:pt x="305" y="336"/>
                  </a:lnTo>
                  <a:lnTo>
                    <a:pt x="312" y="322"/>
                  </a:lnTo>
                  <a:lnTo>
                    <a:pt x="320" y="307"/>
                  </a:lnTo>
                  <a:lnTo>
                    <a:pt x="325" y="292"/>
                  </a:lnTo>
                  <a:lnTo>
                    <a:pt x="330" y="278"/>
                  </a:lnTo>
                  <a:lnTo>
                    <a:pt x="333" y="261"/>
                  </a:lnTo>
                  <a:lnTo>
                    <a:pt x="334" y="245"/>
                  </a:lnTo>
                  <a:lnTo>
                    <a:pt x="329" y="227"/>
                  </a:lnTo>
                  <a:lnTo>
                    <a:pt x="321" y="212"/>
                  </a:lnTo>
                  <a:lnTo>
                    <a:pt x="310" y="203"/>
                  </a:lnTo>
                  <a:lnTo>
                    <a:pt x="298" y="195"/>
                  </a:lnTo>
                  <a:lnTo>
                    <a:pt x="285" y="188"/>
                  </a:lnTo>
                  <a:lnTo>
                    <a:pt x="271" y="184"/>
                  </a:lnTo>
                  <a:lnTo>
                    <a:pt x="255" y="178"/>
                  </a:lnTo>
                  <a:lnTo>
                    <a:pt x="244" y="174"/>
                  </a:lnTo>
                  <a:lnTo>
                    <a:pt x="234" y="174"/>
                  </a:lnTo>
                  <a:lnTo>
                    <a:pt x="225" y="176"/>
                  </a:lnTo>
                  <a:lnTo>
                    <a:pt x="216" y="176"/>
                  </a:lnTo>
                  <a:lnTo>
                    <a:pt x="207" y="174"/>
                  </a:lnTo>
                  <a:lnTo>
                    <a:pt x="209" y="153"/>
                  </a:lnTo>
                  <a:lnTo>
                    <a:pt x="214" y="132"/>
                  </a:lnTo>
                  <a:lnTo>
                    <a:pt x="220" y="110"/>
                  </a:lnTo>
                  <a:lnTo>
                    <a:pt x="228" y="91"/>
                  </a:lnTo>
                  <a:lnTo>
                    <a:pt x="235" y="71"/>
                  </a:lnTo>
                  <a:lnTo>
                    <a:pt x="247" y="52"/>
                  </a:lnTo>
                  <a:lnTo>
                    <a:pt x="257" y="34"/>
                  </a:lnTo>
                  <a:lnTo>
                    <a:pt x="268" y="17"/>
                  </a:lnTo>
                  <a:lnTo>
                    <a:pt x="262" y="4"/>
                  </a:lnTo>
                  <a:lnTo>
                    <a:pt x="250" y="0"/>
                  </a:lnTo>
                  <a:lnTo>
                    <a:pt x="230" y="13"/>
                  </a:lnTo>
                  <a:lnTo>
                    <a:pt x="215" y="31"/>
                  </a:lnTo>
                  <a:lnTo>
                    <a:pt x="201" y="51"/>
                  </a:lnTo>
                  <a:lnTo>
                    <a:pt x="190" y="74"/>
                  </a:lnTo>
                  <a:lnTo>
                    <a:pt x="178" y="96"/>
                  </a:lnTo>
                  <a:lnTo>
                    <a:pt x="169" y="122"/>
                  </a:lnTo>
                  <a:lnTo>
                    <a:pt x="162" y="146"/>
                  </a:lnTo>
                  <a:lnTo>
                    <a:pt x="157" y="171"/>
                  </a:lnTo>
                  <a:lnTo>
                    <a:pt x="142" y="164"/>
                  </a:lnTo>
                  <a:lnTo>
                    <a:pt x="126" y="163"/>
                  </a:lnTo>
                  <a:lnTo>
                    <a:pt x="111" y="164"/>
                  </a:lnTo>
                  <a:lnTo>
                    <a:pt x="96" y="169"/>
                  </a:lnTo>
                  <a:lnTo>
                    <a:pt x="81" y="173"/>
                  </a:lnTo>
                  <a:lnTo>
                    <a:pt x="67" y="178"/>
                  </a:lnTo>
                  <a:lnTo>
                    <a:pt x="53" y="184"/>
                  </a:lnTo>
                  <a:lnTo>
                    <a:pt x="43" y="191"/>
                  </a:lnTo>
                  <a:lnTo>
                    <a:pt x="28" y="201"/>
                  </a:lnTo>
                  <a:lnTo>
                    <a:pt x="18" y="217"/>
                  </a:lnTo>
                  <a:lnTo>
                    <a:pt x="9" y="232"/>
                  </a:lnTo>
                  <a:lnTo>
                    <a:pt x="5" y="251"/>
                  </a:lnTo>
                  <a:lnTo>
                    <a:pt x="1" y="268"/>
                  </a:lnTo>
                  <a:lnTo>
                    <a:pt x="0" y="288"/>
                  </a:lnTo>
                  <a:lnTo>
                    <a:pt x="0" y="306"/>
                  </a:lnTo>
                  <a:lnTo>
                    <a:pt x="0" y="326"/>
                  </a:lnTo>
                  <a:lnTo>
                    <a:pt x="9" y="356"/>
                  </a:lnTo>
                  <a:lnTo>
                    <a:pt x="24" y="381"/>
                  </a:lnTo>
                  <a:lnTo>
                    <a:pt x="42" y="402"/>
                  </a:lnTo>
                  <a:lnTo>
                    <a:pt x="63" y="421"/>
                  </a:lnTo>
                  <a:lnTo>
                    <a:pt x="86" y="436"/>
                  </a:lnTo>
                  <a:lnTo>
                    <a:pt x="110" y="450"/>
                  </a:lnTo>
                  <a:lnTo>
                    <a:pt x="133" y="465"/>
                  </a:lnTo>
                  <a:lnTo>
                    <a:pt x="157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4960" y="2018880"/>
              <a:ext cx="407520" cy="238680"/>
            </a:xfrm>
            <a:custGeom>
              <a:avLst/>
              <a:gdLst/>
              <a:ahLst/>
              <a:rect l="l" t="t" r="r" b="b"/>
              <a:pathLst>
                <a:path w="229" h="211">
                  <a:moveTo>
                    <a:pt x="116" y="211"/>
                  </a:moveTo>
                  <a:lnTo>
                    <a:pt x="133" y="193"/>
                  </a:lnTo>
                  <a:lnTo>
                    <a:pt x="154" y="175"/>
                  </a:lnTo>
                  <a:lnTo>
                    <a:pt x="174" y="155"/>
                  </a:lnTo>
                  <a:lnTo>
                    <a:pt x="193" y="135"/>
                  </a:lnTo>
                  <a:lnTo>
                    <a:pt x="208" y="111"/>
                  </a:lnTo>
                  <a:lnTo>
                    <a:pt x="221" y="87"/>
                  </a:lnTo>
                  <a:lnTo>
                    <a:pt x="228" y="60"/>
                  </a:lnTo>
                  <a:lnTo>
                    <a:pt x="229" y="33"/>
                  </a:lnTo>
                  <a:lnTo>
                    <a:pt x="217" y="25"/>
                  </a:lnTo>
                  <a:lnTo>
                    <a:pt x="205" y="17"/>
                  </a:lnTo>
                  <a:lnTo>
                    <a:pt x="192" y="10"/>
                  </a:lnTo>
                  <a:lnTo>
                    <a:pt x="179" y="8"/>
                  </a:lnTo>
                  <a:lnTo>
                    <a:pt x="164" y="5"/>
                  </a:lnTo>
                  <a:lnTo>
                    <a:pt x="150" y="6"/>
                  </a:lnTo>
                  <a:lnTo>
                    <a:pt x="136" y="9"/>
                  </a:lnTo>
                  <a:lnTo>
                    <a:pt x="122" y="16"/>
                  </a:lnTo>
                  <a:lnTo>
                    <a:pt x="108" y="8"/>
                  </a:lnTo>
                  <a:lnTo>
                    <a:pt x="95" y="3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40" y="3"/>
                  </a:lnTo>
                  <a:lnTo>
                    <a:pt x="26" y="6"/>
                  </a:lnTo>
                  <a:lnTo>
                    <a:pt x="13" y="13"/>
                  </a:lnTo>
                  <a:lnTo>
                    <a:pt x="7" y="30"/>
                  </a:lnTo>
                  <a:lnTo>
                    <a:pt x="3" y="49"/>
                  </a:lnTo>
                  <a:lnTo>
                    <a:pt x="0" y="66"/>
                  </a:lnTo>
                  <a:lnTo>
                    <a:pt x="2" y="84"/>
                  </a:lnTo>
                  <a:lnTo>
                    <a:pt x="4" y="101"/>
                  </a:lnTo>
                  <a:lnTo>
                    <a:pt x="9" y="118"/>
                  </a:lnTo>
                  <a:lnTo>
                    <a:pt x="17" y="134"/>
                  </a:lnTo>
                  <a:lnTo>
                    <a:pt x="28" y="148"/>
                  </a:lnTo>
                  <a:lnTo>
                    <a:pt x="38" y="156"/>
                  </a:lnTo>
                  <a:lnTo>
                    <a:pt x="50" y="165"/>
                  </a:lnTo>
                  <a:lnTo>
                    <a:pt x="60" y="173"/>
                  </a:lnTo>
                  <a:lnTo>
                    <a:pt x="71" y="183"/>
                  </a:lnTo>
                  <a:lnTo>
                    <a:pt x="81" y="190"/>
                  </a:lnTo>
                  <a:lnTo>
                    <a:pt x="93" y="197"/>
                  </a:lnTo>
                  <a:lnTo>
                    <a:pt x="104" y="204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2120" y="3375720"/>
              <a:ext cx="594360" cy="548640"/>
            </a:xfrm>
            <a:custGeom>
              <a:avLst/>
              <a:gdLst/>
              <a:ahLst/>
              <a:rect l="l" t="t" r="r" b="b"/>
              <a:pathLst>
                <a:path w="334" h="482">
                  <a:moveTo>
                    <a:pt x="157" y="482"/>
                  </a:moveTo>
                  <a:lnTo>
                    <a:pt x="176" y="473"/>
                  </a:lnTo>
                  <a:lnTo>
                    <a:pt x="195" y="462"/>
                  </a:lnTo>
                  <a:lnTo>
                    <a:pt x="211" y="448"/>
                  </a:lnTo>
                  <a:lnTo>
                    <a:pt x="228" y="432"/>
                  </a:lnTo>
                  <a:lnTo>
                    <a:pt x="242" y="415"/>
                  </a:lnTo>
                  <a:lnTo>
                    <a:pt x="257" y="398"/>
                  </a:lnTo>
                  <a:lnTo>
                    <a:pt x="272" y="380"/>
                  </a:lnTo>
                  <a:lnTo>
                    <a:pt x="288" y="364"/>
                  </a:lnTo>
                  <a:lnTo>
                    <a:pt x="296" y="349"/>
                  </a:lnTo>
                  <a:lnTo>
                    <a:pt x="305" y="334"/>
                  </a:lnTo>
                  <a:lnTo>
                    <a:pt x="312" y="320"/>
                  </a:lnTo>
                  <a:lnTo>
                    <a:pt x="320" y="307"/>
                  </a:lnTo>
                  <a:lnTo>
                    <a:pt x="325" y="292"/>
                  </a:lnTo>
                  <a:lnTo>
                    <a:pt x="330" y="276"/>
                  </a:lnTo>
                  <a:lnTo>
                    <a:pt x="333" y="259"/>
                  </a:lnTo>
                  <a:lnTo>
                    <a:pt x="334" y="244"/>
                  </a:lnTo>
                  <a:lnTo>
                    <a:pt x="329" y="225"/>
                  </a:lnTo>
                  <a:lnTo>
                    <a:pt x="321" y="213"/>
                  </a:lnTo>
                  <a:lnTo>
                    <a:pt x="310" y="203"/>
                  </a:lnTo>
                  <a:lnTo>
                    <a:pt x="299" y="196"/>
                  </a:lnTo>
                  <a:lnTo>
                    <a:pt x="285" y="188"/>
                  </a:lnTo>
                  <a:lnTo>
                    <a:pt x="271" y="184"/>
                  </a:lnTo>
                  <a:lnTo>
                    <a:pt x="255" y="180"/>
                  </a:lnTo>
                  <a:lnTo>
                    <a:pt x="244" y="176"/>
                  </a:lnTo>
                  <a:lnTo>
                    <a:pt x="234" y="176"/>
                  </a:lnTo>
                  <a:lnTo>
                    <a:pt x="224" y="177"/>
                  </a:lnTo>
                  <a:lnTo>
                    <a:pt x="214" y="176"/>
                  </a:lnTo>
                  <a:lnTo>
                    <a:pt x="207" y="176"/>
                  </a:lnTo>
                  <a:lnTo>
                    <a:pt x="209" y="153"/>
                  </a:lnTo>
                  <a:lnTo>
                    <a:pt x="214" y="132"/>
                  </a:lnTo>
                  <a:lnTo>
                    <a:pt x="220" y="111"/>
                  </a:lnTo>
                  <a:lnTo>
                    <a:pt x="228" y="91"/>
                  </a:lnTo>
                  <a:lnTo>
                    <a:pt x="235" y="69"/>
                  </a:lnTo>
                  <a:lnTo>
                    <a:pt x="247" y="52"/>
                  </a:lnTo>
                  <a:lnTo>
                    <a:pt x="257" y="34"/>
                  </a:lnTo>
                  <a:lnTo>
                    <a:pt x="268" y="18"/>
                  </a:lnTo>
                  <a:lnTo>
                    <a:pt x="264" y="10"/>
                  </a:lnTo>
                  <a:lnTo>
                    <a:pt x="261" y="3"/>
                  </a:lnTo>
                  <a:lnTo>
                    <a:pt x="255" y="0"/>
                  </a:lnTo>
                  <a:lnTo>
                    <a:pt x="249" y="2"/>
                  </a:lnTo>
                  <a:lnTo>
                    <a:pt x="230" y="14"/>
                  </a:lnTo>
                  <a:lnTo>
                    <a:pt x="215" y="31"/>
                  </a:lnTo>
                  <a:lnTo>
                    <a:pt x="200" y="50"/>
                  </a:lnTo>
                  <a:lnTo>
                    <a:pt x="190" y="72"/>
                  </a:lnTo>
                  <a:lnTo>
                    <a:pt x="178" y="94"/>
                  </a:lnTo>
                  <a:lnTo>
                    <a:pt x="169" y="119"/>
                  </a:lnTo>
                  <a:lnTo>
                    <a:pt x="162" y="143"/>
                  </a:lnTo>
                  <a:lnTo>
                    <a:pt x="157" y="169"/>
                  </a:lnTo>
                  <a:lnTo>
                    <a:pt x="142" y="163"/>
                  </a:lnTo>
                  <a:lnTo>
                    <a:pt x="126" y="162"/>
                  </a:lnTo>
                  <a:lnTo>
                    <a:pt x="111" y="163"/>
                  </a:lnTo>
                  <a:lnTo>
                    <a:pt x="96" y="167"/>
                  </a:lnTo>
                  <a:lnTo>
                    <a:pt x="81" y="171"/>
                  </a:lnTo>
                  <a:lnTo>
                    <a:pt x="67" y="177"/>
                  </a:lnTo>
                  <a:lnTo>
                    <a:pt x="53" y="183"/>
                  </a:lnTo>
                  <a:lnTo>
                    <a:pt x="43" y="190"/>
                  </a:lnTo>
                  <a:lnTo>
                    <a:pt x="28" y="201"/>
                  </a:lnTo>
                  <a:lnTo>
                    <a:pt x="18" y="215"/>
                  </a:lnTo>
                  <a:lnTo>
                    <a:pt x="9" y="232"/>
                  </a:lnTo>
                  <a:lnTo>
                    <a:pt x="5" y="251"/>
                  </a:lnTo>
                  <a:lnTo>
                    <a:pt x="1" y="269"/>
                  </a:lnTo>
                  <a:lnTo>
                    <a:pt x="0" y="288"/>
                  </a:lnTo>
                  <a:lnTo>
                    <a:pt x="0" y="306"/>
                  </a:lnTo>
                  <a:lnTo>
                    <a:pt x="0" y="324"/>
                  </a:lnTo>
                  <a:lnTo>
                    <a:pt x="9" y="353"/>
                  </a:lnTo>
                  <a:lnTo>
                    <a:pt x="24" y="378"/>
                  </a:lnTo>
                  <a:lnTo>
                    <a:pt x="42" y="400"/>
                  </a:lnTo>
                  <a:lnTo>
                    <a:pt x="63" y="419"/>
                  </a:lnTo>
                  <a:lnTo>
                    <a:pt x="86" y="435"/>
                  </a:lnTo>
                  <a:lnTo>
                    <a:pt x="110" y="452"/>
                  </a:lnTo>
                  <a:lnTo>
                    <a:pt x="133" y="466"/>
                  </a:lnTo>
                  <a:lnTo>
                    <a:pt x="157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02840" y="3617280"/>
              <a:ext cx="407520" cy="243000"/>
            </a:xfrm>
            <a:custGeom>
              <a:avLst/>
              <a:gdLst/>
              <a:ahLst/>
              <a:rect l="l" t="t" r="r" b="b"/>
              <a:pathLst>
                <a:path w="229" h="212">
                  <a:moveTo>
                    <a:pt x="115" y="212"/>
                  </a:moveTo>
                  <a:lnTo>
                    <a:pt x="132" y="192"/>
                  </a:lnTo>
                  <a:lnTo>
                    <a:pt x="153" y="172"/>
                  </a:lnTo>
                  <a:lnTo>
                    <a:pt x="173" y="153"/>
                  </a:lnTo>
                  <a:lnTo>
                    <a:pt x="192" y="133"/>
                  </a:lnTo>
                  <a:lnTo>
                    <a:pt x="207" y="110"/>
                  </a:lnTo>
                  <a:lnTo>
                    <a:pt x="220" y="86"/>
                  </a:lnTo>
                  <a:lnTo>
                    <a:pt x="227" y="59"/>
                  </a:lnTo>
                  <a:lnTo>
                    <a:pt x="229" y="31"/>
                  </a:lnTo>
                  <a:lnTo>
                    <a:pt x="216" y="21"/>
                  </a:lnTo>
                  <a:lnTo>
                    <a:pt x="203" y="14"/>
                  </a:lnTo>
                  <a:lnTo>
                    <a:pt x="191" y="8"/>
                  </a:lnTo>
                  <a:lnTo>
                    <a:pt x="178" y="5"/>
                  </a:lnTo>
                  <a:lnTo>
                    <a:pt x="163" y="4"/>
                  </a:lnTo>
                  <a:lnTo>
                    <a:pt x="149" y="5"/>
                  </a:lnTo>
                  <a:lnTo>
                    <a:pt x="135" y="8"/>
                  </a:lnTo>
                  <a:lnTo>
                    <a:pt x="121" y="17"/>
                  </a:lnTo>
                  <a:lnTo>
                    <a:pt x="107" y="8"/>
                  </a:lnTo>
                  <a:lnTo>
                    <a:pt x="94" y="4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53" y="0"/>
                  </a:lnTo>
                  <a:lnTo>
                    <a:pt x="39" y="2"/>
                  </a:lnTo>
                  <a:lnTo>
                    <a:pt x="25" y="7"/>
                  </a:lnTo>
                  <a:lnTo>
                    <a:pt x="12" y="14"/>
                  </a:lnTo>
                  <a:lnTo>
                    <a:pt x="6" y="31"/>
                  </a:lnTo>
                  <a:lnTo>
                    <a:pt x="2" y="48"/>
                  </a:lnTo>
                  <a:lnTo>
                    <a:pt x="0" y="66"/>
                  </a:lnTo>
                  <a:lnTo>
                    <a:pt x="1" y="85"/>
                  </a:lnTo>
                  <a:lnTo>
                    <a:pt x="3" y="100"/>
                  </a:lnTo>
                  <a:lnTo>
                    <a:pt x="8" y="117"/>
                  </a:lnTo>
                  <a:lnTo>
                    <a:pt x="16" y="133"/>
                  </a:lnTo>
                  <a:lnTo>
                    <a:pt x="27" y="148"/>
                  </a:lnTo>
                  <a:lnTo>
                    <a:pt x="36" y="157"/>
                  </a:lnTo>
                  <a:lnTo>
                    <a:pt x="48" y="165"/>
                  </a:lnTo>
                  <a:lnTo>
                    <a:pt x="59" y="174"/>
                  </a:lnTo>
                  <a:lnTo>
                    <a:pt x="70" y="182"/>
                  </a:lnTo>
                  <a:lnTo>
                    <a:pt x="81" y="189"/>
                  </a:lnTo>
                  <a:lnTo>
                    <a:pt x="92" y="196"/>
                  </a:lnTo>
                  <a:lnTo>
                    <a:pt x="103" y="204"/>
                  </a:lnTo>
                  <a:lnTo>
                    <a:pt x="115" y="212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403280" y="2565360"/>
            <a:ext cx="1405080" cy="1513080"/>
            <a:chOff x="1403280" y="2565360"/>
            <a:chExt cx="1405080" cy="1513080"/>
          </a:xfrm>
        </p:grpSpPr>
        <p:pic>
          <p:nvPicPr>
            <p:cNvPr id="502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403280" y="2565360"/>
              <a:ext cx="14050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1732320" y="3141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小鸟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132000" y="2133720"/>
            <a:ext cx="1405080" cy="1512720"/>
            <a:chOff x="3132000" y="2133720"/>
            <a:chExt cx="1405080" cy="1512720"/>
          </a:xfrm>
        </p:grpSpPr>
        <p:pic>
          <p:nvPicPr>
            <p:cNvPr id="505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132000" y="2133720"/>
              <a:ext cx="1405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3428640" y="2708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井沿</a:t>
              </a:r>
              <a:endParaRPr b="0" lang="en-US" sz="4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932360" y="1916280"/>
            <a:ext cx="1871640" cy="1512720"/>
            <a:chOff x="4932360" y="1916280"/>
            <a:chExt cx="1871640" cy="1512720"/>
          </a:xfrm>
        </p:grpSpPr>
        <p:pic>
          <p:nvPicPr>
            <p:cNvPr id="508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932360" y="1916280"/>
              <a:ext cx="1405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003640" y="2420640"/>
              <a:ext cx="18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青蛙</a:t>
              </a:r>
              <a:endParaRPr b="0" lang="en-US" sz="4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012000" y="907920"/>
            <a:ext cx="1584360" cy="1657440"/>
            <a:chOff x="6012000" y="907920"/>
            <a:chExt cx="1584360" cy="1657440"/>
          </a:xfrm>
        </p:grpSpPr>
        <p:pic>
          <p:nvPicPr>
            <p:cNvPr id="511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012000" y="907920"/>
              <a:ext cx="140472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227640" y="1225440"/>
              <a:ext cx="13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无边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无际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643280" y="0"/>
            <a:ext cx="1764000" cy="1512720"/>
            <a:chOff x="4643280" y="0"/>
            <a:chExt cx="1764000" cy="1512720"/>
          </a:xfrm>
        </p:grpSpPr>
        <p:pic>
          <p:nvPicPr>
            <p:cNvPr id="514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643280" y="0"/>
              <a:ext cx="1405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714920" y="520560"/>
              <a:ext cx="16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看见</a:t>
              </a:r>
              <a:endParaRPr b="0" lang="en-US" sz="4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340000" y="0"/>
            <a:ext cx="1405080" cy="1773360"/>
            <a:chOff x="2340000" y="0"/>
            <a:chExt cx="1405080" cy="1773360"/>
          </a:xfrm>
        </p:grpSpPr>
        <p:pic>
          <p:nvPicPr>
            <p:cNvPr id="517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2340000" y="0"/>
              <a:ext cx="14050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513160" y="404640"/>
              <a:ext cx="109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坐井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观天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692360" y="1268280"/>
            <a:ext cx="1457280" cy="1513080"/>
            <a:chOff x="1692360" y="1268280"/>
            <a:chExt cx="1457280" cy="1513080"/>
          </a:xfrm>
        </p:grpSpPr>
        <p:pic>
          <p:nvPicPr>
            <p:cNvPr id="520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1692360" y="1268280"/>
              <a:ext cx="14047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1835280" y="1700280"/>
              <a:ext cx="131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朋友</a:t>
              </a:r>
              <a:endParaRPr b="0" lang="en-US" sz="4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635280" y="692280"/>
            <a:ext cx="1404720" cy="1512720"/>
            <a:chOff x="3635280" y="692280"/>
            <a:chExt cx="1404720" cy="1512720"/>
          </a:xfrm>
        </p:grpSpPr>
        <p:pic>
          <p:nvPicPr>
            <p:cNvPr id="523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3635280" y="692280"/>
              <a:ext cx="1404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039560" y="11253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</a:rPr>
                <a:t>抬头</a:t>
              </a:r>
              <a:endParaRPr b="0" lang="en-US" sz="4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0" y="-27000"/>
            <a:ext cx="1692360" cy="1368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33336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摘苹果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1.66667E-006 7.40741E-007 L -0.0059 0.43565 E">
                                      <p:cBhvr>
                                        <p:cTn id="175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-8.33333E-007 3.7037E-006 L -0.0059 0.49861 E">
                                      <p:cBhvr>
                                        <p:cTn id="179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8.33333E-007 3.33333E-006 L 0.00017 0.54074 E">
                                      <p:cBhvr>
                                        <p:cTn id="183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3.05556E-006 1.11111E-006 L -0.04827 0.48842 E">
                                      <p:cBhvr>
                                        <p:cTn id="187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1.11111E-006 3.33333E-006 L 0.00989 0.62291 E">
                                      <p:cBhvr>
                                        <p:cTn id="191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5E-006 -1.11111E-006 L 0.00921 0.55139 E">
                                      <p:cBhvr>
                                        <p:cTn id="19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0607 0.00138 L 0.01996 0.63263 E">
                                      <p:cBhvr>
                                        <p:cTn id="199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2.77778E-006 3.7037E-006 L 0.0158 0.58264 E">
                                      <p:cBhvr>
                                        <p:cTn id="20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195640" y="596880"/>
            <a:ext cx="439236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读读抄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1125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小鸟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32000" y="112536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青蛙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43640" y="112536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朋友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0920" y="2852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看见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03640" y="285264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井沿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88000" y="27828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抬头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479736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坐井观天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27640" y="4797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无边无际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5280" y="2637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8000" y="2637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9640" y="2708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4581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48000" y="4581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32720" y="4581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666900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59280" y="66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1541880" y="206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信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-171360"/>
            <a:ext cx="460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 </a:t>
            </a: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xìn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7200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相信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64000" y="170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送信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508720" y="357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信用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80000" y="5302080"/>
            <a:ext cx="59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写信 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1541880" y="19890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沿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井沿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-458640"/>
            <a:ext cx="428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 </a:t>
            </a: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yán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沿着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边沿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900000" y="2060640"/>
            <a:ext cx="33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抬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抬头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42920" y="0"/>
            <a:ext cx="345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tái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抬举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抬高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3933720"/>
            <a:ext cx="48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抬东西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1541880" y="206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际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边际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-243000"/>
            <a:ext cx="30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jì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9280" y="119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国际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天际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11640" y="414972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无边无际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1529280" y="2276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蛙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青蛙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9640" y="-171360"/>
            <a:ext cx="367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 </a:t>
            </a: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wā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蛙泳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066680" y="380880"/>
            <a:ext cx="662940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坐井观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2895480"/>
            <a:ext cx="99072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35053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343400" y="3048120"/>
            <a:ext cx="9144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523880" y="434340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坐在井里看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7451640" y="4653000"/>
            <a:ext cx="6638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7925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1541880" y="206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错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错过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71640" y="-243000"/>
            <a:ext cx="403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cuò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对错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交错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76720" y="44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错乱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"/>
          <p:cNvSpPr/>
          <p:nvPr/>
        </p:nvSpPr>
        <p:spPr>
          <a:xfrm>
            <a:off x="900000" y="2133720"/>
            <a:ext cx="33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答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回答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47640" y="0"/>
            <a:ext cx="3024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dá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答谢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问答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48360" y="4076640"/>
            <a:ext cx="36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报答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684360" y="2276640"/>
          <a:ext cx="3744720" cy="3887640"/>
        </p:xfrm>
        <a:graphic>
          <a:graphicData uri="http://schemas.openxmlformats.org/drawingml/2006/table">
            <a:tbl>
              <a:tblPr/>
              <a:tblGrid>
                <a:gridCol w="1871280"/>
                <a:gridCol w="1873440"/>
              </a:tblGrid>
              <a:tr h="195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1468800" y="213372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cc00"/>
                </a:solidFill>
                <a:latin typeface="Arial"/>
                <a:ea typeface="楷体_GB2312"/>
              </a:rPr>
              <a:t>还</a:t>
            </a:r>
            <a:endParaRPr b="0" lang="en-US" sz="25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32360" y="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还有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16000" y="-243000"/>
            <a:ext cx="367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e103"/>
                </a:solidFill>
                <a:latin typeface="宋体"/>
              </a:rPr>
              <a:t>hái</a:t>
            </a:r>
            <a:endParaRPr b="0" lang="en-US" sz="15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32360" y="1268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还是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2637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还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76720" y="400536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还好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419720" y="2971800"/>
            <a:ext cx="4038480" cy="3060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755640" y="1052640"/>
            <a:ext cx="511164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指导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876920" y="3352680"/>
            <a:ext cx="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3352680"/>
            <a:ext cx="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3429000"/>
            <a:ext cx="1676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26668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井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914400"/>
            <a:ext cx="16002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井沿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2743200" y="325440"/>
            <a:ext cx="28195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0" y="228600"/>
            <a:ext cx="4572000" cy="228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12499" t="0" r="40909" b="0"/>
          <a:stretch/>
        </p:blipFill>
        <p:spPr>
          <a:xfrm>
            <a:off x="3276720" y="2666880"/>
            <a:ext cx="3124080" cy="41911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rcRect l="113916" t="0" r="-16594" b="0"/>
          <a:stretch/>
        </p:blipFill>
        <p:spPr>
          <a:xfrm>
            <a:off x="3200400" y="3790800"/>
            <a:ext cx="76320" cy="3067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860040" y="4038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4662c"/>
                </a:solidFill>
                <a:latin typeface="Times New Roman"/>
              </a:rPr>
              <a:t>你从哪里来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36440" y="152280"/>
            <a:ext cx="288720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0df3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从天上来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飞了一百多里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，口渴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了，下来找点水喝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3352680" y="2590920"/>
            <a:ext cx="2743200" cy="10666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34120" y="2209680"/>
            <a:ext cx="8380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2438280"/>
            <a:ext cx="3808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572000" y="18288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3200400"/>
            <a:ext cx="3200400" cy="2590920"/>
          </a:xfrm>
          <a:prstGeom prst="flowChartMagneticTape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762120"/>
            <a:ext cx="2971800" cy="9903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990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第一次对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00000016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72000" y="228600"/>
            <a:ext cx="4572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rcRect l="14084" t="0" r="39437" b="0"/>
          <a:stretch/>
        </p:blipFill>
        <p:spPr>
          <a:xfrm>
            <a:off x="5181480" y="2666880"/>
            <a:ext cx="2514600" cy="4191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rcRect l="100013" t="0" r="-2025" b="0"/>
          <a:stretch/>
        </p:blipFill>
        <p:spPr>
          <a:xfrm flipH="1">
            <a:off x="3733560" y="3790800"/>
            <a:ext cx="75960" cy="3067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600200"/>
            <a:ext cx="4724280" cy="3352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5257800"/>
            <a:ext cx="83808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5486400"/>
            <a:ext cx="380880" cy="2286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2286000"/>
            <a:ext cx="4680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0df3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朋友，别说大话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了！天不过井口那么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，还用飞那么远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8840" y="476280"/>
            <a:ext cx="31917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0df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你弄错了，天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无边无际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，大得很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哪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1905120"/>
            <a:ext cx="1905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2895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895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5181480" y="2590920"/>
            <a:ext cx="2286000" cy="1066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6019920" y="19051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80880" y="380880"/>
            <a:ext cx="2895840" cy="990720"/>
          </a:xfrm>
          <a:custGeom>
            <a:avLst/>
            <a:gdLst>
              <a:gd name="textAreaLeft" fmla="*/ 452520 w 2895840"/>
              <a:gd name="textAreaRight" fmla="*/ 2481480 w 28958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5418" y="5400"/>
                </a:lnTo>
                <a:lnTo>
                  <a:pt x="15418" y="0"/>
                </a:lnTo>
                <a:lnTo>
                  <a:pt x="21600" y="10800"/>
                </a:lnTo>
                <a:lnTo>
                  <a:pt x="15418" y="21600"/>
                </a:lnTo>
                <a:lnTo>
                  <a:pt x="15418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609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楷体_GB2312"/>
              </a:rPr>
              <a:t>第二次对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天不过井口那么大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388280" y="5445000"/>
            <a:ext cx="1755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708360" y="2421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280df3"/>
                </a:solidFill>
                <a:uFillTx/>
                <a:latin typeface="Times New Roman"/>
              </a:rPr>
              <a:t>天无边无际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844640"/>
            <a:ext cx="1979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朋友，我天天坐在井里，一抬头就看天。我不会弄错的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1371600"/>
            <a:ext cx="190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0df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280df3"/>
                </a:solidFill>
                <a:latin typeface="Times New Roman"/>
                <a:ea typeface="楷体_GB2312"/>
              </a:rPr>
              <a:t>朋友，你是弄错了。不信，你跳出井口来看一看吧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10280" y="601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鸟也笑了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05920" y="99072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青蛙笑了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121932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rcRect l="21593" t="12966" r="21593" b="12966"/>
          <a:stretch/>
        </p:blipFill>
        <p:spPr>
          <a:xfrm>
            <a:off x="2438280" y="533520"/>
            <a:ext cx="4267440" cy="563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V="1" rot="21568800">
            <a:off x="7113240" y="1412640"/>
            <a:ext cx="1878120" cy="2803320"/>
          </a:xfrm>
          <a:prstGeom prst="wedgeRoundRectCallout">
            <a:avLst>
              <a:gd name="adj1" fmla="val -145856"/>
              <a:gd name="adj2" fmla="val 47481"/>
              <a:gd name="adj3" fmla="val 16667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1981080"/>
            <a:ext cx="2057400" cy="2895840"/>
          </a:xfrm>
          <a:prstGeom prst="wedgeRoundRectCallout">
            <a:avLst>
              <a:gd name="adj1" fmla="val 129245"/>
              <a:gd name="adj2" fmla="val 39694"/>
              <a:gd name="adj3" fmla="val 16667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5715000"/>
            <a:ext cx="2362320" cy="114300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第三次对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>
            <a:lum contrast="30000"/>
          </a:blip>
          <a:srcRect l="5900" t="22713" r="9047" b="321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05:43Z</dcterms:created>
  <dc:creator/>
  <dc:description/>
  <dc:language>en-US</dc:language>
  <cp:lastModifiedBy>微软用户</cp:lastModifiedBy>
  <dcterms:modified xsi:type="dcterms:W3CDTF">2012-10-11T05:32:26Z</dcterms:modified>
  <cp:revision>54</cp:revision>
  <dc:subject/>
  <dc:title>幻灯片 1</dc:title>
</cp:coreProperties>
</file>