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151-1EB4-46E5-9670-717EF544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21D-8F38-4DE2-B480-4D87EE53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5E73-F897-41A9-91C4-B2267016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018A-8423-4E57-B145-A66CF529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131CB-BDF3-435F-B1C4-71A78464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269E4-F237-45CC-A330-679834C4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73DE4-61DA-4D5B-86DB-ADCDD7B1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A0B77-9817-4EB4-ADB2-9BB14DC8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1A744-7A4C-4136-9EE0-3A08E4DC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DE4B6-1D53-476E-9377-9DBD8996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0EC34-42A5-4B88-BF57-B2039761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3254-3045-4D63-9792-B824044A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DC167-B0F1-443B-BA1F-C8CD6D30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C725F-F3CF-4944-8D62-9E765338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5AC17-99BE-46D6-94EF-0BA76F1F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3B3E9-97CC-40BD-AF53-655F936F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6FB16-4439-4AAD-A34B-EE592ECF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866E8-2260-4315-85C6-514F013C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C2E1C-4D9A-49D5-A1A2-3874C5D0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8CD30-401A-4ECF-916A-D8C0D7B9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2D086-6926-44D1-9F1D-BE2F9A4E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E3499-1649-4D53-91CE-A03EAC96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7A11-085F-4658-8FE6-5677FEB3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85BEB-DB2E-4810-B4EF-694ED3BE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C27A0-4508-4347-8719-B497FA5C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05DB0-65F1-406B-8B72-ED5F6284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6A1ED-DE22-4B23-BE86-26D7A06C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83FAE-133A-40B4-943B-D196A9CA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9A92E-DD4E-4ECD-B68A-7C5E42BA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21165-61F8-42E4-86DF-39712E9F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988B4-BA0D-4742-825E-2D1D0B09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A856E-7B01-4C94-91D1-A75139F3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882C3-B318-480B-B5AF-30628F67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9906-7EB8-47FA-8F97-CB83019F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8486F-3B2E-4406-9498-B78A2569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EB6F4-9EEC-43DD-8821-98088A3A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A2681-EBD8-49CA-B395-A22031C0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C26CE-E3AA-40AE-B240-909857AE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33EAF-289F-4F5A-A16F-FE422741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7A45F-C0D5-4D8F-A4D4-A44A9F05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765AB-2355-40F2-8051-883BA71D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BC233-BD01-432B-A85E-3798BD0C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F1BC4-65A9-4523-867E-7FAA86F4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39F-3377-4FA0-894D-A5BA7697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4F80-006E-466A-803D-8B33C8BF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2E4D-F0E4-44B3-B251-3B7989C3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D4F0-2E4D-4B45-A680-599DDD0A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CE63-9574-4A4D-A44A-86C95745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B7EE-0471-460B-96BA-D6411E388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未知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2BED-7DC6-4DD0-BDB4-142C114ED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Tahoma"/>
              <a:buChar char="v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Tahoma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Tahoma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5345-7CFB-4539-B6DA-AECFE614029D}" type="slidenum">
              <a:rPr b="0" lang="en-US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D04B-94EC-4FAD-B6C8-B21820F5DC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职业生涯规划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ahoma"/>
                <a:ea typeface="黑体"/>
              </a:rPr>
              <a:t>考试内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ahoma"/>
              </a:rPr>
              <a:t>设计撰写《个人职业生涯规划书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  <a:ea typeface="黑体"/>
              </a:rPr>
              <a:t>五、分阶段目标和实施计划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99"/>
                </a:solidFill>
                <a:latin typeface="Tahoma"/>
              </a:rPr>
              <a:t>第一阶段：</a:t>
            </a:r>
            <a:r>
              <a:rPr b="1" lang="zh-CN" sz="3200" spc="-1" strike="noStrike">
                <a:solidFill>
                  <a:srgbClr val="ffff99"/>
                </a:solidFill>
                <a:latin typeface="Tahoma"/>
              </a:rPr>
              <a:t>2012-2016</a:t>
            </a:r>
            <a:r>
              <a:rPr b="1" lang="zh-CN" sz="3200" spc="-1" strike="noStrike">
                <a:solidFill>
                  <a:srgbClr val="ffff99"/>
                </a:solidFill>
                <a:latin typeface="Tahoma"/>
              </a:rPr>
              <a:t>年，学业有成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99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99"/>
                </a:solidFill>
                <a:latin typeface="Tahoma"/>
              </a:rPr>
              <a:t>、职务目标</a:t>
            </a:r>
            <a:r>
              <a:rPr b="0" lang="zh-CN" sz="3200" spc="-1" strike="noStrike" u="sng">
                <a:solidFill>
                  <a:srgbClr val="ffff99"/>
                </a:solidFill>
                <a:uFillTx/>
                <a:latin typeface="Tahoma"/>
              </a:rPr>
              <a:t>及实施计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99"/>
                </a:solidFill>
                <a:latin typeface="Tahoma"/>
              </a:rPr>
              <a:t>、学习培训目标（知识、能力、经验、资格证书等）</a:t>
            </a:r>
            <a:r>
              <a:rPr b="0" lang="zh-CN" sz="3200" spc="-1" strike="noStrike" u="sng">
                <a:solidFill>
                  <a:srgbClr val="ffff99"/>
                </a:solidFill>
                <a:uFillTx/>
                <a:latin typeface="Tahoma"/>
              </a:rPr>
              <a:t>及实施计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99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99"/>
                </a:solidFill>
                <a:latin typeface="Tahoma"/>
              </a:rPr>
              <a:t>、毕业意向</a:t>
            </a:r>
            <a:r>
              <a:rPr b="0" lang="zh-CN" sz="3200" spc="-1" strike="noStrike" u="sng">
                <a:solidFill>
                  <a:srgbClr val="ffff99"/>
                </a:solidFill>
                <a:uFillTx/>
                <a:latin typeface="Tahoma"/>
              </a:rPr>
              <a:t>及实施计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99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ffff99"/>
                </a:solidFill>
                <a:latin typeface="Tahoma"/>
              </a:rPr>
              <a:t>、健康目标及实施计划</a:t>
            </a:r>
            <a:r>
              <a:rPr b="0" lang="zh-CN" sz="2800" spc="-1" strike="noStrike">
                <a:solidFill>
                  <a:srgbClr val="ffff99"/>
                </a:solidFill>
                <a:latin typeface="Tahoma"/>
              </a:rPr>
              <a:t>（可不写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  <a:ea typeface="黑体"/>
              </a:rPr>
              <a:t>五、分阶段目标和实施计划</a:t>
            </a: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2000" y="20178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ffff99"/>
                </a:solidFill>
                <a:latin typeface="Tahoma"/>
              </a:rPr>
              <a:t>第二阶段：</a:t>
            </a:r>
            <a:r>
              <a:rPr b="1" lang="zh-CN" sz="2800" spc="-1" strike="noStrike">
                <a:solidFill>
                  <a:srgbClr val="ffff99"/>
                </a:solidFill>
                <a:latin typeface="Tahoma"/>
              </a:rPr>
              <a:t>2016-2021</a:t>
            </a:r>
            <a:r>
              <a:rPr b="1" lang="zh-CN" sz="2800" spc="-1" strike="noStrike">
                <a:solidFill>
                  <a:srgbClr val="ffff99"/>
                </a:solidFill>
                <a:latin typeface="Tahoma"/>
              </a:rPr>
              <a:t>年，熟悉适应发展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Tahoma"/>
              </a:rPr>
              <a:t>         </a:t>
            </a:r>
            <a:r>
              <a:rPr b="0" lang="zh-CN" sz="2800" spc="-1" strike="noStrike">
                <a:solidFill>
                  <a:srgbClr val="ffff99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ffff99"/>
                </a:solidFill>
                <a:latin typeface="Tahoma"/>
              </a:rPr>
              <a:t>、职业目标及达到的职务或职务、实施计划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Tahoma"/>
              </a:rPr>
              <a:t>         </a:t>
            </a:r>
            <a:r>
              <a:rPr b="0" lang="zh-CN" sz="28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ffff99"/>
                </a:solidFill>
                <a:latin typeface="Tahoma"/>
              </a:rPr>
              <a:t>、继续学习培训目标（知识、能力、经验、资格证书等）及实施计划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Tahoma"/>
              </a:rPr>
              <a:t>         </a:t>
            </a:r>
            <a:r>
              <a:rPr b="0" lang="zh-CN" sz="2800" spc="-1" strike="noStrike">
                <a:solidFill>
                  <a:srgbClr val="ffff99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ffff99"/>
                </a:solidFill>
                <a:latin typeface="Tahoma"/>
              </a:rPr>
              <a:t>、收入目标及实施计划（可不写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Tahoma"/>
              </a:rPr>
              <a:t>         </a:t>
            </a:r>
            <a:r>
              <a:rPr b="0" lang="zh-CN" sz="2800" spc="-1" strike="noStrike">
                <a:solidFill>
                  <a:srgbClr val="ffff99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ffff99"/>
                </a:solidFill>
                <a:latin typeface="Tahoma"/>
              </a:rPr>
              <a:t>、健康目标及实施计划（可不写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Tahoma"/>
              </a:rPr>
              <a:t>         </a:t>
            </a:r>
            <a:r>
              <a:rPr b="0" lang="zh-CN" sz="2800" spc="-1" strike="noStrike">
                <a:solidFill>
                  <a:srgbClr val="ffff99"/>
                </a:solidFill>
                <a:latin typeface="Tahoma"/>
              </a:rPr>
              <a:t>5</a:t>
            </a:r>
            <a:r>
              <a:rPr b="0" lang="zh-CN" sz="2800" spc="-1" strike="noStrike">
                <a:solidFill>
                  <a:srgbClr val="ffff99"/>
                </a:solidFill>
                <a:latin typeface="Tahoma"/>
              </a:rPr>
              <a:t>、家庭目标及实施计划（可不写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六、评估与反馈（待填写内容）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ff99"/>
                </a:solidFill>
                <a:latin typeface="Tahoma"/>
              </a:rPr>
              <a:t>、对自我分析的评估和修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99"/>
                </a:solidFill>
                <a:latin typeface="Tahoma"/>
              </a:rPr>
              <a:t>、对环境分析的评估与修正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ffff99"/>
                </a:solidFill>
                <a:latin typeface="Tahoma"/>
              </a:rPr>
              <a:t>、对总目标的评估和修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ffff99"/>
                </a:solidFill>
                <a:latin typeface="Tahoma"/>
              </a:rPr>
              <a:t>、对分阶段目标的评估和修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ffff99"/>
                </a:solidFill>
                <a:latin typeface="Tahoma"/>
              </a:rPr>
              <a:t>、对行动实施计划的评估和修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6</a:t>
            </a:r>
            <a:r>
              <a:rPr b="1" lang="zh-CN" sz="3200" spc="-1" strike="noStrike">
                <a:solidFill>
                  <a:srgbClr val="ffff99"/>
                </a:solidFill>
                <a:latin typeface="Tahoma"/>
              </a:rPr>
              <a:t>、实施过程中出现的问题及解决的办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ffff99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黑体"/>
                <a:ea typeface="黑体"/>
              </a:rPr>
              <a:t>七、结束语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20178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 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        </a:t>
            </a:r>
            <a:r>
              <a:rPr b="1" lang="zh-CN" sz="3600" spc="-1" strike="noStrike">
                <a:solidFill>
                  <a:srgbClr val="ffff99"/>
                </a:solidFill>
                <a:latin typeface="Tahoma"/>
              </a:rPr>
              <a:t>对个人进行职业生涯规划后的启示和感想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ahoma"/>
              </a:rPr>
              <a:t>生活是你采取行动或者不采取行动的结果</a:t>
            </a: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76320" y="990720"/>
          <a:ext cx="8839080" cy="5400720"/>
        </p:xfrm>
        <a:graphic>
          <a:graphicData uri="http://schemas.openxmlformats.org/drawingml/2006/table">
            <a:tbl>
              <a:tblPr/>
              <a:tblGrid>
                <a:gridCol w="1576440"/>
                <a:gridCol w="726264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微软雅黑"/>
                          <a:ea typeface="宋体"/>
                        </a:rPr>
                        <a:t>具 体 内 容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ff00"/>
                          </a:solidFill>
                          <a:latin typeface="微软雅黑"/>
                          <a:ea typeface="宋体"/>
                        </a:rPr>
                        <a:t>一</a:t>
                      </a:r>
                      <a:r>
                        <a:rPr b="1" lang="en-US" sz="3000" spc="-1" strike="noStrike">
                          <a:solidFill>
                            <a:srgbClr val="ffff00"/>
                          </a:solidFill>
                          <a:latin typeface="微软雅黑"/>
                          <a:ea typeface="宋体"/>
                        </a:rPr>
                        <a:t>.</a:t>
                      </a:r>
                      <a:r>
                        <a:rPr b="1" lang="zh-CN" sz="3000" spc="-1" strike="noStrike">
                          <a:solidFill>
                            <a:srgbClr val="ffff00"/>
                          </a:solidFill>
                          <a:latin typeface="微软雅黑"/>
                          <a:ea typeface="宋体"/>
                        </a:rPr>
                        <a:t>前言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265d"/>
                        </a:gs>
                        <a:gs pos="50000">
                          <a:srgbClr val="0000ff"/>
                        </a:gs>
                        <a:gs pos="100000">
                          <a:srgbClr val="40265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20a53"/>
                          </a:solidFill>
                          <a:latin typeface="微软雅黑"/>
                          <a:ea typeface="隶书"/>
                        </a:rPr>
                        <a:t>简述自己进行职业生涯规划的目的、意义等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375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ff00"/>
                          </a:solidFill>
                          <a:latin typeface="微软雅黑"/>
                          <a:ea typeface="宋体"/>
                        </a:rPr>
                        <a:t>二</a:t>
                      </a:r>
                      <a:r>
                        <a:rPr b="1" lang="en-US" sz="3000" spc="-1" strike="noStrike">
                          <a:solidFill>
                            <a:srgbClr val="ffff00"/>
                          </a:solidFill>
                          <a:latin typeface="微软雅黑"/>
                          <a:ea typeface="宋体"/>
                        </a:rPr>
                        <a:t>.</a:t>
                      </a:r>
                      <a:r>
                        <a:rPr b="1" lang="zh-CN" sz="3000" spc="-1" strike="noStrike">
                          <a:solidFill>
                            <a:srgbClr val="ffff00"/>
                          </a:solidFill>
                          <a:latin typeface="微软雅黑"/>
                          <a:ea typeface="宋体"/>
                        </a:rPr>
                        <a:t>自我分析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265d"/>
                        </a:gs>
                        <a:gs pos="50000">
                          <a:srgbClr val="0000ff"/>
                        </a:gs>
                        <a:gs pos="100000">
                          <a:srgbClr val="40265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1.</a:t>
                      </a:r>
                      <a:r>
                        <a:rPr b="1" lang="zh-CN" sz="30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职业兴趣；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2.</a:t>
                      </a:r>
                      <a:r>
                        <a:rPr b="1" lang="zh-CN" sz="30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性格；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3.</a:t>
                      </a:r>
                      <a:r>
                        <a:rPr b="1" lang="zh-CN" sz="30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气质；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4.</a:t>
                      </a:r>
                      <a:r>
                        <a:rPr b="1" lang="zh-CN" sz="30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职业锚（职业价值观）；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5.</a:t>
                      </a:r>
                      <a:r>
                        <a:rPr b="1" lang="zh-CN" sz="30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知识和能力：一般能力、特殊能力、职业能力等；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6.</a:t>
                      </a:r>
                      <a:r>
                        <a:rPr b="1" lang="zh-CN" sz="30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天赋、情商、逆境商、财商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228600" y="76320"/>
            <a:ext cx="6858000" cy="627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00"/>
                </a:solidFill>
                <a:latin typeface="Arial"/>
              </a:rPr>
              <a:t>撰写格式、内容和要求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76320" y="171360"/>
          <a:ext cx="8915400" cy="6459480"/>
        </p:xfrm>
        <a:graphic>
          <a:graphicData uri="http://schemas.openxmlformats.org/drawingml/2006/table">
            <a:tbl>
              <a:tblPr/>
              <a:tblGrid>
                <a:gridCol w="2209680"/>
                <a:gridCol w="670572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微软雅黑"/>
                          <a:ea typeface="宋体"/>
                        </a:rPr>
                        <a:t>具 体 内 容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23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ff00"/>
                          </a:solidFill>
                          <a:latin typeface="微软雅黑"/>
                          <a:ea typeface="宋体"/>
                        </a:rPr>
                        <a:t>三</a:t>
                      </a:r>
                      <a:r>
                        <a:rPr b="1" lang="en-US" sz="3000" spc="-1" strike="noStrike">
                          <a:solidFill>
                            <a:srgbClr val="ffff00"/>
                          </a:solidFill>
                          <a:latin typeface="微软雅黑"/>
                          <a:ea typeface="宋体"/>
                        </a:rPr>
                        <a:t>.</a:t>
                      </a:r>
                      <a:r>
                        <a:rPr b="1" lang="zh-CN" sz="3000" spc="-1" strike="noStrike">
                          <a:solidFill>
                            <a:srgbClr val="ffff00"/>
                          </a:solidFill>
                          <a:latin typeface="微软雅黑"/>
                          <a:ea typeface="宋体"/>
                        </a:rPr>
                        <a:t>环境分析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265d"/>
                        </a:gs>
                        <a:gs pos="50000">
                          <a:srgbClr val="0000ff"/>
                        </a:gs>
                        <a:gs pos="100000">
                          <a:srgbClr val="40265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社会环境分析（就业形势、政策等）；</a:t>
                      </a:r>
                      <a:r>
                        <a:rPr b="1" lang="en-US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教育背景分析（学校、专业）；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家庭环境分析（成长经历、经济状况、社会关系等）；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职业信息分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ffff00"/>
                          </a:solidFill>
                          <a:latin typeface="微软雅黑"/>
                          <a:ea typeface="宋体"/>
                        </a:rPr>
                        <a:t>四</a:t>
                      </a:r>
                      <a:r>
                        <a:rPr b="0" lang="en-US" sz="3000" spc="-1" strike="noStrike">
                          <a:solidFill>
                            <a:srgbClr val="ffff00"/>
                          </a:solidFill>
                          <a:latin typeface="微软雅黑"/>
                          <a:ea typeface="宋体"/>
                        </a:rPr>
                        <a:t>.</a:t>
                      </a:r>
                      <a:r>
                        <a:rPr b="0" lang="zh-CN" sz="3000" spc="-1" strike="noStrike">
                          <a:solidFill>
                            <a:srgbClr val="ffff00"/>
                          </a:solidFill>
                          <a:latin typeface="微软雅黑"/>
                          <a:ea typeface="宋体"/>
                        </a:rPr>
                        <a:t>个人</a:t>
                      </a:r>
                      <a:r>
                        <a:rPr b="0" lang="en-US" sz="3000" spc="-1" strike="noStrike">
                          <a:solidFill>
                            <a:srgbClr val="ffff00"/>
                          </a:solidFill>
                          <a:latin typeface="微软雅黑"/>
                          <a:ea typeface="宋体"/>
                        </a:rPr>
                        <a:t>SWOT</a:t>
                      </a:r>
                      <a:r>
                        <a:rPr b="0" lang="zh-CN" sz="3000" spc="-1" strike="noStrike">
                          <a:solidFill>
                            <a:srgbClr val="ffff00"/>
                          </a:solidFill>
                          <a:latin typeface="微软雅黑"/>
                          <a:ea typeface="宋体"/>
                        </a:rPr>
                        <a:t>分析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265d"/>
                        </a:gs>
                        <a:gs pos="50000">
                          <a:srgbClr val="0000ff"/>
                        </a:gs>
                        <a:gs pos="100000">
                          <a:srgbClr val="40265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优势（</a:t>
                      </a:r>
                      <a:r>
                        <a:rPr b="1" lang="en-US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）；</a:t>
                      </a:r>
                      <a:r>
                        <a:rPr b="1" lang="en-US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弱势（</a:t>
                      </a:r>
                      <a:r>
                        <a:rPr b="1" lang="en-US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W</a:t>
                      </a:r>
                      <a:r>
                        <a:rPr b="1" lang="zh-CN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）；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机会（</a:t>
                      </a:r>
                      <a:r>
                        <a:rPr b="1" lang="en-US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O</a:t>
                      </a:r>
                      <a:r>
                        <a:rPr b="1" lang="zh-CN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）；</a:t>
                      </a:r>
                      <a:r>
                        <a:rPr b="1" lang="en-US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威胁（</a:t>
                      </a:r>
                      <a:r>
                        <a:rPr b="1" lang="en-US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T</a:t>
                      </a:r>
                      <a:r>
                        <a:rPr b="1" lang="zh-CN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）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24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ff00"/>
                          </a:solidFill>
                          <a:latin typeface="方正小标宋_GBK"/>
                          <a:ea typeface="方正小标宋_GBK"/>
                        </a:rPr>
                        <a:t>五、制定职业生涯目标（</a:t>
                      </a:r>
                      <a:r>
                        <a:rPr b="1" lang="en-US" sz="3000" spc="-1" strike="noStrike">
                          <a:solidFill>
                            <a:srgbClr val="ffff00"/>
                          </a:solidFill>
                          <a:latin typeface="方正小标宋_GBK"/>
                          <a:ea typeface="方正小标宋_GBK"/>
                        </a:rPr>
                        <a:t>8-10</a:t>
                      </a:r>
                      <a:r>
                        <a:rPr b="1" lang="zh-CN" sz="3000" spc="-1" strike="noStrike">
                          <a:solidFill>
                            <a:srgbClr val="ffff00"/>
                          </a:solidFill>
                          <a:latin typeface="方正小标宋_GBK"/>
                          <a:ea typeface="方正小标宋_GBK"/>
                        </a:rPr>
                        <a:t>年）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265d"/>
                        </a:gs>
                        <a:gs pos="50000">
                          <a:srgbClr val="0000ff"/>
                        </a:gs>
                        <a:gs pos="100000">
                          <a:srgbClr val="40265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职业目标及达到的职务或职称；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学习培训目标（知识、能力、经验、资格证书等）；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收入目标（可不写）；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家庭目标（可不写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76320" y="20520"/>
          <a:ext cx="8991360" cy="6456240"/>
        </p:xfrm>
        <a:graphic>
          <a:graphicData uri="http://schemas.openxmlformats.org/drawingml/2006/table">
            <a:tbl>
              <a:tblPr/>
              <a:tblGrid>
                <a:gridCol w="914040"/>
                <a:gridCol w="807732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微软雅黑"/>
                          <a:ea typeface="宋体"/>
                        </a:rPr>
                        <a:t>具体内容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9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ff00"/>
                          </a:solidFill>
                          <a:latin typeface="微软雅黑"/>
                          <a:ea typeface="方正小标宋_GBK"/>
                        </a:rPr>
                        <a:t>六、分阶段目标和实施计划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265d"/>
                        </a:gs>
                        <a:gs pos="50000">
                          <a:srgbClr val="0000ff"/>
                        </a:gs>
                        <a:gs pos="100000">
                          <a:srgbClr val="40265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第一阶段：</a:t>
                      </a:r>
                      <a:r>
                        <a:rPr b="1" lang="en-US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2010-2014</a:t>
                      </a:r>
                      <a:r>
                        <a:rPr b="1" lang="zh-CN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年学业有成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1</a:t>
                      </a:r>
                      <a:r>
                        <a:rPr b="1" lang="zh-CN" sz="25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、职务目标及实施计划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2</a:t>
                      </a:r>
                      <a:r>
                        <a:rPr b="1" lang="zh-CN" sz="25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、学习培训目标（知识、能力、经验、资格证书等）及实施计划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3</a:t>
                      </a:r>
                      <a:r>
                        <a:rPr b="1" lang="zh-CN" sz="25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、毕业意向及实施计划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4</a:t>
                      </a:r>
                      <a:r>
                        <a:rPr b="1" lang="zh-CN" sz="25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、健康目标及实施计划（可不写）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第二阶段：</a:t>
                      </a:r>
                      <a:r>
                        <a:rPr b="1" lang="en-US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2014-2019</a:t>
                      </a:r>
                      <a:r>
                        <a:rPr b="1" lang="zh-CN" sz="28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年，熟悉适应发展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1</a:t>
                      </a:r>
                      <a:r>
                        <a:rPr b="1" lang="zh-CN" sz="25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、职业目标及达到的职务或职务、实施计划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2</a:t>
                      </a:r>
                      <a:r>
                        <a:rPr b="1" lang="zh-CN" sz="25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、学习培训目标（知识、能力、经验、资格证书等）及实施计划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3</a:t>
                      </a:r>
                      <a:r>
                        <a:rPr b="1" lang="zh-CN" sz="25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、收入目标及实施计划（可不写）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4</a:t>
                      </a:r>
                      <a:r>
                        <a:rPr b="1" lang="zh-CN" sz="25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、健康目标及实施计划（可不写）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5</a:t>
                      </a:r>
                      <a:r>
                        <a:rPr b="1" lang="zh-CN" sz="25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、家庭目标及实施计划（可不写）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0" y="317520"/>
          <a:ext cx="9144000" cy="5753160"/>
        </p:xfrm>
        <a:graphic>
          <a:graphicData uri="http://schemas.openxmlformats.org/drawingml/2006/table">
            <a:tbl>
              <a:tblPr/>
              <a:tblGrid>
                <a:gridCol w="1600200"/>
                <a:gridCol w="754380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微软雅黑"/>
                          <a:ea typeface="宋体"/>
                        </a:rPr>
                        <a:t>具体内容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41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方正小标宋_GBK"/>
                          <a:ea typeface="方正小标宋_GBK"/>
                        </a:rPr>
                        <a:t>七、评估与反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265d"/>
                        </a:gs>
                        <a:gs pos="50000">
                          <a:srgbClr val="0000ff"/>
                        </a:gs>
                        <a:gs pos="100000">
                          <a:srgbClr val="40265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、对自我分析的评估和修正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、对环境分析的评估与修正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、对总目标的评估和修正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4</a:t>
                      </a:r>
                      <a:r>
                        <a:rPr b="1" lang="zh-CN" sz="32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、对分阶段目标的评估和修正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5</a:t>
                      </a:r>
                      <a:r>
                        <a:rPr b="1" lang="zh-CN" sz="32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、对行动实施计划的评估和修正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6</a:t>
                      </a:r>
                      <a:r>
                        <a:rPr b="1" lang="zh-CN" sz="3200" spc="-1" strike="noStrike">
                          <a:solidFill>
                            <a:srgbClr val="020a53"/>
                          </a:solidFill>
                          <a:latin typeface="隶书"/>
                          <a:ea typeface="隶书"/>
                        </a:rPr>
                        <a:t>、实施过程中出现的问题及解决的办法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108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方正小标宋_GBK"/>
                          <a:ea typeface="方正小标宋_GBK"/>
                        </a:rPr>
                        <a:t>八、结束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265d"/>
                        </a:gs>
                        <a:gs pos="50000">
                          <a:srgbClr val="0000ff"/>
                        </a:gs>
                        <a:gs pos="100000">
                          <a:srgbClr val="40265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20a53"/>
                          </a:solidFill>
                          <a:latin typeface="微软雅黑"/>
                          <a:ea typeface="隶书"/>
                        </a:rPr>
                        <a:t>对个人进行职业生涯规划后的启示和感想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99"/>
                </a:solidFill>
                <a:latin typeface="Tahoma"/>
              </a:rPr>
              <a:t>撰写格式、内容和要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要求：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3000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字以上，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4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纸打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我的职业生涯规划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班级：       学号：        姓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评分标准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自我分析——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40%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；环境分析——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制定目标及实施计划——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3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其他方面——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1989000"/>
            <a:ext cx="8488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ahoma"/>
              </a:rPr>
              <a:t>           </a:t>
            </a:r>
            <a:r>
              <a:rPr b="1" lang="en-US" sz="4000" spc="-1" strike="noStrike">
                <a:solidFill>
                  <a:srgbClr val="ffff99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99"/>
                </a:solidFill>
                <a:latin typeface="黑体"/>
                <a:ea typeface="黑体"/>
              </a:rPr>
              <a:t>一、前 言   </a:t>
            </a:r>
            <a:r>
              <a:rPr b="1" lang="en-US" sz="3600" spc="-1" strike="noStrike">
                <a:solidFill>
                  <a:srgbClr val="ffff99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2360" y="190512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ahoma"/>
              </a:rPr>
              <a:t>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zh-CN" sz="4000" spc="-1" strike="noStrike">
                <a:solidFill>
                  <a:srgbClr val="ffff99"/>
                </a:solidFill>
                <a:latin typeface="Tahoma"/>
              </a:rPr>
              <a:t>简述自己进行职业生涯规划的目的、意义等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黑体"/>
                <a:ea typeface="黑体"/>
              </a:rPr>
              <a:t>二、自我分析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ff99"/>
                </a:solidFill>
                <a:latin typeface="Tahoma"/>
              </a:rPr>
              <a:t>、职业兴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我的霍兰德代码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具体描述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所建议的职业（至少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种）：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99"/>
                </a:solidFill>
                <a:latin typeface="Tahoma"/>
              </a:rPr>
              <a:t>、性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我的ＭＢＴＩ类型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具体描述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所建议的职业（至少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种） 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黑体"/>
                <a:ea typeface="黑体"/>
              </a:rPr>
              <a:t>二、自我分析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ffff99"/>
                </a:solidFill>
                <a:latin typeface="Tahoma"/>
              </a:rPr>
              <a:t>、 职业锚（职业价值观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我的五种重要价值观及其含义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）、————————————————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）、———————————————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）、———————————————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）、———————————————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）、———————————————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黑体"/>
                <a:ea typeface="黑体"/>
              </a:rPr>
              <a:t>二、自我分析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ffff99"/>
                </a:solidFill>
                <a:latin typeface="Tahoma"/>
              </a:rPr>
              <a:t>、技能分析：专业技能、自我管理技能、可迁移技能等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）我最重要的五项自我管理技能（形容词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）我最重要的五项可迁移技能（动词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）我最重要的五项专业技能（名词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）目前没有拥有但我想着重培养的各种技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黑体"/>
                <a:ea typeface="黑体"/>
              </a:rPr>
              <a:t>二、自我分析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41440" y="2133720"/>
            <a:ext cx="820872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ffff99"/>
                </a:solidFill>
                <a:latin typeface="Tahoma"/>
              </a:rPr>
              <a:t>、 气质、 天赋、情商、逆境商、财商等其他方面的自我分析结果描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ffff99"/>
                </a:solidFill>
                <a:latin typeface="Tahoma"/>
              </a:rPr>
              <a:t>、我向往的几种职业（可能是前面出现过的，也可以是未曾出现过的）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         </a:t>
            </a:r>
            <a:r>
              <a:rPr b="0" lang="zh-CN" sz="4400" spc="-1" strike="noStrike">
                <a:solidFill>
                  <a:srgbClr val="ffff99"/>
                </a:solidFill>
                <a:latin typeface="Tahoma"/>
                <a:ea typeface="黑体"/>
              </a:rPr>
              <a:t>三、环境分析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280360" cy="4321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ff99"/>
                </a:solidFill>
                <a:latin typeface="Tahoma"/>
              </a:rPr>
              <a:t>、社会环境分析（就业形势、政策、目标行业等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ff99"/>
                </a:solidFill>
                <a:latin typeface="Tahoma"/>
              </a:rPr>
              <a:t>、教育背景分析（学校、专业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ffff99"/>
                </a:solidFill>
                <a:latin typeface="Tahoma"/>
              </a:rPr>
              <a:t>、家庭环境分析（成长经历、经济状况、社会关系等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ffff99"/>
                </a:solidFill>
                <a:latin typeface="Tahoma"/>
              </a:rPr>
              <a:t>、我的目标职业库及目标职业信息分析（具体的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3-5</a:t>
            </a:r>
            <a:r>
              <a:rPr b="1" lang="zh-CN" sz="2800" spc="-1" strike="noStrike">
                <a:solidFill>
                  <a:srgbClr val="ffff99"/>
                </a:solidFill>
                <a:latin typeface="Tahoma"/>
              </a:rPr>
              <a:t>个目标职业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ffff99"/>
                </a:solidFill>
                <a:latin typeface="Tahoma"/>
              </a:rPr>
              <a:t>、适合自己的继续教育和学习方面的选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1" lang="zh-CN" sz="4800" spc="-1" strike="noStrike">
                <a:solidFill>
                  <a:srgbClr val="ffff99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ff99"/>
                </a:solidFill>
                <a:latin typeface="黑体"/>
                <a:ea typeface="黑体"/>
              </a:rPr>
              <a:t>四</a:t>
            </a:r>
            <a:r>
              <a:rPr b="1" lang="zh-CN" sz="4000" spc="-1" strike="noStrike">
                <a:solidFill>
                  <a:srgbClr val="ffff99"/>
                </a:solidFill>
                <a:latin typeface="黑体"/>
                <a:ea typeface="黑体"/>
              </a:rPr>
              <a:t>、制定职业生涯目标（</a:t>
            </a:r>
            <a:r>
              <a:rPr b="1" lang="zh-CN" sz="4000" spc="-1" strike="noStrike">
                <a:solidFill>
                  <a:srgbClr val="ffff99"/>
                </a:solidFill>
                <a:latin typeface="黑体"/>
                <a:ea typeface="黑体"/>
              </a:rPr>
              <a:t>3-5</a:t>
            </a:r>
            <a:r>
              <a:rPr b="1" lang="zh-CN" sz="4000" spc="-1" strike="noStrike">
                <a:solidFill>
                  <a:srgbClr val="ffff99"/>
                </a:solidFill>
                <a:latin typeface="黑体"/>
                <a:ea typeface="黑体"/>
              </a:rPr>
              <a:t>年）</a:t>
            </a:r>
            <a:r>
              <a:rPr b="1" lang="zh-CN" sz="4800" spc="-1" strike="noStrike">
                <a:solidFill>
                  <a:srgbClr val="ffff99"/>
                </a:solidFill>
                <a:latin typeface="Tahoma"/>
              </a:rPr>
              <a:t>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9440" y="2206440"/>
            <a:ext cx="8207640" cy="39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      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ff99"/>
                </a:solidFill>
                <a:latin typeface="Tahoma"/>
              </a:rPr>
              <a:t>、职业目标及达到的职务或职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99"/>
                </a:solidFill>
                <a:latin typeface="Tahoma"/>
              </a:rPr>
              <a:t>、学习培训目标（知识、能力、经验、资格证书等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ffff99"/>
                </a:solidFill>
                <a:latin typeface="Tahoma"/>
              </a:rPr>
              <a:t>、收入目标（可不写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ffff99"/>
                </a:solidFill>
                <a:latin typeface="Tahoma"/>
              </a:rPr>
              <a:t>、家庭目标（可不写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7:07:48Z</dcterms:created>
  <dc:creator/>
  <dc:description/>
  <dc:language>en-US</dc:language>
  <cp:lastModifiedBy>HP</cp:lastModifiedBy>
  <dcterms:modified xsi:type="dcterms:W3CDTF">2013-06-04T01:59:0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  <property fmtid="{D5CDD505-2E9C-101B-9397-08002B2CF9AE}" pid="3" name="Version">
    <vt:r8>1</vt:r8>
  </property>
</Properties>
</file>