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6B2-3261-4C3A-8B3B-80C05E10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21B-C964-4B26-9B88-DCAE978D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D46-87E5-4252-B482-92792E1F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FC1-23D2-49A0-B54D-E7265F64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8A0-8DDF-4C1A-891C-7B8744C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800-7F36-477D-A1CF-6BA43482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367-B772-47B1-9B62-BAE4852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7ED-51BA-4B2B-8315-2F935DD0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862-C88D-429E-9E2C-204976F8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5CB-BB51-4EA3-B5E1-E9228AF2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4A2-1EFF-429D-90FA-DE6BF3A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1E3-A8B9-4E0D-B295-AE98ED0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49C-6ADC-4473-9F10-83E5E972C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图片 1" descr="2015-11-12 16-06-28"/>
          <p:cNvPicPr/>
          <p:nvPr/>
        </p:nvPicPr>
        <p:blipFill>
          <a:blip r:embed="rId1"/>
          <a:stretch/>
        </p:blipFill>
        <p:spPr>
          <a:xfrm>
            <a:off x="1666800" y="-314280"/>
            <a:ext cx="5810400" cy="74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2015-11-12 16-07-44"/>
          <p:cNvPicPr/>
          <p:nvPr/>
        </p:nvPicPr>
        <p:blipFill>
          <a:blip r:embed="rId1"/>
          <a:stretch/>
        </p:blipFill>
        <p:spPr>
          <a:xfrm>
            <a:off x="1763640" y="-1035000"/>
            <a:ext cx="5803920" cy="81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内容占位符 3" descr="2015-11-12 16-07-52"/>
          <p:cNvPicPr/>
          <p:nvPr/>
        </p:nvPicPr>
        <p:blipFill>
          <a:blip r:embed="rId1"/>
          <a:stretch/>
        </p:blipFill>
        <p:spPr>
          <a:xfrm>
            <a:off x="1116000" y="-747720"/>
            <a:ext cx="5978520" cy="794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内容占位符 3" descr="2015-11-12 16-07-59"/>
          <p:cNvPicPr/>
          <p:nvPr/>
        </p:nvPicPr>
        <p:blipFill>
          <a:blip r:embed="rId1"/>
          <a:stretch/>
        </p:blipFill>
        <p:spPr>
          <a:xfrm>
            <a:off x="1332000" y="-819000"/>
            <a:ext cx="5898960" cy="79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3" descr="2015-11-12 16-08-06"/>
          <p:cNvPicPr/>
          <p:nvPr/>
        </p:nvPicPr>
        <p:blipFill>
          <a:blip r:embed="rId1"/>
          <a:stretch/>
        </p:blipFill>
        <p:spPr>
          <a:xfrm>
            <a:off x="971640" y="-1611360"/>
            <a:ext cx="6688080" cy="91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3" descr="2015-11-12 16-22-26"/>
          <p:cNvPicPr/>
          <p:nvPr/>
        </p:nvPicPr>
        <p:blipFill>
          <a:blip r:embed="rId1"/>
          <a:stretch/>
        </p:blipFill>
        <p:spPr>
          <a:xfrm>
            <a:off x="1619280" y="-460440"/>
            <a:ext cx="5562720" cy="77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内容占位符 3" descr="2015-11-12 16-22-33"/>
          <p:cNvPicPr/>
          <p:nvPr/>
        </p:nvPicPr>
        <p:blipFill>
          <a:blip r:embed="rId1"/>
          <a:stretch/>
        </p:blipFill>
        <p:spPr>
          <a:xfrm>
            <a:off x="1187280" y="-1395360"/>
            <a:ext cx="6272280" cy="85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3" descr="2015-11-12 16-06-40"/>
          <p:cNvPicPr/>
          <p:nvPr/>
        </p:nvPicPr>
        <p:blipFill>
          <a:blip r:embed="rId1"/>
          <a:stretch/>
        </p:blipFill>
        <p:spPr>
          <a:xfrm>
            <a:off x="1260360" y="-819000"/>
            <a:ext cx="6027840" cy="83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2015-11-12 16-06-19"/>
          <p:cNvPicPr/>
          <p:nvPr/>
        </p:nvPicPr>
        <p:blipFill>
          <a:blip r:embed="rId1"/>
          <a:stretch/>
        </p:blipFill>
        <p:spPr>
          <a:xfrm>
            <a:off x="1763640" y="-100080"/>
            <a:ext cx="5386320" cy="72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5" descr="2015-11-12 16-06-50"/>
          <p:cNvPicPr/>
          <p:nvPr/>
        </p:nvPicPr>
        <p:blipFill>
          <a:blip r:embed="rId1"/>
          <a:stretch/>
        </p:blipFill>
        <p:spPr>
          <a:xfrm>
            <a:off x="1979640" y="-244440"/>
            <a:ext cx="497844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2015-11-12 16-06-59"/>
          <p:cNvPicPr/>
          <p:nvPr/>
        </p:nvPicPr>
        <p:blipFill>
          <a:blip r:embed="rId1"/>
          <a:stretch/>
        </p:blipFill>
        <p:spPr>
          <a:xfrm>
            <a:off x="1547640" y="-316080"/>
            <a:ext cx="5718240" cy="760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2015-11-12 16-07-07"/>
          <p:cNvPicPr/>
          <p:nvPr/>
        </p:nvPicPr>
        <p:blipFill>
          <a:blip r:embed="rId1"/>
          <a:stretch/>
        </p:blipFill>
        <p:spPr>
          <a:xfrm>
            <a:off x="1403280" y="-963720"/>
            <a:ext cx="5467320" cy="790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2015-11-12 16-07-16"/>
          <p:cNvPicPr/>
          <p:nvPr/>
        </p:nvPicPr>
        <p:blipFill>
          <a:blip r:embed="rId1"/>
          <a:stretch/>
        </p:blipFill>
        <p:spPr>
          <a:xfrm>
            <a:off x="1547640" y="-676440"/>
            <a:ext cx="575964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2015-11-12 16-07-25"/>
          <p:cNvPicPr/>
          <p:nvPr/>
        </p:nvPicPr>
        <p:blipFill>
          <a:blip r:embed="rId1"/>
          <a:stretch/>
        </p:blipFill>
        <p:spPr>
          <a:xfrm>
            <a:off x="1763640" y="-1611360"/>
            <a:ext cx="5918400" cy="86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2015-11-12 16-07-32"/>
          <p:cNvPicPr/>
          <p:nvPr/>
        </p:nvPicPr>
        <p:blipFill>
          <a:blip r:embed="rId1"/>
          <a:stretch/>
        </p:blipFill>
        <p:spPr>
          <a:xfrm>
            <a:off x="1403280" y="-892080"/>
            <a:ext cx="6153120" cy="84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2T08:22:55Z</dcterms:created>
  <dc:creator>Administrator</dc:creator>
  <dc:description/>
  <dc:language>en-US</dc:language>
  <cp:lastModifiedBy>Administrator</cp:lastModifiedBy>
  <dcterms:modified xsi:type="dcterms:W3CDTF">2015-11-12T08:22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