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7000-BDFF-44C9-9DDE-3A0E0C41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F15A-757F-4E63-9704-A709F3D1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DE1D-61CF-43EA-A558-C8BF2B2E4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B677-9F99-4883-9FBB-E6F02F76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E181D-7FB4-4A0A-82E6-802BD4F0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A7A7-7248-4605-BA6B-DE4F41E8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7277-A006-46C2-9667-7E6BB5AA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4415-72D0-4833-8147-CE017AAC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FCDC-B399-4C24-B671-0CAC4702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C78D-8FCF-4B43-AE4D-7091AE07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A09A-89C1-4F76-AB25-9A13EEB9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64F5-B86F-4237-99E7-884F5503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0438-67B5-42E1-942D-0DF50C97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9AD1-0A96-4ED5-8C1E-E05860A8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F543-C768-41DC-8C9D-3BB158D8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6FED-8E8A-4307-A19D-CBCFCCBD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BF5A-BAF2-47D8-9B9E-BD9DB216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2227-7DA5-4014-8DA1-F5E7F8E2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DF95-A942-4340-B298-532681D8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138C-FB63-4878-B247-7C76BA79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822-3C1C-48C6-A62D-916111ED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97F7-3B1E-4153-9647-C8C91530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490-54A3-4087-BEDD-46EADD3B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E3FB-475B-449D-A109-7B40181D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219A-36A9-45DD-A60B-09894D0261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0D5F-3905-4751-94D9-A8134BDB56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" Target="slide11.xm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" Target="slide12.xml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8.xm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344520" y="-2438280"/>
            <a:ext cx="9488520" cy="9677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9640" y="1066680"/>
            <a:ext cx="777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隶书"/>
              </a:rPr>
              <a:t>17</a:t>
            </a: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隶书"/>
              </a:rPr>
              <a:t>、</a:t>
            </a:r>
            <a:r>
              <a:rPr b="1" lang="zh-CN" sz="8000" spc="-1" strike="noStrike">
                <a:solidFill>
                  <a:srgbClr val="b2d01c"/>
                </a:solidFill>
                <a:latin typeface="Times New Roman"/>
                <a:ea typeface="隶书"/>
              </a:rPr>
              <a:t>秦陵兵马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38862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3435480" cy="4647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19320" y="5029200"/>
            <a:ext cx="403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武士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694b6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3694b6"/>
                </a:solidFill>
                <a:latin typeface="Times New Roman"/>
              </a:rPr>
              <a:t>武士俑高</a:t>
            </a:r>
            <a:r>
              <a:rPr b="0" lang="zh-CN" sz="3600" spc="-1" strike="noStrike">
                <a:solidFill>
                  <a:srgbClr val="3694b6"/>
                </a:solidFill>
                <a:latin typeface="Times New Roman"/>
              </a:rPr>
              <a:t>1.8</a:t>
            </a:r>
            <a:r>
              <a:rPr b="0" lang="zh-CN" sz="3600" spc="-1" strike="noStrike">
                <a:solidFill>
                  <a:srgbClr val="3694b6"/>
                </a:solidFill>
                <a:latin typeface="Times New Roman"/>
              </a:rPr>
              <a:t>米左右，体格健壮，体态匀称。身上穿着战袍，套着铠甲，脚上蹬着前端向上翘起的战靴，头发一律挽成了偏向左侧的发髻。他们有的握着铜戈，有的擎着利剑，有的拿着盾牌。个个目光炯炯，双唇紧闭，神态严峻，好像一场大战就在眼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8229600" y="62485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4191120" cy="4572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76520" y="4876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骑兵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60948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骑兵俑上身穿着短甲，下身穿着紧口裤，足蹬长统马靴，右手执缰，左手持弓箭，随时准备上马冲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8458200" y="60958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  <a:path fill="darken" w="21600" h="30248">
                <a:moveTo>
                  <a:pt x="3794" y="15124"/>
                </a:moveTo>
                <a:lnTo>
                  <a:pt x="17806" y="8118"/>
                </a:lnTo>
                <a:lnTo>
                  <a:pt x="17806" y="22131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4724280" cy="5029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81080" y="53341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车马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53352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车马俑则分为驭手和军士，驭手居中而立，驾驭着战车，军士分列杂战车两侧，保护着驭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8458200" y="609588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10800" y="9224"/>
                </a:moveTo>
                <a:lnTo>
                  <a:pt x="13376" y="11835"/>
                </a:lnTo>
                <a:lnTo>
                  <a:pt x="13376" y="10095"/>
                </a:lnTo>
                <a:lnTo>
                  <a:pt x="15152" y="10095"/>
                </a:lnTo>
                <a:lnTo>
                  <a:pt x="15152" y="13611"/>
                </a:lnTo>
                <a:lnTo>
                  <a:pt x="17763" y="16187"/>
                </a:lnTo>
                <a:lnTo>
                  <a:pt x="16109" y="16187"/>
                </a:lnTo>
                <a:lnTo>
                  <a:pt x="16109" y="23377"/>
                </a:lnTo>
                <a:lnTo>
                  <a:pt x="5491" y="23377"/>
                </a:lnTo>
                <a:lnTo>
                  <a:pt x="5491" y="16187"/>
                </a:lnTo>
                <a:lnTo>
                  <a:pt x="3837" y="16187"/>
                </a:lnTo>
                <a:close/>
              </a:path>
              <a:path fill="darkenLess" w="21600" h="32375">
                <a:moveTo>
                  <a:pt x="13376" y="11835"/>
                </a:moveTo>
                <a:lnTo>
                  <a:pt x="13376" y="10095"/>
                </a:lnTo>
                <a:lnTo>
                  <a:pt x="15152" y="10095"/>
                </a:lnTo>
                <a:lnTo>
                  <a:pt x="15152" y="13611"/>
                </a:lnTo>
                <a:close/>
              </a:path>
              <a:path fill="darkenLess" w="21600" h="32375">
                <a:moveTo>
                  <a:pt x="9877" y="19686"/>
                </a:moveTo>
                <a:lnTo>
                  <a:pt x="11723" y="19686"/>
                </a:lnTo>
                <a:lnTo>
                  <a:pt x="11723" y="23377"/>
                </a:lnTo>
                <a:lnTo>
                  <a:pt x="16109" y="23377"/>
                </a:lnTo>
                <a:lnTo>
                  <a:pt x="16109" y="16187"/>
                </a:lnTo>
                <a:lnTo>
                  <a:pt x="5491" y="16187"/>
                </a:lnTo>
                <a:lnTo>
                  <a:pt x="5491" y="23377"/>
                </a:lnTo>
                <a:lnTo>
                  <a:pt x="9877" y="23377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800600" y="4572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马俑与真马一般大小，一匹匹形体健壮，肌肉丰满。那跃跃欲试的样子，好像一声令下，就会撒开四蹄，腾空而起，踏上征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495288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马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8534520" y="617220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3794" y="10977"/>
                </a:moveTo>
                <a:lnTo>
                  <a:pt x="17806" y="17983"/>
                </a:lnTo>
                <a:lnTo>
                  <a:pt x="3794" y="2499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4102200" cy="4647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8809200" cy="6654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8442360" cy="8864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3743280" cy="5616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284720" y="333360"/>
            <a:ext cx="4464000" cy="5586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7489800" cy="6629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448920" cy="73310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133720" y="1066680"/>
            <a:ext cx="5790960" cy="65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它们神态各异：有的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      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，好像在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       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；有的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，好像在 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       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；有的  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Times New Roman"/>
                <a:ea typeface="楷体_GB2312"/>
              </a:rPr>
              <a:t>    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，好像在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400" spc="-1" strike="noStrike" u="sng">
                <a:solidFill>
                  <a:srgbClr val="ffff00"/>
                </a:solidFill>
                <a:uFillTx/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295280" y="457200"/>
            <a:ext cx="7086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        </a:t>
            </a:r>
            <a:r>
              <a:rPr b="0" lang="zh-CN" sz="4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秦陵兵马俑，惟妙惟肖地模拟军阵的排列，这在古今中外的雕塑史上是绝无仅有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01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6092" y="10800"/>
                </a:moveTo>
                <a:lnTo>
                  <a:pt x="5586" y="17806"/>
                </a:lnTo>
                <a:lnTo>
                  <a:pt x="5586" y="3794"/>
                </a:lnTo>
                <a:close/>
              </a:path>
              <a:path fill="darken" w="25186" h="21600">
                <a:moveTo>
                  <a:pt x="17937" y="3794"/>
                </a:moveTo>
                <a:lnTo>
                  <a:pt x="17937" y="17806"/>
                </a:lnTo>
                <a:lnTo>
                  <a:pt x="19599" y="17806"/>
                </a:lnTo>
                <a:lnTo>
                  <a:pt x="19599" y="3794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endshow"/>
          </p:cNvPr>
          <p:cNvSpPr/>
          <p:nvPr/>
        </p:nvSpPr>
        <p:spPr>
          <a:xfrm>
            <a:off x="82296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7493"/>
                </a:moveTo>
                <a:lnTo>
                  <a:pt x="9103" y="7493"/>
                </a:lnTo>
                <a:lnTo>
                  <a:pt x="9103" y="12828"/>
                </a:lnTo>
                <a:cubicBezTo>
                  <a:pt x="9103" y="13751"/>
                  <a:pt x="9903" y="14482"/>
                  <a:pt x="10939" y="14482"/>
                </a:cubicBezTo>
                <a:lnTo>
                  <a:pt x="12601" y="14482"/>
                </a:lnTo>
                <a:cubicBezTo>
                  <a:pt x="13637" y="14482"/>
                  <a:pt x="14438" y="13751"/>
                  <a:pt x="14438" y="12828"/>
                </a:cubicBezTo>
                <a:lnTo>
                  <a:pt x="14438" y="7493"/>
                </a:lnTo>
                <a:lnTo>
                  <a:pt x="12601" y="7493"/>
                </a:lnTo>
                <a:lnTo>
                  <a:pt x="16109" y="3985"/>
                </a:lnTo>
                <a:lnTo>
                  <a:pt x="19782" y="7493"/>
                </a:lnTo>
                <a:lnTo>
                  <a:pt x="17945" y="7493"/>
                </a:lnTo>
                <a:lnTo>
                  <a:pt x="17945" y="12828"/>
                </a:lnTo>
                <a:cubicBezTo>
                  <a:pt x="17945" y="15596"/>
                  <a:pt x="15369" y="18155"/>
                  <a:pt x="12601" y="18155"/>
                </a:cubicBezTo>
                <a:lnTo>
                  <a:pt x="10939" y="18155"/>
                </a:lnTo>
                <a:cubicBezTo>
                  <a:pt x="8171" y="18155"/>
                  <a:pt x="5595" y="15596"/>
                  <a:pt x="5595" y="12828"/>
                </a:cubicBez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          ）的秦陵兵马俑令人叹为观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些兵马俑可真是（ </a:t>
            </a: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类型众多、个性鲜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，这里的每一件兵马俑（</a:t>
            </a: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都是极为精美的艺术珍品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0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如此精美的艺术珍品排列在一起会是一种怎样的场面呢？（</a:t>
            </a: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站在高处鸟瞰，坑里的兵俑、马俑相间，一行行，一列列，十分整齐，排成了一个巨大的长方形军阵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秦陵兵马俑如此（</a:t>
            </a: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惟妙惟肖地模拟军阵的排列，这在古今的雕塑史上是绝无仅有的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秦陵兵马俑是（ </a:t>
            </a: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中国人的骄傲。）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560" y="1052640"/>
            <a:ext cx="76438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举世无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秦陵兵马俑是我国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享誉世界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珍贵历史文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66680" y="228600"/>
            <a:ext cx="731520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兵马俑规模宏大。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已发掘的三个俑坑，总面积达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19120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平方米，足有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50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多个篮球场那么大，坑内有兵马俑近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7000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个。在三个俑坑中，一号坑最大，东西长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230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米，南北宽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62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米，总面积有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14260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平方米。坑里的兵马俑也最多，共有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6000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个左右。一号坑上面，现在已盖起了一座巨大的拱形大厅，人们无不为兵马俑的恢弘气势和高超的制作工艺所折服。站在高处鸟瞰，坑里的兵俑、马俑相间，一行行，一列列，十分整齐，排成了一个巨大的长方形军阵，看上去真像一支南征北战、所向披靡的大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219320" y="228600"/>
            <a:ext cx="7543800" cy="33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        </a:t>
            </a:r>
            <a:r>
              <a:rPr b="0" lang="zh-CN" sz="3200" spc="-1" strike="noStrike" u="sng">
                <a:solidFill>
                  <a:srgbClr val="660066"/>
                </a:solidFill>
                <a:uFillTx/>
                <a:latin typeface="Times New Roman"/>
                <a:ea typeface="楷体_GB2312"/>
                <a:hlinkClick r:id="rId1" action="ppaction://hlinksldjump"/>
              </a:rPr>
              <a:t>兵马俑规模宏大。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已发掘的三个俑坑，总面积达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9120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平方米，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足有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50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多个篮球场那么大，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坑内有兵马俑近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7000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个。在三个俑坑中，一号坑最大，东西长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30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米，南北宽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62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米，总面积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4260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平方米。坑里的兵马俑也最多，共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6000</a:t>
            </a:r>
            <a:r>
              <a:rPr b="1" lang="zh-CN" sz="3200" spc="-1" strike="noStrike">
                <a:solidFill>
                  <a:srgbClr val="3694b6"/>
                </a:solidFill>
                <a:latin typeface="Times New Roman"/>
                <a:ea typeface="楷体_GB2312"/>
              </a:rPr>
              <a:t>个左右。一号坑上面，现在已盖起了一座巨大的拱形大厅，人们无不为兵马俑的恢弘气势和高超的制作工艺所折服。站在高处鸟瞰，坑里的兵俑、马俑相间，一行行，一列列，十分整齐，排成了一个巨大的长方形军阵，看上去真像一支南征北战、所向披靡的大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1880" y="6095880"/>
            <a:ext cx="381240" cy="45720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00">
                <a:moveTo>
                  <a:pt x="0" y="0"/>
                </a:moveTo>
                <a:lnTo>
                  <a:pt x="21600" y="0"/>
                </a:lnTo>
                <a:lnTo>
                  <a:pt x="21600" y="25900"/>
                </a:lnTo>
                <a:lnTo>
                  <a:pt x="0" y="25900"/>
                </a:lnTo>
                <a:close/>
              </a:path>
              <a:path fill="lightenLess" w="21600" h="259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00">
                <a:moveTo>
                  <a:pt x="21600" y="0"/>
                </a:moveTo>
                <a:lnTo>
                  <a:pt x="21600" y="25900"/>
                </a:lnTo>
                <a:lnTo>
                  <a:pt x="20200" y="24500"/>
                </a:lnTo>
                <a:lnTo>
                  <a:pt x="20200" y="1400"/>
                </a:lnTo>
                <a:close/>
              </a:path>
              <a:path fill="darkenLess" w="21600" h="25900">
                <a:moveTo>
                  <a:pt x="21600" y="25900"/>
                </a:moveTo>
                <a:lnTo>
                  <a:pt x="0" y="25900"/>
                </a:lnTo>
                <a:lnTo>
                  <a:pt x="1400" y="24500"/>
                </a:lnTo>
                <a:lnTo>
                  <a:pt x="20200" y="24500"/>
                </a:lnTo>
                <a:close/>
              </a:path>
              <a:path fill="lighten" w="21600" h="25900">
                <a:moveTo>
                  <a:pt x="0" y="259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00"/>
                </a:lnTo>
                <a:close/>
              </a:path>
              <a:path fill="darken" w="21600" h="25900">
                <a:moveTo>
                  <a:pt x="14299" y="12950"/>
                </a:moveTo>
                <a:lnTo>
                  <a:pt x="3794" y="19956"/>
                </a:lnTo>
                <a:lnTo>
                  <a:pt x="3794" y="5943"/>
                </a:lnTo>
                <a:close/>
              </a:path>
              <a:path fill="darken" w="21600" h="25900">
                <a:moveTo>
                  <a:pt x="16144" y="5943"/>
                </a:moveTo>
                <a:lnTo>
                  <a:pt x="16144" y="19956"/>
                </a:lnTo>
                <a:lnTo>
                  <a:pt x="17806" y="19956"/>
                </a:lnTo>
                <a:lnTo>
                  <a:pt x="17806" y="594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609480" y="0"/>
            <a:ext cx="3962520" cy="4267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190760" cy="4267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09480" y="4343400"/>
            <a:ext cx="8229600" cy="2514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  <a:path fill="darken" w="21600" h="33922">
                <a:moveTo>
                  <a:pt x="10800" y="995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33922">
                <a:moveTo>
                  <a:pt x="10800" y="1032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33922">
                <a:moveTo>
                  <a:pt x="8224" y="14385"/>
                </a:moveTo>
                <a:lnTo>
                  <a:pt x="12088" y="14385"/>
                </a:lnTo>
                <a:lnTo>
                  <a:pt x="12088" y="21383"/>
                </a:lnTo>
                <a:lnTo>
                  <a:pt x="13376" y="21383"/>
                </a:lnTo>
                <a:lnTo>
                  <a:pt x="13376" y="22305"/>
                </a:lnTo>
                <a:lnTo>
                  <a:pt x="8224" y="22305"/>
                </a:lnTo>
                <a:lnTo>
                  <a:pt x="8224" y="21383"/>
                </a:lnTo>
                <a:lnTo>
                  <a:pt x="9512" y="21383"/>
                </a:lnTo>
                <a:lnTo>
                  <a:pt x="9512" y="15290"/>
                </a:lnTo>
                <a:lnTo>
                  <a:pt x="8224" y="1529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lastslide"/>
          </p:cNvPr>
          <p:cNvSpPr/>
          <p:nvPr/>
        </p:nvSpPr>
        <p:spPr>
          <a:xfrm>
            <a:off x="0" y="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  <a:path fill="darken" w="21600" h="33922">
                <a:moveTo>
                  <a:pt x="3794" y="13654"/>
                </a:moveTo>
                <a:lnTo>
                  <a:pt x="7301" y="13654"/>
                </a:lnTo>
                <a:lnTo>
                  <a:pt x="7301" y="18989"/>
                </a:lnTo>
                <a:cubicBezTo>
                  <a:pt x="7301" y="19912"/>
                  <a:pt x="8102" y="20643"/>
                  <a:pt x="9138" y="20643"/>
                </a:cubicBezTo>
                <a:lnTo>
                  <a:pt x="10800" y="20643"/>
                </a:lnTo>
                <a:cubicBezTo>
                  <a:pt x="11836" y="20643"/>
                  <a:pt x="12636" y="19912"/>
                  <a:pt x="12636" y="18989"/>
                </a:cubicBezTo>
                <a:lnTo>
                  <a:pt x="12636" y="13654"/>
                </a:lnTo>
                <a:lnTo>
                  <a:pt x="10800" y="13654"/>
                </a:lnTo>
                <a:lnTo>
                  <a:pt x="14308" y="10146"/>
                </a:lnTo>
                <a:lnTo>
                  <a:pt x="17981" y="13654"/>
                </a:lnTo>
                <a:lnTo>
                  <a:pt x="16144" y="13654"/>
                </a:lnTo>
                <a:lnTo>
                  <a:pt x="16144" y="18989"/>
                </a:lnTo>
                <a:cubicBezTo>
                  <a:pt x="16144" y="21757"/>
                  <a:pt x="13568" y="24316"/>
                  <a:pt x="10800" y="24316"/>
                </a:cubicBezTo>
                <a:lnTo>
                  <a:pt x="9138" y="24316"/>
                </a:lnTo>
                <a:cubicBezTo>
                  <a:pt x="6370" y="24316"/>
                  <a:pt x="3794" y="21757"/>
                  <a:pt x="3794" y="18989"/>
                </a:cubicBez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秦陵兵马俑类型众多，有———，有——，有————，有————，有————，还有———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304920"/>
            <a:ext cx="2057400" cy="2754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971800" y="304920"/>
            <a:ext cx="182880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5029200" y="304920"/>
            <a:ext cx="1905120" cy="2743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09480" y="3352680"/>
            <a:ext cx="281952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7162920" y="228600"/>
            <a:ext cx="1725480" cy="2857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324480" y="335268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0"/>
          <a:stretch/>
        </p:blipFill>
        <p:spPr>
          <a:xfrm>
            <a:off x="3429000" y="3352680"/>
            <a:ext cx="3048120" cy="274320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" action="ppaction://hlinkshowjump?jump=lastslide"/>
          </p:cNvPr>
          <p:cNvSpPr/>
          <p:nvPr/>
        </p:nvSpPr>
        <p:spPr>
          <a:xfrm>
            <a:off x="84582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lastslide"/>
          </p:cNvPr>
          <p:cNvSpPr/>
          <p:nvPr/>
        </p:nvSpPr>
        <p:spPr>
          <a:xfrm>
            <a:off x="8001000" y="609588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9655"/>
                </a:moveTo>
                <a:lnTo>
                  <a:pt x="7301" y="9655"/>
                </a:lnTo>
                <a:lnTo>
                  <a:pt x="7301" y="14990"/>
                </a:lnTo>
                <a:cubicBezTo>
                  <a:pt x="7301" y="15913"/>
                  <a:pt x="8102" y="16644"/>
                  <a:pt x="9138" y="16644"/>
                </a:cubicBezTo>
                <a:lnTo>
                  <a:pt x="10800" y="16644"/>
                </a:lnTo>
                <a:cubicBezTo>
                  <a:pt x="11836" y="16644"/>
                  <a:pt x="12636" y="15913"/>
                  <a:pt x="12636" y="14990"/>
                </a:cubicBezTo>
                <a:lnTo>
                  <a:pt x="12636" y="9655"/>
                </a:lnTo>
                <a:lnTo>
                  <a:pt x="10800" y="9655"/>
                </a:lnTo>
                <a:lnTo>
                  <a:pt x="14308" y="6147"/>
                </a:lnTo>
                <a:lnTo>
                  <a:pt x="17981" y="9655"/>
                </a:lnTo>
                <a:lnTo>
                  <a:pt x="16144" y="9655"/>
                </a:lnTo>
                <a:lnTo>
                  <a:pt x="16144" y="14990"/>
                </a:lnTo>
                <a:cubicBezTo>
                  <a:pt x="16144" y="17758"/>
                  <a:pt x="13568" y="20317"/>
                  <a:pt x="10800" y="20317"/>
                </a:cubicBezTo>
                <a:lnTo>
                  <a:pt x="9138" y="20317"/>
                </a:lnTo>
                <a:cubicBezTo>
                  <a:pt x="6370" y="20317"/>
                  <a:pt x="3794" y="17758"/>
                  <a:pt x="3794" y="14990"/>
                </a:cubicBez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452760" cy="46479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95280" y="5105520"/>
            <a:ext cx="335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将军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694b6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3694b6"/>
                </a:solidFill>
                <a:latin typeface="Times New Roman"/>
              </a:rPr>
              <a:t>将军俑身材魁梧，头戴金冠，身披铠甲，手握宝剑，昂首挺胸，站在队伍前列，像是在指挥身后的军吏和士兵行进。那神态自若的样子，一看就知道是久经沙场、肩负重任的高级将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534520" y="6019920"/>
            <a:ext cx="304560" cy="6094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609480"/>
              <a:gd name="textAreaBottom" fmla="*/ 590040 h 609480"/>
            </a:gdLst>
            <a:ahLst/>
            <a:rect l="textAreaLeft" t="textAreaTop" r="textAreaRight" b="textAreaBottom"/>
            <a:pathLst>
              <a:path w="21600" h="43200">
                <a:moveTo>
                  <a:pt x="0" y="0"/>
                </a:moveTo>
                <a:lnTo>
                  <a:pt x="21600" y="0"/>
                </a:lnTo>
                <a:lnTo>
                  <a:pt x="21600" y="43200"/>
                </a:lnTo>
                <a:lnTo>
                  <a:pt x="0" y="43200"/>
                </a:lnTo>
                <a:close/>
              </a:path>
              <a:path fill="lightenLess" w="21600" h="432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00">
                <a:moveTo>
                  <a:pt x="21600" y="0"/>
                </a:moveTo>
                <a:lnTo>
                  <a:pt x="21600" y="43200"/>
                </a:lnTo>
                <a:lnTo>
                  <a:pt x="20200" y="41800"/>
                </a:lnTo>
                <a:lnTo>
                  <a:pt x="20200" y="1400"/>
                </a:lnTo>
                <a:close/>
              </a:path>
              <a:path fill="darkenLess" w="21600" h="43200">
                <a:moveTo>
                  <a:pt x="21600" y="43200"/>
                </a:moveTo>
                <a:lnTo>
                  <a:pt x="0" y="43200"/>
                </a:lnTo>
                <a:lnTo>
                  <a:pt x="1400" y="41800"/>
                </a:lnTo>
                <a:lnTo>
                  <a:pt x="20200" y="41800"/>
                </a:lnTo>
                <a:close/>
              </a:path>
              <a:path fill="lighten" w="21600" h="43200">
                <a:moveTo>
                  <a:pt x="0" y="43200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00"/>
                </a:lnTo>
                <a:close/>
              </a:path>
              <a:path fill="darken" w="21600" h="43200">
                <a:moveTo>
                  <a:pt x="3794" y="21600"/>
                </a:moveTo>
                <a:lnTo>
                  <a:pt x="17806" y="14594"/>
                </a:lnTo>
                <a:lnTo>
                  <a:pt x="17806" y="286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01:11:03Z</dcterms:created>
  <dc:creator>happy</dc:creator>
  <dc:description/>
  <dc:language>en-US</dc:language>
  <cp:lastModifiedBy>teacher</cp:lastModifiedBy>
  <dcterms:modified xsi:type="dcterms:W3CDTF">2010-04-07T05:52:14Z</dcterms:modified>
  <cp:revision>34</cp:revision>
  <dc:subject/>
  <dc:title>PowerPoint 演示文稿</dc:title>
</cp:coreProperties>
</file>