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3AA-929F-4725-A632-0162978B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C91-455E-476C-88FA-841D8902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C7C-50A6-4ECD-AD6B-FF5346BD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E6F-1146-4BB5-A24D-F4CFFF1C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FD463-31CB-4DEE-84C8-9A47415C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8CF75-CAC7-4566-AE7E-E11A420F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BE318-48B7-4901-8E9F-69EEA7A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2E17C-C050-4CA8-AD50-C16F9EE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2B957-0090-4E1D-8CE5-6CD28E0B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C0A69-8A12-4A43-9115-9DEDA361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A3213-2CEC-4A5B-9A94-4D94CD8E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6CD-9B9A-4F1D-8B0A-19E5C337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C8D31-1071-4E4B-8F17-F78F197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66C34-E27A-40EF-92D9-EB7C69A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6E6FD-D8E3-406D-896B-F9D22346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7DC18-E568-4B71-AFFE-1472C3AD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5594B-15EE-431D-87B0-0C60D033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FC0-15EE-49A2-B2D1-ECAD2038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17D-0A87-4D70-9C2A-86C7D0BB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47A-48F5-4B28-A8F2-17469F83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269-D682-4D04-BB7B-0ED969E8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DCD-3E5F-4E6E-A172-B54F5D1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C26-2CAD-43A4-8011-DA378DE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FBF-8B23-4A86-BE97-6714CB4A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C72A-0CEA-4FB7-A0F4-ACBCCEC3370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D0BE-62E8-44AB-9534-C2726DC4B5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我</a:t>
            </a: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是</a:t>
            </a:r>
            <a:r>
              <a:rPr b="0" lang="zh-CN" sz="4400" spc="-1" strike="noStrike">
                <a:solidFill>
                  <a:srgbClr val="ff9900"/>
                </a:solidFill>
                <a:latin typeface="Tahoma"/>
              </a:rPr>
              <a:t>彩</a:t>
            </a:r>
            <a:r>
              <a:rPr b="0" lang="zh-CN" sz="4400" spc="-1" strike="noStrike">
                <a:solidFill>
                  <a:srgbClr val="6699ff"/>
                </a:solidFill>
                <a:latin typeface="Tahoma"/>
              </a:rPr>
              <a:t>虹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7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在遥远的蓝色大海深处，住着一条鱼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这可不是一条普通的鱼，就是找遍整个大海，也再找不 到这么美丽的鱼了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他五颜六色的鳞片，就像彩虹一样，蓝的、绿的、紫的……闪闪发光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867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别的鱼都羡慕地睁大了眼睛，叫他彩虹鱼。“来呀，彩虹鱼，来和我们一起玩吧！”可是，彩虹鱼连看都不看他们一眼，就嗖地游了过去，还骄傲地闪了闪鳞片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1102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有一天，一条小蓝鱼追了上来，冲他招呼道：“彩虹鱼，等等我！求求你了，把你的闪光鳞片，送我一片好吗？就一片！实在太漂亮了。再说，你又有那么多。”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“你说什么？把我这与众不同的闪光鳞片送给你一片，别开玩笑了！”小蓝鱼吓了一跳，不知道怎么办好了，就把这件事告诉了朋友们，从那以后，再也没有一条鱼搭理彩虹鱼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6013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即使有一身让人眼花缭乱的闪光鳞片，却没有人赞美，又有什么用呢？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结果，彩虹鱼变成大海了最孤独的一条鱼了。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5791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彩虹鱼问章鱼奶奶：“我这么漂亮，为什么谁也不喜欢我呢？”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章鱼奶奶说“我建议你把你的闪光鳞片，分给每条鱼一片。这样一来，你虽然不是一条最美丽的鱼了，但你却能体会到什么才是幸福，如何获得幸福。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10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彩虹鱼采纳了章鱼奶奶的建议，把一片最小的鳞片送给了小蓝鱼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10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小蓝鱼闪动着鳞片在海里这么一游，彩虹鱼立刻就被别的鱼团团围住了。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谁不想要一片闪光鳞呢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彩虹鱼送了一片又一片，越送心里越快乐。身边的海水都银光闪闪了，说不出为什么，他就像回到了家里，和大家在一起非常快乐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10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1-01T02:37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