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17D-B8AB-4DD8-865B-EF92F543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2AF-4CB1-41EE-9F50-BAF0249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997-D500-4AEF-9B79-59EEECA5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0CF-E4C4-494F-974B-C2AA6029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B24-B9C6-421E-95A1-9A994E5A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FE1-E7E4-49F3-A3E8-8687D45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32F-0774-47BE-A374-3C1AFB3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AAD-E80C-4CC2-A53F-A9A5EF8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AA4-B965-4046-93EF-7301D0B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B09-9390-4EA0-9F7F-09FEB77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65A-BAF8-4781-AF7F-455E1D7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0AB-08BA-4510-A6D8-C2A524A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7A48-00E0-4993-8643-11067A8D0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103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助你成功的十个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0560" y="3521160"/>
            <a:ext cx="78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Nothing is more powerful than habi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6840" y="4005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没有什么比习惯的力量更强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35640" y="681120"/>
            <a:ext cx="23050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2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十、立即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313056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价值连城的目标计划，成功已向你展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8120" y="4149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别在犹豫，请立即行动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2000" y="399960"/>
            <a:ext cx="2587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611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每天高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行为是出于习惯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就是说，倘若我们能看清并且改掉坏习惯，看清并且坚持好习惯，我们至少就能在人生路上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关键在于看清自己。关键在于经常地“自我评估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美）杰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霍吉 著  《习惯的力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8276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成功，就要设定目标，只有不断改变旧习惯，确定新习惯，朝目标坚定不拔、努力拼搏的人，才能品味他人所不能享受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67640" y="-27000"/>
            <a:ext cx="1476360" cy="441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7680" y="620280"/>
            <a:ext cx="37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一 、热诚的态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5760" y="16142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态度决定了我们的未来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能否成功，取决了他的态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5680" y="4206960"/>
            <a:ext cx="1023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怎样对待生活，生活就怎样对待我们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怎样对待别人，别人怎样对待我们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在一项任务刚开始时的态度就决定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的多大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622600"/>
            <a:ext cx="784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人士始终有最热诚的态度最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的思考、最乐观的精神和最辉煌的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验支配和控制自己的人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95640" y="44280"/>
            <a:ext cx="3238560" cy="2695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3760" y="2518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二、目标明确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目标就是构筑成功的砖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560" y="3684600"/>
            <a:ext cx="84963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使我们产生积极性，你给自己定了目标，有两个方面的作用：一是你努力的依据。二是你的鞭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720" y="5340240"/>
            <a:ext cx="813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给你一个看得着的射击靶，随着你努力去实现这些目标，你就会有成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4480" y="270936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三、 一勤天下无难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376056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心向着自己目标前进的人，整个世界都给他让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477720"/>
            <a:ext cx="2724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400" y="214164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四、擅于理财、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        预算时间和金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436356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康的体魄是成就事业的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人士几乎都有自己喜欢的体育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40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五、喜欢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2227320" cy="216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08600" y="287280"/>
            <a:ext cx="26510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5120" y="1206000"/>
            <a:ext cx="261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六、自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2249640"/>
            <a:ext cx="7354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控能力的强弱对人生的成功也有很大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30680" y="340524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生气时，你能沉默不语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42480" y="55864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习惯让你的情绪控制你的理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27600" y="4842000"/>
            <a:ext cx="10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性情一般是平和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2360" y="4121280"/>
            <a:ext cx="30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习惯于三思而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88000" y="4095720"/>
            <a:ext cx="20178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1680" y="988560"/>
            <a:ext cx="318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七、谦虚好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4400" y="2088720"/>
            <a:ext cx="77864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否把不断的学习更多的知识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职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2920" y="443700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需要知识时，你知道如何寻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3284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否有一种习惯：对你所不熟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发表意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83840" y="5169600"/>
            <a:ext cx="14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越是成功的人，他们越会抓住一切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学习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八、良好的人际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50608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意味着别人的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00536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九、信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3:16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2T10:44:02Z</dcterms:modified>
  <cp:revision>7</cp:revision>
  <dc:subject>主题班会课件(分28大类): http://shop62905894.taobao.com</dc:subject>
  <dc:title>主题班会课件(分28大类): http://shop62905894.taobao.com</dc:title>
</cp:coreProperties>
</file>