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D43-EEA5-439F-9AB6-76923A1D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6C7-21F6-4685-A1E3-D7B2C0F5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E9B-471F-4E04-B7DC-2E8290D5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503-8CA9-4CFA-AD66-7942D681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9919-3985-41F2-B724-CE4F6909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8F76-B735-4C3C-A628-A9014519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42F2-C6A3-4ED4-A32C-E54184B5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6609-BF59-4F10-807F-129EE704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D9E6-710D-48BA-882E-9CA9AB1A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E893-FC2A-4907-90AE-0362663D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323D-853B-4DD8-AB10-4F05D4A9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01F-EE26-424F-B917-56687A85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14A6-DC70-48BC-AC7B-096DD25B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EC0B-2A91-4813-A56E-ED828D6B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0A05-3776-47E9-9ABC-B8FEFE64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21A5-9C8B-454A-BEEC-C16DF7C4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B1DE-1864-4F40-BECB-0A6A8EE1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F09B-834B-486F-98DB-70292884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ACA5-9E49-4803-9C8C-84290EC7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0DCB-61E6-425D-9074-5060521D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968F-672D-4A55-9B97-C8404DE2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E6EA-C850-4129-A644-69C599AE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826-8D90-4615-9F7D-F9A05FC1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0ACC-CC9D-4447-AF03-380780C9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9E37-14A3-4B5E-B4D8-1E684E00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E0DE-C155-49C4-8B1D-11AD2A19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BEBA-F154-466C-AB22-B2D677FA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B623-568E-42BD-8698-37F53EC6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8392-FC9E-428A-A821-3D336FDC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50D6C-5E3E-43F1-B3E6-4849B572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C107A-0793-4F44-AC95-CCE3CEE9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8D33-D335-464D-831C-435E0D91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0410F-3DD2-4D91-ACE4-8F8F5408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526-3FFA-4DB4-866C-7111DD79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1A007-630A-4248-B582-FB5DC07D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408D-51E0-4C86-A79D-9A8F4655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56DDA-CCD7-4EDB-8F4F-DC5AA871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87085-A005-4544-A1A3-B5B0B433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A924F-EF94-4CFB-98BA-F2CB27DB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16557-0A43-40F3-A9AA-2C13B89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6F232-3C9E-4BE2-A5C5-5BAC534C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0415C-F2EA-46E3-9759-CCCC17BB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CDDF8-7762-4EEC-BA74-E9800394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0EC5F-8A88-468F-9DB8-539094A7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1F1-6FB1-4C17-90CE-E8878922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3879D-2358-48C1-96A5-DEA266D9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25AAF-0FE9-4B60-8D16-934AAB14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03CE-6669-4F00-9BEC-8EA01D3A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AD87E-92AE-4470-B602-26C0810B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66F58-6137-458E-9976-FD69F996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83176-CA64-4D16-90A6-5A64A604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6EE9C-CC0A-4ED0-AE1A-051B3280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3103F-B2DA-472F-8695-6EAEA865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2BBAA-94BD-44BC-8CC0-82F55B4D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8D22F-AB04-4025-8830-B25A871B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8D5-824A-49BB-A8A8-E60F4BAD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5E6CD-4B4E-48F3-9830-48973611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BBA-8DD2-4C2E-8762-5BF3A29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6EA-1599-440D-9341-A9561179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34B-15AB-4B93-B6EA-4E838277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7652-38CB-46CC-A5FE-2E947957F31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3CB9-FA5E-45ED-8AB5-E7A7FD82EF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3AC1-C23E-44E9-A11A-745EAAFC85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9039-2945-42D0-893C-E306F21CBE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9242-9CE3-4D4E-8AAD-1130F9E4B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270,5,&#24187;&#28783;&#29255; 5" TargetMode="External"/><Relationship Id="rId4" Type="http://schemas.openxmlformats.org/officeDocument/2006/relationships/hyperlink" Target="270,5,&#24187;&#28783;&#29255; 5" TargetMode="External"/><Relationship Id="rId5" Type="http://schemas.openxmlformats.org/officeDocument/2006/relationships/hyperlink" Target="270,5,&#24187;&#28783;&#29255; 5" TargetMode="External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hyperlink" Target="270,21,&#24187;&#28783;&#29255; 21" TargetMode="External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270,12,&#26376;&#32771;&#32771;&#35797;&#25104;&#32489;&#20998;&#26512;" TargetMode="External"/><Relationship Id="rId10" Type="http://schemas.openxmlformats.org/officeDocument/2006/relationships/hyperlink" Target="270,12,&#26376;&#32771;&#32771;&#35797;&#25104;&#32489;&#20998;&#26512;" TargetMode="External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热烈欢迎你们的到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714240" y="785880"/>
            <a:ext cx="492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尊敬的各位家长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200400" y="10666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、班风学风有了很大的提升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竞争意识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2860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、部分学生自信心不足。</a:t>
            </a:r>
            <a:r>
              <a:rPr b="1" lang="zh-CN" sz="2400" spc="-1" strike="noStrike">
                <a:solidFill>
                  <a:srgbClr val="80008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40000" y="33577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华文行楷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660066"/>
                </a:solidFill>
                <a:latin typeface="华文行楷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部分学生偏科严重。</a:t>
            </a:r>
            <a:r>
              <a:rPr b="1" lang="zh-CN" sz="2400" spc="-1" strike="noStrike">
                <a:solidFill>
                  <a:srgbClr val="800080"/>
                </a:solidFill>
                <a:latin typeface="宋体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692280"/>
            <a:ext cx="184788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现状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7" name=""/>
          <p:cNvSpPr/>
          <p:nvPr/>
        </p:nvSpPr>
        <p:spPr>
          <a:xfrm>
            <a:off x="1763640" y="43657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4</a:t>
            </a:r>
            <a:r>
              <a:rPr b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、部分学生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缺乏学习主动性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没有完全进入学习状态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. </a:t>
            </a:r>
            <a:r>
              <a:rPr b="1" lang="zh-CN" sz="3200" spc="-1" strike="noStrike">
                <a:solidFill>
                  <a:srgbClr val="800080"/>
                </a:solidFill>
                <a:latin typeface="华文行楷"/>
                <a:ea typeface="华文行楷"/>
              </a:rPr>
              <a:t>。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490640" y="1268280"/>
            <a:ext cx="23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．思想不够成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。怕苦怕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24210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行楷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新魏"/>
              </a:rPr>
              <a:t>．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想法不一，情绪波动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9640" y="692280"/>
            <a:ext cx="184788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思想</a:t>
            </a:r>
            <a:endParaRPr b="0" lang="en-US" sz="72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2" name=""/>
          <p:cNvSpPr/>
          <p:nvPr/>
        </p:nvSpPr>
        <p:spPr>
          <a:xfrm>
            <a:off x="1763640" y="3502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新魏"/>
              </a:rPr>
              <a:t>．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想学好，但意志力不强，易动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971800" y="1143000"/>
            <a:ext cx="582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１．生理的影响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青春期的狂燥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叛逆，对异性有好感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243828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行楷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0066"/>
                </a:solidFill>
                <a:latin typeface="华文行楷"/>
                <a:ea typeface="华文新魏"/>
              </a:rPr>
              <a:t>．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心态、压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3505320"/>
            <a:ext cx="65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华文行楷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660066"/>
                </a:solidFill>
                <a:latin typeface="华文行楷"/>
                <a:ea typeface="华文新魏"/>
              </a:rPr>
              <a:t>．缺乏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调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640" y="692280"/>
            <a:ext cx="184788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心理</a:t>
            </a:r>
            <a:endParaRPr b="0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903560" y="476280"/>
            <a:ext cx="11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、任务重、竞争激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4000" y="981000"/>
            <a:ext cx="184788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学习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1" name=""/>
          <p:cNvSpPr/>
          <p:nvPr/>
        </p:nvSpPr>
        <p:spPr>
          <a:xfrm>
            <a:off x="4256280" y="13716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、明确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81200" y="236232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、缺乏学习方法和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11280" y="3284640"/>
            <a:ext cx="62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养成和形成良好的学习习惯，作息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909960" y="140184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１ 、鼓励，鼓励，再鼓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67080" y="2392200"/>
            <a:ext cx="63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、给子女营造良好的学习环境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4000" y="981000"/>
            <a:ext cx="184788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建议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3581280"/>
            <a:ext cx="665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多了解子女学习情况，不要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关心学习成绩，而不关注学习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5440320"/>
            <a:ext cx="58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、和老师多沟通，多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5050"/>
                </a:solidFill>
                <a:latin typeface="Arial"/>
              </a:rPr>
              <a:t>家长对子女的定位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长心态的定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接受子女的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清形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是各个能进重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做人比学习更重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长对子女升学目标的定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清形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子女成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理定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增强子女的信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030" descr="0012"/>
          <p:cNvPicPr/>
          <p:nvPr/>
        </p:nvPicPr>
        <p:blipFill>
          <a:blip r:embed="rId2"/>
          <a:stretch/>
        </p:blipFill>
        <p:spPr>
          <a:xfrm>
            <a:off x="8686800" y="6405480"/>
            <a:ext cx="42228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月考考试成绩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62120" y="1819440"/>
          <a:ext cx="7696080" cy="469404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学 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平均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班级最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年级最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语文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(15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数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(15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英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(15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物理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2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化学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0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总分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67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体育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0" y="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月考情况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14778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隶书"/>
              </a:rPr>
              <a:t>第一次月考测试优秀生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04920" y="3357720"/>
          <a:ext cx="8839080" cy="3139920"/>
        </p:xfrm>
        <a:graphic>
          <a:graphicData uri="http://schemas.openxmlformats.org/drawingml/2006/table">
            <a:tbl>
              <a:tblPr/>
              <a:tblGrid>
                <a:gridCol w="8839080"/>
              </a:tblGrid>
              <a:tr h="31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金华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宇航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思琪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朋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柯宇航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杨兰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阳雅仪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代家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卢剑雄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 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唐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2979000" y="24210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（班级前十名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班级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名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-----20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67440" y="1989000"/>
            <a:ext cx="5072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贺小洁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李明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唐乾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陈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代家立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杨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唐亚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聂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逸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李天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班级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名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-----30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10000" y="1773360"/>
            <a:ext cx="4448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卢阳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吴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罗俊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罗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张自行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陈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杨凯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9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李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杨诗琪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万何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尊敬家长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大家下午好！首先，对各位能在百忙之中抽出时间来参加这次家长会，表示深深的感谢！今天召开的家长会，各位家长能按时到会，表现了各位家长对学校工作的支持，在此，我代表学校对大家表示感谢，同时对今天的家长会影响了各位的正常工作表示抱歉！今天家长会的主题，一是和家长们汇报一下九年级开学以来的教育教学基本情况。二是和家长们探讨今后学生的教育问题，特别是毕业班的学生应当注意的一些问题，给大家一些建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班级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31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名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-----43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44880" y="1916280"/>
            <a:ext cx="4939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1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程娜娜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6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刘世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黄倩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7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李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3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曾陈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8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吴泽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杨浩波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9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白希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黄代港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鲁明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1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叶颖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阳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3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罗中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d60093"/>
                </a:solidFill>
                <a:latin typeface="Arial"/>
              </a:rPr>
              <a:t>语文单科前五名</a:t>
            </a:r>
            <a:r>
              <a:rPr b="1" lang="en-US" sz="3800" spc="-1" strike="noStrike">
                <a:solidFill>
                  <a:srgbClr val="d60093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黄思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刘金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阳雅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唐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唐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2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2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d60093"/>
                </a:solidFill>
                <a:latin typeface="Arial"/>
              </a:rPr>
              <a:t>数学单科前五名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陈宇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柯宇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代家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杨兰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陈朋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d60093"/>
                </a:solidFill>
                <a:latin typeface="Arial"/>
              </a:rPr>
              <a:t>英语单科前五名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刘金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黄思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柯宇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阳雅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杨兰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2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d60093"/>
                </a:solidFill>
                <a:latin typeface="Arial"/>
              </a:rPr>
              <a:t>物理单科前五名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卢剑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黄思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阳雅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刘金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柯宇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0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0" dur="2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5" dur="2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0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化学单科前五名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刘金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柯宇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陈朋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黄思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卢剑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陈宇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209680" y="990720"/>
            <a:ext cx="4648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学生反思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3141720"/>
            <a:ext cx="6400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767ff"/>
                </a:solidFill>
                <a:latin typeface="Arial"/>
                <a:ea typeface="华文行楷"/>
              </a:rPr>
              <a:t>推荐学生反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767ff"/>
                </a:solidFill>
                <a:latin typeface="Arial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6767ff"/>
                </a:solidFill>
                <a:latin typeface="Arial"/>
                <a:ea typeface="华文行楷"/>
              </a:rPr>
              <a:t>张自行  杨凯  吴彦  杨浩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767ff"/>
                </a:solidFill>
                <a:latin typeface="Arial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6767ff"/>
                </a:solidFill>
                <a:latin typeface="Arial"/>
                <a:ea typeface="华文行楷"/>
              </a:rPr>
              <a:t>刘世林   李卓  吴泽江  罗中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767ff"/>
                </a:solidFill>
                <a:latin typeface="Arial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6767ff"/>
                </a:solidFill>
                <a:latin typeface="Arial"/>
                <a:ea typeface="华文行楷"/>
              </a:rPr>
              <a:t>叶颖 鲁明月 白希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767ff"/>
                </a:solidFill>
                <a:latin typeface="Arial"/>
                <a:ea typeface="华文行楷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767ff"/>
                </a:solidFill>
                <a:latin typeface="Arial"/>
                <a:ea typeface="华文行楷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8160" y="609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则改之，无则加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22860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月考反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堂效率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业完成情况不乐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诵内容完成效果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主动提问不常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1125360"/>
            <a:ext cx="4419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 缺乏学习自觉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学习方法不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盲目自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偏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81560" y="5950080"/>
            <a:ext cx="32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纵然路有荆棘，我们依然信心百倍，决不放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纵然途有坎坷，我们也会勇往直前，奋力拼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50d18"/>
                </a:solidFill>
                <a:latin typeface="Arial"/>
              </a:rPr>
              <a:t>如何看待成绩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家长在看自己孩子的成绩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横纵向比较，正确对待孩子的进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主要看孩子的进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学生态度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态度决定一切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不比基础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比进步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不比聪明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比努力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希望家长的配合和支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1327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步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是腾出空来赶快了解一下孩子目前的学习成绩、思想动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是家长要了解学校对学生的要求，积极配合学校做好工作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2666880"/>
            <a:ext cx="87627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方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是思想上鼓劲加压：明确目标，相信孩子的能力，关键在于为与不为；不同基础都应该有不同的进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是生活上贴心照顾：多关心子女的生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是心理上热情疏导：（交流、宽松）要学会欣赏孩子，要善于发现他们的闪光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是切忌期望过高。二是切忌制造紧张空气。三是切忌打击孩子的自信心。四是切忌唠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025jioplp';"/>
          <p:cNvPicPr/>
          <p:nvPr/>
        </p:nvPicPr>
        <p:blipFill>
          <a:blip r:embed="rId2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476360" y="1125360"/>
            <a:ext cx="5688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样的心情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908000" y="2997360"/>
            <a:ext cx="6193080" cy="19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同样的期待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71640" y="260280"/>
            <a:ext cx="744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对家长们的几点希望与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0920" y="33577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14130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要教育孩子怎样做人，关心孩子的思想动态使孩子有正确的思想导向、明确的奋斗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413000"/>
            <a:ext cx="8077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要尽量控制孩子的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零用钱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和上学、回家的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不要把手机、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P3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等东西给子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4360" y="26370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工作再忙也要抽点时间来多了解孩子在校的表现和学习成绩情况。因为孩子只有一个呀，我们的一切工作难道不是为了孩子将来的美好前途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26040" y="33336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对家长们的几点希望与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对家长们的几点希望与要求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帮助子女科学安排作息时间，充分利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星期六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\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日的时间，有差科的同学可用于补差。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27120" y="5378400"/>
            <a:ext cx="61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3860640"/>
            <a:ext cx="820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宋体"/>
              </a:rPr>
              <a:t>初三学生的学习十分艰苦，要消耗大量的精力和体力，因此要适当给子女补充营养，特别注意早餐的营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523880" y="609480"/>
            <a:ext cx="7010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295280" y="3048120"/>
            <a:ext cx="6172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??"/>
              </a:rPr>
              <a:t>一起帮助孩子更好学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??"/>
              </a:rPr>
              <a:t>使之顺利进入理想高中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10120" y="10666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00"/>
                </a:solidFill>
                <a:latin typeface="Times New Roman"/>
              </a:rPr>
              <a:t>共同的心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30" descr="0012"/>
          <p:cNvPicPr/>
          <p:nvPr/>
        </p:nvPicPr>
        <p:blipFill>
          <a:blip r:embed="rId2"/>
          <a:stretch/>
        </p:blipFill>
        <p:spPr>
          <a:xfrm>
            <a:off x="8686800" y="6438960"/>
            <a:ext cx="45720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066680" y="1828800"/>
            <a:ext cx="7010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赠给家长！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00040" y="789480"/>
            <a:ext cx="5813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批评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谴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鼓励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自信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忍耐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耐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表扬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感激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接受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爱；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分享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了慷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一个孩子生活在真诚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他就学会头脑平静地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70720" y="-87840"/>
            <a:ext cx="1003320" cy="289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6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  <a:ea typeface="华文彩云"/>
              </a:rPr>
              <a:t>赠家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75"/>
                            </p:stCondLst>
                            <p:childTnLst>
                              <p:par>
                                <p:cTn id="600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3520" y="609480"/>
            <a:ext cx="784836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只要家长对孩子：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了解多一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理解多一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沟通多一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方法多一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耐心多一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信心 多一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定会获得教育的成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我送给学生的建议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集体事大，个人事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三思而后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每天都在进步的人是最受欢迎的人，也是最受人喜欢的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进步胜过取得的任何成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96720" y="1828800"/>
            <a:ext cx="874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要端正学习态度，明确学习目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一定要平衡发展，立即动手补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学习要锲而不舍，不能一曝十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题海大战不如“跟着老师走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立即动手准备几本“纠错本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自己准备一本“成绩记录本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给同学们几点建议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187280" y="2781360"/>
            <a:ext cx="6553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宋体"/>
              </a:rPr>
              <a:t>细节关注成功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2"/>
          </p:cNvPr>
          <p:cNvSpPr/>
          <p:nvPr/>
        </p:nvSpPr>
        <p:spPr>
          <a:xfrm>
            <a:off x="1260360" y="1917720"/>
            <a:ext cx="7299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一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Tahoma"/>
                <a:ea typeface="华文中宋"/>
                <a:hlinkClick r:id="rId3"/>
              </a:rPr>
              <a:t>、汇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Tahoma"/>
                <a:ea typeface="华文中宋"/>
                <a:hlinkClick r:id="rId4"/>
              </a:rPr>
              <a:t>报本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Tahoma"/>
                <a:ea typeface="华文中宋"/>
                <a:hlinkClick r:id="rId5"/>
              </a:rPr>
              <a:t>学期以来班级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6"/>
          </p:cNvPr>
          <p:cNvSpPr/>
          <p:nvPr/>
        </p:nvSpPr>
        <p:spPr>
          <a:xfrm>
            <a:off x="1187280" y="4869000"/>
            <a:ext cx="5226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三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Tahoma"/>
                <a:ea typeface="华文中宋"/>
                <a:hlinkClick r:id="rId7"/>
              </a:rPr>
              <a:t>、给家长的几点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8"/>
          </p:cNvPr>
          <p:cNvSpPr/>
          <p:nvPr/>
        </p:nvSpPr>
        <p:spPr>
          <a:xfrm>
            <a:off x="1187280" y="3502080"/>
            <a:ext cx="3353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二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Tahoma"/>
                <a:ea typeface="华文中宋"/>
                <a:hlinkClick r:id="rId9"/>
              </a:rPr>
              <a:t>、月考分析</a:t>
            </a:r>
            <a:r>
              <a:rPr b="0" lang="zh-CN" sz="2800" spc="-1" strike="noStrike" u="sng">
                <a:solidFill>
                  <a:srgbClr val="6767ff"/>
                </a:solidFill>
                <a:uFillTx/>
                <a:latin typeface="Tahoma"/>
                <a:ea typeface="华文中宋"/>
                <a:hlinkClick r:id="rId10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6858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a1002"/>
                </a:solidFill>
                <a:latin typeface="隶书"/>
                <a:ea typeface="隶书"/>
              </a:rPr>
              <a:t>会议议程</a:t>
            </a:r>
            <a:r>
              <a:rPr b="1" lang="en-US" sz="5400" spc="-1" strike="noStrike">
                <a:solidFill>
                  <a:srgbClr val="ca1002"/>
                </a:solidFill>
                <a:latin typeface="隶书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279440" cy="6858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09480" y="1413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十问：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在外留宿。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回家很迟。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带同学住宿。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打电话时间长，次数多。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受伤回家。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超消费要问。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超出友谊。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成绩突然下降。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穿奇装异服，爱好打扮，沉默寡言。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老是玩电脑、手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2602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需要注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尊敬的各位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请听听孩子们的心里话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表达他们对你们的谢意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想对爸爸妈妈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4000" y="1557360"/>
            <a:ext cx="83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你们的悉心照顾，我十分感激。在学习上，我会更加努力。在生活中，我们会有意见不合的时候，在这个年龄，有些事我们是可以自己决定和处理的，让我们放手去做，我们吃了苦头，我们也许会懂得更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金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爸爸妈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170028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今天借这个家长会，我想对你们说：从初中开始，我很感谢你们对我学习的督促。并且我会尽力达到你们对我的要求，我会努力学习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爱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阳雅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我想对我的父母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1484280"/>
            <a:ext cx="856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感谢你们多年以来对我的照顾，由于我太过于顽皮让你们操了不少的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草再顽强，也需要细雨的滋润，再坚强的人也需要别人的鼓励，正是因为有了你们，我才能幸福的成长，正是因为有了你们，我才能快乐的生活，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爱你们，我的爸爸妈妈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陈鹏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妈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8200" y="1608120"/>
            <a:ext cx="772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这么多年，我们之间有时有很多小矛盾，我知道这都是为我好，但也希望你不要“非常经常”的骂我，妈妈，我爱你，真希望你可以来学校给我开一次家长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吴泽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亲爱的爸爸妈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42920" y="155736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你们养育我，是我的依靠。虽然我不是一幅色彩缤纷，线条优美的画卷，也许我不能让你们感受生活的美妙，世界的神奇，但我确信，只要我的努力与奋斗，你们的陪伴与关心，我一定会成功的！请你们相信我！代家兴加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代家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我对我的父母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7520" y="1432080"/>
            <a:ext cx="471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烦扰你们的人是我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气你们的人是我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关心我的人是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爱我的人是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爱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管距离有多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永远是一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代家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爸爸妈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16000" y="141300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虽然你们不在我身边，但是你们一直在我的心里，每次见到你们时，总是有种想哭的冲动，也不知为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这次月考中，我虽然没有取得好成绩，但我以后一定会更加努力，决不负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杨诗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爸爸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76360" y="1413000"/>
            <a:ext cx="6551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么多年你从来没有打我，只是用语言教育我，你懂我，懂我的性格，用不一样的教育方式教导我，你辛苦了，谢谢你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love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卢剑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949400" y="476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班级格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87880" y="1484280"/>
            <a:ext cx="866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</a:rPr>
              <a:t>拥抱初三，给父母一个惊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</a:rPr>
              <a:t>奋战初三，给学校一个奇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</a:rPr>
              <a:t>享受初三，给未来一个光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755640" y="26028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　</a:t>
            </a:r>
            <a:r>
              <a:rPr b="1" lang="zh-CN" sz="9600" spc="-1" strike="noStrike">
                <a:solidFill>
                  <a:srgbClr val="ff9900"/>
                </a:solidFill>
                <a:latin typeface="黑体"/>
                <a:ea typeface="黑体"/>
              </a:rPr>
              <a:t>给自己的孩子一个正确的定位，让他去飞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755640" y="1773360"/>
            <a:ext cx="79930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隶书"/>
              </a:rPr>
              <a:t>一、班风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经过前四个学期的努力，我们班逐渐形成了遵规守纪，团结奋进，积极向上，勇争一流的良好班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80840" y="476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班班级情况（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-9360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926360" y="1419120"/>
            <a:ext cx="520992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隶书"/>
              </a:rPr>
              <a:t>二、学风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绝大多数学生学习态度端正，奋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标明确，积极性高，主动性强，班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有浓郁的学习氛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9640" y="404640"/>
            <a:ext cx="8064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隶书"/>
              </a:rPr>
              <a:t>三、成绩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　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全体任课老师的共同努力下，特别是由于全体同学的奋力拼搏，我们班取得了优异成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1243080"/>
            <a:ext cx="77724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初三学生部分心理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28600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初三阶段学生生理逐渐趋向成熟，大部分学生已进入青春期，他们自我意识在增强，开始要自由不受约束，嫌唠叨，脾气暴躁，不愿与家长沟通，爱虚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11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有部分学生脑子很聪明，但总与好成绩失之交臂。他们有共同缺点，想要好成绩，但又怕苦怕累；想认真读书，但又不能静下心来；想认真作业，但又不能坚持长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66240" y="6048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我班班级的情况（二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3:51:28Z</dcterms:created>
  <dc:creator>lenovo</dc:creator>
  <dc:description/>
  <dc:language>en-US</dc:language>
  <cp:lastModifiedBy>kexue</cp:lastModifiedBy>
  <cp:lastPrinted>1899-12-30T00:00:00Z</cp:lastPrinted>
  <dcterms:modified xsi:type="dcterms:W3CDTF">2013-12-12T15:06:43Z</dcterms:modified>
  <cp:revision>13</cp:revision>
  <dc:subject/>
  <dc:title>      热烈欢迎你们的到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