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D88-F2A3-4881-804A-F534BF08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8E7-38F7-4409-92FE-06DF5C2E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182-5693-4B1A-AB55-7E03F82D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A56-1FE7-4CE4-AE4F-13E767D6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2693-4B13-4F82-B539-B84F9F9E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1C0B-58F9-4C05-837A-4A1B3445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1618-EB77-4513-876B-9A552B8B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438A-38EA-4702-A38D-9C511D81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ED5-49FD-4EC4-9E5F-CE3B7B28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B261-20FC-466F-BE3A-746979F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221-8C98-4324-A8E7-A9F7BFA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7B1-A3DE-4941-83DB-7049979B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1A16-0D98-4F5B-9EDB-44A26571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28F4-6973-423C-86CA-F8C59227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343A-3E6A-4205-BFC9-8A06EBB5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E5EC-95B8-4678-95DE-F038095B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E7F8-9C24-4EF1-9C1A-A8F286AA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649-59BF-4997-8241-8F42141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9B5-D5EB-4DD8-8F45-4ECC369C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667-2BF6-4DDF-BA71-781C7D18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A56-0F32-47F9-9470-366671E4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70D-A9B8-4BF9-8EE5-9754DCC0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F86-104F-4790-8AC4-23EB97E2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070-B275-4D36-B0D3-47352889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89F8-7AF0-4970-97FE-BA0044F9E28B}" type="datetime">
              <a:rPr b="0" lang="zh-CN" sz="1400" spc="-1" strike="noStrike">
                <a:solidFill>
                  <a:srgbClr val="ffffff"/>
                </a:solidFill>
                <a:latin typeface="Verdan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981F-0E03-4508-A570-3ACD7751B5B6}" type="slidenum">
              <a:rPr b="0" lang="zh-CN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64C0-DDE3-426A-9DBB-A716E3B32772}" type="datetime">
              <a:rPr b="0" lang="zh-CN" sz="1400" spc="-1" strike="noStrike">
                <a:solidFill>
                  <a:srgbClr val="ffffff"/>
                </a:solidFill>
                <a:latin typeface="Verdan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44BD-23AD-468E-A070-8DE81CE779AA}" type="slidenum">
              <a:rPr b="0" lang="zh-CN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xample9_4.doc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xample9_6.doc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xample9_7.doc" TargetMode="Externa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xample9_8.doc" TargetMode="Externa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xample9_9.doc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ff00"/>
                </a:solidFill>
                <a:latin typeface="Verdana"/>
              </a:rPr>
              <a:t>C++</a:t>
            </a:r>
            <a:r>
              <a:rPr b="1" lang="zh-CN" sz="5200" spc="-1" strike="noStrike">
                <a:solidFill>
                  <a:srgbClr val="ffff00"/>
                </a:solidFill>
                <a:latin typeface="Verdana"/>
              </a:rPr>
              <a:t>程序设计</a:t>
            </a:r>
            <a:endParaRPr b="1" lang="en-US" sz="5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九章  模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544E-0D01-4E73-BDE2-7532C72A6CE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F6468F-2420-4D69-8A55-A9E8BCCD61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特别说明：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由于关键字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clas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已经用于类定义，为使语义清晰严格，新标准的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C++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主张使用新的关键字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typenam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作为类属参数说明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VC++6.0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支持该关键字，后续例子都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typenam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说明类属参数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模板的一般形式又可以写为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emplate &lt; typename T1,typename  T2,…typename Tn&gt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B4A-EA47-4A2C-AACF-5AF2DA7EE6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752F7-D9D5-48AE-B8B9-319FA8CAE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、函数模板与模板函数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函数模板定义由模板说明和函数定义组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格式为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emplate &lt; typename T1,typename  T2,…typename Tn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返回值类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 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函数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模板函数形参表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函数定义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有在模板说明的类属参数必须在函数定义中至少出现一次。函数参数表中可以使用类属类型参数，也可以使用一般类型参数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49B-F04A-4A4A-A0B5-D63630530FA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BCC50-E6DB-463B-8C65-808CD3FCB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函数模板只是说明，不能直接执行，需要实例化为模板函数后才能执行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模板的类属参数由调用它的实际参数的具体数据类型替换，由编译器生成一段真正可执行的代码。这个过程称为实例化。一个函数模板用类型实例化后，称为模板函数。一个类模板经过类型实例化有，称为模板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CE4-6375-4833-91DA-4BC0AAFD89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DEE90-137C-46EB-9546-B69F8D6D62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9.1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将求两个数之中的较大值的函数设计成函数模板，并在主函数中使用它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954-C2B4-4798-872B-018BBFE818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986D0-572D-4FB8-8D52-D93305FDD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9.1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程序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#include "iostream.h"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template &lt;typename T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T Max(T x,T 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{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return (x&gt;y)?x:y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void main(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int i=10,j=56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float x1=50.34,x2=56.34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double y1=673.36,y2=465.972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cout&lt;&lt;"the max of i,j is:"&lt;&lt;Max(i,j)&lt;&lt;endl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cout&lt;&lt;"the max of x1,x2 is:"&lt;&lt;Max(x1,x2)&lt;&lt;endl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cout&lt;&lt;"the max of y1,y2 is:"&lt;&lt;Max(y1,y2)&lt;&lt;endl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065-6045-4568-BAB2-FD003A6DD4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1E4FC-57FC-46DF-8B45-9A5C3C7BDB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对函数模板的调用与对普通函数的调用形式上没有区别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具体调用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Max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分两步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编译程序时，编译器根据调用语句中实际参数的类型对函数模板实例化，生成一个可运行的函数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如，编译程序发现调用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Max(i,j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实参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为整型变量，编译系统用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int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替换类属参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把函数模板实例化为一个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int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版本的模板函数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int Max(int a,int b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{  return a&gt;b?a:b;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程序运行时，实参和形参结合，执行对应的模板函数。这一步操作与普通函数调用一致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745-A7E0-420E-B292-1BF62DE1EC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E3857-E1AA-4FDD-A049-4B400B1C6C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、函数模板的优点：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函数模板方法克服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语言用大量不同函数名表示相似功能的坏习惯；克服了宏定义不能进行参数类型检查的弊端；克服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+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函数重载用相同函数名字重写几个函数的繁琐。因而，函数模板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+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功能最强的特性之一，具有宏定义和重载的共同优点，是提高软件代码重用率的重要手段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D5E-0310-47FB-BC94-1A9AAC9083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19EA3-9C6B-4CA3-B719-78E731298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9.2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编写一个对具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元素的数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[ ]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求最小值的程序，要求将求最小值的函数设计成函数模板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415-D8DE-40F7-888C-35F5AC318A8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B3D65-8E15-4F30-AD9E-5571D43780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9.2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程序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#include "stdafx.h"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#include &lt;iostream.h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template &lt;typename T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T min(T a[],int 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int i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T minv=a[0]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for(i=1;i&lt;n;i++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if(minv&gt;a[i]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minv=a[i]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return minv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void main(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int a[]={1,3,0,2,7,6,4,5,2}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double b[]={1.2,-3.4,6.8,9,8}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cout&lt;&lt;"a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数组的最小值为：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"&lt;&lt;min(a,9)&lt;&lt; endl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cout&lt;&lt;"b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数组的最小值为：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"&lt;&lt;min(b,4)&lt;&lt;endl;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6FF-81CD-4F73-A121-89A0CADBEE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C83C5-CBA8-4EA1-A5FA-5C57300AD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9.3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求两个不同类型数据的最大值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#include "stdafx.h"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#include "iostream.h"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template &lt;typename T1,typename T2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T1 Max(T1 x,T2 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return x&gt;(T1)y?x:(T1)y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void main(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int i=10,j=56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float x1=50.34,x2=56.34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double y1=673.36,y2=465.972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cout&lt;&lt;"the max of i,x1 is:"&lt;&lt;Max(i,x1)&lt;&lt;endl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cout&lt;&lt;"the max of x1,y1 is:"&lt;&lt;Max(x1,y1)&lt;&lt;endl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cout&lt;&lt;"the max of j,y2 is:"&lt;&lt;Max(j,y2)&lt;&lt;endl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D66-9E94-4563-B7B2-81F0E207B5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0B122-6732-4F51-ACA8-3C860BED22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内容提要：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Verdana"/>
                <a:hlinkClick r:id="rId2" action="ppaction://hlinksldjump"/>
              </a:rPr>
              <a:t>模板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Verdana"/>
                <a:hlinkClick r:id="rId3" action="ppaction://hlinksldjump"/>
              </a:rPr>
              <a:t>函数模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Verdana"/>
                <a:hlinkClick r:id="rId4" action="ppaction://hlinksldjump"/>
              </a:rPr>
              <a:t>类模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15A-C180-46CB-AA44-2AE2190CB2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48561-FCEA-4EC2-8C49-B2DDCBAE61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、重载模板函数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模板函数与普通函数一样，也可以重载。可以定义同名的函数模板，提供不同的参数和实现；也可以用其他非模板函数重载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E74-A35A-4B85-B0F9-6E3D4E03AE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CE02F-EDD3-4157-A380-CFAE811D6C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）函数模板的重载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重载函数模板便于定义模板参数，或者模板函数参数的类型、个数不相同所进行的类似操作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例如，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Max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函数模板可以重载为求数组最大元素的函数模板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9B2-68A1-4BBB-992F-ED221C0C4E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15BFA-EC7A-441A-807A-65F1F3BA84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9.4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对例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9.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求两个数据最大值的函数模板进行重载，找数组中最大的元素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Verdana"/>
                <a:hlinkClick r:id="rId2"/>
              </a:rPr>
              <a:t>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7F1-B789-475C-AA2F-D79635EF52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55A68-A929-420D-87B4-216D2A9270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）用普通函数重载模板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函数模板实例化时，实际参数类型替换类属参数。虽然这种参数替换具有类型检查功能，却没有普通函数传值参数的类型转换机制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例如：对函数模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template &lt;typename T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T Max(T x,T 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{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return (x&gt;y)?x:y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调用时对应的两个实际参数必须类型相同。若有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int k;char c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则调用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Max(k,c);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将出现语法错误。为了解决这一问题，可以用非模板函数重载一个同名的函数模板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57A-05A1-4E6A-8C43-7D3137A3F0A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DE4C1-6F76-43BC-B423-1372113AE8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9.5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用普通函数重载函数模板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#include "stdafx.h"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#include "iostream.h"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template &lt;typename T&gt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T Max(T x,T y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{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return (x&gt;y)?x:y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int Max(char a,int b)   //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函数重载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return(a&gt;b?a:b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void main(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int k=98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char c='a'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double y1=673.36,y2=465.972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cout&lt;&lt;“the max of k,c is:”&lt;&lt;Max(k,c)&lt;&lt;endl;    //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调用正确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cout&lt;&lt;“the max of c,k is :”&lt;&lt;Max(c,k)&lt;&lt;endl;  //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调用正确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cout&lt;&lt;"the max of y1,y2 is:"&lt;&lt;Max(y1,y2)&lt;&lt;endl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66E-35C4-45B6-9ED9-1B8F4212BF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B09EB-F00C-4CB9-85BB-2A27EDBC46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注意：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定义重载函数要注意避免二义性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例如，在例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9.5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中，如果重载函数改为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int Max(int a,int b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{   return a&gt;b?a:b;}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将出现二义性，在调用时无法正确匹配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Max(k,k);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/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错误，不知调用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T Max(T,T)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还是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Max(int,int)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Max(c,c);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/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错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362-EFCD-4C83-8AFD-AA8BC1891B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CE9A7-4134-430C-AE53-60F6CBF1C3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编译器调用函数的匹配规则：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寻找和使用最符合函数名和参数类型的模板函数，若找到则调用它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否则，寻找一个函数模板，将其实例化产生一个匹配的模板函数，若找到则调用它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否则，寻找可以通过类型转换进行参数匹配的重载函数，若找到则调用它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Verdana"/>
              </a:rPr>
              <a:t>如果按以上步骤均未能找到匹配函数，则这个调用是错误的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Verdana"/>
              </a:rPr>
              <a:t>如果这个调用有多于一个的匹配选择，则调用匹配出现二义性，也是错误的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815328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090-488E-4518-B5E5-CA546685970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D2FD8-905B-4B72-8340-307B88FC2C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9.3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类模板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类模板与函数模板类似，它可以为各种不同的数据类型定义一种模板，在引用时使用不同的数据类型实例化该类模板，从而形成一个类的集合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类模板实际上是函数模板的推广。可以用相同的类模板来组建任何类型的对象集合。在传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+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，可能有一个浮点数类或者一个整数类，如果使用类模板，可以定义一个对两者都适用的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CC0-EA44-4CE8-BE1B-44355EE1F2D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8BAFE-9A3F-4D87-AE1B-F1F9FA0E6E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、类模板与模板类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类模板由模板说明和类说明构成。格式为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template &lt;typename Type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class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类名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{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类声明体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template &lt; typename Type 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返回类型 类名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&lt;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类型名表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&gt;::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成员函数名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（形参表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{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成员函数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定义体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 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template &lt;typename Type&gt;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返回类型 类名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&lt;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类型名表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&gt;::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成员函数名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（形参表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{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成员函数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定义体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03C-FCCD-4C1D-BE6C-70718871B3A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A0ADF-F848-4461-8F49-28A801EA8A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说明：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类模板的说明（包括成员函数定义）不是一个实实在在的类，只是对类的描述，称为类模板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lass templat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。类模板必须用类属参数将其实例化为模板类后，才能用来生成对象。一般地，其表示形式为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类模板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类属实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对象名（值实参表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其中类属实参表表示将类模板实例化为模板类时所用到的类型（包括系统固有的类型和用户已定义类型），值实参表表示将该模板类实例化为对象时其构造函数所用到的变量。一个类模板可以用来实例化多个模板类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）类属参数必须至少在类说明中出现一次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642-4630-4283-9D54-9DA9F7BE74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1B20E-F610-44E4-BEF4-AA2D9200CD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9.1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模板的概念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对于某些实际的程序段，从它们的逻辑功能看，彼此是相同的，所不同的主要是处理对象（数据）类型。若提供具有相同逻辑功能的程序正文，然后将数据类型作为参数传递，这样可以大幅度地节约代码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C++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提供了一种方便的解决这个问题的工具—模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9E7-BBDF-42BF-87D7-0479688346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64A13-5C9B-45E6-9AC3-CADEDA02FE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类模板的成员函数都是函数模板，实现语法和函数模板类似。如果在类中定义（作为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in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函数），不需要特别说明。如果在类外定义，则每个成员函数定义都要冠以模板参数说明，并且指定类名时要后跟类属参数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类模板在表示数据结构如数组、表、图等特别重要，因为这些数据结构的表示和算法不受所包含的元素类型的影响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5A3-8A0B-429C-B3B0-2C6DF272A9D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52E4B-C4F3-4520-BBB8-277D2E04DA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9.6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用类模板来处理任意类型的链表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首先定义一个结构模板，它与类模板用法相同；再定义一个类模板，结构模板和类模板取同样的模板参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Verdana"/>
                <a:hlinkClick r:id="rId2"/>
              </a:rPr>
              <a:t>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E83-75B3-4D1D-9F42-21A34588317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FEC92-45FE-40F8-ABD9-9295F8D6CC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注意：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在每个模板定义之前，不管是类模板还是函数模板，都需要在前面加上模板声明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template&lt;typename T&g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类模板和结构模板在使用时，必须在名字后面缀上模板参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&lt;T&gt;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如：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list&lt;T&gt;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node&lt;T&gt;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2F8-3225-4C47-B690-A0946D725DF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AE27A-231B-4FD3-B1A1-430018AE3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9.7 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定义一个数组模板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Verdana"/>
                <a:hlinkClick r:id="rId2"/>
              </a:rPr>
              <a:t>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C23-E685-441D-9419-4DD7B555648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54A14-AD8B-4361-A934-7FD9679716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、类模板的派生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可以从类模板派生出新的类，既可以派生类模板，也可以派生非类模板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）从类模板派生类模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可以从类模板派生出新的类模板，格式如下所示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template &lt;typename T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lass b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{  //…}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template &lt;typename T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lass derive:public base &lt;T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{  //…}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D72-81B8-4666-A6E6-A96B2B960A0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C91E6-B844-46A6-A42A-D253280122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9.8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改进例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9.6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从链表模板派生出一个集合类。集合于链表的差别在于集合中的元素是没有重复的，因此插入操作时要判定集合中是否已存在要插入的元素。插入操作的函数在链表类中声明为虚函数，在集合类中要重定义，其余函数不需要再处理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Verdana"/>
                <a:hlinkClick r:id="rId2"/>
              </a:rPr>
              <a:t>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D04-EC1F-4F18-9234-EAC4F5201AB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D70F4-09ED-4930-BB28-72DC6B1AC7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）从类模板派生非类模板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可以从类模板派生出非类模板，在派生中，作为非模板类的基类，必须是类模板实例化后的模板类，并且在定义出派生类前不需要模板声明语句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template &lt;typename&gt;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。例如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template &lt;typenaem T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class b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{   //… }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class derive:public class base&lt;int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{   //… }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5EC-EF52-45D9-BA78-AF3DE705053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B7C40-6D82-4848-8B4F-BB06037C60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9.9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从例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9.6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的类模板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list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，派生出一个整型集合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Verdana"/>
                <a:hlinkClick r:id="rId2"/>
              </a:rPr>
              <a:t>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15328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330-91B7-45CD-A31D-254B069EC24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32C88-A919-4DC8-9158-671024214D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C++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的模板提供对逻辑结构相同的数据对象通用行为的定义。这些模板运算对象的类型不是实际的数据类型，而是一种参数化的类型（又称为类属类型）。一个带类属参数的函数称为函数模板，一个带类属参数的类成为模板类。程序员可以面对抽象的类属类型编写逻辑操作代码，而不须关心实际运行的数据类型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815328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C73-C022-4C77-B6C6-900C6F1A34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79167-F7E1-4EB7-882C-ABEB98037A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9.2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函数模板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、函数模板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重载函数通常基于不同的数据类型实现类似的操作。如果对不同数据类型的操作完全相同，则使用函数模板实现更为简洁方便。只需对函数模板定义一次，根据调用函数时提供参数的类型，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C++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自动产生单独的目标代码函数——模板函数来正确地处理每种类型的调用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3A9-70E7-4215-A86C-39826041C3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F16DA-769F-4DEC-86BB-DC3E5C72A2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如：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试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Max(x,y)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这个函数，它返回两个参数中的较大者。参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x,y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可以是任何可比较的数据类型。但由于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C++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是一种强类型语言，因次参数类型和返回类型都必须明确说明。为此，不得不重载许多代码相同的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Max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版本，每种版本适用于一种类型。例如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int Max(int a,int b) {return a&gt;b?a:b;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long Max(long a,long b) { return a&gt;b?a:b;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float Max(float a,float b) { return a&gt;b?a:b;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double Max(double a,double b) { return a&gt;b?a:b;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等等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解决的方法是使用函数模板。对于函数模板，数据类型本身成了它的参数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85A-1855-480A-9A69-A20F5ED8AC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85A28-4740-462E-8BBB-BE8248E323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、函数模板的作用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模板可以实现逻辑相同，数据类型不同的程序代码的复制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模板机制可以减轻编程和维护的工作量和难度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8CE-CB04-4104-8292-7D22C906D5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39300-06A4-47B9-93B1-870A927B07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、函数模板的说明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emplate &lt; class T1,class T2,…class Tn&gt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emplate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模板说明关键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class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类属参数指定关键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1,T2,…Tn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类属参数，是用户定义标识符，可实例化为任何内部类型或用户定义类型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229-4BE7-44E4-97EC-B47372E588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43B82-8273-4D2A-AFE5-08FA2B008D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例：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template &lt;class T&g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template &lt;class ElementType&g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template &lt;class NameType,class DateType&gt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其中，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ElementTyp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NameTyp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DateTyp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等是待实例化的类属参数。它们对应的参数可以是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int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doub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char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等基本类型，也可以是指针、类等各种已经定义的用户类型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472-AB3A-4311-BD0B-52312BCC79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69E88-C8E9-4EF1-985F-C4497F2554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01:18:08Z</dcterms:created>
  <dc:creator>user</dc:creator>
  <dc:description/>
  <dc:language>en-US</dc:language>
  <cp:lastModifiedBy>User</cp:lastModifiedBy>
  <dcterms:modified xsi:type="dcterms:W3CDTF">2008-11-15T10:31:37Z</dcterms:modified>
  <cp:revision>14</cp:revision>
  <dc:subject/>
  <dc:title>C++程序设计</dc:title>
</cp:coreProperties>
</file>