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4370-5B6F-41B9-822C-24CA700B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AA6F-1625-48B2-9013-90A1B692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46BF-77E0-496A-A85F-DB1118B5E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7CD5-CC78-469C-814F-06F76EB4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C7B3-0433-4193-8B85-1F1BF0AD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827C-5FA9-430E-8012-0E3BBBFB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6610-093C-4AD1-A66A-07300FE5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5490-BE5C-44DE-BB6A-F57D44E0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7FD4-ECCA-4972-86C3-91D82837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EA0E-B4E5-4891-9BEB-E0581668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ACB7-5A0B-48FC-8E01-2CBB9F72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59F5-5D4F-46C0-8F80-F2B7AD21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5C5B-914E-48AE-BBF1-5C0CE6784F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卫计委介绍“单独二胎”实施细则"/>
          <p:cNvPicPr/>
          <p:nvPr/>
        </p:nvPicPr>
        <p:blipFill>
          <a:blip r:embed="rId1"/>
          <a:stretch/>
        </p:blipFill>
        <p:spPr>
          <a:xfrm>
            <a:off x="0" y="3724200"/>
            <a:ext cx="380988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启动实施单独两孩政策会不会对我国粮食安全以及卫生、教育、就业等基本公共服务带来大的压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国粮食安全以及基本公共服务资源配置规划，均是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总人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4.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亿人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3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前后总人口峰值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亿左右作为基数制定的。据预测，政策调整后，全国每年出生人口不会有大的增加，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总人口将明显低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4.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亿，峰值总人口也将大大低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亿。另外，实施单独两孩政策后，近几年出生人口会有所增加，但仅相当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前后的出生人口规模们可以有把握地说，启动实施单独两孩政策不会给粮食安全以及卫生、教育、就业等基本公共服务带来大的压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独二胎”政策出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党的十八届三中全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国中央关于全面深化改革若干重大问题的决定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提出，坚持计划生育的基本国策，启动实施一方是独生子女的夫妇可生育两个孩子的政策，逐步调整完善生育政策，促进人口长期均衡发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国整个计划生育政策的演变背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理解“单独二胎”政策，首先要明白我国整个计划生育政策的演变背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上世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代，我国总人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亿的情况下，每年净增人口最高达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3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左右。因此计划生育政策最初主要是为了控制人口过快增长。而现在，总人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亿的情况下，每年净增人口只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多万。按照这样一个趋势发展，预计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2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，中国人口将进入零增长的状态。也就是说，人口过快增长的凶猛势头已经得到了有效的抑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当然是计划生育取得的重要成就之一，这项政策的正面作用是主要的，在当时的历史条件下，也是完全应该的。但伴随着经济社会的发展和人口形势的变化，现行政策一些负面影响也在显现。比如，老龄化速度加快，未来潜在劳动力供给短缺、出生性别比失衡、失独家庭问题突出、家庭结构不够合理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了适应人口形势的变化，促进人口长期均衡发展，需要对计划生育政策进行不断的调整和完善，包括逐步放开独生子女政策，从之前允许“双独二胎”，到现在进一步放开“单独二胎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什么选择在现阶段启动实施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是低生育水平稳中趋降。上世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代初，我国总和生育率降到更替水平以下，目前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达到发达国家的平均水平。人口总量虽然保持持续增长，但惯性趋弱。如果维持现行生育政策不变，总和生育率将继续下降，总人口在达到峰值后将快速减少，影响人口长期均衡发展以及中华民族的长远发展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二是人口结构性问题日益突出。劳动年龄人口开始减少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比上年减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4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人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以后，年均将减少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人。人口老龄化速度加快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岁及以上老年人口将达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亿，本世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代中期将达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亿，占总人口的比例将从目前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/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提高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/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出生人口性别比长期偏高，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来一直在高位徘徊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仍高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17.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是家庭规模持续缩减。“六普”数据显示，全国户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，较“五普”减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0.3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，与上世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代初户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4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比较，下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3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。独生子女家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亿多户，独居老人的比例提高，家庭的传统功能有所弱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是城乡居民生育意愿发生了很大变化。随着经济社会的发展和群众生活水平的提高，少生优生、优育优教的生育观念正在形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启动实施单独两孩政策，是计划生育政策的重大调整完善，是适应人口发展新形势、合乎民意的重大举措。其意义主要体现在三个“有利于”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是实施单独两孩政策，有利于保持合理的劳动力规模，延缓人口老龄化速度，促进经济持续健康发展，为实现中华民族伟大复兴的“中国梦”创造良好的人口环境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二是有利于逐步实现国家政策与群众意愿的统一，提升家庭抵御风险的能力，增强家庭养老照料功能，促进家庭幸福与社会和谐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是有利于稳定适度低生育水平，促进人口长期均衡发展，促进人口与经济、社会、资源、环境的协调和可持续发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什么是放开“单独二胎”，而不是全面放开二胎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从“双独”到“单独”逐步放开二胎政策，而非全面放开，其中两个重要原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是中国人口的数量仍然在增长，人口数量和结构的问题是并存的，两个方面要统筹考虑，既不能因为调控人口数量而引发过快老龄化，也不能因为减缓老龄化而放弃人口数量的调控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二个重要的原因在于避免人口数量的突升突降。生育的突升突降，尤其是扎堆生育往往对经济、社会引起的动荡比较大，不利于长期均衡发展，因而政策的调整和完善也需要逐步地、渐进式地进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放开“单独二胎”，是否会出现人口激增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政策实行后的前几年里，的确会有一个小的生育高峰，总和生育率将从现在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提高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左右，最高不超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伴随着出生人口的增多，必然也会在一定程度上增加对资源环境所造成的压力。但由于不是全面放开二胎，而是一个逐步、渐进的过程，所以不会出现出生人数的大幅暴涨，对各方面的冲击也就不是那么大。各省在实际操作过程中，可能出现事实上的有前有后，有快有慢，对人口堆积也会有所缓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全国来看，符合单独两孩再生育条件的夫妇总量不是太大，现在“单独一胎”的家庭大约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左右。“单独二胎”政策对城市育龄人群的影响相对更大，因为独生子女主要集中在城市，在农村，独生子女的比例本来就不是很高。再加上单独两孩政策由各省（市、区）根据当地实际情况，确定具体的启动时间，由于各地人口发展形势、工作基础有一定的差别，准备情况各不相同，各地启动实施政策会有时间差，因此，短期内不会出现出生人口大幅增长的问题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当前人们的生育意愿与大城市人们“想生不敢生”的现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根据我们的调研情况来看，城市生二胎的意愿相对低一些，平均大概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农村则要高得多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0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0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都想生两个。尤其是许多人觉得，最好一男一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但是，生育意愿并不一定完全转化为生育行为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大城市里生育成本高，想生不敢生，这也是可以理解的。政策上不限制，是对选择权利的尊重，给予尽可能充足的选择空间，至于要不要生二胎，完全可以是大家自己来选择。在西方发达国家，随着教育程度的提高，经济的发展，社会保障制度的完善，养育孩子的成本越来越高，而收益却越来越低，这些因素都导致生育率的下降。在中国城市化发展过程中，养育孩子成本提高，生育率下降，也符合这样一个规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rosoft.com</cp:lastModifiedBy>
  <dcterms:modified xsi:type="dcterms:W3CDTF">2013-11-22T14:45:3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