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explode.wav" ContentType="audio/x-wav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type.wav" ContentType="audio/x-wav"/>
  <Override PartName="/ppt/media/image2.jpeg" ContentType="image/jpeg"/>
  <Override PartName="/ppt/media/image19.gif" ContentType="image/gif"/>
  <Override PartName="/ppt/media/image1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8.gif" ContentType="image/gif"/>
  <Override PartName="/ppt/media/image13.jpeg" ContentType="image/jpeg"/>
  <Override PartName="/ppt/media/image12.jpeg" ContentType="image/jpeg"/>
  <Override PartName="/ppt/media/hammer.wav" ContentType="audio/x-wav"/>
  <Override PartName="/ppt/media/click.wav" ContentType="audio/x-wav"/>
  <Override PartName="/ppt/media/image6.jpeg" ContentType="image/jpeg"/>
  <Override PartName="/ppt/media/applause.wav" ContentType="audio/x-wav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1CB-48B9-4417-8AB8-EA2E0B79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BA6-7C44-4F54-ACDE-A2CED1BD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F76-F79B-4A6A-86D9-0DC87FCD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FC6-737E-4B1E-BE79-0462E360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6DF-DA31-4754-BB5E-96C67776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B22-23F2-4E77-B10E-96919A33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2C4-17F4-47F3-AB7E-DF27CEC4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5B7-CB4E-4EBF-BAC7-8448043A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392-F80B-406B-B1D8-F70EE732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63C-C617-4A8C-B1CF-3C16E097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6BE-F286-4E58-A6AE-101B6842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BDF-006E-44CE-B970-60C5A1B6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CCC-E470-4251-840E-EACE90B7C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13139&amp;cl=2&amp;lm=-1&amp;pn=105&amp;rn=1&amp;di=46727237163&amp;ln=1&amp;fr=ala0&amp;ic=0&amp;s=&amp;se=&amp;sme=0&amp;tab=&amp;width=&amp;height=&amp;face=0&amp;fb=0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2611&amp;cl=2&amp;lm=-1&amp;pn=209&amp;rn=1&amp;di=2611875285&amp;ln=1&amp;fr=ala0&amp;ic=0&amp;s=&amp;se=&amp;sme=0&amp;tab=&amp;width=&amp;height=&amp;face=0&amp;fb=0" TargetMode="External"/><Relationship Id="rId2" Type="http://schemas.openxmlformats.org/officeDocument/2006/relationships/image" Target="../media/image11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10425&amp;cl=2&amp;lm=-1&amp;pn=202&amp;rn=1&amp;di=11115470613&amp;ln=1&amp;fr=ala0&amp;ic=0&amp;s=&amp;se=&amp;sme=0&amp;tab=&amp;width=&amp;height=&amp;face=0&amp;fb=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23529&amp;cl=2&amp;lm=-1&amp;pn=233&amp;rn=1&amp;di=2637139065&amp;ln=1&amp;fr=ala0&amp;ic=0&amp;s=&amp;se=&amp;sme=0&amp;tab=&amp;width=&amp;height=&amp;face=0&amp;fb=0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31580&amp;cl=2&amp;lm=-1&amp;pn=255&amp;rn=1&amp;di=30644885658&amp;ln=1&amp;fr=ala0&amp;ic=0&amp;s=&amp;se=&amp;sme=0&amp;tab=&amp;width=&amp;height=&amp;face=0&amp;fb=0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5845&amp;cl=2&amp;lm=-1&amp;pn=339&amp;rn=1&amp;di=46727234553&amp;ln=1&amp;fr=ala0&amp;ic=0&amp;s=&amp;se=&amp;sme=0&amp;tab=&amp;width=&amp;height=&amp;face=0&amp;fb=0" TargetMode="External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24851&amp;cl=2&amp;lm=-1&amp;pn=106&amp;rn=1&amp;di=46992226548&amp;ln=1&amp;fr=ala0&amp;ic=0&amp;s=&amp;se=&amp;sme=0&amp;tab=&amp;width=&amp;height=&amp;face=0&amp;fb=0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29958&amp;cl=2&amp;lm=-1&amp;pn=298&amp;rn=1&amp;di=26614611195&amp;ln=1&amp;fr=ala0&amp;ic=0&amp;s=&amp;se=&amp;sme=0&amp;tab=&amp;width=&amp;height=&amp;face=0&amp;fb=0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9811&amp;cl=2&amp;lm=-1&amp;pn=307&amp;rn=1&amp;di=19541436708&amp;ln=1&amp;fr=ala0&amp;ic=0&amp;s=&amp;se=&amp;sme=0&amp;tab=&amp;width=&amp;height=&amp;face=0&amp;fb=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29377&amp;cl=2&amp;lm=-1&amp;pn=312&amp;rn=1&amp;di=44248428813&amp;ln=1&amp;fr=ala0&amp;ic=0&amp;s=&amp;se=&amp;sme=0&amp;tab=&amp;width=&amp;height=&amp;face=0&amp;fb=0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10946&amp;cl=2&amp;lm=-1&amp;pn=311&amp;rn=1&amp;di=41518389693&amp;ln=1&amp;fr=ala0&amp;ic=0&amp;s=&amp;se=&amp;sme=0&amp;tab=&amp;width=&amp;height=&amp;face=0&amp;fb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5861&amp;cl=2&amp;lm=-1&amp;pn=322&amp;rn=1&amp;di=26551650090&amp;ln=1&amp;fr=ala0&amp;ic=0&amp;s=&amp;se=&amp;sme=0&amp;tab=&amp;width=&amp;height=&amp;face=0&amp;fb=0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24752&amp;cl=2&amp;lm=-1&amp;pn=188&amp;rn=1&amp;di=3464989038&amp;ln=1&amp;fr=ala0&amp;ic=0&amp;s=&amp;se=&amp;sme=0&amp;tab=&amp;width=&amp;height=&amp;face=0&amp;fb=0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B&#245;%C6&#428;%B6%AC%CC&#52339;%BE%B0&#892;&#428;&amp;in=32704&amp;cl=2&amp;lm=-1&amp;pn=192&amp;rn=1&amp;di=46416311778&amp;ln=1&amp;fr=ala0&amp;ic=0&amp;s=&amp;se=&amp;sme=0&amp;tab=&amp;width=&amp;height=&amp;face=0&amp;fb=0" TargetMode="External"/><Relationship Id="rId2" Type="http://schemas.openxmlformats.org/officeDocument/2006/relationships/image" Target="../media/image10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u=2809710455,2819033703&amp;fm=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403280" y="1413000"/>
            <a:ext cx="6337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冬季安全伴我行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u=459135686,2519565280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179280" y="1916280"/>
            <a:ext cx="8785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冬季来临，晚上有同学使用电热毯，睡前一定要拔下电源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mb dir="vert"/>
    <p:sndAc>
      <p:stSnd>
        <p:snd r:embed="rId3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u=1395248715,4241481424&amp;fm=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539640" y="173772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交通安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行走时怎样注意交通安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须在人行道内行走，没有人行道的，须靠边行走；每横列不超过二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不穿越、攀爬、倚坐护拦；不在马路上相互追逐、打闹、玩耍；不要边走边看书报或做其他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横过马路或通过十字街时，要走斑马线。并注意红绿灯信号标志。要学会避让机动车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与机动车辆争道抢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雪天行人一定要走人行道，不要在机动车道上行走，防止被侧滑的车碰到；走路速度不要太快，最好穿防滑鞋或旅游鞋，切勿穿硬塑料底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如果突然摔倒，尽量别用手腕去支撑地面，因为这种摔倒姿势最容易造成手臂、手腕骨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雪地行走，切忌提重物，双手不要揣在兜里，因为双手来回摆动能很好地起到对身体的平衡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尽量避过大理石路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u=1107643475,4556139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684360" y="1981800"/>
            <a:ext cx="813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（二）骑自行车要注意哪些安全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、要经常检修自行车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保持车况完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、自行车要在非机动车道上靠右边行驶，不逆行。转弯时，不猛拐，要慢行，并伸手示意。经过交叉路口，要慢行，注意来往行人、车辆，不闯红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、不双手离把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不骑车带人和在快车道上行驶。不多人并骑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不互相攀扶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不互相追逐、打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u=2514722228,3031438547&amp;fm=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684360" y="173700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三）雪后骑车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雪后行车车胎气不要太足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—70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即可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不要低头猛骑，车速不宜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拐弯时不要强行猛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不要猛捏车闸，且不可捏前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车距不宜近：应与前车保持一定距离。防止前车突然摔倒，后车下意识捏闸跟着摔倒。这样，常常一人摔倒吓倒一大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拐弯不宜太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车座不宜高：车座高重心就高。遇有紧急情况下车时，单脚着地车体倾斜，地面太滑就不易站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轮胎不宜旧：轮胎太旧，刹车容易打滑，最好选用粗花纹的宽轮胎或防滑轮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鞋底不宜硬：应穿平跟鞋、软底鞋或雪地鞋，女生尤其不宜穿光底的高跟鞋或松糕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穿衣适当厚些，可防止不慎滑倒摔伤，但也不宜太臃肿，使行动不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离机动车车不宜近：雪地不慎摔倒，常滑行一段距离，而雪地汽车制动不灵，故应离汽车远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u=2092164673,1311473588&amp;fm=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1258920" y="2349360"/>
            <a:ext cx="6769080" cy="13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同学们一定要注意冬季安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 spokes="3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u=607359529,1203666040&amp;fm=0&amp;gp=0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2050920" y="2276640"/>
            <a:ext cx="5616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请听歌曲  冬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u=3077312053,3739420509&amp;fm=0&amp;gp=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1908000" y="2133720"/>
            <a:ext cx="518508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有请老师做班会总结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Picture 7" descr="u=4113446156,3169448480&amp;fm=0&amp;gp=0"/>
          <p:cNvPicPr/>
          <p:nvPr/>
        </p:nvPicPr>
        <p:blipFill>
          <a:blip r:embed="rId2"/>
          <a:stretch/>
        </p:blipFill>
        <p:spPr>
          <a:xfrm>
            <a:off x="395280" y="4437000"/>
            <a:ext cx="316872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u=2778074010,2029994655&amp;fm=0&amp;gp=0"/>
          <p:cNvPicPr/>
          <p:nvPr/>
        </p:nvPicPr>
        <p:blipFill>
          <a:blip r:embed="rId3"/>
          <a:stretch/>
        </p:blipFill>
        <p:spPr>
          <a:xfrm>
            <a:off x="5940360" y="620640"/>
            <a:ext cx="251928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4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u=2678564191,2514438614&amp;fm=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11280" y="112536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Arial"/>
              </a:rPr>
              <a:t>冬天是一个非常危险的季节，道路上都是冰雪，十分容易滑倒！当然，出门要十分注意，以免造成安全隐患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3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u=3565063553,3031073981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90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900000" y="836640"/>
            <a:ext cx="741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知道冬天有哪些安全隐患吗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ver dir="d"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u=3559166821,734158207&amp;fm=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324000" y="289584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防滑、防摔。冬天天气寒冷，经常会有结冰下雪天气出现。为了好玩，有的同学会在校园中追逐打闹。殊不知这种嬉戏在冬季气候条件下很容易出现滑倒摔倒的现象，造成不必要的身体损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=3362810750,3666601543&amp;fm=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468360" y="231552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消防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火灾的措施很多，同学们首先要从日常生活中的小事做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不玩火，不吸烟。吸烟危害身体健康，又容易诱发火灾，要遵守学生守则和学校的规章制度，坚决杜绝吸烟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爱护消防设施。为了预防火灾，防止火灾事故，我们的教学楼和宿舍楼等公共场所都设置了消防栓、灭火器等消防设施，我们要自觉爱护这些消防设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电器要符合安全要求，不乱拆乱卸，以免造成安全性能下降，引发火灾。在实验室做实验要做到电器使用完毕时，及时关闭电源，以防电器过热而发生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3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u=2899811087,3834333848&amp;fm=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2124000" y="328680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上体育课应注意的事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育课是我们锻炼身体、增强体质的重要课程。体育课上的训练内容多种多样的，要注意的事项也因训练的内容、使用的器械不同而有所区别。不论练习什么样的项目，都要严格按照老师的要求进行训练，不要擅自行动。对于有器械的项目，更要互相帮助做好保护。做动作时要严肃认真，不能打闹，以免发生扭伤。在争抢激烈的运动中，要自觉遵守竞赛规则。锻炼后，要注意保暖，不要轻易脱掉外套，防止感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u=1682555973,444450052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468360" y="28969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交通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”是人们生活中最基本的内容。而交通安全更是同学们的头等大事。同学们平日里上学、放学，除了步行以外，还要骑自行车、乘公共汽车等。所以，我们必须要树立正确的交通安全意识，掌握必要的交通安全知识，确保交通安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3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u=3958227739,2552582766&amp;fm=2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6" name="WordArt 6"/>
          <p:cNvSpPr txBox="1"/>
          <p:nvPr/>
        </p:nvSpPr>
        <p:spPr>
          <a:xfrm>
            <a:off x="1763640" y="2060640"/>
            <a:ext cx="561672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冬天安全常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u=1603861507,858062597&amp;fm=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755640" y="28566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学生回家时不能搭乘摩托车上下学，不要乘坐无牌照三轮车，不要乘坐超载客车。同学们上学要等天亮再出门，并且和附近的同学同路；晚上放学路上同学结伴而行，相互有个照应。如果遇到陌生人问路，只能为他指路，绝不能带路，或者你让他问旁边的叔叔、阿姨。如果遇到有人说你的爸爸或是家人有事情，让他来接你去哪里，不要轻易相信。除非是你的家人或者是老师亲自给你交待的。遇到突发事情，要大声呼喊引起路人的注意，以便脱离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3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1:43:37Z</dcterms:created>
  <dc:creator>微软用户</dc:creator>
  <dc:description/>
  <dc:language>en-US</dc:language>
  <cp:lastModifiedBy>Administrator</cp:lastModifiedBy>
  <dcterms:modified xsi:type="dcterms:W3CDTF">2015-12-03T00:37:42Z</dcterms:modified>
  <cp:revision>4</cp:revision>
  <dc:subject/>
  <dc:title>幻灯片 1</dc:title>
</cp:coreProperties>
</file>