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1.jpeg" ContentType="image/jpeg"/>
  <Override PartName="/ppt/media/image19.gif" ContentType="image/gif"/>
  <Override PartName="/ppt/media/image14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B2F-681F-4C39-8ADD-1A9D1BFF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014-F7A5-408F-82CA-1AB75A8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668-9EF2-41D2-A8C5-7EE86D8F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51B-78D5-421E-97DB-7AE057E6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2949-5532-4A02-909B-FCE841D0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AF4-51EC-4528-93A7-C301D86C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C53A-E31F-4E98-8A98-35DECC3E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3C16-9314-42D6-9084-F136B3AA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123B-3B9A-407A-9AAA-9A2E95AA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F608-C655-437A-88F9-7FA794D9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7EE8-A660-4D32-80C4-90C11C84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22C-19F5-4058-90F5-28C05CBF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3EA8-4438-4332-AA17-F696DFD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E48A-4B83-40A5-9D0C-0D49AB6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DCF3-4234-4F2F-BA12-1C18963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7E10-8109-44FE-A870-EB6905EA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AD99-9B3F-48D8-B3E1-385DA14A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EF5-C243-47A8-AA37-0E3AAE45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A65-B5DB-4BA6-B6D1-1E5239C7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C4E-93E1-4966-BD6D-31949026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45B-D1FE-46AE-B3E3-51FC0589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B75-FE7A-4D26-9550-5957F8C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438-E6DD-4CB7-9671-8EE02732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030-2B06-4030-B514-65D7E3CA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4D89-EECA-4568-9A2E-76D12095C47C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8781-634F-4682-AF71-E0A774AF1069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90720" y="1828800"/>
            <a:ext cx="748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肚子</a:t>
            </a:r>
            <a:r>
              <a:rPr b="1" lang="zh-CN" sz="8000" spc="-1" strike="noStrike">
                <a:solidFill>
                  <a:srgbClr val="339966"/>
                </a:solidFill>
                <a:latin typeface="楷体_GB2312"/>
                <a:ea typeface="楷体_GB2312"/>
              </a:rPr>
              <a:t>好饿</a:t>
            </a:r>
            <a:r>
              <a:rPr b="1" lang="zh-CN" sz="80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的</a:t>
            </a:r>
            <a:r>
              <a:rPr b="1" lang="zh-CN" sz="8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小猪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5013360"/>
            <a:ext cx="8610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晚上，它做了一个</a:t>
            </a:r>
            <a:r>
              <a:rPr b="1" lang="zh-CN" sz="5000" spc="-1" strike="noStrike">
                <a:solidFill>
                  <a:srgbClr val="cc0000"/>
                </a:solidFill>
                <a:latin typeface="Verdana"/>
                <a:ea typeface="楷体_GB2312"/>
              </a:rPr>
              <a:t>梦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，梦见自己变成了一头又大又肥的猪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400800" cy="3835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939120" y="4343400"/>
            <a:ext cx="199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mèng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55468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第二天，它真的变成了一头大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胖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猪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162920" cy="4322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48520" y="4952880"/>
            <a:ext cx="2057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p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</a:rPr>
              <a:t>à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ng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2847960" cy="2895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62520" y="3048120"/>
            <a:ext cx="457200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píng gu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</a:rPr>
              <a:t>ǒ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苹果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3032280"/>
            <a:ext cx="281952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yí g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一个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3581640" cy="3124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04920" y="3032280"/>
            <a:ext cx="335268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li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</a:rPr>
              <a:t>ǎ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ng g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两个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3048120"/>
            <a:ext cx="457200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lí zi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梨子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925720" cy="2933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017880" y="266760"/>
            <a:ext cx="2925720" cy="2933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684760" y="266760"/>
            <a:ext cx="2925720" cy="2933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9480" y="3032280"/>
            <a:ext cx="304812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s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</a:rPr>
              <a:t>ā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n g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三个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2520" y="3048120"/>
            <a:ext cx="457200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t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o zi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桃子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666880" y="609480"/>
            <a:ext cx="1752840" cy="2819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419720" y="60948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172200" y="609480"/>
            <a:ext cx="1752480" cy="2819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62520" y="3184560"/>
            <a:ext cx="457200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c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</a:rPr>
              <a:t>ǎ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o méi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草莓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3184560"/>
            <a:ext cx="304812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sì g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四个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09480" y="3032280"/>
            <a:ext cx="304812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w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</a:rPr>
              <a:t>ǔ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 g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五个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3048120"/>
            <a:ext cx="457200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jú zi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橘子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029200" y="68580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962520" y="3048120"/>
            <a:ext cx="45720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xi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ā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ng ji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ā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o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香蕉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032280"/>
            <a:ext cx="304812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liù g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</a:rPr>
              <a:t>ē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n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Verdana"/>
                <a:ea typeface="楷体_GB2312"/>
              </a:rPr>
              <a:t>六根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62120" y="10666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华文楷体"/>
              </a:rPr>
              <a:t>请你用</a:t>
            </a:r>
            <a:r>
              <a:rPr b="0" lang="zh-CN" sz="6000" spc="-1" strike="noStrike">
                <a:solidFill>
                  <a:srgbClr val="ff0000"/>
                </a:solidFill>
                <a:latin typeface="Verdana"/>
                <a:ea typeface="华文楷体"/>
              </a:rPr>
              <a:t>一句完整的话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华文楷体"/>
              </a:rPr>
              <a:t>，说说小猪吃了</a:t>
            </a:r>
            <a:r>
              <a:rPr b="0" lang="zh-CN" sz="6000" spc="-1" strike="noStrike">
                <a:solidFill>
                  <a:srgbClr val="ff0000"/>
                </a:solidFill>
                <a:latin typeface="Verdana"/>
                <a:ea typeface="华文楷体"/>
              </a:rPr>
              <a:t>哪几种水果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华文楷体"/>
              </a:rPr>
              <a:t>？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09480" y="2286000"/>
            <a:ext cx="792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四个人一</a:t>
            </a:r>
            <a:r>
              <a:rPr b="1" lang="zh-CN" sz="5000" spc="-1" strike="noStrike">
                <a:solidFill>
                  <a:srgbClr val="ff0000"/>
                </a:solidFill>
                <a:latin typeface="Verdana"/>
                <a:ea typeface="楷体_GB2312"/>
              </a:rPr>
              <a:t>小组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，根据图片的顺序</a:t>
            </a:r>
            <a:r>
              <a:rPr b="1" lang="zh-CN" sz="5000" spc="-1" strike="noStrike">
                <a:solidFill>
                  <a:srgbClr val="ff0000"/>
                </a:solidFill>
                <a:latin typeface="Verdana"/>
                <a:ea typeface="楷体_GB2312"/>
              </a:rPr>
              <a:t>合作着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讲一讲这个故事。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380880"/>
            <a:ext cx="5029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说故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89480" y="609480"/>
            <a:ext cx="4754520" cy="5626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280" y="1066680"/>
            <a:ext cx="53341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有一只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瘦瘦的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小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猪，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感到很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饿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9051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shòu shou de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327672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25833" t="14083" r="41670" b="35214"/>
          <a:stretch/>
        </p:blipFill>
        <p:spPr>
          <a:xfrm>
            <a:off x="395280" y="457200"/>
            <a:ext cx="200196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17787" t="0" r="0" b="0"/>
          <a:stretch/>
        </p:blipFill>
        <p:spPr>
          <a:xfrm>
            <a:off x="3200400" y="457200"/>
            <a:ext cx="2292480" cy="1944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216072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95280" y="2590920"/>
            <a:ext cx="2017800" cy="1989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324480" y="259092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rcRect l="19441" t="6278" r="0" b="0"/>
          <a:stretch/>
        </p:blipFill>
        <p:spPr>
          <a:xfrm>
            <a:off x="3203640" y="2590920"/>
            <a:ext cx="2305080" cy="2017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rcRect l="26937" t="0" r="0" b="0"/>
          <a:stretch/>
        </p:blipFill>
        <p:spPr>
          <a:xfrm>
            <a:off x="3203640" y="4800600"/>
            <a:ext cx="2305080" cy="17733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rcRect l="13346" t="0" r="6646" b="0"/>
          <a:stretch/>
        </p:blipFill>
        <p:spPr>
          <a:xfrm>
            <a:off x="395280" y="4780080"/>
            <a:ext cx="2089080" cy="1773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rcRect l="5252" t="0" r="0" b="0"/>
          <a:stretch/>
        </p:blipFill>
        <p:spPr>
          <a:xfrm>
            <a:off x="6324480" y="4800600"/>
            <a:ext cx="2232000" cy="1773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04920" y="236232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4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89080"/>
            <a:ext cx="121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2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72200" y="289080"/>
            <a:ext cx="121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3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890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1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2362320"/>
            <a:ext cx="121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5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2362320"/>
            <a:ext cx="121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6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457200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7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4572000"/>
            <a:ext cx="121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8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457200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9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429680" y="3049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838080" y="23623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你认识了几个字宝宝？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920" y="457200"/>
            <a:ext cx="8458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Verdana"/>
                <a:ea typeface="楷体_GB2312"/>
              </a:rPr>
              <a:t>水果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楷体_GB2312"/>
              </a:rPr>
              <a:t>：苹果 梨子 桃子 草莓 香蕉</a:t>
            </a:r>
            <a:endParaRPr b="0" lang="en-US" sz="4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1812960"/>
            <a:ext cx="8458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Verdana"/>
                <a:ea typeface="楷体_GB2312"/>
              </a:rPr>
              <a:t>数量词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楷体_GB2312"/>
              </a:rPr>
              <a:t>：一个、两个、三个、四个、五个、六根 </a:t>
            </a:r>
            <a:endParaRPr b="0" lang="en-US" sz="45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3641760"/>
            <a:ext cx="1904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肚子 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4800600"/>
            <a:ext cx="1143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饿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641760"/>
            <a:ext cx="2438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瘦瘦的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364176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胖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4861080"/>
            <a:ext cx="175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星期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4800600"/>
            <a:ext cx="1905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感到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4800600"/>
            <a:ext cx="1143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梦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362320" y="190512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戏时间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8580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6078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33520" y="838080"/>
            <a:ext cx="81532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猕猴桃    火龙果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香瓜  葡萄  柿子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石榴          桂圆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87960" y="3124080"/>
            <a:ext cx="3056040" cy="2444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638680" y="22096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  <a:ea typeface="楷体_GB2312"/>
              </a:rPr>
              <a:t>椰子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219320" y="0"/>
            <a:ext cx="2808000" cy="21844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28800" y="220968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  <a:ea typeface="楷体_GB2312"/>
              </a:rPr>
              <a:t>西瓜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46680" y="5410080"/>
            <a:ext cx="19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  <a:ea typeface="楷体_GB2312"/>
              </a:rPr>
              <a:t>柠檬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51040" y="5486400"/>
            <a:ext cx="164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  <a:ea typeface="楷体_GB2312"/>
              </a:rPr>
              <a:t>樱桃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54680" y="5410080"/>
            <a:ext cx="192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  <a:ea typeface="楷体_GB2312"/>
              </a:rPr>
              <a:t>菠萝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2532240" cy="2286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457200" y="33526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3816360" y="3328920"/>
            <a:ext cx="205092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5105520" cy="61340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838080"/>
            <a:ext cx="4267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星期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一，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吃了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一个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苹果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还是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饿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152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ng q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07840" y="1649520"/>
            <a:ext cx="13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yí gè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280" y="3097080"/>
            <a:ext cx="24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píng guǒ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440388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035240" cy="6095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" y="838080"/>
            <a:ext cx="4267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星期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二，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吃了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两个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梨子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还是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饿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432756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52680" y="1725480"/>
            <a:ext cx="220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li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ǎ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ng gè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040" y="3173400"/>
            <a:ext cx="102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lí z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152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ng q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4456080" cy="586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28600" y="838080"/>
            <a:ext cx="4267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星期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三，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吃了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三个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桃子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还是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饿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42670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52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ng q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44120" y="1801800"/>
            <a:ext cx="18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ā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n gè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0400" y="3173400"/>
            <a:ext cx="155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táo z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838080"/>
            <a:ext cx="4267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星期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四，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吃了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四个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草莓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还是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饿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0" y="685800"/>
            <a:ext cx="4254480" cy="5254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362320" y="441972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152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ng q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65000" y="1725480"/>
            <a:ext cx="13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sì gè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6320" y="3173400"/>
            <a:ext cx="21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ǎ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o mé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838080"/>
            <a:ext cx="4267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星期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五，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吃了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五个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橘子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还是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饿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3865320" cy="5327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362320" y="4403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152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ng q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78680" y="1725480"/>
            <a:ext cx="17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w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ǔ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 gè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8560" y="2971800"/>
            <a:ext cx="1290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j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ú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 z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838080"/>
            <a:ext cx="4267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星期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六，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吃了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六根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香蕉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它还是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饿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6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297320" cy="4773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62320" y="4403880"/>
            <a:ext cx="12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è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1522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ng q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ī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48440" y="1725480"/>
            <a:ext cx="191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liù gēn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0280" y="3048120"/>
            <a:ext cx="26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ā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ng ji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ā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o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3733920"/>
            <a:ext cx="83059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星期天，它吃了一个苹果，两个梨子，三个桃子，四个草莓，五个橘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子，六根香蕉。它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  <a:ea typeface="楷体_GB2312"/>
              </a:rPr>
              <a:t>感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到不饿了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858000" cy="3733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343760" y="4876920"/>
            <a:ext cx="138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g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</a:rPr>
              <a:t>ǎ</a:t>
            </a:r>
            <a:r>
              <a:rPr b="1" lang="zh-CN" sz="5000" spc="-1" strike="noStrike">
                <a:solidFill>
                  <a:srgbClr val="000000"/>
                </a:solidFill>
                <a:latin typeface="Verdana"/>
                <a:ea typeface="楷体_GB2312"/>
              </a:rPr>
              <a:t>n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t</cp:lastModifiedBy>
  <dcterms:modified xsi:type="dcterms:W3CDTF">2011-10-16T14:28:0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