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5D12-5D8C-4A08-AFD5-A08D5A6B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00000" y="3872520"/>
            <a:ext cx="7786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C41-82C3-4559-8407-2707BD38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99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00000" y="3872520"/>
            <a:ext cx="3799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89880" y="3872520"/>
            <a:ext cx="3799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9DB-1D9B-44FA-8531-A914BD54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00000" y="387252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2680" y="387252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5720" y="387252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B5A5-A8E5-49B9-9F38-A0DEEBC5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3F1D-B603-44FD-8B84-6F3D65D6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44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569F-0E74-4BAD-8BDD-97E97020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44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965D-9019-40E0-94D0-832F82DC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44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9944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259C-5C3C-48D0-B2C9-7A1B41AC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499C-CA24-4B89-B974-ED1116BE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00000" y="406440"/>
            <a:ext cx="7786440" cy="46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A0FE-91E7-40B8-8D5A-7ACCC3C8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9944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00000" y="3872520"/>
            <a:ext cx="3799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E614-5243-4017-B375-5968D8B4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44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DB3-008B-4D5A-8F5B-72BD634F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44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99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89880" y="3872520"/>
            <a:ext cx="3799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148B-8D32-4C64-B251-34B39A3D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99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872520"/>
            <a:ext cx="7786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034C-7768-43CA-8049-2A24D080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00000" y="3872520"/>
            <a:ext cx="7786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2220-7A4B-44D4-986E-20894532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99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72520"/>
            <a:ext cx="3799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89880" y="3872520"/>
            <a:ext cx="3799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F109-D315-4D48-8627-5A8C4DE0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00000" y="387252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2680" y="387252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65720" y="387252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2759-D836-4EF5-BB81-254D9BF3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44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BCA-2EC6-49D1-A5C4-DD8D91D4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44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9944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3A3-FC4E-4EB5-ACFE-7110EF55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2C44-278C-4F55-9402-BE8219A6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00000" y="406440"/>
            <a:ext cx="7786440" cy="46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006-A87B-4B23-9EB3-2D84DBFF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9944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00000" y="3872520"/>
            <a:ext cx="3799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4DA-A66C-4DC4-A582-D125DCBB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44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99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9880" y="3872520"/>
            <a:ext cx="3799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0C2-791F-49D1-83C0-5033FBB5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99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00000" y="3872520"/>
            <a:ext cx="77864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7EC-5736-4E30-B708-0E554ABD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1025"/>
          <p:cNvSpPr/>
          <p:nvPr/>
        </p:nvSpPr>
        <p:spPr>
          <a:xfrm>
            <a:off x="1015920" y="1600200"/>
            <a:ext cx="7746840" cy="360"/>
          </a:xfrm>
          <a:prstGeom prst="line">
            <a:avLst/>
          </a:prstGeom>
          <a:ln w="3175">
            <a:solidFill>
              <a:srgbClr val="a08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  <a:ea typeface="宋体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61920" y="1628640"/>
            <a:ext cx="7772040" cy="14396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800" spc="-1" strike="noStrike">
                <a:solidFill>
                  <a:srgbClr val="996633"/>
                </a:solidFill>
                <a:latin typeface="Arial"/>
                <a:ea typeface="宋体"/>
              </a:rPr>
              <a:t>单击此处编辑母版标题样式</a:t>
            </a:r>
            <a:endParaRPr b="0" lang="en-US" sz="4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00560" y="61009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29560" y="61009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接连接符 2054"/>
          <p:cNvSpPr/>
          <p:nvPr/>
        </p:nvSpPr>
        <p:spPr>
          <a:xfrm>
            <a:off x="973080" y="3141360"/>
            <a:ext cx="7775280" cy="360"/>
          </a:xfrm>
          <a:prstGeom prst="line">
            <a:avLst/>
          </a:prstGeom>
          <a:ln w="508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  <a:ea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直接连接符 1025"/>
          <p:cNvSpPr/>
          <p:nvPr/>
        </p:nvSpPr>
        <p:spPr>
          <a:xfrm>
            <a:off x="1015920" y="1600200"/>
            <a:ext cx="7746840" cy="360"/>
          </a:xfrm>
          <a:prstGeom prst="line">
            <a:avLst/>
          </a:prstGeom>
          <a:ln w="3175">
            <a:solidFill>
              <a:srgbClr val="a08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  <a:ea typeface="宋体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宋体"/>
              </a:rPr>
              <a:t>单击此处编辑母版标题样式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440" cy="434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6633"/>
              </a:buClr>
              <a:buSzPct val="65000"/>
              <a:buFont typeface="Wingdings" charset="2"/>
              <a:buChar char=""/>
            </a:pPr>
            <a:r>
              <a:rPr b="0" lang="zh-CN" sz="3200" spc="-1" strike="noStrike">
                <a:solidFill>
                  <a:srgbClr val="402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996633"/>
              </a:buClr>
              <a:buSzPct val="65000"/>
              <a:buFont typeface="Wingdings" charset="2"/>
              <a:buChar char=""/>
            </a:pPr>
            <a:r>
              <a:rPr b="0" lang="zh-CN" sz="2800" spc="-1" strike="noStrike">
                <a:solidFill>
                  <a:srgbClr val="402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6633"/>
              </a:buClr>
              <a:buSzPct val="65000"/>
              <a:buFont typeface="Wingdings" charset="2"/>
              <a:buChar char=""/>
            </a:pPr>
            <a:r>
              <a:rPr b="0" lang="zh-CN" sz="2400" spc="-1" strike="noStrike">
                <a:solidFill>
                  <a:srgbClr val="402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996633"/>
              </a:buClr>
              <a:buSzPct val="65000"/>
              <a:buFont typeface="Wingdings" charset="2"/>
              <a:buChar char=""/>
            </a:pPr>
            <a:r>
              <a:rPr b="0" lang="zh-CN" sz="2000" spc="-1" strike="noStrike">
                <a:solidFill>
                  <a:srgbClr val="402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996633"/>
              </a:buClr>
              <a:buSzPct val="65000"/>
              <a:buFont typeface="Wingdings" charset="2"/>
              <a:buChar char=""/>
            </a:pPr>
            <a:r>
              <a:rPr b="0" lang="zh-CN" sz="2000" spc="-1" strike="noStrike">
                <a:solidFill>
                  <a:srgbClr val="402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99072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429000" y="60958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61920" y="1628640"/>
            <a:ext cx="7772040" cy="14396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800" spc="-1" strike="noStrike">
                <a:solidFill>
                  <a:srgbClr val="996633"/>
                </a:solidFill>
                <a:latin typeface="Arial"/>
                <a:ea typeface="宋体"/>
              </a:rPr>
              <a:t>二孩政策</a:t>
            </a:r>
            <a:endParaRPr b="0" lang="en-US" sz="4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宋体"/>
              </a:rPr>
              <a:t>二孩政策的含义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440" cy="434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6633"/>
              </a:buClr>
              <a:buSzPct val="65000"/>
              <a:buFont typeface="Wingdings" charset="2"/>
              <a:buChar char=""/>
            </a:pPr>
            <a:r>
              <a:rPr b="0" lang="zh-CN" sz="3200" spc="-1" strike="noStrike">
                <a:solidFill>
                  <a:srgbClr val="402000"/>
                </a:solidFill>
                <a:latin typeface="华文行楷"/>
                <a:ea typeface="华文行楷"/>
              </a:rPr>
              <a:t>二孩政策是中国实行的一种计划生育政策，指符合指定条件的夫妇允许生育“二胎”。值得注意的是，因为是二孩政策，故第一胎为双胞胎或多胞胎时，不可生第二胎。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宋体"/>
              </a:rPr>
              <a:t>二孩政策的背景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440" cy="434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6633"/>
              </a:buClr>
              <a:buSzPct val="65000"/>
              <a:buFont typeface="Wingdings" charset="2"/>
              <a:buChar char=""/>
            </a:pPr>
            <a:r>
              <a:rPr b="0" lang="zh-CN" sz="3200" spc="-1" strike="noStrike">
                <a:solidFill>
                  <a:srgbClr val="402000"/>
                </a:solidFill>
                <a:latin typeface="华文行楷"/>
                <a:ea typeface="华文行楷"/>
              </a:rPr>
              <a:t>在经历了迅速从高生育率到低生育率的转变之后，我国人口的主要矛盾已经不再是增长过快，而是人口红利消失、临近超低生育率水平、人口老龄化、出生性别比失调等问题。国内</a:t>
            </a:r>
            <a:r>
              <a:rPr b="0" lang="en-US" sz="3200" spc="-1" strike="noStrike">
                <a:solidFill>
                  <a:srgbClr val="402000"/>
                </a:solidFill>
                <a:latin typeface="华文行楷"/>
                <a:ea typeface="华文行楷"/>
              </a:rPr>
              <a:t>20</a:t>
            </a:r>
            <a:r>
              <a:rPr b="0" lang="zh-CN" sz="3200" spc="-1" strike="noStrike">
                <a:solidFill>
                  <a:srgbClr val="402000"/>
                </a:solidFill>
                <a:latin typeface="华文行楷"/>
                <a:ea typeface="华文行楷"/>
              </a:rPr>
              <a:t>多位顶尖人口学者历经两年的研究指出，我国的人口政策亟待转向，尤其是生育政策应该调整。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宋体"/>
              </a:rPr>
              <a:t>二孩政策的定制过程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00360" y="1705680"/>
            <a:ext cx="7786080" cy="46987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996633"/>
              </a:buClr>
              <a:buSzPct val="65000"/>
              <a:buFont typeface="Wingdings" charset="2"/>
              <a:buChar char=""/>
            </a:pPr>
            <a:r>
              <a:rPr b="0" lang="en-US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2012</a:t>
            </a:r>
            <a:r>
              <a:rPr b="0" lang="zh-CN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年</a:t>
            </a:r>
            <a:r>
              <a:rPr b="0" lang="en-US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10</a:t>
            </a:r>
            <a:r>
              <a:rPr b="0" lang="zh-CN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月</a:t>
            </a:r>
            <a:r>
              <a:rPr b="0" lang="en-US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26</a:t>
            </a:r>
            <a:r>
              <a:rPr b="0" lang="zh-CN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日，中国发展研究基金会发布的《人口形势的变化和人口政策的调整》报告就集纳了这</a:t>
            </a:r>
            <a:r>
              <a:rPr b="0" lang="en-US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20</a:t>
            </a:r>
            <a:r>
              <a:rPr b="0" lang="zh-CN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多位人口学者的政策建议。他们提出，我国应实施“生育自主、倡导节制、素质优先、全面发展”的新人口政策。该报告特别提出，第一步，在城市地区和严格执行一孩政策的农村地区即刻放开二胎；第二步，</a:t>
            </a:r>
            <a:r>
              <a:rPr b="0" lang="en-US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2015</a:t>
            </a:r>
            <a:r>
              <a:rPr b="0" lang="zh-CN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年，在实行“一孩半”</a:t>
            </a:r>
            <a:r>
              <a:rPr b="0" lang="en-US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(</a:t>
            </a:r>
            <a:r>
              <a:rPr b="0" lang="zh-CN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即有的地区第一胎为女孩的夫妇可以生二胎</a:t>
            </a:r>
            <a:r>
              <a:rPr b="0" lang="en-US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)</a:t>
            </a:r>
            <a:r>
              <a:rPr b="0" lang="zh-CN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政策的地区放开二胎，实现全国全面放开二胎的目标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996633"/>
              </a:buClr>
              <a:buSzPct val="65000"/>
              <a:buFont typeface="Wingdings" charset="2"/>
              <a:buChar char=""/>
            </a:pPr>
            <a:r>
              <a:rPr b="0" lang="en-US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2014</a:t>
            </a:r>
            <a:r>
              <a:rPr b="0" lang="zh-CN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年全国人大代表、国家卫计委科学技术所所长、首席研究员马旭</a:t>
            </a:r>
            <a:r>
              <a:rPr b="0" lang="en-US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3</a:t>
            </a:r>
            <a:r>
              <a:rPr b="0" lang="zh-CN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日在接受采访称，“全部放开单独二孩没有时间表”，预计今年全国共计有</a:t>
            </a:r>
            <a:r>
              <a:rPr b="0" lang="en-US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20</a:t>
            </a:r>
            <a:r>
              <a:rPr b="0" lang="zh-CN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多个省份实行“单独二孩”政策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996633"/>
              </a:buClr>
              <a:buSzPct val="65000"/>
              <a:buFont typeface="Wingdings" charset="2"/>
              <a:buChar char=""/>
            </a:pPr>
            <a:r>
              <a:rPr b="0" lang="en-US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2015</a:t>
            </a:r>
            <a:r>
              <a:rPr b="0" lang="zh-CN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年</a:t>
            </a:r>
            <a:r>
              <a:rPr b="0" lang="en-US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10</a:t>
            </a:r>
            <a:r>
              <a:rPr b="0" lang="zh-CN" sz="1800" spc="-1" strike="noStrike">
                <a:solidFill>
                  <a:srgbClr val="402000"/>
                </a:solidFill>
                <a:latin typeface="华文行楷"/>
                <a:ea typeface="华文行楷"/>
              </a:rPr>
              <a:t>月，中共十八届中央委员会第五次全体会议公报指出：促进人口均衡发展，坚持计划生育的基本国策，完善人口发展战略，全面实施一对夫妇可生育两个孩子政策，积极开展应对人口老龄化行动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宋体"/>
              </a:rPr>
              <a:t>二孩政策的原因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440" cy="434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6633"/>
              </a:buClr>
              <a:buSzPct val="6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402000"/>
                </a:solidFill>
                <a:latin typeface="华文行楷"/>
                <a:ea typeface="华文行楷"/>
              </a:rPr>
              <a:t>1.</a:t>
            </a:r>
            <a:r>
              <a:rPr b="0" lang="zh-CN" sz="2800" spc="-1" strike="noStrike">
                <a:solidFill>
                  <a:srgbClr val="402000"/>
                </a:solidFill>
                <a:latin typeface="华文行楷"/>
                <a:ea typeface="华文行楷"/>
              </a:rPr>
              <a:t>新增婴儿加入就业大军尚需时日；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6633"/>
              </a:buClr>
              <a:buSzPct val="6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402000"/>
                </a:solidFill>
                <a:latin typeface="华文行楷"/>
                <a:ea typeface="华文行楷"/>
              </a:rPr>
              <a:t>2.</a:t>
            </a:r>
            <a:r>
              <a:rPr b="0" lang="zh-CN" sz="2800" spc="-1" strike="noStrike">
                <a:solidFill>
                  <a:srgbClr val="402000"/>
                </a:solidFill>
                <a:latin typeface="华文行楷"/>
                <a:ea typeface="华文行楷"/>
              </a:rPr>
              <a:t>年轻人面临敦促他们更卖力工作、更晚成家的社会压力；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6633"/>
              </a:buClr>
              <a:buSzPct val="6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402000"/>
                </a:solidFill>
                <a:latin typeface="华文行楷"/>
                <a:ea typeface="华文行楷"/>
              </a:rPr>
              <a:t>3.</a:t>
            </a:r>
            <a:r>
              <a:rPr b="0" lang="zh-CN" sz="2800" spc="-1" strike="noStrike">
                <a:solidFill>
                  <a:srgbClr val="402000"/>
                </a:solidFill>
                <a:latin typeface="华文行楷"/>
                <a:ea typeface="华文行楷"/>
              </a:rPr>
              <a:t>既有政策本就存在诸多例外，政策的变化并没有看起来那么大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6633"/>
              </a:buClr>
              <a:buSzPct val="65000"/>
              <a:buFont typeface="Wingdings" charset="2"/>
              <a:buChar char=""/>
            </a:pPr>
            <a:r>
              <a:rPr b="0" lang="zh-CN" sz="2800" spc="-1" strike="noStrike">
                <a:solidFill>
                  <a:srgbClr val="402000"/>
                </a:solidFill>
                <a:latin typeface="华文行楷"/>
                <a:ea typeface="华文行楷"/>
              </a:rPr>
              <a:t>中国此前也放松了一次人口政策，允许一方是独生子女的夫妻生二胎，但此举远未实现一年增加</a:t>
            </a:r>
            <a:r>
              <a:rPr b="0" lang="en-US" sz="2800" spc="-1" strike="noStrike">
                <a:solidFill>
                  <a:srgbClr val="402000"/>
                </a:solidFill>
                <a:latin typeface="华文行楷"/>
                <a:ea typeface="华文行楷"/>
              </a:rPr>
              <a:t>200</a:t>
            </a:r>
            <a:r>
              <a:rPr b="0" lang="zh-CN" sz="2800" spc="-1" strike="noStrike">
                <a:solidFill>
                  <a:srgbClr val="402000"/>
                </a:solidFill>
                <a:latin typeface="华文行楷"/>
                <a:ea typeface="华文行楷"/>
              </a:rPr>
              <a:t>万婴儿的目标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宋体"/>
              </a:rPr>
              <a:t>二胎政策社会影响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440" cy="434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r>
              <a:rPr b="0" lang="en-US" sz="3200" spc="-1" strike="noStrike">
                <a:solidFill>
                  <a:srgbClr val="402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402000"/>
                </a:solidFill>
                <a:latin typeface="华文行楷"/>
                <a:ea typeface="华文行楷"/>
              </a:rPr>
              <a:t>、人口老龄化延缓：提高二孩生育率，叠加第二次“婴儿回声潮”效应，新生人口有望大幅增长</a:t>
            </a:r>
            <a:r>
              <a:rPr b="0" lang="en-US" sz="3200" spc="-1" strike="noStrike">
                <a:solidFill>
                  <a:srgbClr val="402000"/>
                </a:solidFill>
                <a:latin typeface="华文行楷"/>
                <a:ea typeface="华文行楷"/>
              </a:rPr>
              <a:t>;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r>
              <a:rPr b="0" lang="en-US" sz="3200" spc="-1" strike="noStrike">
                <a:solidFill>
                  <a:srgbClr val="402000"/>
                </a:solidFill>
                <a:latin typeface="华文行楷"/>
                <a:ea typeface="华文行楷"/>
              </a:rPr>
              <a:t>2</a:t>
            </a:r>
            <a:r>
              <a:rPr b="0" lang="zh-CN" sz="3200" spc="-1" strike="noStrike">
                <a:solidFill>
                  <a:srgbClr val="402000"/>
                </a:solidFill>
                <a:latin typeface="华文行楷"/>
                <a:ea typeface="华文行楷"/>
              </a:rPr>
              <a:t>、增加年轻、高素质劳动力供给：制造业升级及消费服务业迎来所需劳动力，助力经济结构转型</a:t>
            </a:r>
            <a:r>
              <a:rPr b="0" lang="en-US" sz="3200" spc="-1" strike="noStrike">
                <a:solidFill>
                  <a:srgbClr val="402000"/>
                </a:solidFill>
                <a:latin typeface="华文行楷"/>
                <a:ea typeface="华文行楷"/>
              </a:rPr>
              <a:t>;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402000"/>
                </a:solidFill>
                <a:latin typeface="华文行楷"/>
                <a:ea typeface="华文行楷"/>
              </a:rPr>
              <a:t>、促进大消费发展：伴随新生人口成长，大消费行业需求有望持续高涨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宋体"/>
              </a:rPr>
              <a:t>二孩时代的投资机遇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360" y="1625040"/>
            <a:ext cx="7786080" cy="43257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402000"/>
                </a:solidFill>
                <a:latin typeface="华文行楷"/>
                <a:ea typeface="华文行楷"/>
              </a:rPr>
              <a:t>、产前：重点关注孕妇检测、辅助生殖服务、孕妇用药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402000"/>
                </a:solidFill>
                <a:latin typeface="华文行楷"/>
                <a:ea typeface="华文行楷"/>
              </a:rPr>
              <a:t>、婴儿：重点关注奶粉、婴儿日常用品、儿童用药</a:t>
            </a:r>
            <a:r>
              <a:rPr b="0" lang="en-US" sz="2800" spc="-1" strike="noStrike">
                <a:solidFill>
                  <a:srgbClr val="402000"/>
                </a:solidFill>
                <a:latin typeface="华文行楷"/>
                <a:ea typeface="华文行楷"/>
              </a:rPr>
              <a:t>;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402000"/>
                </a:solidFill>
                <a:latin typeface="华文行楷"/>
                <a:ea typeface="华文行楷"/>
              </a:rPr>
              <a:t>、幼儿：重点关注童装、玩具、动漫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华文行楷"/>
                <a:ea typeface="华文行楷"/>
              </a:rPr>
              <a:t>4.</a:t>
            </a:r>
            <a:r>
              <a:rPr b="0" lang="zh-CN" sz="2800" spc="-1" strike="noStrike">
                <a:solidFill>
                  <a:srgbClr val="402000"/>
                </a:solidFill>
                <a:latin typeface="华文行楷"/>
                <a:ea typeface="华文行楷"/>
              </a:rPr>
              <a:t>学龄前儿童：重点关注早教、文具用品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06440"/>
            <a:ext cx="7786440" cy="10123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en-US" sz="3600" spc="-1" strike="noStrike">
              <a:solidFill>
                <a:srgbClr val="996633"/>
              </a:solidFill>
              <a:latin typeface="Arial"/>
              <a:ea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440" cy="434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02000"/>
              </a:solidFill>
              <a:latin typeface="Arial"/>
              <a:ea typeface="宋体"/>
            </a:endParaRPr>
          </a:p>
        </p:txBody>
      </p:sp>
      <p:sp>
        <p:nvSpPr>
          <p:cNvPr id="100" name="矩形 4"/>
          <p:cNvSpPr/>
          <p:nvPr/>
        </p:nvSpPr>
        <p:spPr>
          <a:xfrm rot="20880000">
            <a:off x="3681360" y="4589280"/>
            <a:ext cx="4038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5400" spc="-1" strike="noStrike">
                <a:solidFill>
                  <a:srgbClr val="402000"/>
                </a:solidFill>
                <a:latin typeface="Arial"/>
                <a:ea typeface="宋体"/>
              </a:rPr>
              <a:t>谢谢观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日常_活页夹">
  <a:themeElements>
    <a:clrScheme name="">
      <a:dk1>
        <a:srgbClr val="402000"/>
      </a:dk1>
      <a:lt1>
        <a:srgbClr val="fbfae2"/>
      </a:lt1>
      <a:dk2>
        <a:srgbClr val="996633"/>
      </a:dk2>
      <a:lt2>
        <a:srgbClr val="a08366"/>
      </a:lt2>
      <a:accent1>
        <a:srgbClr val="ce9964"/>
      </a:accent1>
      <a:accent2>
        <a:srgbClr val="cd3333"/>
      </a:accent2>
      <a:accent3>
        <a:srgbClr val="fdfcee"/>
      </a:accent3>
      <a:accent4>
        <a:srgbClr val="361a00"/>
      </a:accent4>
      <a:accent5>
        <a:srgbClr val="e3cab8"/>
      </a:accent5>
      <a:accent6>
        <a:srgbClr val="b82d2d"/>
      </a:accent6>
      <a:hlink>
        <a:srgbClr val="9a7f32"/>
      </a:hlink>
      <a:folHlink>
        <a:srgbClr val="eca07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日常_活页夹">
  <a:themeElements>
    <a:clrScheme name="">
      <a:dk1>
        <a:srgbClr val="402000"/>
      </a:dk1>
      <a:lt1>
        <a:srgbClr val="fbfae2"/>
      </a:lt1>
      <a:dk2>
        <a:srgbClr val="996633"/>
      </a:dk2>
      <a:lt2>
        <a:srgbClr val="a08366"/>
      </a:lt2>
      <a:accent1>
        <a:srgbClr val="ce9964"/>
      </a:accent1>
      <a:accent2>
        <a:srgbClr val="cd3333"/>
      </a:accent2>
      <a:accent3>
        <a:srgbClr val="fdfcee"/>
      </a:accent3>
      <a:accent4>
        <a:srgbClr val="361a00"/>
      </a:accent4>
      <a:accent5>
        <a:srgbClr val="e3cab8"/>
      </a:accent5>
      <a:accent6>
        <a:srgbClr val="b82d2d"/>
      </a:accent6>
      <a:hlink>
        <a:srgbClr val="9a7f32"/>
      </a:hlink>
      <a:folHlink>
        <a:srgbClr val="eca07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968</Words>
  <Paragraphs>3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3T14:52:11Z</dcterms:created>
  <dc:creator/>
  <dc:description/>
  <dc:language>en-US</dc:language>
  <cp:lastModifiedBy>Administrator</cp:lastModifiedBy>
  <dcterms:modified xsi:type="dcterms:W3CDTF">2015-11-03T14:57:08Z</dcterms:modified>
  <cp:revision>2</cp:revision>
  <dc:subject/>
  <dc:title>二胎政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  <property fmtid="{D5CDD505-2E9C-101B-9397-08002B2CF9AE}" pid="3" name="Slides">
    <vt:r8>8</vt:r8>
  </property>
</Properties>
</file>