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4EA-6AFF-4937-8319-C7B5443E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347-C9D3-4863-8DD2-072A3AB8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7D7-279D-45D6-A244-BF297B04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F63-D0D7-431E-9978-51F37BCB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BBD-4B24-4C15-B255-0979F7DB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D39-A6D5-4634-9FDF-EE74D574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CB8-D488-4471-99FA-8CFB766B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805-ECA9-4E50-9DB7-1CB0B9ED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18C-90A4-4E14-8A62-6FE1D36A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05C-9974-4EF7-BEAD-A97BA47B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4F5-4AE3-41CF-BC58-D39A9D63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C52-BECD-4D4B-B644-465A00B6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DB17-0018-4828-901D-40C8F1E8AC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放开二孩的多重得好如何实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十八届五中全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9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日闭幕，会议决定：坚持计划生育的基本国策，完善人口发展战略，全面实施一对夫妇可生育两个孩子政策，积极开展应对人口老龄化行动。这是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年十八届三中全会决定启动实施“单独二孩”政策之后的又一次人口政策调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时隔两年，单独二孩政策升级为全面放开二孩，不只是一次人口政策的调整，也是对亿万民众诉求的呼应。调整背后，是对以往庄重政策的准确评估，也是基于中国经济社会发展和人口结构变化的利益权衡。可以说，全面放开二孩是迟早的事，尽管前不久已为类似传言，但一量从实，仍让国民喜大普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每每说到全面放开二孩，相关专家往往直陈理由：再不全面放开二孩，人口红利就将消失，经济增长失去潜力，养老难题将越发验证解。这些都不错。其实，放开二孩是对公民生育权的尊重，是孩子有个伴，享受兄弟姐妹的乐趣，是复苏人性中的美好，而不是单纯为了经济增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全面放开二孩有多重得好，不过，人口出生与生机有关，与生计也有关。解决了能不能生之后，想不想生、敢不敢生问题就凸显出来。某门户网站的调理显示，多数受调查者表示：“不想生，一个孩子都养不起，哪还敢生两个？”诚然，生孩子不易，养孩子更难，居高不下的养育成本让一些人望而却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无论是单独二孩政策，还是全面放开二孩，一定有符合条件的不少家庭不愿生。此前，据了解，预计“单独”夫妇约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万对，而去年有生育二孩意愿的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万对，今年确实能生育的还不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万对。现实很严峻，那么如何才能让符合政策的家庭愿意生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有网友戏言，应强制生育，贴出新标语：二胎奖、一胎罚，丁克不生育都该抓：多生多养，政府奖赏。这当然是开五笔，但鼓励生育、奖励生育，在世界上一些国家早已形成制度安排。目前推行鼓励生育政策可能还有主现实，但为打消符合政策家庭的顾虑，政府可以出台相关的配套措施，比如延长产妇的休假时间，对二孩家庭实行教育补助政策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实际上，五中全会公报已提出坚持共享发展，“增加公共服务供给，从解决人民最关心最直接最现实的利益问题入手，提高公共服务共建能力和共享水平。”尽快出台配套政策，提供更多的公共服务供给，不正是共享发展的题中应有之义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全面放开二孩政策真正落地，尚需经过相关的法定程序，在这个窗口期，相关部门应及时研究出台配套政策，让好政策惠及更多家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2T06:05:11Z</dcterms:created>
  <dc:creator>Administrator</dc:creator>
  <dc:description/>
  <dc:language>en-US</dc:language>
  <cp:lastModifiedBy>Administrator</cp:lastModifiedBy>
  <dcterms:modified xsi:type="dcterms:W3CDTF">2015-11-02T06:20:59Z</dcterms:modified>
  <cp:revision>2</cp:revision>
  <dc:subject/>
  <dc:title>放开二孩的多重得好如何实现</dc:title>
</cp:coreProperties>
</file>