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4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9A2-F5F8-4EAF-ACA1-42C94206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B3C-17FF-4233-94E5-3564B031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14D-052D-4FE7-956A-FE01BBC8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24C-94DB-46D8-9037-7CA157AD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F7C-ED9C-4851-AE8E-35AD627B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345-3DF6-470C-AAA3-211E0EE9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F91-5506-4FD1-9A11-824F6C04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517-1E14-4FCB-B30C-D306CEC8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6B1-F424-4039-B440-52988B70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FB4-4AAB-4D68-953E-B4D5AE2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693-0470-4274-9BD6-53154858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F3A-FC9D-4476-B46B-A44F7849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F548-EB77-43CE-834A-CC695F8B2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2304;&#38889;&#32418;MV&#12305;&#22825;&#20142;&#20102;.flv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5"/>
          <p:cNvSpPr/>
          <p:nvPr/>
        </p:nvSpPr>
        <p:spPr>
          <a:xfrm>
            <a:off x="971640" y="765000"/>
            <a:ext cx="7200720" cy="5040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268360" y="515772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作文指导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908000" y="1557360"/>
            <a:ext cx="55454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lin ang="2700000"/>
                </a:gradFill>
                <a:latin typeface="楷体_GB2312"/>
              </a:rPr>
              <a:t>父母的爱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去抵挡那飞驰而过的车辆。到了中间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线处，爸爸手上又一用力，把我拽到了他的左侧。他那高大的身影又挡在了我的面前，我几乎看不到车辆从我的身边驶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哎，终于过来了！儿子，你以后无论如何都不能一个人单独过马路，太危险了，听见没有？”随着一声长叹，父亲的语气变得有些严厉起来。“嗯！”我点了点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时，我的心里暖洋洋的，因为我从爸爸的牵手中感受到了一个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开头小窍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．开门见山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每当听起妈妈好这首歌，我便不由自主的想起了我那爱我的妈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．引用诗句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有一首赞美母亲的诗：“慈母手中线，游子身上衣”，赞美母亲对子女无私、伟大的爱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．抒发感情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我感谢母亲，母亲生我养我，含辛茹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结尾的小窍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．表达心情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：让我用最温柔的心情，拥抱妈妈，告诉她：“妈妈，我爱你！”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．画龙点睛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：母爱是伟大的，母爱是无私的，母爱是无微不至的，母爱是值得敬佩的。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．抒情总结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：母爱是甘霖，它可以滋润我们的心田；母爱是清泉，它可以抚平我们心上的伤口。如果你没有用心感受母亲对我们的爱，就太对不起母亲这两个无私的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词语积累站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怀体贴    精神饱满    欢声笑语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幸福美满    伤心落泪   其乐融融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兴高采烈    泣不成声   争论不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微不至    语无伦次   和蔼可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嘘寒问暖    热泪盈眶   望子成龙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牵肠挂肚    苦口婆心   亲密无间            心意相通     雪中送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1628640"/>
            <a:ext cx="53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看到这里，你想起了什么？你想说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200606051721463784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a50021"/>
                </a:solidFill>
                <a:latin typeface="楷体"/>
                <a:ea typeface="楷体"/>
              </a:rPr>
              <a:t>父 母 的 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836640"/>
            <a:ext cx="8135640" cy="496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胃口不好不想吃饭时，妈妈（爸爸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犯错时，妈妈（爸爸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学骑车想放弃时，妈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爸爸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有了一点进步时，妈妈（爸爸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妈妈（爸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534520" y="6095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457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记得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有一天晚上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990099"/>
                </a:solidFill>
                <a:latin typeface="黑体"/>
                <a:ea typeface="黑体"/>
              </a:rPr>
              <a:t>我在做作业，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突然被一道很难的数学题给困住了，是妈妈绞尽脑汁想啊想，想了很长时间，想出来了再告诉我这道题是什么意思，我听不懂就再给我讲一遍，直到我听懂了为止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此时，妈妈就是我困难中的一根拐杖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274680"/>
            <a:ext cx="843588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还有一次，妈妈有事出去，我不想一人在家，吵着也要跟着。我让妈妈先走，随后就追上去。可我看见妈妈在不远处停住了，因为我曾经和妈妈说过，那家有一只小狗追过我好几次，我特别害怕，所以妈妈在那儿等我。虽然是一件小事，但我却深深地体会到妈妈对我无私的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记得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有一天晚上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990099"/>
                </a:solidFill>
                <a:latin typeface="黑体"/>
                <a:ea typeface="黑体"/>
              </a:rPr>
              <a:t>我在做作业，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突然被一道很难的数学题给困住了，是妈妈绞尽脑汁想啊想，想了很长时间，想出来了再告诉我这道题是什么意思，我听不懂就再给我讲一遍，直到我听懂了为止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此时，妈妈就是我困难中的一根拐杖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274680"/>
            <a:ext cx="843588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还有一次，妈妈有事出去，我不想一人在家，吵着也要跟着。我让妈妈先走，随后就追上去。可我看见妈妈在不远处停住了，因为我曾经和妈妈说过，那家有一只小狗追过我好几次，我特别害怕，所以妈妈在那儿等我。虽然是一件小事，但我却深深地体会到妈妈对我无私的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5280" y="333360"/>
            <a:ext cx="83628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母爱是伟大的，母亲也是伟大的。我们应该回报自己的母亲，用自己的实际行动和努力感谢自己的母亲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345960"/>
            <a:ext cx="80802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习作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一两件事，写写父母对自己的爱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写发生在自己和父母之间感人的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表达真情实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习作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开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述父母对自己的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一两件最能体现父母对自己的爱的事情。（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起因、经过、结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结尾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概括父母的爱，表达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记得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有一天晚上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990099"/>
                </a:solidFill>
                <a:latin typeface="黑体"/>
                <a:ea typeface="黑体"/>
              </a:rPr>
              <a:t>我在做作业，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突然被一道很难的数学题给困住了，是妈妈绞尽脑汁想啊想，想了很长时间，想出来了再告诉我这道题是什么意思，我听不懂就再给我讲一遍，直到我听懂了为止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此时，妈妈就是我困难中的一根拐杖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274680"/>
            <a:ext cx="843588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还有一次，妈妈有事出去，我不想一人在家，吵着也要跟着。我让妈妈先走，随后就追上去。可我看见妈妈在不远处停住了，因为我曾经和妈妈说过，那家有一只小狗追过我好几次，我特别害怕，所以妈妈在那儿等我。虽然是一件小事，但我却深深地体会到妈妈对我无私的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333360"/>
            <a:ext cx="83628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母爱是伟大的，母亲也是伟大的。我们应该回报自己的母亲，用自己的实际行动和努力感谢自己的母亲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45960"/>
            <a:ext cx="80802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习作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一两件事，写写父母对自己的爱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写发生在自己和父母之间感人的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表达真情实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习作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开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述父母对自己的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一两件最能体现父母对自己的爱的事情。（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起因、经过、结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结尾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概括父母的爱，表达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0" y="3424320"/>
            <a:ext cx="4572000" cy="343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424720" y="61387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9.0)">
                                      <p:cBhvr>
                                        <p:cTn id="6" dur="20048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910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624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还有一次，是在去年夏天的一个傍晚，好端端的天突然下起雨来，越下越大，放学了，眼看着同学们一个个都被家长接走了，我不禁焦急起来，爸妈正在上班，爷爷奶奶离学校太远，这该怎么办呢？突然，一个熟悉的身影映入了我的眼帘，是妈妈吗？我心中盼望着，果然是妈妈走到我身边，对我说：“思慧，回家吧！”说着便拉我上车回家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910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7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我想说：母爱是一束鲜花，带来芳香；母爱是一阵清风，吹去炎热；母爱是一株大树，遮挡烈日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26028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结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11280" y="907920"/>
            <a:ext cx="331308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我想写到最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2781360"/>
            <a:ext cx="439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开  头 不  知 怎么  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http_imgload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32000" y="1052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雅，怎么还在看电视啊，还不快去写作业？一会儿再看看作文书去！”听！“河东狮吼”又开始了。我的眉头紧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…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1890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Arial"/>
                <a:ea typeface="黑体"/>
              </a:rPr>
              <a:t>开门见山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51200" y="4508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Arial"/>
                <a:ea typeface="黑体"/>
              </a:rPr>
              <a:t>倒叙开头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5759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说到父母的爱，我不禁想起去年我过生日的事情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-1188360" y="1592640"/>
            <a:ext cx="3456000" cy="107964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Arial"/>
              </a:rPr>
              <a:t>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Arial"/>
              </a:rPr>
              <a:t>头</a:t>
            </a:r>
            <a:br>
              <a:rPr sz="2000"/>
            </a:b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记得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有一天晚上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990099"/>
                </a:solidFill>
                <a:latin typeface="黑体"/>
                <a:ea typeface="黑体"/>
              </a:rPr>
              <a:t>我在做作业，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突然被一道很难的数学题给困住了，是妈妈绞尽脑汁想啊想，想了很长时间，想出来了再告诉我这道题是什么意思，我听不懂就再给我讲一遍，直到我听懂了为止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此时，妈妈就是我困难中的一根拐杖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274680"/>
            <a:ext cx="843588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还有一次，妈妈有事出去，我不想一人在家，吵着也要跟着。我让妈妈先走，随后就追上去。可我看见妈妈在不远处停住了，因为我曾经和妈妈说过，那家有一只小狗追过我好几次，我特别害怕，所以妈妈在那儿等我。虽然是一件小事，但我却深深地体会到妈妈对我无私的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5280" y="333360"/>
            <a:ext cx="83628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母爱是伟大的，母亲也是伟大的。我们应该回报自己的母亲，用自己的实际行动和努力感谢自己的母亲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345960"/>
            <a:ext cx="80802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习作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一两件事，写写父母对自己的爱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写发生在自己和父母之间感人的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表达真情实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习作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开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述父母对自己的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一两件最能体现父母对自己的爱的事情。（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起因、经过、结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结尾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概括父母的爱，表达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爸爸妈妈疼爱你的事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具体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给小组同学听听，做到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说真话，吐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① 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讲讲自己脑海中印象最深的人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② 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讲讲你感受最深的事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③ 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注意细节描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910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624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还有一次，是在去年夏天的一个傍晚，好端端的天突然下起雨来，越下越大，放学了，眼看着同学们一个个都被家长接走了，我不禁焦急起来，爸妈正在上班，爷爷奶奶离学校太远，这该怎么办呢？突然，一个熟悉的身影映入了我的眼帘，是妈妈吗？我心中盼望着，果然是妈妈走到我身边，对我说：“思慧，回家吧！”说着便拉我上车回家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910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7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我想说：母爱是一束鲜花，带来芳香；母爱是一阵清风，吹去炎热；母爱是一株大树，遮挡烈日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26028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结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http_imgload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19200" y="18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Arial"/>
                <a:ea typeface="黑体"/>
              </a:rPr>
              <a:t>引用材料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19011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唐朝诗人孟郊说的好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慈母手中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游子身上衣。临行密密缝，意恐迟迟归。谁言寸草心，报得三春晖。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3800" y="30686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Arial"/>
                <a:ea typeface="黑体"/>
              </a:rPr>
              <a:t>抒发情感开头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77720" y="4005360"/>
            <a:ext cx="19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父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如大海般深沉而宽广。</a:t>
            </a:r>
            <a:r>
              <a:rPr b="1" lang="zh-CN" sz="20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4869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世上有一种爱最伟大，那就是母爱！世上有一个人最值得我们回报，那就是妈妈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-1314720" y="1790640"/>
            <a:ext cx="3600360" cy="97164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Arial"/>
              </a:rPr>
              <a:t>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Arial"/>
              </a:rPr>
              <a:t>头</a:t>
            </a:r>
            <a:br>
              <a:rPr sz="2000"/>
            </a:b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1280" y="907920"/>
            <a:ext cx="331308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我想写到最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2852640"/>
            <a:ext cx="396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结  尾  也 不  好 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6920" y="907920"/>
            <a:ext cx="7704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看着妈妈眼角的皱纹，疲惫的身体，我不由得低下头认真地做起作业来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4390920"/>
            <a:ext cx="68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享受着爸爸妈妈给予我的爱，我真的感到好幸福！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1629720" y="299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结果交代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35772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首尾呼应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-1134000" y="2186640"/>
            <a:ext cx="3384360" cy="111600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尾</a:t>
            </a:r>
            <a:br>
              <a:rPr sz="2000"/>
            </a:b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8243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父母的爱是温暖的外套，时时刻刻温暖着我，我现在真想真诚地对爸爸妈妈说一声：我爱你们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4676040"/>
            <a:ext cx="81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的爸爸妈妈给我们付出了这么多，让我们做一个勤奋懂事又勤劳的好孩子，不辜负爸爸妈妈一片苦心，从力所能及的事做起。爱妈妈，就给她一个意外的惊喜；爱爸爸，就让他为你感到骄傲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87280" y="2708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启发激励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201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感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-1063080" y="1827720"/>
            <a:ext cx="3168720" cy="1042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尾</a:t>
            </a:r>
            <a:br>
              <a:rPr sz="2000"/>
            </a:br>
            <a:r>
              <a:rPr b="1" lang="zh-CN" sz="2000" spc="-1" strike="noStrike">
                <a:solidFill>
                  <a:srgbClr val="990099"/>
                </a:solidFill>
                <a:latin typeface="Arial"/>
              </a:rPr>
              <a:t>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伟大的母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我的妈妈虽然只有三十岁，可是显得比较苍老，身材不高，瘦长的脸很苍白，眼睛很大，可失去了光泽。她总是低着头，经常喘着气。这是她日夜操劳，才把身体累坏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爸爸去外地打工，妈妈白天既要做生意又要做家务，晚上还要辅导我写作业。真的，她太辛苦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有一次，我不小心被开水烫伤了脚，伤势较重，痛得我大哭不止。妈妈吓得脸色更加苍白，立刻把我背到医院治疗，回家还得照顾我，忙着买营养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我晚上睡觉时，脚一动，碰上被子就很痛，可是不盖被子又很冷。见到这情景，妈妈就坐在床上把我抱在怀里，用慈爱的目光望着我。我躺在妈妈的怀里感到特别暖和，觉得脚也不那么痛了，渐渐地进入梦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早上我睁开眼睛，发现妈妈还是那样抱着我，脸色更黑更瘦，眼里布满了红丝。我用手一摸妈妈的脸，冰冷冷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真想大声说：“妈妈呀，为了我您一夜没睡，我在您的怀里一直是暖暖的。”可是话还没说出口，两行热泪就顺着我的脸颊流了下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35280" y="105264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4659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妈妈的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妈妈没有华丽的衣服，也没有高档的化妆品，但是我的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有一双勤劳的手，有一颗善良的心。在学习中她教会我很多知识，给我无微不至的关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得一天夜里，我发烧了，特别难受。妈妈赶紧给我退烧药吃，然后端来一盆冷水，反复用毛巾给我敷脑门，还给我用酒精擦手心和脚心。妈妈一阵忙碌后，我感觉舒服多了。但是她却满头大汗。第二天早晨，我退烧了，妈妈一夜没有合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学习上妈妈对我要求十分严格。每天督促我完成作业，然后听写学习的生字。有时间的话还陪我一起读书。妈妈帮助我培养良好的学习习惯和生活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感谢我的好妈妈，我想对您说一声：妈妈，您辛苦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妈妈的关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慈母手中线，游子身上衣。临行密密缝，意恐迟迟归。谁言寸草心，报得三春晖。”一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游子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淋漓尽致地抒发了母爱的无私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得，有一次，我放学回家，感觉很累，就趴在沙发上玩车。妈妈回到家，看我不吭声，便关切地问，“你不舒服啦？”我有气无力地点点头。妈妈赶紧用手摸了摸我的头，说：“额头不烫，是肚子不舒服？”我说：“是。”妈妈说：“我给你按摩一下。”说完，她找出清凉油，用手沾了一点，涂在我肚皮上，然后轻轻地在我肚皮上按摩了一会儿。妈妈又说：“我去给你下碗面吃。”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过了一会儿，妈妈端来了一碗香喷喷的面，我刚吃了一口就吐了，吐得屋内一片狼藉。妈妈赶紧用拖把打扫干净，说，“小宝，我带你去医院。”说完，就用自行车把我载到医院。到了医院，妈妈挂完号，我们就耐心地排起队来。过了一个小时，终于轮到我们了，我们进了小屋，医生先问了我的病情，然后检查了一下我的身体，说：“是着凉了，吃些药就好了。”妈妈听了医生的话，悬着的心终于放了下来。在妈妈的细心呵护下，我的病逐渐好了起来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我就是这样在妈妈的关爱下幸福地成长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4"/>
          <p:cNvSpPr/>
          <p:nvPr/>
        </p:nvSpPr>
        <p:spPr>
          <a:xfrm>
            <a:off x="539640" y="476280"/>
            <a:ext cx="43200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755640" y="692280"/>
            <a:ext cx="43164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971640" y="907920"/>
            <a:ext cx="43164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755640" y="5229360"/>
            <a:ext cx="936720" cy="1008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1042920" y="6165720"/>
            <a:ext cx="43200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8172360" y="5805360"/>
            <a:ext cx="647640" cy="7207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0520" y="191628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  <a:ea typeface="楷体_GB2312"/>
              </a:rPr>
              <a:t>全班交流、评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妈妈，谢谢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是您哺育了我们，是您让我们有了一个温暖暖的家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小时候，您教我们学走路，您教我们学说话，您费尽了一切心思。我们不会忘记，您教我们自信、勇敢、守信。因此，您在我们的心目中是那样的高尚、伟大！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就拿我来说吧，也有不听话的时候，还经常向您做鬼脸、耍调皮。有的时候竟然能把妈妈气哭了，现在我才明白，妈妈做的对，是我们太任性，太顽皮。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72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得有一次，妈妈正在忙着的时候，手机突然响了，妈妈叫我给她拿手机，可是妈妈刚刚拖了地。地板有些滑，我没注意，一下子摔倒了。我当时没觉得疼，可是鲜血已经涌出来。我的妈呀！破了一个大口子。妈妈二话没说，背起我就往医院跑去，妈妈满头大汗，生怕我的伤口受风、感染。把衣服盖在我的身上。到了医院，经医生治疗、缝针，折腾了半个小时，我的伤治好了。紧张的妈妈都大汗淋淋，可见我的妈妈多么爱我呀！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妈妈，您太伟大了，您用自己的心血哺育我成长，妈妈我发自内心地说一声：“妈妈，谢谢您！”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记得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有一天晚上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990099"/>
                </a:solidFill>
                <a:latin typeface="黑体"/>
                <a:ea typeface="黑体"/>
              </a:rPr>
              <a:t>我在做作业，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突然被一道很难的数学题给困住了，是妈妈绞尽脑汁想啊想，想了很长时间，想出来了再告诉我这道题是什么意思，我听不懂就再给我讲一遍，直到我听懂了为止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此时，妈妈就是我困难中的一根拐杖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274680"/>
            <a:ext cx="843588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还有一次，妈妈有事出去，我不想一人在家，吵着也要跟着。我让妈妈先走，随后就追上去。可我看见妈妈在不远处停住了，因为我曾经和妈妈说过，那家有一只小狗追过我好几次，我特别害怕，所以妈妈在那儿等我。虽然是一件小事，但我却深深地体会到妈妈对我无私的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5280" y="333360"/>
            <a:ext cx="83628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母爱是伟大的，母亲也是伟大的。我们应该回报自己的母亲，用自己的实际行动和努力感谢自己的母亲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345960"/>
            <a:ext cx="80802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习作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一两件事，写写父母对自己的爱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写发生在自己和父母之间感人的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表达真情实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072720" cy="5805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268360" y="981000"/>
            <a:ext cx="4608720" cy="3606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00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父母的爱</a:t>
            </a:r>
            <a:endParaRPr b="1" lang="en-US" sz="8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4" name=""/>
          <p:cNvSpPr/>
          <p:nvPr/>
        </p:nvSpPr>
        <p:spPr>
          <a:xfrm>
            <a:off x="2916360" y="422100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 Black"/>
              </a:rPr>
              <a:t>习作指导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16360" y="55166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 Black"/>
              </a:rPr>
              <a:t>龙华中心校：刘艳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526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ff"/>
                </a:solidFill>
                <a:latin typeface="Arial"/>
              </a:rPr>
              <a:t>爸爸的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爸爸的爱，是什么呢？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爸爸带我出去玩，欢快的笑声传遍四方。爸爸的爱是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欢快的笑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天，我发高烧，爸爸看着虚弱的我，脸色变得苍白。爸爸的爱是担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当我考试没有考好时，爸爸总是微笑着说：“下次要考好。”　爸爸的爱是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会心而了， 体贴微笑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夏天天气热，家里没有空调，爸爸坐在我身边，手里拿着扇子，一次又一次地给我扇扇，我看见了，看见了一颗颗汗珠，从爸爸的头上滑落下来。爸爸的爱是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一阵阵清凉的风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当我做错了事，爸爸总会用严厉的目光盯着我，一直到我承认错误。爸爸的爱是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严厉的目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爸爸的爱还是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…  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就是爸爸的爱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3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3272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792600" cy="5472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3672000" cy="532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95280" y="6021360"/>
            <a:ext cx="360360" cy="5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345960"/>
            <a:ext cx="80802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写一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一两件事，写写父母对自己的爱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写发生在自己和父母之间感人的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表达真情实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032360" cy="6048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19640" cy="6335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067280" y="6381720"/>
            <a:ext cx="52236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744720" cy="6408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284720" y="476280"/>
            <a:ext cx="446400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79280" y="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zh-CN" sz="2400" spc="-1" strike="noStrike">
                <a:solidFill>
                  <a:srgbClr val="0066ff"/>
                </a:solidFill>
                <a:latin typeface="Arial Black"/>
              </a:rPr>
              <a:t>每当我听到：“世上只有妈妈好”这首歌时，我体会到的不光是母爱的伟大，还有父爱的温馨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 Black"/>
              </a:rPr>
              <a:t>     </a:t>
            </a:r>
            <a:r>
              <a:rPr b="1" lang="zh-CN" sz="2400" spc="-1" strike="noStrike">
                <a:solidFill>
                  <a:srgbClr val="0066ff"/>
                </a:solidFill>
                <a:latin typeface="Arial Black"/>
              </a:rPr>
              <a:t>记得有一次，因为天气反常我感冒了，还一直发高烧，体温高达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41</a:t>
            </a:r>
            <a:r>
              <a:rPr b="1" lang="zh-CN" sz="2400" spc="-1" strike="noStrike">
                <a:solidFill>
                  <a:srgbClr val="0066ff"/>
                </a:solidFill>
                <a:latin typeface="Arial Black"/>
              </a:rPr>
              <a:t>度左右，一直降不下来，吃退烧药也无济于事，爸爸都急坏了，束手无措，只好带我去医院看病，但是我又要上课，怕耽误学习。所以，爸爸又急急忙忙打电话给班主任老师请假。好不容易到了医院，可医院很挤，要排很长时间的队才能挂号。怎么办呢？于是，爸爸又飞快地带我到了一个私人门诊，这个门诊部里人也不少，好不容易轮到我了，医生在屁股上给我打一针退烧，很疼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!</a:t>
            </a:r>
            <a:r>
              <a:rPr b="1" lang="zh-CN" sz="2400" spc="-1" strike="noStrike">
                <a:solidFill>
                  <a:srgbClr val="0066ff"/>
                </a:solidFill>
                <a:latin typeface="Arial Black"/>
              </a:rPr>
              <a:t>眼泪都快要流出来了。爸爸安慰我：“要学会坚强。”我听了，真的不那么疼了。在我打点滴的时候，需要有人照顾我，爸爸只好请假不去上班。他一直坐在我身旁，一会儿给我倒水喝，一会儿又给我扇扇子。当我肚子饿了的时候，他就去给我买东西吃，当我手疼的时候，他就给我讲笑话，她的笑话，让我忘记了疼痛。在爸爸的精心呵护下，我的病很快就好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 Black"/>
              </a:rPr>
              <a:t>      </a:t>
            </a:r>
            <a:r>
              <a:rPr b="1" lang="zh-CN" sz="2400" spc="-1" strike="noStrike">
                <a:solidFill>
                  <a:srgbClr val="0066ff"/>
                </a:solidFill>
                <a:latin typeface="Arial Black"/>
              </a:rPr>
              <a:t>人们都说：“慈母严父”，而我却拥有这样一位比妈妈更温柔体贴、细致入微的慈父。我也想对爸爸唱一首歌：：“世上只有爸爸好”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12400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226456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习作提纲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开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述父母对自己的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一两件具体而有代表性的事例，体现父母对自己的爱。（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详写；注意抓住人物的动作、语言、神态、心理等来描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结尾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概括父母的爱，表达自己的感受</a:t>
            </a: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（真情实感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3311640" cy="6120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525636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继续完善修改自己的习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回家后主动帮爸妈做些力       所能及的家务活，回报父母对自己的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429" t="0" r="0" b="0"/>
          <a:stretch/>
        </p:blipFill>
        <p:spPr>
          <a:xfrm>
            <a:off x="3203640" y="-963720"/>
            <a:ext cx="11479320" cy="999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45964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89489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习作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开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述父母对自己的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一两件具体而有代表性的事例，体现父母对自己的爱。（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起因、经过、结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结尾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概括父母的爱，表达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牵手中的“爱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马路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车来车往，十字路口，更是险象环生。听着耳畔尖锐的车鸣，看着眼前一晃而过的车影，爸爸不觉皱起了眉头，我也不禁心惊胆战。但此处就是没有红绿灯，连斑马线也变得模糊不清了。怎么办？趁着几个“勇者闯关”的时机，我们也加入了冲过马路的行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爸爸牵着我的手似乎攥紧了不少，他让我紧紧地靠在他的右侧，好像要用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0:14:42Z</dcterms:created>
  <dc:creator>未知用户</dc:creator>
  <dc:description/>
  <dc:language>en-US</dc:language>
  <cp:lastModifiedBy>User</cp:lastModifiedBy>
  <dcterms:modified xsi:type="dcterms:W3CDTF">2014-04-19T13:42:37Z</dcterms:modified>
  <cp:revision>108</cp:revision>
  <dc:subject/>
  <dc:title>父母的爱</dc:title>
</cp:coreProperties>
</file>