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15.jpeg" ContentType="image/jpeg"/>
  <Override PartName="/ppt/media/image24.wmf" ContentType="image/x-wmf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9.wmf" ContentType="image/x-wmf"/>
  <Override PartName="/ppt/media/image10.jpeg" ContentType="image/jpeg"/>
  <Override PartName="/ppt/media/image8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chimes.wav" ContentType="audio/x-wav"/>
  <Override PartName="/ppt/media/image16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7.jpeg" ContentType="image/jpeg"/>
  <Override PartName="/ppt/media/image28.wmf" ContentType="image/x-wmf"/>
  <Override PartName="/ppt/media/image3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26.wmf" ContentType="image/x-wmf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4988-3C19-4DEA-9A20-8F8FA1EB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6F6-5B56-424B-A360-6B1405EB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F910-C871-4410-8E3F-CFA3924D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B39D-BC03-4230-B519-70FB2C61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E85C-910C-4F8B-A75B-8FA1798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3B6-1568-488D-AAE3-C34C81AC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C20-BC3F-4A31-911F-51AAA0F6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7C2-658E-4792-8771-01116E2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A9C-65E8-40B8-B038-FC174145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601-EAD9-4739-ACF0-47927897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6272-A63A-429D-9859-119A1A25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7D7-D338-45FF-88D2-FBBE8440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09DA-4949-452E-A9C6-2F9631C5E8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40644;&#39321;&#28201;&#24109;.flv" TargetMode="External"/><Relationship Id="rId2" Type="http://schemas.openxmlformats.org/officeDocument/2006/relationships/hyperlink" Target="file:///&#40644;&#39321;&#28201;&#24109;.flv" TargetMode="External"/><Relationship Id="rId3" Type="http://schemas.openxmlformats.org/officeDocument/2006/relationships/hyperlink" Target="file:///&#40644;&#39321;&#28201;&#24109;.fl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990720" y="182880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感恩母亲</a:t>
            </a:r>
            <a:r>
              <a:rPr b="1" i="1" lang="en-US" sz="8800" spc="-1" strike="noStrike">
                <a:solidFill>
                  <a:srgbClr val="ff0000"/>
                </a:solidFill>
                <a:latin typeface="楷体"/>
                <a:ea typeface="楷体"/>
              </a:rPr>
              <a:t>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楷体"/>
                <a:ea typeface="楷体"/>
              </a:rPr>
              <a:t>妈妈，真好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495680" y="5867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一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Bandari - Snowdreams.mp3" descr=""/>
          <p:cNvPicPr/>
          <p:nvPr/>
        </p:nvPicPr>
        <p:blipFill>
          <a:blip r:embed="rId2"/>
          <a:stretch/>
        </p:blipFill>
        <p:spPr>
          <a:xfrm>
            <a:off x="0" y="60199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孝”之经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身体发肤，受之父母，不敢毁伤，孝之始也。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孝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父母之所爱亦爱之，父母之所敬亦敬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子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老吾老，以及人之老；幼吾幼，以及人之幼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孟子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惟孝顺父母，可以解忧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孟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搜狗截图_2012-05-12_22-49-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卓依婷 - 烛光里的妈妈.mp3" descr=""/>
          <p:cNvPicPr/>
          <p:nvPr/>
        </p:nvPicPr>
        <p:blipFill>
          <a:blip r:embed="rId2"/>
          <a:stretch/>
        </p:blipFill>
        <p:spPr>
          <a:xfrm>
            <a:off x="79246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8274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“孝”的故事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——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黄香温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914400" y="2057400"/>
            <a:ext cx="7391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"/>
          <p:cNvSpPr/>
          <p:nvPr/>
        </p:nvSpPr>
        <p:spPr>
          <a:xfrm>
            <a:off x="0" y="3033720"/>
            <a:ext cx="9448920" cy="1739880"/>
          </a:xfrm>
          <a:prstGeom prst="rect">
            <a:avLst/>
          </a:prstGeom>
          <a:solidFill>
            <a:srgbClr val="e5c7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 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在中国的古书上，有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香九龄，能温席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的记载。讲的是我国古代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黄香温席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的故事。 黄香小时候，家中生活很艰苦。在他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9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岁时，母亲就去世了。黄香非常悲伤。他本就非常孝敬父母， 在母亲生病期间，小黄香一直不离左右，守护在妈妈的病床前，母亲去世后，他对父亲更加关心、照顾， 尽量让父亲少操心。 冬夜里，天气特别寒冷。那时，农户家里又没有任何取暖的设备，确实很难入睡。一天，黄香晚上读 书时，感到特别冷，捧着书卷的手一会就冰凉冰凉的了。他想，这么冷的天气，爸爸一定很冷，他老人家 白天干了一天的活，晚上还不能好好地睡觉。想到这里，小黄香心里很不安。为让父亲少挨冷受冻，他读 完书便悄悄走进父亲的房里，给他铺好被，然后脱了衣服，钻进父亲的被窜里，用自己的体温，温暖了冰 冷的被窝之后，才招呼父亲睡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黄香用自己的孝敬之心，暖了父亲的心。就这样传开 了街坊邻居人人夸奖黄香。 夏天到了，黄香家低矮的房子显得格外闷热，而且蚊蝇很多。到了晚上，大家都在院里乘凉，尽管每 人都不停地摇着手中的蒲扇，可仍不觉得凉快，入夜了，大家也都困了，准备睡觉去了，这时，大家才发 现小黄香一直没有在这里。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香儿，香儿。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父亲忙提高嗓门喊他，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爸爸，我在这儿呢。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说着，黄香从父亲的房中走出来。满头的汗，手里还拿着一把大蒲扇。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你干什么呢，怪热的天气，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爸爸心疼地说。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屋里太热，蚊子又多，我用扇子使劲一扇，蚊虫就跑了，屋子也显得凉快些，您好睡觉。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黄香说。 爸爸紧紧地搂住黄香，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我的好孩子，可你自己却出了一身汗呀！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以后，黄香为了让父亲休息好，晚饭后，总是拿着扇了，把蚊蝇扇跑，还要扇凉父亲睡觉的床和枕头， 使劳累了一天的父亲，早些入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    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9 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岁的小黄香就是这样孝敬父亲，人称扇温席的黄香，天下无双，他长大以后，人们说：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能孝敬父母 的人，也一定懂得爱百姓，爱自己的国家。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555555"/>
                </a:solidFill>
                <a:latin typeface="Arial"/>
              </a:rPr>
              <a:t>事情正是这样，黄香后来做了地方官，果然不负众望，为当 地老百姓做了不少好事，他孝敬父母的故事，也千古流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7_3_4_20_27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4876920" y="762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i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孝”的古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9714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这首简单的诗只是通过一个很普通的场景，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写了母亲为将出远门的儿子缝衣。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其实在这表现了慈母的一片不舍之情。</a:t>
            </a:r>
            <a:br>
              <a:rPr sz="2400"/>
            </a:br>
            <a:r>
              <a:rPr b="1" lang="zh-CN" sz="2400" spc="-1" strike="noStrike">
                <a:solidFill>
                  <a:srgbClr val="333399"/>
                </a:solidFill>
                <a:latin typeface="楷体"/>
                <a:ea typeface="楷体"/>
              </a:rPr>
              <a:t>母爱往往是在日常生活中最细致的地方流露出来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游子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慈母手中线，游子身上衣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临行密密缝，意恐迟迟归。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谁言寸草心，报得三春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79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悠 悠 寸 草 心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感恩母亲的一封信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亲爱的妈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您好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今天是母亲节，在这个特殊的日子里，我想对您说：“妈妈，谢谢您！”感谢您把我带到这个世界上来，感谢您陪伴着我，从呀呀学语一路走来。在我获得成功时，您为我高兴；当我遇到挫折时，您鼓励我；当我受到委屈时，您安慰我……您对我的照顾总是那么无微不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记得您出差回来的那天晚上，我吵着说：“我明天不想去外面吃早点，要在家里吃。”第二天早上，我很早就睁开了眼睛，看了一下闹钟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。还很早，我还想再睡一会儿。在迷迷糊糊中听到厨房传来锅碗的响声，我顿时睡意全无，起床来到厨房，只见妈妈在厨房里忙着什么，我走到妈妈身边轻声地问：“妈妈，您这么早起来干嘛？”妈妈说：“你不是说不想吃外面的早点吗？我在帮你做千层饼，现在还早，要不你再睡一会儿？”看着妈妈忙碌的背影，我的眼睛湿润了。等我刷完牙洗完脸，换好衣服，妈妈已经把一盘香喷喷的葱油千层饼端上了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Bandari - Snowdreams.mp3" descr=""/>
          <p:cNvPicPr/>
          <p:nvPr/>
        </p:nvPicPr>
        <p:blipFill>
          <a:blip r:embed="rId2"/>
          <a:stretch/>
        </p:blipFill>
        <p:spPr>
          <a:xfrm>
            <a:off x="838188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29384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80880" y="4568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就在前几天的一个中午，奶奶叫我没什么事就去背演讲稿，我却说要睡觉；爸爸叫我去睡觉，我又说睡不着。您知道了，没有批评我，而是语重心长地对我说：“刘轩晔，你已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岁了，妈妈只想对你说，妈妈就像是一个零，爸爸也是一个零，你身边所有的人都只是一个零。而你自己就是排在最前面的那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如果你这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努力地站起来，那么就算有再多的零为你付出也还是零。这个道理你能明白吗？”从您的话语中，我突然觉得自己长大了，我想以后我再也不会犯同样的错误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亲爱的妈妈！感谢您一直以来对我的关爱。“谁言寸草心，报得三春晖”。妈妈，将来我一定会报答您的，做一个有用的人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祝：妈妈天天开心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Bandari - Snowdreams.mp3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9384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3435965040708281064"/>
          <p:cNvPicPr/>
          <p:nvPr/>
        </p:nvPicPr>
        <p:blipFill>
          <a:blip r:embed="rId1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1242000256356"/>
          <p:cNvPicPr/>
          <p:nvPr/>
        </p:nvPicPr>
        <p:blipFill>
          <a:blip r:embed="rId2"/>
          <a:stretch/>
        </p:blipFill>
        <p:spPr>
          <a:xfrm>
            <a:off x="0" y="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搜狗截图_2012-05-12_22-49-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3733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多时候，也许我们在做错事的时候，妈妈总是会用严厉的语言批评我们，甚至不小心打了我们。那个时候，我们也千万不要讨厌她，要从自己身上找原因，是不是自己真的做错了。她们所做的一切都是处于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36"/>
          <p:cNvPicPr/>
          <p:nvPr/>
        </p:nvPicPr>
        <p:blipFill>
          <a:blip r:embed="rId1"/>
          <a:stretch/>
        </p:blipFill>
        <p:spPr>
          <a:xfrm>
            <a:off x="4343400" y="1219320"/>
            <a:ext cx="43513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有一个人，她永远占据你心里最柔软的地方，你愿用自己的一生去爱她；有一种爱，她让你肆意的索取，享 用，却不要你任何回报……这个人叫母亲，这种爱叫“母爱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04920" y="3670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73"/>
                </a:solidFill>
                <a:latin typeface="Arial"/>
                <a:ea typeface="宋体"/>
              </a:rPr>
              <a:t>母爱是伟大的，也是无私的，它沉浸于万物之中，充盈于天地之间。有了母爱，才有了生命的开始；有了母爱，才有了历史的延续；有了母爱，才有了理性的萌动；有了母爱，才有了人性的回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5232240" y="4106520"/>
            <a:ext cx="7394400" cy="4448520"/>
            <a:chOff x="5232240" y="4106520"/>
            <a:chExt cx="7394400" cy="4448520"/>
          </a:xfrm>
        </p:grpSpPr>
        <p:sp>
          <p:nvSpPr>
            <p:cNvPr id="86" name="弧形 21"/>
            <p:cNvSpPr/>
            <p:nvPr/>
          </p:nvSpPr>
          <p:spPr>
            <a:xfrm>
              <a:off x="5232240" y="5126040"/>
              <a:ext cx="3429000" cy="3429000"/>
            </a:xfrm>
            <a:custGeom>
              <a:avLst/>
              <a:gdLst>
                <a:gd name="textAreaLeft" fmla="*/ 3225600 w 3429000"/>
                <a:gd name="textAreaRight" fmla="*/ 3429360 w 3429000"/>
                <a:gd name="textAreaTop" fmla="*/ 90432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429078" h="3429417">
                  <a:moveTo>
                    <a:pt x="3225573" y="904431"/>
                  </a:moveTo>
                  <a:lnTo>
                    <a:pt x="3225573" y="904430"/>
                  </a:lnTo>
                  <a:cubicBezTo>
                    <a:pt x="3359168" y="1153612"/>
                    <a:pt x="3429078" y="1431966"/>
                    <a:pt x="3429078" y="1714708"/>
                  </a:cubicBezTo>
                  <a:cubicBezTo>
                    <a:pt x="3429078" y="1714709"/>
                    <a:pt x="3429077" y="1714710"/>
                    <a:pt x="3429077" y="1714711"/>
                  </a:cubicBezTo>
                  <a:lnTo>
                    <a:pt x="1714539" y="1714709"/>
                  </a:lnTo>
                  <a:close/>
                </a:path>
                <a:path fill="none" w="3429078" h="3429417">
                  <a:moveTo>
                    <a:pt x="3225573" y="904431"/>
                  </a:moveTo>
                  <a:lnTo>
                    <a:pt x="3225573" y="904430"/>
                  </a:lnTo>
                  <a:cubicBezTo>
                    <a:pt x="3359168" y="1153612"/>
                    <a:pt x="3429078" y="1431966"/>
                    <a:pt x="3429078" y="1714708"/>
                  </a:cubicBezTo>
                  <a:cubicBezTo>
                    <a:pt x="3429078" y="1714709"/>
                    <a:pt x="3429077" y="1714710"/>
                    <a:pt x="3429077" y="1714711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弧形 22"/>
            <p:cNvSpPr/>
            <p:nvPr/>
          </p:nvSpPr>
          <p:spPr>
            <a:xfrm flipH="1" rot="20400000">
              <a:off x="8714160" y="4589280"/>
              <a:ext cx="3429000" cy="3429000"/>
            </a:xfrm>
            <a:custGeom>
              <a:avLst/>
              <a:gdLst>
                <a:gd name="textAreaLeft" fmla="*/ 3115080 w 3429000"/>
                <a:gd name="textAreaRight" fmla="*/ 3429000 w 3429000"/>
                <a:gd name="textAreaTop" fmla="*/ 72576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429078" h="3429417">
                  <a:moveTo>
                    <a:pt x="3115449" y="726129"/>
                  </a:moveTo>
                  <a:lnTo>
                    <a:pt x="3115448" y="726129"/>
                  </a:lnTo>
                  <a:cubicBezTo>
                    <a:pt x="3319522" y="1015377"/>
                    <a:pt x="3429078" y="1360704"/>
                    <a:pt x="3429078" y="1714709"/>
                  </a:cubicBezTo>
                  <a:cubicBezTo>
                    <a:pt x="3429078" y="1714710"/>
                    <a:pt x="3429077" y="1714711"/>
                    <a:pt x="3429077" y="1714712"/>
                  </a:cubicBezTo>
                  <a:lnTo>
                    <a:pt x="1714539" y="1714709"/>
                  </a:lnTo>
                  <a:close/>
                </a:path>
                <a:path fill="none" w="3429078" h="3429417">
                  <a:moveTo>
                    <a:pt x="3115449" y="726129"/>
                  </a:moveTo>
                  <a:lnTo>
                    <a:pt x="3115448" y="726129"/>
                  </a:lnTo>
                  <a:cubicBezTo>
                    <a:pt x="3319522" y="1015377"/>
                    <a:pt x="3429078" y="1360704"/>
                    <a:pt x="3429078" y="1714709"/>
                  </a:cubicBezTo>
                  <a:cubicBezTo>
                    <a:pt x="3429078" y="1714710"/>
                    <a:pt x="3429077" y="1714711"/>
                    <a:pt x="3429077" y="1714712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心形 23"/>
            <p:cNvSpPr/>
            <p:nvPr/>
          </p:nvSpPr>
          <p:spPr>
            <a:xfrm rot="780000">
              <a:off x="8622720" y="5462640"/>
              <a:ext cx="423720" cy="423720"/>
            </a:xfrm>
            <a:custGeom>
              <a:avLst/>
              <a:gdLst>
                <a:gd name="textAreaLeft" fmla="*/ 70560 w 423720"/>
                <a:gd name="textAreaRight" fmla="*/ 353160 w 423720"/>
                <a:gd name="textAreaTop" fmla="*/ 105840 h 423720"/>
                <a:gd name="textAreaBottom" fmla="*/ 282600 h 423720"/>
              </a:gdLst>
              <a:ahLst/>
              <a:rect l="textAreaLeft" t="textAreaTop" r="textAreaRight" b="textAreaBottom"/>
              <a:pathLst>
                <a:path w="423873" h="423914">
                  <a:moveTo>
                    <a:pt x="211937" y="105979"/>
                  </a:moveTo>
                  <a:cubicBezTo>
                    <a:pt x="300243" y="-141305"/>
                    <a:pt x="644640" y="105979"/>
                    <a:pt x="211937" y="423914"/>
                  </a:cubicBezTo>
                  <a:cubicBezTo>
                    <a:pt x="-220767" y="105979"/>
                    <a:pt x="123630" y="-141305"/>
                    <a:pt x="211937" y="10597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08eaa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心形 24"/>
            <p:cNvSpPr/>
            <p:nvPr/>
          </p:nvSpPr>
          <p:spPr>
            <a:xfrm rot="20580000">
              <a:off x="8205480" y="5742000"/>
              <a:ext cx="357120" cy="357120"/>
            </a:xfrm>
            <a:custGeom>
              <a:avLst/>
              <a:gdLst>
                <a:gd name="textAreaLeft" fmla="*/ 59400 w 357120"/>
                <a:gd name="textAreaRight" fmla="*/ 297720 w 357120"/>
                <a:gd name="textAreaTop" fmla="*/ 89280 h 357120"/>
                <a:gd name="textAreaBottom" fmla="*/ 237960 h 357120"/>
              </a:gdLst>
              <a:ahLst/>
              <a:rect l="textAreaLeft" t="textAreaTop" r="textAreaRight" b="textAreaBottom"/>
              <a:pathLst>
                <a:path w="357195" h="357230">
                  <a:moveTo>
                    <a:pt x="178598" y="89308"/>
                  </a:moveTo>
                  <a:cubicBezTo>
                    <a:pt x="253013" y="-119077"/>
                    <a:pt x="543234" y="89308"/>
                    <a:pt x="178598" y="357230"/>
                  </a:cubicBezTo>
                  <a:cubicBezTo>
                    <a:pt x="-186039" y="89308"/>
                    <a:pt x="104182" y="-119077"/>
                    <a:pt x="178598" y="89308"/>
                  </a:cubicBezTo>
                  <a:close/>
                </a:path>
              </a:pathLst>
            </a:custGeom>
            <a:solidFill>
              <a:srgbClr val="f08eaa"/>
            </a:solidFill>
            <a:ln w="25560">
              <a:solidFill>
                <a:srgbClr val="f08eaa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图片 19" descr="MC900287020.WMF"/>
          <p:cNvPicPr/>
          <p:nvPr/>
        </p:nvPicPr>
        <p:blipFill>
          <a:blip r:embed="rId1"/>
          <a:stretch/>
        </p:blipFill>
        <p:spPr>
          <a:xfrm>
            <a:off x="7358040" y="2357280"/>
            <a:ext cx="1416240" cy="2435400"/>
          </a:xfrm>
          <a:prstGeom prst="rect">
            <a:avLst/>
          </a:prstGeom>
          <a:ln w="0">
            <a:noFill/>
          </a:ln>
        </p:spPr>
      </p:pic>
      <p:pic>
        <p:nvPicPr>
          <p:cNvPr id="91" name="矩形 1" descr=""/>
          <p:cNvPicPr/>
          <p:nvPr/>
        </p:nvPicPr>
        <p:blipFill>
          <a:blip r:embed="rId2"/>
          <a:stretch/>
        </p:blipFill>
        <p:spPr>
          <a:xfrm>
            <a:off x="0" y="3200400"/>
            <a:ext cx="8783640" cy="14619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5" descr="小女孩1.WMF"/>
          <p:cNvPicPr/>
          <p:nvPr/>
        </p:nvPicPr>
        <p:blipFill>
          <a:blip r:embed="rId3"/>
          <a:stretch/>
        </p:blipFill>
        <p:spPr>
          <a:xfrm>
            <a:off x="7746840" y="3857760"/>
            <a:ext cx="1254240" cy="1722240"/>
          </a:xfrm>
          <a:prstGeom prst="rect">
            <a:avLst/>
          </a:prstGeom>
          <a:ln w="0">
            <a:noFill/>
          </a:ln>
        </p:spPr>
      </p:pic>
      <p:pic>
        <p:nvPicPr>
          <p:cNvPr id="93" name="图片 9" descr="小女孩心.WMF"/>
          <p:cNvPicPr/>
          <p:nvPr/>
        </p:nvPicPr>
        <p:blipFill>
          <a:blip r:embed="rId4"/>
          <a:stretch/>
        </p:blipFill>
        <p:spPr>
          <a:xfrm>
            <a:off x="1643040" y="4357800"/>
            <a:ext cx="1355760" cy="17668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2" descr="心型巧克力气球.WMF"/>
          <p:cNvPicPr/>
          <p:nvPr/>
        </p:nvPicPr>
        <p:blipFill>
          <a:blip r:embed="rId5"/>
          <a:stretch/>
        </p:blipFill>
        <p:spPr>
          <a:xfrm>
            <a:off x="71280" y="4357800"/>
            <a:ext cx="785880" cy="17715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7" descr="小男孩心.WMF"/>
          <p:cNvPicPr/>
          <p:nvPr/>
        </p:nvPicPr>
        <p:blipFill>
          <a:blip r:embed="rId6"/>
          <a:stretch/>
        </p:blipFill>
        <p:spPr>
          <a:xfrm>
            <a:off x="5929200" y="4143240"/>
            <a:ext cx="1603440" cy="180504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13"/>
          <p:cNvGrpSpPr/>
          <p:nvPr/>
        </p:nvGrpSpPr>
        <p:grpSpPr>
          <a:xfrm>
            <a:off x="0" y="6572160"/>
            <a:ext cx="9144000" cy="285840"/>
            <a:chOff x="0" y="6572160"/>
            <a:chExt cx="9144000" cy="285840"/>
          </a:xfrm>
        </p:grpSpPr>
        <p:sp>
          <p:nvSpPr>
            <p:cNvPr id="97" name="矩形 13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solidFill>
              <a:srgbClr val="f08eaa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矩形 14"/>
            <p:cNvSpPr/>
            <p:nvPr/>
          </p:nvSpPr>
          <p:spPr>
            <a:xfrm>
              <a:off x="0" y="6572160"/>
              <a:ext cx="9144000" cy="285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49adf"/>
                </a:gs>
              </a:gsLst>
              <a:lin ang="5400000"/>
            </a:gra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8" descr="小女孩4.WMF"/>
          <p:cNvPicPr/>
          <p:nvPr/>
        </p:nvPicPr>
        <p:blipFill>
          <a:blip r:embed="rId7"/>
          <a:stretch/>
        </p:blipFill>
        <p:spPr>
          <a:xfrm>
            <a:off x="0" y="4857840"/>
            <a:ext cx="1790640" cy="17604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6" descr="小男孩1.WMF"/>
          <p:cNvPicPr/>
          <p:nvPr/>
        </p:nvPicPr>
        <p:blipFill>
          <a:blip r:embed="rId8"/>
          <a:stretch/>
        </p:blipFill>
        <p:spPr>
          <a:xfrm>
            <a:off x="2928960" y="4857840"/>
            <a:ext cx="1514520" cy="17604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6" descr="小女孩2.WMF"/>
          <p:cNvPicPr/>
          <p:nvPr/>
        </p:nvPicPr>
        <p:blipFill>
          <a:blip r:embed="rId9"/>
          <a:stretch/>
        </p:blipFill>
        <p:spPr>
          <a:xfrm>
            <a:off x="4714920" y="4929120"/>
            <a:ext cx="1544760" cy="1681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9"/>
          <p:cNvSpPr/>
          <p:nvPr/>
        </p:nvSpPr>
        <p:spPr>
          <a:xfrm>
            <a:off x="1447920" y="228600"/>
            <a:ext cx="594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们能为母亲做的就是好好学习让她高兴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星期天把自己的衣服洗了让她喘口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有时间为她作顿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让她感到我们自己能照顾自己啦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我们出门找朋友玩的时候要让她放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这就是我们现阶段能为母亲所做的事情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感谢我们的母亲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感谢她给于我们的生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感谢她给予我们的关心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  <p:sndAc>
      <p:stSnd>
        <p:snd r:embed="rId10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33333E-006 L -0.00729 -0.62152 E">
                                      <p:cBhvr>
                                        <p:cTn id="17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7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1295280" y="2133720"/>
            <a:ext cx="6705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609480" y="304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0c0"/>
                </a:solidFill>
                <a:latin typeface="Arial"/>
              </a:rPr>
              <a:t>同学们，孝敬父母是中华民族的传统美德，有句话叫“百善孝为先”，孝敬父母是做人的最基本道理。其实父母并不需要我们轰轰烈烈的去为他们做什么大事，一句暖心的话语，一个真诚的祝福、一句温馨的问候、一朵普通的鲜花、一个贴身的拥抱，一个舒心的微笑，就足以让他们感到幸福。让我们从身边小事做起，以实际行动爱你的母亲，做一个令母亲骄傲的孩子</a:t>
            </a:r>
            <a:r>
              <a:rPr b="1" i="1" lang="en-US" sz="3600" spc="-1" strike="noStrike">
                <a:solidFill>
                  <a:srgbClr val="0070c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128494_094812088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矩形 3" descr=""/>
          <p:cNvPicPr/>
          <p:nvPr/>
        </p:nvPicPr>
        <p:blipFill>
          <a:blip r:embed="rId2"/>
          <a:stretch/>
        </p:blipFill>
        <p:spPr>
          <a:xfrm>
            <a:off x="-212760" y="1060560"/>
            <a:ext cx="10179000" cy="2030400"/>
          </a:xfrm>
          <a:prstGeom prst="rect">
            <a:avLst/>
          </a:prstGeom>
          <a:ln w="0">
            <a:noFill/>
          </a:ln>
        </p:spPr>
      </p:pic>
      <p:pic>
        <p:nvPicPr>
          <p:cNvPr id="107" name="儿歌 - 只要妈妈露笑脸.mp3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5" dur="16301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zh-CN" sz="4800" spc="-1" strike="noStrike">
                <a:solidFill>
                  <a:srgbClr val="7030a0"/>
                </a:solidFill>
                <a:latin typeface="Arial"/>
              </a:rPr>
              <a:t>课后作业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、对妈妈说：“妈妈，我爱你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、为妈妈做一件事（洗衣，捶背，洗碗，拖地板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……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1"/>
          <p:cNvSpPr/>
          <p:nvPr/>
        </p:nvSpPr>
        <p:spPr>
          <a:xfrm>
            <a:off x="228600" y="380880"/>
            <a:ext cx="8458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你入学的新书包有人给你拿，你雨中的花折伞有人给你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你爱吃的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三鲜馅有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给你包，你委屈的泪花有人给你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娘！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妈！这个人给了我生命，给我一个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管你走多远，无论你在干啥，到什么时候也离不开，咱的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你身在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乡住有人在牵挂，你回到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家里边有人沏热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你躺在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床上有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他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掉眼泪，你露出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那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笑容时有人乐开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娘！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妈，这个人给了我生命，给我一个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管你多富有，无论你官多大，到什么时候也不能忘，咱的妈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娘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这个人就是妈，这个人给了我生命，给我一个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不管你多富有，无论你官多大，到什么时候也不能忘，咱的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阎唯文 - 母亲.mp3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8060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MP900438876.JPG"/>
          <p:cNvPicPr/>
          <p:nvPr/>
        </p:nvPicPr>
        <p:blipFill>
          <a:blip r:embed="rId1">
            <a:grayscl/>
          </a:blip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3"/>
          <p:cNvGrpSpPr/>
          <p:nvPr/>
        </p:nvGrpSpPr>
        <p:grpSpPr>
          <a:xfrm>
            <a:off x="-2927520" y="4106880"/>
            <a:ext cx="7392960" cy="4448160"/>
            <a:chOff x="-2927520" y="4106880"/>
            <a:chExt cx="7392960" cy="4448160"/>
          </a:xfrm>
        </p:grpSpPr>
        <p:sp>
          <p:nvSpPr>
            <p:cNvPr id="50" name="弧形 8"/>
            <p:cNvSpPr/>
            <p:nvPr/>
          </p:nvSpPr>
          <p:spPr>
            <a:xfrm>
              <a:off x="-2927520" y="5126040"/>
              <a:ext cx="3428280" cy="3429000"/>
            </a:xfrm>
            <a:custGeom>
              <a:avLst/>
              <a:gdLst>
                <a:gd name="textAreaLeft" fmla="*/ 3224880 w 3428280"/>
                <a:gd name="textAreaRight" fmla="*/ 3428640 w 3428280"/>
                <a:gd name="textAreaTop" fmla="*/ 90432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429078" h="3429417">
                  <a:moveTo>
                    <a:pt x="3225573" y="904431"/>
                  </a:moveTo>
                  <a:lnTo>
                    <a:pt x="3225573" y="904430"/>
                  </a:lnTo>
                  <a:cubicBezTo>
                    <a:pt x="3359168" y="1153612"/>
                    <a:pt x="3429078" y="1431966"/>
                    <a:pt x="3429078" y="1714708"/>
                  </a:cubicBezTo>
                  <a:cubicBezTo>
                    <a:pt x="3429078" y="1714709"/>
                    <a:pt x="3429077" y="1714710"/>
                    <a:pt x="3429077" y="1714711"/>
                  </a:cubicBezTo>
                  <a:lnTo>
                    <a:pt x="1714539" y="1714709"/>
                  </a:lnTo>
                  <a:close/>
                </a:path>
                <a:path fill="none" w="3429078" h="3429417">
                  <a:moveTo>
                    <a:pt x="3225573" y="904431"/>
                  </a:moveTo>
                  <a:lnTo>
                    <a:pt x="3225573" y="904430"/>
                  </a:lnTo>
                  <a:cubicBezTo>
                    <a:pt x="3359168" y="1153612"/>
                    <a:pt x="3429078" y="1431966"/>
                    <a:pt x="3429078" y="1714708"/>
                  </a:cubicBezTo>
                  <a:cubicBezTo>
                    <a:pt x="3429078" y="1714709"/>
                    <a:pt x="3429077" y="1714710"/>
                    <a:pt x="3429077" y="1714711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弧形 9"/>
            <p:cNvSpPr/>
            <p:nvPr/>
          </p:nvSpPr>
          <p:spPr>
            <a:xfrm flipH="1" rot="20400000">
              <a:off x="553680" y="4589640"/>
              <a:ext cx="3428280" cy="3429000"/>
            </a:xfrm>
            <a:custGeom>
              <a:avLst/>
              <a:gdLst>
                <a:gd name="textAreaLeft" fmla="*/ 3114360 w 3428280"/>
                <a:gd name="textAreaRight" fmla="*/ 3428280 w 3428280"/>
                <a:gd name="textAreaTop" fmla="*/ 725760 h 3429000"/>
                <a:gd name="textAreaBottom" fmla="*/ 1714680 h 3429000"/>
              </a:gdLst>
              <a:ahLst/>
              <a:rect l="textAreaLeft" t="textAreaTop" r="textAreaRight" b="textAreaBottom"/>
              <a:pathLst>
                <a:path stroke="0" w="3429077" h="3429417">
                  <a:moveTo>
                    <a:pt x="3115448" y="726129"/>
                  </a:moveTo>
                  <a:lnTo>
                    <a:pt x="3115447" y="726129"/>
                  </a:lnTo>
                  <a:cubicBezTo>
                    <a:pt x="3319521" y="1015377"/>
                    <a:pt x="3429077" y="1360704"/>
                    <a:pt x="3429077" y="1714709"/>
                  </a:cubicBezTo>
                  <a:cubicBezTo>
                    <a:pt x="3429077" y="1714710"/>
                    <a:pt x="3429076" y="1714711"/>
                    <a:pt x="3429076" y="1714712"/>
                  </a:cubicBezTo>
                  <a:lnTo>
                    <a:pt x="1714539" y="1714709"/>
                  </a:lnTo>
                  <a:close/>
                </a:path>
                <a:path fill="none" w="3429077" h="3429417">
                  <a:moveTo>
                    <a:pt x="3115448" y="726129"/>
                  </a:moveTo>
                  <a:lnTo>
                    <a:pt x="3115447" y="726129"/>
                  </a:lnTo>
                  <a:cubicBezTo>
                    <a:pt x="3319521" y="1015377"/>
                    <a:pt x="3429077" y="1360704"/>
                    <a:pt x="3429077" y="1714709"/>
                  </a:cubicBezTo>
                  <a:cubicBezTo>
                    <a:pt x="3429077" y="1714710"/>
                    <a:pt x="3429076" y="1714711"/>
                    <a:pt x="3429076" y="1714712"/>
                  </a:cubicBezTo>
                </a:path>
              </a:pathLst>
            </a:cu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心形 10"/>
            <p:cNvSpPr/>
            <p:nvPr/>
          </p:nvSpPr>
          <p:spPr>
            <a:xfrm rot="780000">
              <a:off x="462960" y="5462280"/>
              <a:ext cx="422280" cy="423720"/>
            </a:xfrm>
            <a:custGeom>
              <a:avLst/>
              <a:gdLst>
                <a:gd name="textAreaLeft" fmla="*/ 70200 w 422280"/>
                <a:gd name="textAreaRight" fmla="*/ 352080 w 422280"/>
                <a:gd name="textAreaTop" fmla="*/ 105840 h 423720"/>
                <a:gd name="textAreaBottom" fmla="*/ 282600 h 423720"/>
              </a:gdLst>
              <a:ahLst/>
              <a:rect l="textAreaLeft" t="textAreaTop" r="textAreaRight" b="textAreaBottom"/>
              <a:pathLst>
                <a:path w="423872" h="423914">
                  <a:moveTo>
                    <a:pt x="211936" y="105979"/>
                  </a:moveTo>
                  <a:cubicBezTo>
                    <a:pt x="300243" y="-141305"/>
                    <a:pt x="644639" y="105979"/>
                    <a:pt x="211936" y="423914"/>
                  </a:cubicBezTo>
                  <a:cubicBezTo>
                    <a:pt x="-220767" y="105979"/>
                    <a:pt x="123629" y="-141305"/>
                    <a:pt x="211936" y="105979"/>
                  </a:cubicBez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a6a6a6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心形 11"/>
            <p:cNvSpPr/>
            <p:nvPr/>
          </p:nvSpPr>
          <p:spPr>
            <a:xfrm rot="20580000">
              <a:off x="46080" y="5742000"/>
              <a:ext cx="357120" cy="357120"/>
            </a:xfrm>
            <a:custGeom>
              <a:avLst/>
              <a:gdLst>
                <a:gd name="textAreaLeft" fmla="*/ 59400 w 357120"/>
                <a:gd name="textAreaRight" fmla="*/ 297720 w 357120"/>
                <a:gd name="textAreaTop" fmla="*/ 89280 h 357120"/>
                <a:gd name="textAreaBottom" fmla="*/ 237960 h 357120"/>
              </a:gdLst>
              <a:ahLst/>
              <a:rect l="textAreaLeft" t="textAreaTop" r="textAreaRight" b="textAreaBottom"/>
              <a:pathLst>
                <a:path w="357196" h="357230">
                  <a:moveTo>
                    <a:pt x="178598" y="89308"/>
                  </a:moveTo>
                  <a:cubicBezTo>
                    <a:pt x="253014" y="-119077"/>
                    <a:pt x="543236" y="89308"/>
                    <a:pt x="178598" y="357230"/>
                  </a:cubicBezTo>
                  <a:cubicBezTo>
                    <a:pt x="-186040" y="89308"/>
                    <a:pt x="104182" y="-119077"/>
                    <a:pt x="178598" y="89308"/>
                  </a:cubicBezTo>
                  <a:close/>
                </a:path>
              </a:pathLst>
            </a:custGeom>
            <a:solidFill>
              <a:srgbClr val="a6a6a6"/>
            </a:solidFill>
            <a:ln w="25560">
              <a:solidFill>
                <a:srgbClr val="a6a6a6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3" descr="童年"/>
          <p:cNvPicPr/>
          <p:nvPr/>
        </p:nvPicPr>
        <p:blipFill>
          <a:blip r:embed="rId2"/>
          <a:stretch/>
        </p:blipFill>
        <p:spPr>
          <a:xfrm>
            <a:off x="0" y="-168120"/>
            <a:ext cx="9489960" cy="702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762120" y="3049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浓浓春晖情，讲讲母亲的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304920" y="1676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故事一：两千年前的一天，意大利的庞贝古城在瞬间被火山熔岩所淹没。经历了二十个世纪的沧海桑田，人们被一尊化石深深震撼：这是一位母亲，蜷缩在地上，怀中紧紧抱着一个幼小的婴孩。我们可以想象，当令人窒息的熔岩扑向不及逃脱的居民时，这位绝望的母亲，曲下身来，以自己的背、头和四肢紧紧环抱怀中的幼子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希望用自己的血肉之躯，为怀中的孩子抵挡那炙热的岩浆，她希望将一线生机留给孩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就是一位母亲在生死关头最本能的希望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虽然，无情的岩浆还是将她们淹没，但母子相拥的情景已化作历史的永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Bandari - Snowdreams.mp3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2938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152280" y="762120"/>
            <a:ext cx="876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故事二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两千年后的一天，唐山在天崩地裂中塌陷。一对母子被埋在废墟之下。八天，整整过了八天 ！当救援人员发现她们时，七八个月大的孩子安然无恙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而母亲，却永远的离开了人间。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在那阴冷、无水、没有食物的环境中，是母亲用乳汁延续着孩子的生命。乳汁吸干了，她用力咬断手指，让孩子吸吮自己的鲜血，直到最后一滴生命流逝。直到人们发现了那用慈母之心创造的生命奇迹。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这就是母亲对生命意义的最高诠释。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Bandari - Snowdreams.mp3" descr=""/>
          <p:cNvPicPr/>
          <p:nvPr/>
        </p:nvPicPr>
        <p:blipFill>
          <a:blip r:embed="rId2"/>
          <a:stretch/>
        </p:blipFill>
        <p:spPr>
          <a:xfrm>
            <a:off x="77724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9384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矩形 3" descr=""/>
          <p:cNvPicPr/>
          <p:nvPr/>
        </p:nvPicPr>
        <p:blipFill>
          <a:blip r:embed="rId2"/>
          <a:stretch/>
        </p:blipFill>
        <p:spPr>
          <a:xfrm>
            <a:off x="-122400" y="450720"/>
            <a:ext cx="9504360" cy="1549440"/>
          </a:xfrm>
          <a:prstGeom prst="rect">
            <a:avLst/>
          </a:prstGeom>
          <a:ln w="0">
            <a:noFill/>
          </a:ln>
        </p:spPr>
      </p:pic>
      <p:pic>
        <p:nvPicPr>
          <p:cNvPr id="61" name="少儿歌曲 - 世上只有妈妈好.mp3" descr=""/>
          <p:cNvPicPr/>
          <p:nvPr/>
        </p:nvPicPr>
        <p:blipFill>
          <a:blip r:embed="rId3"/>
          <a:stretch/>
        </p:blipFill>
        <p:spPr>
          <a:xfrm>
            <a:off x="7162920" y="57150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4220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85800" y="14472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바탕"/>
                <a:ea typeface="바탕"/>
              </a:rPr>
              <a:t>     </a:t>
            </a:r>
            <a:r>
              <a:rPr b="1" lang="zh-CN" sz="6000" spc="-1" strike="noStrike">
                <a:solidFill>
                  <a:srgbClr val="ff0000"/>
                </a:solidFill>
                <a:latin typeface="바탕"/>
                <a:ea typeface="바탕"/>
              </a:rPr>
              <a:t>母爱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有一种爱无论你身处何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都能感受她的温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有一种爱无论你身陷何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都能感受她的心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你快乐，她幸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你悲哀，她哭泣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只有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永远不需要珍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S PMincho"/>
                <a:ea typeface="MS PMincho"/>
              </a:rPr>
              <a:t>却永远不会忘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Bandari - Annie's Wonderland.mp3" descr=""/>
          <p:cNvPicPr/>
          <p:nvPr/>
        </p:nvPicPr>
        <p:blipFill>
          <a:blip r:embed="rId2"/>
          <a:stretch/>
        </p:blipFill>
        <p:spPr>
          <a:xfrm>
            <a:off x="7848720" y="59436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07225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微软用户</cp:lastModifiedBy>
  <dcterms:modified xsi:type="dcterms:W3CDTF">2013-03-06T04:45:05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63</vt:lpwstr>
  </property>
  <property fmtid="{D5CDD505-2E9C-101B-9397-08002B2CF9AE}" pid="3" name="Version">
    <vt:r8>1</vt:r8>
  </property>
</Properties>
</file>