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wmf" ContentType="image/x-wmf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8.jpeg" ContentType="image/jpeg"/>
  <Override PartName="/ppt/media/image16.gif" ContentType="image/gif"/>
  <Override PartName="/ppt/media/image28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40.jpeg" ContentType="image/jpeg"/>
  <Override PartName="/ppt/media/image30.png" ContentType="image/png"/>
  <Override PartName="/ppt/media/image25.gif" ContentType="image/gif"/>
  <Override PartName="/ppt/media/image31.gif" ContentType="image/gif"/>
  <Override PartName="/ppt/media/image11.jpeg" ContentType="image/jpeg"/>
  <Override PartName="/ppt/media/image35.gif" ContentType="image/gif"/>
  <Override PartName="/ppt/media/image9.jpeg" ContentType="image/jpeg"/>
  <Override PartName="/ppt/media/image33.gif" ContentType="image/gif"/>
  <Override PartName="/ppt/media/image34.gif" ContentType="image/gif"/>
  <Override PartName="/ppt/media/image37.gif" ContentType="image/gif"/>
  <Override PartName="/ppt/media/image38.gif" ContentType="image/gif"/>
  <Override PartName="/ppt/media/image43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42.gif" ContentType="image/gif"/>
  <Override PartName="/ppt/media/image5.wmf" ContentType="image/x-wmf"/>
  <Override PartName="/ppt/media/image44.gif" ContentType="image/gif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13.gif" ContentType="image/gif"/>
  <Override PartName="/ppt/media/image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6.png" ContentType="image/pn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341-BEAF-4866-9289-41457E64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2D2-5EC0-4E6F-AA68-4D1DA1D0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A45-B1D7-4AA4-8616-D4A09931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7BE-CB81-4641-8E0C-99D10467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351-8B97-421B-BEA6-944CD8C8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12E-5965-4E4A-A9C6-DCEECCBE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A0B-DCA3-4F01-B33D-635D68E5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94A-26F3-4A3E-9AD7-A9A47424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9E1-0AA3-42D0-912A-8646D573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9BC-82B6-4CDF-9905-12FC8E98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3B3-4D71-421C-94DA-84B4048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992-5976-49C5-A277-CEC5BA70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69B2-B922-49FE-AB89-5A7C4A9C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../Local%20Settings/Temp/Temporary%20Internet%20Files/Content.IE5/&#24180;&#32423;&#25945;&#21153;/&#34917;&#24046;&#23398;&#29983;&#21517;&#21333;(&#24635;&#34920;1&#65289;.xls" TargetMode="External"/><Relationship Id="rId2" Type="http://schemas.openxmlformats.org/officeDocument/2006/relationships/hyperlink" Target="../Local%20Settings/Temp/Temporary%20Internet%20Files/Content.IE5/&#24180;&#32423;&#25945;&#21153;/&#23398;&#29983;&#34917;&#24046;&#35760;&#24405;&#21333;.xls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../../Administrator/My%2520Documents/kejian/unit3huo.ppt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0960" y="0"/>
            <a:ext cx="60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宋体"/>
              </a:rPr>
              <a:t>温馨提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2420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6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xxx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73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743200"/>
            <a:ext cx="609624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汇报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133720" y="2133720"/>
            <a:ext cx="59436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10134720" cy="6810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406000" cy="6400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我班在这次联考中，继前三次月考后又一次取得稳中略有上升的成绩，其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领先位置，尤其是     学科取得了班均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的好成绩，其余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前     名位置。但各科发展不平衡，尤其是中等学生的学科发展不平衡现象较严重，主要表现在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等学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520" y="4876560"/>
            <a:ext cx="62485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二、反思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2724120"/>
            <a:ext cx="82864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XX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一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年级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1052640"/>
            <a:ext cx="7034400" cy="27050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放飞希望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沟通无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67320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141560"/>
            <a:ext cx="9144000" cy="9142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152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三、展望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联考之后我们老师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实学生的成绩情况之后，寻找该生的薄弱科目，确定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生名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班主任与各科任老师的联系，对补薄学生给予更多的关注，并通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生补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记录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时时跟踪，使学生在薄弱科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8216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华文行楷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en-US" sz="4000" spc="-1" strike="noStrike">
                <a:solidFill>
                  <a:srgbClr val="009999"/>
                </a:solidFill>
                <a:latin typeface="Tahoma"/>
              </a:rPr>
              <a:t>161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实行“三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”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满分：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三：语文、数学、外语（各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）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政治计入高考成绩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—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网上报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陕西省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01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中旬汉中市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下学期参加省、市联考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考前心理调整。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5661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XX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一中高三     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406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71640" y="549360"/>
            <a:ext cx="4868640" cy="1493640"/>
            <a:chOff x="971640" y="549360"/>
            <a:chExt cx="4868640" cy="1493640"/>
          </a:xfrm>
        </p:grpSpPr>
        <p:sp>
          <p:nvSpPr>
            <p:cNvPr id="136" name=""/>
            <p:cNvSpPr/>
            <p:nvPr/>
          </p:nvSpPr>
          <p:spPr>
            <a:xfrm>
              <a:off x="971640" y="549360"/>
              <a:ext cx="486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71640" y="549360"/>
              <a:ext cx="1130760" cy="1493640"/>
              <a:chOff x="971640" y="549360"/>
              <a:chExt cx="1130760" cy="149364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549360"/>
                <a:ext cx="1130760" cy="149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971640" y="549360"/>
                <a:ext cx="1130760" cy="1493640"/>
                <a:chOff x="971640" y="549360"/>
                <a:chExt cx="1130760" cy="149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971640" y="549360"/>
                  <a:ext cx="1130760" cy="149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971640" y="549360"/>
                  <a:ext cx="1130760" cy="1493640"/>
                  <a:chOff x="971640" y="549360"/>
                  <a:chExt cx="1130760" cy="1493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0200" y="1676520"/>
            <a:ext cx="8713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4560" y="304920"/>
            <a:ext cx="8569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0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0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1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2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6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2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3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3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4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家长代表经验交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3745080" cy="31766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429000" y="57150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15000"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3178080"/>
            <a:ext cx="711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1337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架起心灵沟通的桥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孩子们的健康成长共商教育教学大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微软用户</cp:lastModifiedBy>
  <dcterms:modified xsi:type="dcterms:W3CDTF">2015-11-18T01:31:27Z</dcterms:modified>
  <cp:revision>1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