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D4C-9866-4127-9BE2-89CBAA98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C50-7FC2-4247-B7A9-F4663D3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C4E-28E0-4B79-917D-26F766DC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B16-0374-48E2-9E1A-7B058AA9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A98-4239-4892-B1E9-AF1B9F3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84B-651E-4D7D-95BB-63FDC9D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616-970E-4BB8-9F67-E94CCAEB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C5B-35EE-4F45-A7E7-4937B8CF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B50-3FF3-47C0-BCCF-084D3CBD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3F7-F744-43D7-9FA6-F468D9E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6F1-FD46-496D-8EA4-037D89B8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725-36E7-460D-BB26-284FE12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27D-6575-4A89-B803-97E7AF647E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唱响节俭之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由勤俭破由奢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俭入奢易，从奢入俭难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有钱时摆阔，没钱挨饿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欲求温饱，勤俭为要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紧紧手，年年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勤能补拙，省能补贫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思前顾后，吃穿常有 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披着破大氅的，往往是个好酒徒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粮收万石，也要粗茶淡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会吃的吃千顿，不会吃的吃一顿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精打细算，油盐不断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一粥一饭汗珠换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不当家不知柴米贵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谁爱风流高格调，共怜时世俭梳妆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成物不可损坏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静以修身，俭以养德——诸葛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君子以俭德辟难。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克勤于邦，克俭于家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俭，德之共也；侈，恶之大也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民生在勤，勤则不匮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俭节则昌，淫佚则亡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历览前贤国与家，成由勤俭破由奢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忧劳可以兴国，逸豫可以亡身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取之有度，用之有节，则常足。 </a:t>
            </a:r>
            <a:br>
              <a:rPr sz="4000"/>
            </a:b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惟俭可以助廉，惟恕可以成德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 写 的 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雷锋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7570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周总理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38160"/>
            <a:ext cx="9540720" cy="681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朱德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009440" cy="6831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1044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隶书"/>
                <a:ea typeface="隶书"/>
              </a:rPr>
              <a:t>欲求温饱，勤俭为要。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9112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655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小品：</a:t>
            </a:r>
            <a:br>
              <a:rPr sz="7200"/>
            </a:br>
            <a:r>
              <a:rPr b="1" lang="zh-CN" sz="7200" spc="-1" strike="noStrike">
                <a:solidFill>
                  <a:srgbClr val="6600cc"/>
                </a:solidFill>
                <a:latin typeface="Arial"/>
                <a:ea typeface="华文新魏"/>
              </a:rPr>
              <a:t>浪费纸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9112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655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小品：</a:t>
            </a:r>
            <a:br>
              <a:rPr sz="7200"/>
            </a:br>
            <a:r>
              <a:rPr b="1" lang="zh-CN" sz="7200" spc="-1" strike="noStrike">
                <a:solidFill>
                  <a:srgbClr val="6600cc"/>
                </a:solidFill>
                <a:latin typeface="Arial"/>
                <a:ea typeface="华文新魏"/>
              </a:rPr>
              <a:t>吃饭风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*365=474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亿粒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亿人口，每天浪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粒米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粒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22100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万千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87480"/>
            <a:ext cx="9792000" cy="6683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343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0*365=219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76280"/>
            <a:ext cx="806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药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06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班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，每人每天浪费一张纸，一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浪费多少张纸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5560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1:09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3T12:46:01Z</dcterms:modified>
  <cp:revision>11</cp:revision>
  <dc:subject>主题班会课件(分28大类): http://shop62905894.taobao.com</dc:subject>
  <dc:title>主题班会课件(分28大类): http://shop62905894.taobao.com</dc:title>
</cp:coreProperties>
</file>