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236-69A1-4ACE-BD8B-8CEB1C6A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586-5508-44C6-A14D-2CCBC72D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5A4-C448-41EA-AC3F-89058D6F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F4B-8F4D-4206-AB79-BFD64C77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30F9-E0FB-4CCF-B5FA-1CC597904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2AEC-109E-4928-8405-45A56F0A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5CA7-2C94-432A-88BA-A4712FDF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82DE-21B5-4268-A241-A59B3AC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0DD7-058B-4ACB-8BCB-40471040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9C40-A106-4440-A9D9-6139FAE7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E43E-876A-4011-9DC5-C859F032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09D-DE41-47AA-877D-AF224E67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B027-7358-470C-B68D-35624B9C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4223-0E0B-4083-AEFC-538AFBD0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8ABB-9CA1-411C-B3FC-A11FA669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B7E8-5DF7-4BBE-85DF-77D77314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4E65-949D-4359-8886-F79357E5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5FE-9882-4BDE-8D4E-5345C325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E50-5D83-41D6-BDEB-92298B36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F28-CD1F-468B-B859-A109FA4A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674-8B9A-4F44-85FA-549F5F98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E3F-45E4-4ED4-886F-6CB39916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412-ACEF-4B57-9897-94A16EF4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450-6054-4BE6-90BA-DFD8CA53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99de9">
                  <a:alpha val="39215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61B1-941C-46DA-AE42-870E757871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prstGeom prst="pie">
            <a:avLst/>
          </a:pr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515A-EABC-4990-91B7-8EE3AA7F38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05120"/>
          <a:ext cx="7691400" cy="349236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7d6a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3"/>
          <p:cNvGrpSpPr/>
          <p:nvPr/>
        </p:nvGrpSpPr>
        <p:grpSpPr>
          <a:xfrm>
            <a:off x="1101960" y="1455480"/>
            <a:ext cx="6599160" cy="4675320"/>
            <a:chOff x="1101960" y="1455480"/>
            <a:chExt cx="6599160" cy="4675320"/>
          </a:xfrm>
        </p:grpSpPr>
        <p:sp>
          <p:nvSpPr>
            <p:cNvPr id="101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rc 7"/>
            <p:cNvSpPr/>
            <p:nvPr/>
          </p:nvSpPr>
          <p:spPr>
            <a:xfrm rot="20601600">
              <a:off x="4125600" y="2079720"/>
              <a:ext cx="2849400" cy="1967040"/>
            </a:xfrm>
            <a:prstGeom prst="pi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a7a8e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prstGeom prst="pi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496ea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rc 9"/>
            <p:cNvSpPr/>
            <p:nvPr/>
          </p:nvSpPr>
          <p:spPr>
            <a:xfrm rot="20601600">
              <a:off x="2722680" y="2125440"/>
              <a:ext cx="3228840" cy="1417680"/>
            </a:xfrm>
            <a:prstGeom prst="pie">
              <a:avLst/>
            </a:prstGeom>
            <a:gradFill rotWithShape="0">
              <a:gsLst>
                <a:gs pos="0">
                  <a:srgbClr val="c4c5f0"/>
                </a:gs>
                <a:gs pos="100000">
                  <a:srgbClr val="7476dc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rc 10"/>
            <p:cNvSpPr/>
            <p:nvPr/>
          </p:nvSpPr>
          <p:spPr>
            <a:xfrm flipH="1" rot="20602200">
              <a:off x="1371240" y="2719440"/>
              <a:ext cx="2851200" cy="2066760"/>
            </a:xfrm>
            <a:prstGeom prst="pie">
              <a:avLst/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0f0f0"/>
                </a:gs>
                <a:gs pos="50000">
                  <a:srgbClr val="c0c0c0"/>
                </a:gs>
                <a:gs pos="100000">
                  <a:srgbClr val="f0f0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6"/>
            <p:cNvSpPr/>
            <p:nvPr/>
          </p:nvSpPr>
          <p:spPr>
            <a:xfrm>
              <a:off x="4394160" y="4178520"/>
              <a:ext cx="863640" cy="1079280"/>
            </a:xfrm>
            <a:prstGeom prst="pie">
              <a:avLst/>
            </a:pr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2a4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7"/>
            <p:cNvSpPr/>
            <p:nvPr/>
          </p:nvSpPr>
          <p:spPr>
            <a:xfrm>
              <a:off x="5356080" y="3506760"/>
              <a:ext cx="1773360" cy="1776600"/>
            </a:xfrm>
            <a:prstGeom prst="pi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b6d68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rc 18"/>
            <p:cNvSpPr/>
            <p:nvPr/>
          </p:nvSpPr>
          <p:spPr>
            <a:xfrm rot="20539200">
              <a:off x="4419360" y="2895840"/>
              <a:ext cx="2728800" cy="1858680"/>
            </a:xfrm>
            <a:prstGeom prst="pie">
              <a:avLst/>
            </a:prstGeom>
            <a:gradFill rotWithShape="0">
              <a:gsLst>
                <a:gs pos="0">
                  <a:srgbClr val="59723a"/>
                </a:gs>
                <a:gs pos="100000">
                  <a:srgbClr val="9ac664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9"/>
            <p:cNvSpPr/>
            <p:nvPr/>
          </p:nvSpPr>
          <p:spPr>
            <a:xfrm>
              <a:off x="4491000" y="3983040"/>
              <a:ext cx="924120" cy="1311480"/>
            </a:xfrm>
            <a:prstGeom prst="pie">
              <a:avLst/>
            </a:prstGeom>
            <a:gradFill rotWithShape="0">
              <a:gsLst>
                <a:gs pos="0">
                  <a:srgbClr val="bfdb9d"/>
                </a:gs>
                <a:gs pos="100000">
                  <a:srgbClr val="9ac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0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50000">
                <a:srgbClr val="31496c"/>
              </a:gs>
              <a:gs pos="100000">
                <a:srgbClr val="699de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125" name="Oval 7"/>
            <p:cNvSpPr/>
            <p:nvPr/>
          </p:nvSpPr>
          <p:spPr>
            <a:xfrm>
              <a:off x="69339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"/>
            <p:cNvSpPr/>
            <p:nvPr/>
          </p:nvSpPr>
          <p:spPr>
            <a:xfrm>
              <a:off x="6781680" y="4481640"/>
              <a:ext cx="1544760" cy="1544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9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27e40"/>
                </a:gs>
                <a:gs pos="100000">
                  <a:srgbClr val="9ac664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0"/>
            <p:cNvSpPr/>
            <p:nvPr/>
          </p:nvSpPr>
          <p:spPr>
            <a:xfrm>
              <a:off x="68720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709049"/>
                </a:gs>
                <a:gs pos="100000">
                  <a:srgbClr val="9ac6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2"/>
            <p:cNvSpPr/>
            <p:nvPr/>
          </p:nvSpPr>
          <p:spPr>
            <a:xfrm>
              <a:off x="713124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3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132" name="Oval 14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>
              <a:off x="4800600" y="4481640"/>
              <a:ext cx="1544760" cy="1544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36494"/>
                </a:gs>
                <a:gs pos="100000">
                  <a:srgbClr val="699de9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7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c72a9"/>
                </a:gs>
                <a:gs pos="100000">
                  <a:srgbClr val="699de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8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/>
            <p:cNvSpPr/>
            <p:nvPr/>
          </p:nvSpPr>
          <p:spPr>
            <a:xfrm>
              <a:off x="515016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139" name="Oval 21"/>
            <p:cNvSpPr/>
            <p:nvPr/>
          </p:nvSpPr>
          <p:spPr>
            <a:xfrm>
              <a:off x="297144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f0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2819520" y="4481640"/>
              <a:ext cx="1544400" cy="154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2852640" y="451800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4a4b8c"/>
                </a:gs>
                <a:gs pos="100000">
                  <a:srgbClr val="7476dc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290952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5456a0"/>
                </a:gs>
                <a:gs pos="100000">
                  <a:srgbClr val="7476d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25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740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6"/>
            <p:cNvSpPr/>
            <p:nvPr/>
          </p:nvSpPr>
          <p:spPr>
            <a:xfrm>
              <a:off x="316872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146" name="Oval 28"/>
            <p:cNvSpPr/>
            <p:nvPr/>
          </p:nvSpPr>
          <p:spPr>
            <a:xfrm>
              <a:off x="9903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8ed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9"/>
            <p:cNvSpPr/>
            <p:nvPr/>
          </p:nvSpPr>
          <p:spPr>
            <a:xfrm>
              <a:off x="880920" y="4481640"/>
              <a:ext cx="1544760" cy="154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0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8702e"/>
                </a:gs>
                <a:gs pos="100000">
                  <a:srgbClr val="efb049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1"/>
            <p:cNvSpPr/>
            <p:nvPr/>
          </p:nvSpPr>
          <p:spPr>
            <a:xfrm>
              <a:off x="9712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d8035"/>
                </a:gs>
                <a:gs pos="100000">
                  <a:srgbClr val="efb04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32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33"/>
            <p:cNvSpPr/>
            <p:nvPr/>
          </p:nvSpPr>
          <p:spPr>
            <a:xfrm>
              <a:off x="123048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www.woippt.com我爱PPT模板下载网</dc:creator>
  <dc:description>www.woippt.com我爱PPT模板下载网</dc:description>
  <cp:keywords>www.woippt.com我爱PPT模板下载网</cp:keywords>
  <dc:language>en-US</dc:language>
  <cp:lastModifiedBy>微软用户</cp:lastModifiedBy>
  <dcterms:modified xsi:type="dcterms:W3CDTF">2015-11-10T01:40:42Z</dcterms:modified>
  <cp:revision>28</cp:revision>
  <dc:subject>www.woippt.com我爱PPT模板下载网</dc:subject>
  <dc:title>会计清算列表图案的幻灯片模板素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NXTAG2">
    <vt:lpwstr>0008005605000000000001023620</vt:lpwstr>
  </property>
</Properties>
</file>