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27464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76200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405160"/>
            <a:ext cx="7772400" cy="55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76200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27464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76200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274640"/>
            <a:ext cx="206064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405160"/>
            <a:ext cx="7772400" cy="55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27464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62000"/>
            <a:ext cx="31233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274640"/>
            <a:ext cx="64008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353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4353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14353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lvl="1" marL="743040" indent="-285840">
              <a:spcBef>
                <a:spcPts val="550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45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400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16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4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4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_msocom_1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dbe8b2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dbe8b2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dbe8b2"/>
                </a:solidFill>
                <a:latin typeface="Times New Roman"/>
              </a:rPr>
              <a:t>章 类模板与向量容器</a:t>
            </a:r>
            <a:endParaRPr b="0" lang="en-US" sz="4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++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中，不但可以设计函数模板，满足对不同类型数据的同一功能要求，还可以设计类模板，来表达具有相同处理方法的数据对象集。类模板也是实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L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库的基础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容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使用最广泛的容器之一，它克服了数组的局限性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本章将简要介绍使用向量容器类的基础知识，并引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L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库和范型算法的基础知识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mplate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模板参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返回类型 类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模板类型参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: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成员函数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函数参数列表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{//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函数体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模板类型参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指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“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 &gt;”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name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声名的类型参数，也就是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T1,T2,…,Tn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类型参数列表。构造函数和析构函数没有返回类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对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字求和的类模板程序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class T, int size=4&gt;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可以传递程序中的整数参数值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Sum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 m[size];                              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数据成员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um(T a, T b, T c, T d )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构造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m[0]=a; m[1]=b; m[2]=c; m[3]=d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S()          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求和成员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 return  m[0]+m[1]+m[2]+m[3]; 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um&lt;int, 4&gt;num1(-23,5,8,-2);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整数求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um&lt;float, 4&gt;f1(3.5f, -8.5f,8.8f,9.7f);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单精度求和。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显式说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loa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um&lt;double,4&gt;d1(355.4, 253.8,456.7,-67.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um&lt;char,4&gt;c1(‘W’,-2,-1,-1);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字符减，等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'W'-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结果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num1.S()&lt;&lt;" ,"&lt;&lt;f1.S()&lt;&lt;", 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d1.S()&lt;&lt;", "&lt;&lt;c1.S()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结果为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-12 ,13.5 ,998.1, S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1.2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类模板的派生与继承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模板类的成员函数不能声明为虚函数，它的基类和派生类都可以是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非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。前面已经讨论过全是非模板类的情况，同样，类模板也可以继承，继承的方法也一样。声明模板继承之前，必须重新声明模板。下面讨论其他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种情况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模板类继承非模板类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用一个非模板类，为一组模板提供一种共同实现的方法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设计一个非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，然后设计一个继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的类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Point{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非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x,y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(int a, int b){x=a; y=b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{cout&lt;&lt;x&lt;&lt;","&lt;&lt;y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Line:public Poin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2,y2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(int a, int b, T c, T d):Point(a,b) {x2=c; y2=d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::display();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x2&lt;&lt;","&lt;&lt;y2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 a(3,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&lt;int&gt;ab(4,5,6,7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b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&lt;double&gt;ad(4,5,6.5,7.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d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,8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,7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.5,7.8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非模板类继承类模板的一个实例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能产生不同实例，所以非模板类只能继承一个确定的模板类，既继承一个实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5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设计一个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，然后设计一个继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&lt;int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Poin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,y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(T a, T b){x=a; y=b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{cout&lt;&lt;x&lt;&lt;","&lt;&lt;y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Line:public Point&lt;int&gt;{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继承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Point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模板类 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x2, y2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(int a, int b, int c, int d):Point&lt;int&gt;(a,b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x2=c; y2=d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 Point&lt;int&gt;::display();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x2&lt;&lt;","&lt;&lt;y2&lt;&lt;endl; 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&lt;double&gt;a(3.5,8.9)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可以是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 ab(4,5,6,7);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只能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b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运行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.5,8.9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,7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类模板派生一个类模板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它与上一个的重要区别：前者只能继承类模板的一个实例，这里是继承类模板的所有实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6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设计一个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然后共有派生一个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Poin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,y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(T a, T b){x=a; y=b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{cout&lt;&lt;x&lt;&lt;","&lt;&lt;y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Line:public Point&lt;T&gt;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2,y2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(T a, T b, T c, T d):Point&lt;T&gt;(a,b) {x2=c; y2=d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lay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&lt;T&gt;::display();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x2&lt;&lt;","&lt;&lt;y2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</a:rPr>
              <a:t>主要内容</a:t>
            </a:r>
            <a:endParaRPr b="1" lang="en-US" sz="4000" spc="-1" strike="noStrike">
              <a:solidFill>
                <a:srgbClr val="014353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Times New Roman"/>
                <a:ea typeface="Times New Roman"/>
              </a:rPr>
              <a:t>8.1  </a:t>
            </a:r>
            <a:r>
              <a:rPr b="1" lang="zh-CN" sz="2800" spc="-1" strike="noStrike">
                <a:solidFill>
                  <a:srgbClr val="dbe8b2"/>
                </a:solidFill>
                <a:latin typeface="宋体"/>
              </a:rPr>
              <a:t>类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Times New Roman"/>
                <a:ea typeface="Times New Roman"/>
              </a:rPr>
              <a:t>8.2 </a:t>
            </a:r>
            <a:r>
              <a:rPr b="1" lang="zh-CN" sz="2800" spc="-1" strike="noStrike">
                <a:solidFill>
                  <a:srgbClr val="dbe8b2"/>
                </a:solidFill>
                <a:latin typeface="宋体"/>
              </a:rPr>
              <a:t>向量容器与范型算法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Times New Roman"/>
                <a:ea typeface="Times New Roman"/>
              </a:rPr>
              <a:t>8.3 </a:t>
            </a:r>
            <a:r>
              <a:rPr b="1" lang="zh-CN" sz="2800" spc="-1" strike="noStrike">
                <a:solidFill>
                  <a:srgbClr val="dbe8b2"/>
                </a:solidFill>
                <a:latin typeface="宋体"/>
              </a:rPr>
              <a:t>向量应用实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oint&lt;double&gt;a(3.5,8.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&lt;int&gt;ab(4,5,6,7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b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ine&lt;double&gt;ad(4.5,5.5,6.5,7.5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d.display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运行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.5,8.8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,7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.5,5.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.5,7.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模板类继承模板参数给定的基类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可设计一个模板类，但它的派生类并不确定，而是在实例化时决定，即基类由模板参数决定。下面是一个简单形式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C:public 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(int a):T(a){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继承由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标识的基类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通过构造函数与基类联系，构造函数的多少根据需要决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这里是以传递一个整数数据为例，则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(base)b(85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将一个普通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非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bas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作为基类，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&lt; Base&lt;int&gt;  &gt;y1(125,18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则将模板类作为基类。这个未知基类还可以是派生类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7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设计非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让它派生非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1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设计类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由它派生类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1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设计模板类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让它公有继承未知基类。为了简单易懂，直接使用整型数据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class A1{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int x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1(int c=8):x(c){cout&lt;&lt;"call A1 "&lt;&lt;x&lt;&lt;endl;}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class A11:public A1{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int x1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11(int a,int b):A1(a),x1(b){cout&lt;&lt;"call A11 "&lt;&lt;x1&lt;&lt;endl;}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B1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1(T a=0):x(a){cout&lt;&lt;"call B1 "&lt;&lt;x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B11:public B1&lt;T&gt;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1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11(T a,T b):B1&lt;T&gt;(a),x1(b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cout&lt;&lt;"call A11 "&lt;&lt;x1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typename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C:public 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(int a):T(a){cout&lt;&lt;"call C "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(int a, int b):T(a,b){cout&lt;&lt;"call C "&lt;&lt;endl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&lt;A1&gt;x(90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&lt;A11&gt;x1(25,95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&lt; B1&lt;int&gt;  &gt;y(189);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右边两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号之间必须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至少有一个空格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&lt; B11&lt;int&gt; &gt;y1(125,188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A1 9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C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A1 2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A11 9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C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B1 189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C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B1 12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A11 188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all C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1.3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类模板的专门化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不能重载，也不能使用虚成员函数，但可以使用友元。它也可以像函数模板那样进行专门化。专门化也是使用前缀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ete &lt;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8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本题以一个堆栈类模板为例，说明专门化和使用的方法。当要产生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型的模板类时，使用类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进行实例化。当使用字符串堆栈时，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专门化。下面不涉及工作原理，仅从编程和使用方法上进行演示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class T&gt;   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声名类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Stack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counte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max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*num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(int a):counter(0),max(a),num(new T[a]){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判断堆栈是否为空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isEmpty()const{return counter==0;}  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判断堆栈是否为满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isFull()const{return counter==max;}  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堆栈种数据的个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count()const{return counter;}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push(const T&amp;data){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数据压进堆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(isFull()) return fals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um[counter++]=data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turn tru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pop(T&amp;data){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数据从堆栈弹出并存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at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(isEmpty()) return fals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ata=num[--counter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turn tru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nst T&amp;top()const{return num[counter-1];}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取栈顶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数据，但并不出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~Stack(){delete[]num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专门化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&gt;          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专门化前缀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Stack&lt;char *&gt;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counte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max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**num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(int a):counter(0),max(a),num(new char*[a]){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isEmpty()const{return counter==0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isFull()const{return counter==max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count()const{return counter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push(const char*data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(isFull()) return fals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um[counter]=new char[strlen(data)+1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rcpy(num[counter++],data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turn tru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dbe8b2"/>
                </a:solidFill>
                <a:latin typeface="Times New Roman"/>
              </a:rPr>
              <a:t>8.1  </a:t>
            </a:r>
            <a:r>
              <a:rPr b="1" lang="zh-CN" sz="4400" spc="-1" strike="noStrike">
                <a:solidFill>
                  <a:srgbClr val="dbe8b2"/>
                </a:solidFill>
                <a:latin typeface="Times New Roman"/>
              </a:rPr>
              <a:t>类模板</a:t>
            </a:r>
            <a:endParaRPr b="0" lang="en-US" sz="4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如果将类看做包含某些数据类型的框架，然后将数据类型从类中分离出来形成一个通用的数据类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并且允许具体数据类型的类能使用数据类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提供的不同操作，这将避免因为类的数据类型不同而产生的重复性设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其实，这种类型并不是类，而仅仅是类的描述，常称之为类模板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编译时，由编译器将类模板与某种特定数据类型联系起来，就产生一个真实的类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由此可见，利用类模板进行程序设计，就如烹调食物一样，只要购买了原料，就可以做出不同口味的菜肴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ool pop(char data[]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(isEmpty()) return fals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rcpy(data, num[--counter]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elete []num[counter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turn tru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nst char *&amp;top()const{return num[counter-1]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~Stack()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counter) delete[]num[--counter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elete[]num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                     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&lt;int&gt;st(8);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整数堆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i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!st.isFull()){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建栈操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.push(10+i++);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数据压入堆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st.top()&lt;&lt;" ";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显示栈顶数据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data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!st.isEmpty()){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出栈操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.pop(data);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弹出堆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data&lt;&lt;" ";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显示出栈数据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&lt;double&gt;st1(8);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建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型堆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!st1.isFull()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1.push(0.5+i++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st1.top()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 data1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!st1.isEmpty()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1.pop(data1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data1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*str[]={"1st","2nd","3rd","4th","5th"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6th","7th","8th"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ck&lt;char *&gt;st2(8);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建立字符串型堆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2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st2.push(str[i++])) cout&lt;&lt;st2.top()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strdata[8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(st2.pop(strdata)) cout&lt;&lt;strdata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运行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 11 12 13 14 15 16 17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7 16 15 14 13 12 11 1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.5 1.5 2.5 3.5 4.5 5.5 6.5 7.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7.5 6.5 5.5 4.5 3.5 2.5 1.5 0.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st 2nd 3rd 4th 5th 6th 7th 8th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th 7th 6th 5th 4th 3rd 2nd 1st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dbe8b2"/>
                </a:solidFill>
                <a:latin typeface="Times New Roman"/>
              </a:rPr>
              <a:t>8.2 </a:t>
            </a:r>
            <a:r>
              <a:rPr b="1" lang="zh-CN" sz="4400" spc="-1" strike="noStrike">
                <a:solidFill>
                  <a:srgbClr val="dbe8b2"/>
                </a:solidFill>
                <a:latin typeface="Times New Roman"/>
              </a:rPr>
              <a:t>向量容器与范型算法</a:t>
            </a:r>
            <a:endParaRPr b="0" lang="en-US" sz="44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数组生存期内，数组的大小是不会改的，向量容器则可在运行中动态地增长或缩小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是类模板，具有成员函数，例如可以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ize(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方法动态地获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当前大小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面向对象的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使用最广泛的一个容器类，本节重在介绍它的使用方法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2.1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定义向量列表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定义在头文件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中，它提供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种构造函数，用来定义由各元素组成的列表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表示长度，数据类型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表示，对象名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am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则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type&gt;name;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空表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type&gt;name(length)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，元素初始化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type&gt;name(length,a)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，元素初始化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type&gt;name1(name)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已定义的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构造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ame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空表没有元素，它使用成员函数获取元素。下面是典型的使用方法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A;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空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B(20);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初始化值均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C(20,1);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，其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元素均被置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D(C);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初始化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即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一样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E(20, ‘t’)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，其元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素均被置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't'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F(2*2,5);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，其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均被置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G(F);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相同，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且均被置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=F;      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整体赋值，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相同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=C;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整体赋值，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相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定义的赋值运算符“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=”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允许同类型的向量列表相互赋值，而不管它们的长度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它可以改变赋值目标的大小，使它的元素数目与赋值源的元素数目相同。虽然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元素数目相同，因为它们的类型不同，因此也不能相互赋值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元素也是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开始，使用下面语句可得到它们的大小为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,20,4,20,4,2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B.size()&lt;&lt;","&lt;&lt;C.size()&lt;&lt;",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D.size()&lt;&lt;","&lt;&lt;E.size()&lt;&lt;","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F.size()&lt;&lt;","&lt;&lt;G.size()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这样，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语句循环输出时，可以利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ize(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函数。例如输出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nt i=0; i&lt;B.size(); i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B[i]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能使用列表初始化向量，但可以先初始化一个数组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然后把数组的内容复制给向量。例如，先定义具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整数元素的整型数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然后初始化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nt IA[10]={1,3,5,7,9,12,14,16,18,20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vector&lt;int&gt;VB(IA,IA+10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数组名，代表数组起始地址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A+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结束标志位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长度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因为向量自动产生一个结束标志，所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需要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等长。这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长度可以小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大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当定义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比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长时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以后的元素值不定。从这一点看，它具有字符串数组的特点。</a:t>
            </a:r>
            <a:r>
              <a:rPr b="0" lang="en-US" sz="2800" spc="-1" strike="noStrike" u="sng">
                <a:solidFill>
                  <a:srgbClr val="bad16f"/>
                </a:solidFill>
                <a:uFillTx/>
                <a:latin typeface="Times New Roman"/>
                <a:hlinkClick r:id="rId2"/>
              </a:rPr>
              <a:t>[zj1]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这是定义向量的又一种方式，而且是在定义向量的同时完成初始化。需要注意的是，不能使用这种方法去初始化一个已经存在的向量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1.1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类模板基础知识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类模板的成分及语法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可以用类模板来定义类，类模板是对象特性更一般的抽象。简言之，一个类模板就是一个抽象的类。类模板与函数模板的有些成分是相同的，例如声明的方法及参数的格式等。关键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这里的含义是“任意内部类型或用户定义类型”，但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也可能是结构或类。对于函数模板及类模板来说，模板层次结构的大部分内容都是一样的，然而在模板声明之后，对类而言便显示出了根本性的差异。为了创建类模板，在模板参数表之后，应有类声明。在类中可以像使用其他类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那样使用模板参数。例如，可以把模板参数用做数据成员，返回类型的成员函数或成员函数的参数等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2.2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泛型指针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泛型算法提供了许多可用于容器类的操作行为，而这些算法和想要操作的元素类型无关。也就是说，它们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, doubl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或者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ring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全然无关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泛型算法达到了“与操作对象的数据类型相互独立”的目的。而达到“与容器无关”的诀窍，就是不直接在容器身上进行操作。这种操作是借助一对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erators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迭代子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实现的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迭代子就是一种泛型指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具有指示第一个元素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( 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指示结束的标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nd( 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也就是标识要进行迭代的元素空间。如果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等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n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算法便会首先作用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元素，并将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前进一个位置，然后作用于当前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的元素身上，如此继续进行，直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等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n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止。因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n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最后一个元素的下一个位置，所以元素存在范围是半开区间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[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nd 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图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迭代子示意图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52280" y="29718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容器类里，是在底层指针的行为之上提供一层抽象化机制，取代程序原来的“指针直接操作方式”。这种指针称为泛型指针，正向泛型指针定义的一般形式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vector&lt;type&gt;:: iterator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泛型指针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era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正向泛型指针关键字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380880"/>
          <a:ext cx="838188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381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如向量的数据类型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指针名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注意定义里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不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*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如果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*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则含义为指针的指针，是错误的。泛型指针是使用类实现的，不要与前面介绍的指针定义混淆。当然，它也是使用“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*p”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代表它指向的元素值。容器提供“迭代因子”供泛型指针使用，例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=a.begin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元素的地址赋给泛型指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这时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就可使用与指针一样的运算方式，例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+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代表顺序移动两个元素位置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*(p+1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输出位置的下一个元素。对向量的访问可以是双向的，图中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n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提供给逆向泛型指针的开始和结束标志。逆向泛型指针的加操作是使它向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nd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方向移动，减操作向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begi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移动。它的定义方法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vector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数据类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:: reverse_iterator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指针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itera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逆向泛型指针关键字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.4.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节所介绍的算法，显然也都适合向量。使用方法可参考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.6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节。下面的例子演示先使用使用正向范型指针，来回遍历一次输出容器内容，再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算法正向输出一次。然后换一行，使用逆向指针来回输出，再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逆向输出。即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.1 4.4 3.3 2.2 2.2 3.3 4.4 1.1 1.1 4.4 3.3 2.2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.2 3.3 4.4 1.1 1.1 4.4 3.3 2.2 2.2 3.3 4.4 1.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9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范型指针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函数的例子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algorith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 a[]={1.1,4.4,3.3,2.2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double&gt;va(a,a+4),vb(4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def vector&lt;double&gt;::iterator iterato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erator first=va.begin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first;first&lt;va.end(); first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first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--first;first&gt;va.begin()-1; first--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first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a.begin(),v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def vector&lt;double&gt;: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iterator reverse_iterator;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iterator last=va.rbegin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last;last&lt;va.rend(); last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last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--last;last&gt;va.rbegin()-1; last--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last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a.rbegin(),va.r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2.3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向量的数据类型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除了可以使用基本数据类型之外，还可以使用构造类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包括容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只要符合构成法则即可。本节再举几个简单的例子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向量使用范型算法的例子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algorith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functional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 a[]={1.1,4.4,3.3,2.2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double&gt;va(a,a+4),vb(4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a.begin(),v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copy(va.begin(),v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copy(va.begin(),va.end(),vb.begin(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b.begin(),vb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ort(va.begin(),va.end(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ort(vb.begin(),vb.end(),greater&lt;double&gt;(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a.begin(),v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b.begin(),vb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a.swap(vb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a.begin(),v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b.begin(),vb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double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find(va.begin(),va.end(),4.4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运行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.1 4.4 3.3 2.2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.2 3.3 4.4 1.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.2 3.3 4.4 1.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.1 2.2 3.3 4.4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.4 3.3 2.2 1.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.4 3.3 2.2 1.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.1 2.2 3.3 4.4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使用复数类和结构作为向量数据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例子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complex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使用类模板的实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 &lt; class  T &gt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带参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模板声明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可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nam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代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class TAnyTemp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x,y;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型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私有数据对象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AnyTemp( T X, T Y) : x(X), y(Y) { }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构造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getx( ) { return x; }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联类成员函数，返回类型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gety( ) { return y; }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联类成员函数，返回类型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AnyTem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声明了两个私有数据成员，即类型都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数据成员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一旦使用类模板，它就可以保存被指定类型的两个值。类模板声明的一般方法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mplate 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类模板参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class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类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{//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类体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}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ruct st{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a,b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a[]={{2,5},{4,8}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mplex &lt;float&gt; num[]={complex &lt;float&gt; (2,3),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mplex &lt;float&gt; (3.5,4.5)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omplex&lt;float&gt;*&gt;vnum(2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num[0]=&amp;num[0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num[1]=&amp;num[1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nt i=0;i&lt;2;i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real is "&lt;&lt;vnum[i]-&gt;real ()&lt;&lt;", image is 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vnum[i]-&gt;imag ()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st*&gt;cp(2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p[0]=&amp;a[0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p[1]=&amp;a[1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=0;i&lt;2;i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a="&lt;&lt;cp[i]-&gt;a&lt;&lt;", b="&lt;&lt;cp[i]-&gt;b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因为复数类和结构都有两个数据成员，所以使用指针作为向量的数据类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的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al is 2, image is 3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al is 3.5, image is 4.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=2, b=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=4, b=8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2.4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向量最基本的操作方法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有许多成员函数用来提供不同的操作，最基本的操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方法有以下几种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访问容器容量信息的方法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ize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当前容器中已经存放的对象的个数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max_size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容器可以容纳最多对象的个数，一般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操作系统的寻址空间所能容纳的对象的个数。这个参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是用户指定的，它取决于硬件结构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③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capacity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无需再次分配内存就能容纳的对象个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数。它的初始值为程序员最初申请的元素个数。当存放空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间已满，又增加一个元素时，它在原来的基础上自动翻倍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扩充空间，以便存放更多的元素。通俗地讲，也就是已申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的空间。这三者的关系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_size( ) &gt;= capacity( ) &gt;=size( 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④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mpty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当前容器为空时，返回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ru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值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访问向量中对象的方法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front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向量中的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back( 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向量中的最后一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③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perator[](size_type,n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返回容器中的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+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对象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标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访问容器容量信息及对象实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algorith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functional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 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 a(10),b(10);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产生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元素内容均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.empty()&lt;&lt;“,”&lt;&lt;sizeof(a)&lt;&lt;“,”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容不空时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izeof(a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char i='a', j=0; j&lt;10;j++) 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改变内容为：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bcdefghij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[j]=i+j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.max_size()&lt;&lt;","&lt;&lt;a.capacity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","&lt;&lt;a.size()&lt;&lt;endl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容量信息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j=0; j&lt;10;j++)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向量内容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[j]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b.begin());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复制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向量的内容到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ostream_iterator&lt;cha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cout," "));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内容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reverse_copy(a.begin(),a.end(),ostream_iterator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char&gt;(cout," "));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逆向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&lt;&lt;a.front()&lt;&lt;","&lt;&lt;a.back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","&lt;&lt;a.operator [](5)&lt;&lt;endl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对象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ort(b.begin(),b.end(),greater&lt;char&gt;());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降幂排序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b.begin(),b.end(),ostream_iterator&lt;cha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cout," "));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内容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语句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.operator [](5)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是输出第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个元素内容，即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[5](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内容为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f)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sizeof a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。这说明编译系统为向量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vect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分配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程序输出结果如下：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,16,4294967295,10,1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 i h g f e d c b 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,j,f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 i h g f e d c b 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在向量中插入对象的方法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1) push_back(const T&amp;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向向量尾部插入一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2) insert(iterator it, const T&amp;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向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的容器位置前插入一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3) insert(iterator it, size_type n, const T&amp;X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向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的容器位置前插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值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4) insert(olditerator it, newiterator s, newiterator e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将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-s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对象复制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的容器位置前。被复制的内容在新容器中的位置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~e-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在原容器中则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-(e-s)~s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在向量中删除对象的方法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1) pop_back(const T&amp;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删除向量中最后一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2) erase(iterator it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删除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指向的容器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3) erase(iterator s, iterator e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删除容器中位置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~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-s+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对象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4) clear( 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删除向量中的所有对象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mpty( 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ru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值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部分插入和删除方法实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 )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st[11]="abcdefghij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 a(st,st+10); 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不复制字符串数组的结束标志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\0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int j=0; j&lt;10;j++) 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输出向量内容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[j]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&lt;&lt;a.capacity()&lt;&lt;",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a.size()&lt;&lt;endl; 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10,10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pop_back();         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删除元素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push_back(‘W’); a.push_back(‘P’);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尾部增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 j=0; j&lt;a.size();j++)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现在内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容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W P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[j]&lt;&lt;" 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&lt;&lt;a.capacity()&lt;&lt;",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a.size()&lt;&lt;",";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,1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clear();             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删除所有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a.empty()&lt;&lt;endl;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,1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14353"/>
                </a:solidFill>
                <a:latin typeface="Times New Roman"/>
              </a:rPr>
              <a:t>a b c d e f g h i W P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14353"/>
                </a:solidFill>
                <a:latin typeface="Times New Roman"/>
              </a:rPr>
              <a:t>20,11,1</a:t>
            </a:r>
            <a:endParaRPr b="0" lang="en-US" sz="32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使用泛型指针进行插入和删除实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algorith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 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st[11]="abcdefghij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 a(st,st+10);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不复制字符串数组的结束标志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"\0"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:: iterator p;     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定义泛型指针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=a.begin();               /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p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指向第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个元素的地址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insert(p+3,'X');        //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[3]= 'X'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输出向量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14353"/>
                </a:solidFill>
                <a:latin typeface="Times New Roman"/>
              </a:rPr>
              <a:t>的内容为</a:t>
            </a: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a b c X d e f g h i j</a:t>
            </a:r>
            <a:endParaRPr b="0" lang="en-US" sz="2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char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类模板的对象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模板也称为参数化类型。初始化类模板时，传给它具体的数据类型，就产生了模板类。使用模板类时，编译器自动产生处理具体数据类型的所有成员（数据成员和成员函数）。如使用上述模板定义对象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Objec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并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替换参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AnyTemp&lt;int&gt;iObject(321,556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int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告诉编译器从模板产生一个类，并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替换所有的参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所产生的类的名字变成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AnyTemp&lt;int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定义的对象名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Objec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两个整型值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2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56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传递给对象的构造函数以初始化该对象的私有数据对象。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产生类的全名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AnyTemp&lt;int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这包括尖括号和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数据类型。可以从这个模板再产生一个实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AnyTemp&lt;double&gt;dObject(3.1416,5.1552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对象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bjec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能保存两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doubl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值，这是因为又产生一个实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AnyTemp&lt;double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它是与前者毫无关系的类，相同之处只是都产生于同一个模板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=a.begin();               //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返回首位值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insert(p,3,'A');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[0]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前插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A A a b c X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ostream_iterator&lt;cha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insert(p+1,p+11,p+14);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之后插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 f g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1-3=8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处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A a b c X d e f g h i j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原来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+1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ostream_iterator&lt;cha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erase(p+5,p+10);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[5]~a[10]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ostream_iterator&lt;cha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.erase(p+8);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删除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[8]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即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a.begin(),a.end(),ostream_iterator&lt;char&gt;(cout," 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d e f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程序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X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A A a b c X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A a b c X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e f g A d e f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15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演示双向访问的例子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st[11]="abcdefghij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 a(st,st+10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:: iterator p=a.begin()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正向泛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指针并初始化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char&gt;:: reverse_iterator ps;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逆向泛型指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p=a.begin(); p!=a.end(); ++p)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正向访问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p&lt;&lt;" ";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p=a.end()-1; p!=a.begin()-1; --p)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正向泛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指针逆向访问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p&lt;&lt;" ";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 i h g f e d c b 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ps=a.rbegin(); ps!=a.rend(); ++ps)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逆向泛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指针正向访问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++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运算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ps&lt;&lt;" ";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 i h g f e d c b a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--ps; ps!=a.rbegin()-1; --ps)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逆向泛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指针逆向访问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运算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ps&lt;&lt;" ";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a b c d e f g h i j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ypedef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可使定义泛型指针的手续简单易懂。例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使用如下语句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ypedef vector&lt;char&gt;:: iterator iterato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标识符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era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在程序中就可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tera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泛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型指针。例如，可用如下方式定义泛型指针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terator p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dbe8b2"/>
                </a:solidFill>
                <a:latin typeface="Times New Roman"/>
              </a:rPr>
              <a:t>8.3 </a:t>
            </a:r>
            <a:r>
              <a:rPr b="1" lang="zh-CN" sz="4400" spc="-1" strike="noStrike">
                <a:solidFill>
                  <a:srgbClr val="dbe8b2"/>
                </a:solidFill>
                <a:latin typeface="Times New Roman"/>
              </a:rPr>
              <a:t>向量应用实例</a:t>
            </a:r>
            <a:endParaRPr b="0" lang="en-US" sz="44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3.1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出圈游戏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如果使用向量设计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.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节的出圈游戏。既可以根据人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向量数组的大小，还可以将已经出圈的人员删除。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可以使用向量的下标代替整数数据成员，从而使下标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名字对应起来，所以不再需要设计用来计数和标识出圈的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数据成员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num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设计类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为该类定义构造函数，而是用系统提供的默认无参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构造函数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 SeqLis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name[10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Name(){cout&lt;&lt;name;}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SetName(char b[]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strcpy(name,b)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Joseph(vector&lt;SeqList&gt;&amp;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函数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length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人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length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SeqList&gt;c(length);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建立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eqList game;   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的实例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ame.Joseph(c);     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调用成员函数求解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容器的每个元素都是一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eqLis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的对象，这个对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象可以使用向量的成员函数。当接收到长度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lengt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后，可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以构造这个向量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vector&lt;SeqList&gt;c(length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它作为参数，传给成员函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osep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求解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源程序</a:t>
            </a:r>
            <a:endParaRPr b="0" lang="en-US" sz="36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下面是源程序文件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game.cpp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 SeqList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name[10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DispName(){cout&lt;&lt;name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SetName(char b[]){strcpy(name,b)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Joseph(vector&lt;SeqList&gt;&amp;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Joseph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SeqList::Joseph(vector&lt;SeqList&gt;&amp;c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m,star,i,j,k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间隔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(m&lt;=20)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m;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间隔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 (m&gt;20)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间隔数大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重新输入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间隔太大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重新输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m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“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从第几个人的位置开始报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能大于”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c.size()&lt;&lt;")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sta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 (star&gt;c.size())  //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开始位置大于人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重新输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star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准备输入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etchar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入参加游戏人的名字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har s[10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=0;i&lt;c.size();i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只要赋给模板一种实际的数据类型，就会产生新的类，而且以特定类型替代模板参数。定义对象的一般格式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类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模板实例化参数类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对象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构造函数实参列表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类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模板实例化参数类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对象名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默认或者无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数构造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模板实例化参数类型包括数据类型和值，参考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int,4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等形式。编译器不能从构造函数列表推断出模板实例化参数类型，所以必须显式地给出它们的参数类型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【例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.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】求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中最大值的类模板程序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i+1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ets(s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[i].SetName(s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=star-2;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从规定处开始报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SeqList&gt;::iterator p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=c.begin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length=c.size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 (k=1;k&lt;=length;k++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=0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报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hile (j&lt;m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++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 (i==c.size())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到终点，返回到第一个位置计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j++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 (k==length) break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[i].DispName()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出圈人的信息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,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.erase(p+i);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删除出圈人的记录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--i;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调整计数位置初始值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break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语句跳转至此处，输出最后出列的编号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[i].DispName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length=0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人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length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SeqList&gt;c(length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eqList gam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game.Joseph(c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要把出圈者删除，可以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类的成员函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ras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但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ras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参数是泛型指针，所以必须定义一个泛型指针以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实现删除。例如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SeqList&gt;::iterator p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泛型指针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=c.begin();  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让它指向第一个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length=c.size();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取出长度    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注意向量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iz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是变化的，每删除一个出圈者，它也减少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一个。所以不能用它作为总的循环次数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了体现公平，不是从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位置报数，而是通过抓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阄的办法决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参数，所以第一次的报数位置是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tar-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假设参加游戏的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人，间隔数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从第三个人的位置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开始报数，则输出结果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人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5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间隔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(m&lt;=20)1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从第几个人的位置开始报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不能大于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):3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准备输入名字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李  红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王二强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张三梅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李  四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人的名字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王  五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王二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李  四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王  五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张三梅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李  红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8.3.2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求模程序</a:t>
            </a:r>
            <a:endParaRPr b="0" lang="en-US" sz="40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给定任意正整数的有限队列和任意选定的正整数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称为模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将队列的各个成员除以模后，按余数进行分类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先建立一个整型数据的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，将这有限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size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正整数存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入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中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v(size);            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nt i=0; i&lt;v.size();i++)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赋值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v[i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再建立一个元素数量等于模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((modulus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 vector&lt;int&gt; &gt;vect(modulus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根据余数将它们存入相应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[i](i=0,…,modulus-1)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因此每个分量的长度是不相等的，但都可由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[i].size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求得。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iostrea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vector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#include &lt;algorithm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using namespace st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setVec(vector&lt;int&gt;&amp;, int, vector&lt; vector&lt;int&gt; &gt;&amp;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size(0),modulus(0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模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modulus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 vector&lt;int&gt; &gt;vect(modulus); //vec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容器有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modulus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向量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入数据最大数量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size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int&gt;v(size);             //v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容器有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iz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整型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入数据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v.size()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"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nt i=0; i&lt;v.size();i++)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向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赋值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in&gt;&gt;v[i]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setVec(v, modulus, vect);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调用函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i=0;i&lt;modulus; i++)   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结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f(vect[i].empty() 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i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i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vect[i].size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"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"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py(vect[i].begin(),vect[i].end(),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ostream_iterator&lt;int&gt;(cout,"\t")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setVec(vector&lt;int&gt;&amp;v, int modulus,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or&lt; vector&lt;int&gt; &gt;&amp;vect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vector&lt;int&gt;::const_iterator p=v.begin(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!=v.end(); ++p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int value=(*p)%modulus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[value].push_back(*p)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从尾部为向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量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追加元素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如果使用范型指针输出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ect[i]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的内容，因为只是输出内容，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所以建议使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nst_iterator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指针，以便含义准确。例如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for(vector&lt;int&gt;::const_iterator p=vect[i].begin(); p!=vect[i].end(); ++p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*p&lt;&lt;"\t"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运行示范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请输入模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入数据最大数量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入数据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2 93 45 23 1134 567 901 668 987 321 10 89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5      1134    567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2      901     10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&lt;class T&gt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lass Max4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a,b,c,d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Max(T a, T b){return (a&gt;b)?a:b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(T, T, T , T 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Max(void)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&lt;class T&gt;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成员函数必须再次声明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&lt;T&gt;::Max4(T x1, T x2, T x3, T x4):a(x1),b(x2),c(x3),d(x4){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&lt;class T&gt;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成员函数必须再次声明模板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 Max4&lt;T&gt;::Max(void)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定义时要将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&lt;T&gt;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看做整体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68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空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987     321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为空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向量元素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内的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个数据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89 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 return Max(Max(a,b),Max(c,d));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void main()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&lt;char&gt;C('W','w','a','A');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比较字符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&lt;int&gt;A(-25,-67,-66,-256);     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比较整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Max4&lt;double&gt;B(1.25,4.3,-8.6,3.5);     //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比较双精度实数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cout&lt;&lt;C.Max()&lt;&lt;" "&lt;&lt;A.Max()&lt;&lt;" “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&lt;&lt;B.Max()&lt;&lt;endl;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输出结果为：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w -25 4.3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在类体外面定义成员函数时，必须用</a:t>
            </a:r>
            <a:r>
              <a:rPr b="1" lang="en-US" sz="2800" spc="-1" strike="noStrike">
                <a:solidFill>
                  <a:srgbClr val="014353"/>
                </a:solidFill>
                <a:latin typeface="Times New Roman"/>
              </a:rPr>
              <a:t>template</a:t>
            </a:r>
            <a:r>
              <a:rPr b="1" lang="zh-CN" sz="2800" spc="-1" strike="noStrike">
                <a:solidFill>
                  <a:srgbClr val="014353"/>
                </a:solidFill>
                <a:latin typeface="Times New Roman"/>
              </a:rPr>
              <a:t>重写模板函数声明。一般格式如下：</a:t>
            </a:r>
            <a:endParaRPr b="0" lang="en-US" sz="2800" spc="-1" strike="noStrike">
              <a:solidFill>
                <a:srgbClr val="014353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2:37:13Z</dcterms:created>
  <dc:creator>何友鸣</dc:creator>
  <dc:description/>
  <dc:language>en-US</dc:language>
  <cp:lastModifiedBy>d</cp:lastModifiedBy>
  <dcterms:modified xsi:type="dcterms:W3CDTF">2015-11-10T06:47:51Z</dcterms:modified>
  <cp:revision>26</cp:revision>
  <dc:subject/>
  <dc:title>8类模板与向量容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