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4C79-3DC6-4F7E-8535-AC8B2A9C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A329-499F-4A74-927B-82C950FE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C6D-6078-44F6-BB92-3D33B599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5E76-F304-4939-9FD5-4B6ECCB8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8040-5442-4AA3-B15D-355989C7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19E-BA67-48AB-84F3-8CCD3B31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9D4-0724-480F-9C9E-DA64F8C1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B9F-8880-4EC2-A897-73AF8BF5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E183-E66A-45A8-9FE2-B0E98C2E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EBEB-DBA3-46C1-85A4-98D9D6F6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5A23-1DA6-4BBC-85FA-65D13AF2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31BC-F7B7-4935-B596-AC53DC4D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AED1-5DAB-445F-9BD4-D3317D4184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图片 1" descr="2015-11-11 10-50-56"/>
          <p:cNvPicPr/>
          <p:nvPr/>
        </p:nvPicPr>
        <p:blipFill>
          <a:blip r:embed="rId1"/>
          <a:stretch/>
        </p:blipFill>
        <p:spPr>
          <a:xfrm>
            <a:off x="-457200" y="-345960"/>
            <a:ext cx="10058400" cy="75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内容占位符 3" descr="2015-11-11 10-56-23"/>
          <p:cNvPicPr/>
          <p:nvPr/>
        </p:nvPicPr>
        <p:blipFill>
          <a:blip r:embed="rId1"/>
          <a:stretch/>
        </p:blipFill>
        <p:spPr>
          <a:xfrm>
            <a:off x="-95400" y="-142920"/>
            <a:ext cx="9342720" cy="70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内容占位符 3" descr="2015-11-11 10-57-34"/>
          <p:cNvPicPr/>
          <p:nvPr/>
        </p:nvPicPr>
        <p:blipFill>
          <a:blip r:embed="rId1"/>
          <a:stretch/>
        </p:blipFill>
        <p:spPr>
          <a:xfrm>
            <a:off x="-108000" y="-171360"/>
            <a:ext cx="9480600" cy="71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内容占位符 3" descr="2015-11-11 10-58-15"/>
          <p:cNvPicPr/>
          <p:nvPr/>
        </p:nvPicPr>
        <p:blipFill>
          <a:blip r:embed="rId1"/>
          <a:stretch/>
        </p:blipFill>
        <p:spPr>
          <a:xfrm>
            <a:off x="-108000" y="-171360"/>
            <a:ext cx="9387000" cy="71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内容占位符 4" descr="2015-11-11 10-58-45"/>
          <p:cNvPicPr/>
          <p:nvPr/>
        </p:nvPicPr>
        <p:blipFill>
          <a:blip r:embed="rId1"/>
          <a:stretch/>
        </p:blipFill>
        <p:spPr>
          <a:xfrm>
            <a:off x="-108000" y="-243000"/>
            <a:ext cx="9374400" cy="71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内容占位符 3" descr="2015-11-11 10-59-38"/>
          <p:cNvPicPr/>
          <p:nvPr/>
        </p:nvPicPr>
        <p:blipFill>
          <a:blip r:embed="rId1"/>
          <a:stretch/>
        </p:blipFill>
        <p:spPr>
          <a:xfrm>
            <a:off x="-328680" y="-339840"/>
            <a:ext cx="9469440" cy="72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内容占位符 3" descr="2015-11-11 11-00-09"/>
          <p:cNvPicPr/>
          <p:nvPr/>
        </p:nvPicPr>
        <p:blipFill>
          <a:blip r:embed="rId1"/>
          <a:stretch/>
        </p:blipFill>
        <p:spPr>
          <a:xfrm>
            <a:off x="34920" y="117360"/>
            <a:ext cx="900576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内容占位符 3" descr="2015-11-11 11-00-33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内容占位符 3" descr="2015-11-11 10-51-33"/>
          <p:cNvPicPr/>
          <p:nvPr/>
        </p:nvPicPr>
        <p:blipFill>
          <a:blip r:embed="rId1"/>
          <a:stretch/>
        </p:blipFill>
        <p:spPr>
          <a:xfrm>
            <a:off x="-108000" y="-98280"/>
            <a:ext cx="9356760" cy="70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内容占位符 3" descr="2015-11-11 10-52-08"/>
          <p:cNvPicPr/>
          <p:nvPr/>
        </p:nvPicPr>
        <p:blipFill>
          <a:blip r:embed="rId1"/>
          <a:stretch/>
        </p:blipFill>
        <p:spPr>
          <a:xfrm>
            <a:off x="-181080" y="0"/>
            <a:ext cx="953316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内容占位符 3" descr="2015-11-11 10-52-45"/>
          <p:cNvPicPr/>
          <p:nvPr/>
        </p:nvPicPr>
        <p:blipFill>
          <a:blip r:embed="rId1"/>
          <a:stretch/>
        </p:blipFill>
        <p:spPr>
          <a:xfrm>
            <a:off x="-36360" y="-27000"/>
            <a:ext cx="932796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内容占位符 3" descr="2015-11-11 10-53-25"/>
          <p:cNvPicPr/>
          <p:nvPr/>
        </p:nvPicPr>
        <p:blipFill>
          <a:blip r:embed="rId1"/>
          <a:stretch/>
        </p:blipFill>
        <p:spPr>
          <a:xfrm>
            <a:off x="-41400" y="3240"/>
            <a:ext cx="9264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内容占位符 3" descr="2015-11-11 10-54-12"/>
          <p:cNvPicPr/>
          <p:nvPr/>
        </p:nvPicPr>
        <p:blipFill>
          <a:blip r:embed="rId1"/>
          <a:stretch/>
        </p:blipFill>
        <p:spPr>
          <a:xfrm>
            <a:off x="-468360" y="-243000"/>
            <a:ext cx="10028160" cy="752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内容占位符 3" descr="2015-11-11 10-54-35"/>
          <p:cNvPicPr/>
          <p:nvPr/>
        </p:nvPicPr>
        <p:blipFill>
          <a:blip r:embed="rId1"/>
          <a:stretch/>
        </p:blipFill>
        <p:spPr>
          <a:xfrm>
            <a:off x="-252360" y="-27000"/>
            <a:ext cx="9686880" cy="74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内容占位符 3" descr="2015-11-11 10-55-00"/>
          <p:cNvPicPr/>
          <p:nvPr/>
        </p:nvPicPr>
        <p:blipFill>
          <a:blip r:embed="rId1"/>
          <a:stretch/>
        </p:blipFill>
        <p:spPr>
          <a:xfrm>
            <a:off x="-108000" y="-27000"/>
            <a:ext cx="917892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内容占位符 3" descr="2015-11-11 10-55-25"/>
          <p:cNvPicPr/>
          <p:nvPr/>
        </p:nvPicPr>
        <p:blipFill>
          <a:blip r:embed="rId1"/>
          <a:stretch/>
        </p:blipFill>
        <p:spPr>
          <a:xfrm>
            <a:off x="-108000" y="-171360"/>
            <a:ext cx="9601200" cy="73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1T03:00:49Z</dcterms:created>
  <dc:creator>Administrator</dc:creator>
  <dc:description/>
  <dc:language>en-US</dc:language>
  <cp:lastModifiedBy>Administrator</cp:lastModifiedBy>
  <dcterms:modified xsi:type="dcterms:W3CDTF">2015-11-11T03:00:4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