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8.jpeg" ContentType="image/jpeg"/>
  <Override PartName="/ppt/media/image9.wmf" ContentType="image/x-wmf"/>
  <Override PartName="/ppt/media/image11.jpeg" ContentType="image/jpeg"/>
  <Override PartName="/ppt/media/image7.wmf" ContentType="image/x-wmf"/>
  <Override PartName="/ppt/media/image20.jpeg" ContentType="image/jpeg"/>
  <Override PartName="/ppt/media/image6.jpeg" ContentType="image/jpeg"/>
  <Override PartName="/ppt/media/image5.wmf" ContentType="image/x-wmf"/>
  <Override PartName="/ppt/media/image12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4.wmf" ContentType="image/x-wmf"/>
  <Override PartName="/ppt/media/image18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3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97BE-2AB0-47F1-AAC4-E27C7F2CA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5600-8DC3-48A3-BC06-98A9CE243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C31C-1E24-40FF-9C7F-9EE850B08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6C96-D569-4E35-AF8B-8F59ABD4D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37099-AD3B-4673-8F8E-398CEC873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4FB64-E37E-4D20-8CB2-31659EC0F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2E665-75B8-43F5-86DC-981AEB82F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E0BBB-D7D3-4090-8FD2-3F4B5AF62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931D6-528E-42FD-93B4-0F4BE73B6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EA6AE-2799-4B4F-9EFC-840EAF8CE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16815-B7A5-49E6-B73A-E2E4B933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4B7B-8357-44D6-A465-C3D9930D6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E1ECA-6139-49FA-AFFF-4E9E105F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19560-6854-4E9B-82F9-C64CDA20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A1485-30EB-452C-80F6-B7A1C430E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6A78C-9F53-4F64-8CF9-45027B663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C408D-2EF8-4781-B862-F07D86739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A7B3-0915-4326-9649-ECABC2E5A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523D-6DF7-4265-B548-E5793ECE8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AE05-3E82-4F5E-B14E-7721BC423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4124-7199-49F7-BDCD-2089E911F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6F5F-624A-42BA-BE55-A3953F05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4BB0-85BD-457A-9993-AD2F6CE2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5FD7-145F-4C36-A008-37D2268D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898B6-BB4E-4ADB-8277-FF660DBADC66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C5D4C-2281-4BA9-B7BD-06D6010375CE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55640" y="2349360"/>
            <a:ext cx="777240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24360" y="2349360"/>
            <a:ext cx="44625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66ff"/>
                </a:solidFill>
                <a:latin typeface="Verdana"/>
                <a:ea typeface="华文行楷"/>
              </a:rPr>
              <a:t>母鸡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084720" y="4149720"/>
            <a:ext cx="1814760" cy="16462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900000" y="2997360"/>
            <a:ext cx="4130640" cy="2754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126828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Verdana"/>
              </a:rPr>
              <a:t>人教版  四年级  语文 上册 </a:t>
            </a:r>
            <a:r>
              <a:rPr b="1" lang="zh-CN" sz="4000" spc="-1" strike="noStrike">
                <a:solidFill>
                  <a:srgbClr val="0066ff"/>
                </a:solidFill>
                <a:latin typeface="Verdana"/>
              </a:rPr>
              <a:t>16</a:t>
            </a:r>
            <a:r>
              <a:rPr b="1" lang="zh-CN" sz="4000" spc="-1" strike="noStrike">
                <a:solidFill>
                  <a:srgbClr val="0066ff"/>
                </a:solidFill>
                <a:latin typeface="Verdana"/>
              </a:rPr>
              <a:t>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143000" y="1828800"/>
            <a:ext cx="68738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8459640" y="6381720"/>
            <a:ext cx="684360" cy="476280"/>
          </a:xfrm>
          <a:custGeom>
            <a:avLst/>
            <a:gdLst>
              <a:gd name="textAreaLeft" fmla="*/ 30600 w 684360"/>
              <a:gd name="textAreaRight" fmla="*/ 653760 w 684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1030" h="21600">
                <a:moveTo>
                  <a:pt x="0" y="0"/>
                </a:moveTo>
                <a:lnTo>
                  <a:pt x="31030" y="0"/>
                </a:lnTo>
                <a:lnTo>
                  <a:pt x="31030" y="21600"/>
                </a:lnTo>
                <a:lnTo>
                  <a:pt x="0" y="21600"/>
                </a:lnTo>
                <a:close/>
              </a:path>
              <a:path fill="lightenLess" w="31030" h="21600">
                <a:moveTo>
                  <a:pt x="0" y="0"/>
                </a:moveTo>
                <a:lnTo>
                  <a:pt x="31030" y="0"/>
                </a:lnTo>
                <a:lnTo>
                  <a:pt x="29630" y="1400"/>
                </a:lnTo>
                <a:lnTo>
                  <a:pt x="1400" y="1400"/>
                </a:lnTo>
                <a:close/>
              </a:path>
              <a:path fill="darken" w="31030" h="21600">
                <a:moveTo>
                  <a:pt x="31030" y="0"/>
                </a:moveTo>
                <a:lnTo>
                  <a:pt x="31030" y="21600"/>
                </a:lnTo>
                <a:lnTo>
                  <a:pt x="29630" y="20200"/>
                </a:lnTo>
                <a:lnTo>
                  <a:pt x="29630" y="1400"/>
                </a:lnTo>
                <a:close/>
              </a:path>
              <a:path fill="darkenLess" w="31030" h="21600">
                <a:moveTo>
                  <a:pt x="310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30" y="20200"/>
                </a:lnTo>
                <a:close/>
              </a:path>
              <a:path fill="lighten" w="310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030" h="21600">
                <a:moveTo>
                  <a:pt x="8508" y="3794"/>
                </a:moveTo>
                <a:lnTo>
                  <a:pt x="22521" y="10800"/>
                </a:lnTo>
                <a:lnTo>
                  <a:pt x="8508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2271600" y="152280"/>
            <a:ext cx="4510080" cy="66294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8027280" y="6165720"/>
            <a:ext cx="8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94920" y="2422080"/>
            <a:ext cx="788364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当母鸡发现了一点儿可吃的东西，它咕咕地紧叫，好像在说：“</a:t>
            </a:r>
            <a:r>
              <a:rPr b="1" lang="zh-CN" sz="3000" spc="-1" strike="noStrike" u="sng">
                <a:solidFill>
                  <a:srgbClr val="000000"/>
                </a:solidFill>
                <a:uFillTx/>
                <a:latin typeface="Verdana"/>
              </a:rPr>
              <a:t>                        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611280" y="692280"/>
            <a:ext cx="80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母鸡听到什么东西响了一声，立刻警戒起来，咕咕地警告鸡雏，好像在说：“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Verdana"/>
              </a:rPr>
              <a:t>                      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26920" y="407664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在夜间若有什么动静，它便放声啼叫：“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Verdana"/>
              </a:rPr>
              <a:t>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。”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7155000" y="4941720"/>
            <a:ext cx="173016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400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我再也不敢讨厌母鸡了，是因为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Verdana"/>
              </a:rPr>
              <a:t>         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Verdana"/>
              </a:rPr>
              <a:t>                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Verdana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Verdana"/>
              </a:rPr>
              <a:t>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Verdana"/>
              </a:rPr>
              <a:t>   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Verdana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Verdana"/>
              </a:rPr>
              <a:t>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                             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300720" y="4581360"/>
            <a:ext cx="2289240" cy="15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68360" y="1268280"/>
            <a:ext cx="835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它负责、慈爱、勇敢、辛苦，因为它有了一群鸡雏。它伟大，因为它是鸡母亲。一个母亲必定就是一位英雄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306864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你有什么体会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350028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都是在写母亲，对母亲的赞颂之情在逐句加深。作者为母鸡身上所表现出的母爱所震撼，认识到天地间所有的母亲都是英雄。这是对普天下所有母亲的赞颂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836640"/>
            <a:ext cx="16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理解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846000"/>
            <a:ext cx="9144000" cy="6039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965520" y="2781360"/>
            <a:ext cx="164268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不讨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92360" y="278136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慈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492360" y="134136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负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92360" y="393372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勇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64000" y="515772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辛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916360" y="1844640"/>
            <a:ext cx="576000" cy="3745080"/>
          </a:xfrm>
          <a:custGeom>
            <a:avLst/>
            <a:gdLst>
              <a:gd name="textAreaLeft" fmla="*/ 367920 w 576000"/>
              <a:gd name="textAreaRight" fmla="*/ 576000 w 576000"/>
              <a:gd name="textAreaTop" fmla="*/ 97560 h 3745080"/>
              <a:gd name="textAreaBottom" fmla="*/ 3647520 h 374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3280" y="2133720"/>
            <a:ext cx="62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我不敢再讨厌母鸡了。         我不再讨厌母鸡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9640" y="112536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比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68360" y="119700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总结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11280" y="206064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课文以作者的情感变化为线索，前后形成了鲜明的对比。前半部分写了母鸡的无病呻吟、欺软怕硬和拼命炫耀，再现了一只浅薄、媚俗的母鸡；后半部分则描写了母鸡的负责、慈爱、勇敢和辛苦，塑造了一位“伟大的鸡母亲”的形象。作者对母鸡的情感由“讨厌”转变为尊敬，表达了对母爱的赞颂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0" y="1773360"/>
            <a:ext cx="914400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门一开，她就脚爪并拢跳出鸡棚。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这是一只平常的母鸡，装饰朴素，从不下金蛋。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在眩目的亮光下，她犹豫不定地向院子里走了几步。    她首先看到的是灰堆，每天早晨，她都习惯在那儿嬉戏。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她在那里打滚，沾上满身灰烬。她羽毛鼓涨，双翅激烈振动着，抖掉昨夜的跳蚤。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然后，她走到被最近一场骤雨注满水的盘子前饮水。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她只是饮水。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她小口小口地饮，脖子举起时刚够着盘子的边缘。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然后，她寻找散食。</a:t>
            </a:r>
            <a:br>
              <a:rPr sz="2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564000" y="907920"/>
            <a:ext cx="1944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母鸡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77080" y="476280"/>
            <a:ext cx="1866960" cy="14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Down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补充阅读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08000" y="1536840"/>
            <a:ext cx="889308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属于她的有嫩草，还有昆虫和遗落的谷粒。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她啄着、啄着，不知疲倦。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她时而停下来，挺立着，目光敏锐，嗉囔前凸、头冠有似当年共和党人的红便帽。                       她在用这只和那只耳朵倾听。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而一旦确信并无什么新鲜事，她又开始寻食。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她像关节性痛风患者那样高高举起僵直的脚。       她张开爪子，小心地放下，没有声音。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她行走时多像光着脚丫子的人。</a:t>
            </a:r>
            <a:br>
              <a:rPr sz="2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-4132800"/>
            <a:ext cx="684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9280" y="620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自学提示：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336699"/>
                </a:solidFill>
                <a:uFillTx/>
                <a:latin typeface="Verdana"/>
                <a:hlinkClick r:id="rId2" action="ppaction://hlinksldjump"/>
              </a:rPr>
              <a:t>读课文，组内检查读音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运用学过的方法，理解文中的词语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思考：作者对母鸡是怎样的态度？为什么？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796000" y="4221000"/>
            <a:ext cx="280188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91976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003640" y="122400"/>
            <a:ext cx="41403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个发生在一位游子与母亲之间。游子探亲期满离开故乡，母亲送他去车站。在车站，儿子放旅行包的拎带被挤断。眼看着就要到发车时间，母亲急忙从身上解下裤腰带，把旅行包扎好。解裤腰带时，由于心急又用力，她把脸都涨红了。儿子问母亲怎么回家呢？母亲说，不要紧，慢慢走。多少年来，儿子一直把母亲这根裤腰带珍藏在身边。多少年来，儿子一直在想，他母亲没有裤腰带是怎样走回几里外的家的。 另一个故事由发生在一个犯人同母亲之间，探监的日子，一位来自贫困山区的母亲，经过乘驴车、汽车和火车的辗转，探望服刑的儿子。在探监人五光十色的物品中，老母亲给儿子掏出用白布包着的葵花子。葵花子已经炒熟，老母亲全嗑好了。没有皮，白花花的像密密麻麻的雀舌头服刑的儿子接过这堆葵花子肉，手开始抖。母亲亦无言语，撩起衣襟拭泪。她千里迢迢探望儿子，卖掉了鸡蛋和小猪崽，还要节省许多开支才凑足路费，来之前，在白天的劳碌后，晚上在煤油灯下嗑瓜子。嗑好的瓜子肉放在一起，看它们像小山一点点增多，不舍得吃一粒。十多斤瓜子嗑了许多夜晚。在所有探监人当中，他母亲的衣着是最褴褛的。母亲一口一口嗑的瓜子，包含了千言万语。儿子“扑通”给母亲跪下，他忏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了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4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1116000" y="1989000"/>
            <a:ext cx="3456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99"/>
                </a:solidFill>
                <a:latin typeface="黑体"/>
              </a:rPr>
              <a:t>母爱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99"/>
              </a:solidFill>
              <a:latin typeface="黑体"/>
              <a:ea typeface="黑体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084720" y="765000"/>
            <a:ext cx="1513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latin typeface="宋体"/>
              </a:rPr>
              <a:t>无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cc"/>
              </a:solidFill>
              <a:latin typeface="宋体"/>
              <a:ea typeface="宋体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156360" y="3789360"/>
            <a:ext cx="1512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dddddd"/>
                  </a:solidFill>
                  <a:miter/>
                </a:ln>
                <a:solidFill>
                  <a:srgbClr val="339966"/>
                </a:solidFill>
                <a:latin typeface="宋体"/>
              </a:rPr>
              <a:t>勇敢</a:t>
            </a:r>
            <a:endParaRPr b="0" lang="en-US" sz="1800" spc="1" strike="noStrike">
              <a:ln w="9360">
                <a:solidFill>
                  <a:srgbClr val="dddddd"/>
                </a:solidFill>
                <a:miter/>
              </a:ln>
              <a:solidFill>
                <a:srgbClr val="339966"/>
              </a:solidFill>
              <a:latin typeface="宋体"/>
              <a:ea typeface="宋体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227640" y="4797360"/>
            <a:ext cx="1513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宋体"/>
              </a:rPr>
              <a:t>辛苦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宋体"/>
              <a:ea typeface="宋体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156360" y="1773360"/>
            <a:ext cx="1512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宋体"/>
              </a:rPr>
              <a:t>负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宋体"/>
              <a:ea typeface="宋体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156360" y="2781360"/>
            <a:ext cx="1512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宋体"/>
              </a:rPr>
              <a:t>慈爱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0" y="0"/>
          <a:ext cx="403848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40384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1981080" y="3124080"/>
            <a:ext cx="7239240" cy="24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麻雀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—屠格涅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柱子上的母鸡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—普里什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母鸡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—列那尔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152388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00"/>
                </a:solidFill>
                <a:latin typeface="Arial"/>
                <a:ea typeface="隶书"/>
              </a:rPr>
              <a:t>阅读链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067280" y="620640"/>
            <a:ext cx="1836720" cy="13780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4356000" y="2349360"/>
            <a:ext cx="1222560" cy="12225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6300720" y="189000"/>
            <a:ext cx="2189160" cy="31687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468360" y="260280"/>
            <a:ext cx="3313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动物情缘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250920" y="1916280"/>
            <a:ext cx="3370320" cy="43210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4572000" y="3716280"/>
            <a:ext cx="363852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6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559880" y="1914840"/>
            <a:ext cx="6550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泣如诉   警戒    凄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警告    趁其不备   鸡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田坝     欺侮     颤颤巍巍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588000" y="4508640"/>
            <a:ext cx="226692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0920" y="62028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下面的词语可以概括成什么词语？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5528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看看前，看看后。（              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趁别人没有防备。（              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挺着身儿出击。（               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好像哭泣又好像诉说。（             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4716360" y="1700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Verdana"/>
              </a:rPr>
              <a:t>瞻前顾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718160" y="227664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Verdana"/>
              </a:rPr>
              <a:t>趁其不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27640" y="284940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Verdana"/>
              </a:rPr>
              <a:t>挺身而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35640" y="335772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Verdana"/>
              </a:rPr>
              <a:t>如泣如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651640" y="4365720"/>
            <a:ext cx="264924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009900"/>
                </a:solidFill>
                <a:latin typeface="Verdana"/>
              </a:rPr>
              <a:t>我一向讨厌母鸡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ff00ff"/>
                </a:solidFill>
                <a:latin typeface="Verdana"/>
              </a:rPr>
              <a:t>我再也不敢讨厌母鸡了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826920" y="833400"/>
            <a:ext cx="59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作者对母鸡是怎样的态度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948360" y="4797360"/>
            <a:ext cx="1839960" cy="13208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729880" y="256536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Verdana"/>
              </a:rPr>
              <a:t>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84360" y="1125360"/>
            <a:ext cx="7920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组合作学习研究探讨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找出文中直接写作者对母鸡由讨厌到不讨厌这一情感变化的语句？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作者分别通过哪些具体事例写母鸡的讨厌与不讨厌？每个事例各用一个恰当的词语概括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联系上文和生活体验谈谈自己对第九自然段的理解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句子辨析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“我不敢再讨厌母鸡了”改为“我不再讨厌母鸡了”可以吗？为什么？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23640" y="1752480"/>
            <a:ext cx="8243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母鸡受了一点惊恐，它由前院咕咕到后院，由后院再咕咕到前院，好像在说：“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Verdana"/>
              </a:rPr>
              <a:t>      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”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2340000" y="2852640"/>
            <a:ext cx="64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Verdana"/>
              </a:rPr>
              <a:t>来人啊！我害怕，谁来保护我呀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14400" cy="16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846000"/>
            <a:ext cx="9144000" cy="6039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320" y="2637000"/>
            <a:ext cx="91152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讨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332000" y="1341360"/>
            <a:ext cx="25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无病呻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03280" y="270828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欺善怕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332000" y="443700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拼命炫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38560" y="1052640"/>
            <a:ext cx="50054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黑体"/>
              </a:rPr>
              <a:t>嘎嘎   没完没了   细声细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黑体"/>
              </a:rPr>
              <a:t>颤颤巍巍   如怨如诉  小疙瘩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46560" y="2708280"/>
            <a:ext cx="489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黑体"/>
                <a:ea typeface="黑体"/>
              </a:rPr>
              <a:t>不反抗   欺侮       可恶         下毒手   乘其不备   狠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92360" y="3860640"/>
            <a:ext cx="56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黑体"/>
              </a:rPr>
              <a:t>到下蛋的时候，它差不多是发了狂，恨不能让全世界都知道它这点成绩，就是聋子也会被吵得受不了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55640" y="1700280"/>
            <a:ext cx="576360" cy="3313080"/>
          </a:xfrm>
          <a:custGeom>
            <a:avLst/>
            <a:gdLst>
              <a:gd name="textAreaLeft" fmla="*/ 368280 w 576360"/>
              <a:gd name="textAreaRight" fmla="*/ 576720 w 576360"/>
              <a:gd name="textAreaTop" fmla="*/ 86400 h 3313080"/>
              <a:gd name="textAreaBottom" fmla="*/ 3226680 h 33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867280" y="5157720"/>
            <a:ext cx="30243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796000" y="4724280"/>
            <a:ext cx="2448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732720" y="5229360"/>
            <a:ext cx="25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Arial"/>
                <a:ea typeface="黑体"/>
              </a:rPr>
              <a:t>夸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284720" y="1989000"/>
            <a:ext cx="439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黑体"/>
              </a:rPr>
              <a:t>汇报交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846000"/>
            <a:ext cx="9144000" cy="6039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826920" y="26028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讨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867280" y="333360"/>
            <a:ext cx="20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敢讨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979640" y="476280"/>
            <a:ext cx="3672000" cy="288720"/>
          </a:xfrm>
          <a:prstGeom prst="rightArrow">
            <a:avLst>
              <a:gd name="adj1" fmla="val 50000"/>
              <a:gd name="adj2" fmla="val 317955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11640" y="206064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可是，现在我改变了心思，我看见一只孵出一群小雏鸡的母鸡。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8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3T03:04:29Z</dcterms:created>
  <dc:creator>wwwfox</dc:creator>
  <dc:description/>
  <dc:language>en-US</dc:language>
  <cp:lastModifiedBy>user</cp:lastModifiedBy>
  <dcterms:modified xsi:type="dcterms:W3CDTF">2011-10-25T11:02:35Z</dcterms:modified>
  <cp:revision>11</cp:revision>
  <dc:subject/>
  <dc:title>34   母鸡</dc:title>
</cp:coreProperties>
</file>