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58680"/>
            <a:ext cx="8520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143F1179-C9CF-469E-8049-DAC200A1233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174080" y="6156360"/>
            <a:ext cx="1645920" cy="37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0" y="0"/>
            <a:ext cx="9156600" cy="687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2809800" y="969840"/>
            <a:ext cx="3554640" cy="2949840"/>
          </a:xfrm>
          <a:prstGeom prst="ellipse">
            <a:avLst/>
          </a:prstGeom>
          <a:gradFill rotWithShape="0">
            <a:gsLst>
              <a:gs pos="0">
                <a:srgbClr val="ff8500"/>
              </a:gs>
              <a:gs pos="100000">
                <a:srgbClr val="0000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2004840" y="3251160"/>
            <a:ext cx="5334120" cy="668520"/>
          </a:xfrm>
          <a:prstGeom prst="ellipse">
            <a:avLst/>
          </a:prstGeom>
          <a:gradFill rotWithShape="0">
            <a:gsLst>
              <a:gs pos="0">
                <a:srgbClr val="ff8500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2976480" y="1268280"/>
            <a:ext cx="3363840" cy="2697120"/>
            <a:chOff x="2976480" y="1268280"/>
            <a:chExt cx="3363840" cy="2697120"/>
          </a:xfrm>
        </p:grpSpPr>
        <p:sp>
          <p:nvSpPr>
            <p:cNvPr id="45" name="Freeform 5"/>
            <p:cNvSpPr/>
            <p:nvPr/>
          </p:nvSpPr>
          <p:spPr>
            <a:xfrm>
              <a:off x="4572000" y="1325520"/>
              <a:ext cx="1768320" cy="210636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2106360"/>
                <a:gd name="textAreaBottom" fmla="*/ 2106360 h 210636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3062520" y="1523880"/>
              <a:ext cx="1509120" cy="2257560"/>
            </a:xfrm>
            <a:custGeom>
              <a:avLst/>
              <a:gdLst>
                <a:gd name="textAreaLeft" fmla="*/ 0 w 1509120"/>
                <a:gd name="textAreaRight" fmla="*/ 1509480 w 150912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3591720" y="1868400"/>
              <a:ext cx="1724400" cy="209700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2097000"/>
                <a:gd name="textAreaBottom" fmla="*/ 2097360 h 209700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4572000" y="1455480"/>
              <a:ext cx="495000" cy="4129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2976480" y="1449360"/>
              <a:ext cx="1587960" cy="199872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4572000" y="1290600"/>
              <a:ext cx="1349280" cy="244944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4572000" y="1290600"/>
              <a:ext cx="1768320" cy="214128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2141280"/>
                <a:gd name="textAreaBottom" fmla="*/ 2141640 h 2141280"/>
              </a:gdLst>
              <a:ahLst/>
              <a:rect l="textAreaLeft" t="textAreaTop" r="textAreaRight" b="textAreaBottom"/>
              <a:pathLst>
                <a:path w="511" h="571">
                  <a:moveTo>
                    <a:pt x="0" y="154"/>
                  </a:moveTo>
                  <a:cubicBezTo>
                    <a:pt x="379" y="0"/>
                    <a:pt x="390" y="458"/>
                    <a:pt x="288" y="571"/>
                  </a:cubicBezTo>
                  <a:cubicBezTo>
                    <a:pt x="511" y="321"/>
                    <a:pt x="290" y="9"/>
                    <a:pt x="0" y="154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3433320" y="1868400"/>
              <a:ext cx="1138320" cy="1882800"/>
            </a:xfrm>
            <a:custGeom>
              <a:avLst/>
              <a:gdLst>
                <a:gd name="textAreaLeft" fmla="*/ 0 w 1138320"/>
                <a:gd name="textAreaRight" fmla="*/ 1138320 w 113832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329" h="502">
                  <a:moveTo>
                    <a:pt x="329" y="0"/>
                  </a:moveTo>
                  <a:cubicBezTo>
                    <a:pt x="0" y="75"/>
                    <a:pt x="68" y="480"/>
                    <a:pt x="245" y="502"/>
                  </a:cubicBezTo>
                  <a:cubicBezTo>
                    <a:pt x="46" y="367"/>
                    <a:pt x="84" y="75"/>
                    <a:pt x="329" y="0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2976480" y="1449360"/>
              <a:ext cx="1595520" cy="1998720"/>
            </a:xfrm>
            <a:custGeom>
              <a:avLst/>
              <a:gdLst>
                <a:gd name="textAreaLeft" fmla="*/ 0 w 1595520"/>
                <a:gd name="textAreaRight" fmla="*/ 1595880 w 15955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1" h="533">
                  <a:moveTo>
                    <a:pt x="461" y="112"/>
                  </a:moveTo>
                  <a:cubicBezTo>
                    <a:pt x="461" y="112"/>
                    <a:pt x="460" y="112"/>
                    <a:pt x="459" y="111"/>
                  </a:cubicBezTo>
                  <a:cubicBezTo>
                    <a:pt x="217" y="0"/>
                    <a:pt x="0" y="296"/>
                    <a:pt x="168" y="533"/>
                  </a:cubicBezTo>
                  <a:cubicBezTo>
                    <a:pt x="25" y="270"/>
                    <a:pt x="229" y="20"/>
                    <a:pt x="461" y="112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4572000" y="1868400"/>
              <a:ext cx="906840" cy="177012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1770120"/>
                <a:gd name="textAreaBottom" fmla="*/ 1770480 h 1770120"/>
              </a:gdLst>
              <a:ahLst/>
              <a:rect l="textAreaLeft" t="textAreaTop" r="textAreaRight" b="textAreaBottom"/>
              <a:pathLst>
                <a:path w="262" h="472">
                  <a:moveTo>
                    <a:pt x="0" y="0"/>
                  </a:moveTo>
                  <a:cubicBezTo>
                    <a:pt x="137" y="39"/>
                    <a:pt x="215" y="338"/>
                    <a:pt x="106" y="472"/>
                  </a:cubicBezTo>
                  <a:cubicBezTo>
                    <a:pt x="181" y="453"/>
                    <a:pt x="262" y="63"/>
                    <a:pt x="0" y="0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4572000" y="1501560"/>
              <a:ext cx="538920" cy="366840"/>
            </a:xfrm>
            <a:custGeom>
              <a:avLst/>
              <a:gdLst>
                <a:gd name="textAreaLeft" fmla="*/ 0 w 538920"/>
                <a:gd name="textAreaRight" fmla="*/ 539280 w 5389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56" h="98">
                  <a:moveTo>
                    <a:pt x="0" y="98"/>
                  </a:moveTo>
                  <a:cubicBezTo>
                    <a:pt x="66" y="45"/>
                    <a:pt x="128" y="22"/>
                    <a:pt x="156" y="13"/>
                  </a:cubicBezTo>
                  <a:cubicBezTo>
                    <a:pt x="152" y="10"/>
                    <a:pt x="147" y="8"/>
                    <a:pt x="143" y="6"/>
                  </a:cubicBezTo>
                  <a:cubicBezTo>
                    <a:pt x="108" y="0"/>
                    <a:pt x="48" y="57"/>
                    <a:pt x="0" y="98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4557240" y="1546200"/>
              <a:ext cx="174240" cy="322200"/>
            </a:xfrm>
            <a:custGeom>
              <a:avLst/>
              <a:gdLst>
                <a:gd name="textAreaLeft" fmla="*/ 0 w 174240"/>
                <a:gd name="textAreaRight" fmla="*/ 174240 w 174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50" h="86">
                  <a:moveTo>
                    <a:pt x="4" y="86"/>
                  </a:moveTo>
                  <a:cubicBezTo>
                    <a:pt x="12" y="66"/>
                    <a:pt x="22" y="18"/>
                    <a:pt x="50" y="0"/>
                  </a:cubicBezTo>
                  <a:cubicBezTo>
                    <a:pt x="24" y="3"/>
                    <a:pt x="0" y="49"/>
                    <a:pt x="4" y="86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4177800" y="1595160"/>
              <a:ext cx="393840" cy="2732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14" h="73">
                  <a:moveTo>
                    <a:pt x="114" y="73"/>
                  </a:moveTo>
                  <a:cubicBezTo>
                    <a:pt x="92" y="44"/>
                    <a:pt x="21" y="0"/>
                    <a:pt x="0" y="3"/>
                  </a:cubicBezTo>
                  <a:cubicBezTo>
                    <a:pt x="27" y="17"/>
                    <a:pt x="87" y="60"/>
                    <a:pt x="112" y="72"/>
                  </a:cubicBezTo>
                  <a:cubicBezTo>
                    <a:pt x="113" y="73"/>
                    <a:pt x="114" y="73"/>
                    <a:pt x="114" y="73"/>
                  </a:cubicBezTo>
                  <a:close/>
                </a:path>
              </a:pathLst>
            </a:custGeom>
            <a:solidFill>
              <a:srgbClr val="d86e05"/>
            </a:solidFill>
            <a:ln w="9360">
              <a:solidFill>
                <a:srgbClr val="d86e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4177800" y="1455480"/>
              <a:ext cx="553680" cy="41292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4437000" y="1752480"/>
              <a:ext cx="272160" cy="15732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4197960" y="1306440"/>
              <a:ext cx="460080" cy="55080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4183560" y="1268280"/>
              <a:ext cx="484920" cy="25560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22"/>
          <p:cNvSpPr/>
          <p:nvPr/>
        </p:nvSpPr>
        <p:spPr>
          <a:xfrm>
            <a:off x="-14400" y="-49320"/>
            <a:ext cx="9144000" cy="539604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50000">
                <a:srgbClr val="000000">
                  <a:alpha val="90196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3591000" y="2155680"/>
            <a:ext cx="1910880" cy="1395000"/>
            <a:chOff x="3591000" y="2155680"/>
            <a:chExt cx="1910880" cy="1395000"/>
          </a:xfrm>
        </p:grpSpPr>
        <p:grpSp>
          <p:nvGrpSpPr>
            <p:cNvPr id="64" name="Group 24"/>
            <p:cNvGrpSpPr/>
            <p:nvPr/>
          </p:nvGrpSpPr>
          <p:grpSpPr>
            <a:xfrm>
              <a:off x="4452840" y="2654280"/>
              <a:ext cx="210960" cy="153720"/>
              <a:chOff x="4452840" y="2654280"/>
              <a:chExt cx="210960" cy="153720"/>
            </a:xfrm>
          </p:grpSpPr>
          <p:sp>
            <p:nvSpPr>
              <p:cNvPr id="65" name="Freeform 25"/>
              <p:cNvSpPr/>
              <p:nvPr/>
            </p:nvSpPr>
            <p:spPr>
              <a:xfrm>
                <a:off x="4452840" y="2654280"/>
                <a:ext cx="210960" cy="1537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44" h="97">
                    <a:moveTo>
                      <a:pt x="0" y="97"/>
                    </a:moveTo>
                    <a:lnTo>
                      <a:pt x="76" y="0"/>
                    </a:lnTo>
                    <a:lnTo>
                      <a:pt x="144" y="81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>
                <a:off x="4455720" y="2662200"/>
                <a:ext cx="200520" cy="1458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137" h="92">
                    <a:moveTo>
                      <a:pt x="0" y="92"/>
                    </a:moveTo>
                    <a:lnTo>
                      <a:pt x="71" y="0"/>
                    </a:lnTo>
                    <a:lnTo>
                      <a:pt x="137" y="78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7"/>
            <p:cNvGrpSpPr/>
            <p:nvPr/>
          </p:nvGrpSpPr>
          <p:grpSpPr>
            <a:xfrm>
              <a:off x="3591000" y="2155680"/>
              <a:ext cx="1910880" cy="561960"/>
              <a:chOff x="3591000" y="2155680"/>
              <a:chExt cx="1910880" cy="561960"/>
            </a:xfrm>
          </p:grpSpPr>
          <p:sp>
            <p:nvSpPr>
              <p:cNvPr id="68" name="Freeform 28"/>
              <p:cNvSpPr/>
              <p:nvPr/>
            </p:nvSpPr>
            <p:spPr>
              <a:xfrm>
                <a:off x="3591000" y="2155680"/>
                <a:ext cx="869040" cy="558720"/>
              </a:xfrm>
              <a:custGeom>
                <a:avLst/>
                <a:gdLst>
                  <a:gd name="textAreaLeft" fmla="*/ 0 w 869040"/>
                  <a:gd name="textAreaRight" fmla="*/ 869400 w 86904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251" h="149">
                    <a:moveTo>
                      <a:pt x="65" y="133"/>
                    </a:moveTo>
                    <a:cubicBezTo>
                      <a:pt x="0" y="106"/>
                      <a:pt x="7" y="33"/>
                      <a:pt x="7" y="0"/>
                    </a:cubicBezTo>
                    <a:cubicBezTo>
                      <a:pt x="47" y="21"/>
                      <a:pt x="220" y="111"/>
                      <a:pt x="251" y="109"/>
                    </a:cubicBezTo>
                    <a:cubicBezTo>
                      <a:pt x="217" y="129"/>
                      <a:pt x="105" y="149"/>
                      <a:pt x="65" y="133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9"/>
              <p:cNvSpPr/>
              <p:nvPr/>
            </p:nvSpPr>
            <p:spPr>
              <a:xfrm>
                <a:off x="4622760" y="2155680"/>
                <a:ext cx="879120" cy="558720"/>
              </a:xfrm>
              <a:custGeom>
                <a:avLst/>
                <a:gdLst>
                  <a:gd name="textAreaLeft" fmla="*/ 0 w 879120"/>
                  <a:gd name="textAreaRight" fmla="*/ 879480 w 87912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254" h="149">
                    <a:moveTo>
                      <a:pt x="189" y="133"/>
                    </a:moveTo>
                    <a:cubicBezTo>
                      <a:pt x="254" y="106"/>
                      <a:pt x="247" y="33"/>
                      <a:pt x="247" y="0"/>
                    </a:cubicBezTo>
                    <a:cubicBezTo>
                      <a:pt x="207" y="21"/>
                      <a:pt x="32" y="110"/>
                      <a:pt x="0" y="108"/>
                    </a:cubicBezTo>
                    <a:cubicBezTo>
                      <a:pt x="35" y="129"/>
                      <a:pt x="148" y="149"/>
                      <a:pt x="189" y="133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0"/>
              <p:cNvSpPr/>
              <p:nvPr/>
            </p:nvSpPr>
            <p:spPr>
              <a:xfrm>
                <a:off x="3642480" y="2189160"/>
                <a:ext cx="812880" cy="52848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235" h="141">
                    <a:moveTo>
                      <a:pt x="62" y="126"/>
                    </a:moveTo>
                    <a:cubicBezTo>
                      <a:pt x="0" y="100"/>
                      <a:pt x="7" y="31"/>
                      <a:pt x="7" y="0"/>
                    </a:cubicBezTo>
                    <a:cubicBezTo>
                      <a:pt x="44" y="20"/>
                      <a:pt x="205" y="102"/>
                      <a:pt x="235" y="101"/>
                    </a:cubicBezTo>
                    <a:cubicBezTo>
                      <a:pt x="203" y="120"/>
                      <a:pt x="100" y="141"/>
                      <a:pt x="62" y="12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1"/>
              <p:cNvSpPr/>
              <p:nvPr/>
            </p:nvSpPr>
            <p:spPr>
              <a:xfrm>
                <a:off x="4633200" y="2189160"/>
                <a:ext cx="817200" cy="52848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236" h="141">
                    <a:moveTo>
                      <a:pt x="174" y="126"/>
                    </a:moveTo>
                    <a:cubicBezTo>
                      <a:pt x="236" y="100"/>
                      <a:pt x="229" y="31"/>
                      <a:pt x="229" y="0"/>
                    </a:cubicBezTo>
                    <a:cubicBezTo>
                      <a:pt x="192" y="20"/>
                      <a:pt x="30" y="102"/>
                      <a:pt x="0" y="101"/>
                    </a:cubicBezTo>
                    <a:cubicBezTo>
                      <a:pt x="33" y="120"/>
                      <a:pt x="136" y="141"/>
                      <a:pt x="174" y="12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32"/>
            <p:cNvGrpSpPr/>
            <p:nvPr/>
          </p:nvGrpSpPr>
          <p:grpSpPr>
            <a:xfrm>
              <a:off x="3709440" y="2808000"/>
              <a:ext cx="1730880" cy="742680"/>
              <a:chOff x="3709440" y="2808000"/>
              <a:chExt cx="1730880" cy="742680"/>
            </a:xfrm>
          </p:grpSpPr>
          <p:sp>
            <p:nvSpPr>
              <p:cNvPr id="73" name="Freeform 33"/>
              <p:cNvSpPr/>
              <p:nvPr/>
            </p:nvSpPr>
            <p:spPr>
              <a:xfrm>
                <a:off x="3709440" y="2808000"/>
                <a:ext cx="1730880" cy="742680"/>
              </a:xfrm>
              <a:custGeom>
                <a:avLst/>
                <a:gdLst>
                  <a:gd name="textAreaLeft" fmla="*/ 0 w 1730880"/>
                  <a:gd name="textAreaRight" fmla="*/ 1731240 w 173088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181" h="468">
                    <a:moveTo>
                      <a:pt x="0" y="130"/>
                    </a:moveTo>
                    <a:lnTo>
                      <a:pt x="250" y="270"/>
                    </a:lnTo>
                    <a:lnTo>
                      <a:pt x="335" y="199"/>
                    </a:lnTo>
                    <a:lnTo>
                      <a:pt x="465" y="270"/>
                    </a:lnTo>
                    <a:lnTo>
                      <a:pt x="531" y="199"/>
                    </a:lnTo>
                    <a:lnTo>
                      <a:pt x="666" y="270"/>
                    </a:lnTo>
                    <a:lnTo>
                      <a:pt x="780" y="100"/>
                    </a:lnTo>
                    <a:lnTo>
                      <a:pt x="888" y="189"/>
                    </a:lnTo>
                    <a:lnTo>
                      <a:pt x="1181" y="0"/>
                    </a:lnTo>
                    <a:lnTo>
                      <a:pt x="893" y="402"/>
                    </a:lnTo>
                    <a:lnTo>
                      <a:pt x="791" y="338"/>
                    </a:lnTo>
                    <a:lnTo>
                      <a:pt x="668" y="468"/>
                    </a:lnTo>
                    <a:lnTo>
                      <a:pt x="557" y="374"/>
                    </a:lnTo>
                    <a:lnTo>
                      <a:pt x="472" y="433"/>
                    </a:lnTo>
                    <a:lnTo>
                      <a:pt x="345" y="345"/>
                    </a:lnTo>
                    <a:lnTo>
                      <a:pt x="250" y="364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4"/>
              <p:cNvSpPr/>
              <p:nvPr/>
            </p:nvSpPr>
            <p:spPr>
              <a:xfrm>
                <a:off x="3740040" y="2837880"/>
                <a:ext cx="1658880" cy="687600"/>
              </a:xfrm>
              <a:custGeom>
                <a:avLst/>
                <a:gdLst>
                  <a:gd name="textAreaLeft" fmla="*/ 0 w 1658880"/>
                  <a:gd name="textAreaRight" fmla="*/ 1659240 w 165888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1132" h="433">
                    <a:moveTo>
                      <a:pt x="0" y="126"/>
                    </a:moveTo>
                    <a:lnTo>
                      <a:pt x="241" y="241"/>
                    </a:lnTo>
                    <a:lnTo>
                      <a:pt x="324" y="173"/>
                    </a:lnTo>
                    <a:lnTo>
                      <a:pt x="447" y="241"/>
                    </a:lnTo>
                    <a:lnTo>
                      <a:pt x="510" y="173"/>
                    </a:lnTo>
                    <a:lnTo>
                      <a:pt x="643" y="241"/>
                    </a:lnTo>
                    <a:lnTo>
                      <a:pt x="751" y="78"/>
                    </a:lnTo>
                    <a:lnTo>
                      <a:pt x="855" y="163"/>
                    </a:lnTo>
                    <a:lnTo>
                      <a:pt x="1132" y="0"/>
                    </a:lnTo>
                    <a:lnTo>
                      <a:pt x="860" y="369"/>
                    </a:lnTo>
                    <a:lnTo>
                      <a:pt x="763" y="307"/>
                    </a:lnTo>
                    <a:lnTo>
                      <a:pt x="645" y="433"/>
                    </a:lnTo>
                    <a:lnTo>
                      <a:pt x="536" y="343"/>
                    </a:lnTo>
                    <a:lnTo>
                      <a:pt x="454" y="400"/>
                    </a:lnTo>
                    <a:lnTo>
                      <a:pt x="333" y="315"/>
                    </a:lnTo>
                    <a:lnTo>
                      <a:pt x="241" y="331"/>
                    </a:lnTo>
                    <a:lnTo>
                      <a:pt x="0" y="1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1"/>
                  </a:gs>
                  <a:gs pos="100000">
                    <a:srgbClr val="ffff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Line 35"/>
          <p:cNvSpPr/>
          <p:nvPr/>
        </p:nvSpPr>
        <p:spPr>
          <a:xfrm flipV="1">
            <a:off x="6958080" y="-360"/>
            <a:ext cx="0" cy="403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36"/>
          <p:cNvSpPr txBox="1"/>
          <p:nvPr/>
        </p:nvSpPr>
        <p:spPr>
          <a:xfrm>
            <a:off x="944640" y="4941720"/>
            <a:ext cx="7542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86400"/>
                  </a:outerShdw>
                </a:effectLst>
                <a:latin typeface="Arial Black"/>
              </a:rPr>
              <a:t>Happy Hallow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effectLst>
                <a:outerShdw dist="40186" dir="1096358" blurRad="0" rotWithShape="0">
                  <a:srgbClr val="a864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Picture 37" descr="Spinne"/>
          <p:cNvPicPr/>
          <p:nvPr/>
        </p:nvPicPr>
        <p:blipFill>
          <a:blip r:embed="rId2"/>
          <a:stretch/>
        </p:blipFill>
        <p:spPr>
          <a:xfrm>
            <a:off x="4836960" y="3097080"/>
            <a:ext cx="3924360" cy="283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"/>
          <p:cNvPicPr/>
          <p:nvPr/>
        </p:nvPicPr>
        <p:blipFill>
          <a:blip r:embed="rId3"/>
          <a:stretch/>
        </p:blipFill>
        <p:spPr>
          <a:xfrm>
            <a:off x="-5810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641E-006 -0.79954 L 2.5641E-006 -1.48148E-006 E">
                                      <p:cBhvr>
                                        <p:cTn id="26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7692E-006 -0.83703 L 3.07692E-006 -2.59259E-006 E">
                                      <p:cBhvr>
                                        <p:cTn id="28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0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0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55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915840" y="144360"/>
            <a:ext cx="7512120" cy="5877000"/>
          </a:xfrm>
          <a:prstGeom prst="ellipse">
            <a:avLst/>
          </a:prstGeom>
          <a:gradFill rotWithShape="0">
            <a:gsLst>
              <a:gs pos="0">
                <a:srgbClr val="a864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 flipV="1">
            <a:off x="0" y="3427920"/>
            <a:ext cx="9144000" cy="3429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781280" y="4524480"/>
            <a:ext cx="565308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162000" y="3767040"/>
            <a:ext cx="4011480" cy="1317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038560" y="3500280"/>
            <a:ext cx="4011840" cy="131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4"/>
          <a:stretch/>
        </p:blipFill>
        <p:spPr>
          <a:xfrm>
            <a:off x="4037040" y="4005360"/>
            <a:ext cx="565308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9"/>
          <p:cNvGrpSpPr/>
          <p:nvPr/>
        </p:nvGrpSpPr>
        <p:grpSpPr>
          <a:xfrm>
            <a:off x="774720" y="2411280"/>
            <a:ext cx="2722680" cy="2184120"/>
            <a:chOff x="774720" y="2411280"/>
            <a:chExt cx="2722680" cy="2184120"/>
          </a:xfrm>
        </p:grpSpPr>
        <p:pic>
          <p:nvPicPr>
            <p:cNvPr id="87" name="Picture 10" descr="Unbenannt-1"/>
            <p:cNvPicPr/>
            <p:nvPr/>
          </p:nvPicPr>
          <p:blipFill>
            <a:blip r:embed="rId5"/>
            <a:stretch/>
          </p:blipFill>
          <p:spPr>
            <a:xfrm>
              <a:off x="1184760" y="2722320"/>
              <a:ext cx="1923120" cy="162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Group 11"/>
            <p:cNvGrpSpPr/>
            <p:nvPr/>
          </p:nvGrpSpPr>
          <p:grpSpPr>
            <a:xfrm>
              <a:off x="774720" y="2411280"/>
              <a:ext cx="2722680" cy="2184120"/>
              <a:chOff x="774720" y="2411280"/>
              <a:chExt cx="2722680" cy="2184120"/>
            </a:xfrm>
          </p:grpSpPr>
          <p:sp>
            <p:nvSpPr>
              <p:cNvPr id="89" name="Freeform 12"/>
              <p:cNvSpPr/>
              <p:nvPr/>
            </p:nvSpPr>
            <p:spPr>
              <a:xfrm>
                <a:off x="2066040" y="2457000"/>
                <a:ext cx="1431360" cy="1706040"/>
              </a:xfrm>
              <a:custGeom>
                <a:avLst/>
                <a:gdLst>
                  <a:gd name="textAreaLeft" fmla="*/ 0 w 1431360"/>
                  <a:gd name="textAreaRight" fmla="*/ 1431720 w 1431360"/>
                  <a:gd name="textAreaTop" fmla="*/ 0 h 1706040"/>
                  <a:gd name="textAreaBottom" fmla="*/ 1706400 h 1706040"/>
                </a:gdLst>
                <a:ahLst/>
                <a:rect l="textAreaLeft" t="textAreaTop" r="textAreaRight" b="textAreaBottom"/>
                <a:pathLst>
                  <a:path w="511" h="562">
                    <a:moveTo>
                      <a:pt x="402" y="239"/>
                    </a:moveTo>
                    <a:cubicBezTo>
                      <a:pt x="355" y="96"/>
                      <a:pt x="246" y="54"/>
                      <a:pt x="156" y="60"/>
                    </a:cubicBezTo>
                    <a:cubicBezTo>
                      <a:pt x="128" y="69"/>
                      <a:pt x="66" y="92"/>
                      <a:pt x="0" y="145"/>
                    </a:cubicBezTo>
                    <a:cubicBezTo>
                      <a:pt x="290" y="0"/>
                      <a:pt x="511" y="312"/>
                      <a:pt x="288" y="562"/>
                    </a:cubicBezTo>
                    <a:cubicBezTo>
                      <a:pt x="376" y="517"/>
                      <a:pt x="449" y="382"/>
                      <a:pt x="402" y="2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844560" y="2618280"/>
                <a:ext cx="1221120" cy="1828080"/>
              </a:xfrm>
              <a:custGeom>
                <a:avLst/>
                <a:gdLst>
                  <a:gd name="textAreaLeft" fmla="*/ 0 w 1221120"/>
                  <a:gd name="textAreaRight" fmla="*/ 1221480 w 1221120"/>
                  <a:gd name="textAreaTop" fmla="*/ 0 h 1828080"/>
                  <a:gd name="textAreaBottom" fmla="*/ 1828440 h 1828080"/>
                </a:gdLst>
                <a:ahLst/>
                <a:rect l="textAreaLeft" t="textAreaTop" r="textAreaRight" b="textAreaBottom"/>
                <a:pathLst>
                  <a:path w="436" h="602">
                    <a:moveTo>
                      <a:pt x="436" y="92"/>
                    </a:moveTo>
                    <a:cubicBezTo>
                      <a:pt x="204" y="0"/>
                      <a:pt x="0" y="250"/>
                      <a:pt x="143" y="513"/>
                    </a:cubicBezTo>
                    <a:cubicBezTo>
                      <a:pt x="169" y="541"/>
                      <a:pt x="179" y="564"/>
                      <a:pt x="240" y="582"/>
                    </a:cubicBezTo>
                    <a:cubicBezTo>
                      <a:pt x="301" y="600"/>
                      <a:pt x="318" y="602"/>
                      <a:pt x="352" y="594"/>
                    </a:cubicBezTo>
                    <a:cubicBezTo>
                      <a:pt x="175" y="572"/>
                      <a:pt x="107" y="167"/>
                      <a:pt x="436" y="9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1272600" y="2896920"/>
                <a:ext cx="1395720" cy="1698480"/>
              </a:xfrm>
              <a:custGeom>
                <a:avLst/>
                <a:gdLst>
                  <a:gd name="textAreaLeft" fmla="*/ 0 w 1395720"/>
                  <a:gd name="textAreaRight" fmla="*/ 1396080 w 1395720"/>
                  <a:gd name="textAreaTop" fmla="*/ 0 h 1698480"/>
                  <a:gd name="textAreaBottom" fmla="*/ 1698840 h 1698480"/>
                </a:gdLst>
                <a:ahLst/>
                <a:rect l="textAreaLeft" t="textAreaTop" r="textAreaRight" b="textAreaBottom"/>
                <a:pathLst>
                  <a:path w="498" h="559">
                    <a:moveTo>
                      <a:pt x="283" y="0"/>
                    </a:moveTo>
                    <a:cubicBezTo>
                      <a:pt x="38" y="75"/>
                      <a:pt x="0" y="367"/>
                      <a:pt x="199" y="502"/>
                    </a:cubicBezTo>
                    <a:cubicBezTo>
                      <a:pt x="322" y="559"/>
                      <a:pt x="376" y="490"/>
                      <a:pt x="389" y="472"/>
                    </a:cubicBezTo>
                    <a:cubicBezTo>
                      <a:pt x="498" y="338"/>
                      <a:pt x="420" y="39"/>
                      <a:pt x="28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066040" y="2562840"/>
                <a:ext cx="400680" cy="334080"/>
              </a:xfrm>
              <a:custGeom>
                <a:avLst/>
                <a:gdLst>
                  <a:gd name="textAreaLeft" fmla="*/ 0 w 400680"/>
                  <a:gd name="textAreaRight" fmla="*/ 401040 w 40068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143" h="110">
                    <a:moveTo>
                      <a:pt x="0" y="110"/>
                    </a:moveTo>
                    <a:cubicBezTo>
                      <a:pt x="48" y="69"/>
                      <a:pt x="108" y="12"/>
                      <a:pt x="143" y="18"/>
                    </a:cubicBezTo>
                    <a:cubicBezTo>
                      <a:pt x="110" y="3"/>
                      <a:pt x="96" y="0"/>
                      <a:pt x="46" y="24"/>
                    </a:cubicBezTo>
                    <a:cubicBezTo>
                      <a:pt x="18" y="42"/>
                      <a:pt x="8" y="90"/>
                      <a:pt x="0" y="1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774720" y="2557440"/>
                <a:ext cx="1285200" cy="16185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1618560"/>
                  <a:gd name="textAreaBottom" fmla="*/ 1618920 h 1618560"/>
                </a:gdLst>
                <a:ahLst/>
                <a:rect l="textAreaLeft" t="textAreaTop" r="textAreaRight" b="textAreaBottom"/>
                <a:pathLst>
                  <a:path w="459" h="533">
                    <a:moveTo>
                      <a:pt x="459" y="111"/>
                    </a:moveTo>
                    <a:cubicBezTo>
                      <a:pt x="434" y="99"/>
                      <a:pt x="374" y="56"/>
                      <a:pt x="347" y="42"/>
                    </a:cubicBezTo>
                    <a:cubicBezTo>
                      <a:pt x="321" y="38"/>
                      <a:pt x="308" y="29"/>
                      <a:pt x="244" y="51"/>
                    </a:cubicBezTo>
                    <a:cubicBezTo>
                      <a:pt x="183" y="72"/>
                      <a:pt x="57" y="190"/>
                      <a:pt x="76" y="324"/>
                    </a:cubicBezTo>
                    <a:cubicBezTo>
                      <a:pt x="94" y="458"/>
                      <a:pt x="98" y="498"/>
                      <a:pt x="168" y="533"/>
                    </a:cubicBezTo>
                    <a:cubicBezTo>
                      <a:pt x="0" y="296"/>
                      <a:pt x="217" y="0"/>
                      <a:pt x="459" y="1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2066040" y="2428920"/>
                <a:ext cx="1092240" cy="1983600"/>
              </a:xfrm>
              <a:custGeom>
                <a:avLst/>
                <a:gdLst>
                  <a:gd name="textAreaLeft" fmla="*/ 0 w 1092240"/>
                  <a:gd name="textAreaRight" fmla="*/ 1092600 w 1092240"/>
                  <a:gd name="textAreaTop" fmla="*/ 0 h 1983600"/>
                  <a:gd name="textAreaBottom" fmla="*/ 1983960 h 1983600"/>
                </a:gdLst>
                <a:ahLst/>
                <a:rect l="textAreaLeft" t="textAreaTop" r="textAreaRight" b="textAreaBottom"/>
                <a:pathLst>
                  <a:path w="390" h="653">
                    <a:moveTo>
                      <a:pt x="0" y="154"/>
                    </a:moveTo>
                    <a:cubicBezTo>
                      <a:pt x="262" y="217"/>
                      <a:pt x="181" y="607"/>
                      <a:pt x="106" y="626"/>
                    </a:cubicBezTo>
                    <a:cubicBezTo>
                      <a:pt x="191" y="653"/>
                      <a:pt x="246" y="613"/>
                      <a:pt x="288" y="571"/>
                    </a:cubicBezTo>
                    <a:cubicBezTo>
                      <a:pt x="390" y="458"/>
                      <a:pt x="379" y="0"/>
                      <a:pt x="0" y="15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1564200" y="2769840"/>
                <a:ext cx="1759680" cy="182556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1825560"/>
                  <a:gd name="textAreaBottom" fmla="*/ 1825920 h 1825560"/>
                </a:gdLst>
                <a:ahLst/>
                <a:rect l="textAreaLeft" t="textAreaTop" r="textAreaRight" b="textAreaBottom"/>
                <a:pathLst>
                  <a:path w="628" h="601">
                    <a:moveTo>
                      <a:pt x="581" y="136"/>
                    </a:moveTo>
                    <a:cubicBezTo>
                      <a:pt x="560" y="72"/>
                      <a:pt x="526" y="28"/>
                      <a:pt x="487" y="0"/>
                    </a:cubicBezTo>
                    <a:cubicBezTo>
                      <a:pt x="511" y="24"/>
                      <a:pt x="461" y="31"/>
                      <a:pt x="389" y="17"/>
                    </a:cubicBezTo>
                    <a:cubicBezTo>
                      <a:pt x="590" y="169"/>
                      <a:pt x="436" y="293"/>
                      <a:pt x="316" y="168"/>
                    </a:cubicBezTo>
                    <a:cubicBezTo>
                      <a:pt x="409" y="523"/>
                      <a:pt x="162" y="530"/>
                      <a:pt x="34" y="507"/>
                    </a:cubicBezTo>
                    <a:cubicBezTo>
                      <a:pt x="29" y="518"/>
                      <a:pt x="18" y="530"/>
                      <a:pt x="0" y="537"/>
                    </a:cubicBezTo>
                    <a:cubicBezTo>
                      <a:pt x="48" y="551"/>
                      <a:pt x="65" y="551"/>
                      <a:pt x="95" y="544"/>
                    </a:cubicBezTo>
                    <a:cubicBezTo>
                      <a:pt x="218" y="601"/>
                      <a:pt x="272" y="532"/>
                      <a:pt x="285" y="514"/>
                    </a:cubicBezTo>
                    <a:cubicBezTo>
                      <a:pt x="370" y="541"/>
                      <a:pt x="425" y="501"/>
                      <a:pt x="467" y="459"/>
                    </a:cubicBezTo>
                    <a:cubicBezTo>
                      <a:pt x="555" y="414"/>
                      <a:pt x="628" y="279"/>
                      <a:pt x="581" y="136"/>
                    </a:cubicBezTo>
                    <a:close/>
                  </a:path>
                </a:pathLst>
              </a:custGeom>
              <a:solidFill>
                <a:srgbClr val="f27b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19"/>
              <p:cNvGrpSpPr/>
              <p:nvPr/>
            </p:nvGrpSpPr>
            <p:grpSpPr>
              <a:xfrm>
                <a:off x="774720" y="2428920"/>
                <a:ext cx="2722680" cy="2166120"/>
                <a:chOff x="774720" y="2428920"/>
                <a:chExt cx="2722680" cy="2166120"/>
              </a:xfrm>
            </p:grpSpPr>
            <p:sp>
              <p:nvSpPr>
                <p:cNvPr id="97" name="Freeform 20"/>
                <p:cNvSpPr/>
                <p:nvPr/>
              </p:nvSpPr>
              <p:spPr>
                <a:xfrm>
                  <a:off x="2066040" y="2428920"/>
                  <a:ext cx="1431360" cy="1734120"/>
                </a:xfrm>
                <a:custGeom>
                  <a:avLst/>
                  <a:gdLst>
                    <a:gd name="textAreaLeft" fmla="*/ 0 w 1431360"/>
                    <a:gd name="textAreaRight" fmla="*/ 1431720 w 1431360"/>
                    <a:gd name="textAreaTop" fmla="*/ 0 h 1734120"/>
                    <a:gd name="textAreaBottom" fmla="*/ 1734480 h 1734120"/>
                  </a:gdLst>
                  <a:ahLst/>
                  <a:rect l="textAreaLeft" t="textAreaTop" r="textAreaRight" b="textAreaBottom"/>
                  <a:pathLst>
                    <a:path w="511" h="571">
                      <a:moveTo>
                        <a:pt x="0" y="154"/>
                      </a:moveTo>
                      <a:cubicBezTo>
                        <a:pt x="379" y="0"/>
                        <a:pt x="390" y="458"/>
                        <a:pt x="288" y="571"/>
                      </a:cubicBezTo>
                      <a:cubicBezTo>
                        <a:pt x="511" y="321"/>
                        <a:pt x="290" y="9"/>
                        <a:pt x="0" y="154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1144440" y="2896560"/>
                  <a:ext cx="921240" cy="1524600"/>
                </a:xfrm>
                <a:custGeom>
                  <a:avLst/>
                  <a:gdLst>
                    <a:gd name="textAreaLeft" fmla="*/ 0 w 921240"/>
                    <a:gd name="textAreaRight" fmla="*/ 921600 w 921240"/>
                    <a:gd name="textAreaTop" fmla="*/ 0 h 1524600"/>
                    <a:gd name="textAreaBottom" fmla="*/ 1524960 h 1524600"/>
                  </a:gdLst>
                  <a:ahLst/>
                  <a:rect l="textAreaLeft" t="textAreaTop" r="textAreaRight" b="textAreaBottom"/>
                  <a:pathLst>
                    <a:path w="329" h="502">
                      <a:moveTo>
                        <a:pt x="329" y="0"/>
                      </a:moveTo>
                      <a:cubicBezTo>
                        <a:pt x="0" y="75"/>
                        <a:pt x="68" y="480"/>
                        <a:pt x="245" y="502"/>
                      </a:cubicBezTo>
                      <a:cubicBezTo>
                        <a:pt x="46" y="367"/>
                        <a:pt x="84" y="75"/>
                        <a:pt x="329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74720" y="2557440"/>
                  <a:ext cx="1291320" cy="1618560"/>
                </a:xfrm>
                <a:custGeom>
                  <a:avLst/>
                  <a:gdLst>
                    <a:gd name="textAreaLeft" fmla="*/ 0 w 1291320"/>
                    <a:gd name="textAreaRight" fmla="*/ 1291680 w 1291320"/>
                    <a:gd name="textAreaTop" fmla="*/ 0 h 1618560"/>
                    <a:gd name="textAreaBottom" fmla="*/ 1618920 h 1618560"/>
                  </a:gdLst>
                  <a:ahLst/>
                  <a:rect l="textAreaLeft" t="textAreaTop" r="textAreaRight" b="textAreaBottom"/>
                  <a:pathLst>
                    <a:path w="461" h="533">
                      <a:moveTo>
                        <a:pt x="461" y="112"/>
                      </a:moveTo>
                      <a:cubicBezTo>
                        <a:pt x="461" y="112"/>
                        <a:pt x="460" y="112"/>
                        <a:pt x="459" y="111"/>
                      </a:cubicBezTo>
                      <a:cubicBezTo>
                        <a:pt x="217" y="0"/>
                        <a:pt x="0" y="296"/>
                        <a:pt x="168" y="533"/>
                      </a:cubicBezTo>
                      <a:cubicBezTo>
                        <a:pt x="25" y="270"/>
                        <a:pt x="229" y="20"/>
                        <a:pt x="461" y="112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2066040" y="2896560"/>
                  <a:ext cx="734040" cy="1433520"/>
                </a:xfrm>
                <a:custGeom>
                  <a:avLst/>
                  <a:gdLst>
                    <a:gd name="textAreaLeft" fmla="*/ 0 w 734040"/>
                    <a:gd name="textAreaRight" fmla="*/ 734400 w 734040"/>
                    <a:gd name="textAreaTop" fmla="*/ 0 h 1433520"/>
                    <a:gd name="textAreaBottom" fmla="*/ 1433880 h 1433520"/>
                  </a:gdLst>
                  <a:ahLst/>
                  <a:rect l="textAreaLeft" t="textAreaTop" r="textAreaRight" b="textAreaBottom"/>
                  <a:pathLst>
                    <a:path w="262" h="472">
                      <a:moveTo>
                        <a:pt x="0" y="0"/>
                      </a:moveTo>
                      <a:cubicBezTo>
                        <a:pt x="137" y="39"/>
                        <a:pt x="215" y="338"/>
                        <a:pt x="106" y="472"/>
                      </a:cubicBezTo>
                      <a:cubicBezTo>
                        <a:pt x="181" y="453"/>
                        <a:pt x="262" y="63"/>
                        <a:pt x="0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24"/>
                <p:cNvSpPr/>
                <p:nvPr/>
              </p:nvSpPr>
              <p:spPr>
                <a:xfrm>
                  <a:off x="2066040" y="2599920"/>
                  <a:ext cx="436320" cy="296640"/>
                </a:xfrm>
                <a:custGeom>
                  <a:avLst/>
                  <a:gdLst>
                    <a:gd name="textAreaLeft" fmla="*/ 0 w 436320"/>
                    <a:gd name="textAreaRight" fmla="*/ 436680 w 436320"/>
                    <a:gd name="textAreaTop" fmla="*/ 0 h 296640"/>
                    <a:gd name="textAreaBottom" fmla="*/ 297000 h 296640"/>
                  </a:gdLst>
                  <a:ahLst/>
                  <a:rect l="textAreaLeft" t="textAreaTop" r="textAreaRight" b="textAreaBottom"/>
                  <a:pathLst>
                    <a:path w="156" h="98">
                      <a:moveTo>
                        <a:pt x="0" y="98"/>
                      </a:moveTo>
                      <a:cubicBezTo>
                        <a:pt x="66" y="45"/>
                        <a:pt x="128" y="22"/>
                        <a:pt x="156" y="13"/>
                      </a:cubicBezTo>
                      <a:cubicBezTo>
                        <a:pt x="152" y="10"/>
                        <a:pt x="147" y="8"/>
                        <a:pt x="143" y="6"/>
                      </a:cubicBezTo>
                      <a:cubicBezTo>
                        <a:pt x="108" y="0"/>
                        <a:pt x="48" y="57"/>
                        <a:pt x="0" y="98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5"/>
                <p:cNvSpPr/>
                <p:nvPr/>
              </p:nvSpPr>
              <p:spPr>
                <a:xfrm>
                  <a:off x="2054160" y="2635920"/>
                  <a:ext cx="141120" cy="26064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50" h="86">
                      <a:moveTo>
                        <a:pt x="4" y="86"/>
                      </a:moveTo>
                      <a:cubicBezTo>
                        <a:pt x="12" y="66"/>
                        <a:pt x="22" y="18"/>
                        <a:pt x="50" y="0"/>
                      </a:cubicBezTo>
                      <a:cubicBezTo>
                        <a:pt x="24" y="3"/>
                        <a:pt x="0" y="49"/>
                        <a:pt x="4" y="86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6"/>
                <p:cNvSpPr/>
                <p:nvPr/>
              </p:nvSpPr>
              <p:spPr>
                <a:xfrm>
                  <a:off x="1747080" y="2675520"/>
                  <a:ext cx="318600" cy="220680"/>
                </a:xfrm>
                <a:custGeom>
                  <a:avLst/>
                  <a:gdLst>
                    <a:gd name="textAreaLeft" fmla="*/ 0 w 318600"/>
                    <a:gd name="textAreaRight" fmla="*/ 318960 w 31860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114" h="73">
                      <a:moveTo>
                        <a:pt x="114" y="73"/>
                      </a:moveTo>
                      <a:cubicBezTo>
                        <a:pt x="92" y="44"/>
                        <a:pt x="21" y="0"/>
                        <a:pt x="0" y="3"/>
                      </a:cubicBezTo>
                      <a:cubicBezTo>
                        <a:pt x="27" y="17"/>
                        <a:pt x="87" y="60"/>
                        <a:pt x="112" y="72"/>
                      </a:cubicBezTo>
                      <a:cubicBezTo>
                        <a:pt x="113" y="73"/>
                        <a:pt x="114" y="73"/>
                        <a:pt x="114" y="73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7"/>
                <p:cNvSpPr/>
                <p:nvPr/>
              </p:nvSpPr>
              <p:spPr>
                <a:xfrm>
                  <a:off x="1034280" y="3182040"/>
                  <a:ext cx="2289600" cy="1413000"/>
                </a:xfrm>
                <a:custGeom>
                  <a:avLst/>
                  <a:gdLst>
                    <a:gd name="textAreaLeft" fmla="*/ 0 w 2289600"/>
                    <a:gd name="textAreaRight" fmla="*/ 2289960 w 2289600"/>
                    <a:gd name="textAreaTop" fmla="*/ 0 h 1413000"/>
                    <a:gd name="textAreaBottom" fmla="*/ 1413360 h 1413000"/>
                  </a:gdLst>
                  <a:ahLst/>
                  <a:rect l="textAreaLeft" t="textAreaTop" r="textAreaRight" b="textAreaBottom"/>
                  <a:pathLst>
                    <a:path w="817" h="465">
                      <a:moveTo>
                        <a:pt x="502" y="345"/>
                      </a:moveTo>
                      <a:cubicBezTo>
                        <a:pt x="460" y="392"/>
                        <a:pt x="329" y="414"/>
                        <a:pt x="223" y="371"/>
                      </a:cubicBezTo>
                      <a:cubicBezTo>
                        <a:pt x="195" y="408"/>
                        <a:pt x="70" y="305"/>
                        <a:pt x="53" y="286"/>
                      </a:cubicBezTo>
                      <a:cubicBezTo>
                        <a:pt x="35" y="295"/>
                        <a:pt x="16" y="244"/>
                        <a:pt x="0" y="226"/>
                      </a:cubicBezTo>
                      <a:cubicBezTo>
                        <a:pt x="11" y="279"/>
                        <a:pt x="29" y="304"/>
                        <a:pt x="75" y="327"/>
                      </a:cubicBezTo>
                      <a:cubicBezTo>
                        <a:pt x="101" y="355"/>
                        <a:pt x="111" y="378"/>
                        <a:pt x="172" y="396"/>
                      </a:cubicBezTo>
                      <a:cubicBezTo>
                        <a:pt x="233" y="414"/>
                        <a:pt x="250" y="416"/>
                        <a:pt x="284" y="408"/>
                      </a:cubicBezTo>
                      <a:cubicBezTo>
                        <a:pt x="407" y="465"/>
                        <a:pt x="461" y="396"/>
                        <a:pt x="474" y="378"/>
                      </a:cubicBezTo>
                      <a:cubicBezTo>
                        <a:pt x="559" y="405"/>
                        <a:pt x="614" y="365"/>
                        <a:pt x="656" y="323"/>
                      </a:cubicBezTo>
                      <a:cubicBezTo>
                        <a:pt x="744" y="278"/>
                        <a:pt x="817" y="143"/>
                        <a:pt x="770" y="0"/>
                      </a:cubicBezTo>
                      <a:cubicBezTo>
                        <a:pt x="771" y="61"/>
                        <a:pt x="758" y="164"/>
                        <a:pt x="717" y="216"/>
                      </a:cubicBezTo>
                      <a:cubicBezTo>
                        <a:pt x="673" y="291"/>
                        <a:pt x="550" y="367"/>
                        <a:pt x="502" y="345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8"/>
              <p:cNvSpPr/>
              <p:nvPr/>
            </p:nvSpPr>
            <p:spPr>
              <a:xfrm>
                <a:off x="1747080" y="2562840"/>
                <a:ext cx="448200" cy="33408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160" h="110">
                    <a:moveTo>
                      <a:pt x="114" y="110"/>
                    </a:moveTo>
                    <a:cubicBezTo>
                      <a:pt x="110" y="73"/>
                      <a:pt x="134" y="27"/>
                      <a:pt x="160" y="24"/>
                    </a:cubicBezTo>
                    <a:cubicBezTo>
                      <a:pt x="114" y="0"/>
                      <a:pt x="39" y="13"/>
                      <a:pt x="0" y="40"/>
                    </a:cubicBezTo>
                    <a:cubicBezTo>
                      <a:pt x="21" y="37"/>
                      <a:pt x="92" y="81"/>
                      <a:pt x="114" y="1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9"/>
              <p:cNvSpPr/>
              <p:nvPr/>
            </p:nvSpPr>
            <p:spPr>
              <a:xfrm>
                <a:off x="1956960" y="2803320"/>
                <a:ext cx="220320" cy="127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9" h="42">
                    <a:moveTo>
                      <a:pt x="10" y="40"/>
                    </a:moveTo>
                    <a:cubicBezTo>
                      <a:pt x="47" y="21"/>
                      <a:pt x="59" y="42"/>
                      <a:pt x="67" y="42"/>
                    </a:cubicBezTo>
                    <a:cubicBezTo>
                      <a:pt x="37" y="25"/>
                      <a:pt x="70" y="20"/>
                      <a:pt x="79" y="17"/>
                    </a:cubicBezTo>
                    <a:cubicBezTo>
                      <a:pt x="37" y="24"/>
                      <a:pt x="66" y="10"/>
                      <a:pt x="74" y="4"/>
                    </a:cubicBezTo>
                    <a:cubicBezTo>
                      <a:pt x="62" y="12"/>
                      <a:pt x="41" y="23"/>
                      <a:pt x="43" y="0"/>
                    </a:cubicBezTo>
                    <a:cubicBezTo>
                      <a:pt x="36" y="25"/>
                      <a:pt x="21" y="13"/>
                      <a:pt x="9" y="6"/>
                    </a:cubicBezTo>
                    <a:cubicBezTo>
                      <a:pt x="17" y="18"/>
                      <a:pt x="33" y="21"/>
                      <a:pt x="0" y="19"/>
                    </a:cubicBezTo>
                    <a:cubicBezTo>
                      <a:pt x="16" y="25"/>
                      <a:pt x="44" y="21"/>
                      <a:pt x="10" y="40"/>
                    </a:cubicBezTo>
                    <a:close/>
                  </a:path>
                </a:pathLst>
              </a:custGeom>
              <a:solidFill>
                <a:srgbClr val="0069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0"/>
              <p:cNvSpPr/>
              <p:nvPr/>
            </p:nvSpPr>
            <p:spPr>
              <a:xfrm>
                <a:off x="1763640" y="2441880"/>
                <a:ext cx="372240" cy="44640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133" h="147">
                    <a:moveTo>
                      <a:pt x="133" y="0"/>
                    </a:moveTo>
                    <a:cubicBezTo>
                      <a:pt x="120" y="142"/>
                      <a:pt x="120" y="142"/>
                      <a:pt x="120" y="142"/>
                    </a:cubicBezTo>
                    <a:cubicBezTo>
                      <a:pt x="116" y="146"/>
                      <a:pt x="111" y="147"/>
                      <a:pt x="104" y="146"/>
                    </a:cubicBezTo>
                    <a:cubicBezTo>
                      <a:pt x="0" y="48"/>
                      <a:pt x="0" y="48"/>
                      <a:pt x="0" y="48"/>
                    </a:cubicBez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4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"/>
              <p:cNvSpPr/>
              <p:nvPr/>
            </p:nvSpPr>
            <p:spPr>
              <a:xfrm>
                <a:off x="1751760" y="2411280"/>
                <a:ext cx="392040" cy="20700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40" h="68">
                    <a:moveTo>
                      <a:pt x="137" y="10"/>
                    </a:moveTo>
                    <a:cubicBezTo>
                      <a:pt x="140" y="21"/>
                      <a:pt x="114" y="40"/>
                      <a:pt x="77" y="53"/>
                    </a:cubicBezTo>
                    <a:cubicBezTo>
                      <a:pt x="41" y="66"/>
                      <a:pt x="8" y="68"/>
                      <a:pt x="4" y="58"/>
                    </a:cubicBezTo>
                    <a:cubicBezTo>
                      <a:pt x="0" y="47"/>
                      <a:pt x="27" y="28"/>
                      <a:pt x="63" y="15"/>
                    </a:cubicBezTo>
                    <a:cubicBezTo>
                      <a:pt x="100" y="2"/>
                      <a:pt x="133" y="0"/>
                      <a:pt x="137" y="10"/>
                    </a:cubicBezTo>
                    <a:close/>
                  </a:path>
                </a:pathLst>
              </a:custGeom>
              <a:solidFill>
                <a:srgbClr val="0069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2"/>
            <p:cNvGrpSpPr/>
            <p:nvPr/>
          </p:nvGrpSpPr>
          <p:grpSpPr>
            <a:xfrm>
              <a:off x="1882080" y="3471840"/>
              <a:ext cx="175320" cy="129600"/>
              <a:chOff x="1882080" y="3471840"/>
              <a:chExt cx="175320" cy="129600"/>
            </a:xfrm>
          </p:grpSpPr>
          <p:sp>
            <p:nvSpPr>
              <p:cNvPr id="110" name="Freeform 33"/>
              <p:cNvSpPr/>
              <p:nvPr/>
            </p:nvSpPr>
            <p:spPr>
              <a:xfrm>
                <a:off x="1882080" y="3471840"/>
                <a:ext cx="175320" cy="12960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148" h="101">
                    <a:moveTo>
                      <a:pt x="0" y="101"/>
                    </a:moveTo>
                    <a:lnTo>
                      <a:pt x="78" y="0"/>
                    </a:lnTo>
                    <a:lnTo>
                      <a:pt x="148" y="85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4"/>
              <p:cNvSpPr/>
              <p:nvPr/>
            </p:nvSpPr>
            <p:spPr>
              <a:xfrm>
                <a:off x="1886760" y="3476880"/>
                <a:ext cx="170280" cy="12420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144" h="97">
                    <a:moveTo>
                      <a:pt x="0" y="97"/>
                    </a:moveTo>
                    <a:lnTo>
                      <a:pt x="76" y="0"/>
                    </a:lnTo>
                    <a:lnTo>
                      <a:pt x="144" y="81"/>
                    </a:lnTo>
                    <a:lnTo>
                      <a:pt x="0" y="97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5"/>
            <p:cNvGrpSpPr/>
            <p:nvPr/>
          </p:nvGrpSpPr>
          <p:grpSpPr>
            <a:xfrm>
              <a:off x="1343880" y="3052440"/>
              <a:ext cx="1422360" cy="436680"/>
              <a:chOff x="1343880" y="3052440"/>
              <a:chExt cx="1422360" cy="436680"/>
            </a:xfrm>
          </p:grpSpPr>
          <p:sp>
            <p:nvSpPr>
              <p:cNvPr id="113" name="Freeform 36"/>
              <p:cNvSpPr/>
              <p:nvPr/>
            </p:nvSpPr>
            <p:spPr>
              <a:xfrm>
                <a:off x="1343880" y="3264480"/>
                <a:ext cx="520200" cy="22464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21" y="0"/>
                    </a:moveTo>
                    <a:cubicBezTo>
                      <a:pt x="40" y="18"/>
                      <a:pt x="106" y="48"/>
                      <a:pt x="186" y="74"/>
                    </a:cubicBezTo>
                    <a:cubicBezTo>
                      <a:pt x="140" y="74"/>
                      <a:pt x="19" y="59"/>
                      <a:pt x="0" y="57"/>
                    </a:cubicBezTo>
                    <a:cubicBezTo>
                      <a:pt x="9" y="34"/>
                      <a:pt x="16" y="10"/>
                      <a:pt x="21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2030400" y="3052440"/>
                <a:ext cx="735840" cy="379080"/>
              </a:xfrm>
              <a:custGeom>
                <a:avLst/>
                <a:gdLst>
                  <a:gd name="textAreaLeft" fmla="*/ 0 w 735840"/>
                  <a:gd name="textAreaRight" fmla="*/ 736200 w 73584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263" h="125">
                    <a:moveTo>
                      <a:pt x="215" y="0"/>
                    </a:moveTo>
                    <a:cubicBezTo>
                      <a:pt x="181" y="16"/>
                      <a:pt x="62" y="72"/>
                      <a:pt x="0" y="125"/>
                    </a:cubicBezTo>
                    <a:cubicBezTo>
                      <a:pt x="41" y="113"/>
                      <a:pt x="230" y="112"/>
                      <a:pt x="263" y="114"/>
                    </a:cubicBezTo>
                    <a:cubicBezTo>
                      <a:pt x="263" y="81"/>
                      <a:pt x="229" y="12"/>
                      <a:pt x="215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380600" y="3291480"/>
                <a:ext cx="483480" cy="19764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173" h="65">
                    <a:moveTo>
                      <a:pt x="18" y="0"/>
                    </a:moveTo>
                    <a:cubicBezTo>
                      <a:pt x="37" y="18"/>
                      <a:pt x="96" y="40"/>
                      <a:pt x="173" y="65"/>
                    </a:cubicBezTo>
                    <a:cubicBezTo>
                      <a:pt x="129" y="65"/>
                      <a:pt x="19" y="52"/>
                      <a:pt x="0" y="49"/>
                    </a:cubicBezTo>
                    <a:cubicBezTo>
                      <a:pt x="9" y="27"/>
                      <a:pt x="14" y="10"/>
                      <a:pt x="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2040840" y="3076560"/>
                <a:ext cx="692280" cy="35460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247" h="117">
                    <a:moveTo>
                      <a:pt x="203" y="0"/>
                    </a:moveTo>
                    <a:cubicBezTo>
                      <a:pt x="170" y="14"/>
                      <a:pt x="59" y="66"/>
                      <a:pt x="0" y="117"/>
                    </a:cubicBezTo>
                    <a:cubicBezTo>
                      <a:pt x="39" y="105"/>
                      <a:pt x="216" y="105"/>
                      <a:pt x="247" y="107"/>
                    </a:cubicBezTo>
                    <a:cubicBezTo>
                      <a:pt x="247" y="75"/>
                      <a:pt x="217" y="10"/>
                      <a:pt x="20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40"/>
            <p:cNvGrpSpPr/>
            <p:nvPr/>
          </p:nvGrpSpPr>
          <p:grpSpPr>
            <a:xfrm>
              <a:off x="1366560" y="3577320"/>
              <a:ext cx="1400040" cy="601560"/>
              <a:chOff x="1366560" y="3577320"/>
              <a:chExt cx="1400040" cy="601560"/>
            </a:xfrm>
          </p:grpSpPr>
          <p:sp>
            <p:nvSpPr>
              <p:cNvPr id="118" name="Freeform 41"/>
              <p:cNvSpPr/>
              <p:nvPr/>
            </p:nvSpPr>
            <p:spPr>
              <a:xfrm>
                <a:off x="1366560" y="3577320"/>
                <a:ext cx="1400040" cy="60156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1181" h="468">
                    <a:moveTo>
                      <a:pt x="0" y="130"/>
                    </a:moveTo>
                    <a:lnTo>
                      <a:pt x="250" y="270"/>
                    </a:lnTo>
                    <a:lnTo>
                      <a:pt x="335" y="199"/>
                    </a:lnTo>
                    <a:lnTo>
                      <a:pt x="465" y="270"/>
                    </a:lnTo>
                    <a:lnTo>
                      <a:pt x="531" y="199"/>
                    </a:lnTo>
                    <a:lnTo>
                      <a:pt x="666" y="270"/>
                    </a:lnTo>
                    <a:lnTo>
                      <a:pt x="780" y="100"/>
                    </a:lnTo>
                    <a:lnTo>
                      <a:pt x="888" y="189"/>
                    </a:lnTo>
                    <a:lnTo>
                      <a:pt x="1181" y="0"/>
                    </a:lnTo>
                    <a:lnTo>
                      <a:pt x="893" y="402"/>
                    </a:lnTo>
                    <a:lnTo>
                      <a:pt x="791" y="338"/>
                    </a:lnTo>
                    <a:lnTo>
                      <a:pt x="668" y="468"/>
                    </a:lnTo>
                    <a:lnTo>
                      <a:pt x="557" y="374"/>
                    </a:lnTo>
                    <a:lnTo>
                      <a:pt x="472" y="433"/>
                    </a:lnTo>
                    <a:lnTo>
                      <a:pt x="345" y="345"/>
                    </a:lnTo>
                    <a:lnTo>
                      <a:pt x="250" y="364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2"/>
              <p:cNvSpPr/>
              <p:nvPr/>
            </p:nvSpPr>
            <p:spPr>
              <a:xfrm>
                <a:off x="1391400" y="3601440"/>
                <a:ext cx="1341720" cy="556920"/>
              </a:xfrm>
              <a:custGeom>
                <a:avLst/>
                <a:gdLst>
                  <a:gd name="textAreaLeft" fmla="*/ 0 w 1341720"/>
                  <a:gd name="textAreaRight" fmla="*/ 1342080 w 1341720"/>
                  <a:gd name="textAreaTop" fmla="*/ 0 h 556920"/>
                  <a:gd name="textAreaBottom" fmla="*/ 557280 h 556920"/>
                </a:gdLst>
                <a:ahLst/>
                <a:rect l="textAreaLeft" t="textAreaTop" r="textAreaRight" b="textAreaBottom"/>
                <a:pathLst>
                  <a:path w="1132" h="433">
                    <a:moveTo>
                      <a:pt x="0" y="126"/>
                    </a:moveTo>
                    <a:lnTo>
                      <a:pt x="241" y="241"/>
                    </a:lnTo>
                    <a:lnTo>
                      <a:pt x="324" y="173"/>
                    </a:lnTo>
                    <a:lnTo>
                      <a:pt x="447" y="241"/>
                    </a:lnTo>
                    <a:lnTo>
                      <a:pt x="510" y="173"/>
                    </a:lnTo>
                    <a:lnTo>
                      <a:pt x="643" y="241"/>
                    </a:lnTo>
                    <a:lnTo>
                      <a:pt x="751" y="78"/>
                    </a:lnTo>
                    <a:lnTo>
                      <a:pt x="855" y="163"/>
                    </a:lnTo>
                    <a:lnTo>
                      <a:pt x="1132" y="0"/>
                    </a:lnTo>
                    <a:lnTo>
                      <a:pt x="860" y="369"/>
                    </a:lnTo>
                    <a:lnTo>
                      <a:pt x="763" y="307"/>
                    </a:lnTo>
                    <a:lnTo>
                      <a:pt x="645" y="433"/>
                    </a:lnTo>
                    <a:lnTo>
                      <a:pt x="536" y="343"/>
                    </a:lnTo>
                    <a:lnTo>
                      <a:pt x="454" y="400"/>
                    </a:lnTo>
                    <a:lnTo>
                      <a:pt x="333" y="315"/>
                    </a:lnTo>
                    <a:lnTo>
                      <a:pt x="241" y="331"/>
                    </a:lnTo>
                    <a:lnTo>
                      <a:pt x="0" y="1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1"/>
                  </a:gs>
                  <a:gs pos="100000">
                    <a:srgbClr val="ffff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43"/>
          <p:cNvGrpSpPr/>
          <p:nvPr/>
        </p:nvGrpSpPr>
        <p:grpSpPr>
          <a:xfrm>
            <a:off x="6024600" y="2178000"/>
            <a:ext cx="2785680" cy="2234880"/>
            <a:chOff x="6024600" y="2178000"/>
            <a:chExt cx="2785680" cy="2234880"/>
          </a:xfrm>
        </p:grpSpPr>
        <p:pic>
          <p:nvPicPr>
            <p:cNvPr id="121" name="Picture 44" descr="Unbenannt-1"/>
            <p:cNvPicPr/>
            <p:nvPr/>
          </p:nvPicPr>
          <p:blipFill>
            <a:blip r:embed="rId7"/>
            <a:stretch/>
          </p:blipFill>
          <p:spPr>
            <a:xfrm>
              <a:off x="6346080" y="2496240"/>
              <a:ext cx="1967760" cy="166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45"/>
            <p:cNvGrpSpPr/>
            <p:nvPr/>
          </p:nvGrpSpPr>
          <p:grpSpPr>
            <a:xfrm>
              <a:off x="6024600" y="2178000"/>
              <a:ext cx="2785680" cy="2234880"/>
              <a:chOff x="6024600" y="2178000"/>
              <a:chExt cx="2785680" cy="2234880"/>
            </a:xfrm>
          </p:grpSpPr>
          <p:sp>
            <p:nvSpPr>
              <p:cNvPr id="123" name="Freeform 46"/>
              <p:cNvSpPr/>
              <p:nvPr/>
            </p:nvSpPr>
            <p:spPr>
              <a:xfrm>
                <a:off x="7345800" y="2224800"/>
                <a:ext cx="1464480" cy="1745640"/>
              </a:xfrm>
              <a:custGeom>
                <a:avLst/>
                <a:gdLst>
                  <a:gd name="textAreaLeft" fmla="*/ 0 w 1464480"/>
                  <a:gd name="textAreaRight" fmla="*/ 1464840 w 1464480"/>
                  <a:gd name="textAreaTop" fmla="*/ 0 h 1745640"/>
                  <a:gd name="textAreaBottom" fmla="*/ 1746000 h 1745640"/>
                </a:gdLst>
                <a:ahLst/>
                <a:rect l="textAreaLeft" t="textAreaTop" r="textAreaRight" b="textAreaBottom"/>
                <a:pathLst>
                  <a:path w="511" h="562">
                    <a:moveTo>
                      <a:pt x="402" y="239"/>
                    </a:moveTo>
                    <a:cubicBezTo>
                      <a:pt x="355" y="96"/>
                      <a:pt x="246" y="54"/>
                      <a:pt x="156" y="60"/>
                    </a:cubicBezTo>
                    <a:cubicBezTo>
                      <a:pt x="128" y="69"/>
                      <a:pt x="66" y="92"/>
                      <a:pt x="0" y="145"/>
                    </a:cubicBezTo>
                    <a:cubicBezTo>
                      <a:pt x="290" y="0"/>
                      <a:pt x="511" y="312"/>
                      <a:pt x="288" y="562"/>
                    </a:cubicBezTo>
                    <a:cubicBezTo>
                      <a:pt x="376" y="517"/>
                      <a:pt x="449" y="382"/>
                      <a:pt x="402" y="2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7"/>
              <p:cNvSpPr/>
              <p:nvPr/>
            </p:nvSpPr>
            <p:spPr>
              <a:xfrm>
                <a:off x="6095880" y="2389680"/>
                <a:ext cx="1249560" cy="1870560"/>
              </a:xfrm>
              <a:custGeom>
                <a:avLst/>
                <a:gdLst>
                  <a:gd name="textAreaLeft" fmla="*/ 0 w 1249560"/>
                  <a:gd name="textAreaRight" fmla="*/ 1249920 w 1249560"/>
                  <a:gd name="textAreaTop" fmla="*/ 0 h 1870560"/>
                  <a:gd name="textAreaBottom" fmla="*/ 1870920 h 1870560"/>
                </a:gdLst>
                <a:ahLst/>
                <a:rect l="textAreaLeft" t="textAreaTop" r="textAreaRight" b="textAreaBottom"/>
                <a:pathLst>
                  <a:path w="436" h="602">
                    <a:moveTo>
                      <a:pt x="436" y="92"/>
                    </a:moveTo>
                    <a:cubicBezTo>
                      <a:pt x="204" y="0"/>
                      <a:pt x="0" y="250"/>
                      <a:pt x="143" y="513"/>
                    </a:cubicBezTo>
                    <a:cubicBezTo>
                      <a:pt x="169" y="541"/>
                      <a:pt x="179" y="564"/>
                      <a:pt x="240" y="582"/>
                    </a:cubicBezTo>
                    <a:cubicBezTo>
                      <a:pt x="301" y="600"/>
                      <a:pt x="318" y="602"/>
                      <a:pt x="352" y="594"/>
                    </a:cubicBezTo>
                    <a:cubicBezTo>
                      <a:pt x="175" y="572"/>
                      <a:pt x="107" y="167"/>
                      <a:pt x="436" y="9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8"/>
              <p:cNvSpPr/>
              <p:nvPr/>
            </p:nvSpPr>
            <p:spPr>
              <a:xfrm>
                <a:off x="6534000" y="2674800"/>
                <a:ext cx="1428120" cy="1738080"/>
              </a:xfrm>
              <a:custGeom>
                <a:avLst/>
                <a:gdLst>
                  <a:gd name="textAreaLeft" fmla="*/ 0 w 1428120"/>
                  <a:gd name="textAreaRight" fmla="*/ 1428480 w 1428120"/>
                  <a:gd name="textAreaTop" fmla="*/ 0 h 1738080"/>
                  <a:gd name="textAreaBottom" fmla="*/ 1738440 h 1738080"/>
                </a:gdLst>
                <a:ahLst/>
                <a:rect l="textAreaLeft" t="textAreaTop" r="textAreaRight" b="textAreaBottom"/>
                <a:pathLst>
                  <a:path w="498" h="559">
                    <a:moveTo>
                      <a:pt x="283" y="0"/>
                    </a:moveTo>
                    <a:cubicBezTo>
                      <a:pt x="38" y="75"/>
                      <a:pt x="0" y="367"/>
                      <a:pt x="199" y="502"/>
                    </a:cubicBezTo>
                    <a:cubicBezTo>
                      <a:pt x="322" y="559"/>
                      <a:pt x="376" y="490"/>
                      <a:pt x="389" y="472"/>
                    </a:cubicBezTo>
                    <a:cubicBezTo>
                      <a:pt x="498" y="338"/>
                      <a:pt x="420" y="39"/>
                      <a:pt x="28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9"/>
              <p:cNvSpPr/>
              <p:nvPr/>
            </p:nvSpPr>
            <p:spPr>
              <a:xfrm>
                <a:off x="7345800" y="2332800"/>
                <a:ext cx="410040" cy="341640"/>
              </a:xfrm>
              <a:custGeom>
                <a:avLst/>
                <a:gdLst>
                  <a:gd name="textAreaLeft" fmla="*/ 0 w 410040"/>
                  <a:gd name="textAreaRight" fmla="*/ 410400 w 41004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143" h="110">
                    <a:moveTo>
                      <a:pt x="0" y="110"/>
                    </a:moveTo>
                    <a:cubicBezTo>
                      <a:pt x="48" y="69"/>
                      <a:pt x="108" y="12"/>
                      <a:pt x="143" y="18"/>
                    </a:cubicBezTo>
                    <a:cubicBezTo>
                      <a:pt x="110" y="3"/>
                      <a:pt x="96" y="0"/>
                      <a:pt x="46" y="24"/>
                    </a:cubicBezTo>
                    <a:cubicBezTo>
                      <a:pt x="18" y="42"/>
                      <a:pt x="8" y="90"/>
                      <a:pt x="0" y="1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0"/>
              <p:cNvSpPr/>
              <p:nvPr/>
            </p:nvSpPr>
            <p:spPr>
              <a:xfrm>
                <a:off x="6024600" y="2327760"/>
                <a:ext cx="1315080" cy="1656360"/>
              </a:xfrm>
              <a:custGeom>
                <a:avLst/>
                <a:gdLst>
                  <a:gd name="textAreaLeft" fmla="*/ 0 w 1315080"/>
                  <a:gd name="textAreaRight" fmla="*/ 1315440 w 1315080"/>
                  <a:gd name="textAreaTop" fmla="*/ 0 h 1656360"/>
                  <a:gd name="textAreaBottom" fmla="*/ 1656720 h 1656360"/>
                </a:gdLst>
                <a:ahLst/>
                <a:rect l="textAreaLeft" t="textAreaTop" r="textAreaRight" b="textAreaBottom"/>
                <a:pathLst>
                  <a:path w="459" h="533">
                    <a:moveTo>
                      <a:pt x="459" y="111"/>
                    </a:moveTo>
                    <a:cubicBezTo>
                      <a:pt x="434" y="99"/>
                      <a:pt x="374" y="56"/>
                      <a:pt x="347" y="42"/>
                    </a:cubicBezTo>
                    <a:cubicBezTo>
                      <a:pt x="321" y="38"/>
                      <a:pt x="308" y="29"/>
                      <a:pt x="244" y="51"/>
                    </a:cubicBezTo>
                    <a:cubicBezTo>
                      <a:pt x="183" y="72"/>
                      <a:pt x="57" y="190"/>
                      <a:pt x="76" y="324"/>
                    </a:cubicBezTo>
                    <a:cubicBezTo>
                      <a:pt x="94" y="458"/>
                      <a:pt x="98" y="498"/>
                      <a:pt x="168" y="533"/>
                    </a:cubicBezTo>
                    <a:cubicBezTo>
                      <a:pt x="0" y="296"/>
                      <a:pt x="217" y="0"/>
                      <a:pt x="459" y="1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1"/>
              <p:cNvSpPr/>
              <p:nvPr/>
            </p:nvSpPr>
            <p:spPr>
              <a:xfrm>
                <a:off x="7345800" y="2196000"/>
                <a:ext cx="1117440" cy="2029680"/>
              </a:xfrm>
              <a:custGeom>
                <a:avLst/>
                <a:gdLst>
                  <a:gd name="textAreaLeft" fmla="*/ 0 w 1117440"/>
                  <a:gd name="textAreaRight" fmla="*/ 1117800 w 1117440"/>
                  <a:gd name="textAreaTop" fmla="*/ 0 h 2029680"/>
                  <a:gd name="textAreaBottom" fmla="*/ 2030040 h 2029680"/>
                </a:gdLst>
                <a:ahLst/>
                <a:rect l="textAreaLeft" t="textAreaTop" r="textAreaRight" b="textAreaBottom"/>
                <a:pathLst>
                  <a:path w="390" h="653">
                    <a:moveTo>
                      <a:pt x="0" y="154"/>
                    </a:moveTo>
                    <a:cubicBezTo>
                      <a:pt x="262" y="217"/>
                      <a:pt x="181" y="607"/>
                      <a:pt x="106" y="626"/>
                    </a:cubicBezTo>
                    <a:cubicBezTo>
                      <a:pt x="191" y="653"/>
                      <a:pt x="246" y="613"/>
                      <a:pt x="288" y="571"/>
                    </a:cubicBezTo>
                    <a:cubicBezTo>
                      <a:pt x="390" y="458"/>
                      <a:pt x="379" y="0"/>
                      <a:pt x="0" y="15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2"/>
              <p:cNvSpPr/>
              <p:nvPr/>
            </p:nvSpPr>
            <p:spPr>
              <a:xfrm>
                <a:off x="6832440" y="2544840"/>
                <a:ext cx="1800720" cy="1868040"/>
              </a:xfrm>
              <a:custGeom>
                <a:avLst/>
                <a:gdLst>
                  <a:gd name="textAreaLeft" fmla="*/ 0 w 1800720"/>
                  <a:gd name="textAreaRight" fmla="*/ 1801080 w 1800720"/>
                  <a:gd name="textAreaTop" fmla="*/ 0 h 1868040"/>
                  <a:gd name="textAreaBottom" fmla="*/ 1868400 h 1868040"/>
                </a:gdLst>
                <a:ahLst/>
                <a:rect l="textAreaLeft" t="textAreaTop" r="textAreaRight" b="textAreaBottom"/>
                <a:pathLst>
                  <a:path w="628" h="601">
                    <a:moveTo>
                      <a:pt x="581" y="136"/>
                    </a:moveTo>
                    <a:cubicBezTo>
                      <a:pt x="560" y="72"/>
                      <a:pt x="526" y="28"/>
                      <a:pt x="487" y="0"/>
                    </a:cubicBezTo>
                    <a:cubicBezTo>
                      <a:pt x="511" y="24"/>
                      <a:pt x="461" y="31"/>
                      <a:pt x="389" y="17"/>
                    </a:cubicBezTo>
                    <a:cubicBezTo>
                      <a:pt x="590" y="169"/>
                      <a:pt x="436" y="293"/>
                      <a:pt x="316" y="168"/>
                    </a:cubicBezTo>
                    <a:cubicBezTo>
                      <a:pt x="409" y="523"/>
                      <a:pt x="162" y="530"/>
                      <a:pt x="34" y="507"/>
                    </a:cubicBezTo>
                    <a:cubicBezTo>
                      <a:pt x="29" y="518"/>
                      <a:pt x="18" y="530"/>
                      <a:pt x="0" y="537"/>
                    </a:cubicBezTo>
                    <a:cubicBezTo>
                      <a:pt x="48" y="551"/>
                      <a:pt x="65" y="551"/>
                      <a:pt x="95" y="544"/>
                    </a:cubicBezTo>
                    <a:cubicBezTo>
                      <a:pt x="218" y="601"/>
                      <a:pt x="272" y="532"/>
                      <a:pt x="285" y="514"/>
                    </a:cubicBezTo>
                    <a:cubicBezTo>
                      <a:pt x="370" y="541"/>
                      <a:pt x="425" y="501"/>
                      <a:pt x="467" y="459"/>
                    </a:cubicBezTo>
                    <a:cubicBezTo>
                      <a:pt x="555" y="414"/>
                      <a:pt x="628" y="279"/>
                      <a:pt x="581" y="136"/>
                    </a:cubicBezTo>
                    <a:close/>
                  </a:path>
                </a:pathLst>
              </a:custGeom>
              <a:solidFill>
                <a:srgbClr val="f27b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53"/>
              <p:cNvGrpSpPr/>
              <p:nvPr/>
            </p:nvGrpSpPr>
            <p:grpSpPr>
              <a:xfrm>
                <a:off x="6024600" y="2196000"/>
                <a:ext cx="2785680" cy="2216520"/>
                <a:chOff x="6024600" y="2196000"/>
                <a:chExt cx="2785680" cy="2216520"/>
              </a:xfrm>
            </p:grpSpPr>
            <p:sp>
              <p:nvSpPr>
                <p:cNvPr id="131" name="Freeform 54"/>
                <p:cNvSpPr/>
                <p:nvPr/>
              </p:nvSpPr>
              <p:spPr>
                <a:xfrm>
                  <a:off x="7345800" y="2196000"/>
                  <a:ext cx="1464480" cy="1774800"/>
                </a:xfrm>
                <a:custGeom>
                  <a:avLst/>
                  <a:gdLst>
                    <a:gd name="textAreaLeft" fmla="*/ 0 w 1464480"/>
                    <a:gd name="textAreaRight" fmla="*/ 1464840 w 1464480"/>
                    <a:gd name="textAreaTop" fmla="*/ 0 h 1774800"/>
                    <a:gd name="textAreaBottom" fmla="*/ 1775160 h 1774800"/>
                  </a:gdLst>
                  <a:ahLst/>
                  <a:rect l="textAreaLeft" t="textAreaTop" r="textAreaRight" b="textAreaBottom"/>
                  <a:pathLst>
                    <a:path w="511" h="571">
                      <a:moveTo>
                        <a:pt x="0" y="154"/>
                      </a:moveTo>
                      <a:cubicBezTo>
                        <a:pt x="379" y="0"/>
                        <a:pt x="390" y="458"/>
                        <a:pt x="288" y="571"/>
                      </a:cubicBezTo>
                      <a:cubicBezTo>
                        <a:pt x="511" y="321"/>
                        <a:pt x="290" y="9"/>
                        <a:pt x="0" y="154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55"/>
                <p:cNvSpPr/>
                <p:nvPr/>
              </p:nvSpPr>
              <p:spPr>
                <a:xfrm>
                  <a:off x="6402960" y="2674800"/>
                  <a:ext cx="942480" cy="1560240"/>
                </a:xfrm>
                <a:custGeom>
                  <a:avLst/>
                  <a:gdLst>
                    <a:gd name="textAreaLeft" fmla="*/ 0 w 942480"/>
                    <a:gd name="textAreaRight" fmla="*/ 942840 w 942480"/>
                    <a:gd name="textAreaTop" fmla="*/ 0 h 1560240"/>
                    <a:gd name="textAreaBottom" fmla="*/ 1560600 h 1560240"/>
                  </a:gdLst>
                  <a:ahLst/>
                  <a:rect l="textAreaLeft" t="textAreaTop" r="textAreaRight" b="textAreaBottom"/>
                  <a:pathLst>
                    <a:path w="329" h="502">
                      <a:moveTo>
                        <a:pt x="329" y="0"/>
                      </a:moveTo>
                      <a:cubicBezTo>
                        <a:pt x="0" y="75"/>
                        <a:pt x="68" y="480"/>
                        <a:pt x="245" y="502"/>
                      </a:cubicBezTo>
                      <a:cubicBezTo>
                        <a:pt x="46" y="367"/>
                        <a:pt x="84" y="75"/>
                        <a:pt x="329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6"/>
                <p:cNvSpPr/>
                <p:nvPr/>
              </p:nvSpPr>
              <p:spPr>
                <a:xfrm>
                  <a:off x="6024600" y="2327400"/>
                  <a:ext cx="1321200" cy="1656360"/>
                </a:xfrm>
                <a:custGeom>
                  <a:avLst/>
                  <a:gdLst>
                    <a:gd name="textAreaLeft" fmla="*/ 0 w 1321200"/>
                    <a:gd name="textAreaRight" fmla="*/ 1321560 w 1321200"/>
                    <a:gd name="textAreaTop" fmla="*/ 0 h 1656360"/>
                    <a:gd name="textAreaBottom" fmla="*/ 1656720 h 1656360"/>
                  </a:gdLst>
                  <a:ahLst/>
                  <a:rect l="textAreaLeft" t="textAreaTop" r="textAreaRight" b="textAreaBottom"/>
                  <a:pathLst>
                    <a:path w="461" h="533">
                      <a:moveTo>
                        <a:pt x="461" y="112"/>
                      </a:moveTo>
                      <a:cubicBezTo>
                        <a:pt x="461" y="112"/>
                        <a:pt x="460" y="112"/>
                        <a:pt x="459" y="111"/>
                      </a:cubicBezTo>
                      <a:cubicBezTo>
                        <a:pt x="217" y="0"/>
                        <a:pt x="0" y="296"/>
                        <a:pt x="168" y="533"/>
                      </a:cubicBezTo>
                      <a:cubicBezTo>
                        <a:pt x="25" y="270"/>
                        <a:pt x="229" y="20"/>
                        <a:pt x="461" y="112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7"/>
                <p:cNvSpPr/>
                <p:nvPr/>
              </p:nvSpPr>
              <p:spPr>
                <a:xfrm>
                  <a:off x="7345800" y="2674800"/>
                  <a:ext cx="750960" cy="1466640"/>
                </a:xfrm>
                <a:custGeom>
                  <a:avLst/>
                  <a:gdLst>
                    <a:gd name="textAreaLeft" fmla="*/ 0 w 750960"/>
                    <a:gd name="textAreaRight" fmla="*/ 751320 w 750960"/>
                    <a:gd name="textAreaTop" fmla="*/ 0 h 1466640"/>
                    <a:gd name="textAreaBottom" fmla="*/ 1467000 h 1466640"/>
                  </a:gdLst>
                  <a:ahLst/>
                  <a:rect l="textAreaLeft" t="textAreaTop" r="textAreaRight" b="textAreaBottom"/>
                  <a:pathLst>
                    <a:path w="262" h="472">
                      <a:moveTo>
                        <a:pt x="0" y="0"/>
                      </a:moveTo>
                      <a:cubicBezTo>
                        <a:pt x="137" y="39"/>
                        <a:pt x="215" y="338"/>
                        <a:pt x="106" y="472"/>
                      </a:cubicBezTo>
                      <a:cubicBezTo>
                        <a:pt x="181" y="453"/>
                        <a:pt x="262" y="63"/>
                        <a:pt x="0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8"/>
                <p:cNvSpPr/>
                <p:nvPr/>
              </p:nvSpPr>
              <p:spPr>
                <a:xfrm>
                  <a:off x="7345800" y="2370960"/>
                  <a:ext cx="446400" cy="303480"/>
                </a:xfrm>
                <a:custGeom>
                  <a:avLst/>
                  <a:gdLst>
                    <a:gd name="textAreaLeft" fmla="*/ 0 w 446400"/>
                    <a:gd name="textAreaRight" fmla="*/ 446760 w 446400"/>
                    <a:gd name="textAreaTop" fmla="*/ 0 h 303480"/>
                    <a:gd name="textAreaBottom" fmla="*/ 303480 h 303480"/>
                  </a:gdLst>
                  <a:ahLst/>
                  <a:rect l="textAreaLeft" t="textAreaTop" r="textAreaRight" b="textAreaBottom"/>
                  <a:pathLst>
                    <a:path w="156" h="98">
                      <a:moveTo>
                        <a:pt x="0" y="98"/>
                      </a:moveTo>
                      <a:cubicBezTo>
                        <a:pt x="66" y="45"/>
                        <a:pt x="128" y="22"/>
                        <a:pt x="156" y="13"/>
                      </a:cubicBezTo>
                      <a:cubicBezTo>
                        <a:pt x="152" y="10"/>
                        <a:pt x="147" y="8"/>
                        <a:pt x="143" y="6"/>
                      </a:cubicBezTo>
                      <a:cubicBezTo>
                        <a:pt x="108" y="0"/>
                        <a:pt x="48" y="57"/>
                        <a:pt x="0" y="98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59"/>
                <p:cNvSpPr/>
                <p:nvPr/>
              </p:nvSpPr>
              <p:spPr>
                <a:xfrm>
                  <a:off x="7333560" y="2407680"/>
                  <a:ext cx="144360" cy="26676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50" h="86">
                      <a:moveTo>
                        <a:pt x="4" y="86"/>
                      </a:moveTo>
                      <a:cubicBezTo>
                        <a:pt x="12" y="66"/>
                        <a:pt x="22" y="18"/>
                        <a:pt x="50" y="0"/>
                      </a:cubicBezTo>
                      <a:cubicBezTo>
                        <a:pt x="24" y="3"/>
                        <a:pt x="0" y="49"/>
                        <a:pt x="4" y="86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60"/>
                <p:cNvSpPr/>
                <p:nvPr/>
              </p:nvSpPr>
              <p:spPr>
                <a:xfrm>
                  <a:off x="7019280" y="2448360"/>
                  <a:ext cx="326160" cy="226080"/>
                </a:xfrm>
                <a:custGeom>
                  <a:avLst/>
                  <a:gdLst>
                    <a:gd name="textAreaLeft" fmla="*/ 0 w 326160"/>
                    <a:gd name="textAreaRight" fmla="*/ 326520 w 32616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114" h="73">
                      <a:moveTo>
                        <a:pt x="114" y="73"/>
                      </a:moveTo>
                      <a:cubicBezTo>
                        <a:pt x="92" y="44"/>
                        <a:pt x="21" y="0"/>
                        <a:pt x="0" y="3"/>
                      </a:cubicBezTo>
                      <a:cubicBezTo>
                        <a:pt x="27" y="17"/>
                        <a:pt x="87" y="60"/>
                        <a:pt x="112" y="72"/>
                      </a:cubicBezTo>
                      <a:cubicBezTo>
                        <a:pt x="113" y="73"/>
                        <a:pt x="114" y="73"/>
                        <a:pt x="114" y="73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61"/>
                <p:cNvSpPr/>
                <p:nvPr/>
              </p:nvSpPr>
              <p:spPr>
                <a:xfrm>
                  <a:off x="6290280" y="2966760"/>
                  <a:ext cx="2342880" cy="1445760"/>
                </a:xfrm>
                <a:custGeom>
                  <a:avLst/>
                  <a:gdLst>
                    <a:gd name="textAreaLeft" fmla="*/ 0 w 2342880"/>
                    <a:gd name="textAreaRight" fmla="*/ 2343240 w 2342880"/>
                    <a:gd name="textAreaTop" fmla="*/ 0 h 1445760"/>
                    <a:gd name="textAreaBottom" fmla="*/ 1446120 h 1445760"/>
                  </a:gdLst>
                  <a:ahLst/>
                  <a:rect l="textAreaLeft" t="textAreaTop" r="textAreaRight" b="textAreaBottom"/>
                  <a:pathLst>
                    <a:path w="817" h="465">
                      <a:moveTo>
                        <a:pt x="502" y="345"/>
                      </a:moveTo>
                      <a:cubicBezTo>
                        <a:pt x="460" y="392"/>
                        <a:pt x="329" y="414"/>
                        <a:pt x="223" y="371"/>
                      </a:cubicBezTo>
                      <a:cubicBezTo>
                        <a:pt x="195" y="408"/>
                        <a:pt x="70" y="305"/>
                        <a:pt x="53" y="286"/>
                      </a:cubicBezTo>
                      <a:cubicBezTo>
                        <a:pt x="35" y="295"/>
                        <a:pt x="16" y="244"/>
                        <a:pt x="0" y="226"/>
                      </a:cubicBezTo>
                      <a:cubicBezTo>
                        <a:pt x="11" y="279"/>
                        <a:pt x="29" y="304"/>
                        <a:pt x="75" y="327"/>
                      </a:cubicBezTo>
                      <a:cubicBezTo>
                        <a:pt x="101" y="355"/>
                        <a:pt x="111" y="378"/>
                        <a:pt x="172" y="396"/>
                      </a:cubicBezTo>
                      <a:cubicBezTo>
                        <a:pt x="233" y="414"/>
                        <a:pt x="250" y="416"/>
                        <a:pt x="284" y="408"/>
                      </a:cubicBezTo>
                      <a:cubicBezTo>
                        <a:pt x="407" y="465"/>
                        <a:pt x="461" y="396"/>
                        <a:pt x="474" y="378"/>
                      </a:cubicBezTo>
                      <a:cubicBezTo>
                        <a:pt x="559" y="405"/>
                        <a:pt x="614" y="365"/>
                        <a:pt x="656" y="323"/>
                      </a:cubicBezTo>
                      <a:cubicBezTo>
                        <a:pt x="744" y="278"/>
                        <a:pt x="817" y="143"/>
                        <a:pt x="770" y="0"/>
                      </a:cubicBezTo>
                      <a:cubicBezTo>
                        <a:pt x="771" y="61"/>
                        <a:pt x="758" y="164"/>
                        <a:pt x="717" y="216"/>
                      </a:cubicBezTo>
                      <a:cubicBezTo>
                        <a:pt x="673" y="291"/>
                        <a:pt x="550" y="367"/>
                        <a:pt x="502" y="345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62"/>
              <p:cNvSpPr/>
              <p:nvPr/>
            </p:nvSpPr>
            <p:spPr>
              <a:xfrm>
                <a:off x="7019280" y="2332800"/>
                <a:ext cx="458640" cy="341640"/>
              </a:xfrm>
              <a:custGeom>
                <a:avLst/>
                <a:gdLst>
                  <a:gd name="textAreaLeft" fmla="*/ 0 w 458640"/>
                  <a:gd name="textAreaRight" fmla="*/ 459000 w 45864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160" h="110">
                    <a:moveTo>
                      <a:pt x="114" y="110"/>
                    </a:moveTo>
                    <a:cubicBezTo>
                      <a:pt x="110" y="73"/>
                      <a:pt x="134" y="27"/>
                      <a:pt x="160" y="24"/>
                    </a:cubicBezTo>
                    <a:cubicBezTo>
                      <a:pt x="114" y="0"/>
                      <a:pt x="39" y="13"/>
                      <a:pt x="0" y="40"/>
                    </a:cubicBezTo>
                    <a:cubicBezTo>
                      <a:pt x="21" y="37"/>
                      <a:pt x="92" y="81"/>
                      <a:pt x="114" y="1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3"/>
              <p:cNvSpPr/>
              <p:nvPr/>
            </p:nvSpPr>
            <p:spPr>
              <a:xfrm>
                <a:off x="7234200" y="2579040"/>
                <a:ext cx="225360" cy="1299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79" h="42">
                    <a:moveTo>
                      <a:pt x="10" y="40"/>
                    </a:moveTo>
                    <a:cubicBezTo>
                      <a:pt x="47" y="21"/>
                      <a:pt x="59" y="42"/>
                      <a:pt x="67" y="42"/>
                    </a:cubicBezTo>
                    <a:cubicBezTo>
                      <a:pt x="37" y="25"/>
                      <a:pt x="70" y="20"/>
                      <a:pt x="79" y="17"/>
                    </a:cubicBezTo>
                    <a:cubicBezTo>
                      <a:pt x="37" y="24"/>
                      <a:pt x="66" y="10"/>
                      <a:pt x="74" y="4"/>
                    </a:cubicBezTo>
                    <a:cubicBezTo>
                      <a:pt x="62" y="12"/>
                      <a:pt x="41" y="23"/>
                      <a:pt x="43" y="0"/>
                    </a:cubicBezTo>
                    <a:cubicBezTo>
                      <a:pt x="36" y="25"/>
                      <a:pt x="21" y="13"/>
                      <a:pt x="9" y="6"/>
                    </a:cubicBezTo>
                    <a:cubicBezTo>
                      <a:pt x="17" y="18"/>
                      <a:pt x="33" y="21"/>
                      <a:pt x="0" y="19"/>
                    </a:cubicBezTo>
                    <a:cubicBezTo>
                      <a:pt x="16" y="25"/>
                      <a:pt x="44" y="21"/>
                      <a:pt x="10" y="40"/>
                    </a:cubicBezTo>
                    <a:close/>
                  </a:path>
                </a:pathLst>
              </a:custGeom>
              <a:solidFill>
                <a:srgbClr val="0069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4"/>
              <p:cNvSpPr/>
              <p:nvPr/>
            </p:nvSpPr>
            <p:spPr>
              <a:xfrm>
                <a:off x="7036560" y="2209320"/>
                <a:ext cx="380880" cy="456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133" h="147">
                    <a:moveTo>
                      <a:pt x="133" y="0"/>
                    </a:moveTo>
                    <a:cubicBezTo>
                      <a:pt x="120" y="142"/>
                      <a:pt x="120" y="142"/>
                      <a:pt x="120" y="142"/>
                    </a:cubicBezTo>
                    <a:cubicBezTo>
                      <a:pt x="116" y="146"/>
                      <a:pt x="111" y="147"/>
                      <a:pt x="104" y="146"/>
                    </a:cubicBezTo>
                    <a:cubicBezTo>
                      <a:pt x="0" y="48"/>
                      <a:pt x="0" y="48"/>
                      <a:pt x="0" y="48"/>
                    </a:cubicBez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4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5"/>
              <p:cNvSpPr/>
              <p:nvPr/>
            </p:nvSpPr>
            <p:spPr>
              <a:xfrm>
                <a:off x="7024320" y="2178000"/>
                <a:ext cx="401400" cy="21168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40" h="68">
                    <a:moveTo>
                      <a:pt x="137" y="10"/>
                    </a:moveTo>
                    <a:cubicBezTo>
                      <a:pt x="140" y="21"/>
                      <a:pt x="114" y="40"/>
                      <a:pt x="77" y="53"/>
                    </a:cubicBezTo>
                    <a:cubicBezTo>
                      <a:pt x="41" y="66"/>
                      <a:pt x="8" y="68"/>
                      <a:pt x="4" y="58"/>
                    </a:cubicBezTo>
                    <a:cubicBezTo>
                      <a:pt x="0" y="47"/>
                      <a:pt x="27" y="28"/>
                      <a:pt x="63" y="15"/>
                    </a:cubicBezTo>
                    <a:cubicBezTo>
                      <a:pt x="100" y="2"/>
                      <a:pt x="133" y="0"/>
                      <a:pt x="137" y="10"/>
                    </a:cubicBezTo>
                    <a:close/>
                  </a:path>
                </a:pathLst>
              </a:custGeom>
              <a:solidFill>
                <a:srgbClr val="0069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66"/>
            <p:cNvGrpSpPr/>
            <p:nvPr/>
          </p:nvGrpSpPr>
          <p:grpSpPr>
            <a:xfrm>
              <a:off x="7167600" y="3393360"/>
              <a:ext cx="189000" cy="139320"/>
              <a:chOff x="7167600" y="3393360"/>
              <a:chExt cx="189000" cy="139320"/>
            </a:xfrm>
          </p:grpSpPr>
          <p:sp>
            <p:nvSpPr>
              <p:cNvPr id="144" name="Freeform 67"/>
              <p:cNvSpPr/>
              <p:nvPr/>
            </p:nvSpPr>
            <p:spPr>
              <a:xfrm>
                <a:off x="7167600" y="3393360"/>
                <a:ext cx="189000" cy="1393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56" h="106">
                    <a:moveTo>
                      <a:pt x="0" y="106"/>
                    </a:moveTo>
                    <a:lnTo>
                      <a:pt x="83" y="0"/>
                    </a:lnTo>
                    <a:lnTo>
                      <a:pt x="156" y="8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68"/>
              <p:cNvSpPr/>
              <p:nvPr/>
            </p:nvSpPr>
            <p:spPr>
              <a:xfrm>
                <a:off x="7175520" y="3393360"/>
                <a:ext cx="180720" cy="13392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9" h="102">
                    <a:moveTo>
                      <a:pt x="0" y="102"/>
                    </a:moveTo>
                    <a:lnTo>
                      <a:pt x="78" y="0"/>
                    </a:lnTo>
                    <a:lnTo>
                      <a:pt x="149" y="85"/>
                    </a:lnTo>
                    <a:lnTo>
                      <a:pt x="0" y="102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69"/>
            <p:cNvGrpSpPr/>
            <p:nvPr/>
          </p:nvGrpSpPr>
          <p:grpSpPr>
            <a:xfrm>
              <a:off x="6510960" y="2834280"/>
              <a:ext cx="1558800" cy="478440"/>
              <a:chOff x="6510960" y="2834280"/>
              <a:chExt cx="1558800" cy="478440"/>
            </a:xfrm>
          </p:grpSpPr>
          <p:sp>
            <p:nvSpPr>
              <p:cNvPr id="147" name="Freeform 70"/>
              <p:cNvSpPr/>
              <p:nvPr/>
            </p:nvSpPr>
            <p:spPr>
              <a:xfrm>
                <a:off x="7377120" y="3085200"/>
                <a:ext cx="692640" cy="227520"/>
              </a:xfrm>
              <a:custGeom>
                <a:avLst/>
                <a:gdLst>
                  <a:gd name="textAreaLeft" fmla="*/ 0 w 692640"/>
                  <a:gd name="textAreaRight" fmla="*/ 693000 w 6926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242" h="73">
                    <a:moveTo>
                      <a:pt x="242" y="0"/>
                    </a:moveTo>
                    <a:cubicBezTo>
                      <a:pt x="211" y="57"/>
                      <a:pt x="37" y="73"/>
                      <a:pt x="0" y="53"/>
                    </a:cubicBezTo>
                    <a:cubicBezTo>
                      <a:pt x="37" y="55"/>
                      <a:pt x="150" y="61"/>
                      <a:pt x="242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1"/>
              <p:cNvSpPr/>
              <p:nvPr/>
            </p:nvSpPr>
            <p:spPr>
              <a:xfrm>
                <a:off x="6510960" y="2834280"/>
                <a:ext cx="662400" cy="422280"/>
              </a:xfrm>
              <a:custGeom>
                <a:avLst/>
                <a:gdLst>
                  <a:gd name="textAreaLeft" fmla="*/ 0 w 662400"/>
                  <a:gd name="textAreaRight" fmla="*/ 662760 w 66240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31" h="136">
                    <a:moveTo>
                      <a:pt x="47" y="0"/>
                    </a:moveTo>
                    <a:cubicBezTo>
                      <a:pt x="76" y="16"/>
                      <a:pt x="185" y="84"/>
                      <a:pt x="229" y="127"/>
                    </a:cubicBezTo>
                    <a:cubicBezTo>
                      <a:pt x="231" y="136"/>
                      <a:pt x="231" y="126"/>
                      <a:pt x="231" y="136"/>
                    </a:cubicBezTo>
                    <a:cubicBezTo>
                      <a:pt x="188" y="113"/>
                      <a:pt x="50" y="78"/>
                      <a:pt x="0" y="112"/>
                    </a:cubicBezTo>
                    <a:cubicBezTo>
                      <a:pt x="7" y="77"/>
                      <a:pt x="43" y="15"/>
                      <a:pt x="47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2"/>
              <p:cNvSpPr/>
              <p:nvPr/>
            </p:nvSpPr>
            <p:spPr>
              <a:xfrm>
                <a:off x="6548400" y="2862000"/>
                <a:ext cx="630720" cy="401040"/>
              </a:xfrm>
              <a:custGeom>
                <a:avLst/>
                <a:gdLst>
                  <a:gd name="textAreaLeft" fmla="*/ 0 w 630720"/>
                  <a:gd name="textAreaRight" fmla="*/ 631080 w 63072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220" h="129">
                    <a:moveTo>
                      <a:pt x="45" y="0"/>
                    </a:moveTo>
                    <a:cubicBezTo>
                      <a:pt x="73" y="15"/>
                      <a:pt x="176" y="80"/>
                      <a:pt x="219" y="121"/>
                    </a:cubicBezTo>
                    <a:cubicBezTo>
                      <a:pt x="220" y="129"/>
                      <a:pt x="220" y="120"/>
                      <a:pt x="220" y="129"/>
                    </a:cubicBezTo>
                    <a:cubicBezTo>
                      <a:pt x="179" y="108"/>
                      <a:pt x="48" y="65"/>
                      <a:pt x="0" y="97"/>
                    </a:cubicBezTo>
                    <a:cubicBezTo>
                      <a:pt x="6" y="64"/>
                      <a:pt x="41" y="15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73"/>
            <p:cNvGrpSpPr/>
            <p:nvPr/>
          </p:nvGrpSpPr>
          <p:grpSpPr>
            <a:xfrm>
              <a:off x="6609240" y="3534120"/>
              <a:ext cx="1447560" cy="627120"/>
              <a:chOff x="6609240" y="3534120"/>
              <a:chExt cx="1447560" cy="627120"/>
            </a:xfrm>
          </p:grpSpPr>
          <p:sp>
            <p:nvSpPr>
              <p:cNvPr id="151" name="Freeform 74"/>
              <p:cNvSpPr/>
              <p:nvPr/>
            </p:nvSpPr>
            <p:spPr>
              <a:xfrm>
                <a:off x="6609240" y="3534120"/>
                <a:ext cx="1447560" cy="6271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627120"/>
                  <a:gd name="textAreaBottom" fmla="*/ 627120 h 627120"/>
                </a:gdLst>
                <a:ahLst/>
                <a:rect l="textAreaLeft" t="textAreaTop" r="textAreaRight" b="textAreaBottom"/>
                <a:pathLst>
                  <a:path w="505" h="202">
                    <a:moveTo>
                      <a:pt x="403" y="53"/>
                    </a:moveTo>
                    <a:cubicBezTo>
                      <a:pt x="393" y="92"/>
                      <a:pt x="393" y="92"/>
                      <a:pt x="393" y="92"/>
                    </a:cubicBezTo>
                    <a:cubicBezTo>
                      <a:pt x="374" y="52"/>
                      <a:pt x="374" y="52"/>
                      <a:pt x="374" y="52"/>
                    </a:cubicBezTo>
                    <a:cubicBezTo>
                      <a:pt x="295" y="59"/>
                      <a:pt x="207" y="53"/>
                      <a:pt x="128" y="40"/>
                    </a:cubicBezTo>
                    <a:cubicBezTo>
                      <a:pt x="106" y="83"/>
                      <a:pt x="106" y="83"/>
                      <a:pt x="106" y="83"/>
                    </a:cubicBezTo>
                    <a:cubicBezTo>
                      <a:pt x="95" y="39"/>
                      <a:pt x="95" y="39"/>
                      <a:pt x="95" y="39"/>
                    </a:cubicBezTo>
                    <a:cubicBezTo>
                      <a:pt x="59" y="31"/>
                      <a:pt x="26" y="11"/>
                      <a:pt x="0" y="0"/>
                    </a:cubicBezTo>
                    <a:cubicBezTo>
                      <a:pt x="88" y="184"/>
                      <a:pt x="390" y="202"/>
                      <a:pt x="505" y="20"/>
                    </a:cubicBezTo>
                    <a:cubicBezTo>
                      <a:pt x="478" y="32"/>
                      <a:pt x="441" y="48"/>
                      <a:pt x="403" y="53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5"/>
              <p:cNvSpPr/>
              <p:nvPr/>
            </p:nvSpPr>
            <p:spPr>
              <a:xfrm>
                <a:off x="6646320" y="3558960"/>
                <a:ext cx="1364040" cy="590040"/>
              </a:xfrm>
              <a:custGeom>
                <a:avLst/>
                <a:gdLst>
                  <a:gd name="textAreaLeft" fmla="*/ 0 w 1364040"/>
                  <a:gd name="textAreaRight" fmla="*/ 1364400 w 1364040"/>
                  <a:gd name="textAreaTop" fmla="*/ 0 h 590040"/>
                  <a:gd name="textAreaBottom" fmla="*/ 590400 h 590040"/>
                </a:gdLst>
                <a:ahLst/>
                <a:rect l="textAreaLeft" t="textAreaTop" r="textAreaRight" b="textAreaBottom"/>
                <a:pathLst>
                  <a:path w="476" h="190">
                    <a:moveTo>
                      <a:pt x="381" y="42"/>
                    </a:moveTo>
                    <a:cubicBezTo>
                      <a:pt x="372" y="78"/>
                      <a:pt x="372" y="78"/>
                      <a:pt x="372" y="78"/>
                    </a:cubicBezTo>
                    <a:cubicBezTo>
                      <a:pt x="356" y="44"/>
                      <a:pt x="356" y="44"/>
                      <a:pt x="356" y="44"/>
                    </a:cubicBezTo>
                    <a:cubicBezTo>
                      <a:pt x="281" y="51"/>
                      <a:pt x="194" y="47"/>
                      <a:pt x="119" y="34"/>
                    </a:cubicBezTo>
                    <a:cubicBezTo>
                      <a:pt x="101" y="70"/>
                      <a:pt x="101" y="70"/>
                      <a:pt x="101" y="70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56" y="21"/>
                      <a:pt x="25" y="11"/>
                      <a:pt x="0" y="0"/>
                    </a:cubicBezTo>
                    <a:cubicBezTo>
                      <a:pt x="84" y="175"/>
                      <a:pt x="367" y="190"/>
                      <a:pt x="476" y="19"/>
                    </a:cubicBezTo>
                    <a:cubicBezTo>
                      <a:pt x="450" y="29"/>
                      <a:pt x="418" y="37"/>
                      <a:pt x="381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1"/>
                  </a:gs>
                  <a:gs pos="100000">
                    <a:srgbClr val="ffff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76"/>
          <p:cNvGrpSpPr/>
          <p:nvPr/>
        </p:nvGrpSpPr>
        <p:grpSpPr>
          <a:xfrm>
            <a:off x="2471760" y="2274840"/>
            <a:ext cx="4744080" cy="3803040"/>
            <a:chOff x="2471760" y="2274840"/>
            <a:chExt cx="4744080" cy="3803040"/>
          </a:xfrm>
        </p:grpSpPr>
        <p:grpSp>
          <p:nvGrpSpPr>
            <p:cNvPr id="154" name="Group 77"/>
            <p:cNvGrpSpPr/>
            <p:nvPr/>
          </p:nvGrpSpPr>
          <p:grpSpPr>
            <a:xfrm>
              <a:off x="2471760" y="2274840"/>
              <a:ext cx="4744080" cy="3803040"/>
              <a:chOff x="2471760" y="2274840"/>
              <a:chExt cx="4744080" cy="3803040"/>
            </a:xfrm>
          </p:grpSpPr>
          <p:sp>
            <p:nvSpPr>
              <p:cNvPr id="155" name="Freeform 78"/>
              <p:cNvSpPr/>
              <p:nvPr/>
            </p:nvSpPr>
            <p:spPr>
              <a:xfrm>
                <a:off x="4721760" y="2354760"/>
                <a:ext cx="2494080" cy="2970360"/>
              </a:xfrm>
              <a:custGeom>
                <a:avLst/>
                <a:gdLst>
                  <a:gd name="textAreaLeft" fmla="*/ 0 w 2494080"/>
                  <a:gd name="textAreaRight" fmla="*/ 2494440 w 2494080"/>
                  <a:gd name="textAreaTop" fmla="*/ 0 h 2970360"/>
                  <a:gd name="textAreaBottom" fmla="*/ 2970720 h 2970360"/>
                </a:gdLst>
                <a:ahLst/>
                <a:rect l="textAreaLeft" t="textAreaTop" r="textAreaRight" b="textAreaBottom"/>
                <a:pathLst>
                  <a:path w="511" h="562">
                    <a:moveTo>
                      <a:pt x="402" y="239"/>
                    </a:moveTo>
                    <a:cubicBezTo>
                      <a:pt x="355" y="96"/>
                      <a:pt x="246" y="54"/>
                      <a:pt x="156" y="60"/>
                    </a:cubicBezTo>
                    <a:cubicBezTo>
                      <a:pt x="128" y="69"/>
                      <a:pt x="66" y="92"/>
                      <a:pt x="0" y="145"/>
                    </a:cubicBezTo>
                    <a:cubicBezTo>
                      <a:pt x="290" y="0"/>
                      <a:pt x="511" y="312"/>
                      <a:pt x="288" y="562"/>
                    </a:cubicBezTo>
                    <a:cubicBezTo>
                      <a:pt x="376" y="517"/>
                      <a:pt x="449" y="382"/>
                      <a:pt x="402" y="2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79"/>
              <p:cNvSpPr/>
              <p:nvPr/>
            </p:nvSpPr>
            <p:spPr>
              <a:xfrm>
                <a:off x="2593440" y="2635200"/>
                <a:ext cx="2128320" cy="3182760"/>
              </a:xfrm>
              <a:custGeom>
                <a:avLst/>
                <a:gdLst>
                  <a:gd name="textAreaLeft" fmla="*/ 0 w 2128320"/>
                  <a:gd name="textAreaRight" fmla="*/ 2128680 w 2128320"/>
                  <a:gd name="textAreaTop" fmla="*/ 0 h 3182760"/>
                  <a:gd name="textAreaBottom" fmla="*/ 3183120 h 3182760"/>
                </a:gdLst>
                <a:ahLst/>
                <a:rect l="textAreaLeft" t="textAreaTop" r="textAreaRight" b="textAreaBottom"/>
                <a:pathLst>
                  <a:path w="436" h="602">
                    <a:moveTo>
                      <a:pt x="436" y="92"/>
                    </a:moveTo>
                    <a:cubicBezTo>
                      <a:pt x="204" y="0"/>
                      <a:pt x="0" y="250"/>
                      <a:pt x="143" y="513"/>
                    </a:cubicBezTo>
                    <a:cubicBezTo>
                      <a:pt x="169" y="541"/>
                      <a:pt x="179" y="564"/>
                      <a:pt x="240" y="582"/>
                    </a:cubicBezTo>
                    <a:cubicBezTo>
                      <a:pt x="301" y="600"/>
                      <a:pt x="318" y="602"/>
                      <a:pt x="352" y="594"/>
                    </a:cubicBezTo>
                    <a:cubicBezTo>
                      <a:pt x="175" y="572"/>
                      <a:pt x="107" y="167"/>
                      <a:pt x="436" y="9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0"/>
              <p:cNvSpPr/>
              <p:nvPr/>
            </p:nvSpPr>
            <p:spPr>
              <a:xfrm>
                <a:off x="3339360" y="3120480"/>
                <a:ext cx="2432520" cy="2957400"/>
              </a:xfrm>
              <a:custGeom>
                <a:avLst/>
                <a:gdLst>
                  <a:gd name="textAreaLeft" fmla="*/ 0 w 2432520"/>
                  <a:gd name="textAreaRight" fmla="*/ 2432880 w 2432520"/>
                  <a:gd name="textAreaTop" fmla="*/ 0 h 2957400"/>
                  <a:gd name="textAreaBottom" fmla="*/ 2957760 h 2957400"/>
                </a:gdLst>
                <a:ahLst/>
                <a:rect l="textAreaLeft" t="textAreaTop" r="textAreaRight" b="textAreaBottom"/>
                <a:pathLst>
                  <a:path w="498" h="559">
                    <a:moveTo>
                      <a:pt x="283" y="0"/>
                    </a:moveTo>
                    <a:cubicBezTo>
                      <a:pt x="38" y="75"/>
                      <a:pt x="0" y="367"/>
                      <a:pt x="199" y="502"/>
                    </a:cubicBezTo>
                    <a:cubicBezTo>
                      <a:pt x="322" y="559"/>
                      <a:pt x="376" y="490"/>
                      <a:pt x="389" y="472"/>
                    </a:cubicBezTo>
                    <a:cubicBezTo>
                      <a:pt x="498" y="338"/>
                      <a:pt x="420" y="39"/>
                      <a:pt x="283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1"/>
              <p:cNvSpPr/>
              <p:nvPr/>
            </p:nvSpPr>
            <p:spPr>
              <a:xfrm>
                <a:off x="4721760" y="2538720"/>
                <a:ext cx="698400" cy="581400"/>
              </a:xfrm>
              <a:custGeom>
                <a:avLst/>
                <a:gdLst>
                  <a:gd name="textAreaLeft" fmla="*/ 0 w 698400"/>
                  <a:gd name="textAreaRight" fmla="*/ 698760 w 69840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143" h="110">
                    <a:moveTo>
                      <a:pt x="0" y="110"/>
                    </a:moveTo>
                    <a:cubicBezTo>
                      <a:pt x="48" y="69"/>
                      <a:pt x="108" y="12"/>
                      <a:pt x="143" y="18"/>
                    </a:cubicBezTo>
                    <a:cubicBezTo>
                      <a:pt x="110" y="3"/>
                      <a:pt x="96" y="0"/>
                      <a:pt x="46" y="24"/>
                    </a:cubicBezTo>
                    <a:cubicBezTo>
                      <a:pt x="18" y="42"/>
                      <a:pt x="8" y="90"/>
                      <a:pt x="0" y="1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2"/>
              <p:cNvSpPr/>
              <p:nvPr/>
            </p:nvSpPr>
            <p:spPr>
              <a:xfrm>
                <a:off x="2471760" y="2529360"/>
                <a:ext cx="2239920" cy="2818080"/>
              </a:xfrm>
              <a:custGeom>
                <a:avLst/>
                <a:gdLst>
                  <a:gd name="textAreaLeft" fmla="*/ 0 w 2239920"/>
                  <a:gd name="textAreaRight" fmla="*/ 2240280 w 2239920"/>
                  <a:gd name="textAreaTop" fmla="*/ 0 h 2818080"/>
                  <a:gd name="textAreaBottom" fmla="*/ 2818440 h 2818080"/>
                </a:gdLst>
                <a:ahLst/>
                <a:rect l="textAreaLeft" t="textAreaTop" r="textAreaRight" b="textAreaBottom"/>
                <a:pathLst>
                  <a:path w="459" h="533">
                    <a:moveTo>
                      <a:pt x="459" y="111"/>
                    </a:moveTo>
                    <a:cubicBezTo>
                      <a:pt x="434" y="99"/>
                      <a:pt x="374" y="56"/>
                      <a:pt x="347" y="42"/>
                    </a:cubicBezTo>
                    <a:cubicBezTo>
                      <a:pt x="321" y="38"/>
                      <a:pt x="308" y="29"/>
                      <a:pt x="244" y="51"/>
                    </a:cubicBezTo>
                    <a:cubicBezTo>
                      <a:pt x="183" y="72"/>
                      <a:pt x="57" y="190"/>
                      <a:pt x="76" y="324"/>
                    </a:cubicBezTo>
                    <a:cubicBezTo>
                      <a:pt x="94" y="458"/>
                      <a:pt x="98" y="498"/>
                      <a:pt x="168" y="533"/>
                    </a:cubicBezTo>
                    <a:cubicBezTo>
                      <a:pt x="0" y="296"/>
                      <a:pt x="217" y="0"/>
                      <a:pt x="459" y="1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83"/>
              <p:cNvSpPr/>
              <p:nvPr/>
            </p:nvSpPr>
            <p:spPr>
              <a:xfrm>
                <a:off x="4721760" y="2305800"/>
                <a:ext cx="1903320" cy="3453840"/>
              </a:xfrm>
              <a:custGeom>
                <a:avLst/>
                <a:gdLst>
                  <a:gd name="textAreaLeft" fmla="*/ 0 w 1903320"/>
                  <a:gd name="textAreaRight" fmla="*/ 1903680 w 1903320"/>
                  <a:gd name="textAreaTop" fmla="*/ 0 h 3453840"/>
                  <a:gd name="textAreaBottom" fmla="*/ 3454200 h 3453840"/>
                </a:gdLst>
                <a:ahLst/>
                <a:rect l="textAreaLeft" t="textAreaTop" r="textAreaRight" b="textAreaBottom"/>
                <a:pathLst>
                  <a:path w="390" h="653">
                    <a:moveTo>
                      <a:pt x="0" y="154"/>
                    </a:moveTo>
                    <a:cubicBezTo>
                      <a:pt x="262" y="217"/>
                      <a:pt x="181" y="607"/>
                      <a:pt x="106" y="626"/>
                    </a:cubicBezTo>
                    <a:cubicBezTo>
                      <a:pt x="191" y="653"/>
                      <a:pt x="246" y="613"/>
                      <a:pt x="288" y="571"/>
                    </a:cubicBezTo>
                    <a:cubicBezTo>
                      <a:pt x="390" y="458"/>
                      <a:pt x="379" y="0"/>
                      <a:pt x="0" y="15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4"/>
              <p:cNvSpPr/>
              <p:nvPr/>
            </p:nvSpPr>
            <p:spPr>
              <a:xfrm>
                <a:off x="3848040" y="2899080"/>
                <a:ext cx="3066480" cy="3178800"/>
              </a:xfrm>
              <a:custGeom>
                <a:avLst/>
                <a:gdLst>
                  <a:gd name="textAreaLeft" fmla="*/ 0 w 3066480"/>
                  <a:gd name="textAreaRight" fmla="*/ 3066840 w 3066480"/>
                  <a:gd name="textAreaTop" fmla="*/ 0 h 3178800"/>
                  <a:gd name="textAreaBottom" fmla="*/ 3179160 h 3178800"/>
                </a:gdLst>
                <a:ahLst/>
                <a:rect l="textAreaLeft" t="textAreaTop" r="textAreaRight" b="textAreaBottom"/>
                <a:pathLst>
                  <a:path w="628" h="601">
                    <a:moveTo>
                      <a:pt x="581" y="136"/>
                    </a:moveTo>
                    <a:cubicBezTo>
                      <a:pt x="560" y="72"/>
                      <a:pt x="526" y="28"/>
                      <a:pt x="487" y="0"/>
                    </a:cubicBezTo>
                    <a:cubicBezTo>
                      <a:pt x="511" y="24"/>
                      <a:pt x="461" y="31"/>
                      <a:pt x="389" y="17"/>
                    </a:cubicBezTo>
                    <a:cubicBezTo>
                      <a:pt x="590" y="169"/>
                      <a:pt x="436" y="293"/>
                      <a:pt x="316" y="168"/>
                    </a:cubicBezTo>
                    <a:cubicBezTo>
                      <a:pt x="409" y="523"/>
                      <a:pt x="162" y="530"/>
                      <a:pt x="34" y="507"/>
                    </a:cubicBezTo>
                    <a:cubicBezTo>
                      <a:pt x="29" y="518"/>
                      <a:pt x="18" y="530"/>
                      <a:pt x="0" y="537"/>
                    </a:cubicBezTo>
                    <a:cubicBezTo>
                      <a:pt x="48" y="551"/>
                      <a:pt x="65" y="551"/>
                      <a:pt x="95" y="544"/>
                    </a:cubicBezTo>
                    <a:cubicBezTo>
                      <a:pt x="218" y="601"/>
                      <a:pt x="272" y="532"/>
                      <a:pt x="285" y="514"/>
                    </a:cubicBezTo>
                    <a:cubicBezTo>
                      <a:pt x="370" y="541"/>
                      <a:pt x="425" y="501"/>
                      <a:pt x="467" y="459"/>
                    </a:cubicBezTo>
                    <a:cubicBezTo>
                      <a:pt x="555" y="414"/>
                      <a:pt x="628" y="279"/>
                      <a:pt x="581" y="136"/>
                    </a:cubicBezTo>
                    <a:close/>
                  </a:path>
                </a:pathLst>
              </a:custGeom>
              <a:solidFill>
                <a:srgbClr val="f27b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85"/>
              <p:cNvGrpSpPr/>
              <p:nvPr/>
            </p:nvGrpSpPr>
            <p:grpSpPr>
              <a:xfrm>
                <a:off x="2471760" y="2305800"/>
                <a:ext cx="4744080" cy="3771720"/>
                <a:chOff x="2471760" y="2305800"/>
                <a:chExt cx="4744080" cy="3771720"/>
              </a:xfrm>
            </p:grpSpPr>
            <p:sp>
              <p:nvSpPr>
                <p:cNvPr id="163" name="Freeform 86"/>
                <p:cNvSpPr/>
                <p:nvPr/>
              </p:nvSpPr>
              <p:spPr>
                <a:xfrm>
                  <a:off x="4721760" y="2305800"/>
                  <a:ext cx="2494080" cy="3019320"/>
                </a:xfrm>
                <a:custGeom>
                  <a:avLst/>
                  <a:gdLst>
                    <a:gd name="textAreaLeft" fmla="*/ 0 w 2494080"/>
                    <a:gd name="textAreaRight" fmla="*/ 2494440 w 2494080"/>
                    <a:gd name="textAreaTop" fmla="*/ 0 h 3019320"/>
                    <a:gd name="textAreaBottom" fmla="*/ 3019680 h 3019320"/>
                  </a:gdLst>
                  <a:ahLst/>
                  <a:rect l="textAreaLeft" t="textAreaTop" r="textAreaRight" b="textAreaBottom"/>
                  <a:pathLst>
                    <a:path w="511" h="571">
                      <a:moveTo>
                        <a:pt x="0" y="154"/>
                      </a:moveTo>
                      <a:cubicBezTo>
                        <a:pt x="379" y="0"/>
                        <a:pt x="390" y="458"/>
                        <a:pt x="288" y="571"/>
                      </a:cubicBezTo>
                      <a:cubicBezTo>
                        <a:pt x="511" y="321"/>
                        <a:pt x="290" y="9"/>
                        <a:pt x="0" y="154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7"/>
                <p:cNvSpPr/>
                <p:nvPr/>
              </p:nvSpPr>
              <p:spPr>
                <a:xfrm>
                  <a:off x="3116520" y="3120480"/>
                  <a:ext cx="1605240" cy="2654640"/>
                </a:xfrm>
                <a:custGeom>
                  <a:avLst/>
                  <a:gdLst>
                    <a:gd name="textAreaLeft" fmla="*/ 0 w 1605240"/>
                    <a:gd name="textAreaRight" fmla="*/ 1605600 w 1605240"/>
                    <a:gd name="textAreaTop" fmla="*/ 0 h 2654640"/>
                    <a:gd name="textAreaBottom" fmla="*/ 2655000 h 2654640"/>
                  </a:gdLst>
                  <a:ahLst/>
                  <a:rect l="textAreaLeft" t="textAreaTop" r="textAreaRight" b="textAreaBottom"/>
                  <a:pathLst>
                    <a:path w="329" h="502">
                      <a:moveTo>
                        <a:pt x="329" y="0"/>
                      </a:moveTo>
                      <a:cubicBezTo>
                        <a:pt x="0" y="75"/>
                        <a:pt x="68" y="480"/>
                        <a:pt x="245" y="502"/>
                      </a:cubicBezTo>
                      <a:cubicBezTo>
                        <a:pt x="46" y="367"/>
                        <a:pt x="84" y="75"/>
                        <a:pt x="329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8"/>
                <p:cNvSpPr/>
                <p:nvPr/>
              </p:nvSpPr>
              <p:spPr>
                <a:xfrm>
                  <a:off x="2471760" y="2529360"/>
                  <a:ext cx="2250000" cy="2818080"/>
                </a:xfrm>
                <a:custGeom>
                  <a:avLst/>
                  <a:gdLst>
                    <a:gd name="textAreaLeft" fmla="*/ 0 w 2250000"/>
                    <a:gd name="textAreaRight" fmla="*/ 2250360 w 2250000"/>
                    <a:gd name="textAreaTop" fmla="*/ 0 h 2818080"/>
                    <a:gd name="textAreaBottom" fmla="*/ 2818440 h 2818080"/>
                  </a:gdLst>
                  <a:ahLst/>
                  <a:rect l="textAreaLeft" t="textAreaTop" r="textAreaRight" b="textAreaBottom"/>
                  <a:pathLst>
                    <a:path w="461" h="533">
                      <a:moveTo>
                        <a:pt x="461" y="112"/>
                      </a:moveTo>
                      <a:cubicBezTo>
                        <a:pt x="461" y="112"/>
                        <a:pt x="460" y="112"/>
                        <a:pt x="459" y="111"/>
                      </a:cubicBezTo>
                      <a:cubicBezTo>
                        <a:pt x="217" y="0"/>
                        <a:pt x="0" y="296"/>
                        <a:pt x="168" y="533"/>
                      </a:cubicBezTo>
                      <a:cubicBezTo>
                        <a:pt x="25" y="270"/>
                        <a:pt x="229" y="20"/>
                        <a:pt x="461" y="112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9"/>
                <p:cNvSpPr/>
                <p:nvPr/>
              </p:nvSpPr>
              <p:spPr>
                <a:xfrm>
                  <a:off x="4721760" y="3120480"/>
                  <a:ext cx="1279080" cy="2495520"/>
                </a:xfrm>
                <a:custGeom>
                  <a:avLst/>
                  <a:gdLst>
                    <a:gd name="textAreaLeft" fmla="*/ 0 w 1279080"/>
                    <a:gd name="textAreaRight" fmla="*/ 1279440 w 1279080"/>
                    <a:gd name="textAreaTop" fmla="*/ 0 h 2495520"/>
                    <a:gd name="textAreaBottom" fmla="*/ 2495880 h 2495520"/>
                  </a:gdLst>
                  <a:ahLst/>
                  <a:rect l="textAreaLeft" t="textAreaTop" r="textAreaRight" b="textAreaBottom"/>
                  <a:pathLst>
                    <a:path w="262" h="472">
                      <a:moveTo>
                        <a:pt x="0" y="0"/>
                      </a:moveTo>
                      <a:cubicBezTo>
                        <a:pt x="137" y="39"/>
                        <a:pt x="215" y="338"/>
                        <a:pt x="106" y="472"/>
                      </a:cubicBezTo>
                      <a:cubicBezTo>
                        <a:pt x="181" y="453"/>
                        <a:pt x="262" y="63"/>
                        <a:pt x="0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90"/>
                <p:cNvSpPr/>
                <p:nvPr/>
              </p:nvSpPr>
              <p:spPr>
                <a:xfrm>
                  <a:off x="4721760" y="2603520"/>
                  <a:ext cx="760320" cy="516600"/>
                </a:xfrm>
                <a:custGeom>
                  <a:avLst/>
                  <a:gdLst>
                    <a:gd name="textAreaLeft" fmla="*/ 0 w 760320"/>
                    <a:gd name="textAreaRight" fmla="*/ 760680 w 760320"/>
                    <a:gd name="textAreaTop" fmla="*/ 0 h 516600"/>
                    <a:gd name="textAreaBottom" fmla="*/ 516960 h 516600"/>
                  </a:gdLst>
                  <a:ahLst/>
                  <a:rect l="textAreaLeft" t="textAreaTop" r="textAreaRight" b="textAreaBottom"/>
                  <a:pathLst>
                    <a:path w="156" h="98">
                      <a:moveTo>
                        <a:pt x="0" y="98"/>
                      </a:moveTo>
                      <a:cubicBezTo>
                        <a:pt x="66" y="45"/>
                        <a:pt x="128" y="22"/>
                        <a:pt x="156" y="13"/>
                      </a:cubicBezTo>
                      <a:cubicBezTo>
                        <a:pt x="152" y="10"/>
                        <a:pt x="147" y="8"/>
                        <a:pt x="143" y="6"/>
                      </a:cubicBezTo>
                      <a:cubicBezTo>
                        <a:pt x="108" y="0"/>
                        <a:pt x="48" y="57"/>
                        <a:pt x="0" y="98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91"/>
                <p:cNvSpPr/>
                <p:nvPr/>
              </p:nvSpPr>
              <p:spPr>
                <a:xfrm>
                  <a:off x="4701240" y="2666160"/>
                  <a:ext cx="245880" cy="45396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50" h="86">
                      <a:moveTo>
                        <a:pt x="4" y="86"/>
                      </a:moveTo>
                      <a:cubicBezTo>
                        <a:pt x="12" y="66"/>
                        <a:pt x="22" y="18"/>
                        <a:pt x="50" y="0"/>
                      </a:cubicBezTo>
                      <a:cubicBezTo>
                        <a:pt x="24" y="3"/>
                        <a:pt x="0" y="49"/>
                        <a:pt x="4" y="86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92"/>
                <p:cNvSpPr/>
                <p:nvPr/>
              </p:nvSpPr>
              <p:spPr>
                <a:xfrm>
                  <a:off x="4165920" y="2735640"/>
                  <a:ext cx="555480" cy="384480"/>
                </a:xfrm>
                <a:custGeom>
                  <a:avLst/>
                  <a:gdLst>
                    <a:gd name="textAreaLeft" fmla="*/ 0 w 555480"/>
                    <a:gd name="textAreaRight" fmla="*/ 555840 w 55548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114" h="73">
                      <a:moveTo>
                        <a:pt x="114" y="73"/>
                      </a:moveTo>
                      <a:cubicBezTo>
                        <a:pt x="92" y="44"/>
                        <a:pt x="21" y="0"/>
                        <a:pt x="0" y="3"/>
                      </a:cubicBezTo>
                      <a:cubicBezTo>
                        <a:pt x="27" y="17"/>
                        <a:pt x="87" y="60"/>
                        <a:pt x="112" y="72"/>
                      </a:cubicBezTo>
                      <a:cubicBezTo>
                        <a:pt x="113" y="73"/>
                        <a:pt x="114" y="73"/>
                        <a:pt x="114" y="73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3"/>
                <p:cNvSpPr/>
                <p:nvPr/>
              </p:nvSpPr>
              <p:spPr>
                <a:xfrm>
                  <a:off x="2924280" y="3617280"/>
                  <a:ext cx="3989880" cy="2460240"/>
                </a:xfrm>
                <a:custGeom>
                  <a:avLst/>
                  <a:gdLst>
                    <a:gd name="textAreaLeft" fmla="*/ 0 w 3989880"/>
                    <a:gd name="textAreaRight" fmla="*/ 3990240 w 3989880"/>
                    <a:gd name="textAreaTop" fmla="*/ 0 h 2460240"/>
                    <a:gd name="textAreaBottom" fmla="*/ 2460600 h 2460240"/>
                  </a:gdLst>
                  <a:ahLst/>
                  <a:rect l="textAreaLeft" t="textAreaTop" r="textAreaRight" b="textAreaBottom"/>
                  <a:pathLst>
                    <a:path w="817" h="465">
                      <a:moveTo>
                        <a:pt x="502" y="345"/>
                      </a:moveTo>
                      <a:cubicBezTo>
                        <a:pt x="460" y="392"/>
                        <a:pt x="329" y="414"/>
                        <a:pt x="223" y="371"/>
                      </a:cubicBezTo>
                      <a:cubicBezTo>
                        <a:pt x="195" y="408"/>
                        <a:pt x="70" y="305"/>
                        <a:pt x="53" y="286"/>
                      </a:cubicBezTo>
                      <a:cubicBezTo>
                        <a:pt x="35" y="295"/>
                        <a:pt x="16" y="244"/>
                        <a:pt x="0" y="226"/>
                      </a:cubicBezTo>
                      <a:cubicBezTo>
                        <a:pt x="11" y="279"/>
                        <a:pt x="29" y="304"/>
                        <a:pt x="75" y="327"/>
                      </a:cubicBezTo>
                      <a:cubicBezTo>
                        <a:pt x="101" y="355"/>
                        <a:pt x="111" y="378"/>
                        <a:pt x="172" y="396"/>
                      </a:cubicBezTo>
                      <a:cubicBezTo>
                        <a:pt x="233" y="414"/>
                        <a:pt x="250" y="416"/>
                        <a:pt x="284" y="408"/>
                      </a:cubicBezTo>
                      <a:cubicBezTo>
                        <a:pt x="407" y="465"/>
                        <a:pt x="461" y="396"/>
                        <a:pt x="474" y="378"/>
                      </a:cubicBezTo>
                      <a:cubicBezTo>
                        <a:pt x="559" y="405"/>
                        <a:pt x="614" y="365"/>
                        <a:pt x="656" y="323"/>
                      </a:cubicBezTo>
                      <a:cubicBezTo>
                        <a:pt x="744" y="278"/>
                        <a:pt x="817" y="143"/>
                        <a:pt x="770" y="0"/>
                      </a:cubicBezTo>
                      <a:cubicBezTo>
                        <a:pt x="771" y="61"/>
                        <a:pt x="758" y="164"/>
                        <a:pt x="717" y="216"/>
                      </a:cubicBezTo>
                      <a:cubicBezTo>
                        <a:pt x="673" y="291"/>
                        <a:pt x="550" y="367"/>
                        <a:pt x="502" y="345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9360">
                  <a:solidFill>
                    <a:srgbClr val="d86e0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Freeform 94"/>
              <p:cNvSpPr/>
              <p:nvPr/>
            </p:nvSpPr>
            <p:spPr>
              <a:xfrm>
                <a:off x="4165920" y="2538720"/>
                <a:ext cx="780840" cy="581400"/>
              </a:xfrm>
              <a:custGeom>
                <a:avLst/>
                <a:gdLst>
                  <a:gd name="textAreaLeft" fmla="*/ 0 w 780840"/>
                  <a:gd name="textAreaRight" fmla="*/ 781200 w 78084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160" h="110">
                    <a:moveTo>
                      <a:pt x="114" y="110"/>
                    </a:moveTo>
                    <a:cubicBezTo>
                      <a:pt x="110" y="73"/>
                      <a:pt x="134" y="27"/>
                      <a:pt x="160" y="24"/>
                    </a:cubicBezTo>
                    <a:cubicBezTo>
                      <a:pt x="114" y="0"/>
                      <a:pt x="39" y="13"/>
                      <a:pt x="0" y="40"/>
                    </a:cubicBezTo>
                    <a:cubicBezTo>
                      <a:pt x="21" y="37"/>
                      <a:pt x="92" y="81"/>
                      <a:pt x="114" y="1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f36"/>
                  </a:gs>
                  <a:gs pos="100000">
                    <a:srgbClr val="ff8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95"/>
              <p:cNvSpPr/>
              <p:nvPr/>
            </p:nvSpPr>
            <p:spPr>
              <a:xfrm>
                <a:off x="4532040" y="2957400"/>
                <a:ext cx="384120" cy="2210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79" h="42">
                    <a:moveTo>
                      <a:pt x="10" y="40"/>
                    </a:moveTo>
                    <a:cubicBezTo>
                      <a:pt x="47" y="21"/>
                      <a:pt x="59" y="42"/>
                      <a:pt x="67" y="42"/>
                    </a:cubicBezTo>
                    <a:cubicBezTo>
                      <a:pt x="37" y="25"/>
                      <a:pt x="70" y="20"/>
                      <a:pt x="79" y="17"/>
                    </a:cubicBezTo>
                    <a:cubicBezTo>
                      <a:pt x="37" y="24"/>
                      <a:pt x="66" y="10"/>
                      <a:pt x="74" y="4"/>
                    </a:cubicBezTo>
                    <a:cubicBezTo>
                      <a:pt x="62" y="12"/>
                      <a:pt x="41" y="23"/>
                      <a:pt x="43" y="0"/>
                    </a:cubicBezTo>
                    <a:cubicBezTo>
                      <a:pt x="36" y="25"/>
                      <a:pt x="21" y="13"/>
                      <a:pt x="9" y="6"/>
                    </a:cubicBezTo>
                    <a:cubicBezTo>
                      <a:pt x="17" y="18"/>
                      <a:pt x="33" y="21"/>
                      <a:pt x="0" y="19"/>
                    </a:cubicBezTo>
                    <a:cubicBezTo>
                      <a:pt x="16" y="25"/>
                      <a:pt x="44" y="21"/>
                      <a:pt x="10" y="40"/>
                    </a:cubicBezTo>
                    <a:close/>
                  </a:path>
                </a:pathLst>
              </a:custGeom>
              <a:solidFill>
                <a:srgbClr val="0069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6"/>
              <p:cNvSpPr/>
              <p:nvPr/>
            </p:nvSpPr>
            <p:spPr>
              <a:xfrm>
                <a:off x="4195080" y="2328120"/>
                <a:ext cx="648720" cy="776880"/>
              </a:xfrm>
              <a:custGeom>
                <a:avLst/>
                <a:gdLst>
                  <a:gd name="textAreaLeft" fmla="*/ 0 w 648720"/>
                  <a:gd name="textAreaRight" fmla="*/ 649080 w 648720"/>
                  <a:gd name="textAreaTop" fmla="*/ 0 h 776880"/>
                  <a:gd name="textAreaBottom" fmla="*/ 777240 h 776880"/>
                </a:gdLst>
                <a:ahLst/>
                <a:rect l="textAreaLeft" t="textAreaTop" r="textAreaRight" b="textAreaBottom"/>
                <a:pathLst>
                  <a:path w="133" h="147">
                    <a:moveTo>
                      <a:pt x="133" y="0"/>
                    </a:moveTo>
                    <a:cubicBezTo>
                      <a:pt x="120" y="142"/>
                      <a:pt x="120" y="142"/>
                      <a:pt x="120" y="142"/>
                    </a:cubicBezTo>
                    <a:cubicBezTo>
                      <a:pt x="116" y="146"/>
                      <a:pt x="111" y="147"/>
                      <a:pt x="104" y="146"/>
                    </a:cubicBezTo>
                    <a:cubicBezTo>
                      <a:pt x="0" y="48"/>
                      <a:pt x="0" y="48"/>
                      <a:pt x="0" y="48"/>
                    </a:cubicBez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4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7"/>
              <p:cNvSpPr/>
              <p:nvPr/>
            </p:nvSpPr>
            <p:spPr>
              <a:xfrm>
                <a:off x="4174560" y="2274840"/>
                <a:ext cx="683640" cy="360360"/>
              </a:xfrm>
              <a:custGeom>
                <a:avLst/>
                <a:gdLst>
                  <a:gd name="textAreaLeft" fmla="*/ 0 w 683640"/>
                  <a:gd name="textAreaRight" fmla="*/ 684000 w 68364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40" h="68">
                    <a:moveTo>
                      <a:pt x="137" y="10"/>
                    </a:moveTo>
                    <a:cubicBezTo>
                      <a:pt x="140" y="21"/>
                      <a:pt x="114" y="40"/>
                      <a:pt x="77" y="53"/>
                    </a:cubicBezTo>
                    <a:cubicBezTo>
                      <a:pt x="41" y="66"/>
                      <a:pt x="8" y="68"/>
                      <a:pt x="4" y="58"/>
                    </a:cubicBezTo>
                    <a:cubicBezTo>
                      <a:pt x="0" y="47"/>
                      <a:pt x="27" y="28"/>
                      <a:pt x="63" y="15"/>
                    </a:cubicBezTo>
                    <a:cubicBezTo>
                      <a:pt x="100" y="2"/>
                      <a:pt x="133" y="0"/>
                      <a:pt x="137" y="10"/>
                    </a:cubicBezTo>
                    <a:close/>
                  </a:path>
                </a:pathLst>
              </a:custGeom>
              <a:solidFill>
                <a:srgbClr val="0069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98"/>
            <p:cNvGrpSpPr/>
            <p:nvPr/>
          </p:nvGrpSpPr>
          <p:grpSpPr>
            <a:xfrm>
              <a:off x="4484520" y="4116960"/>
              <a:ext cx="311400" cy="227880"/>
              <a:chOff x="4484520" y="4116960"/>
              <a:chExt cx="311400" cy="227880"/>
            </a:xfrm>
          </p:grpSpPr>
          <p:sp>
            <p:nvSpPr>
              <p:cNvPr id="176" name="Freeform 99"/>
              <p:cNvSpPr/>
              <p:nvPr/>
            </p:nvSpPr>
            <p:spPr>
              <a:xfrm>
                <a:off x="4484520" y="4116960"/>
                <a:ext cx="311400" cy="22788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51" h="102">
                    <a:moveTo>
                      <a:pt x="0" y="102"/>
                    </a:moveTo>
                    <a:lnTo>
                      <a:pt x="78" y="0"/>
                    </a:lnTo>
                    <a:lnTo>
                      <a:pt x="151" y="85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0"/>
              <p:cNvSpPr/>
              <p:nvPr/>
            </p:nvSpPr>
            <p:spPr>
              <a:xfrm>
                <a:off x="4494600" y="4128120"/>
                <a:ext cx="293400" cy="21672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142" h="97">
                    <a:moveTo>
                      <a:pt x="0" y="97"/>
                    </a:moveTo>
                    <a:lnTo>
                      <a:pt x="73" y="0"/>
                    </a:lnTo>
                    <a:lnTo>
                      <a:pt x="142" y="80"/>
                    </a:lnTo>
                    <a:lnTo>
                      <a:pt x="0" y="97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01"/>
            <p:cNvGrpSpPr/>
            <p:nvPr/>
          </p:nvGrpSpPr>
          <p:grpSpPr>
            <a:xfrm>
              <a:off x="3502440" y="4509000"/>
              <a:ext cx="2343240" cy="935280"/>
              <a:chOff x="3502440" y="4509000"/>
              <a:chExt cx="2343240" cy="935280"/>
            </a:xfrm>
          </p:grpSpPr>
          <p:sp>
            <p:nvSpPr>
              <p:cNvPr id="179" name="Freeform 102"/>
              <p:cNvSpPr/>
              <p:nvPr/>
            </p:nvSpPr>
            <p:spPr>
              <a:xfrm>
                <a:off x="3502440" y="4509000"/>
                <a:ext cx="2343240" cy="935280"/>
              </a:xfrm>
              <a:custGeom>
                <a:avLst/>
                <a:gdLst>
                  <a:gd name="textAreaLeft" fmla="*/ 0 w 2343240"/>
                  <a:gd name="textAreaRight" fmla="*/ 2343600 w 2343240"/>
                  <a:gd name="textAreaTop" fmla="*/ 0 h 935280"/>
                  <a:gd name="textAreaBottom" fmla="*/ 935640 h 935280"/>
                </a:gdLst>
                <a:ahLst/>
                <a:rect l="textAreaLeft" t="textAreaTop" r="textAreaRight" b="textAreaBottom"/>
                <a:pathLst>
                  <a:path w="480" h="177">
                    <a:moveTo>
                      <a:pt x="480" y="2"/>
                    </a:moveTo>
                    <a:cubicBezTo>
                      <a:pt x="409" y="33"/>
                      <a:pt x="321" y="29"/>
                      <a:pt x="227" y="28"/>
                    </a:cubicBezTo>
                    <a:cubicBezTo>
                      <a:pt x="197" y="28"/>
                      <a:pt x="170" y="30"/>
                      <a:pt x="144" y="31"/>
                    </a:cubicBezTo>
                    <a:cubicBezTo>
                      <a:pt x="144" y="62"/>
                      <a:pt x="144" y="62"/>
                      <a:pt x="144" y="62"/>
                    </a:cubicBezTo>
                    <a:cubicBezTo>
                      <a:pt x="93" y="62"/>
                      <a:pt x="93" y="62"/>
                      <a:pt x="93" y="62"/>
                    </a:cubicBezTo>
                    <a:cubicBezTo>
                      <a:pt x="93" y="32"/>
                      <a:pt x="93" y="32"/>
                      <a:pt x="93" y="32"/>
                    </a:cubicBezTo>
                    <a:cubicBezTo>
                      <a:pt x="61" y="30"/>
                      <a:pt x="31" y="17"/>
                      <a:pt x="0" y="0"/>
                    </a:cubicBezTo>
                    <a:cubicBezTo>
                      <a:pt x="36" y="109"/>
                      <a:pt x="195" y="177"/>
                      <a:pt x="332" y="129"/>
                    </a:cubicBezTo>
                    <a:cubicBezTo>
                      <a:pt x="326" y="87"/>
                      <a:pt x="326" y="87"/>
                      <a:pt x="326" y="87"/>
                    </a:cubicBezTo>
                    <a:cubicBezTo>
                      <a:pt x="377" y="79"/>
                      <a:pt x="377" y="79"/>
                      <a:pt x="377" y="79"/>
                    </a:cubicBezTo>
                    <a:cubicBezTo>
                      <a:pt x="381" y="107"/>
                      <a:pt x="381" y="107"/>
                      <a:pt x="381" y="107"/>
                    </a:cubicBezTo>
                    <a:cubicBezTo>
                      <a:pt x="419" y="84"/>
                      <a:pt x="453" y="46"/>
                      <a:pt x="480" y="2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3"/>
              <p:cNvSpPr/>
              <p:nvPr/>
            </p:nvSpPr>
            <p:spPr>
              <a:xfrm>
                <a:off x="3555720" y="4540320"/>
                <a:ext cx="2236320" cy="857160"/>
              </a:xfrm>
              <a:custGeom>
                <a:avLst/>
                <a:gdLst>
                  <a:gd name="textAreaLeft" fmla="*/ 0 w 2236320"/>
                  <a:gd name="textAreaRight" fmla="*/ 2236680 w 2236320"/>
                  <a:gd name="textAreaTop" fmla="*/ 0 h 857160"/>
                  <a:gd name="textAreaBottom" fmla="*/ 857520 h 857160"/>
                </a:gdLst>
                <a:ahLst/>
                <a:rect l="textAreaLeft" t="textAreaTop" r="textAreaRight" b="textAreaBottom"/>
                <a:pathLst>
                  <a:path w="458" h="162">
                    <a:moveTo>
                      <a:pt x="458" y="0"/>
                    </a:moveTo>
                    <a:cubicBezTo>
                      <a:pt x="390" y="30"/>
                      <a:pt x="306" y="20"/>
                      <a:pt x="216" y="19"/>
                    </a:cubicBezTo>
                    <a:cubicBezTo>
                      <a:pt x="188" y="19"/>
                      <a:pt x="162" y="21"/>
                      <a:pt x="137" y="22"/>
                    </a:cubicBezTo>
                    <a:cubicBezTo>
                      <a:pt x="137" y="52"/>
                      <a:pt x="137" y="52"/>
                      <a:pt x="137" y="52"/>
                    </a:cubicBezTo>
                    <a:cubicBezTo>
                      <a:pt x="88" y="52"/>
                      <a:pt x="88" y="52"/>
                      <a:pt x="88" y="52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58" y="21"/>
                      <a:pt x="30" y="16"/>
                      <a:pt x="0" y="0"/>
                    </a:cubicBezTo>
                    <a:cubicBezTo>
                      <a:pt x="34" y="103"/>
                      <a:pt x="186" y="162"/>
                      <a:pt x="317" y="116"/>
                    </a:cubicBezTo>
                    <a:cubicBezTo>
                      <a:pt x="311" y="75"/>
                      <a:pt x="311" y="75"/>
                      <a:pt x="311" y="75"/>
                    </a:cubicBezTo>
                    <a:cubicBezTo>
                      <a:pt x="359" y="68"/>
                      <a:pt x="359" y="68"/>
                      <a:pt x="359" y="68"/>
                    </a:cubicBezTo>
                    <a:cubicBezTo>
                      <a:pt x="363" y="94"/>
                      <a:pt x="363" y="94"/>
                      <a:pt x="363" y="94"/>
                    </a:cubicBezTo>
                    <a:cubicBezTo>
                      <a:pt x="399" y="73"/>
                      <a:pt x="432" y="42"/>
                      <a:pt x="45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1"/>
                  </a:gs>
                  <a:gs pos="100000">
                    <a:srgbClr val="ffff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04"/>
            <p:cNvGrpSpPr/>
            <p:nvPr/>
          </p:nvGrpSpPr>
          <p:grpSpPr>
            <a:xfrm>
              <a:off x="3306240" y="3335760"/>
              <a:ext cx="2694600" cy="792000"/>
              <a:chOff x="3306240" y="3335760"/>
              <a:chExt cx="2694600" cy="792000"/>
            </a:xfrm>
          </p:grpSpPr>
          <p:sp>
            <p:nvSpPr>
              <p:cNvPr id="182" name="Freeform 105"/>
              <p:cNvSpPr/>
              <p:nvPr/>
            </p:nvSpPr>
            <p:spPr>
              <a:xfrm>
                <a:off x="3306240" y="3335760"/>
                <a:ext cx="1225080" cy="787320"/>
              </a:xfrm>
              <a:custGeom>
                <a:avLst/>
                <a:gdLst>
                  <a:gd name="textAreaLeft" fmla="*/ 0 w 1225080"/>
                  <a:gd name="textAreaRight" fmla="*/ 1225440 w 122508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251" h="149">
                    <a:moveTo>
                      <a:pt x="65" y="133"/>
                    </a:moveTo>
                    <a:cubicBezTo>
                      <a:pt x="0" y="106"/>
                      <a:pt x="7" y="33"/>
                      <a:pt x="7" y="0"/>
                    </a:cubicBezTo>
                    <a:cubicBezTo>
                      <a:pt x="47" y="21"/>
                      <a:pt x="220" y="111"/>
                      <a:pt x="251" y="109"/>
                    </a:cubicBezTo>
                    <a:cubicBezTo>
                      <a:pt x="217" y="129"/>
                      <a:pt x="105" y="149"/>
                      <a:pt x="65" y="133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6"/>
              <p:cNvSpPr/>
              <p:nvPr/>
            </p:nvSpPr>
            <p:spPr>
              <a:xfrm>
                <a:off x="4761000" y="3335760"/>
                <a:ext cx="1239840" cy="78732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254" h="149">
                    <a:moveTo>
                      <a:pt x="189" y="133"/>
                    </a:moveTo>
                    <a:cubicBezTo>
                      <a:pt x="254" y="106"/>
                      <a:pt x="247" y="33"/>
                      <a:pt x="247" y="0"/>
                    </a:cubicBezTo>
                    <a:cubicBezTo>
                      <a:pt x="207" y="21"/>
                      <a:pt x="32" y="110"/>
                      <a:pt x="0" y="108"/>
                    </a:cubicBezTo>
                    <a:cubicBezTo>
                      <a:pt x="35" y="129"/>
                      <a:pt x="148" y="149"/>
                      <a:pt x="189" y="133"/>
                    </a:cubicBezTo>
                    <a:close/>
                  </a:path>
                </a:pathLst>
              </a:custGeom>
              <a:solidFill>
                <a:srgbClr val="d86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7"/>
              <p:cNvSpPr/>
              <p:nvPr/>
            </p:nvSpPr>
            <p:spPr>
              <a:xfrm>
                <a:off x="3378600" y="3382920"/>
                <a:ext cx="1146600" cy="744840"/>
              </a:xfrm>
              <a:custGeom>
                <a:avLst/>
                <a:gdLst>
                  <a:gd name="textAreaLeft" fmla="*/ 0 w 1146600"/>
                  <a:gd name="textAreaRight" fmla="*/ 1146960 w 1146600"/>
                  <a:gd name="textAreaTop" fmla="*/ 0 h 744840"/>
                  <a:gd name="textAreaBottom" fmla="*/ 745200 h 744840"/>
                </a:gdLst>
                <a:ahLst/>
                <a:rect l="textAreaLeft" t="textAreaTop" r="textAreaRight" b="textAreaBottom"/>
                <a:pathLst>
                  <a:path w="235" h="141">
                    <a:moveTo>
                      <a:pt x="62" y="126"/>
                    </a:moveTo>
                    <a:cubicBezTo>
                      <a:pt x="0" y="100"/>
                      <a:pt x="7" y="31"/>
                      <a:pt x="7" y="0"/>
                    </a:cubicBezTo>
                    <a:cubicBezTo>
                      <a:pt x="44" y="20"/>
                      <a:pt x="205" y="102"/>
                      <a:pt x="235" y="101"/>
                    </a:cubicBezTo>
                    <a:cubicBezTo>
                      <a:pt x="203" y="120"/>
                      <a:pt x="100" y="141"/>
                      <a:pt x="62" y="12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"/>
              <p:cNvSpPr/>
              <p:nvPr/>
            </p:nvSpPr>
            <p:spPr>
              <a:xfrm>
                <a:off x="4775400" y="3382920"/>
                <a:ext cx="1152720" cy="744840"/>
              </a:xfrm>
              <a:custGeom>
                <a:avLst/>
                <a:gdLst>
                  <a:gd name="textAreaLeft" fmla="*/ 0 w 1152720"/>
                  <a:gd name="textAreaRight" fmla="*/ 1153080 w 1152720"/>
                  <a:gd name="textAreaTop" fmla="*/ 0 h 744840"/>
                  <a:gd name="textAreaBottom" fmla="*/ 745200 h 744840"/>
                </a:gdLst>
                <a:ahLst/>
                <a:rect l="textAreaLeft" t="textAreaTop" r="textAreaRight" b="textAreaBottom"/>
                <a:pathLst>
                  <a:path w="236" h="141">
                    <a:moveTo>
                      <a:pt x="174" y="126"/>
                    </a:moveTo>
                    <a:cubicBezTo>
                      <a:pt x="236" y="100"/>
                      <a:pt x="229" y="31"/>
                      <a:pt x="229" y="0"/>
                    </a:cubicBezTo>
                    <a:cubicBezTo>
                      <a:pt x="192" y="20"/>
                      <a:pt x="30" y="102"/>
                      <a:pt x="0" y="101"/>
                    </a:cubicBezTo>
                    <a:cubicBezTo>
                      <a:pt x="33" y="120"/>
                      <a:pt x="136" y="141"/>
                      <a:pt x="174" y="12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3d"/>
                  </a:gs>
                  <a:gs pos="100000">
                    <a:srgbClr val="ffff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6" name="Picture 109" descr="Spinne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4989600" y="4005360"/>
            <a:ext cx="39243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56600" cy="687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2035080" y="5254560"/>
            <a:ext cx="7121520" cy="1674360"/>
            <a:chOff x="2035080" y="5254560"/>
            <a:chExt cx="7121520" cy="1674360"/>
          </a:xfrm>
        </p:grpSpPr>
        <p:sp>
          <p:nvSpPr>
            <p:cNvPr id="189" name="Freeform 4"/>
            <p:cNvSpPr/>
            <p:nvPr/>
          </p:nvSpPr>
          <p:spPr>
            <a:xfrm>
              <a:off x="2035080" y="5732640"/>
              <a:ext cx="7121520" cy="1139760"/>
            </a:xfrm>
            <a:custGeom>
              <a:avLst/>
              <a:gdLst/>
              <a:ahLst/>
              <a:rect l="l" t="t" r="r" b="b"/>
              <a:pathLst>
                <a:path w="4860" h="718">
                  <a:moveTo>
                    <a:pt x="0" y="717"/>
                  </a:moveTo>
                  <a:cubicBezTo>
                    <a:pt x="15" y="709"/>
                    <a:pt x="31" y="718"/>
                    <a:pt x="45" y="709"/>
                  </a:cubicBezTo>
                  <a:cubicBezTo>
                    <a:pt x="51" y="705"/>
                    <a:pt x="52" y="696"/>
                    <a:pt x="57" y="691"/>
                  </a:cubicBezTo>
                  <a:cubicBezTo>
                    <a:pt x="68" y="682"/>
                    <a:pt x="93" y="667"/>
                    <a:pt x="93" y="667"/>
                  </a:cubicBezTo>
                  <a:cubicBezTo>
                    <a:pt x="117" y="631"/>
                    <a:pt x="152" y="624"/>
                    <a:pt x="195" y="619"/>
                  </a:cubicBezTo>
                  <a:cubicBezTo>
                    <a:pt x="229" y="608"/>
                    <a:pt x="263" y="600"/>
                    <a:pt x="297" y="589"/>
                  </a:cubicBezTo>
                  <a:cubicBezTo>
                    <a:pt x="317" y="560"/>
                    <a:pt x="340" y="564"/>
                    <a:pt x="375" y="559"/>
                  </a:cubicBezTo>
                  <a:cubicBezTo>
                    <a:pt x="442" y="537"/>
                    <a:pt x="397" y="542"/>
                    <a:pt x="519" y="535"/>
                  </a:cubicBezTo>
                  <a:cubicBezTo>
                    <a:pt x="574" y="524"/>
                    <a:pt x="648" y="513"/>
                    <a:pt x="699" y="499"/>
                  </a:cubicBezTo>
                  <a:cubicBezTo>
                    <a:pt x="720" y="493"/>
                    <a:pt x="738" y="477"/>
                    <a:pt x="759" y="475"/>
                  </a:cubicBezTo>
                  <a:cubicBezTo>
                    <a:pt x="817" y="470"/>
                    <a:pt x="875" y="471"/>
                    <a:pt x="933" y="469"/>
                  </a:cubicBezTo>
                  <a:cubicBezTo>
                    <a:pt x="947" y="466"/>
                    <a:pt x="974" y="458"/>
                    <a:pt x="987" y="457"/>
                  </a:cubicBezTo>
                  <a:cubicBezTo>
                    <a:pt x="1033" y="452"/>
                    <a:pt x="1125" y="445"/>
                    <a:pt x="1125" y="445"/>
                  </a:cubicBezTo>
                  <a:cubicBezTo>
                    <a:pt x="1194" y="431"/>
                    <a:pt x="1226" y="431"/>
                    <a:pt x="1311" y="427"/>
                  </a:cubicBezTo>
                  <a:cubicBezTo>
                    <a:pt x="1413" y="431"/>
                    <a:pt x="1491" y="441"/>
                    <a:pt x="1587" y="451"/>
                  </a:cubicBezTo>
                  <a:cubicBezTo>
                    <a:pt x="1593" y="453"/>
                    <a:pt x="1599" y="456"/>
                    <a:pt x="1605" y="457"/>
                  </a:cubicBezTo>
                  <a:cubicBezTo>
                    <a:pt x="1623" y="460"/>
                    <a:pt x="1641" y="459"/>
                    <a:pt x="1659" y="463"/>
                  </a:cubicBezTo>
                  <a:cubicBezTo>
                    <a:pt x="1666" y="465"/>
                    <a:pt x="1671" y="472"/>
                    <a:pt x="1677" y="475"/>
                  </a:cubicBezTo>
                  <a:cubicBezTo>
                    <a:pt x="1714" y="493"/>
                    <a:pt x="1791" y="542"/>
                    <a:pt x="1827" y="547"/>
                  </a:cubicBezTo>
                  <a:cubicBezTo>
                    <a:pt x="1875" y="554"/>
                    <a:pt x="1910" y="557"/>
                    <a:pt x="1953" y="571"/>
                  </a:cubicBezTo>
                  <a:cubicBezTo>
                    <a:pt x="2162" y="519"/>
                    <a:pt x="2385" y="594"/>
                    <a:pt x="2595" y="541"/>
                  </a:cubicBezTo>
                  <a:cubicBezTo>
                    <a:pt x="2607" y="533"/>
                    <a:pt x="2613" y="519"/>
                    <a:pt x="2625" y="511"/>
                  </a:cubicBezTo>
                  <a:cubicBezTo>
                    <a:pt x="2645" y="498"/>
                    <a:pt x="2673" y="502"/>
                    <a:pt x="2697" y="499"/>
                  </a:cubicBezTo>
                  <a:cubicBezTo>
                    <a:pt x="2721" y="491"/>
                    <a:pt x="2745" y="487"/>
                    <a:pt x="2769" y="481"/>
                  </a:cubicBezTo>
                  <a:cubicBezTo>
                    <a:pt x="2938" y="312"/>
                    <a:pt x="3245" y="447"/>
                    <a:pt x="3483" y="445"/>
                  </a:cubicBezTo>
                  <a:cubicBezTo>
                    <a:pt x="3559" y="430"/>
                    <a:pt x="3474" y="453"/>
                    <a:pt x="3531" y="421"/>
                  </a:cubicBezTo>
                  <a:cubicBezTo>
                    <a:pt x="3556" y="407"/>
                    <a:pt x="3580" y="408"/>
                    <a:pt x="3603" y="391"/>
                  </a:cubicBezTo>
                  <a:cubicBezTo>
                    <a:pt x="3628" y="373"/>
                    <a:pt x="3652" y="347"/>
                    <a:pt x="3681" y="337"/>
                  </a:cubicBezTo>
                  <a:cubicBezTo>
                    <a:pt x="3736" y="282"/>
                    <a:pt x="3803" y="255"/>
                    <a:pt x="3879" y="247"/>
                  </a:cubicBezTo>
                  <a:cubicBezTo>
                    <a:pt x="3929" y="230"/>
                    <a:pt x="3978" y="216"/>
                    <a:pt x="4029" y="205"/>
                  </a:cubicBezTo>
                  <a:cubicBezTo>
                    <a:pt x="4060" y="198"/>
                    <a:pt x="4088" y="183"/>
                    <a:pt x="4119" y="175"/>
                  </a:cubicBezTo>
                  <a:cubicBezTo>
                    <a:pt x="4164" y="145"/>
                    <a:pt x="4212" y="132"/>
                    <a:pt x="4263" y="115"/>
                  </a:cubicBezTo>
                  <a:cubicBezTo>
                    <a:pt x="4293" y="105"/>
                    <a:pt x="4326" y="77"/>
                    <a:pt x="4359" y="73"/>
                  </a:cubicBezTo>
                  <a:cubicBezTo>
                    <a:pt x="4433" y="65"/>
                    <a:pt x="4583" y="63"/>
                    <a:pt x="4635" y="61"/>
                  </a:cubicBezTo>
                  <a:cubicBezTo>
                    <a:pt x="4671" y="54"/>
                    <a:pt x="4716" y="47"/>
                    <a:pt x="4749" y="31"/>
                  </a:cubicBezTo>
                  <a:cubicBezTo>
                    <a:pt x="4755" y="28"/>
                    <a:pt x="4760" y="21"/>
                    <a:pt x="4767" y="19"/>
                  </a:cubicBezTo>
                  <a:cubicBezTo>
                    <a:pt x="4787" y="14"/>
                    <a:pt x="4807" y="15"/>
                    <a:pt x="4827" y="13"/>
                  </a:cubicBezTo>
                  <a:lnTo>
                    <a:pt x="4860" y="0"/>
                  </a:lnTo>
                  <a:lnTo>
                    <a:pt x="4859" y="718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82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"/>
            <p:cNvGrpSpPr/>
            <p:nvPr/>
          </p:nvGrpSpPr>
          <p:grpSpPr>
            <a:xfrm>
              <a:off x="6150960" y="5513400"/>
              <a:ext cx="1450800" cy="1415520"/>
              <a:chOff x="6150960" y="5513400"/>
              <a:chExt cx="1450800" cy="1415520"/>
            </a:xfrm>
          </p:grpSpPr>
          <p:pic>
            <p:nvPicPr>
              <p:cNvPr id="191" name="Picture 6" descr="Unbenannt-1"/>
              <p:cNvPicPr/>
              <p:nvPr/>
            </p:nvPicPr>
            <p:blipFill>
              <a:blip r:embed="rId1"/>
              <a:stretch/>
            </p:blipFill>
            <p:spPr>
              <a:xfrm>
                <a:off x="6318000" y="5704200"/>
                <a:ext cx="1024920" cy="105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Group 7"/>
              <p:cNvGrpSpPr/>
              <p:nvPr/>
            </p:nvGrpSpPr>
            <p:grpSpPr>
              <a:xfrm>
                <a:off x="6150960" y="5513400"/>
                <a:ext cx="1450800" cy="1415520"/>
                <a:chOff x="6150960" y="5513400"/>
                <a:chExt cx="1450800" cy="1415520"/>
              </a:xfrm>
            </p:grpSpPr>
            <p:sp>
              <p:nvSpPr>
                <p:cNvPr id="193" name="Freeform 8"/>
                <p:cNvSpPr/>
                <p:nvPr/>
              </p:nvSpPr>
              <p:spPr>
                <a:xfrm>
                  <a:off x="6838920" y="5542920"/>
                  <a:ext cx="762840" cy="1105920"/>
                </a:xfrm>
                <a:custGeom>
                  <a:avLst/>
                  <a:gdLst>
                    <a:gd name="textAreaLeft" fmla="*/ 0 w 762840"/>
                    <a:gd name="textAreaRight" fmla="*/ 763200 w 762840"/>
                    <a:gd name="textAreaTop" fmla="*/ 0 h 1105920"/>
                    <a:gd name="textAreaBottom" fmla="*/ 1106280 h 1105920"/>
                  </a:gdLst>
                  <a:ahLst/>
                  <a:rect l="textAreaLeft" t="textAreaTop" r="textAreaRight" b="textAreaBottom"/>
                  <a:pathLst>
                    <a:path w="511" h="562">
                      <a:moveTo>
                        <a:pt x="402" y="239"/>
                      </a:moveTo>
                      <a:cubicBezTo>
                        <a:pt x="355" y="96"/>
                        <a:pt x="246" y="54"/>
                        <a:pt x="156" y="60"/>
                      </a:cubicBezTo>
                      <a:cubicBezTo>
                        <a:pt x="128" y="69"/>
                        <a:pt x="66" y="92"/>
                        <a:pt x="0" y="145"/>
                      </a:cubicBezTo>
                      <a:cubicBezTo>
                        <a:pt x="290" y="0"/>
                        <a:pt x="511" y="312"/>
                        <a:pt x="288" y="562"/>
                      </a:cubicBezTo>
                      <a:cubicBezTo>
                        <a:pt x="376" y="517"/>
                        <a:pt x="449" y="382"/>
                        <a:pt x="402" y="23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9"/>
                <p:cNvSpPr/>
                <p:nvPr/>
              </p:nvSpPr>
              <p:spPr>
                <a:xfrm>
                  <a:off x="6188040" y="5647320"/>
                  <a:ext cx="650880" cy="1184760"/>
                </a:xfrm>
                <a:custGeom>
                  <a:avLst/>
                  <a:gdLst>
                    <a:gd name="textAreaLeft" fmla="*/ 0 w 650880"/>
                    <a:gd name="textAreaRight" fmla="*/ 651240 w 650880"/>
                    <a:gd name="textAreaTop" fmla="*/ 0 h 1184760"/>
                    <a:gd name="textAreaBottom" fmla="*/ 1185120 h 1184760"/>
                  </a:gdLst>
                  <a:ahLst/>
                  <a:rect l="textAreaLeft" t="textAreaTop" r="textAreaRight" b="textAreaBottom"/>
                  <a:pathLst>
                    <a:path w="436" h="602">
                      <a:moveTo>
                        <a:pt x="436" y="92"/>
                      </a:moveTo>
                      <a:cubicBezTo>
                        <a:pt x="204" y="0"/>
                        <a:pt x="0" y="250"/>
                        <a:pt x="143" y="513"/>
                      </a:cubicBezTo>
                      <a:cubicBezTo>
                        <a:pt x="169" y="541"/>
                        <a:pt x="179" y="564"/>
                        <a:pt x="240" y="582"/>
                      </a:cubicBezTo>
                      <a:cubicBezTo>
                        <a:pt x="301" y="600"/>
                        <a:pt x="318" y="602"/>
                        <a:pt x="352" y="594"/>
                      </a:cubicBezTo>
                      <a:cubicBezTo>
                        <a:pt x="175" y="572"/>
                        <a:pt x="107" y="167"/>
                        <a:pt x="436" y="9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0"/>
                <p:cNvSpPr/>
                <p:nvPr/>
              </p:nvSpPr>
              <p:spPr>
                <a:xfrm>
                  <a:off x="6416280" y="5828040"/>
                  <a:ext cx="743760" cy="1100880"/>
                </a:xfrm>
                <a:custGeom>
                  <a:avLst/>
                  <a:gdLst>
                    <a:gd name="textAreaLeft" fmla="*/ 0 w 743760"/>
                    <a:gd name="textAreaRight" fmla="*/ 744120 w 743760"/>
                    <a:gd name="textAreaTop" fmla="*/ 0 h 1100880"/>
                    <a:gd name="textAreaBottom" fmla="*/ 1101240 h 1100880"/>
                  </a:gdLst>
                  <a:ahLst/>
                  <a:rect l="textAreaLeft" t="textAreaTop" r="textAreaRight" b="textAreaBottom"/>
                  <a:pathLst>
                    <a:path w="498" h="559">
                      <a:moveTo>
                        <a:pt x="283" y="0"/>
                      </a:moveTo>
                      <a:cubicBezTo>
                        <a:pt x="38" y="75"/>
                        <a:pt x="0" y="367"/>
                        <a:pt x="199" y="502"/>
                      </a:cubicBezTo>
                      <a:cubicBezTo>
                        <a:pt x="322" y="559"/>
                        <a:pt x="376" y="490"/>
                        <a:pt x="389" y="472"/>
                      </a:cubicBezTo>
                      <a:cubicBezTo>
                        <a:pt x="498" y="338"/>
                        <a:pt x="420" y="39"/>
                        <a:pt x="28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11"/>
                <p:cNvSpPr/>
                <p:nvPr/>
              </p:nvSpPr>
              <p:spPr>
                <a:xfrm>
                  <a:off x="6838920" y="5611680"/>
                  <a:ext cx="213480" cy="216360"/>
                </a:xfrm>
                <a:custGeom>
                  <a:avLst/>
                  <a:gdLst>
                    <a:gd name="textAreaLeft" fmla="*/ 0 w 213480"/>
                    <a:gd name="textAreaRight" fmla="*/ 213840 w 21348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143" h="110">
                      <a:moveTo>
                        <a:pt x="0" y="110"/>
                      </a:moveTo>
                      <a:cubicBezTo>
                        <a:pt x="48" y="69"/>
                        <a:pt x="108" y="12"/>
                        <a:pt x="143" y="18"/>
                      </a:cubicBezTo>
                      <a:cubicBezTo>
                        <a:pt x="110" y="3"/>
                        <a:pt x="96" y="0"/>
                        <a:pt x="46" y="24"/>
                      </a:cubicBezTo>
                      <a:cubicBezTo>
                        <a:pt x="18" y="42"/>
                        <a:pt x="8" y="90"/>
                        <a:pt x="0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12"/>
                <p:cNvSpPr/>
                <p:nvPr/>
              </p:nvSpPr>
              <p:spPr>
                <a:xfrm>
                  <a:off x="6150960" y="5608080"/>
                  <a:ext cx="684720" cy="1049040"/>
                </a:xfrm>
                <a:custGeom>
                  <a:avLst/>
                  <a:gdLst>
                    <a:gd name="textAreaLeft" fmla="*/ 0 w 684720"/>
                    <a:gd name="textAreaRight" fmla="*/ 685080 w 684720"/>
                    <a:gd name="textAreaTop" fmla="*/ 0 h 1049040"/>
                    <a:gd name="textAreaBottom" fmla="*/ 1049400 h 1049040"/>
                  </a:gdLst>
                  <a:ahLst/>
                  <a:rect l="textAreaLeft" t="textAreaTop" r="textAreaRight" b="textAreaBottom"/>
                  <a:pathLst>
                    <a:path w="459" h="533">
                      <a:moveTo>
                        <a:pt x="459" y="111"/>
                      </a:moveTo>
                      <a:cubicBezTo>
                        <a:pt x="434" y="99"/>
                        <a:pt x="374" y="56"/>
                        <a:pt x="347" y="42"/>
                      </a:cubicBezTo>
                      <a:cubicBezTo>
                        <a:pt x="321" y="38"/>
                        <a:pt x="308" y="29"/>
                        <a:pt x="244" y="51"/>
                      </a:cubicBezTo>
                      <a:cubicBezTo>
                        <a:pt x="183" y="72"/>
                        <a:pt x="57" y="190"/>
                        <a:pt x="76" y="324"/>
                      </a:cubicBezTo>
                      <a:cubicBezTo>
                        <a:pt x="94" y="458"/>
                        <a:pt x="98" y="498"/>
                        <a:pt x="168" y="533"/>
                      </a:cubicBezTo>
                      <a:cubicBezTo>
                        <a:pt x="0" y="296"/>
                        <a:pt x="217" y="0"/>
                        <a:pt x="459" y="1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13"/>
                <p:cNvSpPr/>
                <p:nvPr/>
              </p:nvSpPr>
              <p:spPr>
                <a:xfrm>
                  <a:off x="6838920" y="5524920"/>
                  <a:ext cx="582120" cy="1285920"/>
                </a:xfrm>
                <a:custGeom>
                  <a:avLst/>
                  <a:gdLst>
                    <a:gd name="textAreaLeft" fmla="*/ 0 w 582120"/>
                    <a:gd name="textAreaRight" fmla="*/ 582480 w 58212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390" h="653">
                      <a:moveTo>
                        <a:pt x="0" y="154"/>
                      </a:moveTo>
                      <a:cubicBezTo>
                        <a:pt x="262" y="217"/>
                        <a:pt x="181" y="607"/>
                        <a:pt x="106" y="626"/>
                      </a:cubicBezTo>
                      <a:cubicBezTo>
                        <a:pt x="191" y="653"/>
                        <a:pt x="246" y="613"/>
                        <a:pt x="288" y="571"/>
                      </a:cubicBezTo>
                      <a:cubicBezTo>
                        <a:pt x="390" y="458"/>
                        <a:pt x="379" y="0"/>
                        <a:pt x="0" y="15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4"/>
                <p:cNvSpPr/>
                <p:nvPr/>
              </p:nvSpPr>
              <p:spPr>
                <a:xfrm>
                  <a:off x="6571800" y="5745600"/>
                  <a:ext cx="937800" cy="1183320"/>
                </a:xfrm>
                <a:custGeom>
                  <a:avLst/>
                  <a:gdLst>
                    <a:gd name="textAreaLeft" fmla="*/ 0 w 937800"/>
                    <a:gd name="textAreaRight" fmla="*/ 938160 w 937800"/>
                    <a:gd name="textAreaTop" fmla="*/ 0 h 1183320"/>
                    <a:gd name="textAreaBottom" fmla="*/ 1183320 h 1183320"/>
                  </a:gdLst>
                  <a:ahLst/>
                  <a:rect l="textAreaLeft" t="textAreaTop" r="textAreaRight" b="textAreaBottom"/>
                  <a:pathLst>
                    <a:path w="628" h="601">
                      <a:moveTo>
                        <a:pt x="581" y="136"/>
                      </a:moveTo>
                      <a:cubicBezTo>
                        <a:pt x="560" y="72"/>
                        <a:pt x="526" y="28"/>
                        <a:pt x="487" y="0"/>
                      </a:cubicBezTo>
                      <a:cubicBezTo>
                        <a:pt x="511" y="24"/>
                        <a:pt x="461" y="31"/>
                        <a:pt x="389" y="17"/>
                      </a:cubicBezTo>
                      <a:cubicBezTo>
                        <a:pt x="590" y="169"/>
                        <a:pt x="436" y="293"/>
                        <a:pt x="316" y="168"/>
                      </a:cubicBezTo>
                      <a:cubicBezTo>
                        <a:pt x="409" y="523"/>
                        <a:pt x="162" y="530"/>
                        <a:pt x="34" y="507"/>
                      </a:cubicBezTo>
                      <a:cubicBezTo>
                        <a:pt x="29" y="518"/>
                        <a:pt x="18" y="530"/>
                        <a:pt x="0" y="537"/>
                      </a:cubicBezTo>
                      <a:cubicBezTo>
                        <a:pt x="48" y="551"/>
                        <a:pt x="65" y="551"/>
                        <a:pt x="95" y="544"/>
                      </a:cubicBezTo>
                      <a:cubicBezTo>
                        <a:pt x="218" y="601"/>
                        <a:pt x="272" y="532"/>
                        <a:pt x="285" y="514"/>
                      </a:cubicBezTo>
                      <a:cubicBezTo>
                        <a:pt x="370" y="541"/>
                        <a:pt x="425" y="501"/>
                        <a:pt x="467" y="459"/>
                      </a:cubicBezTo>
                      <a:cubicBezTo>
                        <a:pt x="555" y="414"/>
                        <a:pt x="628" y="279"/>
                        <a:pt x="581" y="136"/>
                      </a:cubicBezTo>
                      <a:close/>
                    </a:path>
                  </a:pathLst>
                </a:custGeom>
                <a:solidFill>
                  <a:srgbClr val="f27b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5"/>
                <p:cNvGrpSpPr/>
                <p:nvPr/>
              </p:nvGrpSpPr>
              <p:grpSpPr>
                <a:xfrm>
                  <a:off x="6150960" y="5524920"/>
                  <a:ext cx="1450800" cy="1404000"/>
                  <a:chOff x="6150960" y="5524920"/>
                  <a:chExt cx="1450800" cy="1404000"/>
                </a:xfrm>
              </p:grpSpPr>
              <p:sp>
                <p:nvSpPr>
                  <p:cNvPr id="201" name="Freeform 16"/>
                  <p:cNvSpPr/>
                  <p:nvPr/>
                </p:nvSpPr>
                <p:spPr>
                  <a:xfrm>
                    <a:off x="6838920" y="5524920"/>
                    <a:ext cx="762840" cy="1124280"/>
                  </a:xfrm>
                  <a:custGeom>
                    <a:avLst/>
                    <a:gdLst>
                      <a:gd name="textAreaLeft" fmla="*/ 0 w 762840"/>
                      <a:gd name="textAreaRight" fmla="*/ 763200 w 762840"/>
                      <a:gd name="textAreaTop" fmla="*/ 0 h 1124280"/>
                      <a:gd name="textAreaBottom" fmla="*/ 1124640 h 1124280"/>
                    </a:gdLst>
                    <a:ahLst/>
                    <a:rect l="textAreaLeft" t="textAreaTop" r="textAreaRight" b="textAreaBottom"/>
                    <a:pathLst>
                      <a:path w="511" h="571">
                        <a:moveTo>
                          <a:pt x="0" y="154"/>
                        </a:moveTo>
                        <a:cubicBezTo>
                          <a:pt x="379" y="0"/>
                          <a:pt x="390" y="458"/>
                          <a:pt x="288" y="571"/>
                        </a:cubicBezTo>
                        <a:cubicBezTo>
                          <a:pt x="511" y="321"/>
                          <a:pt x="290" y="9"/>
                          <a:pt x="0" y="154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7"/>
                  <p:cNvSpPr/>
                  <p:nvPr/>
                </p:nvSpPr>
                <p:spPr>
                  <a:xfrm>
                    <a:off x="6347880" y="5828040"/>
                    <a:ext cx="490680" cy="988200"/>
                  </a:xfrm>
                  <a:custGeom>
                    <a:avLst/>
                    <a:gdLst>
                      <a:gd name="textAreaLeft" fmla="*/ 0 w 490680"/>
                      <a:gd name="textAreaRight" fmla="*/ 490680 w 490680"/>
                      <a:gd name="textAreaTop" fmla="*/ 0 h 988200"/>
                      <a:gd name="textAreaBottom" fmla="*/ 988560 h 988200"/>
                    </a:gdLst>
                    <a:ahLst/>
                    <a:rect l="textAreaLeft" t="textAreaTop" r="textAreaRight" b="textAreaBottom"/>
                    <a:pathLst>
                      <a:path w="329" h="502">
                        <a:moveTo>
                          <a:pt x="329" y="0"/>
                        </a:moveTo>
                        <a:cubicBezTo>
                          <a:pt x="0" y="75"/>
                          <a:pt x="68" y="480"/>
                          <a:pt x="245" y="502"/>
                        </a:cubicBezTo>
                        <a:cubicBezTo>
                          <a:pt x="46" y="367"/>
                          <a:pt x="84" y="75"/>
                          <a:pt x="329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8"/>
                  <p:cNvSpPr/>
                  <p:nvPr/>
                </p:nvSpPr>
                <p:spPr>
                  <a:xfrm>
                    <a:off x="6150960" y="5608080"/>
                    <a:ext cx="687960" cy="1049040"/>
                  </a:xfrm>
                  <a:custGeom>
                    <a:avLst/>
                    <a:gdLst>
                      <a:gd name="textAreaLeft" fmla="*/ 0 w 687960"/>
                      <a:gd name="textAreaRight" fmla="*/ 688320 w 687960"/>
                      <a:gd name="textAreaTop" fmla="*/ 0 h 1049040"/>
                      <a:gd name="textAreaBottom" fmla="*/ 1049400 h 1049040"/>
                    </a:gdLst>
                    <a:ahLst/>
                    <a:rect l="textAreaLeft" t="textAreaTop" r="textAreaRight" b="textAreaBottom"/>
                    <a:pathLst>
                      <a:path w="461" h="533">
                        <a:moveTo>
                          <a:pt x="461" y="112"/>
                        </a:moveTo>
                        <a:cubicBezTo>
                          <a:pt x="461" y="112"/>
                          <a:pt x="460" y="112"/>
                          <a:pt x="459" y="111"/>
                        </a:cubicBezTo>
                        <a:cubicBezTo>
                          <a:pt x="217" y="0"/>
                          <a:pt x="0" y="296"/>
                          <a:pt x="168" y="533"/>
                        </a:cubicBezTo>
                        <a:cubicBezTo>
                          <a:pt x="25" y="270"/>
                          <a:pt x="229" y="20"/>
                          <a:pt x="461" y="112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9"/>
                  <p:cNvSpPr/>
                  <p:nvPr/>
                </p:nvSpPr>
                <p:spPr>
                  <a:xfrm>
                    <a:off x="6838920" y="5828040"/>
                    <a:ext cx="390960" cy="929160"/>
                  </a:xfrm>
                  <a:custGeom>
                    <a:avLst/>
                    <a:gdLst>
                      <a:gd name="textAreaLeft" fmla="*/ 0 w 390960"/>
                      <a:gd name="textAreaRight" fmla="*/ 391320 w 390960"/>
                      <a:gd name="textAreaTop" fmla="*/ 0 h 929160"/>
                      <a:gd name="textAreaBottom" fmla="*/ 929520 h 929160"/>
                    </a:gdLst>
                    <a:ahLst/>
                    <a:rect l="textAreaLeft" t="textAreaTop" r="textAreaRight" b="textAreaBottom"/>
                    <a:pathLst>
                      <a:path w="262" h="472">
                        <a:moveTo>
                          <a:pt x="0" y="0"/>
                        </a:moveTo>
                        <a:cubicBezTo>
                          <a:pt x="137" y="39"/>
                          <a:pt x="215" y="338"/>
                          <a:pt x="106" y="472"/>
                        </a:cubicBezTo>
                        <a:cubicBezTo>
                          <a:pt x="181" y="453"/>
                          <a:pt x="262" y="6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20"/>
                  <p:cNvSpPr/>
                  <p:nvPr/>
                </p:nvSpPr>
                <p:spPr>
                  <a:xfrm>
                    <a:off x="6838920" y="5635800"/>
                    <a:ext cx="232560" cy="192240"/>
                  </a:xfrm>
                  <a:custGeom>
                    <a:avLst/>
                    <a:gdLst>
                      <a:gd name="textAreaLeft" fmla="*/ 0 w 232560"/>
                      <a:gd name="textAreaRight" fmla="*/ 232920 w 23256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156" h="98">
                        <a:moveTo>
                          <a:pt x="0" y="98"/>
                        </a:moveTo>
                        <a:cubicBezTo>
                          <a:pt x="66" y="45"/>
                          <a:pt x="128" y="22"/>
                          <a:pt x="156" y="13"/>
                        </a:cubicBezTo>
                        <a:cubicBezTo>
                          <a:pt x="152" y="10"/>
                          <a:pt x="147" y="8"/>
                          <a:pt x="143" y="6"/>
                        </a:cubicBezTo>
                        <a:cubicBezTo>
                          <a:pt x="108" y="0"/>
                          <a:pt x="48" y="57"/>
                          <a:pt x="0" y="98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1"/>
                  <p:cNvSpPr/>
                  <p:nvPr/>
                </p:nvSpPr>
                <p:spPr>
                  <a:xfrm>
                    <a:off x="6832800" y="5658840"/>
                    <a:ext cx="74880" cy="168840"/>
                  </a:xfrm>
                  <a:custGeom>
                    <a:avLst/>
                    <a:gdLst>
                      <a:gd name="textAreaLeft" fmla="*/ 0 w 74880"/>
                      <a:gd name="textAreaRight" fmla="*/ 75240 w 7488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50" h="86">
                        <a:moveTo>
                          <a:pt x="4" y="86"/>
                        </a:moveTo>
                        <a:cubicBezTo>
                          <a:pt x="12" y="66"/>
                          <a:pt x="22" y="18"/>
                          <a:pt x="50" y="0"/>
                        </a:cubicBezTo>
                        <a:cubicBezTo>
                          <a:pt x="24" y="3"/>
                          <a:pt x="0" y="49"/>
                          <a:pt x="4" y="86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2"/>
                  <p:cNvSpPr/>
                  <p:nvPr/>
                </p:nvSpPr>
                <p:spPr>
                  <a:xfrm>
                    <a:off x="6669000" y="5684760"/>
                    <a:ext cx="169920" cy="1429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142920"/>
                      <a:gd name="textAreaBottom" fmla="*/ 142920 h 142920"/>
                    </a:gdLst>
                    <a:ahLst/>
                    <a:rect l="textAreaLeft" t="textAreaTop" r="textAreaRight" b="textAreaBottom"/>
                    <a:pathLst>
                      <a:path w="114" h="73">
                        <a:moveTo>
                          <a:pt x="114" y="73"/>
                        </a:moveTo>
                        <a:cubicBezTo>
                          <a:pt x="92" y="44"/>
                          <a:pt x="21" y="0"/>
                          <a:pt x="0" y="3"/>
                        </a:cubicBezTo>
                        <a:cubicBezTo>
                          <a:pt x="27" y="17"/>
                          <a:pt x="87" y="60"/>
                          <a:pt x="112" y="72"/>
                        </a:cubicBezTo>
                        <a:cubicBezTo>
                          <a:pt x="113" y="73"/>
                          <a:pt x="114" y="73"/>
                          <a:pt x="114" y="73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3"/>
                  <p:cNvSpPr/>
                  <p:nvPr/>
                </p:nvSpPr>
                <p:spPr>
                  <a:xfrm>
                    <a:off x="6289200" y="6013080"/>
                    <a:ext cx="1220040" cy="915840"/>
                  </a:xfrm>
                  <a:custGeom>
                    <a:avLst/>
                    <a:gdLst>
                      <a:gd name="textAreaLeft" fmla="*/ 0 w 1220040"/>
                      <a:gd name="textAreaRight" fmla="*/ 1220400 w 1220040"/>
                      <a:gd name="textAreaTop" fmla="*/ 0 h 915840"/>
                      <a:gd name="textAreaBottom" fmla="*/ 916200 h 915840"/>
                    </a:gdLst>
                    <a:ahLst/>
                    <a:rect l="textAreaLeft" t="textAreaTop" r="textAreaRight" b="textAreaBottom"/>
                    <a:pathLst>
                      <a:path w="817" h="465">
                        <a:moveTo>
                          <a:pt x="502" y="345"/>
                        </a:moveTo>
                        <a:cubicBezTo>
                          <a:pt x="460" y="392"/>
                          <a:pt x="329" y="414"/>
                          <a:pt x="223" y="371"/>
                        </a:cubicBezTo>
                        <a:cubicBezTo>
                          <a:pt x="195" y="408"/>
                          <a:pt x="70" y="305"/>
                          <a:pt x="53" y="286"/>
                        </a:cubicBezTo>
                        <a:cubicBezTo>
                          <a:pt x="35" y="295"/>
                          <a:pt x="16" y="244"/>
                          <a:pt x="0" y="226"/>
                        </a:cubicBezTo>
                        <a:cubicBezTo>
                          <a:pt x="11" y="279"/>
                          <a:pt x="29" y="304"/>
                          <a:pt x="75" y="327"/>
                        </a:cubicBezTo>
                        <a:cubicBezTo>
                          <a:pt x="101" y="355"/>
                          <a:pt x="111" y="378"/>
                          <a:pt x="172" y="396"/>
                        </a:cubicBezTo>
                        <a:cubicBezTo>
                          <a:pt x="233" y="414"/>
                          <a:pt x="250" y="416"/>
                          <a:pt x="284" y="408"/>
                        </a:cubicBezTo>
                        <a:cubicBezTo>
                          <a:pt x="407" y="465"/>
                          <a:pt x="461" y="396"/>
                          <a:pt x="474" y="378"/>
                        </a:cubicBezTo>
                        <a:cubicBezTo>
                          <a:pt x="559" y="405"/>
                          <a:pt x="614" y="365"/>
                          <a:pt x="656" y="323"/>
                        </a:cubicBezTo>
                        <a:cubicBezTo>
                          <a:pt x="744" y="278"/>
                          <a:pt x="817" y="143"/>
                          <a:pt x="770" y="0"/>
                        </a:cubicBezTo>
                        <a:cubicBezTo>
                          <a:pt x="771" y="61"/>
                          <a:pt x="758" y="164"/>
                          <a:pt x="717" y="216"/>
                        </a:cubicBezTo>
                        <a:cubicBezTo>
                          <a:pt x="673" y="291"/>
                          <a:pt x="550" y="367"/>
                          <a:pt x="502" y="345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Freeform 24"/>
                <p:cNvSpPr/>
                <p:nvPr/>
              </p:nvSpPr>
              <p:spPr>
                <a:xfrm>
                  <a:off x="6669000" y="5611680"/>
                  <a:ext cx="238680" cy="216360"/>
                </a:xfrm>
                <a:custGeom>
                  <a:avLst/>
                  <a:gdLst>
                    <a:gd name="textAreaLeft" fmla="*/ 0 w 238680"/>
                    <a:gd name="textAreaRight" fmla="*/ 239040 w 23868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160" h="110">
                      <a:moveTo>
                        <a:pt x="114" y="110"/>
                      </a:moveTo>
                      <a:cubicBezTo>
                        <a:pt x="110" y="73"/>
                        <a:pt x="134" y="27"/>
                        <a:pt x="160" y="24"/>
                      </a:cubicBezTo>
                      <a:cubicBezTo>
                        <a:pt x="114" y="0"/>
                        <a:pt x="39" y="13"/>
                        <a:pt x="0" y="40"/>
                      </a:cubicBezTo>
                      <a:cubicBezTo>
                        <a:pt x="21" y="37"/>
                        <a:pt x="92" y="81"/>
                        <a:pt x="114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5"/>
                <p:cNvSpPr/>
                <p:nvPr/>
              </p:nvSpPr>
              <p:spPr>
                <a:xfrm>
                  <a:off x="6780960" y="5767560"/>
                  <a:ext cx="117360" cy="8208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79" h="42">
                      <a:moveTo>
                        <a:pt x="10" y="40"/>
                      </a:moveTo>
                      <a:cubicBezTo>
                        <a:pt x="47" y="21"/>
                        <a:pt x="59" y="42"/>
                        <a:pt x="67" y="42"/>
                      </a:cubicBezTo>
                      <a:cubicBezTo>
                        <a:pt x="37" y="25"/>
                        <a:pt x="70" y="20"/>
                        <a:pt x="79" y="17"/>
                      </a:cubicBezTo>
                      <a:cubicBezTo>
                        <a:pt x="37" y="24"/>
                        <a:pt x="66" y="10"/>
                        <a:pt x="74" y="4"/>
                      </a:cubicBezTo>
                      <a:cubicBezTo>
                        <a:pt x="62" y="12"/>
                        <a:pt x="41" y="23"/>
                        <a:pt x="43" y="0"/>
                      </a:cubicBezTo>
                      <a:cubicBezTo>
                        <a:pt x="36" y="25"/>
                        <a:pt x="21" y="13"/>
                        <a:pt x="9" y="6"/>
                      </a:cubicBezTo>
                      <a:cubicBezTo>
                        <a:pt x="17" y="18"/>
                        <a:pt x="33" y="21"/>
                        <a:pt x="0" y="19"/>
                      </a:cubicBezTo>
                      <a:cubicBezTo>
                        <a:pt x="16" y="25"/>
                        <a:pt x="44" y="21"/>
                        <a:pt x="10" y="4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26"/>
                <p:cNvSpPr/>
                <p:nvPr/>
              </p:nvSpPr>
              <p:spPr>
                <a:xfrm>
                  <a:off x="6678000" y="5533200"/>
                  <a:ext cx="198360" cy="28908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133" h="147">
                      <a:moveTo>
                        <a:pt x="133" y="0"/>
                      </a:moveTo>
                      <a:cubicBezTo>
                        <a:pt x="120" y="142"/>
                        <a:pt x="120" y="142"/>
                        <a:pt x="120" y="142"/>
                      </a:cubicBezTo>
                      <a:cubicBezTo>
                        <a:pt x="116" y="146"/>
                        <a:pt x="111" y="147"/>
                        <a:pt x="104" y="146"/>
                      </a:cubicBezTo>
                      <a:cubicBezTo>
                        <a:pt x="0" y="48"/>
                        <a:pt x="0" y="48"/>
                        <a:pt x="0" y="48"/>
                      </a:cubicBez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4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7"/>
                <p:cNvSpPr/>
                <p:nvPr/>
              </p:nvSpPr>
              <p:spPr>
                <a:xfrm>
                  <a:off x="6671520" y="5513400"/>
                  <a:ext cx="208800" cy="133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40" h="68">
                      <a:moveTo>
                        <a:pt x="137" y="10"/>
                      </a:moveTo>
                      <a:cubicBezTo>
                        <a:pt x="140" y="21"/>
                        <a:pt x="114" y="40"/>
                        <a:pt x="77" y="53"/>
                      </a:cubicBezTo>
                      <a:cubicBezTo>
                        <a:pt x="41" y="66"/>
                        <a:pt x="8" y="68"/>
                        <a:pt x="4" y="58"/>
                      </a:cubicBezTo>
                      <a:cubicBezTo>
                        <a:pt x="0" y="47"/>
                        <a:pt x="27" y="28"/>
                        <a:pt x="63" y="15"/>
                      </a:cubicBezTo>
                      <a:cubicBezTo>
                        <a:pt x="100" y="2"/>
                        <a:pt x="133" y="0"/>
                        <a:pt x="137" y="1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8"/>
              <p:cNvGrpSpPr/>
              <p:nvPr/>
            </p:nvGrpSpPr>
            <p:grpSpPr>
              <a:xfrm>
                <a:off x="6804000" y="6228360"/>
                <a:ext cx="90720" cy="80640"/>
                <a:chOff x="6804000" y="6228360"/>
                <a:chExt cx="90720" cy="80640"/>
              </a:xfrm>
            </p:grpSpPr>
            <p:sp>
              <p:nvSpPr>
                <p:cNvPr id="214" name="Freeform 29"/>
                <p:cNvSpPr/>
                <p:nvPr/>
              </p:nvSpPr>
              <p:spPr>
                <a:xfrm>
                  <a:off x="6804000" y="6228360"/>
                  <a:ext cx="90720" cy="806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44" h="97">
                      <a:moveTo>
                        <a:pt x="0" y="97"/>
                      </a:moveTo>
                      <a:lnTo>
                        <a:pt x="76" y="0"/>
                      </a:lnTo>
                      <a:lnTo>
                        <a:pt x="144" y="81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0"/>
                <p:cNvSpPr/>
                <p:nvPr/>
              </p:nvSpPr>
              <p:spPr>
                <a:xfrm>
                  <a:off x="6805080" y="6232320"/>
                  <a:ext cx="86400" cy="7632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137" h="92">
                      <a:moveTo>
                        <a:pt x="0" y="92"/>
                      </a:moveTo>
                      <a:lnTo>
                        <a:pt x="71" y="0"/>
                      </a:lnTo>
                      <a:lnTo>
                        <a:pt x="137" y="78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1"/>
              <p:cNvGrpSpPr/>
              <p:nvPr/>
            </p:nvGrpSpPr>
            <p:grpSpPr>
              <a:xfrm>
                <a:off x="6432840" y="5966640"/>
                <a:ext cx="823320" cy="294480"/>
                <a:chOff x="6432840" y="5966640"/>
                <a:chExt cx="823320" cy="294480"/>
              </a:xfrm>
            </p:grpSpPr>
            <p:sp>
              <p:nvSpPr>
                <p:cNvPr id="217" name="Freeform 32"/>
                <p:cNvSpPr/>
                <p:nvPr/>
              </p:nvSpPr>
              <p:spPr>
                <a:xfrm>
                  <a:off x="6432840" y="5966640"/>
                  <a:ext cx="374400" cy="29304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293040"/>
                    <a:gd name="textAreaBottom" fmla="*/ 293400 h 293040"/>
                  </a:gdLst>
                  <a:ahLst/>
                  <a:rect l="textAreaLeft" t="textAreaTop" r="textAreaRight" b="textAreaBottom"/>
                  <a:pathLst>
                    <a:path w="251" h="149">
                      <a:moveTo>
                        <a:pt x="65" y="133"/>
                      </a:moveTo>
                      <a:cubicBezTo>
                        <a:pt x="0" y="106"/>
                        <a:pt x="7" y="33"/>
                        <a:pt x="7" y="0"/>
                      </a:cubicBezTo>
                      <a:cubicBezTo>
                        <a:pt x="47" y="21"/>
                        <a:pt x="220" y="111"/>
                        <a:pt x="251" y="109"/>
                      </a:cubicBezTo>
                      <a:cubicBezTo>
                        <a:pt x="217" y="129"/>
                        <a:pt x="105" y="149"/>
                        <a:pt x="65" y="133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3"/>
                <p:cNvSpPr/>
                <p:nvPr/>
              </p:nvSpPr>
              <p:spPr>
                <a:xfrm>
                  <a:off x="6877440" y="5966640"/>
                  <a:ext cx="378720" cy="293040"/>
                </a:xfrm>
                <a:custGeom>
                  <a:avLst/>
                  <a:gdLst>
                    <a:gd name="textAreaLeft" fmla="*/ 0 w 378720"/>
                    <a:gd name="textAreaRight" fmla="*/ 379080 w 378720"/>
                    <a:gd name="textAreaTop" fmla="*/ 0 h 293040"/>
                    <a:gd name="textAreaBottom" fmla="*/ 293400 h 293040"/>
                  </a:gdLst>
                  <a:ahLst/>
                  <a:rect l="textAreaLeft" t="textAreaTop" r="textAreaRight" b="textAreaBottom"/>
                  <a:pathLst>
                    <a:path w="254" h="149">
                      <a:moveTo>
                        <a:pt x="189" y="133"/>
                      </a:moveTo>
                      <a:cubicBezTo>
                        <a:pt x="254" y="106"/>
                        <a:pt x="247" y="33"/>
                        <a:pt x="247" y="0"/>
                      </a:cubicBezTo>
                      <a:cubicBezTo>
                        <a:pt x="207" y="21"/>
                        <a:pt x="32" y="110"/>
                        <a:pt x="0" y="108"/>
                      </a:cubicBezTo>
                      <a:cubicBezTo>
                        <a:pt x="35" y="129"/>
                        <a:pt x="148" y="149"/>
                        <a:pt x="189" y="133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34"/>
                <p:cNvSpPr/>
                <p:nvPr/>
              </p:nvSpPr>
              <p:spPr>
                <a:xfrm>
                  <a:off x="6454800" y="5983920"/>
                  <a:ext cx="350280" cy="277200"/>
                </a:xfrm>
                <a:custGeom>
                  <a:avLst/>
                  <a:gdLst>
                    <a:gd name="textAreaLeft" fmla="*/ 0 w 350280"/>
                    <a:gd name="textAreaRight" fmla="*/ 350640 w 350280"/>
                    <a:gd name="textAreaTop" fmla="*/ 0 h 277200"/>
                    <a:gd name="textAreaBottom" fmla="*/ 277200 h 277200"/>
                  </a:gdLst>
                  <a:ahLst/>
                  <a:rect l="textAreaLeft" t="textAreaTop" r="textAreaRight" b="textAreaBottom"/>
                  <a:pathLst>
                    <a:path w="235" h="141">
                      <a:moveTo>
                        <a:pt x="62" y="126"/>
                      </a:moveTo>
                      <a:cubicBezTo>
                        <a:pt x="0" y="100"/>
                        <a:pt x="7" y="31"/>
                        <a:pt x="7" y="0"/>
                      </a:cubicBezTo>
                      <a:cubicBezTo>
                        <a:pt x="44" y="20"/>
                        <a:pt x="205" y="102"/>
                        <a:pt x="235" y="101"/>
                      </a:cubicBezTo>
                      <a:cubicBezTo>
                        <a:pt x="203" y="120"/>
                        <a:pt x="100" y="141"/>
                        <a:pt x="62" y="12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35"/>
                <p:cNvSpPr/>
                <p:nvPr/>
              </p:nvSpPr>
              <p:spPr>
                <a:xfrm>
                  <a:off x="6881760" y="5983920"/>
                  <a:ext cx="352080" cy="277200"/>
                </a:xfrm>
                <a:custGeom>
                  <a:avLst/>
                  <a:gdLst>
                    <a:gd name="textAreaLeft" fmla="*/ 0 w 352080"/>
                    <a:gd name="textAreaRight" fmla="*/ 352440 w 352080"/>
                    <a:gd name="textAreaTop" fmla="*/ 0 h 277200"/>
                    <a:gd name="textAreaBottom" fmla="*/ 277200 h 277200"/>
                  </a:gdLst>
                  <a:ahLst/>
                  <a:rect l="textAreaLeft" t="textAreaTop" r="textAreaRight" b="textAreaBottom"/>
                  <a:pathLst>
                    <a:path w="236" h="141">
                      <a:moveTo>
                        <a:pt x="174" y="126"/>
                      </a:moveTo>
                      <a:cubicBezTo>
                        <a:pt x="236" y="100"/>
                        <a:pt x="229" y="31"/>
                        <a:pt x="229" y="0"/>
                      </a:cubicBezTo>
                      <a:cubicBezTo>
                        <a:pt x="192" y="20"/>
                        <a:pt x="30" y="102"/>
                        <a:pt x="0" y="101"/>
                      </a:cubicBezTo>
                      <a:cubicBezTo>
                        <a:pt x="33" y="120"/>
                        <a:pt x="136" y="141"/>
                        <a:pt x="174" y="12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36"/>
              <p:cNvGrpSpPr/>
              <p:nvPr/>
            </p:nvGrpSpPr>
            <p:grpSpPr>
              <a:xfrm>
                <a:off x="6465600" y="6319080"/>
                <a:ext cx="753840" cy="397440"/>
                <a:chOff x="6465600" y="6319080"/>
                <a:chExt cx="753840" cy="397440"/>
              </a:xfrm>
            </p:grpSpPr>
            <p:sp>
              <p:nvSpPr>
                <p:cNvPr id="222" name="Freeform 37"/>
                <p:cNvSpPr/>
                <p:nvPr/>
              </p:nvSpPr>
              <p:spPr>
                <a:xfrm>
                  <a:off x="6465600" y="6319080"/>
                  <a:ext cx="753840" cy="39744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397440"/>
                    <a:gd name="textAreaBottom" fmla="*/ 397800 h 397440"/>
                  </a:gdLst>
                  <a:ahLst/>
                  <a:rect l="textAreaLeft" t="textAreaTop" r="textAreaRight" b="textAreaBottom"/>
                  <a:pathLst>
                    <a:path w="505" h="202">
                      <a:moveTo>
                        <a:pt x="403" y="53"/>
                      </a:moveTo>
                      <a:cubicBezTo>
                        <a:pt x="393" y="92"/>
                        <a:pt x="393" y="92"/>
                        <a:pt x="393" y="92"/>
                      </a:cubicBezTo>
                      <a:cubicBezTo>
                        <a:pt x="374" y="52"/>
                        <a:pt x="374" y="52"/>
                        <a:pt x="374" y="52"/>
                      </a:cubicBezTo>
                      <a:cubicBezTo>
                        <a:pt x="295" y="59"/>
                        <a:pt x="207" y="53"/>
                        <a:pt x="128" y="40"/>
                      </a:cubicBezTo>
                      <a:cubicBezTo>
                        <a:pt x="106" y="83"/>
                        <a:pt x="106" y="83"/>
                        <a:pt x="106" y="83"/>
                      </a:cubicBezTo>
                      <a:cubicBezTo>
                        <a:pt x="95" y="39"/>
                        <a:pt x="95" y="39"/>
                        <a:pt x="95" y="39"/>
                      </a:cubicBezTo>
                      <a:cubicBezTo>
                        <a:pt x="59" y="31"/>
                        <a:pt x="26" y="11"/>
                        <a:pt x="0" y="0"/>
                      </a:cubicBezTo>
                      <a:cubicBezTo>
                        <a:pt x="88" y="184"/>
                        <a:pt x="390" y="202"/>
                        <a:pt x="505" y="20"/>
                      </a:cubicBezTo>
                      <a:cubicBezTo>
                        <a:pt x="478" y="32"/>
                        <a:pt x="441" y="48"/>
                        <a:pt x="403" y="53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8"/>
                <p:cNvSpPr/>
                <p:nvPr/>
              </p:nvSpPr>
              <p:spPr>
                <a:xfrm>
                  <a:off x="6485040" y="6334920"/>
                  <a:ext cx="710280" cy="374040"/>
                </a:xfrm>
                <a:custGeom>
                  <a:avLst/>
                  <a:gdLst>
                    <a:gd name="textAreaLeft" fmla="*/ 0 w 710280"/>
                    <a:gd name="textAreaRight" fmla="*/ 710640 w 710280"/>
                    <a:gd name="textAreaTop" fmla="*/ 0 h 374040"/>
                    <a:gd name="textAreaBottom" fmla="*/ 374400 h 374040"/>
                  </a:gdLst>
                  <a:ahLst/>
                  <a:rect l="textAreaLeft" t="textAreaTop" r="textAreaRight" b="textAreaBottom"/>
                  <a:pathLst>
                    <a:path w="476" h="190">
                      <a:moveTo>
                        <a:pt x="381" y="42"/>
                      </a:moveTo>
                      <a:cubicBezTo>
                        <a:pt x="372" y="78"/>
                        <a:pt x="372" y="78"/>
                        <a:pt x="372" y="78"/>
                      </a:cubicBezTo>
                      <a:cubicBezTo>
                        <a:pt x="356" y="44"/>
                        <a:pt x="356" y="44"/>
                        <a:pt x="356" y="44"/>
                      </a:cubicBezTo>
                      <a:cubicBezTo>
                        <a:pt x="281" y="51"/>
                        <a:pt x="194" y="47"/>
                        <a:pt x="119" y="34"/>
                      </a:cubicBezTo>
                      <a:cubicBezTo>
                        <a:pt x="101" y="70"/>
                        <a:pt x="101" y="70"/>
                        <a:pt x="101" y="70"/>
                      </a:cubicBezTo>
                      <a:cubicBezTo>
                        <a:pt x="91" y="28"/>
                        <a:pt x="91" y="28"/>
                        <a:pt x="91" y="28"/>
                      </a:cubicBezTo>
                      <a:cubicBezTo>
                        <a:pt x="56" y="21"/>
                        <a:pt x="25" y="11"/>
                        <a:pt x="0" y="0"/>
                      </a:cubicBezTo>
                      <a:cubicBezTo>
                        <a:pt x="84" y="175"/>
                        <a:pt x="367" y="190"/>
                        <a:pt x="476" y="19"/>
                      </a:cubicBezTo>
                      <a:cubicBezTo>
                        <a:pt x="450" y="29"/>
                        <a:pt x="418" y="37"/>
                        <a:pt x="381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1"/>
                    </a:gs>
                    <a:gs pos="100000">
                      <a:srgbClr val="ffff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39"/>
            <p:cNvGrpSpPr/>
            <p:nvPr/>
          </p:nvGrpSpPr>
          <p:grpSpPr>
            <a:xfrm>
              <a:off x="2377800" y="5362560"/>
              <a:ext cx="1951560" cy="1564920"/>
              <a:chOff x="2377800" y="5362560"/>
              <a:chExt cx="1951560" cy="1564920"/>
            </a:xfrm>
          </p:grpSpPr>
          <p:pic>
            <p:nvPicPr>
              <p:cNvPr id="225" name="Picture 40" descr="Unbenannt-1"/>
              <p:cNvPicPr/>
              <p:nvPr/>
            </p:nvPicPr>
            <p:blipFill>
              <a:blip r:embed="rId3"/>
              <a:stretch/>
            </p:blipFill>
            <p:spPr>
              <a:xfrm>
                <a:off x="2725200" y="5585400"/>
                <a:ext cx="1379160" cy="1166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6" name="Group 41"/>
              <p:cNvGrpSpPr/>
              <p:nvPr/>
            </p:nvGrpSpPr>
            <p:grpSpPr>
              <a:xfrm>
                <a:off x="2377800" y="5362560"/>
                <a:ext cx="1951560" cy="1564920"/>
                <a:chOff x="2377800" y="5362560"/>
                <a:chExt cx="1951560" cy="1564920"/>
              </a:xfrm>
            </p:grpSpPr>
            <p:sp>
              <p:nvSpPr>
                <p:cNvPr id="227" name="Freeform 42"/>
                <p:cNvSpPr/>
                <p:nvPr/>
              </p:nvSpPr>
              <p:spPr>
                <a:xfrm>
                  <a:off x="3303360" y="5395320"/>
                  <a:ext cx="1026000" cy="1222560"/>
                </a:xfrm>
                <a:custGeom>
                  <a:avLst/>
                  <a:gdLst>
                    <a:gd name="textAreaLeft" fmla="*/ 0 w 1026000"/>
                    <a:gd name="textAreaRight" fmla="*/ 1026360 w 1026000"/>
                    <a:gd name="textAreaTop" fmla="*/ 0 h 1222560"/>
                    <a:gd name="textAreaBottom" fmla="*/ 1222920 h 1222560"/>
                  </a:gdLst>
                  <a:ahLst/>
                  <a:rect l="textAreaLeft" t="textAreaTop" r="textAreaRight" b="textAreaBottom"/>
                  <a:pathLst>
                    <a:path w="511" h="562">
                      <a:moveTo>
                        <a:pt x="402" y="239"/>
                      </a:moveTo>
                      <a:cubicBezTo>
                        <a:pt x="355" y="96"/>
                        <a:pt x="246" y="54"/>
                        <a:pt x="156" y="60"/>
                      </a:cubicBezTo>
                      <a:cubicBezTo>
                        <a:pt x="128" y="69"/>
                        <a:pt x="66" y="92"/>
                        <a:pt x="0" y="145"/>
                      </a:cubicBezTo>
                      <a:cubicBezTo>
                        <a:pt x="290" y="0"/>
                        <a:pt x="511" y="312"/>
                        <a:pt x="288" y="562"/>
                      </a:cubicBezTo>
                      <a:cubicBezTo>
                        <a:pt x="376" y="517"/>
                        <a:pt x="449" y="382"/>
                        <a:pt x="402" y="23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3"/>
                <p:cNvSpPr/>
                <p:nvPr/>
              </p:nvSpPr>
              <p:spPr>
                <a:xfrm>
                  <a:off x="2427840" y="5510880"/>
                  <a:ext cx="875520" cy="1310040"/>
                </a:xfrm>
                <a:custGeom>
                  <a:avLst/>
                  <a:gdLst>
                    <a:gd name="textAreaLeft" fmla="*/ 0 w 875520"/>
                    <a:gd name="textAreaRight" fmla="*/ 875880 w 875520"/>
                    <a:gd name="textAreaTop" fmla="*/ 0 h 1310040"/>
                    <a:gd name="textAreaBottom" fmla="*/ 1310400 h 1310040"/>
                  </a:gdLst>
                  <a:ahLst/>
                  <a:rect l="textAreaLeft" t="textAreaTop" r="textAreaRight" b="textAreaBottom"/>
                  <a:pathLst>
                    <a:path w="436" h="602">
                      <a:moveTo>
                        <a:pt x="436" y="92"/>
                      </a:moveTo>
                      <a:cubicBezTo>
                        <a:pt x="204" y="0"/>
                        <a:pt x="0" y="250"/>
                        <a:pt x="143" y="513"/>
                      </a:cubicBezTo>
                      <a:cubicBezTo>
                        <a:pt x="169" y="541"/>
                        <a:pt x="179" y="564"/>
                        <a:pt x="240" y="582"/>
                      </a:cubicBezTo>
                      <a:cubicBezTo>
                        <a:pt x="301" y="600"/>
                        <a:pt x="318" y="602"/>
                        <a:pt x="352" y="594"/>
                      </a:cubicBezTo>
                      <a:cubicBezTo>
                        <a:pt x="175" y="572"/>
                        <a:pt x="107" y="167"/>
                        <a:pt x="436" y="9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4"/>
                <p:cNvSpPr/>
                <p:nvPr/>
              </p:nvSpPr>
              <p:spPr>
                <a:xfrm>
                  <a:off x="2734560" y="5710320"/>
                  <a:ext cx="1000800" cy="121716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217160"/>
                    <a:gd name="textAreaBottom" fmla="*/ 1217520 h 1217160"/>
                  </a:gdLst>
                  <a:ahLst/>
                  <a:rect l="textAreaLeft" t="textAreaTop" r="textAreaRight" b="textAreaBottom"/>
                  <a:pathLst>
                    <a:path w="498" h="559">
                      <a:moveTo>
                        <a:pt x="283" y="0"/>
                      </a:moveTo>
                      <a:cubicBezTo>
                        <a:pt x="38" y="75"/>
                        <a:pt x="0" y="367"/>
                        <a:pt x="199" y="502"/>
                      </a:cubicBezTo>
                      <a:cubicBezTo>
                        <a:pt x="322" y="559"/>
                        <a:pt x="376" y="490"/>
                        <a:pt x="389" y="472"/>
                      </a:cubicBezTo>
                      <a:cubicBezTo>
                        <a:pt x="498" y="338"/>
                        <a:pt x="420" y="39"/>
                        <a:pt x="28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5"/>
                <p:cNvSpPr/>
                <p:nvPr/>
              </p:nvSpPr>
              <p:spPr>
                <a:xfrm>
                  <a:off x="3303360" y="5470920"/>
                  <a:ext cx="287280" cy="239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43" h="110">
                      <a:moveTo>
                        <a:pt x="0" y="110"/>
                      </a:moveTo>
                      <a:cubicBezTo>
                        <a:pt x="48" y="69"/>
                        <a:pt x="108" y="12"/>
                        <a:pt x="143" y="18"/>
                      </a:cubicBezTo>
                      <a:cubicBezTo>
                        <a:pt x="110" y="3"/>
                        <a:pt x="96" y="0"/>
                        <a:pt x="46" y="24"/>
                      </a:cubicBezTo>
                      <a:cubicBezTo>
                        <a:pt x="18" y="42"/>
                        <a:pt x="8" y="90"/>
                        <a:pt x="0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6"/>
                <p:cNvSpPr/>
                <p:nvPr/>
              </p:nvSpPr>
              <p:spPr>
                <a:xfrm>
                  <a:off x="2377800" y="5467320"/>
                  <a:ext cx="921240" cy="1159920"/>
                </a:xfrm>
                <a:custGeom>
                  <a:avLst/>
                  <a:gdLst>
                    <a:gd name="textAreaLeft" fmla="*/ 0 w 921240"/>
                    <a:gd name="textAreaRight" fmla="*/ 921600 w 921240"/>
                    <a:gd name="textAreaTop" fmla="*/ 0 h 1159920"/>
                    <a:gd name="textAreaBottom" fmla="*/ 1160280 h 1159920"/>
                  </a:gdLst>
                  <a:ahLst/>
                  <a:rect l="textAreaLeft" t="textAreaTop" r="textAreaRight" b="textAreaBottom"/>
                  <a:pathLst>
                    <a:path w="459" h="533">
                      <a:moveTo>
                        <a:pt x="459" y="111"/>
                      </a:moveTo>
                      <a:cubicBezTo>
                        <a:pt x="434" y="99"/>
                        <a:pt x="374" y="56"/>
                        <a:pt x="347" y="42"/>
                      </a:cubicBezTo>
                      <a:cubicBezTo>
                        <a:pt x="321" y="38"/>
                        <a:pt x="308" y="29"/>
                        <a:pt x="244" y="51"/>
                      </a:cubicBezTo>
                      <a:cubicBezTo>
                        <a:pt x="183" y="72"/>
                        <a:pt x="57" y="190"/>
                        <a:pt x="76" y="324"/>
                      </a:cubicBezTo>
                      <a:cubicBezTo>
                        <a:pt x="94" y="458"/>
                        <a:pt x="98" y="498"/>
                        <a:pt x="168" y="533"/>
                      </a:cubicBezTo>
                      <a:cubicBezTo>
                        <a:pt x="0" y="296"/>
                        <a:pt x="217" y="0"/>
                        <a:pt x="459" y="1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47"/>
                <p:cNvSpPr/>
                <p:nvPr/>
              </p:nvSpPr>
              <p:spPr>
                <a:xfrm>
                  <a:off x="3303360" y="5375160"/>
                  <a:ext cx="783000" cy="1421640"/>
                </a:xfrm>
                <a:custGeom>
                  <a:avLst/>
                  <a:gdLst>
                    <a:gd name="textAreaLeft" fmla="*/ 0 w 783000"/>
                    <a:gd name="textAreaRight" fmla="*/ 783360 w 783000"/>
                    <a:gd name="textAreaTop" fmla="*/ 0 h 1421640"/>
                    <a:gd name="textAreaBottom" fmla="*/ 1422000 h 1421640"/>
                  </a:gdLst>
                  <a:ahLst/>
                  <a:rect l="textAreaLeft" t="textAreaTop" r="textAreaRight" b="textAreaBottom"/>
                  <a:pathLst>
                    <a:path w="390" h="653">
                      <a:moveTo>
                        <a:pt x="0" y="154"/>
                      </a:moveTo>
                      <a:cubicBezTo>
                        <a:pt x="262" y="217"/>
                        <a:pt x="181" y="607"/>
                        <a:pt x="106" y="626"/>
                      </a:cubicBezTo>
                      <a:cubicBezTo>
                        <a:pt x="191" y="653"/>
                        <a:pt x="246" y="613"/>
                        <a:pt x="288" y="571"/>
                      </a:cubicBezTo>
                      <a:cubicBezTo>
                        <a:pt x="390" y="458"/>
                        <a:pt x="379" y="0"/>
                        <a:pt x="0" y="15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48"/>
                <p:cNvSpPr/>
                <p:nvPr/>
              </p:nvSpPr>
              <p:spPr>
                <a:xfrm>
                  <a:off x="2943720" y="5619240"/>
                  <a:ext cx="1261440" cy="1308240"/>
                </a:xfrm>
                <a:custGeom>
                  <a:avLst/>
                  <a:gdLst>
                    <a:gd name="textAreaLeft" fmla="*/ 0 w 1261440"/>
                    <a:gd name="textAreaRight" fmla="*/ 1261800 w 1261440"/>
                    <a:gd name="textAreaTop" fmla="*/ 0 h 1308240"/>
                    <a:gd name="textAreaBottom" fmla="*/ 1308600 h 1308240"/>
                  </a:gdLst>
                  <a:ahLst/>
                  <a:rect l="textAreaLeft" t="textAreaTop" r="textAreaRight" b="textAreaBottom"/>
                  <a:pathLst>
                    <a:path w="628" h="601">
                      <a:moveTo>
                        <a:pt x="581" y="136"/>
                      </a:moveTo>
                      <a:cubicBezTo>
                        <a:pt x="560" y="72"/>
                        <a:pt x="526" y="28"/>
                        <a:pt x="487" y="0"/>
                      </a:cubicBezTo>
                      <a:cubicBezTo>
                        <a:pt x="511" y="24"/>
                        <a:pt x="461" y="31"/>
                        <a:pt x="389" y="17"/>
                      </a:cubicBezTo>
                      <a:cubicBezTo>
                        <a:pt x="590" y="169"/>
                        <a:pt x="436" y="293"/>
                        <a:pt x="316" y="168"/>
                      </a:cubicBezTo>
                      <a:cubicBezTo>
                        <a:pt x="409" y="523"/>
                        <a:pt x="162" y="530"/>
                        <a:pt x="34" y="507"/>
                      </a:cubicBezTo>
                      <a:cubicBezTo>
                        <a:pt x="29" y="518"/>
                        <a:pt x="18" y="530"/>
                        <a:pt x="0" y="537"/>
                      </a:cubicBezTo>
                      <a:cubicBezTo>
                        <a:pt x="48" y="551"/>
                        <a:pt x="65" y="551"/>
                        <a:pt x="95" y="544"/>
                      </a:cubicBezTo>
                      <a:cubicBezTo>
                        <a:pt x="218" y="601"/>
                        <a:pt x="272" y="532"/>
                        <a:pt x="285" y="514"/>
                      </a:cubicBezTo>
                      <a:cubicBezTo>
                        <a:pt x="370" y="541"/>
                        <a:pt x="425" y="501"/>
                        <a:pt x="467" y="459"/>
                      </a:cubicBezTo>
                      <a:cubicBezTo>
                        <a:pt x="555" y="414"/>
                        <a:pt x="628" y="279"/>
                        <a:pt x="581" y="136"/>
                      </a:cubicBezTo>
                      <a:close/>
                    </a:path>
                  </a:pathLst>
                </a:custGeom>
                <a:solidFill>
                  <a:srgbClr val="f27b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Group 49"/>
                <p:cNvGrpSpPr/>
                <p:nvPr/>
              </p:nvGrpSpPr>
              <p:grpSpPr>
                <a:xfrm>
                  <a:off x="2377800" y="5375160"/>
                  <a:ext cx="1951560" cy="1552320"/>
                  <a:chOff x="2377800" y="5375160"/>
                  <a:chExt cx="1951560" cy="1552320"/>
                </a:xfrm>
              </p:grpSpPr>
              <p:sp>
                <p:nvSpPr>
                  <p:cNvPr id="235" name="Freeform 50"/>
                  <p:cNvSpPr/>
                  <p:nvPr/>
                </p:nvSpPr>
                <p:spPr>
                  <a:xfrm>
                    <a:off x="3303360" y="5375160"/>
                    <a:ext cx="1026000" cy="1243080"/>
                  </a:xfrm>
                  <a:custGeom>
                    <a:avLst/>
                    <a:gdLst>
                      <a:gd name="textAreaLeft" fmla="*/ 0 w 1026000"/>
                      <a:gd name="textAreaRight" fmla="*/ 1026360 w 1026000"/>
                      <a:gd name="textAreaTop" fmla="*/ 0 h 1243080"/>
                      <a:gd name="textAreaBottom" fmla="*/ 1243440 h 1243080"/>
                    </a:gdLst>
                    <a:ahLst/>
                    <a:rect l="textAreaLeft" t="textAreaTop" r="textAreaRight" b="textAreaBottom"/>
                    <a:pathLst>
                      <a:path w="511" h="571">
                        <a:moveTo>
                          <a:pt x="0" y="154"/>
                        </a:moveTo>
                        <a:cubicBezTo>
                          <a:pt x="379" y="0"/>
                          <a:pt x="390" y="458"/>
                          <a:pt x="288" y="571"/>
                        </a:cubicBezTo>
                        <a:cubicBezTo>
                          <a:pt x="511" y="321"/>
                          <a:pt x="290" y="9"/>
                          <a:pt x="0" y="154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1"/>
                  <p:cNvSpPr/>
                  <p:nvPr/>
                </p:nvSpPr>
                <p:spPr>
                  <a:xfrm>
                    <a:off x="2642760" y="5710320"/>
                    <a:ext cx="660240" cy="1092600"/>
                  </a:xfrm>
                  <a:custGeom>
                    <a:avLst/>
                    <a:gdLst>
                      <a:gd name="textAreaLeft" fmla="*/ 0 w 660240"/>
                      <a:gd name="textAreaRight" fmla="*/ 660600 w 660240"/>
                      <a:gd name="textAreaTop" fmla="*/ 0 h 1092600"/>
                      <a:gd name="textAreaBottom" fmla="*/ 1092960 h 1092600"/>
                    </a:gdLst>
                    <a:ahLst/>
                    <a:rect l="textAreaLeft" t="textAreaTop" r="textAreaRight" b="textAreaBottom"/>
                    <a:pathLst>
                      <a:path w="329" h="502">
                        <a:moveTo>
                          <a:pt x="329" y="0"/>
                        </a:moveTo>
                        <a:cubicBezTo>
                          <a:pt x="0" y="75"/>
                          <a:pt x="68" y="480"/>
                          <a:pt x="245" y="502"/>
                        </a:cubicBezTo>
                        <a:cubicBezTo>
                          <a:pt x="46" y="367"/>
                          <a:pt x="84" y="75"/>
                          <a:pt x="329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2"/>
                  <p:cNvSpPr/>
                  <p:nvPr/>
                </p:nvSpPr>
                <p:spPr>
                  <a:xfrm>
                    <a:off x="2377800" y="5466960"/>
                    <a:ext cx="925560" cy="1159920"/>
                  </a:xfrm>
                  <a:custGeom>
                    <a:avLst/>
                    <a:gdLst>
                      <a:gd name="textAreaLeft" fmla="*/ 0 w 925560"/>
                      <a:gd name="textAreaRight" fmla="*/ 925920 w 925560"/>
                      <a:gd name="textAreaTop" fmla="*/ 0 h 1159920"/>
                      <a:gd name="textAreaBottom" fmla="*/ 1160280 h 1159920"/>
                    </a:gdLst>
                    <a:ahLst/>
                    <a:rect l="textAreaLeft" t="textAreaTop" r="textAreaRight" b="textAreaBottom"/>
                    <a:pathLst>
                      <a:path w="461" h="533">
                        <a:moveTo>
                          <a:pt x="461" y="112"/>
                        </a:moveTo>
                        <a:cubicBezTo>
                          <a:pt x="461" y="112"/>
                          <a:pt x="460" y="112"/>
                          <a:pt x="459" y="111"/>
                        </a:cubicBezTo>
                        <a:cubicBezTo>
                          <a:pt x="217" y="0"/>
                          <a:pt x="0" y="296"/>
                          <a:pt x="168" y="533"/>
                        </a:cubicBezTo>
                        <a:cubicBezTo>
                          <a:pt x="25" y="270"/>
                          <a:pt x="229" y="20"/>
                          <a:pt x="461" y="112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3"/>
                  <p:cNvSpPr/>
                  <p:nvPr/>
                </p:nvSpPr>
                <p:spPr>
                  <a:xfrm>
                    <a:off x="3303360" y="5710320"/>
                    <a:ext cx="526320" cy="1027440"/>
                  </a:xfrm>
                  <a:custGeom>
                    <a:avLst/>
                    <a:gdLst>
                      <a:gd name="textAreaLeft" fmla="*/ 0 w 526320"/>
                      <a:gd name="textAreaRight" fmla="*/ 526680 w 526320"/>
                      <a:gd name="textAreaTop" fmla="*/ 0 h 1027440"/>
                      <a:gd name="textAreaBottom" fmla="*/ 1027800 h 1027440"/>
                    </a:gdLst>
                    <a:ahLst/>
                    <a:rect l="textAreaLeft" t="textAreaTop" r="textAreaRight" b="textAreaBottom"/>
                    <a:pathLst>
                      <a:path w="262" h="472">
                        <a:moveTo>
                          <a:pt x="0" y="0"/>
                        </a:moveTo>
                        <a:cubicBezTo>
                          <a:pt x="137" y="39"/>
                          <a:pt x="215" y="338"/>
                          <a:pt x="106" y="472"/>
                        </a:cubicBezTo>
                        <a:cubicBezTo>
                          <a:pt x="181" y="453"/>
                          <a:pt x="262" y="6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4"/>
                  <p:cNvSpPr/>
                  <p:nvPr/>
                </p:nvSpPr>
                <p:spPr>
                  <a:xfrm>
                    <a:off x="3303360" y="5497560"/>
                    <a:ext cx="312840" cy="212400"/>
                  </a:xfrm>
                  <a:custGeom>
                    <a:avLst/>
                    <a:gdLst>
                      <a:gd name="textAreaLeft" fmla="*/ 0 w 312840"/>
                      <a:gd name="textAreaRight" fmla="*/ 313200 w 312840"/>
                      <a:gd name="textAreaTop" fmla="*/ 0 h 212400"/>
                      <a:gd name="textAreaBottom" fmla="*/ 212760 h 212400"/>
                    </a:gdLst>
                    <a:ahLst/>
                    <a:rect l="textAreaLeft" t="textAreaTop" r="textAreaRight" b="textAreaBottom"/>
                    <a:pathLst>
                      <a:path w="156" h="98">
                        <a:moveTo>
                          <a:pt x="0" y="98"/>
                        </a:moveTo>
                        <a:cubicBezTo>
                          <a:pt x="66" y="45"/>
                          <a:pt x="128" y="22"/>
                          <a:pt x="156" y="13"/>
                        </a:cubicBezTo>
                        <a:cubicBezTo>
                          <a:pt x="152" y="10"/>
                          <a:pt x="147" y="8"/>
                          <a:pt x="143" y="6"/>
                        </a:cubicBezTo>
                        <a:cubicBezTo>
                          <a:pt x="108" y="0"/>
                          <a:pt x="48" y="57"/>
                          <a:pt x="0" y="98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5"/>
                  <p:cNvSpPr/>
                  <p:nvPr/>
                </p:nvSpPr>
                <p:spPr>
                  <a:xfrm>
                    <a:off x="3295080" y="5523480"/>
                    <a:ext cx="101160" cy="186840"/>
                  </a:xfrm>
                  <a:custGeom>
                    <a:avLst/>
                    <a:gdLst>
                      <a:gd name="textAreaLeft" fmla="*/ 0 w 101160"/>
                      <a:gd name="textAreaRight" fmla="*/ 101520 w 10116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50" h="86">
                        <a:moveTo>
                          <a:pt x="4" y="86"/>
                        </a:moveTo>
                        <a:cubicBezTo>
                          <a:pt x="12" y="66"/>
                          <a:pt x="22" y="18"/>
                          <a:pt x="50" y="0"/>
                        </a:cubicBezTo>
                        <a:cubicBezTo>
                          <a:pt x="24" y="3"/>
                          <a:pt x="0" y="49"/>
                          <a:pt x="4" y="86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6"/>
                  <p:cNvSpPr/>
                  <p:nvPr/>
                </p:nvSpPr>
                <p:spPr>
                  <a:xfrm>
                    <a:off x="3074760" y="5551920"/>
                    <a:ext cx="228600" cy="158040"/>
                  </a:xfrm>
                  <a:custGeom>
                    <a:avLst/>
                    <a:gdLst>
                      <a:gd name="textAreaLeft" fmla="*/ 0 w 228600"/>
                      <a:gd name="textAreaRight" fmla="*/ 228960 w 228600"/>
                      <a:gd name="textAreaTop" fmla="*/ 0 h 158040"/>
                      <a:gd name="textAreaBottom" fmla="*/ 158400 h 158040"/>
                    </a:gdLst>
                    <a:ahLst/>
                    <a:rect l="textAreaLeft" t="textAreaTop" r="textAreaRight" b="textAreaBottom"/>
                    <a:pathLst>
                      <a:path w="114" h="73">
                        <a:moveTo>
                          <a:pt x="114" y="73"/>
                        </a:moveTo>
                        <a:cubicBezTo>
                          <a:pt x="92" y="44"/>
                          <a:pt x="21" y="0"/>
                          <a:pt x="0" y="3"/>
                        </a:cubicBezTo>
                        <a:cubicBezTo>
                          <a:pt x="27" y="17"/>
                          <a:pt x="87" y="60"/>
                          <a:pt x="112" y="72"/>
                        </a:cubicBezTo>
                        <a:cubicBezTo>
                          <a:pt x="113" y="73"/>
                          <a:pt x="114" y="73"/>
                          <a:pt x="114" y="73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7"/>
                  <p:cNvSpPr/>
                  <p:nvPr/>
                </p:nvSpPr>
                <p:spPr>
                  <a:xfrm>
                    <a:off x="2563920" y="5914800"/>
                    <a:ext cx="1641600" cy="1012680"/>
                  </a:xfrm>
                  <a:custGeom>
                    <a:avLst/>
                    <a:gdLst>
                      <a:gd name="textAreaLeft" fmla="*/ 0 w 1641600"/>
                      <a:gd name="textAreaRight" fmla="*/ 1641960 w 1641600"/>
                      <a:gd name="textAreaTop" fmla="*/ 0 h 1012680"/>
                      <a:gd name="textAreaBottom" fmla="*/ 1013040 h 1012680"/>
                    </a:gdLst>
                    <a:ahLst/>
                    <a:rect l="textAreaLeft" t="textAreaTop" r="textAreaRight" b="textAreaBottom"/>
                    <a:pathLst>
                      <a:path w="817" h="465">
                        <a:moveTo>
                          <a:pt x="502" y="345"/>
                        </a:moveTo>
                        <a:cubicBezTo>
                          <a:pt x="460" y="392"/>
                          <a:pt x="329" y="414"/>
                          <a:pt x="223" y="371"/>
                        </a:cubicBezTo>
                        <a:cubicBezTo>
                          <a:pt x="195" y="408"/>
                          <a:pt x="70" y="305"/>
                          <a:pt x="53" y="286"/>
                        </a:cubicBezTo>
                        <a:cubicBezTo>
                          <a:pt x="35" y="295"/>
                          <a:pt x="16" y="244"/>
                          <a:pt x="0" y="226"/>
                        </a:cubicBezTo>
                        <a:cubicBezTo>
                          <a:pt x="11" y="279"/>
                          <a:pt x="29" y="304"/>
                          <a:pt x="75" y="327"/>
                        </a:cubicBezTo>
                        <a:cubicBezTo>
                          <a:pt x="101" y="355"/>
                          <a:pt x="111" y="378"/>
                          <a:pt x="172" y="396"/>
                        </a:cubicBezTo>
                        <a:cubicBezTo>
                          <a:pt x="233" y="414"/>
                          <a:pt x="250" y="416"/>
                          <a:pt x="284" y="408"/>
                        </a:cubicBezTo>
                        <a:cubicBezTo>
                          <a:pt x="407" y="465"/>
                          <a:pt x="461" y="396"/>
                          <a:pt x="474" y="378"/>
                        </a:cubicBezTo>
                        <a:cubicBezTo>
                          <a:pt x="559" y="405"/>
                          <a:pt x="614" y="365"/>
                          <a:pt x="656" y="323"/>
                        </a:cubicBezTo>
                        <a:cubicBezTo>
                          <a:pt x="744" y="278"/>
                          <a:pt x="817" y="143"/>
                          <a:pt x="770" y="0"/>
                        </a:cubicBezTo>
                        <a:cubicBezTo>
                          <a:pt x="771" y="61"/>
                          <a:pt x="758" y="164"/>
                          <a:pt x="717" y="216"/>
                        </a:cubicBezTo>
                        <a:cubicBezTo>
                          <a:pt x="673" y="291"/>
                          <a:pt x="550" y="367"/>
                          <a:pt x="502" y="345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Freeform 58"/>
                <p:cNvSpPr/>
                <p:nvPr/>
              </p:nvSpPr>
              <p:spPr>
                <a:xfrm>
                  <a:off x="3074760" y="5470920"/>
                  <a:ext cx="321120" cy="239400"/>
                </a:xfrm>
                <a:custGeom>
                  <a:avLst/>
                  <a:gdLst>
                    <a:gd name="textAreaLeft" fmla="*/ 0 w 321120"/>
                    <a:gd name="textAreaRight" fmla="*/ 321480 w 3211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60" h="110">
                      <a:moveTo>
                        <a:pt x="114" y="110"/>
                      </a:moveTo>
                      <a:cubicBezTo>
                        <a:pt x="110" y="73"/>
                        <a:pt x="134" y="27"/>
                        <a:pt x="160" y="24"/>
                      </a:cubicBezTo>
                      <a:cubicBezTo>
                        <a:pt x="114" y="0"/>
                        <a:pt x="39" y="13"/>
                        <a:pt x="0" y="40"/>
                      </a:cubicBezTo>
                      <a:cubicBezTo>
                        <a:pt x="21" y="37"/>
                        <a:pt x="92" y="81"/>
                        <a:pt x="114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9"/>
                <p:cNvSpPr/>
                <p:nvPr/>
              </p:nvSpPr>
              <p:spPr>
                <a:xfrm>
                  <a:off x="3225240" y="5643360"/>
                  <a:ext cx="158040" cy="9108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79" h="42">
                      <a:moveTo>
                        <a:pt x="10" y="40"/>
                      </a:moveTo>
                      <a:cubicBezTo>
                        <a:pt x="47" y="21"/>
                        <a:pt x="59" y="42"/>
                        <a:pt x="67" y="42"/>
                      </a:cubicBezTo>
                      <a:cubicBezTo>
                        <a:pt x="37" y="25"/>
                        <a:pt x="70" y="20"/>
                        <a:pt x="79" y="17"/>
                      </a:cubicBezTo>
                      <a:cubicBezTo>
                        <a:pt x="37" y="24"/>
                        <a:pt x="66" y="10"/>
                        <a:pt x="74" y="4"/>
                      </a:cubicBezTo>
                      <a:cubicBezTo>
                        <a:pt x="62" y="12"/>
                        <a:pt x="41" y="23"/>
                        <a:pt x="43" y="0"/>
                      </a:cubicBezTo>
                      <a:cubicBezTo>
                        <a:pt x="36" y="25"/>
                        <a:pt x="21" y="13"/>
                        <a:pt x="9" y="6"/>
                      </a:cubicBezTo>
                      <a:cubicBezTo>
                        <a:pt x="17" y="18"/>
                        <a:pt x="33" y="21"/>
                        <a:pt x="0" y="19"/>
                      </a:cubicBezTo>
                      <a:cubicBezTo>
                        <a:pt x="16" y="25"/>
                        <a:pt x="44" y="21"/>
                        <a:pt x="10" y="4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0"/>
                <p:cNvSpPr/>
                <p:nvPr/>
              </p:nvSpPr>
              <p:spPr>
                <a:xfrm>
                  <a:off x="3086640" y="5384160"/>
                  <a:ext cx="266760" cy="319680"/>
                </a:xfrm>
                <a:custGeom>
                  <a:avLst/>
                  <a:gdLst>
                    <a:gd name="textAreaLeft" fmla="*/ 0 w 266760"/>
                    <a:gd name="textAreaRight" fmla="*/ 267120 w 266760"/>
                    <a:gd name="textAreaTop" fmla="*/ 0 h 319680"/>
                    <a:gd name="textAreaBottom" fmla="*/ 320040 h 319680"/>
                  </a:gdLst>
                  <a:ahLst/>
                  <a:rect l="textAreaLeft" t="textAreaTop" r="textAreaRight" b="textAreaBottom"/>
                  <a:pathLst>
                    <a:path w="133" h="147">
                      <a:moveTo>
                        <a:pt x="133" y="0"/>
                      </a:moveTo>
                      <a:cubicBezTo>
                        <a:pt x="120" y="142"/>
                        <a:pt x="120" y="142"/>
                        <a:pt x="120" y="142"/>
                      </a:cubicBezTo>
                      <a:cubicBezTo>
                        <a:pt x="116" y="146"/>
                        <a:pt x="111" y="147"/>
                        <a:pt x="104" y="146"/>
                      </a:cubicBezTo>
                      <a:cubicBezTo>
                        <a:pt x="0" y="48"/>
                        <a:pt x="0" y="48"/>
                        <a:pt x="0" y="48"/>
                      </a:cubicBez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4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61"/>
                <p:cNvSpPr/>
                <p:nvPr/>
              </p:nvSpPr>
              <p:spPr>
                <a:xfrm>
                  <a:off x="3078360" y="5362560"/>
                  <a:ext cx="281160" cy="14832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140" h="68">
                      <a:moveTo>
                        <a:pt x="137" y="10"/>
                      </a:moveTo>
                      <a:cubicBezTo>
                        <a:pt x="140" y="21"/>
                        <a:pt x="114" y="40"/>
                        <a:pt x="77" y="53"/>
                      </a:cubicBezTo>
                      <a:cubicBezTo>
                        <a:pt x="41" y="66"/>
                        <a:pt x="8" y="68"/>
                        <a:pt x="4" y="58"/>
                      </a:cubicBezTo>
                      <a:cubicBezTo>
                        <a:pt x="0" y="47"/>
                        <a:pt x="27" y="28"/>
                        <a:pt x="63" y="15"/>
                      </a:cubicBezTo>
                      <a:cubicBezTo>
                        <a:pt x="100" y="2"/>
                        <a:pt x="133" y="0"/>
                        <a:pt x="137" y="1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62"/>
              <p:cNvGrpSpPr/>
              <p:nvPr/>
            </p:nvGrpSpPr>
            <p:grpSpPr>
              <a:xfrm>
                <a:off x="3205800" y="6120720"/>
                <a:ext cx="128160" cy="93960"/>
                <a:chOff x="3205800" y="6120720"/>
                <a:chExt cx="128160" cy="93960"/>
              </a:xfrm>
            </p:grpSpPr>
            <p:sp>
              <p:nvSpPr>
                <p:cNvPr id="248" name="Freeform 63"/>
                <p:cNvSpPr/>
                <p:nvPr/>
              </p:nvSpPr>
              <p:spPr>
                <a:xfrm>
                  <a:off x="3205800" y="6120720"/>
                  <a:ext cx="128160" cy="93960"/>
                </a:xfrm>
                <a:custGeom>
                  <a:avLst/>
                  <a:gdLst>
                    <a:gd name="textAreaLeft" fmla="*/ 0 w 128160"/>
                    <a:gd name="textAreaRight" fmla="*/ 128520 w 12816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151" h="102">
                      <a:moveTo>
                        <a:pt x="0" y="102"/>
                      </a:moveTo>
                      <a:lnTo>
                        <a:pt x="78" y="0"/>
                      </a:lnTo>
                      <a:lnTo>
                        <a:pt x="151" y="8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64"/>
                <p:cNvSpPr/>
                <p:nvPr/>
              </p:nvSpPr>
              <p:spPr>
                <a:xfrm>
                  <a:off x="3209760" y="6125040"/>
                  <a:ext cx="120600" cy="8928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42" h="97">
                      <a:moveTo>
                        <a:pt x="0" y="97"/>
                      </a:moveTo>
                      <a:lnTo>
                        <a:pt x="73" y="0"/>
                      </a:lnTo>
                      <a:lnTo>
                        <a:pt x="142" y="8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65"/>
              <p:cNvGrpSpPr/>
              <p:nvPr/>
            </p:nvGrpSpPr>
            <p:grpSpPr>
              <a:xfrm>
                <a:off x="2761920" y="5818320"/>
                <a:ext cx="1019880" cy="230400"/>
                <a:chOff x="2761920" y="5818320"/>
                <a:chExt cx="1019880" cy="230400"/>
              </a:xfrm>
            </p:grpSpPr>
            <p:sp>
              <p:nvSpPr>
                <p:cNvPr id="251" name="Freeform 66"/>
                <p:cNvSpPr/>
                <p:nvPr/>
              </p:nvSpPr>
              <p:spPr>
                <a:xfrm>
                  <a:off x="2761920" y="5818320"/>
                  <a:ext cx="453600" cy="219240"/>
                </a:xfrm>
                <a:custGeom>
                  <a:avLst/>
                  <a:gdLst>
                    <a:gd name="textAreaLeft" fmla="*/ 0 w 453600"/>
                    <a:gd name="textAreaRight" fmla="*/ 453960 w 4536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26" h="101">
                      <a:moveTo>
                        <a:pt x="215" y="0"/>
                      </a:moveTo>
                      <a:cubicBezTo>
                        <a:pt x="183" y="15"/>
                        <a:pt x="41" y="57"/>
                        <a:pt x="0" y="85"/>
                      </a:cubicBezTo>
                      <a:cubicBezTo>
                        <a:pt x="40" y="80"/>
                        <a:pt x="196" y="84"/>
                        <a:pt x="226" y="101"/>
                      </a:cubicBezTo>
                      <a:cubicBezTo>
                        <a:pt x="226" y="101"/>
                        <a:pt x="219" y="6"/>
                        <a:pt x="215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7"/>
                <p:cNvSpPr/>
                <p:nvPr/>
              </p:nvSpPr>
              <p:spPr>
                <a:xfrm>
                  <a:off x="3324600" y="5818320"/>
                  <a:ext cx="457200" cy="23040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228" h="106">
                      <a:moveTo>
                        <a:pt x="18" y="0"/>
                      </a:moveTo>
                      <a:cubicBezTo>
                        <a:pt x="46" y="9"/>
                        <a:pt x="185" y="44"/>
                        <a:pt x="228" y="106"/>
                      </a:cubicBezTo>
                      <a:cubicBezTo>
                        <a:pt x="187" y="101"/>
                        <a:pt x="30" y="84"/>
                        <a:pt x="0" y="101"/>
                      </a:cubicBezTo>
                      <a:cubicBezTo>
                        <a:pt x="0" y="101"/>
                        <a:pt x="14" y="5"/>
                        <a:pt x="18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2783880" y="5835600"/>
                  <a:ext cx="433440" cy="20808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16" h="96">
                      <a:moveTo>
                        <a:pt x="206" y="0"/>
                      </a:moveTo>
                      <a:cubicBezTo>
                        <a:pt x="175" y="14"/>
                        <a:pt x="40" y="48"/>
                        <a:pt x="0" y="74"/>
                      </a:cubicBezTo>
                      <a:cubicBezTo>
                        <a:pt x="39" y="70"/>
                        <a:pt x="188" y="80"/>
                        <a:pt x="216" y="96"/>
                      </a:cubicBezTo>
                      <a:cubicBezTo>
                        <a:pt x="216" y="96"/>
                        <a:pt x="209" y="6"/>
                        <a:pt x="206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69"/>
                <p:cNvSpPr/>
                <p:nvPr/>
              </p:nvSpPr>
              <p:spPr>
                <a:xfrm>
                  <a:off x="3321720" y="5835600"/>
                  <a:ext cx="435960" cy="208080"/>
                </a:xfrm>
                <a:custGeom>
                  <a:avLst/>
                  <a:gdLst>
                    <a:gd name="textAreaLeft" fmla="*/ 0 w 435960"/>
                    <a:gd name="textAreaRight" fmla="*/ 436320 w 43596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17" h="96">
                      <a:moveTo>
                        <a:pt x="17" y="0"/>
                      </a:moveTo>
                      <a:cubicBezTo>
                        <a:pt x="43" y="9"/>
                        <a:pt x="176" y="37"/>
                        <a:pt x="217" y="96"/>
                      </a:cubicBezTo>
                      <a:cubicBezTo>
                        <a:pt x="178" y="92"/>
                        <a:pt x="29" y="80"/>
                        <a:pt x="0" y="96"/>
                      </a:cubicBezTo>
                      <a:cubicBezTo>
                        <a:pt x="0" y="96"/>
                        <a:pt x="14" y="5"/>
                        <a:pt x="1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70"/>
              <p:cNvGrpSpPr/>
              <p:nvPr/>
            </p:nvGrpSpPr>
            <p:grpSpPr>
              <a:xfrm>
                <a:off x="2801880" y="6281640"/>
                <a:ext cx="964080" cy="385200"/>
                <a:chOff x="2801880" y="6281640"/>
                <a:chExt cx="964080" cy="385200"/>
              </a:xfrm>
            </p:grpSpPr>
            <p:sp>
              <p:nvSpPr>
                <p:cNvPr id="256" name="Freeform 71"/>
                <p:cNvSpPr/>
                <p:nvPr/>
              </p:nvSpPr>
              <p:spPr>
                <a:xfrm>
                  <a:off x="2801880" y="6281640"/>
                  <a:ext cx="964080" cy="385200"/>
                </a:xfrm>
                <a:custGeom>
                  <a:avLst/>
                  <a:gdLst>
                    <a:gd name="textAreaLeft" fmla="*/ 0 w 964080"/>
                    <a:gd name="textAreaRight" fmla="*/ 964440 w 964080"/>
                    <a:gd name="textAreaTop" fmla="*/ 0 h 385200"/>
                    <a:gd name="textAreaBottom" fmla="*/ 385560 h 385200"/>
                  </a:gdLst>
                  <a:ahLst/>
                  <a:rect l="textAreaLeft" t="textAreaTop" r="textAreaRight" b="textAreaBottom"/>
                  <a:pathLst>
                    <a:path w="480" h="177">
                      <a:moveTo>
                        <a:pt x="480" y="2"/>
                      </a:moveTo>
                      <a:cubicBezTo>
                        <a:pt x="409" y="33"/>
                        <a:pt x="321" y="29"/>
                        <a:pt x="227" y="28"/>
                      </a:cubicBezTo>
                      <a:cubicBezTo>
                        <a:pt x="197" y="28"/>
                        <a:pt x="170" y="30"/>
                        <a:pt x="144" y="31"/>
                      </a:cubicBezTo>
                      <a:cubicBezTo>
                        <a:pt x="144" y="62"/>
                        <a:pt x="144" y="62"/>
                        <a:pt x="144" y="62"/>
                      </a:cubicBezTo>
                      <a:cubicBezTo>
                        <a:pt x="93" y="62"/>
                        <a:pt x="93" y="62"/>
                        <a:pt x="93" y="62"/>
                      </a:cubicBezTo>
                      <a:cubicBezTo>
                        <a:pt x="93" y="32"/>
                        <a:pt x="93" y="32"/>
                        <a:pt x="93" y="32"/>
                      </a:cubicBezTo>
                      <a:cubicBezTo>
                        <a:pt x="61" y="30"/>
                        <a:pt x="31" y="17"/>
                        <a:pt x="0" y="0"/>
                      </a:cubicBezTo>
                      <a:cubicBezTo>
                        <a:pt x="36" y="109"/>
                        <a:pt x="195" y="177"/>
                        <a:pt x="332" y="129"/>
                      </a:cubicBezTo>
                      <a:cubicBezTo>
                        <a:pt x="326" y="87"/>
                        <a:pt x="326" y="87"/>
                        <a:pt x="326" y="87"/>
                      </a:cubicBezTo>
                      <a:cubicBezTo>
                        <a:pt x="377" y="79"/>
                        <a:pt x="377" y="79"/>
                        <a:pt x="377" y="79"/>
                      </a:cubicBezTo>
                      <a:cubicBezTo>
                        <a:pt x="381" y="107"/>
                        <a:pt x="381" y="107"/>
                        <a:pt x="381" y="107"/>
                      </a:cubicBezTo>
                      <a:cubicBezTo>
                        <a:pt x="419" y="84"/>
                        <a:pt x="453" y="46"/>
                        <a:pt x="480" y="2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2"/>
                <p:cNvSpPr/>
                <p:nvPr/>
              </p:nvSpPr>
              <p:spPr>
                <a:xfrm>
                  <a:off x="2823840" y="6294600"/>
                  <a:ext cx="920160" cy="352800"/>
                </a:xfrm>
                <a:custGeom>
                  <a:avLst/>
                  <a:gdLst>
                    <a:gd name="textAreaLeft" fmla="*/ 0 w 920160"/>
                    <a:gd name="textAreaRight" fmla="*/ 920520 w 92016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458" h="162">
                      <a:moveTo>
                        <a:pt x="458" y="0"/>
                      </a:moveTo>
                      <a:cubicBezTo>
                        <a:pt x="390" y="30"/>
                        <a:pt x="306" y="20"/>
                        <a:pt x="216" y="19"/>
                      </a:cubicBezTo>
                      <a:cubicBezTo>
                        <a:pt x="188" y="19"/>
                        <a:pt x="162" y="21"/>
                        <a:pt x="137" y="22"/>
                      </a:cubicBezTo>
                      <a:cubicBezTo>
                        <a:pt x="137" y="52"/>
                        <a:pt x="137" y="52"/>
                        <a:pt x="137" y="52"/>
                      </a:cubicBezTo>
                      <a:cubicBezTo>
                        <a:pt x="88" y="52"/>
                        <a:pt x="88" y="52"/>
                        <a:pt x="88" y="52"/>
                      </a:cubicBezTo>
                      <a:cubicBezTo>
                        <a:pt x="88" y="23"/>
                        <a:pt x="88" y="23"/>
                        <a:pt x="88" y="23"/>
                      </a:cubicBezTo>
                      <a:cubicBezTo>
                        <a:pt x="58" y="21"/>
                        <a:pt x="30" y="16"/>
                        <a:pt x="0" y="0"/>
                      </a:cubicBezTo>
                      <a:cubicBezTo>
                        <a:pt x="34" y="103"/>
                        <a:pt x="186" y="162"/>
                        <a:pt x="317" y="116"/>
                      </a:cubicBezTo>
                      <a:cubicBezTo>
                        <a:pt x="311" y="75"/>
                        <a:pt x="311" y="75"/>
                        <a:pt x="311" y="75"/>
                      </a:cubicBezTo>
                      <a:cubicBezTo>
                        <a:pt x="359" y="68"/>
                        <a:pt x="359" y="68"/>
                        <a:pt x="359" y="68"/>
                      </a:cubicBezTo>
                      <a:cubicBezTo>
                        <a:pt x="363" y="94"/>
                        <a:pt x="363" y="94"/>
                        <a:pt x="363" y="94"/>
                      </a:cubicBezTo>
                      <a:cubicBezTo>
                        <a:pt x="399" y="73"/>
                        <a:pt x="432" y="42"/>
                        <a:pt x="458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1"/>
                    </a:gs>
                    <a:gs pos="100000">
                      <a:srgbClr val="ffff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Group 73"/>
            <p:cNvGrpSpPr/>
            <p:nvPr/>
          </p:nvGrpSpPr>
          <p:grpSpPr>
            <a:xfrm>
              <a:off x="7273800" y="5254560"/>
              <a:ext cx="1755000" cy="1673280"/>
              <a:chOff x="7273800" y="5254560"/>
              <a:chExt cx="1755000" cy="1673280"/>
            </a:xfrm>
          </p:grpSpPr>
          <p:pic>
            <p:nvPicPr>
              <p:cNvPr id="259" name="Picture 74" descr="Unbenannt-1"/>
              <p:cNvPicPr/>
              <p:nvPr/>
            </p:nvPicPr>
            <p:blipFill>
              <a:blip r:embed="rId5"/>
              <a:stretch/>
            </p:blipFill>
            <p:spPr>
              <a:xfrm>
                <a:off x="7476480" y="5492880"/>
                <a:ext cx="1239840" cy="124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75"/>
              <p:cNvGrpSpPr/>
              <p:nvPr/>
            </p:nvGrpSpPr>
            <p:grpSpPr>
              <a:xfrm>
                <a:off x="7273800" y="5254560"/>
                <a:ext cx="1755000" cy="1673280"/>
                <a:chOff x="7273800" y="5254560"/>
                <a:chExt cx="1755000" cy="1673280"/>
              </a:xfrm>
            </p:grpSpPr>
            <p:sp>
              <p:nvSpPr>
                <p:cNvPr id="261" name="Freeform 76"/>
                <p:cNvSpPr/>
                <p:nvPr/>
              </p:nvSpPr>
              <p:spPr>
                <a:xfrm>
                  <a:off x="8106120" y="5289840"/>
                  <a:ext cx="922680" cy="1306800"/>
                </a:xfrm>
                <a:custGeom>
                  <a:avLst/>
                  <a:gdLst>
                    <a:gd name="textAreaLeft" fmla="*/ 0 w 922680"/>
                    <a:gd name="textAreaRight" fmla="*/ 923040 w 922680"/>
                    <a:gd name="textAreaTop" fmla="*/ 0 h 1306800"/>
                    <a:gd name="textAreaBottom" fmla="*/ 1307160 h 1306800"/>
                  </a:gdLst>
                  <a:ahLst/>
                  <a:rect l="textAreaLeft" t="textAreaTop" r="textAreaRight" b="textAreaBottom"/>
                  <a:pathLst>
                    <a:path w="511" h="562">
                      <a:moveTo>
                        <a:pt x="402" y="239"/>
                      </a:moveTo>
                      <a:cubicBezTo>
                        <a:pt x="355" y="96"/>
                        <a:pt x="246" y="54"/>
                        <a:pt x="156" y="60"/>
                      </a:cubicBezTo>
                      <a:cubicBezTo>
                        <a:pt x="128" y="69"/>
                        <a:pt x="66" y="92"/>
                        <a:pt x="0" y="145"/>
                      </a:cubicBezTo>
                      <a:cubicBezTo>
                        <a:pt x="290" y="0"/>
                        <a:pt x="511" y="312"/>
                        <a:pt x="288" y="562"/>
                      </a:cubicBezTo>
                      <a:cubicBezTo>
                        <a:pt x="376" y="517"/>
                        <a:pt x="449" y="382"/>
                        <a:pt x="402" y="23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77"/>
                <p:cNvSpPr/>
                <p:nvPr/>
              </p:nvSpPr>
              <p:spPr>
                <a:xfrm>
                  <a:off x="7318800" y="5412960"/>
                  <a:ext cx="787320" cy="1400400"/>
                </a:xfrm>
                <a:custGeom>
                  <a:avLst/>
                  <a:gdLst>
                    <a:gd name="textAreaLeft" fmla="*/ 0 w 787320"/>
                    <a:gd name="textAreaRight" fmla="*/ 787680 w 787320"/>
                    <a:gd name="textAreaTop" fmla="*/ 0 h 1400400"/>
                    <a:gd name="textAreaBottom" fmla="*/ 1400760 h 1400400"/>
                  </a:gdLst>
                  <a:ahLst/>
                  <a:rect l="textAreaLeft" t="textAreaTop" r="textAreaRight" b="textAreaBottom"/>
                  <a:pathLst>
                    <a:path w="436" h="602">
                      <a:moveTo>
                        <a:pt x="436" y="92"/>
                      </a:moveTo>
                      <a:cubicBezTo>
                        <a:pt x="204" y="0"/>
                        <a:pt x="0" y="250"/>
                        <a:pt x="143" y="513"/>
                      </a:cubicBezTo>
                      <a:cubicBezTo>
                        <a:pt x="169" y="541"/>
                        <a:pt x="179" y="564"/>
                        <a:pt x="240" y="582"/>
                      </a:cubicBezTo>
                      <a:cubicBezTo>
                        <a:pt x="301" y="600"/>
                        <a:pt x="318" y="602"/>
                        <a:pt x="352" y="594"/>
                      </a:cubicBezTo>
                      <a:cubicBezTo>
                        <a:pt x="175" y="572"/>
                        <a:pt x="107" y="167"/>
                        <a:pt x="436" y="9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78"/>
                <p:cNvSpPr/>
                <p:nvPr/>
              </p:nvSpPr>
              <p:spPr>
                <a:xfrm>
                  <a:off x="7594560" y="5626440"/>
                  <a:ext cx="900000" cy="1301040"/>
                </a:xfrm>
                <a:custGeom>
                  <a:avLst/>
                  <a:gdLst>
                    <a:gd name="textAreaLeft" fmla="*/ 0 w 900000"/>
                    <a:gd name="textAreaRight" fmla="*/ 900360 w 900000"/>
                    <a:gd name="textAreaTop" fmla="*/ 0 h 1301040"/>
                    <a:gd name="textAreaBottom" fmla="*/ 1301400 h 1301040"/>
                  </a:gdLst>
                  <a:ahLst/>
                  <a:rect l="textAreaLeft" t="textAreaTop" r="textAreaRight" b="textAreaBottom"/>
                  <a:pathLst>
                    <a:path w="498" h="559">
                      <a:moveTo>
                        <a:pt x="283" y="0"/>
                      </a:moveTo>
                      <a:cubicBezTo>
                        <a:pt x="38" y="75"/>
                        <a:pt x="0" y="367"/>
                        <a:pt x="199" y="502"/>
                      </a:cubicBezTo>
                      <a:cubicBezTo>
                        <a:pt x="322" y="559"/>
                        <a:pt x="376" y="490"/>
                        <a:pt x="389" y="472"/>
                      </a:cubicBezTo>
                      <a:cubicBezTo>
                        <a:pt x="498" y="338"/>
                        <a:pt x="420" y="39"/>
                        <a:pt x="28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79"/>
                <p:cNvSpPr/>
                <p:nvPr/>
              </p:nvSpPr>
              <p:spPr>
                <a:xfrm>
                  <a:off x="8106120" y="5370480"/>
                  <a:ext cx="258480" cy="255960"/>
                </a:xfrm>
                <a:custGeom>
                  <a:avLst/>
                  <a:gdLst>
                    <a:gd name="textAreaLeft" fmla="*/ 0 w 258480"/>
                    <a:gd name="textAreaRight" fmla="*/ 258840 w 258480"/>
                    <a:gd name="textAreaTop" fmla="*/ 0 h 255960"/>
                    <a:gd name="textAreaBottom" fmla="*/ 256320 h 255960"/>
                  </a:gdLst>
                  <a:ahLst/>
                  <a:rect l="textAreaLeft" t="textAreaTop" r="textAreaRight" b="textAreaBottom"/>
                  <a:pathLst>
                    <a:path w="143" h="110">
                      <a:moveTo>
                        <a:pt x="0" y="110"/>
                      </a:moveTo>
                      <a:cubicBezTo>
                        <a:pt x="48" y="69"/>
                        <a:pt x="108" y="12"/>
                        <a:pt x="143" y="18"/>
                      </a:cubicBezTo>
                      <a:cubicBezTo>
                        <a:pt x="110" y="3"/>
                        <a:pt x="96" y="0"/>
                        <a:pt x="46" y="24"/>
                      </a:cubicBezTo>
                      <a:cubicBezTo>
                        <a:pt x="18" y="42"/>
                        <a:pt x="8" y="90"/>
                        <a:pt x="0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0"/>
                <p:cNvSpPr/>
                <p:nvPr/>
              </p:nvSpPr>
              <p:spPr>
                <a:xfrm>
                  <a:off x="7273800" y="5366520"/>
                  <a:ext cx="828720" cy="1239840"/>
                </a:xfrm>
                <a:custGeom>
                  <a:avLst/>
                  <a:gdLst>
                    <a:gd name="textAreaLeft" fmla="*/ 0 w 828720"/>
                    <a:gd name="textAreaRight" fmla="*/ 829080 w 828720"/>
                    <a:gd name="textAreaTop" fmla="*/ 0 h 1239840"/>
                    <a:gd name="textAreaBottom" fmla="*/ 1240200 h 1239840"/>
                  </a:gdLst>
                  <a:ahLst/>
                  <a:rect l="textAreaLeft" t="textAreaTop" r="textAreaRight" b="textAreaBottom"/>
                  <a:pathLst>
                    <a:path w="459" h="533">
                      <a:moveTo>
                        <a:pt x="459" y="111"/>
                      </a:moveTo>
                      <a:cubicBezTo>
                        <a:pt x="434" y="99"/>
                        <a:pt x="374" y="56"/>
                        <a:pt x="347" y="42"/>
                      </a:cubicBezTo>
                      <a:cubicBezTo>
                        <a:pt x="321" y="38"/>
                        <a:pt x="308" y="29"/>
                        <a:pt x="244" y="51"/>
                      </a:cubicBezTo>
                      <a:cubicBezTo>
                        <a:pt x="183" y="72"/>
                        <a:pt x="57" y="190"/>
                        <a:pt x="76" y="324"/>
                      </a:cubicBezTo>
                      <a:cubicBezTo>
                        <a:pt x="94" y="458"/>
                        <a:pt x="98" y="498"/>
                        <a:pt x="168" y="533"/>
                      </a:cubicBezTo>
                      <a:cubicBezTo>
                        <a:pt x="0" y="296"/>
                        <a:pt x="217" y="0"/>
                        <a:pt x="459" y="1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81"/>
                <p:cNvSpPr/>
                <p:nvPr/>
              </p:nvSpPr>
              <p:spPr>
                <a:xfrm>
                  <a:off x="8106120" y="5267880"/>
                  <a:ext cx="704160" cy="1519560"/>
                </a:xfrm>
                <a:custGeom>
                  <a:avLst/>
                  <a:gdLst>
                    <a:gd name="textAreaLeft" fmla="*/ 0 w 704160"/>
                    <a:gd name="textAreaRight" fmla="*/ 704520 w 704160"/>
                    <a:gd name="textAreaTop" fmla="*/ 0 h 1519560"/>
                    <a:gd name="textAreaBottom" fmla="*/ 1519920 h 1519560"/>
                  </a:gdLst>
                  <a:ahLst/>
                  <a:rect l="textAreaLeft" t="textAreaTop" r="textAreaRight" b="textAreaBottom"/>
                  <a:pathLst>
                    <a:path w="390" h="653">
                      <a:moveTo>
                        <a:pt x="0" y="154"/>
                      </a:moveTo>
                      <a:cubicBezTo>
                        <a:pt x="262" y="217"/>
                        <a:pt x="181" y="607"/>
                        <a:pt x="106" y="626"/>
                      </a:cubicBezTo>
                      <a:cubicBezTo>
                        <a:pt x="191" y="653"/>
                        <a:pt x="246" y="613"/>
                        <a:pt x="288" y="571"/>
                      </a:cubicBezTo>
                      <a:cubicBezTo>
                        <a:pt x="390" y="458"/>
                        <a:pt x="379" y="0"/>
                        <a:pt x="0" y="15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82"/>
                <p:cNvSpPr/>
                <p:nvPr/>
              </p:nvSpPr>
              <p:spPr>
                <a:xfrm>
                  <a:off x="7782840" y="5529240"/>
                  <a:ext cx="1134360" cy="1398600"/>
                </a:xfrm>
                <a:custGeom>
                  <a:avLst/>
                  <a:gdLst>
                    <a:gd name="textAreaLeft" fmla="*/ 0 w 1134360"/>
                    <a:gd name="textAreaRight" fmla="*/ 1134720 w 1134360"/>
                    <a:gd name="textAreaTop" fmla="*/ 0 h 1398600"/>
                    <a:gd name="textAreaBottom" fmla="*/ 1398600 h 1398600"/>
                  </a:gdLst>
                  <a:ahLst/>
                  <a:rect l="textAreaLeft" t="textAreaTop" r="textAreaRight" b="textAreaBottom"/>
                  <a:pathLst>
                    <a:path w="628" h="601">
                      <a:moveTo>
                        <a:pt x="581" y="136"/>
                      </a:moveTo>
                      <a:cubicBezTo>
                        <a:pt x="560" y="72"/>
                        <a:pt x="526" y="28"/>
                        <a:pt x="487" y="0"/>
                      </a:cubicBezTo>
                      <a:cubicBezTo>
                        <a:pt x="511" y="24"/>
                        <a:pt x="461" y="31"/>
                        <a:pt x="389" y="17"/>
                      </a:cubicBezTo>
                      <a:cubicBezTo>
                        <a:pt x="590" y="169"/>
                        <a:pt x="436" y="293"/>
                        <a:pt x="316" y="168"/>
                      </a:cubicBezTo>
                      <a:cubicBezTo>
                        <a:pt x="409" y="523"/>
                        <a:pt x="162" y="530"/>
                        <a:pt x="34" y="507"/>
                      </a:cubicBezTo>
                      <a:cubicBezTo>
                        <a:pt x="29" y="518"/>
                        <a:pt x="18" y="530"/>
                        <a:pt x="0" y="537"/>
                      </a:cubicBezTo>
                      <a:cubicBezTo>
                        <a:pt x="48" y="551"/>
                        <a:pt x="65" y="551"/>
                        <a:pt x="95" y="544"/>
                      </a:cubicBezTo>
                      <a:cubicBezTo>
                        <a:pt x="218" y="601"/>
                        <a:pt x="272" y="532"/>
                        <a:pt x="285" y="514"/>
                      </a:cubicBezTo>
                      <a:cubicBezTo>
                        <a:pt x="370" y="541"/>
                        <a:pt x="425" y="501"/>
                        <a:pt x="467" y="459"/>
                      </a:cubicBezTo>
                      <a:cubicBezTo>
                        <a:pt x="555" y="414"/>
                        <a:pt x="628" y="279"/>
                        <a:pt x="581" y="136"/>
                      </a:cubicBezTo>
                      <a:close/>
                    </a:path>
                  </a:pathLst>
                </a:custGeom>
                <a:solidFill>
                  <a:srgbClr val="f27b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Group 83"/>
                <p:cNvGrpSpPr/>
                <p:nvPr/>
              </p:nvGrpSpPr>
              <p:grpSpPr>
                <a:xfrm>
                  <a:off x="7273800" y="5267880"/>
                  <a:ext cx="1755000" cy="1659600"/>
                  <a:chOff x="7273800" y="5267880"/>
                  <a:chExt cx="1755000" cy="1659600"/>
                </a:xfrm>
              </p:grpSpPr>
              <p:sp>
                <p:nvSpPr>
                  <p:cNvPr id="269" name="Freeform 84"/>
                  <p:cNvSpPr/>
                  <p:nvPr/>
                </p:nvSpPr>
                <p:spPr>
                  <a:xfrm>
                    <a:off x="8106120" y="5267880"/>
                    <a:ext cx="922680" cy="1328400"/>
                  </a:xfrm>
                  <a:custGeom>
                    <a:avLst/>
                    <a:gdLst>
                      <a:gd name="textAreaLeft" fmla="*/ 0 w 922680"/>
                      <a:gd name="textAreaRight" fmla="*/ 923040 w 922680"/>
                      <a:gd name="textAreaTop" fmla="*/ 0 h 1328400"/>
                      <a:gd name="textAreaBottom" fmla="*/ 1328760 h 1328400"/>
                    </a:gdLst>
                    <a:ahLst/>
                    <a:rect l="textAreaLeft" t="textAreaTop" r="textAreaRight" b="textAreaBottom"/>
                    <a:pathLst>
                      <a:path w="511" h="571">
                        <a:moveTo>
                          <a:pt x="0" y="154"/>
                        </a:moveTo>
                        <a:cubicBezTo>
                          <a:pt x="379" y="0"/>
                          <a:pt x="390" y="458"/>
                          <a:pt x="288" y="571"/>
                        </a:cubicBezTo>
                        <a:cubicBezTo>
                          <a:pt x="511" y="321"/>
                          <a:pt x="290" y="9"/>
                          <a:pt x="0" y="154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5"/>
                  <p:cNvSpPr/>
                  <p:nvPr/>
                </p:nvSpPr>
                <p:spPr>
                  <a:xfrm>
                    <a:off x="7512120" y="5626080"/>
                    <a:ext cx="594000" cy="1167840"/>
                  </a:xfrm>
                  <a:custGeom>
                    <a:avLst/>
                    <a:gdLst>
                      <a:gd name="textAreaLeft" fmla="*/ 0 w 594000"/>
                      <a:gd name="textAreaRight" fmla="*/ 594000 w 594000"/>
                      <a:gd name="textAreaTop" fmla="*/ 0 h 1167840"/>
                      <a:gd name="textAreaBottom" fmla="*/ 1168200 h 1167840"/>
                    </a:gdLst>
                    <a:ahLst/>
                    <a:rect l="textAreaLeft" t="textAreaTop" r="textAreaRight" b="textAreaBottom"/>
                    <a:pathLst>
                      <a:path w="329" h="502">
                        <a:moveTo>
                          <a:pt x="329" y="0"/>
                        </a:moveTo>
                        <a:cubicBezTo>
                          <a:pt x="0" y="75"/>
                          <a:pt x="68" y="480"/>
                          <a:pt x="245" y="502"/>
                        </a:cubicBezTo>
                        <a:cubicBezTo>
                          <a:pt x="46" y="367"/>
                          <a:pt x="84" y="75"/>
                          <a:pt x="329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6"/>
                  <p:cNvSpPr/>
                  <p:nvPr/>
                </p:nvSpPr>
                <p:spPr>
                  <a:xfrm>
                    <a:off x="7273800" y="5366160"/>
                    <a:ext cx="832320" cy="1239840"/>
                  </a:xfrm>
                  <a:custGeom>
                    <a:avLst/>
                    <a:gdLst>
                      <a:gd name="textAreaLeft" fmla="*/ 0 w 832320"/>
                      <a:gd name="textAreaRight" fmla="*/ 832680 w 832320"/>
                      <a:gd name="textAreaTop" fmla="*/ 0 h 1239840"/>
                      <a:gd name="textAreaBottom" fmla="*/ 1240200 h 1239840"/>
                    </a:gdLst>
                    <a:ahLst/>
                    <a:rect l="textAreaLeft" t="textAreaTop" r="textAreaRight" b="textAreaBottom"/>
                    <a:pathLst>
                      <a:path w="461" h="533">
                        <a:moveTo>
                          <a:pt x="461" y="112"/>
                        </a:moveTo>
                        <a:cubicBezTo>
                          <a:pt x="461" y="112"/>
                          <a:pt x="460" y="112"/>
                          <a:pt x="459" y="111"/>
                        </a:cubicBezTo>
                        <a:cubicBezTo>
                          <a:pt x="217" y="0"/>
                          <a:pt x="0" y="296"/>
                          <a:pt x="168" y="533"/>
                        </a:cubicBezTo>
                        <a:cubicBezTo>
                          <a:pt x="25" y="270"/>
                          <a:pt x="229" y="20"/>
                          <a:pt x="461" y="112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7"/>
                  <p:cNvSpPr/>
                  <p:nvPr/>
                </p:nvSpPr>
                <p:spPr>
                  <a:xfrm>
                    <a:off x="8106120" y="5626080"/>
                    <a:ext cx="473040" cy="109800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1098000"/>
                      <a:gd name="textAreaBottom" fmla="*/ 1098360 h 1098000"/>
                    </a:gdLst>
                    <a:ahLst/>
                    <a:rect l="textAreaLeft" t="textAreaTop" r="textAreaRight" b="textAreaBottom"/>
                    <a:pathLst>
                      <a:path w="262" h="472">
                        <a:moveTo>
                          <a:pt x="0" y="0"/>
                        </a:moveTo>
                        <a:cubicBezTo>
                          <a:pt x="137" y="39"/>
                          <a:pt x="215" y="338"/>
                          <a:pt x="106" y="472"/>
                        </a:cubicBezTo>
                        <a:cubicBezTo>
                          <a:pt x="181" y="453"/>
                          <a:pt x="262" y="6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8"/>
                  <p:cNvSpPr/>
                  <p:nvPr/>
                </p:nvSpPr>
                <p:spPr>
                  <a:xfrm>
                    <a:off x="8106120" y="5398920"/>
                    <a:ext cx="281160" cy="22716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227160"/>
                      <a:gd name="textAreaBottom" fmla="*/ 227520 h 227160"/>
                    </a:gdLst>
                    <a:ahLst/>
                    <a:rect l="textAreaLeft" t="textAreaTop" r="textAreaRight" b="textAreaBottom"/>
                    <a:pathLst>
                      <a:path w="156" h="98">
                        <a:moveTo>
                          <a:pt x="0" y="98"/>
                        </a:moveTo>
                        <a:cubicBezTo>
                          <a:pt x="66" y="45"/>
                          <a:pt x="128" y="22"/>
                          <a:pt x="156" y="13"/>
                        </a:cubicBezTo>
                        <a:cubicBezTo>
                          <a:pt x="152" y="10"/>
                          <a:pt x="147" y="8"/>
                          <a:pt x="143" y="6"/>
                        </a:cubicBezTo>
                        <a:cubicBezTo>
                          <a:pt x="108" y="0"/>
                          <a:pt x="48" y="57"/>
                          <a:pt x="0" y="98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9"/>
                  <p:cNvSpPr/>
                  <p:nvPr/>
                </p:nvSpPr>
                <p:spPr>
                  <a:xfrm>
                    <a:off x="8098560" y="5426280"/>
                    <a:ext cx="90720" cy="199800"/>
                  </a:xfrm>
                  <a:custGeom>
                    <a:avLst/>
                    <a:gdLst>
                      <a:gd name="textAreaLeft" fmla="*/ 0 w 90720"/>
                      <a:gd name="textAreaRight" fmla="*/ 90720 w 907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50" h="86">
                        <a:moveTo>
                          <a:pt x="4" y="86"/>
                        </a:moveTo>
                        <a:cubicBezTo>
                          <a:pt x="12" y="66"/>
                          <a:pt x="22" y="18"/>
                          <a:pt x="50" y="0"/>
                        </a:cubicBezTo>
                        <a:cubicBezTo>
                          <a:pt x="24" y="3"/>
                          <a:pt x="0" y="49"/>
                          <a:pt x="4" y="86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90"/>
                  <p:cNvSpPr/>
                  <p:nvPr/>
                </p:nvSpPr>
                <p:spPr>
                  <a:xfrm>
                    <a:off x="7900560" y="5456880"/>
                    <a:ext cx="205560" cy="169200"/>
                  </a:xfrm>
                  <a:custGeom>
                    <a:avLst/>
                    <a:gdLst>
                      <a:gd name="textAreaLeft" fmla="*/ 0 w 205560"/>
                      <a:gd name="textAreaRight" fmla="*/ 205920 w 205560"/>
                      <a:gd name="textAreaTop" fmla="*/ 0 h 169200"/>
                      <a:gd name="textAreaBottom" fmla="*/ 169200 h 169200"/>
                    </a:gdLst>
                    <a:ahLst/>
                    <a:rect l="textAreaLeft" t="textAreaTop" r="textAreaRight" b="textAreaBottom"/>
                    <a:pathLst>
                      <a:path w="114" h="73">
                        <a:moveTo>
                          <a:pt x="114" y="73"/>
                        </a:moveTo>
                        <a:cubicBezTo>
                          <a:pt x="92" y="44"/>
                          <a:pt x="21" y="0"/>
                          <a:pt x="0" y="3"/>
                        </a:cubicBezTo>
                        <a:cubicBezTo>
                          <a:pt x="27" y="17"/>
                          <a:pt x="87" y="60"/>
                          <a:pt x="112" y="72"/>
                        </a:cubicBezTo>
                        <a:cubicBezTo>
                          <a:pt x="113" y="73"/>
                          <a:pt x="114" y="73"/>
                          <a:pt x="114" y="73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1"/>
                  <p:cNvSpPr/>
                  <p:nvPr/>
                </p:nvSpPr>
                <p:spPr>
                  <a:xfrm>
                    <a:off x="7441200" y="5844960"/>
                    <a:ext cx="1476360" cy="1082520"/>
                  </a:xfrm>
                  <a:custGeom>
                    <a:avLst/>
                    <a:gdLst>
                      <a:gd name="textAreaLeft" fmla="*/ 0 w 1476360"/>
                      <a:gd name="textAreaRight" fmla="*/ 1476720 w 1476360"/>
                      <a:gd name="textAreaTop" fmla="*/ 0 h 1082520"/>
                      <a:gd name="textAreaBottom" fmla="*/ 1082880 h 1082520"/>
                    </a:gdLst>
                    <a:ahLst/>
                    <a:rect l="textAreaLeft" t="textAreaTop" r="textAreaRight" b="textAreaBottom"/>
                    <a:pathLst>
                      <a:path w="817" h="465">
                        <a:moveTo>
                          <a:pt x="502" y="345"/>
                        </a:moveTo>
                        <a:cubicBezTo>
                          <a:pt x="460" y="392"/>
                          <a:pt x="329" y="414"/>
                          <a:pt x="223" y="371"/>
                        </a:cubicBezTo>
                        <a:cubicBezTo>
                          <a:pt x="195" y="408"/>
                          <a:pt x="70" y="305"/>
                          <a:pt x="53" y="286"/>
                        </a:cubicBezTo>
                        <a:cubicBezTo>
                          <a:pt x="35" y="295"/>
                          <a:pt x="16" y="244"/>
                          <a:pt x="0" y="226"/>
                        </a:cubicBezTo>
                        <a:cubicBezTo>
                          <a:pt x="11" y="279"/>
                          <a:pt x="29" y="304"/>
                          <a:pt x="75" y="327"/>
                        </a:cubicBezTo>
                        <a:cubicBezTo>
                          <a:pt x="101" y="355"/>
                          <a:pt x="111" y="378"/>
                          <a:pt x="172" y="396"/>
                        </a:cubicBezTo>
                        <a:cubicBezTo>
                          <a:pt x="233" y="414"/>
                          <a:pt x="250" y="416"/>
                          <a:pt x="284" y="408"/>
                        </a:cubicBezTo>
                        <a:cubicBezTo>
                          <a:pt x="407" y="465"/>
                          <a:pt x="461" y="396"/>
                          <a:pt x="474" y="378"/>
                        </a:cubicBezTo>
                        <a:cubicBezTo>
                          <a:pt x="559" y="405"/>
                          <a:pt x="614" y="365"/>
                          <a:pt x="656" y="323"/>
                        </a:cubicBezTo>
                        <a:cubicBezTo>
                          <a:pt x="744" y="278"/>
                          <a:pt x="817" y="143"/>
                          <a:pt x="770" y="0"/>
                        </a:cubicBezTo>
                        <a:cubicBezTo>
                          <a:pt x="771" y="61"/>
                          <a:pt x="758" y="164"/>
                          <a:pt x="717" y="216"/>
                        </a:cubicBezTo>
                        <a:cubicBezTo>
                          <a:pt x="673" y="291"/>
                          <a:pt x="550" y="367"/>
                          <a:pt x="502" y="345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Freeform 92"/>
                <p:cNvSpPr/>
                <p:nvPr/>
              </p:nvSpPr>
              <p:spPr>
                <a:xfrm>
                  <a:off x="7900560" y="5370480"/>
                  <a:ext cx="288720" cy="25596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55960"/>
                    <a:gd name="textAreaBottom" fmla="*/ 256320 h 255960"/>
                  </a:gdLst>
                  <a:ahLst/>
                  <a:rect l="textAreaLeft" t="textAreaTop" r="textAreaRight" b="textAreaBottom"/>
                  <a:pathLst>
                    <a:path w="160" h="110">
                      <a:moveTo>
                        <a:pt x="114" y="110"/>
                      </a:moveTo>
                      <a:cubicBezTo>
                        <a:pt x="110" y="73"/>
                        <a:pt x="134" y="27"/>
                        <a:pt x="160" y="24"/>
                      </a:cubicBezTo>
                      <a:cubicBezTo>
                        <a:pt x="114" y="0"/>
                        <a:pt x="39" y="13"/>
                        <a:pt x="0" y="40"/>
                      </a:cubicBezTo>
                      <a:cubicBezTo>
                        <a:pt x="21" y="37"/>
                        <a:pt x="92" y="81"/>
                        <a:pt x="114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3"/>
                <p:cNvSpPr/>
                <p:nvPr/>
              </p:nvSpPr>
              <p:spPr>
                <a:xfrm>
                  <a:off x="8035920" y="5554800"/>
                  <a:ext cx="141840" cy="9720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79" h="42">
                      <a:moveTo>
                        <a:pt x="10" y="40"/>
                      </a:moveTo>
                      <a:cubicBezTo>
                        <a:pt x="47" y="21"/>
                        <a:pt x="59" y="42"/>
                        <a:pt x="67" y="42"/>
                      </a:cubicBezTo>
                      <a:cubicBezTo>
                        <a:pt x="37" y="25"/>
                        <a:pt x="70" y="20"/>
                        <a:pt x="79" y="17"/>
                      </a:cubicBezTo>
                      <a:cubicBezTo>
                        <a:pt x="37" y="24"/>
                        <a:pt x="66" y="10"/>
                        <a:pt x="74" y="4"/>
                      </a:cubicBezTo>
                      <a:cubicBezTo>
                        <a:pt x="62" y="12"/>
                        <a:pt x="41" y="23"/>
                        <a:pt x="43" y="0"/>
                      </a:cubicBezTo>
                      <a:cubicBezTo>
                        <a:pt x="36" y="25"/>
                        <a:pt x="21" y="13"/>
                        <a:pt x="9" y="6"/>
                      </a:cubicBezTo>
                      <a:cubicBezTo>
                        <a:pt x="17" y="18"/>
                        <a:pt x="33" y="21"/>
                        <a:pt x="0" y="19"/>
                      </a:cubicBezTo>
                      <a:cubicBezTo>
                        <a:pt x="16" y="25"/>
                        <a:pt x="44" y="21"/>
                        <a:pt x="10" y="4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94"/>
                <p:cNvSpPr/>
                <p:nvPr/>
              </p:nvSpPr>
              <p:spPr>
                <a:xfrm>
                  <a:off x="7911360" y="5277960"/>
                  <a:ext cx="240120" cy="341640"/>
                </a:xfrm>
                <a:custGeom>
                  <a:avLst/>
                  <a:gdLst>
                    <a:gd name="textAreaLeft" fmla="*/ 0 w 240120"/>
                    <a:gd name="textAreaRight" fmla="*/ 240480 w 24012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133" h="147">
                      <a:moveTo>
                        <a:pt x="133" y="0"/>
                      </a:moveTo>
                      <a:cubicBezTo>
                        <a:pt x="120" y="142"/>
                        <a:pt x="120" y="142"/>
                        <a:pt x="120" y="142"/>
                      </a:cubicBezTo>
                      <a:cubicBezTo>
                        <a:pt x="116" y="146"/>
                        <a:pt x="111" y="147"/>
                        <a:pt x="104" y="146"/>
                      </a:cubicBezTo>
                      <a:cubicBezTo>
                        <a:pt x="0" y="48"/>
                        <a:pt x="0" y="48"/>
                        <a:pt x="0" y="48"/>
                      </a:cubicBez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4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95"/>
                <p:cNvSpPr/>
                <p:nvPr/>
              </p:nvSpPr>
              <p:spPr>
                <a:xfrm>
                  <a:off x="7903800" y="5254560"/>
                  <a:ext cx="252720" cy="158400"/>
                </a:xfrm>
                <a:custGeom>
                  <a:avLst/>
                  <a:gdLst>
                    <a:gd name="textAreaLeft" fmla="*/ 0 w 252720"/>
                    <a:gd name="textAreaRight" fmla="*/ 253080 w 2527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140" h="68">
                      <a:moveTo>
                        <a:pt x="137" y="10"/>
                      </a:moveTo>
                      <a:cubicBezTo>
                        <a:pt x="140" y="21"/>
                        <a:pt x="114" y="40"/>
                        <a:pt x="77" y="53"/>
                      </a:cubicBezTo>
                      <a:cubicBezTo>
                        <a:pt x="41" y="66"/>
                        <a:pt x="8" y="68"/>
                        <a:pt x="4" y="58"/>
                      </a:cubicBezTo>
                      <a:cubicBezTo>
                        <a:pt x="0" y="47"/>
                        <a:pt x="27" y="28"/>
                        <a:pt x="63" y="15"/>
                      </a:cubicBezTo>
                      <a:cubicBezTo>
                        <a:pt x="100" y="2"/>
                        <a:pt x="133" y="0"/>
                        <a:pt x="137" y="1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96"/>
              <p:cNvGrpSpPr/>
              <p:nvPr/>
            </p:nvGrpSpPr>
            <p:grpSpPr>
              <a:xfrm>
                <a:off x="7993800" y="6164280"/>
                <a:ext cx="119160" cy="104400"/>
                <a:chOff x="7993800" y="6164280"/>
                <a:chExt cx="119160" cy="104400"/>
              </a:xfrm>
            </p:grpSpPr>
            <p:sp>
              <p:nvSpPr>
                <p:cNvPr id="282" name="Freeform 97"/>
                <p:cNvSpPr/>
                <p:nvPr/>
              </p:nvSpPr>
              <p:spPr>
                <a:xfrm>
                  <a:off x="7993800" y="6164280"/>
                  <a:ext cx="119160" cy="1044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156" h="106">
                      <a:moveTo>
                        <a:pt x="0" y="106"/>
                      </a:moveTo>
                      <a:lnTo>
                        <a:pt x="83" y="0"/>
                      </a:lnTo>
                      <a:lnTo>
                        <a:pt x="156" y="88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98"/>
                <p:cNvSpPr/>
                <p:nvPr/>
              </p:nvSpPr>
              <p:spPr>
                <a:xfrm>
                  <a:off x="7998840" y="6164280"/>
                  <a:ext cx="114120" cy="100440"/>
                </a:xfrm>
                <a:custGeom>
                  <a:avLst/>
                  <a:gdLst>
                    <a:gd name="textAreaLeft" fmla="*/ 0 w 114120"/>
                    <a:gd name="textAreaRight" fmla="*/ 114120 w 11412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49" h="102">
                      <a:moveTo>
                        <a:pt x="0" y="102"/>
                      </a:moveTo>
                      <a:lnTo>
                        <a:pt x="78" y="0"/>
                      </a:lnTo>
                      <a:lnTo>
                        <a:pt x="149" y="8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99"/>
              <p:cNvGrpSpPr/>
              <p:nvPr/>
            </p:nvGrpSpPr>
            <p:grpSpPr>
              <a:xfrm>
                <a:off x="7580160" y="5745600"/>
                <a:ext cx="982440" cy="358200"/>
                <a:chOff x="7580160" y="5745600"/>
                <a:chExt cx="982440" cy="358200"/>
              </a:xfrm>
            </p:grpSpPr>
            <p:sp>
              <p:nvSpPr>
                <p:cNvPr id="285" name="Freeform 100"/>
                <p:cNvSpPr/>
                <p:nvPr/>
              </p:nvSpPr>
              <p:spPr>
                <a:xfrm>
                  <a:off x="8125920" y="5933520"/>
                  <a:ext cx="436680" cy="170280"/>
                </a:xfrm>
                <a:custGeom>
                  <a:avLst/>
                  <a:gdLst>
                    <a:gd name="textAreaLeft" fmla="*/ 0 w 436680"/>
                    <a:gd name="textAreaRight" fmla="*/ 437040 w 43668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242" h="73">
                      <a:moveTo>
                        <a:pt x="242" y="0"/>
                      </a:moveTo>
                      <a:cubicBezTo>
                        <a:pt x="211" y="57"/>
                        <a:pt x="37" y="73"/>
                        <a:pt x="0" y="53"/>
                      </a:cubicBezTo>
                      <a:cubicBezTo>
                        <a:pt x="37" y="55"/>
                        <a:pt x="150" y="61"/>
                        <a:pt x="242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01"/>
                <p:cNvSpPr/>
                <p:nvPr/>
              </p:nvSpPr>
              <p:spPr>
                <a:xfrm>
                  <a:off x="7580160" y="5745600"/>
                  <a:ext cx="417600" cy="316080"/>
                </a:xfrm>
                <a:custGeom>
                  <a:avLst/>
                  <a:gdLst>
                    <a:gd name="textAreaLeft" fmla="*/ 0 w 417600"/>
                    <a:gd name="textAreaRight" fmla="*/ 417960 w 417600"/>
                    <a:gd name="textAreaTop" fmla="*/ 0 h 316080"/>
                    <a:gd name="textAreaBottom" fmla="*/ 316440 h 316080"/>
                  </a:gdLst>
                  <a:ahLst/>
                  <a:rect l="textAreaLeft" t="textAreaTop" r="textAreaRight" b="textAreaBottom"/>
                  <a:pathLst>
                    <a:path w="231" h="136">
                      <a:moveTo>
                        <a:pt x="47" y="0"/>
                      </a:moveTo>
                      <a:cubicBezTo>
                        <a:pt x="76" y="16"/>
                        <a:pt x="185" y="84"/>
                        <a:pt x="229" y="127"/>
                      </a:cubicBezTo>
                      <a:cubicBezTo>
                        <a:pt x="231" y="136"/>
                        <a:pt x="231" y="126"/>
                        <a:pt x="231" y="136"/>
                      </a:cubicBezTo>
                      <a:cubicBezTo>
                        <a:pt x="188" y="113"/>
                        <a:pt x="50" y="78"/>
                        <a:pt x="0" y="112"/>
                      </a:cubicBezTo>
                      <a:cubicBezTo>
                        <a:pt x="7" y="77"/>
                        <a:pt x="43" y="15"/>
                        <a:pt x="47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02"/>
                <p:cNvSpPr/>
                <p:nvPr/>
              </p:nvSpPr>
              <p:spPr>
                <a:xfrm>
                  <a:off x="7603560" y="5766120"/>
                  <a:ext cx="397440" cy="300240"/>
                </a:xfrm>
                <a:custGeom>
                  <a:avLst/>
                  <a:gdLst>
                    <a:gd name="textAreaLeft" fmla="*/ 0 w 397440"/>
                    <a:gd name="textAreaRight" fmla="*/ 397800 w 397440"/>
                    <a:gd name="textAreaTop" fmla="*/ 0 h 300240"/>
                    <a:gd name="textAreaBottom" fmla="*/ 300600 h 300240"/>
                  </a:gdLst>
                  <a:ahLst/>
                  <a:rect l="textAreaLeft" t="textAreaTop" r="textAreaRight" b="textAreaBottom"/>
                  <a:pathLst>
                    <a:path w="220" h="129">
                      <a:moveTo>
                        <a:pt x="45" y="0"/>
                      </a:moveTo>
                      <a:cubicBezTo>
                        <a:pt x="73" y="15"/>
                        <a:pt x="176" y="80"/>
                        <a:pt x="219" y="121"/>
                      </a:cubicBezTo>
                      <a:cubicBezTo>
                        <a:pt x="220" y="129"/>
                        <a:pt x="220" y="120"/>
                        <a:pt x="220" y="129"/>
                      </a:cubicBezTo>
                      <a:cubicBezTo>
                        <a:pt x="179" y="108"/>
                        <a:pt x="48" y="65"/>
                        <a:pt x="0" y="97"/>
                      </a:cubicBezTo>
                      <a:cubicBezTo>
                        <a:pt x="6" y="64"/>
                        <a:pt x="41" y="15"/>
                        <a:pt x="4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03"/>
              <p:cNvGrpSpPr/>
              <p:nvPr/>
            </p:nvGrpSpPr>
            <p:grpSpPr>
              <a:xfrm>
                <a:off x="7739280" y="6306120"/>
                <a:ext cx="854640" cy="363240"/>
                <a:chOff x="7739280" y="6306120"/>
                <a:chExt cx="854640" cy="363240"/>
              </a:xfrm>
            </p:grpSpPr>
            <p:sp>
              <p:nvSpPr>
                <p:cNvPr id="289" name="Freeform 104"/>
                <p:cNvSpPr/>
                <p:nvPr/>
              </p:nvSpPr>
              <p:spPr>
                <a:xfrm>
                  <a:off x="7739280" y="6306120"/>
                  <a:ext cx="854640" cy="363240"/>
                </a:xfrm>
                <a:custGeom>
                  <a:avLst/>
                  <a:gdLst>
                    <a:gd name="textAreaLeft" fmla="*/ 0 w 854640"/>
                    <a:gd name="textAreaRight" fmla="*/ 855000 w 85464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473" h="156">
                      <a:moveTo>
                        <a:pt x="473" y="0"/>
                      </a:moveTo>
                      <a:cubicBezTo>
                        <a:pt x="451" y="9"/>
                        <a:pt x="428" y="28"/>
                        <a:pt x="402" y="37"/>
                      </a:cubicBezTo>
                      <a:cubicBezTo>
                        <a:pt x="406" y="49"/>
                        <a:pt x="406" y="49"/>
                        <a:pt x="406" y="49"/>
                      </a:cubicBezTo>
                      <a:cubicBezTo>
                        <a:pt x="341" y="71"/>
                        <a:pt x="341" y="71"/>
                        <a:pt x="341" y="71"/>
                      </a:cubicBezTo>
                      <a:cubicBezTo>
                        <a:pt x="335" y="51"/>
                        <a:pt x="335" y="51"/>
                        <a:pt x="335" y="51"/>
                      </a:cubicBezTo>
                      <a:cubicBezTo>
                        <a:pt x="307" y="59"/>
                        <a:pt x="279" y="73"/>
                        <a:pt x="250" y="78"/>
                      </a:cubicBezTo>
                      <a:cubicBezTo>
                        <a:pt x="251" y="99"/>
                        <a:pt x="251" y="99"/>
                        <a:pt x="251" y="99"/>
                      </a:cubicBezTo>
                      <a:cubicBezTo>
                        <a:pt x="182" y="104"/>
                        <a:pt x="182" y="104"/>
                        <a:pt x="182" y="104"/>
                      </a:cubicBezTo>
                      <a:cubicBezTo>
                        <a:pt x="181" y="88"/>
                        <a:pt x="181" y="88"/>
                        <a:pt x="181" y="88"/>
                      </a:cubicBezTo>
                      <a:cubicBezTo>
                        <a:pt x="115" y="95"/>
                        <a:pt x="51" y="81"/>
                        <a:pt x="0" y="58"/>
                      </a:cubicBezTo>
                      <a:cubicBezTo>
                        <a:pt x="26" y="117"/>
                        <a:pt x="146" y="156"/>
                        <a:pt x="270" y="127"/>
                      </a:cubicBezTo>
                      <a:cubicBezTo>
                        <a:pt x="266" y="105"/>
                        <a:pt x="266" y="105"/>
                        <a:pt x="266" y="105"/>
                      </a:cubicBezTo>
                      <a:cubicBezTo>
                        <a:pt x="330" y="95"/>
                        <a:pt x="330" y="95"/>
                        <a:pt x="330" y="95"/>
                      </a:cubicBezTo>
                      <a:cubicBezTo>
                        <a:pt x="332" y="106"/>
                        <a:pt x="332" y="106"/>
                        <a:pt x="332" y="106"/>
                      </a:cubicBezTo>
                      <a:cubicBezTo>
                        <a:pt x="381" y="86"/>
                        <a:pt x="434" y="44"/>
                        <a:pt x="473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05"/>
                <p:cNvSpPr/>
                <p:nvPr/>
              </p:nvSpPr>
              <p:spPr>
                <a:xfrm>
                  <a:off x="7755120" y="6322680"/>
                  <a:ext cx="814680" cy="322920"/>
                </a:xfrm>
                <a:custGeom>
                  <a:avLst/>
                  <a:gdLst>
                    <a:gd name="textAreaLeft" fmla="*/ 0 w 814680"/>
                    <a:gd name="textAreaRight" fmla="*/ 815040 w 81468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w="451" h="139">
                      <a:moveTo>
                        <a:pt x="451" y="0"/>
                      </a:moveTo>
                      <a:cubicBezTo>
                        <a:pt x="430" y="8"/>
                        <a:pt x="408" y="17"/>
                        <a:pt x="383" y="26"/>
                      </a:cubicBezTo>
                      <a:cubicBezTo>
                        <a:pt x="387" y="37"/>
                        <a:pt x="387" y="37"/>
                        <a:pt x="387" y="37"/>
                      </a:cubicBezTo>
                      <a:cubicBezTo>
                        <a:pt x="325" y="58"/>
                        <a:pt x="325" y="58"/>
                        <a:pt x="325" y="58"/>
                      </a:cubicBezTo>
                      <a:cubicBezTo>
                        <a:pt x="320" y="46"/>
                        <a:pt x="320" y="46"/>
                        <a:pt x="320" y="46"/>
                      </a:cubicBezTo>
                      <a:cubicBezTo>
                        <a:pt x="294" y="53"/>
                        <a:pt x="266" y="60"/>
                        <a:pt x="238" y="65"/>
                      </a:cubicBezTo>
                      <a:cubicBezTo>
                        <a:pt x="240" y="85"/>
                        <a:pt x="240" y="85"/>
                        <a:pt x="240" y="85"/>
                      </a:cubicBezTo>
                      <a:cubicBezTo>
                        <a:pt x="174" y="90"/>
                        <a:pt x="174" y="90"/>
                        <a:pt x="174" y="90"/>
                      </a:cubicBezTo>
                      <a:cubicBezTo>
                        <a:pt x="173" y="75"/>
                        <a:pt x="173" y="75"/>
                        <a:pt x="173" y="75"/>
                      </a:cubicBezTo>
                      <a:cubicBezTo>
                        <a:pt x="109" y="81"/>
                        <a:pt x="49" y="76"/>
                        <a:pt x="0" y="55"/>
                      </a:cubicBezTo>
                      <a:cubicBezTo>
                        <a:pt x="25" y="111"/>
                        <a:pt x="139" y="139"/>
                        <a:pt x="257" y="111"/>
                      </a:cubicBezTo>
                      <a:cubicBezTo>
                        <a:pt x="254" y="93"/>
                        <a:pt x="254" y="93"/>
                        <a:pt x="254" y="93"/>
                      </a:cubicBezTo>
                      <a:cubicBezTo>
                        <a:pt x="319" y="83"/>
                        <a:pt x="319" y="83"/>
                        <a:pt x="319" y="83"/>
                      </a:cubicBezTo>
                      <a:cubicBezTo>
                        <a:pt x="321" y="91"/>
                        <a:pt x="321" y="91"/>
                        <a:pt x="321" y="91"/>
                      </a:cubicBezTo>
                      <a:cubicBezTo>
                        <a:pt x="368" y="71"/>
                        <a:pt x="413" y="41"/>
                        <a:pt x="451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1"/>
                    </a:gs>
                    <a:gs pos="100000">
                      <a:srgbClr val="ffff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106"/>
            <p:cNvGrpSpPr/>
            <p:nvPr/>
          </p:nvGrpSpPr>
          <p:grpSpPr>
            <a:xfrm>
              <a:off x="4630320" y="5673600"/>
              <a:ext cx="1281960" cy="1246320"/>
              <a:chOff x="4630320" y="5673600"/>
              <a:chExt cx="1281960" cy="1246320"/>
            </a:xfrm>
          </p:grpSpPr>
          <p:pic>
            <p:nvPicPr>
              <p:cNvPr id="292" name="Picture 107" descr="Unbenannt-1"/>
              <p:cNvPicPr/>
              <p:nvPr/>
            </p:nvPicPr>
            <p:blipFill>
              <a:blip r:embed="rId7"/>
              <a:stretch/>
            </p:blipFill>
            <p:spPr>
              <a:xfrm>
                <a:off x="4823280" y="5851080"/>
                <a:ext cx="905760" cy="928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Group 108"/>
              <p:cNvGrpSpPr/>
              <p:nvPr/>
            </p:nvGrpSpPr>
            <p:grpSpPr>
              <a:xfrm>
                <a:off x="4630320" y="5673600"/>
                <a:ext cx="1281960" cy="1246320"/>
                <a:chOff x="4630320" y="5673600"/>
                <a:chExt cx="1281960" cy="1246320"/>
              </a:xfrm>
            </p:grpSpPr>
            <p:sp>
              <p:nvSpPr>
                <p:cNvPr id="294" name="Freeform 109"/>
                <p:cNvSpPr/>
                <p:nvPr/>
              </p:nvSpPr>
              <p:spPr>
                <a:xfrm>
                  <a:off x="5238360" y="5699880"/>
                  <a:ext cx="673920" cy="973440"/>
                </a:xfrm>
                <a:custGeom>
                  <a:avLst/>
                  <a:gdLst>
                    <a:gd name="textAreaLeft" fmla="*/ 0 w 673920"/>
                    <a:gd name="textAreaRight" fmla="*/ 674280 w 673920"/>
                    <a:gd name="textAreaTop" fmla="*/ 0 h 973440"/>
                    <a:gd name="textAreaBottom" fmla="*/ 973800 h 973440"/>
                  </a:gdLst>
                  <a:ahLst/>
                  <a:rect l="textAreaLeft" t="textAreaTop" r="textAreaRight" b="textAreaBottom"/>
                  <a:pathLst>
                    <a:path w="511" h="562">
                      <a:moveTo>
                        <a:pt x="402" y="239"/>
                      </a:moveTo>
                      <a:cubicBezTo>
                        <a:pt x="355" y="96"/>
                        <a:pt x="246" y="54"/>
                        <a:pt x="156" y="60"/>
                      </a:cubicBezTo>
                      <a:cubicBezTo>
                        <a:pt x="128" y="69"/>
                        <a:pt x="66" y="92"/>
                        <a:pt x="0" y="145"/>
                      </a:cubicBezTo>
                      <a:cubicBezTo>
                        <a:pt x="290" y="0"/>
                        <a:pt x="511" y="312"/>
                        <a:pt x="288" y="562"/>
                      </a:cubicBezTo>
                      <a:cubicBezTo>
                        <a:pt x="376" y="517"/>
                        <a:pt x="449" y="382"/>
                        <a:pt x="402" y="23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10"/>
                <p:cNvSpPr/>
                <p:nvPr/>
              </p:nvSpPr>
              <p:spPr>
                <a:xfrm>
                  <a:off x="4663080" y="5791680"/>
                  <a:ext cx="574920" cy="1042920"/>
                </a:xfrm>
                <a:custGeom>
                  <a:avLst/>
                  <a:gdLst>
                    <a:gd name="textAreaLeft" fmla="*/ 0 w 574920"/>
                    <a:gd name="textAreaRight" fmla="*/ 575280 w 574920"/>
                    <a:gd name="textAreaTop" fmla="*/ 0 h 1042920"/>
                    <a:gd name="textAreaBottom" fmla="*/ 1043280 h 1042920"/>
                  </a:gdLst>
                  <a:ahLst/>
                  <a:rect l="textAreaLeft" t="textAreaTop" r="textAreaRight" b="textAreaBottom"/>
                  <a:pathLst>
                    <a:path w="436" h="602">
                      <a:moveTo>
                        <a:pt x="436" y="92"/>
                      </a:moveTo>
                      <a:cubicBezTo>
                        <a:pt x="204" y="0"/>
                        <a:pt x="0" y="250"/>
                        <a:pt x="143" y="513"/>
                      </a:cubicBezTo>
                      <a:cubicBezTo>
                        <a:pt x="169" y="541"/>
                        <a:pt x="179" y="564"/>
                        <a:pt x="240" y="582"/>
                      </a:cubicBezTo>
                      <a:cubicBezTo>
                        <a:pt x="301" y="600"/>
                        <a:pt x="318" y="602"/>
                        <a:pt x="352" y="594"/>
                      </a:cubicBezTo>
                      <a:cubicBezTo>
                        <a:pt x="175" y="572"/>
                        <a:pt x="107" y="167"/>
                        <a:pt x="436" y="9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11"/>
                <p:cNvSpPr/>
                <p:nvPr/>
              </p:nvSpPr>
              <p:spPr>
                <a:xfrm>
                  <a:off x="4864680" y="5950440"/>
                  <a:ext cx="657360" cy="969120"/>
                </a:xfrm>
                <a:custGeom>
                  <a:avLst/>
                  <a:gdLst>
                    <a:gd name="textAreaLeft" fmla="*/ 0 w 657360"/>
                    <a:gd name="textAreaRight" fmla="*/ 657720 w 657360"/>
                    <a:gd name="textAreaTop" fmla="*/ 0 h 969120"/>
                    <a:gd name="textAreaBottom" fmla="*/ 969480 h 969120"/>
                  </a:gdLst>
                  <a:ahLst/>
                  <a:rect l="textAreaLeft" t="textAreaTop" r="textAreaRight" b="textAreaBottom"/>
                  <a:pathLst>
                    <a:path w="498" h="559">
                      <a:moveTo>
                        <a:pt x="283" y="0"/>
                      </a:moveTo>
                      <a:cubicBezTo>
                        <a:pt x="38" y="75"/>
                        <a:pt x="0" y="367"/>
                        <a:pt x="199" y="502"/>
                      </a:cubicBezTo>
                      <a:cubicBezTo>
                        <a:pt x="322" y="559"/>
                        <a:pt x="376" y="490"/>
                        <a:pt x="389" y="472"/>
                      </a:cubicBezTo>
                      <a:cubicBezTo>
                        <a:pt x="498" y="338"/>
                        <a:pt x="420" y="39"/>
                        <a:pt x="28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112"/>
                <p:cNvSpPr/>
                <p:nvPr/>
              </p:nvSpPr>
              <p:spPr>
                <a:xfrm>
                  <a:off x="5238360" y="5760000"/>
                  <a:ext cx="188640" cy="1904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143" h="110">
                      <a:moveTo>
                        <a:pt x="0" y="110"/>
                      </a:moveTo>
                      <a:cubicBezTo>
                        <a:pt x="48" y="69"/>
                        <a:pt x="108" y="12"/>
                        <a:pt x="143" y="18"/>
                      </a:cubicBezTo>
                      <a:cubicBezTo>
                        <a:pt x="110" y="3"/>
                        <a:pt x="96" y="0"/>
                        <a:pt x="46" y="24"/>
                      </a:cubicBezTo>
                      <a:cubicBezTo>
                        <a:pt x="18" y="42"/>
                        <a:pt x="8" y="90"/>
                        <a:pt x="0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13"/>
                <p:cNvSpPr/>
                <p:nvPr/>
              </p:nvSpPr>
              <p:spPr>
                <a:xfrm>
                  <a:off x="4630320" y="5757120"/>
                  <a:ext cx="605160" cy="923400"/>
                </a:xfrm>
                <a:custGeom>
                  <a:avLst/>
                  <a:gdLst>
                    <a:gd name="textAreaLeft" fmla="*/ 0 w 605160"/>
                    <a:gd name="textAreaRight" fmla="*/ 605520 w 605160"/>
                    <a:gd name="textAreaTop" fmla="*/ 0 h 923400"/>
                    <a:gd name="textAreaBottom" fmla="*/ 923760 h 923400"/>
                  </a:gdLst>
                  <a:ahLst/>
                  <a:rect l="textAreaLeft" t="textAreaTop" r="textAreaRight" b="textAreaBottom"/>
                  <a:pathLst>
                    <a:path w="459" h="533">
                      <a:moveTo>
                        <a:pt x="459" y="111"/>
                      </a:moveTo>
                      <a:cubicBezTo>
                        <a:pt x="434" y="99"/>
                        <a:pt x="374" y="56"/>
                        <a:pt x="347" y="42"/>
                      </a:cubicBezTo>
                      <a:cubicBezTo>
                        <a:pt x="321" y="38"/>
                        <a:pt x="308" y="29"/>
                        <a:pt x="244" y="51"/>
                      </a:cubicBezTo>
                      <a:cubicBezTo>
                        <a:pt x="183" y="72"/>
                        <a:pt x="57" y="190"/>
                        <a:pt x="76" y="324"/>
                      </a:cubicBezTo>
                      <a:cubicBezTo>
                        <a:pt x="94" y="458"/>
                        <a:pt x="98" y="498"/>
                        <a:pt x="168" y="533"/>
                      </a:cubicBezTo>
                      <a:cubicBezTo>
                        <a:pt x="0" y="296"/>
                        <a:pt x="217" y="0"/>
                        <a:pt x="459" y="1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14"/>
                <p:cNvSpPr/>
                <p:nvPr/>
              </p:nvSpPr>
              <p:spPr>
                <a:xfrm>
                  <a:off x="5238360" y="5683680"/>
                  <a:ext cx="514080" cy="113184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1131840"/>
                    <a:gd name="textAreaBottom" fmla="*/ 1132200 h 1131840"/>
                  </a:gdLst>
                  <a:ahLst/>
                  <a:rect l="textAreaLeft" t="textAreaTop" r="textAreaRight" b="textAreaBottom"/>
                  <a:pathLst>
                    <a:path w="390" h="653">
                      <a:moveTo>
                        <a:pt x="0" y="154"/>
                      </a:moveTo>
                      <a:cubicBezTo>
                        <a:pt x="262" y="217"/>
                        <a:pt x="181" y="607"/>
                        <a:pt x="106" y="626"/>
                      </a:cubicBezTo>
                      <a:cubicBezTo>
                        <a:pt x="191" y="653"/>
                        <a:pt x="246" y="613"/>
                        <a:pt x="288" y="571"/>
                      </a:cubicBezTo>
                      <a:cubicBezTo>
                        <a:pt x="390" y="458"/>
                        <a:pt x="379" y="0"/>
                        <a:pt x="0" y="15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15"/>
                <p:cNvSpPr/>
                <p:nvPr/>
              </p:nvSpPr>
              <p:spPr>
                <a:xfrm>
                  <a:off x="5002200" y="5878080"/>
                  <a:ext cx="828360" cy="1041840"/>
                </a:xfrm>
                <a:custGeom>
                  <a:avLst/>
                  <a:gdLst>
                    <a:gd name="textAreaLeft" fmla="*/ 0 w 828360"/>
                    <a:gd name="textAreaRight" fmla="*/ 828720 w 828360"/>
                    <a:gd name="textAreaTop" fmla="*/ 0 h 1041840"/>
                    <a:gd name="textAreaBottom" fmla="*/ 1042200 h 1041840"/>
                  </a:gdLst>
                  <a:ahLst/>
                  <a:rect l="textAreaLeft" t="textAreaTop" r="textAreaRight" b="textAreaBottom"/>
                  <a:pathLst>
                    <a:path w="628" h="601">
                      <a:moveTo>
                        <a:pt x="581" y="136"/>
                      </a:moveTo>
                      <a:cubicBezTo>
                        <a:pt x="560" y="72"/>
                        <a:pt x="526" y="28"/>
                        <a:pt x="487" y="0"/>
                      </a:cubicBezTo>
                      <a:cubicBezTo>
                        <a:pt x="511" y="24"/>
                        <a:pt x="461" y="31"/>
                        <a:pt x="389" y="17"/>
                      </a:cubicBezTo>
                      <a:cubicBezTo>
                        <a:pt x="590" y="169"/>
                        <a:pt x="436" y="293"/>
                        <a:pt x="316" y="168"/>
                      </a:cubicBezTo>
                      <a:cubicBezTo>
                        <a:pt x="409" y="523"/>
                        <a:pt x="162" y="530"/>
                        <a:pt x="34" y="507"/>
                      </a:cubicBezTo>
                      <a:cubicBezTo>
                        <a:pt x="29" y="518"/>
                        <a:pt x="18" y="530"/>
                        <a:pt x="0" y="537"/>
                      </a:cubicBezTo>
                      <a:cubicBezTo>
                        <a:pt x="48" y="551"/>
                        <a:pt x="65" y="551"/>
                        <a:pt x="95" y="544"/>
                      </a:cubicBezTo>
                      <a:cubicBezTo>
                        <a:pt x="218" y="601"/>
                        <a:pt x="272" y="532"/>
                        <a:pt x="285" y="514"/>
                      </a:cubicBezTo>
                      <a:cubicBezTo>
                        <a:pt x="370" y="541"/>
                        <a:pt x="425" y="501"/>
                        <a:pt x="467" y="459"/>
                      </a:cubicBezTo>
                      <a:cubicBezTo>
                        <a:pt x="555" y="414"/>
                        <a:pt x="628" y="279"/>
                        <a:pt x="581" y="136"/>
                      </a:cubicBezTo>
                      <a:close/>
                    </a:path>
                  </a:pathLst>
                </a:custGeom>
                <a:solidFill>
                  <a:srgbClr val="f27b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1" name="Group 116"/>
                <p:cNvGrpSpPr/>
                <p:nvPr/>
              </p:nvGrpSpPr>
              <p:grpSpPr>
                <a:xfrm>
                  <a:off x="4630320" y="5683680"/>
                  <a:ext cx="1281960" cy="1236240"/>
                  <a:chOff x="4630320" y="5683680"/>
                  <a:chExt cx="1281960" cy="1236240"/>
                </a:xfrm>
              </p:grpSpPr>
              <p:sp>
                <p:nvSpPr>
                  <p:cNvPr id="302" name="Freeform 117"/>
                  <p:cNvSpPr/>
                  <p:nvPr/>
                </p:nvSpPr>
                <p:spPr>
                  <a:xfrm>
                    <a:off x="5238360" y="5683680"/>
                    <a:ext cx="673920" cy="989640"/>
                  </a:xfrm>
                  <a:custGeom>
                    <a:avLst/>
                    <a:gdLst>
                      <a:gd name="textAreaLeft" fmla="*/ 0 w 673920"/>
                      <a:gd name="textAreaRight" fmla="*/ 674280 w 673920"/>
                      <a:gd name="textAreaTop" fmla="*/ 0 h 989640"/>
                      <a:gd name="textAreaBottom" fmla="*/ 990000 h 989640"/>
                    </a:gdLst>
                    <a:ahLst/>
                    <a:rect l="textAreaLeft" t="textAreaTop" r="textAreaRight" b="textAreaBottom"/>
                    <a:pathLst>
                      <a:path w="511" h="571">
                        <a:moveTo>
                          <a:pt x="0" y="154"/>
                        </a:moveTo>
                        <a:cubicBezTo>
                          <a:pt x="379" y="0"/>
                          <a:pt x="390" y="458"/>
                          <a:pt x="288" y="571"/>
                        </a:cubicBezTo>
                        <a:cubicBezTo>
                          <a:pt x="511" y="321"/>
                          <a:pt x="290" y="9"/>
                          <a:pt x="0" y="154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118"/>
                  <p:cNvSpPr/>
                  <p:nvPr/>
                </p:nvSpPr>
                <p:spPr>
                  <a:xfrm>
                    <a:off x="4804560" y="5950440"/>
                    <a:ext cx="433800" cy="870120"/>
                  </a:xfrm>
                  <a:custGeom>
                    <a:avLst/>
                    <a:gdLst>
                      <a:gd name="textAreaLeft" fmla="*/ 0 w 433800"/>
                      <a:gd name="textAreaRight" fmla="*/ 434160 w 433800"/>
                      <a:gd name="textAreaTop" fmla="*/ 0 h 870120"/>
                      <a:gd name="textAreaBottom" fmla="*/ 870480 h 870120"/>
                    </a:gdLst>
                    <a:ahLst/>
                    <a:rect l="textAreaLeft" t="textAreaTop" r="textAreaRight" b="textAreaBottom"/>
                    <a:pathLst>
                      <a:path w="329" h="502">
                        <a:moveTo>
                          <a:pt x="329" y="0"/>
                        </a:moveTo>
                        <a:cubicBezTo>
                          <a:pt x="0" y="75"/>
                          <a:pt x="68" y="480"/>
                          <a:pt x="245" y="502"/>
                        </a:cubicBezTo>
                        <a:cubicBezTo>
                          <a:pt x="46" y="367"/>
                          <a:pt x="84" y="75"/>
                          <a:pt x="329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119"/>
                  <p:cNvSpPr/>
                  <p:nvPr/>
                </p:nvSpPr>
                <p:spPr>
                  <a:xfrm>
                    <a:off x="4630320" y="5756760"/>
                    <a:ext cx="608040" cy="923760"/>
                  </a:xfrm>
                  <a:custGeom>
                    <a:avLst/>
                    <a:gdLst>
                      <a:gd name="textAreaLeft" fmla="*/ 0 w 608040"/>
                      <a:gd name="textAreaRight" fmla="*/ 608400 w 608040"/>
                      <a:gd name="textAreaTop" fmla="*/ 0 h 923760"/>
                      <a:gd name="textAreaBottom" fmla="*/ 924120 h 923760"/>
                    </a:gdLst>
                    <a:ahLst/>
                    <a:rect l="textAreaLeft" t="textAreaTop" r="textAreaRight" b="textAreaBottom"/>
                    <a:pathLst>
                      <a:path w="461" h="533">
                        <a:moveTo>
                          <a:pt x="461" y="112"/>
                        </a:moveTo>
                        <a:cubicBezTo>
                          <a:pt x="461" y="112"/>
                          <a:pt x="460" y="112"/>
                          <a:pt x="459" y="111"/>
                        </a:cubicBezTo>
                        <a:cubicBezTo>
                          <a:pt x="217" y="0"/>
                          <a:pt x="0" y="296"/>
                          <a:pt x="168" y="533"/>
                        </a:cubicBezTo>
                        <a:cubicBezTo>
                          <a:pt x="25" y="270"/>
                          <a:pt x="229" y="20"/>
                          <a:pt x="461" y="112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120"/>
                  <p:cNvSpPr/>
                  <p:nvPr/>
                </p:nvSpPr>
                <p:spPr>
                  <a:xfrm>
                    <a:off x="5238360" y="5950440"/>
                    <a:ext cx="345600" cy="817920"/>
                  </a:xfrm>
                  <a:custGeom>
                    <a:avLst/>
                    <a:gdLst>
                      <a:gd name="textAreaLeft" fmla="*/ 0 w 345600"/>
                      <a:gd name="textAreaRight" fmla="*/ 345960 w 345600"/>
                      <a:gd name="textAreaTop" fmla="*/ 0 h 817920"/>
                      <a:gd name="textAreaBottom" fmla="*/ 818280 h 817920"/>
                    </a:gdLst>
                    <a:ahLst/>
                    <a:rect l="textAreaLeft" t="textAreaTop" r="textAreaRight" b="textAreaBottom"/>
                    <a:pathLst>
                      <a:path w="262" h="472">
                        <a:moveTo>
                          <a:pt x="0" y="0"/>
                        </a:moveTo>
                        <a:cubicBezTo>
                          <a:pt x="137" y="39"/>
                          <a:pt x="215" y="338"/>
                          <a:pt x="106" y="472"/>
                        </a:cubicBezTo>
                        <a:cubicBezTo>
                          <a:pt x="181" y="453"/>
                          <a:pt x="262" y="6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121"/>
                  <p:cNvSpPr/>
                  <p:nvPr/>
                </p:nvSpPr>
                <p:spPr>
                  <a:xfrm>
                    <a:off x="5238360" y="5781240"/>
                    <a:ext cx="205200" cy="169200"/>
                  </a:xfrm>
                  <a:custGeom>
                    <a:avLst/>
                    <a:gdLst>
                      <a:gd name="textAreaLeft" fmla="*/ 0 w 205200"/>
                      <a:gd name="textAreaRight" fmla="*/ 205560 w 205200"/>
                      <a:gd name="textAreaTop" fmla="*/ 0 h 169200"/>
                      <a:gd name="textAreaBottom" fmla="*/ 169200 h 169200"/>
                    </a:gdLst>
                    <a:ahLst/>
                    <a:rect l="textAreaLeft" t="textAreaTop" r="textAreaRight" b="textAreaBottom"/>
                    <a:pathLst>
                      <a:path w="156" h="98">
                        <a:moveTo>
                          <a:pt x="0" y="98"/>
                        </a:moveTo>
                        <a:cubicBezTo>
                          <a:pt x="66" y="45"/>
                          <a:pt x="128" y="22"/>
                          <a:pt x="156" y="13"/>
                        </a:cubicBezTo>
                        <a:cubicBezTo>
                          <a:pt x="152" y="10"/>
                          <a:pt x="147" y="8"/>
                          <a:pt x="143" y="6"/>
                        </a:cubicBezTo>
                        <a:cubicBezTo>
                          <a:pt x="108" y="0"/>
                          <a:pt x="48" y="57"/>
                          <a:pt x="0" y="98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122"/>
                  <p:cNvSpPr/>
                  <p:nvPr/>
                </p:nvSpPr>
                <p:spPr>
                  <a:xfrm>
                    <a:off x="5232600" y="5801760"/>
                    <a:ext cx="66240" cy="148680"/>
                  </a:xfrm>
                  <a:custGeom>
                    <a:avLst/>
                    <a:gdLst>
                      <a:gd name="textAreaLeft" fmla="*/ 0 w 66240"/>
                      <a:gd name="textAreaRight" fmla="*/ 66600 w 66240"/>
                      <a:gd name="textAreaTop" fmla="*/ 0 h 148680"/>
                      <a:gd name="textAreaBottom" fmla="*/ 149040 h 148680"/>
                    </a:gdLst>
                    <a:ahLst/>
                    <a:rect l="textAreaLeft" t="textAreaTop" r="textAreaRight" b="textAreaBottom"/>
                    <a:pathLst>
                      <a:path w="50" h="86">
                        <a:moveTo>
                          <a:pt x="4" y="86"/>
                        </a:moveTo>
                        <a:cubicBezTo>
                          <a:pt x="12" y="66"/>
                          <a:pt x="22" y="18"/>
                          <a:pt x="50" y="0"/>
                        </a:cubicBezTo>
                        <a:cubicBezTo>
                          <a:pt x="24" y="3"/>
                          <a:pt x="0" y="49"/>
                          <a:pt x="4" y="86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123"/>
                  <p:cNvSpPr/>
                  <p:nvPr/>
                </p:nvSpPr>
                <p:spPr>
                  <a:xfrm>
                    <a:off x="5087880" y="5824440"/>
                    <a:ext cx="150120" cy="126000"/>
                  </a:xfrm>
                  <a:custGeom>
                    <a:avLst/>
                    <a:gdLst>
                      <a:gd name="textAreaLeft" fmla="*/ 0 w 150120"/>
                      <a:gd name="textAreaRight" fmla="*/ 150480 w 1501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114" h="73">
                        <a:moveTo>
                          <a:pt x="114" y="73"/>
                        </a:moveTo>
                        <a:cubicBezTo>
                          <a:pt x="92" y="44"/>
                          <a:pt x="21" y="0"/>
                          <a:pt x="0" y="3"/>
                        </a:cubicBezTo>
                        <a:cubicBezTo>
                          <a:pt x="27" y="17"/>
                          <a:pt x="87" y="60"/>
                          <a:pt x="112" y="72"/>
                        </a:cubicBezTo>
                        <a:cubicBezTo>
                          <a:pt x="113" y="73"/>
                          <a:pt x="114" y="73"/>
                          <a:pt x="114" y="73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124"/>
                  <p:cNvSpPr/>
                  <p:nvPr/>
                </p:nvSpPr>
                <p:spPr>
                  <a:xfrm>
                    <a:off x="4752360" y="6113520"/>
                    <a:ext cx="1078200" cy="806400"/>
                  </a:xfrm>
                  <a:custGeom>
                    <a:avLst/>
                    <a:gdLst>
                      <a:gd name="textAreaLeft" fmla="*/ 0 w 1078200"/>
                      <a:gd name="textAreaRight" fmla="*/ 1078560 w 1078200"/>
                      <a:gd name="textAreaTop" fmla="*/ 0 h 806400"/>
                      <a:gd name="textAreaBottom" fmla="*/ 806760 h 806400"/>
                    </a:gdLst>
                    <a:ahLst/>
                    <a:rect l="textAreaLeft" t="textAreaTop" r="textAreaRight" b="textAreaBottom"/>
                    <a:pathLst>
                      <a:path w="817" h="465">
                        <a:moveTo>
                          <a:pt x="502" y="345"/>
                        </a:moveTo>
                        <a:cubicBezTo>
                          <a:pt x="460" y="392"/>
                          <a:pt x="329" y="414"/>
                          <a:pt x="223" y="371"/>
                        </a:cubicBezTo>
                        <a:cubicBezTo>
                          <a:pt x="195" y="408"/>
                          <a:pt x="70" y="305"/>
                          <a:pt x="53" y="286"/>
                        </a:cubicBezTo>
                        <a:cubicBezTo>
                          <a:pt x="35" y="295"/>
                          <a:pt x="16" y="244"/>
                          <a:pt x="0" y="226"/>
                        </a:cubicBezTo>
                        <a:cubicBezTo>
                          <a:pt x="11" y="279"/>
                          <a:pt x="29" y="304"/>
                          <a:pt x="75" y="327"/>
                        </a:cubicBezTo>
                        <a:cubicBezTo>
                          <a:pt x="101" y="355"/>
                          <a:pt x="111" y="378"/>
                          <a:pt x="172" y="396"/>
                        </a:cubicBezTo>
                        <a:cubicBezTo>
                          <a:pt x="233" y="414"/>
                          <a:pt x="250" y="416"/>
                          <a:pt x="284" y="408"/>
                        </a:cubicBezTo>
                        <a:cubicBezTo>
                          <a:pt x="407" y="465"/>
                          <a:pt x="461" y="396"/>
                          <a:pt x="474" y="378"/>
                        </a:cubicBezTo>
                        <a:cubicBezTo>
                          <a:pt x="559" y="405"/>
                          <a:pt x="614" y="365"/>
                          <a:pt x="656" y="323"/>
                        </a:cubicBezTo>
                        <a:cubicBezTo>
                          <a:pt x="744" y="278"/>
                          <a:pt x="817" y="143"/>
                          <a:pt x="770" y="0"/>
                        </a:cubicBezTo>
                        <a:cubicBezTo>
                          <a:pt x="771" y="61"/>
                          <a:pt x="758" y="164"/>
                          <a:pt x="717" y="216"/>
                        </a:cubicBezTo>
                        <a:cubicBezTo>
                          <a:pt x="673" y="291"/>
                          <a:pt x="550" y="367"/>
                          <a:pt x="502" y="345"/>
                        </a:cubicBezTo>
                        <a:close/>
                      </a:path>
                    </a:pathLst>
                  </a:custGeom>
                  <a:solidFill>
                    <a:srgbClr val="d86e05"/>
                  </a:solidFill>
                  <a:ln w="9360">
                    <a:solidFill>
                      <a:srgbClr val="d86e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Freeform 125"/>
                <p:cNvSpPr/>
                <p:nvPr/>
              </p:nvSpPr>
              <p:spPr>
                <a:xfrm>
                  <a:off x="5087880" y="5760000"/>
                  <a:ext cx="210960" cy="19044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160" h="110">
                      <a:moveTo>
                        <a:pt x="114" y="110"/>
                      </a:moveTo>
                      <a:cubicBezTo>
                        <a:pt x="110" y="73"/>
                        <a:pt x="134" y="27"/>
                        <a:pt x="160" y="24"/>
                      </a:cubicBezTo>
                      <a:cubicBezTo>
                        <a:pt x="114" y="0"/>
                        <a:pt x="39" y="13"/>
                        <a:pt x="0" y="40"/>
                      </a:cubicBezTo>
                      <a:cubicBezTo>
                        <a:pt x="21" y="37"/>
                        <a:pt x="92" y="81"/>
                        <a:pt x="114" y="1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f36"/>
                    </a:gs>
                    <a:gs pos="100000">
                      <a:srgbClr val="ff8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26"/>
                <p:cNvSpPr/>
                <p:nvPr/>
              </p:nvSpPr>
              <p:spPr>
                <a:xfrm>
                  <a:off x="5186880" y="5897160"/>
                  <a:ext cx="103680" cy="7236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79" h="42">
                      <a:moveTo>
                        <a:pt x="10" y="40"/>
                      </a:moveTo>
                      <a:cubicBezTo>
                        <a:pt x="47" y="21"/>
                        <a:pt x="59" y="42"/>
                        <a:pt x="67" y="42"/>
                      </a:cubicBezTo>
                      <a:cubicBezTo>
                        <a:pt x="37" y="25"/>
                        <a:pt x="70" y="20"/>
                        <a:pt x="79" y="17"/>
                      </a:cubicBezTo>
                      <a:cubicBezTo>
                        <a:pt x="37" y="24"/>
                        <a:pt x="66" y="10"/>
                        <a:pt x="74" y="4"/>
                      </a:cubicBezTo>
                      <a:cubicBezTo>
                        <a:pt x="62" y="12"/>
                        <a:pt x="41" y="23"/>
                        <a:pt x="43" y="0"/>
                      </a:cubicBezTo>
                      <a:cubicBezTo>
                        <a:pt x="36" y="25"/>
                        <a:pt x="21" y="13"/>
                        <a:pt x="9" y="6"/>
                      </a:cubicBezTo>
                      <a:cubicBezTo>
                        <a:pt x="17" y="18"/>
                        <a:pt x="33" y="21"/>
                        <a:pt x="0" y="19"/>
                      </a:cubicBezTo>
                      <a:cubicBezTo>
                        <a:pt x="16" y="25"/>
                        <a:pt x="44" y="21"/>
                        <a:pt x="10" y="4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27"/>
                <p:cNvSpPr/>
                <p:nvPr/>
              </p:nvSpPr>
              <p:spPr>
                <a:xfrm>
                  <a:off x="5095800" y="5690880"/>
                  <a:ext cx="175320" cy="25452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254520"/>
                    <a:gd name="textAreaBottom" fmla="*/ 254880 h 254520"/>
                  </a:gdLst>
                  <a:ahLst/>
                  <a:rect l="textAreaLeft" t="textAreaTop" r="textAreaRight" b="textAreaBottom"/>
                  <a:pathLst>
                    <a:path w="133" h="147">
                      <a:moveTo>
                        <a:pt x="133" y="0"/>
                      </a:moveTo>
                      <a:cubicBezTo>
                        <a:pt x="120" y="142"/>
                        <a:pt x="120" y="142"/>
                        <a:pt x="120" y="142"/>
                      </a:cubicBezTo>
                      <a:cubicBezTo>
                        <a:pt x="116" y="146"/>
                        <a:pt x="111" y="147"/>
                        <a:pt x="104" y="146"/>
                      </a:cubicBezTo>
                      <a:cubicBezTo>
                        <a:pt x="0" y="48"/>
                        <a:pt x="0" y="48"/>
                        <a:pt x="0" y="48"/>
                      </a:cubicBez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4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28"/>
                <p:cNvSpPr/>
                <p:nvPr/>
              </p:nvSpPr>
              <p:spPr>
                <a:xfrm>
                  <a:off x="5090400" y="5673600"/>
                  <a:ext cx="184680" cy="118080"/>
                </a:xfrm>
                <a:custGeom>
                  <a:avLst/>
                  <a:gdLst>
                    <a:gd name="textAreaLeft" fmla="*/ 0 w 184680"/>
                    <a:gd name="textAreaRight" fmla="*/ 185040 w 18468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140" h="68">
                      <a:moveTo>
                        <a:pt x="137" y="10"/>
                      </a:moveTo>
                      <a:cubicBezTo>
                        <a:pt x="140" y="21"/>
                        <a:pt x="114" y="40"/>
                        <a:pt x="77" y="53"/>
                      </a:cubicBezTo>
                      <a:cubicBezTo>
                        <a:pt x="41" y="66"/>
                        <a:pt x="8" y="68"/>
                        <a:pt x="4" y="58"/>
                      </a:cubicBezTo>
                      <a:cubicBezTo>
                        <a:pt x="0" y="47"/>
                        <a:pt x="27" y="28"/>
                        <a:pt x="63" y="15"/>
                      </a:cubicBezTo>
                      <a:cubicBezTo>
                        <a:pt x="100" y="2"/>
                        <a:pt x="133" y="0"/>
                        <a:pt x="137" y="10"/>
                      </a:cubicBezTo>
                      <a:close/>
                    </a:path>
                  </a:pathLst>
                </a:custGeom>
                <a:solidFill>
                  <a:srgbClr val="006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29"/>
              <p:cNvGrpSpPr/>
              <p:nvPr/>
            </p:nvGrpSpPr>
            <p:grpSpPr>
              <a:xfrm>
                <a:off x="5151600" y="6278760"/>
                <a:ext cx="82440" cy="73800"/>
                <a:chOff x="5151600" y="6278760"/>
                <a:chExt cx="82440" cy="73800"/>
              </a:xfrm>
            </p:grpSpPr>
            <p:sp>
              <p:nvSpPr>
                <p:cNvPr id="315" name="Freeform 130"/>
                <p:cNvSpPr/>
                <p:nvPr/>
              </p:nvSpPr>
              <p:spPr>
                <a:xfrm>
                  <a:off x="5151600" y="6278760"/>
                  <a:ext cx="82440" cy="73800"/>
                </a:xfrm>
                <a:custGeom>
                  <a:avLst/>
                  <a:gdLst>
                    <a:gd name="textAreaLeft" fmla="*/ 0 w 82440"/>
                    <a:gd name="textAreaRight" fmla="*/ 82440 w 824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148" h="101">
                      <a:moveTo>
                        <a:pt x="0" y="101"/>
                      </a:moveTo>
                      <a:lnTo>
                        <a:pt x="78" y="0"/>
                      </a:lnTo>
                      <a:lnTo>
                        <a:pt x="148" y="85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31"/>
                <p:cNvSpPr/>
                <p:nvPr/>
              </p:nvSpPr>
              <p:spPr>
                <a:xfrm>
                  <a:off x="5153760" y="6281640"/>
                  <a:ext cx="80280" cy="7092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920"/>
                    <a:gd name="textAreaBottom" fmla="*/ 71280 h 70920"/>
                  </a:gdLst>
                  <a:ahLst/>
                  <a:rect l="textAreaLeft" t="textAreaTop" r="textAreaRight" b="textAreaBottom"/>
                  <a:pathLst>
                    <a:path w="144" h="97">
                      <a:moveTo>
                        <a:pt x="0" y="97"/>
                      </a:moveTo>
                      <a:lnTo>
                        <a:pt x="76" y="0"/>
                      </a:lnTo>
                      <a:lnTo>
                        <a:pt x="144" y="81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32"/>
              <p:cNvGrpSpPr/>
              <p:nvPr/>
            </p:nvGrpSpPr>
            <p:grpSpPr>
              <a:xfrm>
                <a:off x="4898160" y="6039360"/>
                <a:ext cx="669960" cy="249120"/>
                <a:chOff x="4898160" y="6039360"/>
                <a:chExt cx="669960" cy="249120"/>
              </a:xfrm>
            </p:grpSpPr>
            <p:sp>
              <p:nvSpPr>
                <p:cNvPr id="318" name="Freeform 133"/>
                <p:cNvSpPr/>
                <p:nvPr/>
              </p:nvSpPr>
              <p:spPr>
                <a:xfrm>
                  <a:off x="4898160" y="6160320"/>
                  <a:ext cx="245160" cy="12816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86" h="74">
                      <a:moveTo>
                        <a:pt x="21" y="0"/>
                      </a:moveTo>
                      <a:cubicBezTo>
                        <a:pt x="40" y="18"/>
                        <a:pt x="106" y="48"/>
                        <a:pt x="186" y="74"/>
                      </a:cubicBezTo>
                      <a:cubicBezTo>
                        <a:pt x="140" y="74"/>
                        <a:pt x="19" y="59"/>
                        <a:pt x="0" y="57"/>
                      </a:cubicBezTo>
                      <a:cubicBezTo>
                        <a:pt x="9" y="34"/>
                        <a:pt x="16" y="10"/>
                        <a:pt x="21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34"/>
                <p:cNvSpPr/>
                <p:nvPr/>
              </p:nvSpPr>
              <p:spPr>
                <a:xfrm>
                  <a:off x="5221440" y="6039360"/>
                  <a:ext cx="346680" cy="216000"/>
                </a:xfrm>
                <a:custGeom>
                  <a:avLst/>
                  <a:gdLst>
                    <a:gd name="textAreaLeft" fmla="*/ 0 w 346680"/>
                    <a:gd name="textAreaRight" fmla="*/ 347040 w 34668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63" h="125">
                      <a:moveTo>
                        <a:pt x="215" y="0"/>
                      </a:moveTo>
                      <a:cubicBezTo>
                        <a:pt x="181" y="16"/>
                        <a:pt x="62" y="72"/>
                        <a:pt x="0" y="125"/>
                      </a:cubicBezTo>
                      <a:cubicBezTo>
                        <a:pt x="41" y="113"/>
                        <a:pt x="230" y="112"/>
                        <a:pt x="263" y="114"/>
                      </a:cubicBezTo>
                      <a:cubicBezTo>
                        <a:pt x="263" y="81"/>
                        <a:pt x="229" y="12"/>
                        <a:pt x="215" y="0"/>
                      </a:cubicBez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135"/>
                <p:cNvSpPr/>
                <p:nvPr/>
              </p:nvSpPr>
              <p:spPr>
                <a:xfrm>
                  <a:off x="4915440" y="6175800"/>
                  <a:ext cx="227520" cy="11268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173" h="65">
                      <a:moveTo>
                        <a:pt x="18" y="0"/>
                      </a:moveTo>
                      <a:cubicBezTo>
                        <a:pt x="37" y="18"/>
                        <a:pt x="96" y="40"/>
                        <a:pt x="173" y="65"/>
                      </a:cubicBezTo>
                      <a:cubicBezTo>
                        <a:pt x="129" y="65"/>
                        <a:pt x="19" y="52"/>
                        <a:pt x="0" y="49"/>
                      </a:cubicBezTo>
                      <a:cubicBezTo>
                        <a:pt x="9" y="27"/>
                        <a:pt x="14" y="10"/>
                        <a:pt x="18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36"/>
                <p:cNvSpPr/>
                <p:nvPr/>
              </p:nvSpPr>
              <p:spPr>
                <a:xfrm>
                  <a:off x="5226480" y="6053040"/>
                  <a:ext cx="326160" cy="201960"/>
                </a:xfrm>
                <a:custGeom>
                  <a:avLst/>
                  <a:gdLst>
                    <a:gd name="textAreaLeft" fmla="*/ 0 w 326160"/>
                    <a:gd name="textAreaRight" fmla="*/ 326520 w 326160"/>
                    <a:gd name="textAreaTop" fmla="*/ 0 h 201960"/>
                    <a:gd name="textAreaBottom" fmla="*/ 202320 h 201960"/>
                  </a:gdLst>
                  <a:ahLst/>
                  <a:rect l="textAreaLeft" t="textAreaTop" r="textAreaRight" b="textAreaBottom"/>
                  <a:pathLst>
                    <a:path w="247" h="117">
                      <a:moveTo>
                        <a:pt x="203" y="0"/>
                      </a:moveTo>
                      <a:cubicBezTo>
                        <a:pt x="170" y="14"/>
                        <a:pt x="59" y="66"/>
                        <a:pt x="0" y="117"/>
                      </a:cubicBezTo>
                      <a:cubicBezTo>
                        <a:pt x="39" y="105"/>
                        <a:pt x="216" y="105"/>
                        <a:pt x="247" y="107"/>
                      </a:cubicBezTo>
                      <a:cubicBezTo>
                        <a:pt x="247" y="75"/>
                        <a:pt x="217" y="10"/>
                        <a:pt x="203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3d"/>
                    </a:gs>
                    <a:gs pos="100000">
                      <a:srgbClr val="ffff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37"/>
              <p:cNvGrpSpPr/>
              <p:nvPr/>
            </p:nvGrpSpPr>
            <p:grpSpPr>
              <a:xfrm>
                <a:off x="4908960" y="6338880"/>
                <a:ext cx="659520" cy="343080"/>
                <a:chOff x="4908960" y="6338880"/>
                <a:chExt cx="659520" cy="343080"/>
              </a:xfrm>
            </p:grpSpPr>
            <p:sp>
              <p:nvSpPr>
                <p:cNvPr id="323" name="Freeform 138"/>
                <p:cNvSpPr/>
                <p:nvPr/>
              </p:nvSpPr>
              <p:spPr>
                <a:xfrm>
                  <a:off x="4908960" y="6338880"/>
                  <a:ext cx="659520" cy="343080"/>
                </a:xfrm>
                <a:custGeom>
                  <a:avLst/>
                  <a:gdLst>
                    <a:gd name="textAreaLeft" fmla="*/ 0 w 659520"/>
                    <a:gd name="textAreaRight" fmla="*/ 659880 w 659520"/>
                    <a:gd name="textAreaTop" fmla="*/ 0 h 343080"/>
                    <a:gd name="textAreaBottom" fmla="*/ 343080 h 343080"/>
                  </a:gdLst>
                  <a:ahLst/>
                  <a:rect l="textAreaLeft" t="textAreaTop" r="textAreaRight" b="textAreaBottom"/>
                  <a:pathLst>
                    <a:path w="1181" h="468">
                      <a:moveTo>
                        <a:pt x="0" y="130"/>
                      </a:moveTo>
                      <a:lnTo>
                        <a:pt x="250" y="270"/>
                      </a:lnTo>
                      <a:lnTo>
                        <a:pt x="335" y="199"/>
                      </a:lnTo>
                      <a:lnTo>
                        <a:pt x="465" y="270"/>
                      </a:lnTo>
                      <a:lnTo>
                        <a:pt x="531" y="199"/>
                      </a:lnTo>
                      <a:lnTo>
                        <a:pt x="666" y="270"/>
                      </a:lnTo>
                      <a:lnTo>
                        <a:pt x="780" y="100"/>
                      </a:lnTo>
                      <a:lnTo>
                        <a:pt x="888" y="189"/>
                      </a:lnTo>
                      <a:lnTo>
                        <a:pt x="1181" y="0"/>
                      </a:lnTo>
                      <a:lnTo>
                        <a:pt x="893" y="402"/>
                      </a:lnTo>
                      <a:lnTo>
                        <a:pt x="791" y="338"/>
                      </a:lnTo>
                      <a:lnTo>
                        <a:pt x="668" y="468"/>
                      </a:lnTo>
                      <a:lnTo>
                        <a:pt x="557" y="374"/>
                      </a:lnTo>
                      <a:lnTo>
                        <a:pt x="472" y="433"/>
                      </a:lnTo>
                      <a:lnTo>
                        <a:pt x="345" y="345"/>
                      </a:lnTo>
                      <a:lnTo>
                        <a:pt x="250" y="364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d86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139"/>
                <p:cNvSpPr/>
                <p:nvPr/>
              </p:nvSpPr>
              <p:spPr>
                <a:xfrm>
                  <a:off x="4920480" y="6352560"/>
                  <a:ext cx="632160" cy="31752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317520"/>
                    <a:gd name="textAreaBottom" fmla="*/ 317520 h 317520"/>
                  </a:gdLst>
                  <a:ahLst/>
                  <a:rect l="textAreaLeft" t="textAreaTop" r="textAreaRight" b="textAreaBottom"/>
                  <a:pathLst>
                    <a:path w="1132" h="433">
                      <a:moveTo>
                        <a:pt x="0" y="126"/>
                      </a:moveTo>
                      <a:lnTo>
                        <a:pt x="241" y="241"/>
                      </a:lnTo>
                      <a:lnTo>
                        <a:pt x="324" y="173"/>
                      </a:lnTo>
                      <a:lnTo>
                        <a:pt x="447" y="241"/>
                      </a:lnTo>
                      <a:lnTo>
                        <a:pt x="510" y="173"/>
                      </a:lnTo>
                      <a:lnTo>
                        <a:pt x="643" y="241"/>
                      </a:lnTo>
                      <a:lnTo>
                        <a:pt x="751" y="78"/>
                      </a:lnTo>
                      <a:lnTo>
                        <a:pt x="855" y="163"/>
                      </a:lnTo>
                      <a:lnTo>
                        <a:pt x="1132" y="0"/>
                      </a:lnTo>
                      <a:lnTo>
                        <a:pt x="860" y="369"/>
                      </a:lnTo>
                      <a:lnTo>
                        <a:pt x="763" y="307"/>
                      </a:lnTo>
                      <a:lnTo>
                        <a:pt x="645" y="433"/>
                      </a:lnTo>
                      <a:lnTo>
                        <a:pt x="536" y="343"/>
                      </a:lnTo>
                      <a:lnTo>
                        <a:pt x="454" y="400"/>
                      </a:lnTo>
                      <a:lnTo>
                        <a:pt x="333" y="315"/>
                      </a:lnTo>
                      <a:lnTo>
                        <a:pt x="241" y="331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1"/>
                    </a:gs>
                    <a:gs pos="100000">
                      <a:srgbClr val="ffff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"/>
          <p:cNvSpPr/>
          <p:nvPr/>
        </p:nvSpPr>
        <p:spPr>
          <a:xfrm>
            <a:off x="1582560" y="144360"/>
            <a:ext cx="6178680" cy="5877000"/>
          </a:xfrm>
          <a:prstGeom prst="ellipse">
            <a:avLst/>
          </a:prstGeom>
          <a:gradFill rotWithShape="0">
            <a:gsLst>
              <a:gs pos="0">
                <a:srgbClr val="a864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 flipV="1">
            <a:off x="0" y="3427920"/>
            <a:ext cx="9144000" cy="3429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801720" y="4524480"/>
            <a:ext cx="7610400" cy="18572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6"/>
          <p:cNvGrpSpPr/>
          <p:nvPr/>
        </p:nvGrpSpPr>
        <p:grpSpPr>
          <a:xfrm>
            <a:off x="1582560" y="1069920"/>
            <a:ext cx="6077880" cy="4869720"/>
            <a:chOff x="1582560" y="1069920"/>
            <a:chExt cx="6077880" cy="4869720"/>
          </a:xfrm>
        </p:grpSpPr>
        <p:sp>
          <p:nvSpPr>
            <p:cNvPr id="330" name="Freeform 7"/>
            <p:cNvSpPr/>
            <p:nvPr/>
          </p:nvSpPr>
          <p:spPr>
            <a:xfrm>
              <a:off x="4465080" y="1172520"/>
              <a:ext cx="3195360" cy="3803760"/>
            </a:xfrm>
            <a:custGeom>
              <a:avLst/>
              <a:gdLst>
                <a:gd name="textAreaLeft" fmla="*/ 0 w 3195360"/>
                <a:gd name="textAreaRight" fmla="*/ 3195720 w 3195360"/>
                <a:gd name="textAreaTop" fmla="*/ 0 h 3803760"/>
                <a:gd name="textAreaBottom" fmla="*/ 3804120 h 380376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1738440" y="1531440"/>
              <a:ext cx="2726640" cy="4075560"/>
            </a:xfrm>
            <a:custGeom>
              <a:avLst/>
              <a:gdLst>
                <a:gd name="textAreaLeft" fmla="*/ 0 w 2726640"/>
                <a:gd name="textAreaRight" fmla="*/ 2726640 w 2726640"/>
                <a:gd name="textAreaTop" fmla="*/ 0 h 4075560"/>
                <a:gd name="textAreaBottom" fmla="*/ 4075920 h 407556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"/>
            <p:cNvSpPr/>
            <p:nvPr/>
          </p:nvSpPr>
          <p:spPr>
            <a:xfrm>
              <a:off x="2694240" y="2152800"/>
              <a:ext cx="3116160" cy="3786840"/>
            </a:xfrm>
            <a:custGeom>
              <a:avLst/>
              <a:gdLst>
                <a:gd name="textAreaLeft" fmla="*/ 0 w 3116160"/>
                <a:gd name="textAreaRight" fmla="*/ 3116520 w 3116160"/>
                <a:gd name="textAreaTop" fmla="*/ 0 h 3786840"/>
                <a:gd name="textAreaBottom" fmla="*/ 3787200 h 378684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"/>
            <p:cNvSpPr/>
            <p:nvPr/>
          </p:nvSpPr>
          <p:spPr>
            <a:xfrm>
              <a:off x="4465080" y="1407600"/>
              <a:ext cx="894960" cy="744840"/>
            </a:xfrm>
            <a:custGeom>
              <a:avLst/>
              <a:gdLst>
                <a:gd name="textAreaLeft" fmla="*/ 0 w 894960"/>
                <a:gd name="textAreaRight" fmla="*/ 894960 w 89496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1582560" y="1396080"/>
              <a:ext cx="2869560" cy="3609000"/>
            </a:xfrm>
            <a:custGeom>
              <a:avLst/>
              <a:gdLst>
                <a:gd name="textAreaLeft" fmla="*/ 0 w 2869560"/>
                <a:gd name="textAreaRight" fmla="*/ 2869920 w 2869560"/>
                <a:gd name="textAreaTop" fmla="*/ 0 h 3609000"/>
                <a:gd name="textAreaBottom" fmla="*/ 3609360 h 360900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4465080" y="1109520"/>
              <a:ext cx="2438280" cy="4422600"/>
            </a:xfrm>
            <a:custGeom>
              <a:avLst/>
              <a:gdLst/>
              <a:ahLst/>
              <a:rect l="l" t="t" r="r" b="b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3345480" y="1869120"/>
              <a:ext cx="3928320" cy="4070520"/>
            </a:xfrm>
            <a:custGeom>
              <a:avLst/>
              <a:gdLst>
                <a:gd name="textAreaLeft" fmla="*/ 0 w 3928320"/>
                <a:gd name="textAreaRight" fmla="*/ 3928680 w 3928320"/>
                <a:gd name="textAreaTop" fmla="*/ 0 h 4070520"/>
                <a:gd name="textAreaBottom" fmla="*/ 4070880 h 40705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4"/>
            <p:cNvGrpSpPr/>
            <p:nvPr/>
          </p:nvGrpSpPr>
          <p:grpSpPr>
            <a:xfrm>
              <a:off x="1582560" y="1109520"/>
              <a:ext cx="6077880" cy="4829760"/>
              <a:chOff x="1582560" y="1109520"/>
              <a:chExt cx="6077880" cy="4829760"/>
            </a:xfrm>
          </p:grpSpPr>
          <p:sp>
            <p:nvSpPr>
              <p:cNvPr id="338" name="Freeform 15"/>
              <p:cNvSpPr/>
              <p:nvPr/>
            </p:nvSpPr>
            <p:spPr>
              <a:xfrm>
                <a:off x="4465080" y="1109520"/>
                <a:ext cx="3195360" cy="3866760"/>
              </a:xfrm>
              <a:custGeom>
                <a:avLst/>
                <a:gdLst>
                  <a:gd name="textAreaLeft" fmla="*/ 0 w 3195360"/>
                  <a:gd name="textAreaRight" fmla="*/ 3195720 w 3195360"/>
                  <a:gd name="textAreaTop" fmla="*/ 0 h 3866760"/>
                  <a:gd name="textAreaBottom" fmla="*/ 3867120 h 386676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6"/>
              <p:cNvSpPr/>
              <p:nvPr/>
            </p:nvSpPr>
            <p:spPr>
              <a:xfrm>
                <a:off x="2408400" y="2152440"/>
                <a:ext cx="2056320" cy="3399480"/>
              </a:xfrm>
              <a:custGeom>
                <a:avLst/>
                <a:gdLst>
                  <a:gd name="textAreaLeft" fmla="*/ 0 w 2056320"/>
                  <a:gd name="textAreaRight" fmla="*/ 2056680 w 2056320"/>
                  <a:gd name="textAreaTop" fmla="*/ 0 h 3399480"/>
                  <a:gd name="textAreaBottom" fmla="*/ 3399840 h 339948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7"/>
              <p:cNvSpPr/>
              <p:nvPr/>
            </p:nvSpPr>
            <p:spPr>
              <a:xfrm>
                <a:off x="1582560" y="1396080"/>
                <a:ext cx="2882520" cy="3608640"/>
              </a:xfrm>
              <a:custGeom>
                <a:avLst/>
                <a:gdLst>
                  <a:gd name="textAreaLeft" fmla="*/ 0 w 2882520"/>
                  <a:gd name="textAreaRight" fmla="*/ 2882880 w 2882520"/>
                  <a:gd name="textAreaTop" fmla="*/ 0 h 3608640"/>
                  <a:gd name="textAreaBottom" fmla="*/ 3609000 h 360864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8"/>
              <p:cNvSpPr/>
              <p:nvPr/>
            </p:nvSpPr>
            <p:spPr>
              <a:xfrm>
                <a:off x="4465080" y="2152440"/>
                <a:ext cx="1638720" cy="319572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3195720"/>
                  <a:gd name="textAreaBottom" fmla="*/ 3196080 h 31957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9"/>
              <p:cNvSpPr/>
              <p:nvPr/>
            </p:nvSpPr>
            <p:spPr>
              <a:xfrm>
                <a:off x="4465080" y="1490760"/>
                <a:ext cx="974160" cy="661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"/>
              <p:cNvSpPr/>
              <p:nvPr/>
            </p:nvSpPr>
            <p:spPr>
              <a:xfrm>
                <a:off x="4438440" y="1570680"/>
                <a:ext cx="315000" cy="58140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1"/>
              <p:cNvSpPr/>
              <p:nvPr/>
            </p:nvSpPr>
            <p:spPr>
              <a:xfrm>
                <a:off x="3753000" y="1659960"/>
                <a:ext cx="711720" cy="492480"/>
              </a:xfrm>
              <a:custGeom>
                <a:avLst/>
                <a:gdLst>
                  <a:gd name="textAreaLeft" fmla="*/ 0 w 711720"/>
                  <a:gd name="textAreaRight" fmla="*/ 712080 w 711720"/>
                  <a:gd name="textAreaTop" fmla="*/ 0 h 492480"/>
                  <a:gd name="textAreaBottom" fmla="*/ 492840 h 4924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2"/>
              <p:cNvSpPr/>
              <p:nvPr/>
            </p:nvSpPr>
            <p:spPr>
              <a:xfrm>
                <a:off x="2162160" y="2788920"/>
                <a:ext cx="5111280" cy="3150360"/>
              </a:xfrm>
              <a:custGeom>
                <a:avLst/>
                <a:gdLst>
                  <a:gd name="textAreaLeft" fmla="*/ 0 w 5111280"/>
                  <a:gd name="textAreaRight" fmla="*/ 5111280 w 5111280"/>
                  <a:gd name="textAreaTop" fmla="*/ 0 h 3150360"/>
                  <a:gd name="textAreaBottom" fmla="*/ 3150720 h 315036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Freeform 23"/>
            <p:cNvSpPr/>
            <p:nvPr/>
          </p:nvSpPr>
          <p:spPr>
            <a:xfrm>
              <a:off x="3753000" y="1407600"/>
              <a:ext cx="1000440" cy="74484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4"/>
            <p:cNvSpPr/>
            <p:nvPr/>
          </p:nvSpPr>
          <p:spPr>
            <a:xfrm>
              <a:off x="4222080" y="1944000"/>
              <a:ext cx="492120" cy="2833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5"/>
            <p:cNvSpPr/>
            <p:nvPr/>
          </p:nvSpPr>
          <p:spPr>
            <a:xfrm>
              <a:off x="3790440" y="1137960"/>
              <a:ext cx="831240" cy="99504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6"/>
            <p:cNvSpPr/>
            <p:nvPr/>
          </p:nvSpPr>
          <p:spPr>
            <a:xfrm>
              <a:off x="3764160" y="1069920"/>
              <a:ext cx="875880" cy="461520"/>
            </a:xfrm>
            <a:custGeom>
              <a:avLst/>
              <a:gdLst>
                <a:gd name="textAreaLeft" fmla="*/ 0 w 875880"/>
                <a:gd name="textAreaRight" fmla="*/ 876240 w 875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WordArt 27"/>
          <p:cNvSpPr txBox="1"/>
          <p:nvPr/>
        </p:nvSpPr>
        <p:spPr>
          <a:xfrm>
            <a:off x="2433600" y="3062160"/>
            <a:ext cx="395928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2300" dir="17036436" blurRad="0" rotWithShape="0">
                    <a:srgbClr val="d86e05"/>
                  </a:outerShdw>
                </a:effectLst>
                <a:latin typeface="Impact"/>
              </a:rPr>
              <a:t>Your Tex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2300" dir="17036436" blurRad="0" rotWithShape="0">
                  <a:srgbClr val="d86e05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 flipV="1">
            <a:off x="0" y="3427920"/>
            <a:ext cx="9144000" cy="3429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84320" y="620640"/>
            <a:ext cx="3364920" cy="2697120"/>
            <a:chOff x="184320" y="620640"/>
            <a:chExt cx="3364920" cy="2697120"/>
          </a:xfrm>
        </p:grpSpPr>
        <p:sp>
          <p:nvSpPr>
            <p:cNvPr id="354" name="Freeform 5"/>
            <p:cNvSpPr/>
            <p:nvPr/>
          </p:nvSpPr>
          <p:spPr>
            <a:xfrm>
              <a:off x="1780200" y="677520"/>
              <a:ext cx="1769040" cy="2106720"/>
            </a:xfrm>
            <a:custGeom>
              <a:avLst/>
              <a:gdLst>
                <a:gd name="textAreaLeft" fmla="*/ 0 w 1769040"/>
                <a:gd name="textAreaRight" fmla="*/ 1769400 w 1769040"/>
                <a:gd name="textAreaTop" fmla="*/ 0 h 2106720"/>
                <a:gd name="textAreaBottom" fmla="*/ 2107080 h 210672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0720" y="876240"/>
              <a:ext cx="1509480" cy="225720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799560" y="1220400"/>
              <a:ext cx="1725120" cy="2097360"/>
            </a:xfrm>
            <a:custGeom>
              <a:avLst/>
              <a:gdLst>
                <a:gd name="textAreaLeft" fmla="*/ 0 w 1725120"/>
                <a:gd name="textAreaRight" fmla="*/ 1725480 w 1725120"/>
                <a:gd name="textAreaTop" fmla="*/ 0 h 2097360"/>
                <a:gd name="textAreaBottom" fmla="*/ 2097360 h 209736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1780200" y="807840"/>
              <a:ext cx="495360" cy="4125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184320" y="801360"/>
              <a:ext cx="1588680" cy="1998720"/>
            </a:xfrm>
            <a:custGeom>
              <a:avLst/>
              <a:gdLst>
                <a:gd name="textAreaLeft" fmla="*/ 0 w 1588680"/>
                <a:gd name="textAreaRight" fmla="*/ 1589040 w 158868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1780200" y="642600"/>
              <a:ext cx="1350000" cy="2449440"/>
            </a:xfrm>
            <a:custGeom>
              <a:avLst/>
              <a:gdLst>
                <a:gd name="textAreaLeft" fmla="*/ 0 w 1350000"/>
                <a:gd name="textAreaRight" fmla="*/ 1350360 w 135000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1160280" y="1063440"/>
              <a:ext cx="2174760" cy="225432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12"/>
            <p:cNvGrpSpPr/>
            <p:nvPr/>
          </p:nvGrpSpPr>
          <p:grpSpPr>
            <a:xfrm>
              <a:off x="184320" y="642600"/>
              <a:ext cx="3364920" cy="2675160"/>
              <a:chOff x="184320" y="642600"/>
              <a:chExt cx="3364920" cy="2675160"/>
            </a:xfrm>
          </p:grpSpPr>
          <p:sp>
            <p:nvSpPr>
              <p:cNvPr id="362" name="Freeform 13"/>
              <p:cNvSpPr/>
              <p:nvPr/>
            </p:nvSpPr>
            <p:spPr>
              <a:xfrm>
                <a:off x="1780200" y="642600"/>
                <a:ext cx="1769040" cy="2141640"/>
              </a:xfrm>
              <a:custGeom>
                <a:avLst/>
                <a:gdLst>
                  <a:gd name="textAreaLeft" fmla="*/ 0 w 1769040"/>
                  <a:gd name="textAreaRight" fmla="*/ 1769400 w 176904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4"/>
              <p:cNvSpPr/>
              <p:nvPr/>
            </p:nvSpPr>
            <p:spPr>
              <a:xfrm>
                <a:off x="641520" y="1220400"/>
                <a:ext cx="1138680" cy="1882800"/>
              </a:xfrm>
              <a:custGeom>
                <a:avLst/>
                <a:gdLst>
                  <a:gd name="textAreaLeft" fmla="*/ 0 w 1138680"/>
                  <a:gd name="textAreaRight" fmla="*/ 1139040 w 113868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"/>
              <p:cNvSpPr/>
              <p:nvPr/>
            </p:nvSpPr>
            <p:spPr>
              <a:xfrm>
                <a:off x="184320" y="801360"/>
                <a:ext cx="1595880" cy="199872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1998720"/>
                  <a:gd name="textAreaBottom" fmla="*/ 1999080 h 199872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6"/>
              <p:cNvSpPr/>
              <p:nvPr/>
            </p:nvSpPr>
            <p:spPr>
              <a:xfrm>
                <a:off x="1780200" y="1220400"/>
                <a:ext cx="907200" cy="1770120"/>
              </a:xfrm>
              <a:custGeom>
                <a:avLst/>
                <a:gdLst>
                  <a:gd name="textAreaLeft" fmla="*/ 0 w 907200"/>
                  <a:gd name="textAreaRight" fmla="*/ 907560 w 90720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7"/>
              <p:cNvSpPr/>
              <p:nvPr/>
            </p:nvSpPr>
            <p:spPr>
              <a:xfrm>
                <a:off x="1780200" y="853920"/>
                <a:ext cx="539280" cy="366480"/>
              </a:xfrm>
              <a:custGeom>
                <a:avLst/>
                <a:gdLst>
                  <a:gd name="textAreaLeft" fmla="*/ 0 w 539280"/>
                  <a:gd name="textAreaRight" fmla="*/ 539640 w 5392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"/>
              <p:cNvSpPr/>
              <p:nvPr/>
            </p:nvSpPr>
            <p:spPr>
              <a:xfrm>
                <a:off x="1765440" y="898200"/>
                <a:ext cx="174240" cy="32220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9"/>
              <p:cNvSpPr/>
              <p:nvPr/>
            </p:nvSpPr>
            <p:spPr>
              <a:xfrm>
                <a:off x="1386000" y="947520"/>
                <a:ext cx="393840" cy="272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0"/>
              <p:cNvSpPr/>
              <p:nvPr/>
            </p:nvSpPr>
            <p:spPr>
              <a:xfrm>
                <a:off x="505080" y="1572840"/>
                <a:ext cx="2829960" cy="1744920"/>
              </a:xfrm>
              <a:custGeom>
                <a:avLst/>
                <a:gdLst>
                  <a:gd name="textAreaLeft" fmla="*/ 0 w 2829960"/>
                  <a:gd name="textAreaRight" fmla="*/ 2830320 w 2829960"/>
                  <a:gd name="textAreaTop" fmla="*/ 0 h 1744920"/>
                  <a:gd name="textAreaBottom" fmla="*/ 1745280 h 174492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21"/>
            <p:cNvSpPr/>
            <p:nvPr/>
          </p:nvSpPr>
          <p:spPr>
            <a:xfrm>
              <a:off x="1386000" y="807840"/>
              <a:ext cx="554040" cy="4125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1645560" y="1104840"/>
              <a:ext cx="272520" cy="15696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1406520" y="658440"/>
              <a:ext cx="460080" cy="55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1392120" y="620640"/>
              <a:ext cx="484920" cy="25560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5780160" y="620640"/>
            <a:ext cx="3363480" cy="2697120"/>
            <a:chOff x="5780160" y="620640"/>
            <a:chExt cx="3363480" cy="2697120"/>
          </a:xfrm>
        </p:grpSpPr>
        <p:sp>
          <p:nvSpPr>
            <p:cNvPr id="375" name="Freeform 26"/>
            <p:cNvSpPr/>
            <p:nvPr/>
          </p:nvSpPr>
          <p:spPr>
            <a:xfrm>
              <a:off x="7375320" y="677520"/>
              <a:ext cx="1768320" cy="21067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2106720"/>
                <a:gd name="textAreaBottom" fmla="*/ 2107080 h 210672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5866200" y="876240"/>
              <a:ext cx="1508760" cy="2257200"/>
            </a:xfrm>
            <a:custGeom>
              <a:avLst/>
              <a:gdLst>
                <a:gd name="textAreaLeft" fmla="*/ 0 w 1508760"/>
                <a:gd name="textAreaRight" fmla="*/ 1509120 w 150876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6395400" y="1220400"/>
              <a:ext cx="1724400" cy="209736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2097360"/>
                <a:gd name="textAreaBottom" fmla="*/ 2097360 h 209736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7375320" y="807840"/>
              <a:ext cx="495360" cy="4125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780160" y="801360"/>
              <a:ext cx="1587960" cy="199872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7375320" y="642600"/>
              <a:ext cx="1349280" cy="244944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6755760" y="1063440"/>
              <a:ext cx="2174040" cy="2254320"/>
            </a:xfrm>
            <a:custGeom>
              <a:avLst/>
              <a:gdLst>
                <a:gd name="textAreaLeft" fmla="*/ 0 w 2174040"/>
                <a:gd name="textAreaRight" fmla="*/ 2174040 w 217404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33"/>
            <p:cNvGrpSpPr/>
            <p:nvPr/>
          </p:nvGrpSpPr>
          <p:grpSpPr>
            <a:xfrm>
              <a:off x="5780160" y="642600"/>
              <a:ext cx="3363480" cy="2675160"/>
              <a:chOff x="5780160" y="642600"/>
              <a:chExt cx="3363480" cy="2675160"/>
            </a:xfrm>
          </p:grpSpPr>
          <p:sp>
            <p:nvSpPr>
              <p:cNvPr id="383" name="Freeform 34"/>
              <p:cNvSpPr/>
              <p:nvPr/>
            </p:nvSpPr>
            <p:spPr>
              <a:xfrm>
                <a:off x="7375320" y="642600"/>
                <a:ext cx="1768320" cy="2141640"/>
              </a:xfrm>
              <a:custGeom>
                <a:avLst/>
                <a:gdLst>
                  <a:gd name="textAreaLeft" fmla="*/ 0 w 1768320"/>
                  <a:gd name="textAreaRight" fmla="*/ 1768680 w 176832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5"/>
              <p:cNvSpPr/>
              <p:nvPr/>
            </p:nvSpPr>
            <p:spPr>
              <a:xfrm>
                <a:off x="6237000" y="1220400"/>
                <a:ext cx="1137960" cy="1882800"/>
              </a:xfrm>
              <a:custGeom>
                <a:avLst/>
                <a:gdLst>
                  <a:gd name="textAreaLeft" fmla="*/ 0 w 1137960"/>
                  <a:gd name="textAreaRight" fmla="*/ 1138320 w 113796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6"/>
              <p:cNvSpPr/>
              <p:nvPr/>
            </p:nvSpPr>
            <p:spPr>
              <a:xfrm>
                <a:off x="5780160" y="801360"/>
                <a:ext cx="1595160" cy="1998720"/>
              </a:xfrm>
              <a:custGeom>
                <a:avLst/>
                <a:gdLst>
                  <a:gd name="textAreaLeft" fmla="*/ 0 w 1595160"/>
                  <a:gd name="textAreaRight" fmla="*/ 1595520 w 1595160"/>
                  <a:gd name="textAreaTop" fmla="*/ 0 h 1998720"/>
                  <a:gd name="textAreaBottom" fmla="*/ 1999080 h 199872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7"/>
              <p:cNvSpPr/>
              <p:nvPr/>
            </p:nvSpPr>
            <p:spPr>
              <a:xfrm>
                <a:off x="7375320" y="1220400"/>
                <a:ext cx="906840" cy="177012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8"/>
              <p:cNvSpPr/>
              <p:nvPr/>
            </p:nvSpPr>
            <p:spPr>
              <a:xfrm>
                <a:off x="7375320" y="853920"/>
                <a:ext cx="538920" cy="366480"/>
              </a:xfrm>
              <a:custGeom>
                <a:avLst/>
                <a:gdLst>
                  <a:gd name="textAreaLeft" fmla="*/ 0 w 538920"/>
                  <a:gd name="textAreaRight" fmla="*/ 539280 w 5389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9"/>
              <p:cNvSpPr/>
              <p:nvPr/>
            </p:nvSpPr>
            <p:spPr>
              <a:xfrm>
                <a:off x="7360920" y="898200"/>
                <a:ext cx="174240" cy="32220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0"/>
              <p:cNvSpPr/>
              <p:nvPr/>
            </p:nvSpPr>
            <p:spPr>
              <a:xfrm>
                <a:off x="6981480" y="947520"/>
                <a:ext cx="393840" cy="272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1"/>
              <p:cNvSpPr/>
              <p:nvPr/>
            </p:nvSpPr>
            <p:spPr>
              <a:xfrm>
                <a:off x="6100920" y="1572840"/>
                <a:ext cx="2828880" cy="1744920"/>
              </a:xfrm>
              <a:custGeom>
                <a:avLst/>
                <a:gdLst>
                  <a:gd name="textAreaLeft" fmla="*/ 0 w 2828880"/>
                  <a:gd name="textAreaRight" fmla="*/ 2828880 w 2828880"/>
                  <a:gd name="textAreaTop" fmla="*/ 0 h 1744920"/>
                  <a:gd name="textAreaBottom" fmla="*/ 1745280 h 174492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Freeform 42"/>
            <p:cNvSpPr/>
            <p:nvPr/>
          </p:nvSpPr>
          <p:spPr>
            <a:xfrm>
              <a:off x="6981480" y="807840"/>
              <a:ext cx="553680" cy="4125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7240680" y="1104840"/>
              <a:ext cx="272160" cy="1569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7002000" y="658440"/>
              <a:ext cx="460080" cy="55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6987240" y="620640"/>
              <a:ext cx="484560" cy="2556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46"/>
          <p:cNvGrpSpPr/>
          <p:nvPr/>
        </p:nvGrpSpPr>
        <p:grpSpPr>
          <a:xfrm>
            <a:off x="6432480" y="1484280"/>
            <a:ext cx="1911240" cy="561960"/>
            <a:chOff x="6432480" y="1484280"/>
            <a:chExt cx="1911240" cy="561960"/>
          </a:xfrm>
        </p:grpSpPr>
        <p:sp>
          <p:nvSpPr>
            <p:cNvPr id="396" name="Freeform 47"/>
            <p:cNvSpPr/>
            <p:nvPr/>
          </p:nvSpPr>
          <p:spPr>
            <a:xfrm>
              <a:off x="6432480" y="1484280"/>
              <a:ext cx="869040" cy="558720"/>
            </a:xfrm>
            <a:custGeom>
              <a:avLst/>
              <a:gdLst>
                <a:gd name="textAreaLeft" fmla="*/ 0 w 869040"/>
                <a:gd name="textAreaRight" fmla="*/ 869400 w 86904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251" h="149">
                  <a:moveTo>
                    <a:pt x="65" y="133"/>
                  </a:moveTo>
                  <a:cubicBezTo>
                    <a:pt x="0" y="106"/>
                    <a:pt x="7" y="33"/>
                    <a:pt x="7" y="0"/>
                  </a:cubicBezTo>
                  <a:cubicBezTo>
                    <a:pt x="47" y="21"/>
                    <a:pt x="220" y="111"/>
                    <a:pt x="251" y="109"/>
                  </a:cubicBezTo>
                  <a:cubicBezTo>
                    <a:pt x="217" y="129"/>
                    <a:pt x="105" y="149"/>
                    <a:pt x="65" y="133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7464240" y="1484280"/>
              <a:ext cx="879480" cy="5587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254" h="149">
                  <a:moveTo>
                    <a:pt x="189" y="133"/>
                  </a:moveTo>
                  <a:cubicBezTo>
                    <a:pt x="254" y="106"/>
                    <a:pt x="247" y="33"/>
                    <a:pt x="247" y="0"/>
                  </a:cubicBezTo>
                  <a:cubicBezTo>
                    <a:pt x="207" y="21"/>
                    <a:pt x="32" y="110"/>
                    <a:pt x="0" y="108"/>
                  </a:cubicBezTo>
                  <a:cubicBezTo>
                    <a:pt x="35" y="129"/>
                    <a:pt x="148" y="149"/>
                    <a:pt x="189" y="133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6483960" y="1517760"/>
              <a:ext cx="813240" cy="5284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35" h="141">
                  <a:moveTo>
                    <a:pt x="62" y="126"/>
                  </a:moveTo>
                  <a:cubicBezTo>
                    <a:pt x="0" y="100"/>
                    <a:pt x="7" y="31"/>
                    <a:pt x="7" y="0"/>
                  </a:cubicBezTo>
                  <a:cubicBezTo>
                    <a:pt x="44" y="20"/>
                    <a:pt x="205" y="102"/>
                    <a:pt x="235" y="101"/>
                  </a:cubicBezTo>
                  <a:cubicBezTo>
                    <a:pt x="203" y="120"/>
                    <a:pt x="100" y="141"/>
                    <a:pt x="62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7474680" y="1517760"/>
              <a:ext cx="817560" cy="5284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36" h="141">
                  <a:moveTo>
                    <a:pt x="174" y="126"/>
                  </a:moveTo>
                  <a:cubicBezTo>
                    <a:pt x="236" y="100"/>
                    <a:pt x="229" y="31"/>
                    <a:pt x="229" y="0"/>
                  </a:cubicBezTo>
                  <a:cubicBezTo>
                    <a:pt x="192" y="20"/>
                    <a:pt x="30" y="102"/>
                    <a:pt x="0" y="101"/>
                  </a:cubicBezTo>
                  <a:cubicBezTo>
                    <a:pt x="33" y="120"/>
                    <a:pt x="136" y="141"/>
                    <a:pt x="174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51"/>
          <p:cNvGrpSpPr/>
          <p:nvPr/>
        </p:nvGrpSpPr>
        <p:grpSpPr>
          <a:xfrm>
            <a:off x="6508800" y="2155680"/>
            <a:ext cx="1749240" cy="757440"/>
            <a:chOff x="6508800" y="2155680"/>
            <a:chExt cx="1749240" cy="757440"/>
          </a:xfrm>
        </p:grpSpPr>
        <p:sp>
          <p:nvSpPr>
            <p:cNvPr id="401" name="Freeform 52"/>
            <p:cNvSpPr/>
            <p:nvPr/>
          </p:nvSpPr>
          <p:spPr>
            <a:xfrm>
              <a:off x="6508800" y="2155680"/>
              <a:ext cx="1749240" cy="757440"/>
            </a:xfrm>
            <a:custGeom>
              <a:avLst/>
              <a:gdLst>
                <a:gd name="textAreaLeft" fmla="*/ 0 w 1749240"/>
                <a:gd name="textAreaRight" fmla="*/ 1749600 w 17492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505" h="202">
                  <a:moveTo>
                    <a:pt x="403" y="53"/>
                  </a:moveTo>
                  <a:cubicBezTo>
                    <a:pt x="393" y="92"/>
                    <a:pt x="393" y="92"/>
                    <a:pt x="393" y="92"/>
                  </a:cubicBezTo>
                  <a:cubicBezTo>
                    <a:pt x="374" y="52"/>
                    <a:pt x="374" y="52"/>
                    <a:pt x="374" y="52"/>
                  </a:cubicBezTo>
                  <a:cubicBezTo>
                    <a:pt x="295" y="59"/>
                    <a:pt x="207" y="53"/>
                    <a:pt x="128" y="40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59" y="31"/>
                    <a:pt x="26" y="11"/>
                    <a:pt x="0" y="0"/>
                  </a:cubicBezTo>
                  <a:cubicBezTo>
                    <a:pt x="88" y="184"/>
                    <a:pt x="390" y="202"/>
                    <a:pt x="505" y="20"/>
                  </a:cubicBezTo>
                  <a:cubicBezTo>
                    <a:pt x="478" y="32"/>
                    <a:pt x="441" y="48"/>
                    <a:pt x="403" y="53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553800" y="2185920"/>
              <a:ext cx="1648440" cy="712800"/>
            </a:xfrm>
            <a:custGeom>
              <a:avLst/>
              <a:gdLst>
                <a:gd name="textAreaLeft" fmla="*/ 0 w 1648440"/>
                <a:gd name="textAreaRight" fmla="*/ 1648800 w 1648440"/>
                <a:gd name="textAreaTop" fmla="*/ 0 h 712800"/>
                <a:gd name="textAreaBottom" fmla="*/ 712800 h 712800"/>
              </a:gdLst>
              <a:ahLst/>
              <a:rect l="textAreaLeft" t="textAreaTop" r="textAreaRight" b="textAreaBottom"/>
              <a:pathLst>
                <a:path w="476" h="190">
                  <a:moveTo>
                    <a:pt x="381" y="42"/>
                  </a:moveTo>
                  <a:cubicBezTo>
                    <a:pt x="372" y="78"/>
                    <a:pt x="372" y="78"/>
                    <a:pt x="372" y="78"/>
                  </a:cubicBezTo>
                  <a:cubicBezTo>
                    <a:pt x="356" y="44"/>
                    <a:pt x="356" y="44"/>
                    <a:pt x="356" y="44"/>
                  </a:cubicBezTo>
                  <a:cubicBezTo>
                    <a:pt x="281" y="51"/>
                    <a:pt x="194" y="47"/>
                    <a:pt x="119" y="34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56" y="21"/>
                    <a:pt x="25" y="11"/>
                    <a:pt x="0" y="0"/>
                  </a:cubicBezTo>
                  <a:cubicBezTo>
                    <a:pt x="84" y="175"/>
                    <a:pt x="367" y="190"/>
                    <a:pt x="476" y="19"/>
                  </a:cubicBezTo>
                  <a:cubicBezTo>
                    <a:pt x="450" y="29"/>
                    <a:pt x="418" y="37"/>
                    <a:pt x="381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1"/>
                </a:gs>
                <a:gs pos="100000">
                  <a:srgbClr val="ffff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54"/>
          <p:cNvGrpSpPr/>
          <p:nvPr/>
        </p:nvGrpSpPr>
        <p:grpSpPr>
          <a:xfrm>
            <a:off x="2976480" y="620640"/>
            <a:ext cx="3363480" cy="2697120"/>
            <a:chOff x="2976480" y="620640"/>
            <a:chExt cx="3363480" cy="2697120"/>
          </a:xfrm>
        </p:grpSpPr>
        <p:sp>
          <p:nvSpPr>
            <p:cNvPr id="404" name="Freeform 55"/>
            <p:cNvSpPr/>
            <p:nvPr/>
          </p:nvSpPr>
          <p:spPr>
            <a:xfrm>
              <a:off x="4571640" y="677520"/>
              <a:ext cx="1768320" cy="21067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2106720"/>
                <a:gd name="textAreaBottom" fmla="*/ 2107080 h 210672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3062520" y="876240"/>
              <a:ext cx="1508760" cy="2257200"/>
            </a:xfrm>
            <a:custGeom>
              <a:avLst/>
              <a:gdLst>
                <a:gd name="textAreaLeft" fmla="*/ 0 w 1508760"/>
                <a:gd name="textAreaRight" fmla="*/ 1509120 w 150876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3591720" y="1220400"/>
              <a:ext cx="1724400" cy="209736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2097360"/>
                <a:gd name="textAreaBottom" fmla="*/ 2097360 h 209736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4571640" y="807840"/>
              <a:ext cx="495360" cy="4125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2976480" y="801360"/>
              <a:ext cx="1587960" cy="199872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4571640" y="642600"/>
              <a:ext cx="1349280" cy="244944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3952080" y="1063440"/>
              <a:ext cx="2174040" cy="2254320"/>
            </a:xfrm>
            <a:custGeom>
              <a:avLst/>
              <a:gdLst>
                <a:gd name="textAreaLeft" fmla="*/ 0 w 2174040"/>
                <a:gd name="textAreaRight" fmla="*/ 2174040 w 217404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62"/>
            <p:cNvGrpSpPr/>
            <p:nvPr/>
          </p:nvGrpSpPr>
          <p:grpSpPr>
            <a:xfrm>
              <a:off x="2976480" y="642600"/>
              <a:ext cx="3363480" cy="2675160"/>
              <a:chOff x="2976480" y="642600"/>
              <a:chExt cx="3363480" cy="267516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571640" y="642600"/>
                <a:ext cx="1768320" cy="2141640"/>
              </a:xfrm>
              <a:custGeom>
                <a:avLst/>
                <a:gdLst>
                  <a:gd name="textAreaLeft" fmla="*/ 0 w 1768320"/>
                  <a:gd name="textAreaRight" fmla="*/ 1768680 w 176832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4"/>
              <p:cNvSpPr/>
              <p:nvPr/>
            </p:nvSpPr>
            <p:spPr>
              <a:xfrm>
                <a:off x="3433320" y="1220400"/>
                <a:ext cx="1137960" cy="1882800"/>
              </a:xfrm>
              <a:custGeom>
                <a:avLst/>
                <a:gdLst>
                  <a:gd name="textAreaLeft" fmla="*/ 0 w 1137960"/>
                  <a:gd name="textAreaRight" fmla="*/ 1138320 w 113796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5"/>
              <p:cNvSpPr/>
              <p:nvPr/>
            </p:nvSpPr>
            <p:spPr>
              <a:xfrm>
                <a:off x="2976480" y="801360"/>
                <a:ext cx="1595160" cy="1998720"/>
              </a:xfrm>
              <a:custGeom>
                <a:avLst/>
                <a:gdLst>
                  <a:gd name="textAreaLeft" fmla="*/ 0 w 1595160"/>
                  <a:gd name="textAreaRight" fmla="*/ 1595520 w 1595160"/>
                  <a:gd name="textAreaTop" fmla="*/ 0 h 1998720"/>
                  <a:gd name="textAreaBottom" fmla="*/ 1999080 h 199872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6"/>
              <p:cNvSpPr/>
              <p:nvPr/>
            </p:nvSpPr>
            <p:spPr>
              <a:xfrm>
                <a:off x="4571640" y="1220400"/>
                <a:ext cx="906840" cy="177012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7"/>
              <p:cNvSpPr/>
              <p:nvPr/>
            </p:nvSpPr>
            <p:spPr>
              <a:xfrm>
                <a:off x="4571640" y="853920"/>
                <a:ext cx="538920" cy="366480"/>
              </a:xfrm>
              <a:custGeom>
                <a:avLst/>
                <a:gdLst>
                  <a:gd name="textAreaLeft" fmla="*/ 0 w 538920"/>
                  <a:gd name="textAreaRight" fmla="*/ 539280 w 5389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8"/>
              <p:cNvSpPr/>
              <p:nvPr/>
            </p:nvSpPr>
            <p:spPr>
              <a:xfrm>
                <a:off x="4557240" y="898200"/>
                <a:ext cx="174240" cy="32220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9"/>
              <p:cNvSpPr/>
              <p:nvPr/>
            </p:nvSpPr>
            <p:spPr>
              <a:xfrm>
                <a:off x="4177800" y="947520"/>
                <a:ext cx="393840" cy="272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0"/>
              <p:cNvSpPr/>
              <p:nvPr/>
            </p:nvSpPr>
            <p:spPr>
              <a:xfrm>
                <a:off x="3297240" y="1572840"/>
                <a:ext cx="2828880" cy="1744920"/>
              </a:xfrm>
              <a:custGeom>
                <a:avLst/>
                <a:gdLst>
                  <a:gd name="textAreaLeft" fmla="*/ 0 w 2828880"/>
                  <a:gd name="textAreaRight" fmla="*/ 2828880 w 2828880"/>
                  <a:gd name="textAreaTop" fmla="*/ 0 h 1744920"/>
                  <a:gd name="textAreaBottom" fmla="*/ 1745280 h 174492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Freeform 71"/>
            <p:cNvSpPr/>
            <p:nvPr/>
          </p:nvSpPr>
          <p:spPr>
            <a:xfrm>
              <a:off x="4177800" y="807840"/>
              <a:ext cx="553680" cy="4125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2"/>
            <p:cNvSpPr/>
            <p:nvPr/>
          </p:nvSpPr>
          <p:spPr>
            <a:xfrm>
              <a:off x="4437000" y="1104840"/>
              <a:ext cx="272160" cy="1569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3"/>
            <p:cNvSpPr/>
            <p:nvPr/>
          </p:nvSpPr>
          <p:spPr>
            <a:xfrm>
              <a:off x="4198320" y="658440"/>
              <a:ext cx="460080" cy="55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4"/>
            <p:cNvSpPr/>
            <p:nvPr/>
          </p:nvSpPr>
          <p:spPr>
            <a:xfrm>
              <a:off x="4183560" y="620640"/>
              <a:ext cx="484560" cy="2556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75"/>
          <p:cNvGrpSpPr/>
          <p:nvPr/>
        </p:nvGrpSpPr>
        <p:grpSpPr>
          <a:xfrm>
            <a:off x="3754440" y="1433520"/>
            <a:ext cx="1615680" cy="520560"/>
            <a:chOff x="3754440" y="1433520"/>
            <a:chExt cx="1615680" cy="520560"/>
          </a:xfrm>
        </p:grpSpPr>
        <p:sp>
          <p:nvSpPr>
            <p:cNvPr id="425" name="Freeform 76"/>
            <p:cNvSpPr/>
            <p:nvPr/>
          </p:nvSpPr>
          <p:spPr>
            <a:xfrm>
              <a:off x="3754440" y="1433520"/>
              <a:ext cx="698400" cy="520560"/>
            </a:xfrm>
            <a:custGeom>
              <a:avLst/>
              <a:gdLst>
                <a:gd name="textAreaLeft" fmla="*/ 0 w 698400"/>
                <a:gd name="textAreaRight" fmla="*/ 698400 w 6984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02" h="139">
                  <a:moveTo>
                    <a:pt x="163" y="0"/>
                  </a:moveTo>
                  <a:cubicBezTo>
                    <a:pt x="124" y="0"/>
                    <a:pt x="11" y="96"/>
                    <a:pt x="0" y="139"/>
                  </a:cubicBezTo>
                  <a:cubicBezTo>
                    <a:pt x="34" y="120"/>
                    <a:pt x="174" y="81"/>
                    <a:pt x="202" y="83"/>
                  </a:cubicBezTo>
                  <a:cubicBezTo>
                    <a:pt x="191" y="57"/>
                    <a:pt x="175" y="10"/>
                    <a:pt x="163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7"/>
            <p:cNvSpPr/>
            <p:nvPr/>
          </p:nvSpPr>
          <p:spPr>
            <a:xfrm>
              <a:off x="4668120" y="1433520"/>
              <a:ext cx="702000" cy="5205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03" h="139">
                  <a:moveTo>
                    <a:pt x="38" y="0"/>
                  </a:moveTo>
                  <a:cubicBezTo>
                    <a:pt x="78" y="0"/>
                    <a:pt x="192" y="96"/>
                    <a:pt x="203" y="139"/>
                  </a:cubicBezTo>
                  <a:cubicBezTo>
                    <a:pt x="169" y="120"/>
                    <a:pt x="27" y="81"/>
                    <a:pt x="0" y="83"/>
                  </a:cubicBezTo>
                  <a:cubicBezTo>
                    <a:pt x="10" y="57"/>
                    <a:pt x="26" y="10"/>
                    <a:pt x="38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8"/>
            <p:cNvSpPr/>
            <p:nvPr/>
          </p:nvSpPr>
          <p:spPr>
            <a:xfrm>
              <a:off x="3809880" y="1477800"/>
              <a:ext cx="654840" cy="4503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189" h="120">
                  <a:moveTo>
                    <a:pt x="153" y="0"/>
                  </a:moveTo>
                  <a:cubicBezTo>
                    <a:pt x="116" y="0"/>
                    <a:pt x="10" y="80"/>
                    <a:pt x="0" y="120"/>
                  </a:cubicBezTo>
                  <a:cubicBezTo>
                    <a:pt x="31" y="103"/>
                    <a:pt x="163" y="76"/>
                    <a:pt x="189" y="77"/>
                  </a:cubicBezTo>
                  <a:cubicBezTo>
                    <a:pt x="179" y="54"/>
                    <a:pt x="165" y="9"/>
                    <a:pt x="15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9"/>
            <p:cNvSpPr/>
            <p:nvPr/>
          </p:nvSpPr>
          <p:spPr>
            <a:xfrm>
              <a:off x="4665600" y="1477800"/>
              <a:ext cx="653040" cy="450360"/>
            </a:xfrm>
            <a:custGeom>
              <a:avLst/>
              <a:gdLst>
                <a:gd name="textAreaLeft" fmla="*/ 0 w 653040"/>
                <a:gd name="textAreaRight" fmla="*/ 653400 w 6530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189" h="120">
                  <a:moveTo>
                    <a:pt x="35" y="0"/>
                  </a:moveTo>
                  <a:cubicBezTo>
                    <a:pt x="72" y="0"/>
                    <a:pt x="178" y="80"/>
                    <a:pt x="189" y="120"/>
                  </a:cubicBezTo>
                  <a:cubicBezTo>
                    <a:pt x="157" y="103"/>
                    <a:pt x="25" y="76"/>
                    <a:pt x="0" y="77"/>
                  </a:cubicBezTo>
                  <a:cubicBezTo>
                    <a:pt x="10" y="54"/>
                    <a:pt x="24" y="9"/>
                    <a:pt x="3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80"/>
          <p:cNvGrpSpPr/>
          <p:nvPr/>
        </p:nvGrpSpPr>
        <p:grpSpPr>
          <a:xfrm>
            <a:off x="3774960" y="2276640"/>
            <a:ext cx="1703520" cy="434880"/>
            <a:chOff x="3774960" y="2276640"/>
            <a:chExt cx="1703520" cy="434880"/>
          </a:xfrm>
        </p:grpSpPr>
        <p:sp>
          <p:nvSpPr>
            <p:cNvPr id="430" name="Freeform 81"/>
            <p:cNvSpPr/>
            <p:nvPr/>
          </p:nvSpPr>
          <p:spPr>
            <a:xfrm>
              <a:off x="3774960" y="2292480"/>
              <a:ext cx="1703520" cy="419040"/>
            </a:xfrm>
            <a:custGeom>
              <a:avLst/>
              <a:gdLst>
                <a:gd name="textAreaLeft" fmla="*/ 0 w 1703520"/>
                <a:gd name="textAreaRight" fmla="*/ 1703880 w 17035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92" h="112">
                  <a:moveTo>
                    <a:pt x="492" y="97"/>
                  </a:moveTo>
                  <a:cubicBezTo>
                    <a:pt x="452" y="53"/>
                    <a:pt x="402" y="26"/>
                    <a:pt x="349" y="13"/>
                  </a:cubicBezTo>
                  <a:cubicBezTo>
                    <a:pt x="347" y="39"/>
                    <a:pt x="347" y="39"/>
                    <a:pt x="347" y="39"/>
                  </a:cubicBezTo>
                  <a:cubicBezTo>
                    <a:pt x="300" y="35"/>
                    <a:pt x="300" y="35"/>
                    <a:pt x="300" y="35"/>
                  </a:cubicBezTo>
                  <a:cubicBezTo>
                    <a:pt x="302" y="4"/>
                    <a:pt x="302" y="4"/>
                    <a:pt x="302" y="4"/>
                  </a:cubicBezTo>
                  <a:cubicBezTo>
                    <a:pt x="264" y="0"/>
                    <a:pt x="226" y="2"/>
                    <a:pt x="189" y="8"/>
                  </a:cubicBezTo>
                  <a:cubicBezTo>
                    <a:pt x="192" y="34"/>
                    <a:pt x="192" y="34"/>
                    <a:pt x="192" y="34"/>
                  </a:cubicBezTo>
                  <a:cubicBezTo>
                    <a:pt x="145" y="39"/>
                    <a:pt x="145" y="39"/>
                    <a:pt x="145" y="39"/>
                  </a:cubicBezTo>
                  <a:cubicBezTo>
                    <a:pt x="143" y="18"/>
                    <a:pt x="143" y="18"/>
                    <a:pt x="143" y="18"/>
                  </a:cubicBezTo>
                  <a:cubicBezTo>
                    <a:pt x="72" y="39"/>
                    <a:pt x="16" y="75"/>
                    <a:pt x="0" y="112"/>
                  </a:cubicBezTo>
                  <a:cubicBezTo>
                    <a:pt x="60" y="85"/>
                    <a:pt x="140" y="69"/>
                    <a:pt x="222" y="64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70" y="28"/>
                    <a:pt x="270" y="28"/>
                    <a:pt x="270" y="28"/>
                  </a:cubicBezTo>
                  <a:cubicBezTo>
                    <a:pt x="270" y="62"/>
                    <a:pt x="270" y="62"/>
                    <a:pt x="270" y="62"/>
                  </a:cubicBezTo>
                  <a:cubicBezTo>
                    <a:pt x="352" y="61"/>
                    <a:pt x="433" y="72"/>
                    <a:pt x="492" y="97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2"/>
            <p:cNvSpPr/>
            <p:nvPr/>
          </p:nvSpPr>
          <p:spPr>
            <a:xfrm>
              <a:off x="3834720" y="2276640"/>
              <a:ext cx="1580040" cy="390240"/>
            </a:xfrm>
            <a:custGeom>
              <a:avLst/>
              <a:gdLst>
                <a:gd name="textAreaLeft" fmla="*/ 0 w 1580040"/>
                <a:gd name="textAreaRight" fmla="*/ 1580400 w 15800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457" h="104">
                  <a:moveTo>
                    <a:pt x="457" y="90"/>
                  </a:moveTo>
                  <a:cubicBezTo>
                    <a:pt x="420" y="49"/>
                    <a:pt x="374" y="24"/>
                    <a:pt x="325" y="12"/>
                  </a:cubicBezTo>
                  <a:cubicBezTo>
                    <a:pt x="322" y="36"/>
                    <a:pt x="322" y="36"/>
                    <a:pt x="322" y="36"/>
                  </a:cubicBezTo>
                  <a:cubicBezTo>
                    <a:pt x="279" y="32"/>
                    <a:pt x="279" y="32"/>
                    <a:pt x="279" y="32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45" y="0"/>
                    <a:pt x="210" y="1"/>
                    <a:pt x="176" y="7"/>
                  </a:cubicBezTo>
                  <a:cubicBezTo>
                    <a:pt x="179" y="31"/>
                    <a:pt x="179" y="31"/>
                    <a:pt x="179" y="31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3" y="17"/>
                    <a:pt x="133" y="17"/>
                    <a:pt x="133" y="17"/>
                  </a:cubicBezTo>
                  <a:cubicBezTo>
                    <a:pt x="67" y="36"/>
                    <a:pt x="15" y="70"/>
                    <a:pt x="0" y="104"/>
                  </a:cubicBezTo>
                  <a:cubicBezTo>
                    <a:pt x="56" y="79"/>
                    <a:pt x="130" y="64"/>
                    <a:pt x="207" y="59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251" y="26"/>
                    <a:pt x="251" y="26"/>
                    <a:pt x="251" y="26"/>
                  </a:cubicBezTo>
                  <a:cubicBezTo>
                    <a:pt x="251" y="57"/>
                    <a:pt x="251" y="57"/>
                    <a:pt x="251" y="57"/>
                  </a:cubicBezTo>
                  <a:cubicBezTo>
                    <a:pt x="327" y="57"/>
                    <a:pt x="402" y="67"/>
                    <a:pt x="457" y="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1"/>
                </a:gs>
                <a:gs pos="100000">
                  <a:srgbClr val="ffff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83"/>
          <p:cNvGrpSpPr/>
          <p:nvPr/>
        </p:nvGrpSpPr>
        <p:grpSpPr>
          <a:xfrm>
            <a:off x="184320" y="3357720"/>
            <a:ext cx="3364920" cy="2697120"/>
            <a:chOff x="184320" y="3357720"/>
            <a:chExt cx="3364920" cy="2697120"/>
          </a:xfrm>
        </p:grpSpPr>
        <p:sp>
          <p:nvSpPr>
            <p:cNvPr id="433" name="Freeform 84"/>
            <p:cNvSpPr/>
            <p:nvPr/>
          </p:nvSpPr>
          <p:spPr>
            <a:xfrm>
              <a:off x="1780200" y="3414600"/>
              <a:ext cx="1769040" cy="2106720"/>
            </a:xfrm>
            <a:custGeom>
              <a:avLst/>
              <a:gdLst>
                <a:gd name="textAreaLeft" fmla="*/ 0 w 1769040"/>
                <a:gd name="textAreaRight" fmla="*/ 1769400 w 1769040"/>
                <a:gd name="textAreaTop" fmla="*/ 0 h 2106720"/>
                <a:gd name="textAreaBottom" fmla="*/ 2107080 h 210672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5"/>
            <p:cNvSpPr/>
            <p:nvPr/>
          </p:nvSpPr>
          <p:spPr>
            <a:xfrm>
              <a:off x="270720" y="3613320"/>
              <a:ext cx="1509480" cy="225720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6"/>
            <p:cNvSpPr/>
            <p:nvPr/>
          </p:nvSpPr>
          <p:spPr>
            <a:xfrm>
              <a:off x="799560" y="3957480"/>
              <a:ext cx="1725120" cy="2097360"/>
            </a:xfrm>
            <a:custGeom>
              <a:avLst/>
              <a:gdLst>
                <a:gd name="textAreaLeft" fmla="*/ 0 w 1725120"/>
                <a:gd name="textAreaRight" fmla="*/ 1725480 w 1725120"/>
                <a:gd name="textAreaTop" fmla="*/ 0 h 2097360"/>
                <a:gd name="textAreaBottom" fmla="*/ 2097360 h 209736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7"/>
            <p:cNvSpPr/>
            <p:nvPr/>
          </p:nvSpPr>
          <p:spPr>
            <a:xfrm>
              <a:off x="1780200" y="3544920"/>
              <a:ext cx="495360" cy="4125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8"/>
            <p:cNvSpPr/>
            <p:nvPr/>
          </p:nvSpPr>
          <p:spPr>
            <a:xfrm>
              <a:off x="184320" y="3538440"/>
              <a:ext cx="1588680" cy="1998720"/>
            </a:xfrm>
            <a:custGeom>
              <a:avLst/>
              <a:gdLst>
                <a:gd name="textAreaLeft" fmla="*/ 0 w 1588680"/>
                <a:gd name="textAreaRight" fmla="*/ 1589040 w 158868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9"/>
            <p:cNvSpPr/>
            <p:nvPr/>
          </p:nvSpPr>
          <p:spPr>
            <a:xfrm>
              <a:off x="1780200" y="3379680"/>
              <a:ext cx="1350000" cy="2449440"/>
            </a:xfrm>
            <a:custGeom>
              <a:avLst/>
              <a:gdLst>
                <a:gd name="textAreaLeft" fmla="*/ 0 w 1350000"/>
                <a:gd name="textAreaRight" fmla="*/ 1350360 w 135000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0"/>
            <p:cNvSpPr/>
            <p:nvPr/>
          </p:nvSpPr>
          <p:spPr>
            <a:xfrm>
              <a:off x="1160280" y="3800520"/>
              <a:ext cx="2174760" cy="225432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91"/>
            <p:cNvGrpSpPr/>
            <p:nvPr/>
          </p:nvGrpSpPr>
          <p:grpSpPr>
            <a:xfrm>
              <a:off x="184320" y="3379680"/>
              <a:ext cx="3364920" cy="2675160"/>
              <a:chOff x="184320" y="3379680"/>
              <a:chExt cx="3364920" cy="2675160"/>
            </a:xfrm>
          </p:grpSpPr>
          <p:sp>
            <p:nvSpPr>
              <p:cNvPr id="441" name="Freeform 92"/>
              <p:cNvSpPr/>
              <p:nvPr/>
            </p:nvSpPr>
            <p:spPr>
              <a:xfrm>
                <a:off x="1780200" y="3379680"/>
                <a:ext cx="1769040" cy="2141640"/>
              </a:xfrm>
              <a:custGeom>
                <a:avLst/>
                <a:gdLst>
                  <a:gd name="textAreaLeft" fmla="*/ 0 w 1769040"/>
                  <a:gd name="textAreaRight" fmla="*/ 1769400 w 176904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3"/>
              <p:cNvSpPr/>
              <p:nvPr/>
            </p:nvSpPr>
            <p:spPr>
              <a:xfrm>
                <a:off x="641520" y="3957480"/>
                <a:ext cx="1138680" cy="1882800"/>
              </a:xfrm>
              <a:custGeom>
                <a:avLst/>
                <a:gdLst>
                  <a:gd name="textAreaLeft" fmla="*/ 0 w 1138680"/>
                  <a:gd name="textAreaRight" fmla="*/ 1139040 w 113868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4"/>
              <p:cNvSpPr/>
              <p:nvPr/>
            </p:nvSpPr>
            <p:spPr>
              <a:xfrm>
                <a:off x="184320" y="3538440"/>
                <a:ext cx="1595880" cy="199872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1998720"/>
                  <a:gd name="textAreaBottom" fmla="*/ 1999080 h 199872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5"/>
              <p:cNvSpPr/>
              <p:nvPr/>
            </p:nvSpPr>
            <p:spPr>
              <a:xfrm>
                <a:off x="1780200" y="3957480"/>
                <a:ext cx="907200" cy="1770120"/>
              </a:xfrm>
              <a:custGeom>
                <a:avLst/>
                <a:gdLst>
                  <a:gd name="textAreaLeft" fmla="*/ 0 w 907200"/>
                  <a:gd name="textAreaRight" fmla="*/ 907560 w 90720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6"/>
              <p:cNvSpPr/>
              <p:nvPr/>
            </p:nvSpPr>
            <p:spPr>
              <a:xfrm>
                <a:off x="1780200" y="3591000"/>
                <a:ext cx="539280" cy="366480"/>
              </a:xfrm>
              <a:custGeom>
                <a:avLst/>
                <a:gdLst>
                  <a:gd name="textAreaLeft" fmla="*/ 0 w 539280"/>
                  <a:gd name="textAreaRight" fmla="*/ 539640 w 5392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7"/>
              <p:cNvSpPr/>
              <p:nvPr/>
            </p:nvSpPr>
            <p:spPr>
              <a:xfrm>
                <a:off x="1765440" y="3635280"/>
                <a:ext cx="174240" cy="32220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8"/>
              <p:cNvSpPr/>
              <p:nvPr/>
            </p:nvSpPr>
            <p:spPr>
              <a:xfrm>
                <a:off x="1386000" y="3684600"/>
                <a:ext cx="393840" cy="272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9"/>
              <p:cNvSpPr/>
              <p:nvPr/>
            </p:nvSpPr>
            <p:spPr>
              <a:xfrm>
                <a:off x="505080" y="4309920"/>
                <a:ext cx="2829960" cy="1744920"/>
              </a:xfrm>
              <a:custGeom>
                <a:avLst/>
                <a:gdLst>
                  <a:gd name="textAreaLeft" fmla="*/ 0 w 2829960"/>
                  <a:gd name="textAreaRight" fmla="*/ 2830320 w 2829960"/>
                  <a:gd name="textAreaTop" fmla="*/ 0 h 1744920"/>
                  <a:gd name="textAreaBottom" fmla="*/ 1745280 h 174492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Freeform 100"/>
            <p:cNvSpPr/>
            <p:nvPr/>
          </p:nvSpPr>
          <p:spPr>
            <a:xfrm>
              <a:off x="1386000" y="3544920"/>
              <a:ext cx="554040" cy="4125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1"/>
            <p:cNvSpPr/>
            <p:nvPr/>
          </p:nvSpPr>
          <p:spPr>
            <a:xfrm>
              <a:off x="1645560" y="3841920"/>
              <a:ext cx="272520" cy="15696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2"/>
            <p:cNvSpPr/>
            <p:nvPr/>
          </p:nvSpPr>
          <p:spPr>
            <a:xfrm>
              <a:off x="1406520" y="3395520"/>
              <a:ext cx="460080" cy="55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3"/>
            <p:cNvSpPr/>
            <p:nvPr/>
          </p:nvSpPr>
          <p:spPr>
            <a:xfrm>
              <a:off x="1392120" y="3357720"/>
              <a:ext cx="484920" cy="25560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04"/>
          <p:cNvGrpSpPr/>
          <p:nvPr/>
        </p:nvGrpSpPr>
        <p:grpSpPr>
          <a:xfrm>
            <a:off x="847800" y="4143240"/>
            <a:ext cx="1756800" cy="397080"/>
            <a:chOff x="847800" y="4143240"/>
            <a:chExt cx="1756800" cy="397080"/>
          </a:xfrm>
        </p:grpSpPr>
        <p:sp>
          <p:nvSpPr>
            <p:cNvPr id="454" name="Freeform 105"/>
            <p:cNvSpPr/>
            <p:nvPr/>
          </p:nvSpPr>
          <p:spPr>
            <a:xfrm>
              <a:off x="847800" y="4143240"/>
              <a:ext cx="781920" cy="378000"/>
            </a:xfrm>
            <a:custGeom>
              <a:avLst/>
              <a:gdLst>
                <a:gd name="textAreaLeft" fmla="*/ 0 w 781920"/>
                <a:gd name="textAreaRight" fmla="*/ 782280 w 7819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26" h="101">
                  <a:moveTo>
                    <a:pt x="215" y="0"/>
                  </a:moveTo>
                  <a:cubicBezTo>
                    <a:pt x="183" y="15"/>
                    <a:pt x="41" y="57"/>
                    <a:pt x="0" y="85"/>
                  </a:cubicBezTo>
                  <a:cubicBezTo>
                    <a:pt x="40" y="80"/>
                    <a:pt x="196" y="84"/>
                    <a:pt x="226" y="101"/>
                  </a:cubicBezTo>
                  <a:cubicBezTo>
                    <a:pt x="226" y="101"/>
                    <a:pt x="219" y="6"/>
                    <a:pt x="215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6"/>
            <p:cNvSpPr/>
            <p:nvPr/>
          </p:nvSpPr>
          <p:spPr>
            <a:xfrm>
              <a:off x="1817280" y="4143240"/>
              <a:ext cx="787320" cy="3970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28" h="106">
                  <a:moveTo>
                    <a:pt x="18" y="0"/>
                  </a:moveTo>
                  <a:cubicBezTo>
                    <a:pt x="46" y="9"/>
                    <a:pt x="185" y="44"/>
                    <a:pt x="228" y="106"/>
                  </a:cubicBezTo>
                  <a:cubicBezTo>
                    <a:pt x="187" y="101"/>
                    <a:pt x="30" y="84"/>
                    <a:pt x="0" y="101"/>
                  </a:cubicBezTo>
                  <a:cubicBezTo>
                    <a:pt x="0" y="101"/>
                    <a:pt x="14" y="5"/>
                    <a:pt x="18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7"/>
            <p:cNvSpPr/>
            <p:nvPr/>
          </p:nvSpPr>
          <p:spPr>
            <a:xfrm>
              <a:off x="885960" y="4173480"/>
              <a:ext cx="746640" cy="35892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6" h="96">
                  <a:moveTo>
                    <a:pt x="206" y="0"/>
                  </a:moveTo>
                  <a:cubicBezTo>
                    <a:pt x="175" y="14"/>
                    <a:pt x="40" y="48"/>
                    <a:pt x="0" y="74"/>
                  </a:cubicBezTo>
                  <a:cubicBezTo>
                    <a:pt x="39" y="70"/>
                    <a:pt x="188" y="80"/>
                    <a:pt x="216" y="96"/>
                  </a:cubicBezTo>
                  <a:cubicBezTo>
                    <a:pt x="216" y="96"/>
                    <a:pt x="209" y="6"/>
                    <a:pt x="20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8"/>
            <p:cNvSpPr/>
            <p:nvPr/>
          </p:nvSpPr>
          <p:spPr>
            <a:xfrm>
              <a:off x="1812600" y="4173480"/>
              <a:ext cx="751320" cy="358920"/>
            </a:xfrm>
            <a:custGeom>
              <a:avLst/>
              <a:gdLst>
                <a:gd name="textAreaLeft" fmla="*/ 0 w 751320"/>
                <a:gd name="textAreaRight" fmla="*/ 751680 w 75132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7" h="96">
                  <a:moveTo>
                    <a:pt x="17" y="0"/>
                  </a:moveTo>
                  <a:cubicBezTo>
                    <a:pt x="43" y="9"/>
                    <a:pt x="176" y="37"/>
                    <a:pt x="217" y="96"/>
                  </a:cubicBezTo>
                  <a:cubicBezTo>
                    <a:pt x="178" y="92"/>
                    <a:pt x="29" y="80"/>
                    <a:pt x="0" y="96"/>
                  </a:cubicBezTo>
                  <a:cubicBezTo>
                    <a:pt x="0" y="96"/>
                    <a:pt x="14" y="5"/>
                    <a:pt x="1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9"/>
          <p:cNvGrpSpPr/>
          <p:nvPr/>
        </p:nvGrpSpPr>
        <p:grpSpPr>
          <a:xfrm>
            <a:off x="915840" y="4941720"/>
            <a:ext cx="1662120" cy="663480"/>
            <a:chOff x="915840" y="4941720"/>
            <a:chExt cx="1662120" cy="663480"/>
          </a:xfrm>
        </p:grpSpPr>
        <p:sp>
          <p:nvSpPr>
            <p:cNvPr id="459" name="Freeform 110"/>
            <p:cNvSpPr/>
            <p:nvPr/>
          </p:nvSpPr>
          <p:spPr>
            <a:xfrm>
              <a:off x="915840" y="4941720"/>
              <a:ext cx="1662120" cy="663480"/>
            </a:xfrm>
            <a:custGeom>
              <a:avLst/>
              <a:gdLst>
                <a:gd name="textAreaLeft" fmla="*/ 0 w 1662120"/>
                <a:gd name="textAreaRight" fmla="*/ 1662480 w 16621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480" h="177">
                  <a:moveTo>
                    <a:pt x="480" y="2"/>
                  </a:moveTo>
                  <a:cubicBezTo>
                    <a:pt x="409" y="33"/>
                    <a:pt x="321" y="29"/>
                    <a:pt x="227" y="28"/>
                  </a:cubicBezTo>
                  <a:cubicBezTo>
                    <a:pt x="197" y="28"/>
                    <a:pt x="170" y="30"/>
                    <a:pt x="144" y="31"/>
                  </a:cubicBezTo>
                  <a:cubicBezTo>
                    <a:pt x="144" y="62"/>
                    <a:pt x="144" y="62"/>
                    <a:pt x="144" y="62"/>
                  </a:cubicBezTo>
                  <a:cubicBezTo>
                    <a:pt x="93" y="62"/>
                    <a:pt x="93" y="62"/>
                    <a:pt x="93" y="62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61" y="30"/>
                    <a:pt x="31" y="17"/>
                    <a:pt x="0" y="0"/>
                  </a:cubicBezTo>
                  <a:cubicBezTo>
                    <a:pt x="36" y="109"/>
                    <a:pt x="195" y="177"/>
                    <a:pt x="332" y="129"/>
                  </a:cubicBezTo>
                  <a:cubicBezTo>
                    <a:pt x="326" y="87"/>
                    <a:pt x="326" y="87"/>
                    <a:pt x="326" y="87"/>
                  </a:cubicBezTo>
                  <a:cubicBezTo>
                    <a:pt x="377" y="79"/>
                    <a:pt x="377" y="79"/>
                    <a:pt x="377" y="79"/>
                  </a:cubicBezTo>
                  <a:cubicBezTo>
                    <a:pt x="381" y="107"/>
                    <a:pt x="381" y="107"/>
                    <a:pt x="381" y="107"/>
                  </a:cubicBezTo>
                  <a:cubicBezTo>
                    <a:pt x="419" y="84"/>
                    <a:pt x="453" y="46"/>
                    <a:pt x="480" y="2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1"/>
            <p:cNvSpPr/>
            <p:nvPr/>
          </p:nvSpPr>
          <p:spPr>
            <a:xfrm>
              <a:off x="953640" y="4964040"/>
              <a:ext cx="1586160" cy="608040"/>
            </a:xfrm>
            <a:custGeom>
              <a:avLst/>
              <a:gdLst>
                <a:gd name="textAreaLeft" fmla="*/ 0 w 1586160"/>
                <a:gd name="textAreaRight" fmla="*/ 1586520 w 1586160"/>
                <a:gd name="textAreaTop" fmla="*/ 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58" h="162">
                  <a:moveTo>
                    <a:pt x="458" y="0"/>
                  </a:moveTo>
                  <a:cubicBezTo>
                    <a:pt x="390" y="30"/>
                    <a:pt x="306" y="20"/>
                    <a:pt x="216" y="19"/>
                  </a:cubicBezTo>
                  <a:cubicBezTo>
                    <a:pt x="188" y="19"/>
                    <a:pt x="162" y="21"/>
                    <a:pt x="137" y="22"/>
                  </a:cubicBezTo>
                  <a:cubicBezTo>
                    <a:pt x="137" y="52"/>
                    <a:pt x="137" y="52"/>
                    <a:pt x="13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58" y="21"/>
                    <a:pt x="30" y="16"/>
                    <a:pt x="0" y="0"/>
                  </a:cubicBezTo>
                  <a:cubicBezTo>
                    <a:pt x="34" y="103"/>
                    <a:pt x="186" y="162"/>
                    <a:pt x="317" y="116"/>
                  </a:cubicBezTo>
                  <a:cubicBezTo>
                    <a:pt x="311" y="75"/>
                    <a:pt x="311" y="75"/>
                    <a:pt x="311" y="75"/>
                  </a:cubicBezTo>
                  <a:cubicBezTo>
                    <a:pt x="359" y="68"/>
                    <a:pt x="359" y="68"/>
                    <a:pt x="359" y="68"/>
                  </a:cubicBezTo>
                  <a:cubicBezTo>
                    <a:pt x="363" y="94"/>
                    <a:pt x="363" y="94"/>
                    <a:pt x="363" y="94"/>
                  </a:cubicBezTo>
                  <a:cubicBezTo>
                    <a:pt x="399" y="73"/>
                    <a:pt x="432" y="42"/>
                    <a:pt x="45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1"/>
                </a:gs>
                <a:gs pos="100000">
                  <a:srgbClr val="ffff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12"/>
          <p:cNvGrpSpPr/>
          <p:nvPr/>
        </p:nvGrpSpPr>
        <p:grpSpPr>
          <a:xfrm>
            <a:off x="2976480" y="3357720"/>
            <a:ext cx="3363480" cy="2697120"/>
            <a:chOff x="2976480" y="3357720"/>
            <a:chExt cx="3363480" cy="2697120"/>
          </a:xfrm>
        </p:grpSpPr>
        <p:sp>
          <p:nvSpPr>
            <p:cNvPr id="462" name="Freeform 113"/>
            <p:cNvSpPr/>
            <p:nvPr/>
          </p:nvSpPr>
          <p:spPr>
            <a:xfrm>
              <a:off x="4571640" y="3414600"/>
              <a:ext cx="1768320" cy="21067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2106720"/>
                <a:gd name="textAreaBottom" fmla="*/ 2107080 h 210672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4"/>
            <p:cNvSpPr/>
            <p:nvPr/>
          </p:nvSpPr>
          <p:spPr>
            <a:xfrm>
              <a:off x="3062520" y="3613320"/>
              <a:ext cx="1508760" cy="2257200"/>
            </a:xfrm>
            <a:custGeom>
              <a:avLst/>
              <a:gdLst>
                <a:gd name="textAreaLeft" fmla="*/ 0 w 1508760"/>
                <a:gd name="textAreaRight" fmla="*/ 1509120 w 150876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5"/>
            <p:cNvSpPr/>
            <p:nvPr/>
          </p:nvSpPr>
          <p:spPr>
            <a:xfrm>
              <a:off x="3591720" y="3957480"/>
              <a:ext cx="1724400" cy="209736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2097360"/>
                <a:gd name="textAreaBottom" fmla="*/ 2097360 h 209736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6"/>
            <p:cNvSpPr/>
            <p:nvPr/>
          </p:nvSpPr>
          <p:spPr>
            <a:xfrm>
              <a:off x="4571640" y="3544920"/>
              <a:ext cx="495360" cy="4125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7"/>
            <p:cNvSpPr/>
            <p:nvPr/>
          </p:nvSpPr>
          <p:spPr>
            <a:xfrm>
              <a:off x="2976480" y="3538440"/>
              <a:ext cx="1587960" cy="199872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8"/>
            <p:cNvSpPr/>
            <p:nvPr/>
          </p:nvSpPr>
          <p:spPr>
            <a:xfrm>
              <a:off x="4571640" y="3379680"/>
              <a:ext cx="1349280" cy="244944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9"/>
            <p:cNvSpPr/>
            <p:nvPr/>
          </p:nvSpPr>
          <p:spPr>
            <a:xfrm>
              <a:off x="3952080" y="3800520"/>
              <a:ext cx="2174040" cy="2254320"/>
            </a:xfrm>
            <a:custGeom>
              <a:avLst/>
              <a:gdLst>
                <a:gd name="textAreaLeft" fmla="*/ 0 w 2174040"/>
                <a:gd name="textAreaRight" fmla="*/ 2174040 w 217404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120"/>
            <p:cNvGrpSpPr/>
            <p:nvPr/>
          </p:nvGrpSpPr>
          <p:grpSpPr>
            <a:xfrm>
              <a:off x="2976480" y="3379680"/>
              <a:ext cx="3363480" cy="2675160"/>
              <a:chOff x="2976480" y="3379680"/>
              <a:chExt cx="3363480" cy="2675160"/>
            </a:xfrm>
          </p:grpSpPr>
          <p:sp>
            <p:nvSpPr>
              <p:cNvPr id="470" name="Freeform 121"/>
              <p:cNvSpPr/>
              <p:nvPr/>
            </p:nvSpPr>
            <p:spPr>
              <a:xfrm>
                <a:off x="4571640" y="3379680"/>
                <a:ext cx="1768320" cy="2141640"/>
              </a:xfrm>
              <a:custGeom>
                <a:avLst/>
                <a:gdLst>
                  <a:gd name="textAreaLeft" fmla="*/ 0 w 1768320"/>
                  <a:gd name="textAreaRight" fmla="*/ 1768680 w 176832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2"/>
              <p:cNvSpPr/>
              <p:nvPr/>
            </p:nvSpPr>
            <p:spPr>
              <a:xfrm>
                <a:off x="3433320" y="3957480"/>
                <a:ext cx="1137960" cy="1882800"/>
              </a:xfrm>
              <a:custGeom>
                <a:avLst/>
                <a:gdLst>
                  <a:gd name="textAreaLeft" fmla="*/ 0 w 1137960"/>
                  <a:gd name="textAreaRight" fmla="*/ 1138320 w 113796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3"/>
              <p:cNvSpPr/>
              <p:nvPr/>
            </p:nvSpPr>
            <p:spPr>
              <a:xfrm>
                <a:off x="2976480" y="3538440"/>
                <a:ext cx="1595160" cy="1998720"/>
              </a:xfrm>
              <a:custGeom>
                <a:avLst/>
                <a:gdLst>
                  <a:gd name="textAreaLeft" fmla="*/ 0 w 1595160"/>
                  <a:gd name="textAreaRight" fmla="*/ 1595520 w 1595160"/>
                  <a:gd name="textAreaTop" fmla="*/ 0 h 1998720"/>
                  <a:gd name="textAreaBottom" fmla="*/ 1999080 h 199872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4"/>
              <p:cNvSpPr/>
              <p:nvPr/>
            </p:nvSpPr>
            <p:spPr>
              <a:xfrm>
                <a:off x="4571640" y="3957480"/>
                <a:ext cx="906840" cy="177012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5"/>
              <p:cNvSpPr/>
              <p:nvPr/>
            </p:nvSpPr>
            <p:spPr>
              <a:xfrm>
                <a:off x="4571640" y="3591000"/>
                <a:ext cx="538920" cy="366480"/>
              </a:xfrm>
              <a:custGeom>
                <a:avLst/>
                <a:gdLst>
                  <a:gd name="textAreaLeft" fmla="*/ 0 w 538920"/>
                  <a:gd name="textAreaRight" fmla="*/ 539280 w 5389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6"/>
              <p:cNvSpPr/>
              <p:nvPr/>
            </p:nvSpPr>
            <p:spPr>
              <a:xfrm>
                <a:off x="4557240" y="3635280"/>
                <a:ext cx="174240" cy="32220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7"/>
              <p:cNvSpPr/>
              <p:nvPr/>
            </p:nvSpPr>
            <p:spPr>
              <a:xfrm>
                <a:off x="4177800" y="3684600"/>
                <a:ext cx="393840" cy="272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8"/>
              <p:cNvSpPr/>
              <p:nvPr/>
            </p:nvSpPr>
            <p:spPr>
              <a:xfrm>
                <a:off x="3297240" y="4309920"/>
                <a:ext cx="2828880" cy="1744920"/>
              </a:xfrm>
              <a:custGeom>
                <a:avLst/>
                <a:gdLst>
                  <a:gd name="textAreaLeft" fmla="*/ 0 w 2828880"/>
                  <a:gd name="textAreaRight" fmla="*/ 2828880 w 2828880"/>
                  <a:gd name="textAreaTop" fmla="*/ 0 h 1744920"/>
                  <a:gd name="textAreaBottom" fmla="*/ 1745280 h 174492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Freeform 129"/>
            <p:cNvSpPr/>
            <p:nvPr/>
          </p:nvSpPr>
          <p:spPr>
            <a:xfrm>
              <a:off x="4177800" y="3544920"/>
              <a:ext cx="553680" cy="4125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30"/>
            <p:cNvSpPr/>
            <p:nvPr/>
          </p:nvSpPr>
          <p:spPr>
            <a:xfrm>
              <a:off x="4437000" y="3841920"/>
              <a:ext cx="272160" cy="1569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31"/>
            <p:cNvSpPr/>
            <p:nvPr/>
          </p:nvSpPr>
          <p:spPr>
            <a:xfrm>
              <a:off x="4198320" y="3395520"/>
              <a:ext cx="460080" cy="55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2"/>
            <p:cNvSpPr/>
            <p:nvPr/>
          </p:nvSpPr>
          <p:spPr>
            <a:xfrm>
              <a:off x="4183560" y="3357720"/>
              <a:ext cx="484560" cy="2556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33"/>
          <p:cNvGrpSpPr/>
          <p:nvPr/>
        </p:nvGrpSpPr>
        <p:grpSpPr>
          <a:xfrm>
            <a:off x="3679920" y="4149720"/>
            <a:ext cx="1758600" cy="539280"/>
            <a:chOff x="3679920" y="4149720"/>
            <a:chExt cx="1758600" cy="539280"/>
          </a:xfrm>
        </p:grpSpPr>
        <p:sp>
          <p:nvSpPr>
            <p:cNvPr id="483" name="Freeform 134"/>
            <p:cNvSpPr/>
            <p:nvPr/>
          </p:nvSpPr>
          <p:spPr>
            <a:xfrm>
              <a:off x="3679920" y="4411440"/>
              <a:ext cx="643320" cy="277560"/>
            </a:xfrm>
            <a:custGeom>
              <a:avLst/>
              <a:gdLst>
                <a:gd name="textAreaLeft" fmla="*/ 0 w 643320"/>
                <a:gd name="textAreaRight" fmla="*/ 643680 w 6433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86" h="74">
                  <a:moveTo>
                    <a:pt x="21" y="0"/>
                  </a:moveTo>
                  <a:cubicBezTo>
                    <a:pt x="40" y="18"/>
                    <a:pt x="106" y="48"/>
                    <a:pt x="186" y="74"/>
                  </a:cubicBezTo>
                  <a:cubicBezTo>
                    <a:pt x="140" y="74"/>
                    <a:pt x="19" y="59"/>
                    <a:pt x="0" y="57"/>
                  </a:cubicBezTo>
                  <a:cubicBezTo>
                    <a:pt x="9" y="34"/>
                    <a:pt x="16" y="10"/>
                    <a:pt x="21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5"/>
            <p:cNvSpPr/>
            <p:nvPr/>
          </p:nvSpPr>
          <p:spPr>
            <a:xfrm>
              <a:off x="4528800" y="4149720"/>
              <a:ext cx="909720" cy="4680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63" h="125">
                  <a:moveTo>
                    <a:pt x="215" y="0"/>
                  </a:moveTo>
                  <a:cubicBezTo>
                    <a:pt x="181" y="16"/>
                    <a:pt x="62" y="72"/>
                    <a:pt x="0" y="125"/>
                  </a:cubicBezTo>
                  <a:cubicBezTo>
                    <a:pt x="41" y="113"/>
                    <a:pt x="230" y="112"/>
                    <a:pt x="263" y="114"/>
                  </a:cubicBezTo>
                  <a:cubicBezTo>
                    <a:pt x="263" y="81"/>
                    <a:pt x="229" y="12"/>
                    <a:pt x="215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6"/>
            <p:cNvSpPr/>
            <p:nvPr/>
          </p:nvSpPr>
          <p:spPr>
            <a:xfrm>
              <a:off x="3725280" y="4444920"/>
              <a:ext cx="597960" cy="2440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73" h="65">
                  <a:moveTo>
                    <a:pt x="18" y="0"/>
                  </a:moveTo>
                  <a:cubicBezTo>
                    <a:pt x="37" y="18"/>
                    <a:pt x="96" y="40"/>
                    <a:pt x="173" y="65"/>
                  </a:cubicBezTo>
                  <a:cubicBezTo>
                    <a:pt x="129" y="65"/>
                    <a:pt x="19" y="52"/>
                    <a:pt x="0" y="49"/>
                  </a:cubicBezTo>
                  <a:cubicBezTo>
                    <a:pt x="9" y="27"/>
                    <a:pt x="14" y="10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7"/>
            <p:cNvSpPr/>
            <p:nvPr/>
          </p:nvSpPr>
          <p:spPr>
            <a:xfrm>
              <a:off x="4541760" y="4179600"/>
              <a:ext cx="856080" cy="43776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47" h="117">
                  <a:moveTo>
                    <a:pt x="203" y="0"/>
                  </a:moveTo>
                  <a:cubicBezTo>
                    <a:pt x="170" y="14"/>
                    <a:pt x="59" y="66"/>
                    <a:pt x="0" y="117"/>
                  </a:cubicBezTo>
                  <a:cubicBezTo>
                    <a:pt x="39" y="105"/>
                    <a:pt x="216" y="105"/>
                    <a:pt x="247" y="107"/>
                  </a:cubicBezTo>
                  <a:cubicBezTo>
                    <a:pt x="247" y="75"/>
                    <a:pt x="217" y="10"/>
                    <a:pt x="2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38"/>
          <p:cNvGrpSpPr/>
          <p:nvPr/>
        </p:nvGrpSpPr>
        <p:grpSpPr>
          <a:xfrm>
            <a:off x="3706920" y="4797360"/>
            <a:ext cx="1731960" cy="742680"/>
            <a:chOff x="3706920" y="4797360"/>
            <a:chExt cx="1731960" cy="742680"/>
          </a:xfrm>
        </p:grpSpPr>
        <p:sp>
          <p:nvSpPr>
            <p:cNvPr id="488" name="Freeform 139"/>
            <p:cNvSpPr/>
            <p:nvPr/>
          </p:nvSpPr>
          <p:spPr>
            <a:xfrm>
              <a:off x="3706920" y="4797360"/>
              <a:ext cx="1731960" cy="742680"/>
            </a:xfrm>
            <a:custGeom>
              <a:avLst/>
              <a:gdLst>
                <a:gd name="textAreaLeft" fmla="*/ 0 w 1731960"/>
                <a:gd name="textAreaRight" fmla="*/ 1731960 w 173196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181" h="468">
                  <a:moveTo>
                    <a:pt x="0" y="130"/>
                  </a:moveTo>
                  <a:lnTo>
                    <a:pt x="250" y="270"/>
                  </a:lnTo>
                  <a:lnTo>
                    <a:pt x="335" y="199"/>
                  </a:lnTo>
                  <a:lnTo>
                    <a:pt x="465" y="270"/>
                  </a:lnTo>
                  <a:lnTo>
                    <a:pt x="531" y="199"/>
                  </a:lnTo>
                  <a:lnTo>
                    <a:pt x="666" y="270"/>
                  </a:lnTo>
                  <a:lnTo>
                    <a:pt x="780" y="100"/>
                  </a:lnTo>
                  <a:lnTo>
                    <a:pt x="888" y="189"/>
                  </a:lnTo>
                  <a:lnTo>
                    <a:pt x="1181" y="0"/>
                  </a:lnTo>
                  <a:lnTo>
                    <a:pt x="893" y="402"/>
                  </a:lnTo>
                  <a:lnTo>
                    <a:pt x="791" y="338"/>
                  </a:lnTo>
                  <a:lnTo>
                    <a:pt x="668" y="468"/>
                  </a:lnTo>
                  <a:lnTo>
                    <a:pt x="557" y="374"/>
                  </a:lnTo>
                  <a:lnTo>
                    <a:pt x="472" y="433"/>
                  </a:lnTo>
                  <a:lnTo>
                    <a:pt x="345" y="345"/>
                  </a:lnTo>
                  <a:lnTo>
                    <a:pt x="250" y="36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0"/>
            <p:cNvSpPr/>
            <p:nvPr/>
          </p:nvSpPr>
          <p:spPr>
            <a:xfrm>
              <a:off x="3737520" y="4827240"/>
              <a:ext cx="1659960" cy="687600"/>
            </a:xfrm>
            <a:custGeom>
              <a:avLst/>
              <a:gdLst>
                <a:gd name="textAreaLeft" fmla="*/ 0 w 1659960"/>
                <a:gd name="textAreaRight" fmla="*/ 1660320 w 165996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1132" h="433">
                  <a:moveTo>
                    <a:pt x="0" y="126"/>
                  </a:moveTo>
                  <a:lnTo>
                    <a:pt x="241" y="241"/>
                  </a:lnTo>
                  <a:lnTo>
                    <a:pt x="324" y="173"/>
                  </a:lnTo>
                  <a:lnTo>
                    <a:pt x="447" y="241"/>
                  </a:lnTo>
                  <a:lnTo>
                    <a:pt x="510" y="173"/>
                  </a:lnTo>
                  <a:lnTo>
                    <a:pt x="643" y="241"/>
                  </a:lnTo>
                  <a:lnTo>
                    <a:pt x="751" y="78"/>
                  </a:lnTo>
                  <a:lnTo>
                    <a:pt x="855" y="163"/>
                  </a:lnTo>
                  <a:lnTo>
                    <a:pt x="1132" y="0"/>
                  </a:lnTo>
                  <a:lnTo>
                    <a:pt x="860" y="369"/>
                  </a:lnTo>
                  <a:lnTo>
                    <a:pt x="763" y="307"/>
                  </a:lnTo>
                  <a:lnTo>
                    <a:pt x="645" y="433"/>
                  </a:lnTo>
                  <a:lnTo>
                    <a:pt x="536" y="343"/>
                  </a:lnTo>
                  <a:lnTo>
                    <a:pt x="454" y="400"/>
                  </a:lnTo>
                  <a:lnTo>
                    <a:pt x="333" y="315"/>
                  </a:lnTo>
                  <a:lnTo>
                    <a:pt x="241" y="331"/>
                  </a:lnTo>
                  <a:lnTo>
                    <a:pt x="0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91"/>
                </a:gs>
                <a:gs pos="100000">
                  <a:srgbClr val="ffff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41"/>
          <p:cNvGrpSpPr/>
          <p:nvPr/>
        </p:nvGrpSpPr>
        <p:grpSpPr>
          <a:xfrm>
            <a:off x="5780160" y="3357720"/>
            <a:ext cx="3363480" cy="2697120"/>
            <a:chOff x="5780160" y="3357720"/>
            <a:chExt cx="3363480" cy="2697120"/>
          </a:xfrm>
        </p:grpSpPr>
        <p:sp>
          <p:nvSpPr>
            <p:cNvPr id="491" name="Freeform 142"/>
            <p:cNvSpPr/>
            <p:nvPr/>
          </p:nvSpPr>
          <p:spPr>
            <a:xfrm>
              <a:off x="7375320" y="3414600"/>
              <a:ext cx="1768320" cy="210672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2106720"/>
                <a:gd name="textAreaBottom" fmla="*/ 2107080 h 2106720"/>
              </a:gdLst>
              <a:ahLst/>
              <a:rect l="textAreaLeft" t="textAreaTop" r="textAreaRight" b="textAreaBottom"/>
              <a:pathLst>
                <a:path w="511" h="562">
                  <a:moveTo>
                    <a:pt x="402" y="239"/>
                  </a:moveTo>
                  <a:cubicBezTo>
                    <a:pt x="355" y="96"/>
                    <a:pt x="246" y="54"/>
                    <a:pt x="156" y="60"/>
                  </a:cubicBezTo>
                  <a:cubicBezTo>
                    <a:pt x="128" y="69"/>
                    <a:pt x="66" y="92"/>
                    <a:pt x="0" y="145"/>
                  </a:cubicBezTo>
                  <a:cubicBezTo>
                    <a:pt x="290" y="0"/>
                    <a:pt x="511" y="312"/>
                    <a:pt x="288" y="562"/>
                  </a:cubicBezTo>
                  <a:cubicBezTo>
                    <a:pt x="376" y="517"/>
                    <a:pt x="449" y="382"/>
                    <a:pt x="402" y="2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3"/>
            <p:cNvSpPr/>
            <p:nvPr/>
          </p:nvSpPr>
          <p:spPr>
            <a:xfrm>
              <a:off x="5866200" y="3613320"/>
              <a:ext cx="1508760" cy="2257200"/>
            </a:xfrm>
            <a:custGeom>
              <a:avLst/>
              <a:gdLst>
                <a:gd name="textAreaLeft" fmla="*/ 0 w 1508760"/>
                <a:gd name="textAreaRight" fmla="*/ 1509120 w 150876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436" h="602">
                  <a:moveTo>
                    <a:pt x="436" y="92"/>
                  </a:moveTo>
                  <a:cubicBezTo>
                    <a:pt x="204" y="0"/>
                    <a:pt x="0" y="250"/>
                    <a:pt x="143" y="513"/>
                  </a:cubicBezTo>
                  <a:cubicBezTo>
                    <a:pt x="169" y="541"/>
                    <a:pt x="179" y="564"/>
                    <a:pt x="240" y="582"/>
                  </a:cubicBezTo>
                  <a:cubicBezTo>
                    <a:pt x="301" y="600"/>
                    <a:pt x="318" y="602"/>
                    <a:pt x="352" y="594"/>
                  </a:cubicBezTo>
                  <a:cubicBezTo>
                    <a:pt x="175" y="572"/>
                    <a:pt x="107" y="167"/>
                    <a:pt x="436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44"/>
            <p:cNvSpPr/>
            <p:nvPr/>
          </p:nvSpPr>
          <p:spPr>
            <a:xfrm>
              <a:off x="6395400" y="3957480"/>
              <a:ext cx="1724400" cy="209736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2097360"/>
                <a:gd name="textAreaBottom" fmla="*/ 2097360 h 2097360"/>
              </a:gdLst>
              <a:ahLst/>
              <a:rect l="textAreaLeft" t="textAreaTop" r="textAreaRight" b="textAreaBottom"/>
              <a:pathLst>
                <a:path w="498" h="559">
                  <a:moveTo>
                    <a:pt x="283" y="0"/>
                  </a:moveTo>
                  <a:cubicBezTo>
                    <a:pt x="38" y="75"/>
                    <a:pt x="0" y="367"/>
                    <a:pt x="199" y="502"/>
                  </a:cubicBezTo>
                  <a:cubicBezTo>
                    <a:pt x="322" y="559"/>
                    <a:pt x="376" y="490"/>
                    <a:pt x="389" y="472"/>
                  </a:cubicBezTo>
                  <a:cubicBezTo>
                    <a:pt x="498" y="338"/>
                    <a:pt x="420" y="39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5"/>
            <p:cNvSpPr/>
            <p:nvPr/>
          </p:nvSpPr>
          <p:spPr>
            <a:xfrm>
              <a:off x="7375320" y="3544920"/>
              <a:ext cx="495360" cy="4125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43" h="110">
                  <a:moveTo>
                    <a:pt x="0" y="110"/>
                  </a:moveTo>
                  <a:cubicBezTo>
                    <a:pt x="48" y="69"/>
                    <a:pt x="108" y="12"/>
                    <a:pt x="143" y="18"/>
                  </a:cubicBezTo>
                  <a:cubicBezTo>
                    <a:pt x="110" y="3"/>
                    <a:pt x="96" y="0"/>
                    <a:pt x="46" y="24"/>
                  </a:cubicBezTo>
                  <a:cubicBezTo>
                    <a:pt x="18" y="42"/>
                    <a:pt x="8" y="90"/>
                    <a:pt x="0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6"/>
            <p:cNvSpPr/>
            <p:nvPr/>
          </p:nvSpPr>
          <p:spPr>
            <a:xfrm>
              <a:off x="5780160" y="3538440"/>
              <a:ext cx="1587960" cy="199872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59" h="533">
                  <a:moveTo>
                    <a:pt x="459" y="111"/>
                  </a:moveTo>
                  <a:cubicBezTo>
                    <a:pt x="434" y="99"/>
                    <a:pt x="374" y="56"/>
                    <a:pt x="347" y="42"/>
                  </a:cubicBezTo>
                  <a:cubicBezTo>
                    <a:pt x="321" y="38"/>
                    <a:pt x="308" y="29"/>
                    <a:pt x="244" y="51"/>
                  </a:cubicBezTo>
                  <a:cubicBezTo>
                    <a:pt x="183" y="72"/>
                    <a:pt x="57" y="190"/>
                    <a:pt x="76" y="324"/>
                  </a:cubicBezTo>
                  <a:cubicBezTo>
                    <a:pt x="94" y="458"/>
                    <a:pt x="98" y="498"/>
                    <a:pt x="168" y="533"/>
                  </a:cubicBezTo>
                  <a:cubicBezTo>
                    <a:pt x="0" y="296"/>
                    <a:pt x="217" y="0"/>
                    <a:pt x="459" y="1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7"/>
            <p:cNvSpPr/>
            <p:nvPr/>
          </p:nvSpPr>
          <p:spPr>
            <a:xfrm>
              <a:off x="7375320" y="3379680"/>
              <a:ext cx="1349280" cy="244944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2449440"/>
                <a:gd name="textAreaBottom" fmla="*/ 2449800 h 2449440"/>
              </a:gdLst>
              <a:ahLst/>
              <a:rect l="textAreaLeft" t="textAreaTop" r="textAreaRight" b="textAreaBottom"/>
              <a:pathLst>
                <a:path w="390" h="653">
                  <a:moveTo>
                    <a:pt x="0" y="154"/>
                  </a:moveTo>
                  <a:cubicBezTo>
                    <a:pt x="262" y="217"/>
                    <a:pt x="181" y="607"/>
                    <a:pt x="106" y="626"/>
                  </a:cubicBezTo>
                  <a:cubicBezTo>
                    <a:pt x="191" y="653"/>
                    <a:pt x="246" y="613"/>
                    <a:pt x="288" y="571"/>
                  </a:cubicBezTo>
                  <a:cubicBezTo>
                    <a:pt x="390" y="458"/>
                    <a:pt x="379" y="0"/>
                    <a:pt x="0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48"/>
            <p:cNvSpPr/>
            <p:nvPr/>
          </p:nvSpPr>
          <p:spPr>
            <a:xfrm>
              <a:off x="6755760" y="3800520"/>
              <a:ext cx="2174040" cy="2254320"/>
            </a:xfrm>
            <a:custGeom>
              <a:avLst/>
              <a:gdLst>
                <a:gd name="textAreaLeft" fmla="*/ 0 w 2174040"/>
                <a:gd name="textAreaRight" fmla="*/ 2174040 w 217404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628" h="601">
                  <a:moveTo>
                    <a:pt x="581" y="136"/>
                  </a:moveTo>
                  <a:cubicBezTo>
                    <a:pt x="560" y="72"/>
                    <a:pt x="526" y="28"/>
                    <a:pt x="487" y="0"/>
                  </a:cubicBezTo>
                  <a:cubicBezTo>
                    <a:pt x="511" y="24"/>
                    <a:pt x="461" y="31"/>
                    <a:pt x="389" y="17"/>
                  </a:cubicBezTo>
                  <a:cubicBezTo>
                    <a:pt x="590" y="169"/>
                    <a:pt x="436" y="293"/>
                    <a:pt x="316" y="168"/>
                  </a:cubicBezTo>
                  <a:cubicBezTo>
                    <a:pt x="409" y="523"/>
                    <a:pt x="162" y="530"/>
                    <a:pt x="34" y="507"/>
                  </a:cubicBezTo>
                  <a:cubicBezTo>
                    <a:pt x="29" y="518"/>
                    <a:pt x="18" y="530"/>
                    <a:pt x="0" y="537"/>
                  </a:cubicBezTo>
                  <a:cubicBezTo>
                    <a:pt x="48" y="551"/>
                    <a:pt x="65" y="551"/>
                    <a:pt x="95" y="544"/>
                  </a:cubicBezTo>
                  <a:cubicBezTo>
                    <a:pt x="218" y="601"/>
                    <a:pt x="272" y="532"/>
                    <a:pt x="285" y="514"/>
                  </a:cubicBezTo>
                  <a:cubicBezTo>
                    <a:pt x="370" y="541"/>
                    <a:pt x="425" y="501"/>
                    <a:pt x="467" y="459"/>
                  </a:cubicBezTo>
                  <a:cubicBezTo>
                    <a:pt x="555" y="414"/>
                    <a:pt x="628" y="279"/>
                    <a:pt x="581" y="136"/>
                  </a:cubicBezTo>
                  <a:close/>
                </a:path>
              </a:pathLst>
            </a:custGeom>
            <a:solidFill>
              <a:srgbClr val="f27b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49"/>
            <p:cNvGrpSpPr/>
            <p:nvPr/>
          </p:nvGrpSpPr>
          <p:grpSpPr>
            <a:xfrm>
              <a:off x="5780160" y="3379680"/>
              <a:ext cx="3363480" cy="2675160"/>
              <a:chOff x="5780160" y="3379680"/>
              <a:chExt cx="3363480" cy="2675160"/>
            </a:xfrm>
          </p:grpSpPr>
          <p:sp>
            <p:nvSpPr>
              <p:cNvPr id="499" name="Freeform 150"/>
              <p:cNvSpPr/>
              <p:nvPr/>
            </p:nvSpPr>
            <p:spPr>
              <a:xfrm>
                <a:off x="7375320" y="3379680"/>
                <a:ext cx="1768320" cy="2141640"/>
              </a:xfrm>
              <a:custGeom>
                <a:avLst/>
                <a:gdLst>
                  <a:gd name="textAreaLeft" fmla="*/ 0 w 1768320"/>
                  <a:gd name="textAreaRight" fmla="*/ 1768680 w 176832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511" h="571">
                    <a:moveTo>
                      <a:pt x="0" y="154"/>
                    </a:moveTo>
                    <a:cubicBezTo>
                      <a:pt x="379" y="0"/>
                      <a:pt x="390" y="458"/>
                      <a:pt x="288" y="571"/>
                    </a:cubicBezTo>
                    <a:cubicBezTo>
                      <a:pt x="511" y="321"/>
                      <a:pt x="290" y="9"/>
                      <a:pt x="0" y="154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1"/>
              <p:cNvSpPr/>
              <p:nvPr/>
            </p:nvSpPr>
            <p:spPr>
              <a:xfrm>
                <a:off x="6237000" y="3957480"/>
                <a:ext cx="1137960" cy="1882800"/>
              </a:xfrm>
              <a:custGeom>
                <a:avLst/>
                <a:gdLst>
                  <a:gd name="textAreaLeft" fmla="*/ 0 w 1137960"/>
                  <a:gd name="textAreaRight" fmla="*/ 1138320 w 1137960"/>
                  <a:gd name="textAreaTop" fmla="*/ 0 h 1882800"/>
                  <a:gd name="textAreaBottom" fmla="*/ 1883160 h 1882800"/>
                </a:gdLst>
                <a:ahLst/>
                <a:rect l="textAreaLeft" t="textAreaTop" r="textAreaRight" b="textAreaBottom"/>
                <a:pathLst>
                  <a:path w="329" h="502">
                    <a:moveTo>
                      <a:pt x="329" y="0"/>
                    </a:moveTo>
                    <a:cubicBezTo>
                      <a:pt x="0" y="75"/>
                      <a:pt x="68" y="480"/>
                      <a:pt x="245" y="502"/>
                    </a:cubicBezTo>
                    <a:cubicBezTo>
                      <a:pt x="46" y="367"/>
                      <a:pt x="84" y="75"/>
                      <a:pt x="329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2"/>
              <p:cNvSpPr/>
              <p:nvPr/>
            </p:nvSpPr>
            <p:spPr>
              <a:xfrm>
                <a:off x="5780160" y="3538440"/>
                <a:ext cx="1595160" cy="1998720"/>
              </a:xfrm>
              <a:custGeom>
                <a:avLst/>
                <a:gdLst>
                  <a:gd name="textAreaLeft" fmla="*/ 0 w 1595160"/>
                  <a:gd name="textAreaRight" fmla="*/ 1595520 w 1595160"/>
                  <a:gd name="textAreaTop" fmla="*/ 0 h 1998720"/>
                  <a:gd name="textAreaBottom" fmla="*/ 1999080 h 1998720"/>
                </a:gdLst>
                <a:ahLst/>
                <a:rect l="textAreaLeft" t="textAreaTop" r="textAreaRight" b="textAreaBottom"/>
                <a:pathLst>
                  <a:path w="461" h="533">
                    <a:moveTo>
                      <a:pt x="461" y="112"/>
                    </a:moveTo>
                    <a:cubicBezTo>
                      <a:pt x="461" y="112"/>
                      <a:pt x="460" y="112"/>
                      <a:pt x="459" y="111"/>
                    </a:cubicBezTo>
                    <a:cubicBezTo>
                      <a:pt x="217" y="0"/>
                      <a:pt x="0" y="296"/>
                      <a:pt x="168" y="533"/>
                    </a:cubicBezTo>
                    <a:cubicBezTo>
                      <a:pt x="25" y="270"/>
                      <a:pt x="229" y="20"/>
                      <a:pt x="461" y="112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3"/>
              <p:cNvSpPr/>
              <p:nvPr/>
            </p:nvSpPr>
            <p:spPr>
              <a:xfrm>
                <a:off x="7375320" y="3957480"/>
                <a:ext cx="906840" cy="177012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0 h 1770120"/>
                  <a:gd name="textAreaBottom" fmla="*/ 1770480 h 1770120"/>
                </a:gdLst>
                <a:ahLst/>
                <a:rect l="textAreaLeft" t="textAreaTop" r="textAreaRight" b="textAreaBottom"/>
                <a:pathLst>
                  <a:path w="262" h="472">
                    <a:moveTo>
                      <a:pt x="0" y="0"/>
                    </a:moveTo>
                    <a:cubicBezTo>
                      <a:pt x="137" y="39"/>
                      <a:pt x="215" y="338"/>
                      <a:pt x="106" y="472"/>
                    </a:cubicBezTo>
                    <a:cubicBezTo>
                      <a:pt x="181" y="453"/>
                      <a:pt x="262" y="63"/>
                      <a:pt x="0" y="0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4"/>
              <p:cNvSpPr/>
              <p:nvPr/>
            </p:nvSpPr>
            <p:spPr>
              <a:xfrm>
                <a:off x="7375320" y="3591000"/>
                <a:ext cx="538920" cy="366480"/>
              </a:xfrm>
              <a:custGeom>
                <a:avLst/>
                <a:gdLst>
                  <a:gd name="textAreaLeft" fmla="*/ 0 w 538920"/>
                  <a:gd name="textAreaRight" fmla="*/ 539280 w 5389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56" h="98">
                    <a:moveTo>
                      <a:pt x="0" y="98"/>
                    </a:moveTo>
                    <a:cubicBezTo>
                      <a:pt x="66" y="45"/>
                      <a:pt x="128" y="22"/>
                      <a:pt x="156" y="13"/>
                    </a:cubicBezTo>
                    <a:cubicBezTo>
                      <a:pt x="152" y="10"/>
                      <a:pt x="147" y="8"/>
                      <a:pt x="143" y="6"/>
                    </a:cubicBezTo>
                    <a:cubicBezTo>
                      <a:pt x="108" y="0"/>
                      <a:pt x="48" y="57"/>
                      <a:pt x="0" y="98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5"/>
              <p:cNvSpPr/>
              <p:nvPr/>
            </p:nvSpPr>
            <p:spPr>
              <a:xfrm>
                <a:off x="7360920" y="3635280"/>
                <a:ext cx="174240" cy="32220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4" y="86"/>
                    </a:moveTo>
                    <a:cubicBezTo>
                      <a:pt x="12" y="66"/>
                      <a:pt x="22" y="18"/>
                      <a:pt x="50" y="0"/>
                    </a:cubicBezTo>
                    <a:cubicBezTo>
                      <a:pt x="24" y="3"/>
                      <a:pt x="0" y="49"/>
                      <a:pt x="4" y="86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6"/>
              <p:cNvSpPr/>
              <p:nvPr/>
            </p:nvSpPr>
            <p:spPr>
              <a:xfrm>
                <a:off x="6981480" y="3684600"/>
                <a:ext cx="393840" cy="272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14" h="73">
                    <a:moveTo>
                      <a:pt x="114" y="73"/>
                    </a:moveTo>
                    <a:cubicBezTo>
                      <a:pt x="92" y="44"/>
                      <a:pt x="21" y="0"/>
                      <a:pt x="0" y="3"/>
                    </a:cubicBezTo>
                    <a:cubicBezTo>
                      <a:pt x="27" y="17"/>
                      <a:pt x="87" y="60"/>
                      <a:pt x="112" y="72"/>
                    </a:cubicBezTo>
                    <a:cubicBezTo>
                      <a:pt x="113" y="73"/>
                      <a:pt x="114" y="73"/>
                      <a:pt x="114" y="73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7"/>
              <p:cNvSpPr/>
              <p:nvPr/>
            </p:nvSpPr>
            <p:spPr>
              <a:xfrm>
                <a:off x="6100920" y="4309920"/>
                <a:ext cx="2828880" cy="1744920"/>
              </a:xfrm>
              <a:custGeom>
                <a:avLst/>
                <a:gdLst>
                  <a:gd name="textAreaLeft" fmla="*/ 0 w 2828880"/>
                  <a:gd name="textAreaRight" fmla="*/ 2828880 w 2828880"/>
                  <a:gd name="textAreaTop" fmla="*/ 0 h 1744920"/>
                  <a:gd name="textAreaBottom" fmla="*/ 1745280 h 1744920"/>
                </a:gdLst>
                <a:ahLst/>
                <a:rect l="textAreaLeft" t="textAreaTop" r="textAreaRight" b="textAreaBottom"/>
                <a:pathLst>
                  <a:path w="817" h="465">
                    <a:moveTo>
                      <a:pt x="502" y="345"/>
                    </a:moveTo>
                    <a:cubicBezTo>
                      <a:pt x="460" y="392"/>
                      <a:pt x="329" y="414"/>
                      <a:pt x="223" y="371"/>
                    </a:cubicBezTo>
                    <a:cubicBezTo>
                      <a:pt x="195" y="408"/>
                      <a:pt x="70" y="305"/>
                      <a:pt x="53" y="286"/>
                    </a:cubicBezTo>
                    <a:cubicBezTo>
                      <a:pt x="35" y="295"/>
                      <a:pt x="16" y="244"/>
                      <a:pt x="0" y="226"/>
                    </a:cubicBezTo>
                    <a:cubicBezTo>
                      <a:pt x="11" y="279"/>
                      <a:pt x="29" y="304"/>
                      <a:pt x="75" y="327"/>
                    </a:cubicBezTo>
                    <a:cubicBezTo>
                      <a:pt x="101" y="355"/>
                      <a:pt x="111" y="378"/>
                      <a:pt x="172" y="396"/>
                    </a:cubicBezTo>
                    <a:cubicBezTo>
                      <a:pt x="233" y="414"/>
                      <a:pt x="250" y="416"/>
                      <a:pt x="284" y="408"/>
                    </a:cubicBezTo>
                    <a:cubicBezTo>
                      <a:pt x="407" y="465"/>
                      <a:pt x="461" y="396"/>
                      <a:pt x="474" y="378"/>
                    </a:cubicBezTo>
                    <a:cubicBezTo>
                      <a:pt x="559" y="405"/>
                      <a:pt x="614" y="365"/>
                      <a:pt x="656" y="323"/>
                    </a:cubicBezTo>
                    <a:cubicBezTo>
                      <a:pt x="744" y="278"/>
                      <a:pt x="817" y="143"/>
                      <a:pt x="770" y="0"/>
                    </a:cubicBezTo>
                    <a:cubicBezTo>
                      <a:pt x="771" y="61"/>
                      <a:pt x="758" y="164"/>
                      <a:pt x="717" y="216"/>
                    </a:cubicBezTo>
                    <a:cubicBezTo>
                      <a:pt x="673" y="291"/>
                      <a:pt x="550" y="367"/>
                      <a:pt x="502" y="345"/>
                    </a:cubicBezTo>
                    <a:close/>
                  </a:path>
                </a:pathLst>
              </a:custGeom>
              <a:solidFill>
                <a:srgbClr val="d86e05"/>
              </a:solidFill>
              <a:ln w="9360">
                <a:solidFill>
                  <a:srgbClr val="d86e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Freeform 158"/>
            <p:cNvSpPr/>
            <p:nvPr/>
          </p:nvSpPr>
          <p:spPr>
            <a:xfrm>
              <a:off x="6981480" y="3544920"/>
              <a:ext cx="553680" cy="41256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110">
                  <a:moveTo>
                    <a:pt x="114" y="110"/>
                  </a:moveTo>
                  <a:cubicBezTo>
                    <a:pt x="110" y="73"/>
                    <a:pt x="134" y="27"/>
                    <a:pt x="160" y="24"/>
                  </a:cubicBezTo>
                  <a:cubicBezTo>
                    <a:pt x="114" y="0"/>
                    <a:pt x="39" y="13"/>
                    <a:pt x="0" y="40"/>
                  </a:cubicBezTo>
                  <a:cubicBezTo>
                    <a:pt x="21" y="37"/>
                    <a:pt x="92" y="81"/>
                    <a:pt x="114" y="1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f36"/>
                </a:gs>
                <a:gs pos="100000">
                  <a:srgbClr val="ff8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59"/>
            <p:cNvSpPr/>
            <p:nvPr/>
          </p:nvSpPr>
          <p:spPr>
            <a:xfrm>
              <a:off x="7240680" y="3841920"/>
              <a:ext cx="272160" cy="1569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42">
                  <a:moveTo>
                    <a:pt x="10" y="40"/>
                  </a:moveTo>
                  <a:cubicBezTo>
                    <a:pt x="47" y="21"/>
                    <a:pt x="59" y="42"/>
                    <a:pt x="67" y="42"/>
                  </a:cubicBezTo>
                  <a:cubicBezTo>
                    <a:pt x="37" y="25"/>
                    <a:pt x="70" y="20"/>
                    <a:pt x="79" y="17"/>
                  </a:cubicBezTo>
                  <a:cubicBezTo>
                    <a:pt x="37" y="24"/>
                    <a:pt x="66" y="10"/>
                    <a:pt x="74" y="4"/>
                  </a:cubicBezTo>
                  <a:cubicBezTo>
                    <a:pt x="62" y="12"/>
                    <a:pt x="41" y="23"/>
                    <a:pt x="43" y="0"/>
                  </a:cubicBezTo>
                  <a:cubicBezTo>
                    <a:pt x="36" y="25"/>
                    <a:pt x="21" y="13"/>
                    <a:pt x="9" y="6"/>
                  </a:cubicBezTo>
                  <a:cubicBezTo>
                    <a:pt x="17" y="18"/>
                    <a:pt x="33" y="21"/>
                    <a:pt x="0" y="19"/>
                  </a:cubicBezTo>
                  <a:cubicBezTo>
                    <a:pt x="16" y="25"/>
                    <a:pt x="44" y="21"/>
                    <a:pt x="10" y="4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60"/>
            <p:cNvSpPr/>
            <p:nvPr/>
          </p:nvSpPr>
          <p:spPr>
            <a:xfrm>
              <a:off x="7002000" y="3395520"/>
              <a:ext cx="460080" cy="55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0"/>
                  </a:moveTo>
                  <a:cubicBezTo>
                    <a:pt x="120" y="142"/>
                    <a:pt x="120" y="142"/>
                    <a:pt x="120" y="142"/>
                  </a:cubicBezTo>
                  <a:cubicBezTo>
                    <a:pt x="116" y="146"/>
                    <a:pt x="111" y="147"/>
                    <a:pt x="104" y="146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33" y="0"/>
                  </a:lnTo>
                  <a:close/>
                </a:path>
              </a:pathLst>
            </a:custGeom>
            <a:solidFill>
              <a:srgbClr val="00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61"/>
            <p:cNvSpPr/>
            <p:nvPr/>
          </p:nvSpPr>
          <p:spPr>
            <a:xfrm>
              <a:off x="6987240" y="3357720"/>
              <a:ext cx="484560" cy="2556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10"/>
                  </a:moveTo>
                  <a:cubicBezTo>
                    <a:pt x="140" y="21"/>
                    <a:pt x="114" y="40"/>
                    <a:pt x="77" y="53"/>
                  </a:cubicBezTo>
                  <a:cubicBezTo>
                    <a:pt x="41" y="66"/>
                    <a:pt x="8" y="68"/>
                    <a:pt x="4" y="58"/>
                  </a:cubicBezTo>
                  <a:cubicBezTo>
                    <a:pt x="0" y="47"/>
                    <a:pt x="27" y="28"/>
                    <a:pt x="63" y="15"/>
                  </a:cubicBezTo>
                  <a:cubicBezTo>
                    <a:pt x="100" y="2"/>
                    <a:pt x="133" y="0"/>
                    <a:pt x="137" y="10"/>
                  </a:cubicBezTo>
                  <a:close/>
                </a:path>
              </a:pathLst>
            </a:custGeom>
            <a:solidFill>
              <a:srgbClr val="00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62"/>
          <p:cNvGrpSpPr/>
          <p:nvPr/>
        </p:nvGrpSpPr>
        <p:grpSpPr>
          <a:xfrm>
            <a:off x="6367320" y="4149720"/>
            <a:ext cx="1882440" cy="577800"/>
            <a:chOff x="6367320" y="4149720"/>
            <a:chExt cx="1882440" cy="577800"/>
          </a:xfrm>
        </p:grpSpPr>
        <p:sp>
          <p:nvSpPr>
            <p:cNvPr id="512" name="Freeform 163"/>
            <p:cNvSpPr/>
            <p:nvPr/>
          </p:nvSpPr>
          <p:spPr>
            <a:xfrm>
              <a:off x="7413120" y="4452840"/>
              <a:ext cx="836640" cy="2746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242" h="73">
                  <a:moveTo>
                    <a:pt x="242" y="0"/>
                  </a:moveTo>
                  <a:cubicBezTo>
                    <a:pt x="211" y="57"/>
                    <a:pt x="37" y="73"/>
                    <a:pt x="0" y="53"/>
                  </a:cubicBezTo>
                  <a:cubicBezTo>
                    <a:pt x="37" y="55"/>
                    <a:pt x="150" y="61"/>
                    <a:pt x="242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64"/>
            <p:cNvSpPr/>
            <p:nvPr/>
          </p:nvSpPr>
          <p:spPr>
            <a:xfrm>
              <a:off x="6367320" y="4149720"/>
              <a:ext cx="799920" cy="5097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231" h="136">
                  <a:moveTo>
                    <a:pt x="47" y="0"/>
                  </a:moveTo>
                  <a:cubicBezTo>
                    <a:pt x="76" y="16"/>
                    <a:pt x="185" y="84"/>
                    <a:pt x="229" y="127"/>
                  </a:cubicBezTo>
                  <a:cubicBezTo>
                    <a:pt x="231" y="136"/>
                    <a:pt x="231" y="126"/>
                    <a:pt x="231" y="136"/>
                  </a:cubicBezTo>
                  <a:cubicBezTo>
                    <a:pt x="188" y="113"/>
                    <a:pt x="50" y="78"/>
                    <a:pt x="0" y="112"/>
                  </a:cubicBezTo>
                  <a:cubicBezTo>
                    <a:pt x="7" y="77"/>
                    <a:pt x="43" y="15"/>
                    <a:pt x="47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65"/>
            <p:cNvSpPr/>
            <p:nvPr/>
          </p:nvSpPr>
          <p:spPr>
            <a:xfrm>
              <a:off x="6412680" y="4183200"/>
              <a:ext cx="761760" cy="4842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0" h="129">
                  <a:moveTo>
                    <a:pt x="45" y="0"/>
                  </a:moveTo>
                  <a:cubicBezTo>
                    <a:pt x="73" y="15"/>
                    <a:pt x="176" y="80"/>
                    <a:pt x="219" y="121"/>
                  </a:cubicBezTo>
                  <a:cubicBezTo>
                    <a:pt x="220" y="129"/>
                    <a:pt x="220" y="120"/>
                    <a:pt x="220" y="129"/>
                  </a:cubicBezTo>
                  <a:cubicBezTo>
                    <a:pt x="179" y="108"/>
                    <a:pt x="48" y="65"/>
                    <a:pt x="0" y="97"/>
                  </a:cubicBezTo>
                  <a:cubicBezTo>
                    <a:pt x="6" y="64"/>
                    <a:pt x="41" y="15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3d"/>
                </a:gs>
                <a:gs pos="100000">
                  <a:srgbClr val="ff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66"/>
          <p:cNvGrpSpPr/>
          <p:nvPr/>
        </p:nvGrpSpPr>
        <p:grpSpPr>
          <a:xfrm>
            <a:off x="6672240" y="5052960"/>
            <a:ext cx="1638360" cy="585720"/>
            <a:chOff x="6672240" y="5052960"/>
            <a:chExt cx="1638360" cy="585720"/>
          </a:xfrm>
        </p:grpSpPr>
        <p:sp>
          <p:nvSpPr>
            <p:cNvPr id="516" name="Freeform 167"/>
            <p:cNvSpPr/>
            <p:nvPr/>
          </p:nvSpPr>
          <p:spPr>
            <a:xfrm>
              <a:off x="6672240" y="5052960"/>
              <a:ext cx="1638360" cy="58572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473" h="156">
                  <a:moveTo>
                    <a:pt x="473" y="0"/>
                  </a:moveTo>
                  <a:cubicBezTo>
                    <a:pt x="451" y="9"/>
                    <a:pt x="428" y="28"/>
                    <a:pt x="402" y="37"/>
                  </a:cubicBezTo>
                  <a:cubicBezTo>
                    <a:pt x="406" y="49"/>
                    <a:pt x="406" y="49"/>
                    <a:pt x="406" y="49"/>
                  </a:cubicBezTo>
                  <a:cubicBezTo>
                    <a:pt x="341" y="71"/>
                    <a:pt x="341" y="71"/>
                    <a:pt x="341" y="71"/>
                  </a:cubicBezTo>
                  <a:cubicBezTo>
                    <a:pt x="335" y="51"/>
                    <a:pt x="335" y="51"/>
                    <a:pt x="335" y="51"/>
                  </a:cubicBezTo>
                  <a:cubicBezTo>
                    <a:pt x="307" y="59"/>
                    <a:pt x="279" y="73"/>
                    <a:pt x="250" y="78"/>
                  </a:cubicBezTo>
                  <a:cubicBezTo>
                    <a:pt x="251" y="99"/>
                    <a:pt x="251" y="99"/>
                    <a:pt x="251" y="99"/>
                  </a:cubicBezTo>
                  <a:cubicBezTo>
                    <a:pt x="182" y="104"/>
                    <a:pt x="182" y="104"/>
                    <a:pt x="182" y="104"/>
                  </a:cubicBezTo>
                  <a:cubicBezTo>
                    <a:pt x="181" y="88"/>
                    <a:pt x="181" y="88"/>
                    <a:pt x="181" y="88"/>
                  </a:cubicBezTo>
                  <a:cubicBezTo>
                    <a:pt x="115" y="95"/>
                    <a:pt x="51" y="81"/>
                    <a:pt x="0" y="58"/>
                  </a:cubicBezTo>
                  <a:cubicBezTo>
                    <a:pt x="26" y="117"/>
                    <a:pt x="146" y="156"/>
                    <a:pt x="270" y="127"/>
                  </a:cubicBezTo>
                  <a:cubicBezTo>
                    <a:pt x="266" y="105"/>
                    <a:pt x="266" y="105"/>
                    <a:pt x="266" y="105"/>
                  </a:cubicBezTo>
                  <a:cubicBezTo>
                    <a:pt x="330" y="95"/>
                    <a:pt x="330" y="95"/>
                    <a:pt x="330" y="95"/>
                  </a:cubicBezTo>
                  <a:cubicBezTo>
                    <a:pt x="332" y="106"/>
                    <a:pt x="332" y="106"/>
                    <a:pt x="332" y="106"/>
                  </a:cubicBezTo>
                  <a:cubicBezTo>
                    <a:pt x="381" y="86"/>
                    <a:pt x="434" y="44"/>
                    <a:pt x="473" y="0"/>
                  </a:cubicBez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68"/>
            <p:cNvSpPr/>
            <p:nvPr/>
          </p:nvSpPr>
          <p:spPr>
            <a:xfrm>
              <a:off x="6702840" y="5079960"/>
              <a:ext cx="1561680" cy="52092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451" h="139">
                  <a:moveTo>
                    <a:pt x="451" y="0"/>
                  </a:moveTo>
                  <a:cubicBezTo>
                    <a:pt x="430" y="8"/>
                    <a:pt x="408" y="17"/>
                    <a:pt x="383" y="26"/>
                  </a:cubicBezTo>
                  <a:cubicBezTo>
                    <a:pt x="387" y="37"/>
                    <a:pt x="387" y="37"/>
                    <a:pt x="387" y="37"/>
                  </a:cubicBezTo>
                  <a:cubicBezTo>
                    <a:pt x="325" y="58"/>
                    <a:pt x="325" y="58"/>
                    <a:pt x="325" y="58"/>
                  </a:cubicBezTo>
                  <a:cubicBezTo>
                    <a:pt x="320" y="46"/>
                    <a:pt x="320" y="46"/>
                    <a:pt x="320" y="46"/>
                  </a:cubicBezTo>
                  <a:cubicBezTo>
                    <a:pt x="294" y="53"/>
                    <a:pt x="266" y="60"/>
                    <a:pt x="238" y="65"/>
                  </a:cubicBezTo>
                  <a:cubicBezTo>
                    <a:pt x="240" y="85"/>
                    <a:pt x="240" y="85"/>
                    <a:pt x="240" y="85"/>
                  </a:cubicBezTo>
                  <a:cubicBezTo>
                    <a:pt x="174" y="90"/>
                    <a:pt x="174" y="90"/>
                    <a:pt x="174" y="90"/>
                  </a:cubicBezTo>
                  <a:cubicBezTo>
                    <a:pt x="173" y="75"/>
                    <a:pt x="173" y="75"/>
                    <a:pt x="173" y="75"/>
                  </a:cubicBezTo>
                  <a:cubicBezTo>
                    <a:pt x="109" y="81"/>
                    <a:pt x="49" y="76"/>
                    <a:pt x="0" y="55"/>
                  </a:cubicBezTo>
                  <a:cubicBezTo>
                    <a:pt x="25" y="111"/>
                    <a:pt x="139" y="139"/>
                    <a:pt x="257" y="111"/>
                  </a:cubicBezTo>
                  <a:cubicBezTo>
                    <a:pt x="254" y="93"/>
                    <a:pt x="254" y="93"/>
                    <a:pt x="254" y="93"/>
                  </a:cubicBezTo>
                  <a:cubicBezTo>
                    <a:pt x="319" y="83"/>
                    <a:pt x="319" y="83"/>
                    <a:pt x="319" y="83"/>
                  </a:cubicBezTo>
                  <a:cubicBezTo>
                    <a:pt x="321" y="91"/>
                    <a:pt x="321" y="91"/>
                    <a:pt x="321" y="91"/>
                  </a:cubicBezTo>
                  <a:cubicBezTo>
                    <a:pt x="368" y="71"/>
                    <a:pt x="413" y="41"/>
                    <a:pt x="45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1"/>
                </a:gs>
                <a:gs pos="100000">
                  <a:srgbClr val="ffff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69"/>
          <p:cNvGrpSpPr/>
          <p:nvPr/>
        </p:nvGrpSpPr>
        <p:grpSpPr>
          <a:xfrm>
            <a:off x="7294680" y="1982880"/>
            <a:ext cx="210960" cy="153720"/>
            <a:chOff x="7294680" y="1982880"/>
            <a:chExt cx="210960" cy="153720"/>
          </a:xfrm>
        </p:grpSpPr>
        <p:sp>
          <p:nvSpPr>
            <p:cNvPr id="519" name="Freeform 170"/>
            <p:cNvSpPr/>
            <p:nvPr/>
          </p:nvSpPr>
          <p:spPr>
            <a:xfrm>
              <a:off x="7294680" y="1982880"/>
              <a:ext cx="210960" cy="1537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4" h="97">
                  <a:moveTo>
                    <a:pt x="0" y="97"/>
                  </a:moveTo>
                  <a:lnTo>
                    <a:pt x="76" y="0"/>
                  </a:lnTo>
                  <a:lnTo>
                    <a:pt x="144" y="81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71"/>
            <p:cNvSpPr/>
            <p:nvPr/>
          </p:nvSpPr>
          <p:spPr>
            <a:xfrm>
              <a:off x="7297560" y="1990800"/>
              <a:ext cx="200520" cy="1458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7" h="92">
                  <a:moveTo>
                    <a:pt x="0" y="92"/>
                  </a:moveTo>
                  <a:lnTo>
                    <a:pt x="71" y="0"/>
                  </a:lnTo>
                  <a:lnTo>
                    <a:pt x="137" y="78"/>
                  </a:lnTo>
                  <a:lnTo>
                    <a:pt x="0" y="9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72"/>
          <p:cNvGrpSpPr/>
          <p:nvPr/>
        </p:nvGrpSpPr>
        <p:grpSpPr>
          <a:xfrm>
            <a:off x="4443480" y="1913040"/>
            <a:ext cx="228600" cy="168120"/>
            <a:chOff x="4443480" y="1913040"/>
            <a:chExt cx="228600" cy="168120"/>
          </a:xfrm>
        </p:grpSpPr>
        <p:sp>
          <p:nvSpPr>
            <p:cNvPr id="522" name="Freeform 173"/>
            <p:cNvSpPr/>
            <p:nvPr/>
          </p:nvSpPr>
          <p:spPr>
            <a:xfrm>
              <a:off x="4443480" y="1913040"/>
              <a:ext cx="228600" cy="168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6" h="106">
                  <a:moveTo>
                    <a:pt x="0" y="106"/>
                  </a:moveTo>
                  <a:lnTo>
                    <a:pt x="83" y="0"/>
                  </a:lnTo>
                  <a:lnTo>
                    <a:pt x="156" y="8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4"/>
            <p:cNvSpPr/>
            <p:nvPr/>
          </p:nvSpPr>
          <p:spPr>
            <a:xfrm>
              <a:off x="4457880" y="1924200"/>
              <a:ext cx="210960" cy="156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44" h="99">
                  <a:moveTo>
                    <a:pt x="0" y="99"/>
                  </a:moveTo>
                  <a:lnTo>
                    <a:pt x="75" y="0"/>
                  </a:lnTo>
                  <a:lnTo>
                    <a:pt x="144" y="8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75"/>
          <p:cNvGrpSpPr/>
          <p:nvPr/>
        </p:nvGrpSpPr>
        <p:grpSpPr>
          <a:xfrm>
            <a:off x="1611360" y="4664160"/>
            <a:ext cx="222120" cy="161640"/>
            <a:chOff x="1611360" y="4664160"/>
            <a:chExt cx="222120" cy="161640"/>
          </a:xfrm>
        </p:grpSpPr>
        <p:sp>
          <p:nvSpPr>
            <p:cNvPr id="525" name="Freeform 176"/>
            <p:cNvSpPr/>
            <p:nvPr/>
          </p:nvSpPr>
          <p:spPr>
            <a:xfrm>
              <a:off x="1611360" y="4664160"/>
              <a:ext cx="222120" cy="161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51" h="102">
                  <a:moveTo>
                    <a:pt x="0" y="102"/>
                  </a:moveTo>
                  <a:lnTo>
                    <a:pt x="78" y="0"/>
                  </a:lnTo>
                  <a:lnTo>
                    <a:pt x="151" y="8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77"/>
            <p:cNvSpPr/>
            <p:nvPr/>
          </p:nvSpPr>
          <p:spPr>
            <a:xfrm>
              <a:off x="1618560" y="4672080"/>
              <a:ext cx="208800" cy="15372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2" h="97">
                  <a:moveTo>
                    <a:pt x="0" y="97"/>
                  </a:moveTo>
                  <a:lnTo>
                    <a:pt x="73" y="0"/>
                  </a:lnTo>
                  <a:lnTo>
                    <a:pt x="142" y="80"/>
                  </a:lnTo>
                  <a:lnTo>
                    <a:pt x="0" y="97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78"/>
          <p:cNvGrpSpPr/>
          <p:nvPr/>
        </p:nvGrpSpPr>
        <p:grpSpPr>
          <a:xfrm>
            <a:off x="4344840" y="4667400"/>
            <a:ext cx="217800" cy="160200"/>
            <a:chOff x="4344840" y="4667400"/>
            <a:chExt cx="217800" cy="160200"/>
          </a:xfrm>
        </p:grpSpPr>
        <p:sp>
          <p:nvSpPr>
            <p:cNvPr id="528" name="Freeform 179"/>
            <p:cNvSpPr/>
            <p:nvPr/>
          </p:nvSpPr>
          <p:spPr>
            <a:xfrm>
              <a:off x="4344840" y="4667400"/>
              <a:ext cx="217800" cy="1602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48" h="101">
                  <a:moveTo>
                    <a:pt x="0" y="101"/>
                  </a:moveTo>
                  <a:lnTo>
                    <a:pt x="78" y="0"/>
                  </a:lnTo>
                  <a:lnTo>
                    <a:pt x="148" y="8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80"/>
            <p:cNvSpPr/>
            <p:nvPr/>
          </p:nvSpPr>
          <p:spPr>
            <a:xfrm>
              <a:off x="4350600" y="4673880"/>
              <a:ext cx="211680" cy="1537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4" h="97">
                  <a:moveTo>
                    <a:pt x="0" y="97"/>
                  </a:moveTo>
                  <a:lnTo>
                    <a:pt x="76" y="0"/>
                  </a:lnTo>
                  <a:lnTo>
                    <a:pt x="144" y="81"/>
                  </a:lnTo>
                  <a:lnTo>
                    <a:pt x="0" y="97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81"/>
          <p:cNvGrpSpPr/>
          <p:nvPr/>
        </p:nvGrpSpPr>
        <p:grpSpPr>
          <a:xfrm>
            <a:off x="7159680" y="4824360"/>
            <a:ext cx="228600" cy="168480"/>
            <a:chOff x="7159680" y="4824360"/>
            <a:chExt cx="228600" cy="168480"/>
          </a:xfrm>
        </p:grpSpPr>
        <p:sp>
          <p:nvSpPr>
            <p:cNvPr id="531" name="Freeform 182"/>
            <p:cNvSpPr/>
            <p:nvPr/>
          </p:nvSpPr>
          <p:spPr>
            <a:xfrm>
              <a:off x="7159680" y="4824360"/>
              <a:ext cx="228600" cy="168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56" h="106">
                  <a:moveTo>
                    <a:pt x="0" y="106"/>
                  </a:moveTo>
                  <a:lnTo>
                    <a:pt x="83" y="0"/>
                  </a:lnTo>
                  <a:lnTo>
                    <a:pt x="156" y="8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86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83"/>
            <p:cNvSpPr/>
            <p:nvPr/>
          </p:nvSpPr>
          <p:spPr>
            <a:xfrm>
              <a:off x="7169400" y="4824360"/>
              <a:ext cx="218520" cy="1620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49" h="102">
                  <a:moveTo>
                    <a:pt x="0" y="102"/>
                  </a:moveTo>
                  <a:lnTo>
                    <a:pt x="78" y="0"/>
                  </a:lnTo>
                  <a:lnTo>
                    <a:pt x="149" y="85"/>
                  </a:lnTo>
                  <a:lnTo>
                    <a:pt x="0" y="102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3:39:00Z</dcterms:created>
  <dc:creator/>
  <dc:description/>
  <cp:keywords/>
  <dc:language>en-US</dc:language>
  <cp:lastModifiedBy>Administrator</cp:lastModifiedBy>
  <dcterms:modified xsi:type="dcterms:W3CDTF">2015-10-29T00:49:47Z</dcterms:modified>
  <cp:revision>141</cp:revision>
  <dc:subject/>
  <dc:title>ppt.glzy8.com提供海量PPT模板免费下载！</dc:title>
</cp:coreProperties>
</file>