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9D5-98C7-4577-9856-CFC707B1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B32-696B-4C7C-86C6-259F0D77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2A5-1D6F-40C2-B794-66D6AC81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FCB-7A02-460E-A652-69AE91B0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F62-DDC9-45F7-94CB-D7DF3F55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4ED-9CBD-4D8E-8FDF-3C706058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AAC-EA08-47BB-A16B-62B64CB9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008-8636-4314-BF15-38F89B0C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4D8-6345-4AF2-A63F-22F98FE3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353-51C4-4107-8D17-78999092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723-2120-4F3D-B705-9A5994AC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2EA-B8B4-4B89-9C59-C5DD67D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AD4B-4C0B-436E-A932-D4D0E2E2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模板制作详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六、应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是制作完成，如何使用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建一个空白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，这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界面的右侧上方，有一个区域，显示的是“幻灯片版式”其下面有“文字版式”、“内容版式”等。如果没有发现这个区域，在 菜单栏 打开“格式”—“幻灯片版式”选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查看上面图片中，“幻灯片版式”右侧有一个向下的“小箭头”，点一下打开它，从中选择“幻灯片设计”选项。注意看最下方有一个“浏览”，用鼠标左键点一它，打开“应用设计模板”对话框。在其中找到文件“如何制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pot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选中它，并点选“应用”按钮。之前制作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已应用这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七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板的使用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如果目的是要做一个范本，然后使用。那么，把现在这个文件保存即可。　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详细讲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200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制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的全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200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制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基本操作：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一、在制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前要准备放置在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图片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页中的图片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图片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二、新建一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件，此时应显示的是一张空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件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板结构的制作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进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母版视图来操作，方法是依次从菜单栏中选择“视图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–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母版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–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幻灯片母版”。选中后如下图所示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296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打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母版视图后看到左侧有一张缩略图，选中他，点击鼠标右键选择“新标题母版”，出现结果如下图所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3176640"/>
            <a:ext cx="2104920" cy="345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3824280"/>
            <a:ext cx="1816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四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板内容框架的制作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要制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板，首先制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板首页，先把准备好的图片素材插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板页面里，然后稍加剪切编排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然后同样的办法制作第二页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就如下面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果插入的图片当前把一些文本框给覆盖了，没有关系，右键选中该图片，然后选择“层叠次序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置于底层” 即可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6280"/>
          <a:stretch/>
        </p:blipFill>
        <p:spPr>
          <a:xfrm>
            <a:off x="1554120" y="1600200"/>
            <a:ext cx="60357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五、保存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板设计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在菜单栏，选中“文件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–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另存为” ，在打开的界面中进行如下设置：保存位置，可以放在桌面，“文件名”在这里暂定义为“如何制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ppt”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“保存类型”请选择“演示文稿设计模板”，然后点保存。它的文件和扩展名是“如何制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板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pot”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7:58:27Z</dcterms:created>
  <dc:creator>USER</dc:creator>
  <dc:description/>
  <dc:language>en-US</dc:language>
  <cp:lastModifiedBy>USER</cp:lastModifiedBy>
  <dcterms:modified xsi:type="dcterms:W3CDTF">2015-11-10T06:40:57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